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766-07A5-48BC-9F35-A88EBF2D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482-C314-44B2-835D-575BC35B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7CEEA-8B98-4D81-8E1F-D32288C8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93F21-16D6-4AEE-A6AA-F493AE3D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01F73-0113-41D6-979E-196ED1A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952D-05F2-401B-8D2B-8707CE66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FB159-C2BA-48B4-B4A9-1516A607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DE7E1-368F-4042-B3E9-E9FC8108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BE411-8240-4483-95C4-C2E5F235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DF04E-DEE2-4205-B8E4-3724B9D3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45441-65E8-4BBF-B981-3B3ECE52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DE58A-FC22-4779-A173-942E3133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BCF-2C09-432C-A3E3-FADFE33F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0449-7D3A-4FD0-8303-7387D853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DA7DF-8CED-4AA8-8B26-18CF8AC4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FA4A9-0BE1-43A6-BEFE-51FA9336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30FB7-7600-40CD-925C-79C5D0A4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509A2-A660-4E48-BB75-1A1BEE95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19AED-E624-490A-9CB5-445624FF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E0FE8-C92C-4B8A-BC0A-F358FACD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5D8E7-E7E4-4917-AE23-1D1A66BB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4D320-1EAD-4A0C-A153-929C2558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6476D-E95B-47A1-BC64-E431CE39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61D-BEB1-4C8B-8563-F10D1404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90F82-F3BC-49B6-972F-B3FF57CC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6D7E7-EDBD-498E-9C09-5540ED03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9C82D-83BF-436E-A188-4C0A14D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C3B9B-81E1-4A4B-8DBE-2ED2A78B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8E7CA-1D37-49F5-8B89-05E7D619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D9573-95B2-461C-9C5C-9ABD8587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934E5-A43F-43AD-8B8B-E8DF6960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C5736-712B-4367-9B14-D5567070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63933-3815-4F37-8174-5B4241F8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1884C-621F-42DC-A9B0-E2C5BFF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2D55-83D0-495C-BD4D-F4989E9D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8F3E0-AC1E-4EE2-ACA7-188821DD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23154-0A9F-45B2-87EA-3CE52451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987BB-E2D8-4194-B1B8-CABE08D8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1CE89-3B23-476F-A09F-4B43F75C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8E71D-73E7-4146-BC73-8F7D82A5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37B04-402B-41B6-8368-F96C72B2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84D82-999B-43DE-93F9-72ADBCC9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29891-725A-46B7-80B8-C226949B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F4DDA-BF4C-4FBD-83A2-CD61EF44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9A13F-EF19-4F47-ADE4-3A3CE6CA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B20E-8C84-44D3-B524-2AE3696D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5C56D-D16E-44B9-B961-5B721DB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631FB-2C48-4D48-95D4-A3D30898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FD4EC-5326-4F52-A74F-6FADB930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48204-D89F-4044-896D-C93735E4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6533A-FA36-4D93-8EA7-67987C62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3320A-6F9E-4472-A471-EA5F1C07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0045A-7B2E-48C3-BD9B-391988F4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594AF-84B7-4AF4-9094-D78AEB2B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42E5D-553F-49C2-A901-3EE46DA7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C4A2D-11AB-4B03-83A8-B521F208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2756-D9E4-4574-840C-BA2E07A6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41FDE-C168-4324-8850-1FC9982A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BDA0A-2222-46DD-8FF1-6C48147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C19B0-8944-410F-8BB4-67A3F42B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619F7-C6B5-425E-9EDF-E7F3688C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5721D-A806-4ECA-906B-AA7E31DB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47BC8-2454-4CBB-99DB-3685CF59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E275A-ECD0-4A38-BCCA-DF15EE8F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C2E0-A053-4D65-A8BE-C4DA30E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B524-3D0F-4E4B-96A0-F0C53E6F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48CF-AF15-43BA-A974-4AF4E87B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BDA1-043C-48A4-B42A-62FAA2E4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3F8-A498-4825-B209-BB21227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6851-C0DC-49C5-A894-867EF48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30FA-EB63-441D-9656-BD9B584D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303B-2C4C-4BE5-BFEB-28CF994F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C8AB-B7CE-4D10-A4EE-82D23685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50DD-DC20-44D3-A061-2EE1A560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020C-CC74-4DC3-8D9A-A49B0A96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D853-7982-4493-8A0A-6A8FBEC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8ABE-363E-43DB-A3F4-A928C98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87F6-E9CF-48C9-A306-6254FA74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24FA-289D-4DA5-B840-8A470F89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478-3FA4-4C77-8A99-DC54F0B9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BEF1-6348-4B0D-BD53-3E66B8C6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E0BE-5112-4BFD-8D2B-60CD84D5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1378-E5DE-4267-ACA1-159B88B2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E2D3-DF9E-41F3-BDB6-BA510944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15A4-8CD8-41D8-821B-5C3A2F89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C258-B5D7-4D80-82D4-C910D3AE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CC06-4A89-4FED-B976-466D01EA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283C-496E-457A-8482-612E123F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AA1B-D7A9-41EC-A39F-8F626CE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DF72-E65F-4979-88E6-42EBBFB2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C1F-740A-4C32-B220-76CE6FDA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23C1-9ADE-4E27-B53D-FB30EDE3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783F-ED99-4075-912F-D369AD02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95D3-15F8-4B79-BF03-B23EE6E0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E59F3-C6D1-42C2-863C-73C2B33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DF7C-946F-472E-B0E1-5750A69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9AA9-E308-4981-802A-D456722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024C-46A6-4304-8450-97CFD32C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B7339-0486-4EF7-A871-D7200602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54CD-E417-4CF9-913A-75E0D810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0292-3F8D-481A-8978-CFB59704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CC2-3BF1-4CCB-BCC9-C58A1FC0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8826-428D-4B28-B551-0A0838BB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7B66-ACC1-4FCE-8C95-2F6BDA0C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3445-1300-4565-BB78-DBB90B5E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F907-439A-4EBC-A4CA-E0941A3A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7ACEC-780C-491E-B26B-BFA7302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C534D-D771-4E35-8161-78463D4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1AEF-323E-47A1-ADD9-AF727113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CD34-5143-4346-A69C-13222D20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5889A-2E21-49D1-BA1B-6A51816B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6E67-EDE0-4A47-8DCC-0F41598A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29E-F50E-4DB9-BBD9-3795ABF3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C1419-1570-4743-AB42-5A740985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1E617-9605-481F-AEEF-4A0685F7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80D8E-3ED7-4399-8956-7D63B2C5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AD312-037E-45C3-A9D8-97D75064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FAAA-5C20-4D91-94CC-B8CEFAC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61586-3EC8-401C-AFBC-944DD764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3316-871B-482F-BE93-6A7DC581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DD07-1FF5-46AE-A23C-9DAEC8F4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F111-B09A-468A-BABB-C3994BF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30AA2-5649-4154-B9D1-E9495E0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796-EDA5-448E-A9C1-2CEC16A0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2FECC-0228-4ED1-BDD1-4BF7C36F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0839-6424-4982-9C11-622698C2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6E41-C417-47CB-942B-1EF16660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880CB-0A5E-4777-B22B-F1B1C6E0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B8B5C-BBC1-456E-9929-7AF2CDC8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BD24E-1600-4116-B34E-698CD898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EBF94-F94E-4851-8184-7C2A3667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80D6-BB99-416F-A2BF-61B8FA22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84EE0-48B1-4880-B933-FD9A2CAB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BA77-8281-4524-B7C3-AB67F00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F74-843B-4CB2-A02C-DD84587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AFE12-D5A8-4CD2-8535-CA1A9AB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42481-D074-4C54-8CDC-E4F77744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5332-DAEF-461C-B0B7-983AEE9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6B49B-80C6-4F02-8825-738244BA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93C5-484E-4301-89C8-8CCBAEF2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5A1C2-B3EA-47D0-94E5-F9B6A30A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58F23-63DE-4A28-BC47-558BB569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73425-35B4-4A49-885B-2DAAF36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E317-0C8B-4558-9ADF-D2F5E3E6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8AD44-0568-4439-ACAB-5ECD4129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855-5C6C-4F49-9112-EFE9E03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AF63B-910D-4CD2-A813-98B7C4BC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FE727-9970-4C6E-B206-ECBD2CEA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68977-E1FC-4CE9-A9B1-B936C95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DE7E9-8B23-4848-9140-16A0CBE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C145D-B622-487C-89BC-DBFED395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CF8F-F7B1-48BF-839D-53E1B145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E9663-DFC5-464E-AD75-1687EC29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32F8E-DB61-4E16-9E48-51EE8127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F655C-7F1E-4B09-BE24-7175AADF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FE92C-FF28-4D2D-998F-5F3440B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DD4C-38DD-4387-9396-100DF94ECFE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234E-CE06-492E-9A11-250B3E0333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ADBE-EDEE-4B66-A099-6ED7DCA21A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E0F0-2EB1-4042-BF4D-C4574EC53D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18F7-E06E-4847-A048-74C4260655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1B3-C687-4D0A-A790-B3D12D8521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2A35-1E82-496E-ACA1-2FEE75D03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4462-8802-4565-8DC4-A35FA431CB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63A-D475-4C6A-8AC2-0018E58B15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3347-585D-498E-8617-F60A8A8F45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9924-0ED6-4B7D-A02B-2514F81327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CAC4-4A26-4F76-A6F0-9729B4FEF4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4764-9EAF-424A-8B0F-1BC2C29F8B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905120" y="400680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Kozuka Gothic Pro B"/>
                <a:ea typeface="Kozuka Gothic Pro B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  </a:t>
            </a:r>
            <a:r>
              <a:rPr b="1" lang="zh-CN" sz="5400" spc="-1" strike="noStrike">
                <a:solidFill>
                  <a:srgbClr val="777777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s   </a:t>
            </a:r>
            <a:r>
              <a:rPr b="1" lang="en-US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545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592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595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598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602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6"/>
            <p:cNvSpPr/>
            <p:nvPr/>
          </p:nvSpPr>
          <p:spPr>
            <a:xfrm rot="4260000">
              <a:off x="6292440" y="71496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609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41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46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651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667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85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688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702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23" name="Picture 5" descr="header_bg"/>
            <p:cNvPicPr/>
            <p:nvPr/>
          </p:nvPicPr>
          <p:blipFill>
            <a:blip r:embed="rId7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 rot="2460000">
              <a:off x="985680" y="94932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729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42" name="Picture 24" descr="header_bg"/>
            <p:cNvPicPr/>
            <p:nvPr/>
          </p:nvPicPr>
          <p:blipFill>
            <a:blip r:embed="rId8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ngel</cp:lastModifiedBy>
  <dcterms:modified xsi:type="dcterms:W3CDTF">2015-12-11T01:09:44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