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832-CC0C-409B-AACF-0367AB67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645-F528-45B8-8788-693E5461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B05-122D-4C1C-98A6-2F6645CF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7DD-DB64-4BCC-B4A6-CA8B3139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5D13-9208-4895-BAED-BDC1AB2E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B9A2-8574-409B-8AEC-60D8873C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577C-A1FA-4B85-BFF9-7A627EE0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3BC7-720D-4D6A-B9FB-77FCE8D7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1E1D-71A0-46F3-8553-31C426B7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5B93-0594-46E6-9F40-668B1F30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7520-DA74-40AB-B9A8-76E30B25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CB5-00AB-4D3F-ABAA-8B6AF4EE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1493-20CA-40CC-A6E7-6D84DD82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5018-15B5-4139-9416-A992CB17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34FA-9ABF-4A1D-8F17-C98D35B5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AB0E-D624-41C6-A5F1-BC8EFBA3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9265-EE21-4FB8-9296-D6325660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F043-544C-45EB-91B0-AF2BDC3F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21EE-97B9-46F3-966D-A86D8DAA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DFA01-2E13-4D80-BD8A-D96475F7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5776-DB55-4A81-AF72-127C7AF5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C97C-B42E-49A2-AE52-92976C18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7AA-324A-437C-B1E8-89C993A3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42AB-43B9-48DA-9AE1-59D5503F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28CC-1082-4B58-BAEB-1CCEA329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0218-FB4B-40A7-965A-70AA9ACC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F1BA5-8A5C-404F-823D-30F0A154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C7CF-9CFD-4527-BF9C-AB3E4012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E7F9-1339-47FE-A281-9621481F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E69F7-EA04-4CB5-87B2-3316565C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45C2-DF45-413F-ADEE-3EA6A94E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E0BA0-67E3-4763-A84C-99453A84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87400-D7BC-42CF-8CD4-0DF32E6C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EB9-4327-4CBB-85B7-263CEF54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6BC7-ABFB-4CF3-BD32-D1BB3C07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6ADD-8444-44AA-AD3F-1DAE1D4B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11F0A-7953-4596-BB6F-E725C7C5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B1C39-784E-42BF-90BC-D0C0060F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2D62C-19C4-468A-A9E3-1A9EE489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E72D2-02F3-47A6-A470-4A0C32B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2431-DE01-4634-B5D2-25C0EAF0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5FB3-9780-4CF4-BFCC-A59248BA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022F-BCE6-477F-BB4D-D7F7A9F7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5D9-EC6C-4364-BAF4-55C32823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490-6965-4C61-9EAC-B3BDF2D0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5DF-9974-4ABB-A12E-4BB84D8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FA7-4B57-4E5F-9A5E-1250D144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7CC-7EB6-4665-BBCA-0FCD2F36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945B-FBA4-4E29-8041-B6ABD7A24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F2CA-3CE3-49BC-B5B9-E12346BCC7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77A9-0E14-4571-87FD-CA6BD3839F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D8AE-E56D-47EC-A63D-844293A6AD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6145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69" name="WordArt 29"/>
            <p:cNvSpPr txBox="1"/>
            <p:nvPr/>
          </p:nvSpPr>
          <p:spPr>
            <a:xfrm>
              <a:off x="4682880" y="1390680"/>
              <a:ext cx="346248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Gulim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Gulim"/>
                <a:ea typeface="Gulim"/>
              </a:endParaRPr>
            </a:p>
          </p:txBody>
        </p:sp>
        <p:sp>
          <p:nvSpPr>
            <p:cNvPr id="170" name="WordArt 30"/>
            <p:cNvSpPr txBox="1"/>
            <p:nvPr/>
          </p:nvSpPr>
          <p:spPr>
            <a:xfrm>
              <a:off x="826920" y="1811520"/>
              <a:ext cx="7410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79000"/>
                      </a:srgbClr>
                    </a:outerShdw>
                  </a:effectLst>
                  <a:latin typeface="Gulim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Gulim"/>
                <a:ea typeface="Gulim"/>
              </a:endParaRPr>
            </a:p>
          </p:txBody>
        </p:sp>
      </p:grpSp>
      <p:pic>
        <p:nvPicPr>
          <p:cNvPr id="17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169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4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81" name="组合 7177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2" name="组合 7178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3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4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5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7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8" name="组合 7184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9" name="组合 7185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90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1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2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4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5" name="组合 7191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6" name="组合 7192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7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8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9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1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2" name="组合 7198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3" name="组合 7199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4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5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6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8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组合 7205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10" name="组合 7206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11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2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3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5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6" name="组合 7212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7" name="组合 7213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8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9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20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2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3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8193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6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7" name="组合 8195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8" name="组合 8196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9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30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31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3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4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7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dc:language>en-US</dc:language>
  <cp:lastModifiedBy>Administrator</cp:lastModifiedBy>
  <dcterms:modified xsi:type="dcterms:W3CDTF">2016-03-25T22:59:19Z</dcterms:modified>
  <cp:revision>19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