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E433-A904-4904-B297-D68277D8E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8412-5043-462F-81F7-093D9CB4C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D6C5-8DD7-4C7A-B31B-ED1342CCC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6EE6-6141-43F9-BC12-2959464A4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36CA-7A2F-4910-8873-BD0A96725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516E-F423-4225-BE68-783E714633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8CB2-902E-4E93-9546-BF71561B96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FF96-F6EB-41DE-BFCC-A214AE0A23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25A4-828D-4243-8C8A-B9106595A6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D4FA-3EDA-4E54-8FE6-C221CE9D0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8E03-75AE-4BB7-9F51-7AB96158F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654E-1580-48C0-9650-5C4B50D5D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3F9D5C6-4A7A-44B1-A879-54A56AF9BE5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3"/>
          <p:cNvPicPr/>
          <p:nvPr/>
        </p:nvPicPr>
        <p:blipFill>
          <a:blip r:embed="rId2"/>
          <a:stretch/>
        </p:blipFill>
        <p:spPr>
          <a:xfrm>
            <a:off x="-17640" y="-270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9280" y="5157360"/>
            <a:ext cx="820764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00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BACCCE9-9282-4420-B000-CE70127793E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"/>
          <p:cNvSpPr txBox="1"/>
          <p:nvPr/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内容占位符 3" descr=""/>
          <p:cNvPicPr/>
          <p:nvPr/>
        </p:nvPicPr>
        <p:blipFill>
          <a:blip r:embed="rId1"/>
          <a:stretch/>
        </p:blipFill>
        <p:spPr>
          <a:xfrm>
            <a:off x="-36360" y="0"/>
            <a:ext cx="3781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200" y="1125360"/>
            <a:ext cx="8207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682560" y="4694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dministrator</cp:lastModifiedBy>
  <dcterms:modified xsi:type="dcterms:W3CDTF">2016-03-25T21:41:37Z</dcterms:modified>
  <cp:revision>27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