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4D4-E1E0-4E66-927C-5FF8A17885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7EB-0E31-48D2-A45F-54A1EFA0EA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25B-89EE-4913-8FC4-8833CAAA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7E7-2609-4160-B404-BBC8B4F0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765-04BB-465D-ABBF-2CE3150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64D-5E9F-4658-BE41-AEE7DF4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B3F-F24B-4079-AA1D-AC0247E2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919-16E5-43F2-B4FC-84D07E1D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103-019D-49AB-BB3B-9560570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389-B7DB-48FA-BD94-91BB594B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8A2-EAB1-43B6-958B-DBAD61D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BDA-F926-4400-9FD3-7B153F6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277-B43F-41A1-9F69-E86849D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D5C-55C9-48C1-B9F6-09B1976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027D-FF16-4F4B-A902-5C155CD5D3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Microsoft</cp:lastModifiedBy>
  <dcterms:modified xsi:type="dcterms:W3CDTF">2016-04-20T05:10:30Z</dcterms:modified>
  <cp:revision>76</cp:revision>
  <dc:subject/>
  <dc:title>幻灯片 1</dc:title>
</cp:coreProperties>
</file>