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11C-DF13-4D70-9195-EB877097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AF9-457C-4668-8146-212D5F35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AFD-C1CF-494D-9F8A-39CAF848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6F4-83A4-4B86-84A5-0665BD4D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0CA1-BF3F-4270-AA59-E1679DBA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4985-A695-4826-B181-A762A69D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D343-6178-4EDF-98AF-D0B0B2AC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4BB3-C7B9-44BE-B767-DB078FC0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2C99-9B6B-4F31-9539-12483FA1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EE71-5F2F-4266-933A-E72EB863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5580-5A8A-4FCB-BCB8-77A00239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33E-5A12-4B9B-8585-472CB740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5096-BDD4-4810-9412-E7F9641D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561D-2AB9-4DD5-8BFB-E59636F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0085-0D94-4257-B782-2B81F2BF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0492-2DD4-4734-A855-896F1DB9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8111-3B14-4037-841C-BF5080C0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9EA-6E0D-4D9C-B6D3-7B1B8B8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86A-2DEB-42A7-9AB1-9F7AF554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D90-3BE4-45E3-AB99-8851BAD3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BD2-6FA8-4839-B0BA-C735F92A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68C-B59E-419B-979C-F2C30037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69C-1C52-4A71-807C-70D95F8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97F-E9EE-44D6-860D-B75DB1EC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BC9F-AFCE-401A-87D2-8614250C8E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449C-258C-4D72-8B66-87BDD955E8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393840" y="143496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 flipH="1">
            <a:off x="4793400" y="143496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V="1">
            <a:off x="393840" y="376812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H="1" flipV="1">
            <a:off x="4793400" y="376812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3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7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8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3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4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9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0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5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6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31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6" name="AutoShape 7"/>
            <p:cNvSpPr/>
            <p:nvPr/>
          </p:nvSpPr>
          <p:spPr>
            <a:xfrm>
              <a:off x="1117080" y="68256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 rot="4320000">
              <a:off x="1210680" y="75204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 rot="8640000">
              <a:off x="1173960" y="8614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 rot="17280000">
              <a:off x="1022760" y="75168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 rot="12960000">
              <a:off x="1059840" y="8578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3"/>
          <p:cNvSpPr/>
          <p:nvPr/>
        </p:nvSpPr>
        <p:spPr>
          <a:xfrm rot="10800000">
            <a:off x="2688840" y="1053720"/>
            <a:ext cx="64580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3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7" name="未知"/>
            <p:cNvSpPr/>
            <p:nvPr/>
          </p:nvSpPr>
          <p:spPr>
            <a:xfrm>
              <a:off x="8102520" y="4413240"/>
              <a:ext cx="122400" cy="1771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007480" y="4488120"/>
              <a:ext cx="160920" cy="1108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581360"/>
              <a:ext cx="160920" cy="1126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100720" y="4590360"/>
              <a:ext cx="122400" cy="1785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57240" y="4581360"/>
              <a:ext cx="160920" cy="110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485960"/>
              <a:ext cx="160920" cy="11304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09720" y="4544640"/>
              <a:ext cx="107640" cy="92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5" name="未知"/>
            <p:cNvSpPr/>
            <p:nvPr/>
          </p:nvSpPr>
          <p:spPr>
            <a:xfrm>
              <a:off x="7086240" y="5784840"/>
              <a:ext cx="122760" cy="17712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6991200" y="5859720"/>
              <a:ext cx="161280" cy="110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952960"/>
              <a:ext cx="161280" cy="1126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084440" y="5961960"/>
              <a:ext cx="122760" cy="17856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141320" y="5952960"/>
              <a:ext cx="161280" cy="110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857560"/>
              <a:ext cx="161280" cy="11304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093800" y="5916240"/>
              <a:ext cx="108000" cy="92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rc 27"/>
          <p:cNvSpPr/>
          <p:nvPr/>
        </p:nvSpPr>
        <p:spPr>
          <a:xfrm rot="9876600">
            <a:off x="2315880" y="2184480"/>
            <a:ext cx="64976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11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8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19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6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7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2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3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8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39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2"/>
          <p:cNvSpPr/>
          <p:nvPr/>
        </p:nvSpPr>
        <p:spPr>
          <a:xfrm>
            <a:off x="2068560" y="391464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4075200" y="89208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5840280" y="39783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7567560" y="7905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0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4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8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3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8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2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5" name="Group 10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6" name="Oval 11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2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14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5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3" name="Group 18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4" name="Oval 19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20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1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3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1" name="Group 26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2" name="Oval 27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9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0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31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33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rc 2"/>
          <p:cNvSpPr/>
          <p:nvPr/>
        </p:nvSpPr>
        <p:spPr>
          <a:xfrm rot="10800000">
            <a:off x="7893000" y="3809880"/>
            <a:ext cx="1238400" cy="24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3"/>
          <p:cNvSpPr/>
          <p:nvPr/>
        </p:nvSpPr>
        <p:spPr>
          <a:xfrm>
            <a:off x="0" y="952560"/>
            <a:ext cx="1276200" cy="255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4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4200" y="172800"/>
            <a:ext cx="3481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3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4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Arc 4"/>
          <p:cNvSpPr/>
          <p:nvPr/>
        </p:nvSpPr>
        <p:spPr>
          <a:xfrm flipH="1">
            <a:off x="1383480" y="1628640"/>
            <a:ext cx="239580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5"/>
          <p:cNvSpPr/>
          <p:nvPr/>
        </p:nvSpPr>
        <p:spPr>
          <a:xfrm>
            <a:off x="5570640" y="1666800"/>
            <a:ext cx="230328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6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724560" y="27871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14840" y="28116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2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892440" y="28126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82720" y="28371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8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810840" y="2825280"/>
              <a:ext cx="23256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01120" y="2849760"/>
              <a:ext cx="25308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874800" y="3317760"/>
            <a:ext cx="150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6843600" y="3355920"/>
            <a:ext cx="150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7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9" name="AutoShape 9"/>
              <p:cNvSpPr/>
              <p:nvPr/>
            </p:nvSpPr>
            <p:spPr>
              <a:xfrm rot="5400000">
                <a:off x="2862000" y="15188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0"/>
              <p:cNvSpPr/>
              <p:nvPr/>
            </p:nvSpPr>
            <p:spPr>
              <a:xfrm rot="16200000">
                <a:off x="2638440" y="15210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1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2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3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5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6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7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8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1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2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3" name="AutoShape 23"/>
              <p:cNvSpPr/>
              <p:nvPr/>
            </p:nvSpPr>
            <p:spPr>
              <a:xfrm rot="5400000">
                <a:off x="3522240" y="25855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24"/>
              <p:cNvSpPr/>
              <p:nvPr/>
            </p:nvSpPr>
            <p:spPr>
              <a:xfrm rot="16200000">
                <a:off x="3298680" y="258768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8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9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30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31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2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5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6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7" name="AutoShape 37"/>
              <p:cNvSpPr/>
              <p:nvPr/>
            </p:nvSpPr>
            <p:spPr>
              <a:xfrm rot="5400000">
                <a:off x="3509640" y="366516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38"/>
              <p:cNvSpPr/>
              <p:nvPr/>
            </p:nvSpPr>
            <p:spPr>
              <a:xfrm rot="16200000">
                <a:off x="3286080" y="36673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9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0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1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2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3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4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45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6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9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1" name="AutoShape 51"/>
              <p:cNvSpPr/>
              <p:nvPr/>
            </p:nvSpPr>
            <p:spPr>
              <a:xfrm rot="5400000">
                <a:off x="3027240" y="47192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52"/>
              <p:cNvSpPr/>
              <p:nvPr/>
            </p:nvSpPr>
            <p:spPr>
              <a:xfrm rot="16200000">
                <a:off x="2803680" y="47214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3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4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5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6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57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8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9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0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6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1" name="AutoShape 10"/>
            <p:cNvSpPr/>
            <p:nvPr/>
          </p:nvSpPr>
          <p:spPr>
            <a:xfrm rot="5400000">
              <a:off x="2213640" y="11631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"/>
            <p:cNvSpPr/>
            <p:nvPr/>
          </p:nvSpPr>
          <p:spPr>
            <a:xfrm rot="16200000">
              <a:off x="1990440" y="11660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2" name="AutoShape 21"/>
            <p:cNvSpPr/>
            <p:nvPr/>
          </p:nvSpPr>
          <p:spPr>
            <a:xfrm rot="5400000">
              <a:off x="6874560" y="11757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 rot="16200000">
              <a:off x="6651360" y="11786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9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40" name="Text Box 39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1434960" y="5562720"/>
            <a:ext cx="254160" cy="25380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1689120" y="5359320"/>
            <a:ext cx="495360" cy="49536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 rot="14400000">
            <a:off x="8123760" y="1689120"/>
            <a:ext cx="129960" cy="4431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800000">
            <a:off x="8383680" y="4576320"/>
            <a:ext cx="145800" cy="443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5400000">
            <a:off x="8493480" y="5879160"/>
            <a:ext cx="141120" cy="304920"/>
          </a:xfrm>
          <a:prstGeom prst="pie">
            <a:avLst/>
          </a:pr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17400000">
            <a:off x="8359560" y="3612600"/>
            <a:ext cx="181080" cy="533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5400000">
            <a:off x="8391960" y="2502360"/>
            <a:ext cx="141120" cy="304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 flipV="1">
            <a:off x="673200" y="39369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73200" y="18921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1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5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8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2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6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9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3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7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0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4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5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AutoShape 42"/>
              <p:cNvSpPr/>
              <p:nvPr/>
            </p:nvSpPr>
            <p:spPr>
              <a:xfrm>
                <a:off x="6066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43"/>
              <p:cNvSpPr/>
              <p:nvPr/>
            </p:nvSpPr>
            <p:spPr>
              <a:xfrm>
                <a:off x="7794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Microsoft</cp:lastModifiedBy>
  <cp:lastPrinted>1899-12-30T00:00:00Z</cp:lastPrinted>
  <dcterms:modified xsi:type="dcterms:W3CDTF">2016-04-20T01:57:48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