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03A-44BA-4B77-85E5-21123B43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015-B34D-4F5D-A5D6-F0C8098C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EBE-D46D-4944-85C3-D4B429AE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C3B-2284-4690-8B97-7DC217D9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9191-734C-46D8-B9D7-D7A9B522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E177-11D7-4AC3-8BAF-0651DE59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41F5-FF23-49A4-BE6A-F095F55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ED91-FE30-42FC-888F-72F461CB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D870-06DA-4939-AB1D-2B58A47B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1F86-E62D-4168-BA0D-2AEF2472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E48C-2E5D-4594-A8F0-C5BF4A5B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D97-4C33-41CC-A5BC-A17FE30B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2FCE-685E-40D7-91D2-8150950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4FAF-9239-435E-9B6C-E2431B9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073B-39F0-435A-82D8-B13B3058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3950-952D-42FC-823C-AEB95E3D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2B90-F77B-439C-9877-A24976F3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A782-D389-470B-B2B5-D0E570D0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2D39-881F-4A09-8477-52E56D78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7318-6EAE-44B4-BC30-C842E9AE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2DB9-7C06-4B64-9718-A5B784C4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E87F-4B74-4AD4-A67E-B2A4FE95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89C-0224-414B-96E0-F539D1CC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8EAF-59F2-4C81-9C89-3DF33ACE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AF57-A647-4D9D-B953-53B8762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4E3F-3C58-44CB-8899-56994E3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1C46-CBCD-4ED0-B252-7C39CF9F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484D-BBE2-430F-8E8C-C51A2F27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46CC2-3078-4F8D-8B95-F51C1F54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7AFC-7102-4FC7-B444-2350A1EC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BBD9-BCF9-474B-A168-0AE44AFA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FDD7E-CAE7-46EF-AA61-05F2C657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12144-61ED-47CF-82A9-D61D7C2F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3A1-C3A1-4CCD-9EDF-7D3C3B58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3270-756A-437B-9A53-8F4AD5A0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6918-5CCB-4CD4-AC21-B15EC70B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B0516-4959-4949-A20F-A7E5B7F0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7A1D-CE13-4649-8831-88BD83E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FC7C-91C8-4B98-AA79-2BE199D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9635-6CF7-4385-9A04-D54A10F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72D0-D969-449C-8DF2-E0475D3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E34E-075E-4A13-86C1-90631CC5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85C66-A885-4061-A96B-0B159BCC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D72-E6B0-4E40-881D-FFD47FB8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557-4C60-461E-AFF1-533284BF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335-ED20-4C1C-969A-3A292F2B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EB7-3658-4B20-8AC2-4624C54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7FF-3918-4509-BDFC-CBFBD30D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38DE-A1E7-40A2-BE9C-B3285050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DAF1-189F-45E4-8228-C26B4DFD3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570-F2B8-4702-A55F-11D2129A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4ABA-39D9-48E7-A0A7-3E18FC7B1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hyperlink" Target="http://www.51pptmoban.com/" TargetMode="External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8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31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70" name="WordArt 29"/>
            <p:cNvSpPr txBox="1"/>
            <p:nvPr/>
          </p:nvSpPr>
          <p:spPr>
            <a:xfrm>
              <a:off x="4683240" y="1390680"/>
              <a:ext cx="346212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굴림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171" name="WordArt 30"/>
            <p:cNvSpPr txBox="1"/>
            <p:nvPr/>
          </p:nvSpPr>
          <p:spPr>
            <a:xfrm>
              <a:off x="826920" y="1811160"/>
              <a:ext cx="7410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굴림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굴림"/>
                <a:ea typeface="굴림"/>
              </a:endParaRPr>
            </a:p>
          </p:txBody>
        </p:sp>
      </p:grpSp>
      <p:pic>
        <p:nvPicPr>
          <p:cNvPr id="172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63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14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5" name="Picture 515" descr="보고순서 copy"/>
            <p:cNvPicPr/>
            <p:nvPr/>
          </p:nvPicPr>
          <p:blipFill>
            <a:blip r:embed="rId2"/>
            <a:srcRect l="4193" t="10686" r="6021" b="8028"/>
            <a:stretch/>
          </p:blipFill>
          <p:spPr>
            <a:xfrm>
              <a:off x="5335560" y="1557360"/>
              <a:ext cx="222876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516"/>
            <p:cNvSpPr/>
            <p:nvPr/>
          </p:nvSpPr>
          <p:spPr>
            <a:xfrm>
              <a:off x="4956120" y="229536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AutoShape 518"/>
            <p:cNvSpPr/>
            <p:nvPr/>
          </p:nvSpPr>
          <p:spPr>
            <a:xfrm>
              <a:off x="4956120" y="29368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AutoShape 519"/>
            <p:cNvSpPr/>
            <p:nvPr/>
          </p:nvSpPr>
          <p:spPr>
            <a:xfrm>
              <a:off x="4956120" y="357804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AutoShape 520"/>
            <p:cNvSpPr/>
            <p:nvPr/>
          </p:nvSpPr>
          <p:spPr>
            <a:xfrm>
              <a:off x="4956120" y="422100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AutoShape 521"/>
            <p:cNvSpPr/>
            <p:nvPr/>
          </p:nvSpPr>
          <p:spPr>
            <a:xfrm>
              <a:off x="4956120" y="48625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2" name="Group 522"/>
            <p:cNvGrpSpPr/>
            <p:nvPr/>
          </p:nvGrpSpPr>
          <p:grpSpPr>
            <a:xfrm>
              <a:off x="4443480" y="2295360"/>
              <a:ext cx="476280" cy="474840"/>
              <a:chOff x="4443480" y="2295360"/>
              <a:chExt cx="476280" cy="474840"/>
            </a:xfrm>
          </p:grpSpPr>
          <p:grpSp>
            <p:nvGrpSpPr>
              <p:cNvPr id="183" name="Group 523"/>
              <p:cNvGrpSpPr/>
              <p:nvPr/>
            </p:nvGrpSpPr>
            <p:grpSpPr>
              <a:xfrm>
                <a:off x="4443480" y="2295360"/>
                <a:ext cx="476280" cy="474840"/>
                <a:chOff x="4443480" y="2295360"/>
                <a:chExt cx="476280" cy="474840"/>
              </a:xfrm>
            </p:grpSpPr>
            <p:sp>
              <p:nvSpPr>
                <p:cNvPr id="184" name="AutoShape 524"/>
                <p:cNvSpPr/>
                <p:nvPr/>
              </p:nvSpPr>
              <p:spPr>
                <a:xfrm>
                  <a:off x="4443480" y="229536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85" name="AutoShape 525"/>
                <p:cNvSpPr/>
                <p:nvPr/>
              </p:nvSpPr>
              <p:spPr>
                <a:xfrm>
                  <a:off x="4467240" y="232092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186" name="Picture 526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34324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AutoShape 527"/>
                <p:cNvSpPr/>
                <p:nvPr/>
              </p:nvSpPr>
              <p:spPr>
                <a:xfrm>
                  <a:off x="4479840" y="233352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88" name="Text Box 528"/>
              <p:cNvSpPr/>
              <p:nvPr/>
            </p:nvSpPr>
            <p:spPr>
              <a:xfrm>
                <a:off x="4579920" y="24368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9" name="Group 529"/>
            <p:cNvGrpSpPr/>
            <p:nvPr/>
          </p:nvGrpSpPr>
          <p:grpSpPr>
            <a:xfrm>
              <a:off x="4443480" y="2936880"/>
              <a:ext cx="476280" cy="474480"/>
              <a:chOff x="4443480" y="2936880"/>
              <a:chExt cx="476280" cy="474480"/>
            </a:xfrm>
          </p:grpSpPr>
          <p:grpSp>
            <p:nvGrpSpPr>
              <p:cNvPr id="190" name="Group 530"/>
              <p:cNvGrpSpPr/>
              <p:nvPr/>
            </p:nvGrpSpPr>
            <p:grpSpPr>
              <a:xfrm>
                <a:off x="4443480" y="2936880"/>
                <a:ext cx="476280" cy="474480"/>
                <a:chOff x="4443480" y="2936880"/>
                <a:chExt cx="476280" cy="474480"/>
              </a:xfrm>
            </p:grpSpPr>
            <p:sp>
              <p:nvSpPr>
                <p:cNvPr id="191" name="AutoShape 531"/>
                <p:cNvSpPr/>
                <p:nvPr/>
              </p:nvSpPr>
              <p:spPr>
                <a:xfrm>
                  <a:off x="4443480" y="29368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2" name="AutoShape 532"/>
                <p:cNvSpPr/>
                <p:nvPr/>
              </p:nvSpPr>
              <p:spPr>
                <a:xfrm>
                  <a:off x="4467240" y="296208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193" name="Picture 533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29862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534"/>
                <p:cNvSpPr/>
                <p:nvPr/>
              </p:nvSpPr>
              <p:spPr>
                <a:xfrm>
                  <a:off x="4479840" y="297504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95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6" name="Group 536"/>
            <p:cNvGrpSpPr/>
            <p:nvPr/>
          </p:nvGrpSpPr>
          <p:grpSpPr>
            <a:xfrm>
              <a:off x="4443480" y="3578040"/>
              <a:ext cx="476280" cy="474840"/>
              <a:chOff x="4443480" y="3578040"/>
              <a:chExt cx="476280" cy="474840"/>
            </a:xfrm>
          </p:grpSpPr>
          <p:grpSp>
            <p:nvGrpSpPr>
              <p:cNvPr id="197" name="Group 537"/>
              <p:cNvGrpSpPr/>
              <p:nvPr/>
            </p:nvGrpSpPr>
            <p:grpSpPr>
              <a:xfrm>
                <a:off x="4443480" y="3578040"/>
                <a:ext cx="476280" cy="474840"/>
                <a:chOff x="4443480" y="3578040"/>
                <a:chExt cx="476280" cy="474840"/>
              </a:xfrm>
            </p:grpSpPr>
            <p:sp>
              <p:nvSpPr>
                <p:cNvPr id="198" name="AutoShape 538"/>
                <p:cNvSpPr/>
                <p:nvPr/>
              </p:nvSpPr>
              <p:spPr>
                <a:xfrm>
                  <a:off x="4443480" y="357804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9" name="AutoShape 539"/>
                <p:cNvSpPr/>
                <p:nvPr/>
              </p:nvSpPr>
              <p:spPr>
                <a:xfrm>
                  <a:off x="4467240" y="360360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00" name="Picture 540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362736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AutoShape 541"/>
                <p:cNvSpPr/>
                <p:nvPr/>
              </p:nvSpPr>
              <p:spPr>
                <a:xfrm>
                  <a:off x="4479840" y="361620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2" name="Text Box 542"/>
              <p:cNvSpPr/>
              <p:nvPr/>
            </p:nvSpPr>
            <p:spPr>
              <a:xfrm>
                <a:off x="4579920" y="37148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3" name="Group 543"/>
            <p:cNvGrpSpPr/>
            <p:nvPr/>
          </p:nvGrpSpPr>
          <p:grpSpPr>
            <a:xfrm>
              <a:off x="4443480" y="4221000"/>
              <a:ext cx="476280" cy="474840"/>
              <a:chOff x="4443480" y="4221000"/>
              <a:chExt cx="476280" cy="474840"/>
            </a:xfrm>
          </p:grpSpPr>
          <p:grpSp>
            <p:nvGrpSpPr>
              <p:cNvPr id="204" name="Group 544"/>
              <p:cNvGrpSpPr/>
              <p:nvPr/>
            </p:nvGrpSpPr>
            <p:grpSpPr>
              <a:xfrm>
                <a:off x="4443480" y="4221000"/>
                <a:ext cx="476280" cy="474840"/>
                <a:chOff x="4443480" y="4221000"/>
                <a:chExt cx="476280" cy="474840"/>
              </a:xfrm>
            </p:grpSpPr>
            <p:sp>
              <p:nvSpPr>
                <p:cNvPr id="205" name="AutoShape 545"/>
                <p:cNvSpPr/>
                <p:nvPr/>
              </p:nvSpPr>
              <p:spPr>
                <a:xfrm>
                  <a:off x="4443480" y="422100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AutoShape 546"/>
                <p:cNvSpPr/>
                <p:nvPr/>
              </p:nvSpPr>
              <p:spPr>
                <a:xfrm>
                  <a:off x="4467240" y="424656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07" name="Picture 547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27032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AutoShape 548"/>
                <p:cNvSpPr/>
                <p:nvPr/>
              </p:nvSpPr>
              <p:spPr>
                <a:xfrm>
                  <a:off x="4479840" y="425916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9" name="Text Box 549"/>
              <p:cNvSpPr/>
              <p:nvPr/>
            </p:nvSpPr>
            <p:spPr>
              <a:xfrm>
                <a:off x="4579920" y="4354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0" name="Group 550"/>
            <p:cNvGrpSpPr/>
            <p:nvPr/>
          </p:nvGrpSpPr>
          <p:grpSpPr>
            <a:xfrm>
              <a:off x="4443480" y="4862520"/>
              <a:ext cx="476280" cy="474480"/>
              <a:chOff x="4443480" y="4862520"/>
              <a:chExt cx="476280" cy="474480"/>
            </a:xfrm>
          </p:grpSpPr>
          <p:grpSp>
            <p:nvGrpSpPr>
              <p:cNvPr id="211" name="Group 551"/>
              <p:cNvGrpSpPr/>
              <p:nvPr/>
            </p:nvGrpSpPr>
            <p:grpSpPr>
              <a:xfrm>
                <a:off x="4443480" y="4862520"/>
                <a:ext cx="476280" cy="474480"/>
                <a:chOff x="4443480" y="4862520"/>
                <a:chExt cx="476280" cy="474480"/>
              </a:xfrm>
            </p:grpSpPr>
            <p:sp>
              <p:nvSpPr>
                <p:cNvPr id="212" name="AutoShape 552"/>
                <p:cNvSpPr/>
                <p:nvPr/>
              </p:nvSpPr>
              <p:spPr>
                <a:xfrm>
                  <a:off x="4443480" y="48625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AutoShape 553"/>
                <p:cNvSpPr/>
                <p:nvPr/>
              </p:nvSpPr>
              <p:spPr>
                <a:xfrm>
                  <a:off x="4467240" y="488772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14" name="Picture 554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491004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AutoShape 555"/>
                <p:cNvSpPr/>
                <p:nvPr/>
              </p:nvSpPr>
              <p:spPr>
                <a:xfrm>
                  <a:off x="4479840" y="49006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Group 557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8" name="Group 558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9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AutoShape 560"/>
                <p:cNvSpPr/>
                <p:nvPr/>
              </p:nvSpPr>
              <p:spPr>
                <a:xfrm>
                  <a:off x="4467240" y="553068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21" name="Picture 561" descr="바코드"/>
                <p:cNvPicPr/>
                <p:nvPr/>
              </p:nvPicPr>
              <p:blipFill>
                <a:blip r:embed="rId8"/>
                <a:srcRect l="16802" t="9783" r="20325" b="5978"/>
                <a:stretch/>
              </p:blipFill>
              <p:spPr>
                <a:xfrm>
                  <a:off x="4770360" y="55530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AutoShape 562"/>
                <p:cNvSpPr/>
                <p:nvPr/>
              </p:nvSpPr>
              <p:spPr>
                <a:xfrm>
                  <a:off x="4479840" y="554364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3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224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2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41"/>
          <p:cNvGrpSpPr/>
          <p:nvPr/>
        </p:nvGrpSpPr>
        <p:grpSpPr>
          <a:xfrm>
            <a:off x="1427040" y="2639880"/>
            <a:ext cx="6289560" cy="788760"/>
            <a:chOff x="1427040" y="2639880"/>
            <a:chExt cx="6289560" cy="788760"/>
          </a:xfrm>
        </p:grpSpPr>
        <p:sp>
          <p:nvSpPr>
            <p:cNvPr id="227" name="AutoShape 142"/>
            <p:cNvSpPr/>
            <p:nvPr/>
          </p:nvSpPr>
          <p:spPr>
            <a:xfrm>
              <a:off x="2280960" y="2639880"/>
              <a:ext cx="5435640" cy="78876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8" name="Group 143"/>
            <p:cNvGrpSpPr/>
            <p:nvPr/>
          </p:nvGrpSpPr>
          <p:grpSpPr>
            <a:xfrm>
              <a:off x="1427040" y="2639880"/>
              <a:ext cx="790560" cy="788760"/>
              <a:chOff x="1427040" y="2639880"/>
              <a:chExt cx="790560" cy="788760"/>
            </a:xfrm>
          </p:grpSpPr>
          <p:grpSp>
            <p:nvGrpSpPr>
              <p:cNvPr id="229" name="Group 144"/>
              <p:cNvGrpSpPr/>
              <p:nvPr/>
            </p:nvGrpSpPr>
            <p:grpSpPr>
              <a:xfrm>
                <a:off x="1427040" y="2639880"/>
                <a:ext cx="790560" cy="788760"/>
                <a:chOff x="1427040" y="2639880"/>
                <a:chExt cx="790560" cy="788760"/>
              </a:xfrm>
            </p:grpSpPr>
            <p:sp>
              <p:nvSpPr>
                <p:cNvPr id="230" name="AutoShape 145"/>
                <p:cNvSpPr/>
                <p:nvPr/>
              </p:nvSpPr>
              <p:spPr>
                <a:xfrm>
                  <a:off x="1427040" y="2639880"/>
                  <a:ext cx="790560" cy="7887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1" name="AutoShape 146"/>
                <p:cNvSpPr/>
                <p:nvPr/>
              </p:nvSpPr>
              <p:spPr>
                <a:xfrm>
                  <a:off x="1466640" y="2682720"/>
                  <a:ext cx="709200" cy="709560"/>
                </a:xfrm>
                <a:custGeom>
                  <a:avLst/>
                  <a:gdLst>
                    <a:gd name="textAreaLeft" fmla="*/ 13680 w 709200"/>
                    <a:gd name="textAreaRight" fmla="*/ 695520 w 709200"/>
                    <a:gd name="textAreaTop" fmla="*/ 13680 h 709560"/>
                    <a:gd name="textAreaBottom" fmla="*/ 695880 h 709560"/>
                  </a:gdLst>
                  <a:ahLst/>
                  <a:rect l="textAreaLeft" t="textAreaTop" r="textAreaRight" b="textAreaBottom"/>
                  <a:pathLst>
                    <a:path w="21600" h="21611">
                      <a:moveTo>
                        <a:pt x="1445" y="0"/>
                      </a:moveTo>
                      <a:arcTo wR="1445" hR="1445" stAng="16200000" swAng="-5400000"/>
                      <a:lnTo>
                        <a:pt x="0" y="20166"/>
                      </a:lnTo>
                      <a:arcTo wR="1445" hR="1445" stAng="10800000" swAng="-5400000"/>
                      <a:lnTo>
                        <a:pt x="20155" y="21611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32" name="Picture 147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2028600" y="2738160"/>
                  <a:ext cx="8208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AutoShape 148"/>
                <p:cNvSpPr/>
                <p:nvPr/>
              </p:nvSpPr>
              <p:spPr>
                <a:xfrm>
                  <a:off x="148716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4" name="Text Box 149"/>
              <p:cNvSpPr/>
              <p:nvPr/>
            </p:nvSpPr>
            <p:spPr>
              <a:xfrm>
                <a:off x="1633320" y="2803320"/>
                <a:ext cx="33912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235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65600" y="4010040"/>
            <a:ext cx="335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8" name="Picture 17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logo copy"/>
          <p:cNvPicPr/>
          <p:nvPr/>
        </p:nvPicPr>
        <p:blipFill>
          <a:blip r:embed="rId2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디자인카카오</dc:creator>
  <dc:description/>
  <dc:language>en-US</dc:language>
  <cp:lastModifiedBy>admin</cp:lastModifiedBy>
  <dcterms:modified xsi:type="dcterms:W3CDTF">2012-09-22T14:36:12Z</dcterms:modified>
  <cp:revision>19</cp:revision>
  <dc:subject/>
  <dc:title>슬라이드 1</dc:title>
</cp:coreProperties>
</file>