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8AC5E-9704-4AC5-8ED2-59F9914BB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A046A-183B-4A7A-A463-808B30427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26A234-3A62-4852-8E91-D36831C7A1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D77C43-80BE-408A-8B00-4749B76AA5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7709A1-850B-459A-9F33-F914A36737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D4C26E-1154-4119-A355-184C482E38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F50F16-2BCA-489D-AD73-88C8C100E8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ACB7CC-2FB8-4A82-A37C-1B95BA0EA8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138CAB-8924-4794-AED7-16738D68D7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F7DB3F-54CA-43A8-B323-DF584AE6B9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BEC1E6-8B95-4C27-B04E-9F1CBA5BA4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2716C7-73C3-4228-8A62-291FA4ECB0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9D5FC-8E75-43A1-8F12-C89E8E094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A9A29B-1B43-442F-A236-A40D4C4634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DFD6BF-A1F7-4026-951B-5AAAC28F7E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99B57E-B221-436E-ACE8-A92DDDA884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152D05-34FC-4153-A861-5AC7F3D429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D0C8A1-067F-452D-8354-72EA96545D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92A651-E4C3-4936-9B61-3B26CB95C6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56FA18-9254-495D-B24D-3CFB0915CC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32DCA6-75F3-4A9F-A8CD-28F8ADBEF5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4AD88D-C79C-49B4-95CE-2AFE707352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9972970-2CA1-46BA-82E9-F5B4FFCFAE9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D312E-1791-4A64-9032-CBC5D45E4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04C8329-3682-435D-AD0C-D28BA95202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694BA0F-A2D8-4122-A9C8-AD1F078C96C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8D3A4E-E1BA-43CD-8D9B-F544B988E8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29A531-7951-48C6-A0D3-F6F776948F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59EC7A-4528-4B72-8058-CB1F740494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D9BA3C-5559-4D55-A757-1622115BCF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D4EEE4-A07D-4191-B1C3-720E18C4EE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6110E4-5F64-429E-B4F0-FF5DA5987F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8C4724-78E3-4F03-913E-A2635F3C80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5581CC-19FC-4BF9-9AAA-360B4F6412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F3161-D14F-464C-B809-DF7990FE4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F60FBC-7618-4E7B-8545-85D700042D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7093BF8-F506-4FBE-B6E8-98A8E0B571A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0D4DB1C-4B18-45F2-BB58-F252E318C2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824E935-B026-4D0F-B67D-EE4C1FF899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B57D99-18F5-4C4A-BF73-826DE52164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F4C47F-A585-45B9-A91D-C641B127CE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3861EC-B41E-4400-BF0B-667F8262C9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7B8098-8975-4EFF-AAED-31FA998623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B2194A-14FD-4EF4-84ED-B5ABCB5512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677AF2-C314-430A-9A23-F3629E7952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074C5-0A24-4D7B-ACC2-57BE7D617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E311E0-508E-4129-9815-D36697BCD1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A29F96-F688-4CEA-BC4E-893B8F585B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179C5E-648A-4548-AE02-3BA4A53D33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E08EA0A-E165-4B12-8F48-C13CCDFCF08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32FAA59-4AE4-4907-B616-862183DD147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3691D1B-97B5-4650-A9E5-73138597302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505BF98-881D-4B66-A433-0CA1F5A688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E0B44F-02C5-4B05-A1D7-434261A9B72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0796F5D-617F-4D9F-BBF6-0164ED5314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E3596DB-DB76-46D0-889E-D36F8CEBDF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4B96E-A41A-4D26-8133-102F7B59E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A540D5-566C-4EEA-A180-7CA383F096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672196C-58E5-4FDA-ABF1-21D6C33A8B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EAA775-74D2-4DCF-9B43-731F41CBB6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0213F3-5B57-4841-8F0F-0592385361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0ADBBE-CE52-46B7-B8D8-5237E34A77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9027160-DFED-42C5-A5D5-89C15705983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1C41B1A-8B74-4FCD-A27C-8F41A89B62B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9C0FD19-73F0-4105-9A21-39961C16A85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931B539-237D-4CEA-87BC-2241572DCF5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54B92E-54A7-43DD-95E2-5F9B5AC414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931ED-938E-42C7-B2D3-AA67AD369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4DAE03-AEFA-457D-AFA5-81CE06407BF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232532C-4B27-4540-8B06-9906A5E80CB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C0B2828-05C3-4D01-B786-0BD2CB3CE8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EBB2019-0480-4F88-BE39-448B16AD56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27A8CE-9E88-4CE6-BE56-26CED78FB6A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CED5FA-2D6D-4754-A569-D4E3D4031C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919283-F5F0-4B24-97D7-660C6E8194B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FCE8F67-ABD4-4495-B7C5-66147A306E6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5B5F04E-2480-48C1-A6B3-E0698F22F23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5E112AF-5215-4686-A189-E6F9AB84798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180FE-1943-4917-9150-C7B87B8C8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FFEA8DF-64A8-4956-B260-C4D04E4015F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260754B-1F7E-4BA5-9FAC-9A9DE3782C7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5A25CCB-F77F-44D4-B2D1-851F41E018A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8C8AEFA-31E2-46AA-9CEF-7B2C9F915CD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84017EA-0362-43B1-81E5-112BE7D5183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8C89F71-5136-4980-B15D-60666E68FA3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BC6E82-15D9-469E-B45F-DF88B63F5EA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58BFA0-157D-47F2-A90C-1EB0FAD8C9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9C359D1-24F7-4A7E-824E-15EE0276710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A05115A-EC4E-4B68-8666-59AB9B52556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2A534-D980-49E0-9AC9-9D23F7CFD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A457273-A961-4162-B829-4A85A8FE48A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16EA45C-BB2C-4969-BD36-4F87B38C486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9BCFDF0-F468-4BD9-B670-2D618871833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E2569C7-371F-4453-8712-9E8DA1C21E7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517E0D8-AB50-4EC6-A80A-3846CAE12CA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1836E91-AAF3-4ED1-8042-FAC41A3C01C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F1E30B5-D6B7-4AB1-865F-19E3DD9D059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2A73BD8-8696-4B55-9E3D-C58D3651C17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3097CF-F9D5-4EB8-AC0A-A79EA1C0929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AE65CB-CD89-407C-917A-CD20EF5AB82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25DB2-1403-4166-9987-50F835155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668631B-AC59-4E2B-A627-E9CF5A5F2B5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93C1B4B-3294-4EC9-AC11-C7739725006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0483202-558B-4BC9-A276-D4DCF2C7BF9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0CCC5B6-5F9A-4566-931E-0A8894D7496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D9CECE6-42CE-4322-9398-F1C2C96B4F8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361AD32-DFE4-4BD8-B688-C65552C0E0F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0B90BAB-EC22-47B9-8983-66C1A7F1AC4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E66C078-750E-42BD-BE9B-2B519FDCF37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5B92595-F151-40A1-8E23-452A3DF08B6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74F6E06-22BF-4EAA-92A4-1206F23AEA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C19BB-8BB6-498E-BE5B-0C401820D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644A1-8548-46D8-9969-2EF8DE339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5F93E8-ACE2-4817-BC48-71EF5B7FE6E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FBEAF6E-8ECD-4587-A8C6-A465E021FAE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2E9DCC9-45A5-4EC2-A917-D78CD331F3C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F87F72F-0B1D-4DEE-8578-37A2E26F3F0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0EBAE78-8627-4086-B6F1-4036833A768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22A6593-B91A-4044-ABA0-FCBA22FE076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EDC1725-2FBE-4B49-888D-3BD797A1759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C4F6128-D930-4201-81C2-5E911D937AE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7D73E82-CD7E-46E5-8910-9E4337CE358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3CACDF9-D30A-4811-9F39-E94B3BC6E04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8219A-E393-431F-9041-7FA8EFCDF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FCB6E81-B289-40AA-B5D7-F42764736ED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5AC66FA-7DD2-4326-BA61-6261E274984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A0239C2-95A7-4419-8177-F0A02D71077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77DAD2-6DC7-4080-A72E-63201D3372A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851D397-11B0-4C24-827A-2FFE1486C64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813F809-BC1A-43AB-8520-C1727BA4AC0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AE57A4D-FD4E-4568-8D0C-B7815ABB154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6E50569-DDB5-43B1-9CEC-0FC0F8A204D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8132BB3-9996-4E46-9C48-27C1D726AB7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54D7E82-E10F-4DC8-8382-598225C8B51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60A36-3C40-4E40-82FF-DE731B17E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F3F2D35-22D1-4206-B978-5720242A2FD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89E10CF-2820-4ABE-B461-BECAF81B025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4ED6C12-ADA8-4809-B436-A80B14C581A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2F82972-0A5C-4506-A1EB-E8D5108E42F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4E85974-F5EC-4C94-AAE0-786079F1B17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DB0DFFB-B5F8-4680-8A7C-C69CE7C88F9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7B2DCC8-316C-4401-A5D4-8E5B29A53E2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A1DA5B7-F71B-4CE7-BEE2-BB5F2573AE6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9C447B3-F2D4-4743-8FBE-BA49D7F1159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D7A1E55-59C8-432E-A733-C65E053432F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5C2BC0-6BFD-4C71-9C08-CEEECC4DC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FB71DC3-760D-4ECD-BCC8-D895870E757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E02F725-C016-452C-9BBE-D7A06E076E5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F05DD80-D026-4772-8870-41447BEA4F8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917EA0E-1A35-4784-BFAB-04FB325EA27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CC9AF91-B31A-4DDA-9BC6-F2C2654C2B6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19A67C1-1518-4DC7-B552-95B9CF432F3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2EC7F7F-F3D3-4662-BA03-8B3771A5B64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F7E1E0B-9478-415C-A0CD-3A42BE92919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3643355-A7DE-49A5-AD9E-23CE44DF593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4754CCE-E71F-4A3A-BCAC-F4757FE12F2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D88D8-BCD7-432C-ACBE-CD9F24D72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3C874E8-FE96-45F5-8279-AC600AD9D4E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FD744D8-3159-418A-9365-104E8556F7D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247D214-456A-47B9-8B5C-25432958D1C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7A65EE2-22C1-4369-BE9A-09367A56C83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830FB14-171E-4490-9497-B8D0585B074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4360371-B847-4613-900A-BD240DCD7B1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3F41836-8C70-41E0-820C-4770C90B047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F7612E5-2E54-49CA-9588-97F7A32F7DE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C45ABF0-1ACB-4D71-B5B6-AB10DDB75FD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B821DE3-70F7-4E41-8458-C11D9AB45AA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52B1CB-842F-4C16-8127-5D468DEA32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39723D2-E002-4D96-970A-886A9EA31AA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832D013-379E-4F19-938D-B70AC29A21D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30AD610-C181-4FE7-892B-DECD9EB359C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A0428A4-9523-4D28-9582-E236EF79E3A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A622D89-3AE2-4808-BBFF-63FADE8BDF1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ECED136-6DAA-4706-BEB1-F6EBF788FFB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B355AAE-C675-432E-A6B2-90E16DBD60E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C621976-BB00-46E1-BE26-727459B3EE7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F878E8B-9692-4440-A644-E6DD2D77EC9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8BF443E-926B-4977-92D6-1057029C01F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B1EEE-978B-4779-BA64-CEA2DD9880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4BD851C-9066-4407-A505-9E95D67AD35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6BB10B3-21E8-4485-A997-CDD6EFCB457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D572509-8B93-4DA5-8A7E-DC81EB54593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CDDD03C-9799-4B0B-88F4-6FAF12738F1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9A99ACB-9DD5-425A-9B72-8268D999C03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38C421A-7FAB-4402-84A7-E03F7D73E4E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725A20F-31E3-4EE6-AC31-EBA01579F47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5B19437-027C-460E-8BED-3201597C55D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247AC0E-C861-45E3-BFEC-2740038C743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95A5575-07A2-41C4-A6C5-5F05C767A57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C4CE32-0B2D-4698-A3F7-70F54CB1D5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B3B5F60-76D8-48B0-9AB2-07884F8C79D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B92EE14-C579-4AAA-A5B2-B1E3E8981F6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B9FD958-C145-4B00-8935-57E125DED87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A48F540-5BC3-4AB8-9028-8AA88BBEE60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01D0606-B8BA-4434-9E39-2505C86D468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485F141-ADF9-4486-A6ED-65EAF222B53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D14E5E8-ABF8-4485-9ABB-8C04EA3D49D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655FB78-22E5-4253-9ED5-8265088F257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5120CC7-D6D7-4C9F-B9A7-45AD8F2D8D6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7D44EC6-7C65-4E5C-9908-ACAB12BA0F7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387476-20D9-4461-944A-F2B3E39E31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BFF6A5E-B042-498A-9E1F-628D978E027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2BE172C-07BD-47DA-8908-E18C33DB48C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CC53BAD-0819-47C1-9345-EDBEF8937ED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73B1DC2-B9F4-4E2D-AFCF-11AA0F85ABB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09BCE04-EE82-4445-8F0E-8FBE02BE7F7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C379973-6349-4305-AF4A-5B0804D6995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E1653E4-1E71-499E-8181-F2BE331CD66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18ECF26-AB21-4CF0-BA9D-E2224C7D172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4924670-8F79-4572-A24A-F9D37BD0F56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E8C3CC4-8B14-4361-A247-A76CD0A60165}"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A41911-0673-4B7A-A8B4-59207D83B8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7E47F4D-6F8D-438A-A2C8-B12E9AB924A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CA468E8-5EF4-43ED-ABFB-E63E0D24BBA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EF24D24-E80B-4C20-854E-62FE010812C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E77BDEE-3980-4680-A350-EE3D1CADE80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25848C6-7E36-433E-8BDF-97956DC22DB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7D9DC4C-F3E2-4852-9B1F-97DD0C42036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9CA3840-60A9-42C9-B65D-76C4A9D1E44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1097EFE-AB56-47C8-B0CB-7C31A00AA71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A26EF8C-96C8-4B27-AFEF-6BCB92436C8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DBE9F9B-22DB-4527-9ED8-CB4DE400340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8A04E-C189-41C7-82C4-20E84CCA4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68F0D0-5BFA-4314-B87E-566A46456A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4FCABCC-2F51-43DB-87DF-4982DC24F77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7658F1D-64A3-4353-9DA1-340A3C350F8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4EE6F99-05F6-4D61-B10D-ADA54AC52C3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F1A7C72-8A88-4C43-B660-48458DC00EC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0CDA3E6-18DF-42E3-88B9-BEC57F84B22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A381F78-2B0C-42CE-9CAD-DAF7AFCA630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7F04F3E-13B8-49E0-AB96-385EE9589D5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31A4C66-91BC-4948-BFB3-27ED465E3AD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40B11EF-9CC1-4FFA-AAA0-9335358C8C7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57FF7D2-0111-40BD-BA2F-4687EC35A56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5EFB0A-719F-4A3A-A125-C961B8FDFC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796AD6C-B4F2-49F3-8EF0-714209200F6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F4A36FF-0CB9-4A8A-9C9A-B0519D7C1ED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4E3F14F-46B9-44B2-8382-A82E5608D443}"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CBE06AA-4429-411A-AFB1-119761F8A2B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D3953A7-5678-43CB-BDDD-BCB43E059ED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3051DB2-4FB6-4BDA-A121-F69E5B9A3BB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FE43F50-864F-4122-BA7F-925D363FAF1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4F7EBBD-92B9-4D86-89DC-23F632333B6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595DA91-3C8D-4A93-9702-5BF3EABCA96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A623A7B-615A-42E0-9A70-F954647D2DE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047EC-A401-4302-A56A-D7D5FA357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CBD6461-EB5F-47D4-905D-CCA0BFB025B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1F872A4-26BE-40CE-A4F5-E98E02B0055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3C0BC14-6363-47AC-9428-98F3EA39C88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DD13CFD-994B-4C04-AFAF-69264D29E40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0CDC1B1-0CB6-47FC-9594-5E0E62674F6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B5C7697-0C7B-4842-A695-1234B7A191F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50331F4-C520-44E6-9D76-A0B92C2248D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6853DBF-80F2-457D-B4D6-428339F5D66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0D96118-3C8B-49F4-8127-A3B670E67CF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69FC040-B04F-49C6-BBB7-B7D40E059B7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49C0FC-59E4-4A83-8B03-5753457A2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B47F673-BE20-47E6-A2EB-60E1A6A7696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23E17B9-6132-4B7F-8FBE-280F98459A0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8F33986-41BE-41CF-B1B2-91E61CD7F73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1320CBE-85B0-4510-9F5F-67549413049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0642FB1-ADC8-4EEA-A5F6-3C2CD6CC812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C41BE7F-163F-44B5-9BFE-E7ADEDED134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39CCF6A1-6B6B-4AEE-A66F-C4965A7FCA81}"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57210C3-AB05-4807-AD5C-4669504F2C29}"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4B055C6-4451-435A-8CF9-E2A49C6C126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4CF1430-3530-4BA7-A101-71AC8519826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A05CF3-1500-485D-A18D-2570ABE62D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4373C18-A43F-42E0-8848-82C69A1C63A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31EDD31-B794-4665-8F9A-E643D152D71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FBF8247-10F9-4F1E-BFDC-FAF2606A443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D336E68-AC00-434D-AE40-4CAED437ACD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0794FE8-F3E4-467B-A7CF-507CC29B9E6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DAE7930-451E-4589-AB64-D71347CBBF8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CB5C533-A9B6-4D15-BC56-DBE1FB9BA2C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553B07BF-BF76-41E7-BF95-C4076F5AC24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E6DABFA0-85A0-4F53-8E28-571130ACB8C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0340EDC2-A50C-4EAF-B684-A5CFB8AF3195}"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F57D0D-609F-4E82-A5F3-24A255EC91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D789BD9-DAA2-4AE7-80A9-7AA74C7F7CE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1EC1C12-A271-4D44-8EED-A1A16DDE685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E8063FB-4E0A-4F4A-A298-C4BD3428581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9131719-1A50-4589-A2D1-04E98B5C8AC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F6BACB2-13BD-41BA-A81D-E0095AE26E2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284AE3A-ED74-4EBF-8EAD-4C80AE9B4F6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F947ED3-BB9B-4BE2-9DE8-04955B60F3C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83033F6-BD44-46D7-AA33-5793498AF49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1C1A977-3A38-42F2-8DCA-99BF76ED9A3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B44ACBA-9A03-498F-AEFE-4ECBDEF6C97C}"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8D37CB-6A45-4A29-BAAD-F5E7AC8482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1C41592-8CCC-44C8-91EF-A33C5A80CED3}"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6F4DDA98-592B-432C-B8C7-A6625E749877}"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56097AC-9E4A-497C-9251-DAF601372DF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4BB6AD9-C48F-424E-8C78-77D8A9A31ED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84E94BC-F373-4445-B137-F86F74292B6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6C9F352-EB08-4398-A3AC-3B5A8788FE4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0056DDE-1561-4FF3-A8B8-41E08C5C4E9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AA53739-127D-4C45-8724-3314311EDEC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E0B8338-6E46-4140-9E50-4AB9A3C0F3E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4EF75CE-0756-46F4-93EB-8083857448D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8E168D-9FEB-43FB-80CB-072FDA5B6D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566C4E1-9B22-4896-84FA-87D66BA537E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8AC0C6AC-CC5B-473B-9235-C26E5470CB0A}"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39E285DC-36CC-4B68-91EE-816370C8F915}"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79B8B525-1086-4FA7-B3FF-73AF6A2CF3D6}"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437579E-529A-467D-B879-CDD88E4BD55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A106E21-7A92-4A16-98AA-7A51AA868C7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D0C7CF4-37F9-451C-B7A0-9514B4E4BA1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1DAA0C9-B0B3-4C9A-BA34-CE96638BC6A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DB592E0-D38D-47B7-84CF-28EADD7DD23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AA688A1-A986-4FC8-95A8-E2C5643CB6A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6F40E2-76B2-44E5-A1D5-CC1149FC83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7B0E7BD-131E-43B5-9581-D1660520324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1561A37-2559-480B-BCB1-DB7849919A6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8B9ACFA-DC9F-42CF-A3B9-DDE0F3D509A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B4306BD-FC1F-40CC-863C-F4DA8CB1599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4DAD79F8-6197-4EA2-A961-DE3AEA2779DC}"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40707734-DDD5-44F4-B08A-532559F1919A}"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8A1C914-B030-4F49-8C9B-F3C491E0195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8A417A4-2721-437A-9831-7A17A0CC164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383C0AE-A0C7-4750-BB57-759D2ED6207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5CE27C3-99EC-491C-9A48-3542D975F8D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2E5162-1F54-4C23-91DB-0E292120A4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3E84B6B-08A9-4E6A-A3C3-AB4E830C070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F909D63-963D-4484-88CA-1193231A69B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B0B6085-1D97-461D-B5CB-CA0E0D3436A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1107768-33F9-4E85-9B7E-C3595AD94C9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C9015E4-01A3-4BA2-B442-E8404FFCE7C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2E208B25-145D-4B0A-A815-AA252BB1326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1D85D6AC-A013-4757-B2B3-49D7BA24C7F1}"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B3AFC1D9-A2DC-41A8-88E7-21F93CA1245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462ECB2-7EFD-44F8-8F1E-03BFF39D24A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105EA24-DD84-49D4-A353-913C8206DB7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F80AA-73E8-4162-BF82-7A2604799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44CAC7-E40C-4B09-ADCA-5FFD272F02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13C75EE-463B-42C2-B59E-95EF86CCA7F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9ED8CCF-D1C8-4FF4-8C9A-3EAC164D74D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2B9B391-51C9-43C0-B62B-061736CD642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8F77F62-CD7C-40F2-A87C-28523CF9AFC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116E51B-34E8-4065-8949-50FC9306802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9C21C04-476F-4A93-81F2-55DDD182CF5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1B831D7-525C-43FC-99A6-62343CD9921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83B1F453-6B85-40EF-80F6-AAFFA66A8700}"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DE812593-1C9D-4820-A8DE-2CA69ECAF660}"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B2AC1114-F061-4FE3-856C-6B89BCC55147}"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3D5114-9009-4231-B2A8-8375AAF99D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7A54312-8C0B-4B5A-9D3E-AD8691560DE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AE207D7-CBDE-47F8-9438-521681DF334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6EA5739-A37A-48B5-A42E-358130FBBD5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D68A6D2A-EAFB-4850-901D-B12C6AE87D3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1668490-C4AF-4EF2-84EC-8CE7C015043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6D9AB75-08A9-4501-8C7E-06C5ACDFDC3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925109F-F309-4622-B796-81BB6E68122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5E3C67E-2B5D-4A18-8603-6B87428E074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C798DAF-68DB-413F-B3D5-8156E2C8F06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8EBD0DF6-B8C6-4978-B3F4-BA9AD810B314}"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B988B9-0F66-4996-99F5-E7C7B580B7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7165E2F-3A5C-4ECA-9465-DC46203CCD19}"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9BC3CD0B-DDF0-4A6E-BB49-6B66066F9C63}"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824EF14-352C-477A-9B62-C32B102802A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2FFBAAF-715F-494E-AD6A-C94523F6348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05BC30E-5ECF-458A-8ED4-DFC58F8DC7A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AC7A457-F7BF-4EBB-AB8A-9C8211042CF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4171104-405D-4B75-A63F-632B1C2ACC6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82318E3-26EE-41F6-B475-F0F6E47B222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5E0D520-FA0A-4FA4-87BA-BEAA23027A9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F1283DD-89FE-4937-8B83-18AB9C80D3B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3E2B83-A815-4819-A371-33662F1C53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EB28178-71AB-4149-8B88-2115CF4D01C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9AA65DC6-79FC-4319-B90D-6936E08FA95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97DB6DF2-3B01-40E4-9509-C926E5879F2C}"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6D942D5E-FD59-48C3-98B8-5D7208349E55}"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95B0D67-8D41-4290-9017-ADF632CA9E16}"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DF42D0E-5424-4FDB-AF90-F31A8C4D7E4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1270FA3B-E5D3-4CA0-8479-868513B4AA9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3B0BEA77-6B17-4D76-8B4E-267A3E675D8A}"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FDD3A87B-781E-495F-835F-224E3AC8C85C}"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D5E3610-9FEC-43FC-AFF7-30461D68ACF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A7DB9-F7AB-4E1A-A028-9F2DE27C59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074A848-6239-4000-B4C3-D3DB094475C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289C6A5-062C-4CE2-A84A-EF298073D19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149DF56B-B207-40E7-8649-A71B066D423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1DF85E5-5F40-4D0C-950F-B47D6D094BFC}"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8FB7E8D9-B491-467B-9AE1-69FB583CE770}"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FF65F402-2E3A-4E23-A10D-2E02E2BCE0E6}"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A233A99-4F66-4529-97BE-C22167A8E6F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D9B67AC8-5F9D-451D-9139-A5B1708438B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640AB77-D63F-4915-85A5-B4DBB0C23340}"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4609851-6FC5-47AB-B787-AE60345CAE9C}"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A9A8CD-ED49-43B6-9889-350CE6CC9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E2732F7-6EFC-4E1C-B734-5D4F5DB9365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246CC8B-DB38-46AB-BCFB-A18CB187F7C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5E6926E-257A-44F5-B624-7236B3217A8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4A8DF0C-6DC2-498A-82C4-C92320339AC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B884E85D-5FF6-4BB7-810B-443C945CB67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E4A0F6DB-E291-4F4F-BDB7-CBCDB3C61D3E}"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EDB3E30C-16AC-4FA1-8C06-A01E6E96101F}"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16C010B9-B9AD-48BA-A239-DD71E094C0E8}"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FA933660-7121-432A-B6DB-77D31FD0971F}"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9DEA0325-7D08-4FB6-86BD-3167ED213348}"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01E10D-6AE1-4B4D-81AA-CAE324452E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BB3420F0-5163-452D-9113-D176B1C81DB5}"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5CD750B3-CDD8-46E4-A36C-C05FF52AFCF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A9D2AA40-34B6-494C-BFC7-7F89D7EB52B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607AD68-D607-4731-9DD5-B99AC0463D5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EA7213A-6DCF-476A-A70E-5C27DB8BBE9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AC8752B-D5E4-4854-8380-6C9F8B59E8A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8FB8FEA-4BE3-4FBC-9CBA-AA1390C23CA9}"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23742AE3-55B5-45FC-8607-453E7F2A4227}"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57DC928E-6EC6-4F59-BB9D-D7C9FAFC9EEE}"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C9D108D0-D684-46F5-BAB3-1E475040105B}"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F12E26-3B6B-45B9-9DCF-AD0C25BA6D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46E3F5F-CCE3-45B4-9049-02E88B77D810}"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80795847-FDCF-43F4-AD79-9FD6B26F6469}"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072B59D-9BB4-4B46-A6A5-DB85E2028C48}"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B72B2CC4-060D-4DA0-8027-0728E26BA4F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E2B565FF-3E7C-4050-AB5D-3733D924AB0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D53F2B1-21CC-44B2-A27E-A2EEBD02A36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3A41EBA-7264-424D-8291-EC775BDFFB8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A9D95FC-7045-4403-A84B-7CC9B18D85C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0886F01B-7C5E-4F29-B0EA-EFFF41FD9C3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4E7AE5B9-2EED-4521-88BA-FF073C27B6BB}"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FD8D1A-2074-4DAF-8E67-6AE11C36D7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AA8C213E-CCE3-4967-8E62-B28349D7C20B}"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BC2782F8-6396-42A9-92D4-41915894B4DD}"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53A3B7E-D3E9-4996-954E-F0DE2B83946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C7619362-9109-43A0-B55B-2F2923A01DE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1A89853F-D64F-4828-8693-707F8D358304}"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7E002502-013A-441B-A83B-EA68753D45E0}"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08A6D231-3E10-4C44-A2B9-DA381D37A74E}"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9137225-F6B7-483B-9521-F11C648C059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59B89DA-A236-41D7-BBF7-39852BF8B15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6A23938-1F59-4F8C-A456-77754E9E141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E74F49-7027-4BC2-827E-56F74BD0A2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29DA8952-76E9-4B69-9E3B-D9DC6B30C8E0}"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7B7CFEB3-5577-4378-BEB3-647ADC4390E7}"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F4D7E659-192C-41FD-87D6-54ECBEB41AD7}"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3B5B189C-6799-4E1E-B7D0-175AFB96F626}"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43DB7251-568D-488C-A710-B8EF016AE427}"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A348F04A-443C-4E8F-8952-E3B81F72B608}"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10E7789-0B9C-4A35-B1AD-5455FD6906B8}"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2849BC42-C126-42A9-BE8B-72A89F26EE79}"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D9B409A0-529A-442F-AD03-92A10B866198}"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C6EFB2B-12CC-4794-B966-EF9B5E6FA45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54EAA-D239-499C-A948-7E6EB6783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F17ED5-AF65-4D2F-91CF-DCF75C4CBC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4A2B3B4-9423-4DED-BCF4-EEE8D7F256F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B603097-888C-4139-9C39-A2B196F228B6}"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8B688926-6A75-46A9-96CA-E8204DCDC8BC}"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9D6A42B2-33E0-44BC-AC38-FFE9F313F9CA}"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C7EF8582-ABE9-4972-B00C-0F52E4E08BA2}"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E2D9822B-05D9-4E14-8AF7-D3A805EC5ADE}"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6096718-EA95-4327-B84F-2463541FC34D}"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0A436B83-5B17-4F0B-B154-5C55FD74FD5D}"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E971C77B-71C0-4751-BE9F-47B8599AF5E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BA3249A6-B8BF-4B12-80A9-5AE52BFA745D}"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440645-24B9-4CAD-AA7B-C2FC158667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538056E7-BD74-4CDC-8CF9-43B2C34DA4AB}"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B379BDB-AD16-4C3C-ADAE-D27DB9F3855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DB854C5-1832-4A70-AC7B-50921689F82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3F60D2B-1217-48EC-AFFB-6AC15D09645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7D8DE3A9-6E76-4C7C-A09F-B0F85AC74351}"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0742DF0F-40FC-4BC7-97A1-2F616D68734E}"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D246A7CA-D4A7-46A9-BAA5-622962AE3F58}"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2D9F6955-FC21-411C-9F6F-4E23F64ABFDB}"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0193EEA-ECB6-42ED-8F72-72C54284F9B8}"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AAEB0F48-6CBF-4007-B872-7D744A62B2A6}"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BC0B0B-8CD3-436D-8869-3F41E867F5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913DD5C5-F0ED-4FF7-BE85-0D0DDAD37C2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DAAC4A3B-049C-4EEB-8E36-495B92A6DF1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F2C5575D-FE55-4CE6-9E82-15CC3BF1027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95A0138-A2E3-4DEF-85A5-A455594EC94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B585266-3FBF-485B-B98D-31EC5FF94BB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5F30876-6150-43B4-AD73-D4B14B83FE0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EB470D9-E8D9-4717-A8A8-B1ED72B2EFC5}"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65EADA73-1E92-455D-A272-356FB288F3A1}"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8A225AD0-1D79-4AA1-8144-8527A1B3EA1A}"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8F020F95-011D-43BE-AA52-A7F10A1CA96D}"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99AB42-96B1-413D-8246-6609A2BDC4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C7DD5F1-2636-4536-82A0-999D1B8C46F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05183FD4-A65F-41DE-9164-F0A4731C326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1A9584D2-B6EB-41C8-BEEE-C97FE8C1C31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DE4E500A-0E79-440F-BE89-6C6AF7FA5A1D}"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EDAEAC1B-C9A8-49E2-A63A-4410C3EDC0F9}"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4411C62-F7F8-4B7B-A197-FA44786914E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E36DE91-AD7D-40D6-9C52-6EBA3450125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D097C00-6339-42DA-867E-3A953D2BB57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0948C93B-F9B7-43A8-9453-E21B5964DD3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B60F5861-0D94-4512-AD04-7CA080F7503C}"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BF953D-48D0-440F-AB60-C1BBB2429A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266631D2-BF8E-426B-9AD7-08C51C1799DC}"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C87E9480-0483-4FA5-A8E5-DE261B62EE49}"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AC0E9E01-05BF-409F-AC9C-50AF329C31DC}"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D753545-E452-4169-9607-C271414F1B83}"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872BC107-D54C-4898-9049-831EE33BCDF1}"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B02A483E-CD0D-49F7-BCBF-5620E4B0ACBA}"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316BCF5D-D7D5-4F07-B359-DBBA80AEB46A}"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3CB1B46-B5BB-4455-B50C-C3429C0A184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F07F592-6350-4EE4-846A-4B62D128EC0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93CFCA2-B1EA-4E37-9455-BC2121736F9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FCF967-F030-4420-BE2A-B4802C9DFE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140A90F0-8574-4DE3-BE18-C7F00B5CD3E3}"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1FCE2027-262E-46BB-8650-F0FD6415BC5B}"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F7C23979-3FA1-42D2-A4E3-2A0F35A5D106}"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7EF21BCA-0A2D-456F-B020-0FCC2B941F37}"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127EAA84-421E-4974-94D1-F6FCDD0C085F}"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F41C7AB-B1AF-4E54-B1DC-91AC1F97FFAE}"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99DB6153-3B9B-4B2D-971C-F9C8A364F549}"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1EEB842D-94BC-4670-9791-1AF3A440CF4B}"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6E8FAE8E-E0B3-4D0E-9E9B-FF443FA6337C}"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8C1EB59-1E38-411E-835A-CA8EA07E0BA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71BD0D-B223-470B-B3D2-D0CD64AF18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3333DDA-F1DC-4276-BA3C-245CB2B6D5E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C218197-329F-4FD2-9FB1-CCFA90694F1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C3C272E7-D30B-4BA4-A2A6-A850BCD5153C}"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C884E896-A19C-43C9-8EE9-6B8141CAC5F7}"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4A574EE9-C088-41ED-9C67-D1C9E4942CEA}"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0E4F0637-7516-4E73-9FDB-2BA9F5ED40DD}"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1BEF3848-7FCF-4B49-A464-D890E596090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6C3692F1-E6B1-41F7-8CE0-91FAF607A2FC}"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42B29834-4945-4B3E-B667-CF34682E5822}"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B325C5D3-3B1B-4E43-B1D0-821108208EC1}"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2EDFB0-3D69-49E3-B887-BE987C1915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97ADB977-12E1-4322-8724-7F10C417A2B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58F1FC9-898A-43A3-AB58-B95580F653B3}"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514AA6E6-88A1-4B7D-96EE-579538AE42C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DD12FA1-4135-43AB-8FFE-15AE990A6808}"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F4EA8B82-ECB3-4DE3-8464-8295810B982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2D09218B-5F3B-4D89-AEA4-ED2D6DE76487}"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D9D2ABBA-A128-4740-ABA1-13BB2394B178}"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759425-AC6E-4C33-A688-45183753CF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6C7FB2-4C17-445B-BB73-3CD0C58848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6BAEE-BC61-47FE-AAD7-B2D940324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C59A2E-EBED-444A-BDF2-2C7F8BDC5A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65C207-3B60-42EF-83F8-B6C7CAD0D5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218791-8427-429B-826A-CCED755CC7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E983D3-8EE0-4CCB-AC66-6D8DDA6CFD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70E320-189D-4816-80F0-75D6D73D53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9EABF2-E626-4C95-8A16-7E7B10AAF5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B16E02-1B8B-49AE-9C31-BB0C7428C1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E68DE8-8A69-4E88-95EC-47CB801C33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823DC7-074E-4431-BCF5-7E6E8291F5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372981-2146-4324-B5C8-D409BCFA5D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3F0D4-5F3D-461F-A8EA-779FA4495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F5D7DD-9E9B-4E0E-A28D-9D8BFE3CE1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A4CD93-3FE7-4095-B9D2-79D00DBD5C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6E58D6-97AD-446E-9D25-10FD40BFA2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264172-5F7F-41B4-A8D6-F0E878C29A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E26827-4805-41A0-9490-E48D23E340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01E375-88E9-41E2-9D18-B3AD4D7DF6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B178F4-3B0F-45FF-9BE9-795E8F60D8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742A54-94F2-4C72-987F-024F578C98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E931C5-5DD5-4E85-AEB1-C6F0FAD168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D3A7D5-28A3-4702-8C44-0969B14D4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E056C-934B-418B-9A25-5512A9685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7262B2-9892-4254-BC4D-013226730D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4123ED-34A3-428B-A2F6-93FE663746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3EE466-88CA-43B7-9975-C76CC6E775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0A0666-2B94-4734-9FA6-5E20DE1ACB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045546-1ACA-4513-8F27-1037391FC5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FFF2CE-5A3B-445E-A6A7-8E7A3A1639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58D5D8-24DC-489F-A0F0-964E0BC1F5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468335-D2E9-4E23-A9DA-13AAA8738B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F760A2-6E1D-4E06-9341-5FC40B8D59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D3052A-4AAF-4521-9577-8FA1BC19EE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C95FA-6D62-4026-9EDD-99D47A25D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BC573F-655F-4959-B090-9223D27FC5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37AE94-DF51-415D-8204-73274C4DBF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6B4059-E9EB-4A32-B165-03714E16D8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BF075D-A0B6-4CE9-91A3-159FA955B3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BBD504-2628-43BC-8295-548D2F90C2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87DC34-7D46-4C2F-B43B-35D3ACCCF6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D32C6F-76E7-46A3-8684-242B765F05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F1353F-DE3B-451F-834F-A46B8E6A00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15D2FA-E978-415D-AD00-748BF2A516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A157E5-5486-4A53-A3C5-BDEEE8925D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96D2A-D6DA-405B-A01C-D72F612ACD6A}"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9D6C-5C23-428A-9BD0-219F116CC7C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4FC0-A701-4DD6-8B3E-B8FDADBD0FA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CB97-3DD9-4262-8B1C-1F1305382E5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4B15-2437-4203-855B-9741C87E48A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FEDA-43EA-44A0-9F81-D7AF019FCEA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316E-1BB9-46F7-A50C-5B75DBFC7E9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7F3C-F2D9-40B4-B6F8-BE76EA4A604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5CDF-CEAA-46DE-A819-6978C475AA6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6E0D-61A2-4BD6-A788-F2F76240642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4766-CFBB-4C1A-85B1-FE3D8BD5865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1D15-02E1-4309-AE92-D354264018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AC34-9FE9-4DDE-BB25-2245FA3AF50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3AE3-E1B9-4DC0-89E6-D50352BC8F1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3682-8DC1-4FF5-B5F5-54F49DED569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B1928-BBEE-4E7B-B046-4903FD38197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9CC9-E3D3-4664-8D9F-1BEAF405E47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3252-4611-44B1-8CE8-15C52A70175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5206-B315-47FE-8D3C-97D215ABABF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D1FE-041A-4942-B8C8-188287A9862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CD88-0B02-4412-A7AD-B1A192D1526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36EC-F971-4054-95A0-B2C3BE3E60E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B49F-C9DB-43F5-83C9-289C880BFE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63CD-EF4C-462E-83EC-896AFDEAE6B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7136-5855-4CF4-8EAA-94062263625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FDFB-E8EF-4997-8038-F46717B8BBB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EE2F-E8F8-4C04-B796-D97372E89E7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6B03-A799-4EBC-AFE4-46CC17A4035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A8838-CAD0-4156-9E01-9D237C52672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767E-D662-4A7B-A804-845446A0D2A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4526-0E74-4C77-AAFA-E79263DAC52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0D2A-3F12-4232-B73A-BE20949C21E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53E9-8D56-44E6-8976-055095C2F6EC}"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E8B2-DC91-42FB-9302-84AF42AFAEA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E330-3F32-487E-A7FC-CFF90BBD768B}"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311C-4AC1-4010-A154-03A623FB68EC}"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629B-91A3-41B8-825B-530FAAFC7D99}"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3459-3FB9-4147-A2D2-227445A3CD3C}"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7224-7932-462B-B018-3CE81E9EC47B}"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DB2C-FC2E-4169-8C00-A5BDEE1B8AC8}"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A1EF-2970-492E-B997-76691BABAA87}"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5C76-3DB8-49BF-94C2-5C65519532BC}"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F19F-5881-4488-B480-65321DB37EB8}"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26EF-D319-4B14-A7B1-61943796E206}"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EA8B-61C5-488E-80AE-3CB705382B4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22EB-5860-4AE7-87CF-3B0088D2C42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C2EF-2AD3-4AE7-ACB1-F69664F6BF3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E6A00-E59F-4629-9FCE-F5883ACF684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