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EA6-FBC5-492A-A0FC-03795510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EF5-E5FA-49C6-913F-755A4F1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C0B-7F65-4701-9488-68ACD3BF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B34-6C87-4FA3-80AA-354D169C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268-939B-40CA-8DC7-7E844E7A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D3C-1F41-4069-B33B-377EB06C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AE6-FD18-46DA-A9CD-9CDE38EF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0B5-ACC6-4B3B-B491-8831053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11B-43BF-411D-BECD-8CD6EBDD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A80-9197-41CF-8613-5A6B06EA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3CB-7A66-43EA-8137-E4440144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5BD-48C4-4785-AC77-958C1C8D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1606-43B0-4E3F-9884-1D7AD5C7AD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45160" y="2693880"/>
            <a:ext cx="263376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c:\DOCUME~1\ADMINI~1\APPLIC~1\360se6\USERDA~1\Temp\DNZDYP~1.JPG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931538" h="1931076">
                  <a:moveTo>
                    <a:pt x="1257264" y="1886046"/>
                  </a:moveTo>
                  <a:lnTo>
                    <a:pt x="1257264" y="1886046"/>
                  </a:lnTo>
                  <a:arcTo wR="965769" hR="965538" stAng="4345722" swAng="17254285"/>
                  <a:lnTo>
                    <a:pt x="1846783" y="965538"/>
                  </a:lnTo>
                  <a:lnTo>
                    <a:pt x="1846783" y="965538"/>
                  </a:lnTo>
                  <a:arcTo wR="881014" hR="880783" stAng="0" swAng="-17254286"/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84440" y="15429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57560" y="2792520"/>
            <a:ext cx="993600" cy="666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86360" y="33717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>
              <a:gd name="textAreaLeft" fmla="*/ 0 w 2501640"/>
              <a:gd name="textAreaRight" fmla="*/ 2480040 w 250164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2501900" h="2501900">
                <a:moveTo>
                  <a:pt x="2480021" y="1483888"/>
                </a:moveTo>
                <a:lnTo>
                  <a:pt x="2480021" y="1483888"/>
                </a:lnTo>
                <a:arcTo wR="1250950" hR="1250950" stAng="643897" swAng="17252766"/>
                <a:lnTo>
                  <a:pt x="1788598" y="251499"/>
                </a:lnTo>
                <a:lnTo>
                  <a:pt x="1788598" y="251499"/>
                </a:lnTo>
                <a:arcTo wR="1134887" hR="1134887" stAng="-3703336" swAng="-17252767"/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>
              <a:gd name="textAreaLeft" fmla="*/ 191160 w 1305000"/>
              <a:gd name="textAreaRight" fmla="*/ 1113840 w 13050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4925" h="1304925">
                <a:moveTo>
                  <a:pt x="0" y="652463"/>
                </a:moveTo>
                <a:lnTo>
                  <a:pt x="0" y="652463"/>
                </a:lnTo>
                <a:arcTo wR="652463" hR="652463" stAng="-10799995" swAng="5400000"/>
                <a:lnTo>
                  <a:pt x="978693" y="0"/>
                </a:lnTo>
                <a:lnTo>
                  <a:pt x="1304925" y="0"/>
                </a:lnTo>
                <a:lnTo>
                  <a:pt x="1304925" y="489347"/>
                </a:lnTo>
                <a:arcTo wR="0" hR="163116" stAng="0" swAng="0"/>
                <a:lnTo>
                  <a:pt x="1209374" y="1209375"/>
                </a:lnTo>
                <a:arcTo wR="-326232" hR="326232" stAng="2700000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8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3" y="0"/>
                </a:lnTo>
                <a:lnTo>
                  <a:pt x="1303338" y="0"/>
                </a:lnTo>
                <a:lnTo>
                  <a:pt x="1303338" y="489347"/>
                </a:lnTo>
                <a:arcTo wR="0" hR="163116" stAng="0" swAng="0"/>
                <a:lnTo>
                  <a:pt x="1207903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>
              <a:gd name="textAreaLeft" fmla="*/ 190800 w 1303560"/>
              <a:gd name="textAreaRight" fmla="*/ 1112760 w 130356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38520" y="2316240"/>
            <a:ext cx="1592280" cy="15969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1924050" h="1924050">
                <a:moveTo>
                  <a:pt x="1603243" y="1679194"/>
                </a:moveTo>
                <a:lnTo>
                  <a:pt x="1603243" y="1679194"/>
                </a:lnTo>
                <a:arcTo wR="962025" hR="962025" stAng="2892014" swAng="18707994"/>
                <a:lnTo>
                  <a:pt x="1839603" y="962025"/>
                </a:lnTo>
                <a:lnTo>
                  <a:pt x="1839603" y="962025"/>
                </a:lnTo>
                <a:arcTo wR="877578" hR="877578" stAng="0" swAng="-18707995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12T12:40:22Z</dcterms:modified>
  <cp:revision>16</cp:revision>
  <dc:subject/>
  <dc:title>PowerPoint 演示文稿</dc:title>
</cp:coreProperties>
</file>