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C3B-8654-4CEC-BDAF-DF4811BD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CB5-BE6B-43E5-8DBB-8A621A37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C9C-2F1D-4A3F-9A87-EE0A7008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9D5-DAAC-445B-801B-ADE0C2DB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4BC-20A7-4001-B77D-28A7D666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A68-DEC7-424F-AFAF-361BEF78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267-4E4F-4084-89C4-9CD585FF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4EC-74B0-4757-9616-B2CD7E46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DEE-95FE-446E-8E83-B2B126A9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C52-44A1-494A-896D-C13AA053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C9E-25E3-47DF-A31F-46E49D58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478-6679-44E6-A118-0AB2642C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FFCC-1C10-4031-80D6-2A50BCA565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45160" y="2693880"/>
            <a:ext cx="2633760" cy="158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1"/>
          <p:cNvGrpSpPr/>
          <p:nvPr/>
        </p:nvGrpSpPr>
        <p:grpSpPr>
          <a:xfrm>
            <a:off x="629280" y="209880"/>
            <a:ext cx="1364040" cy="1364040"/>
            <a:chOff x="629280" y="209880"/>
            <a:chExt cx="1364040" cy="1364040"/>
          </a:xfrm>
        </p:grpSpPr>
        <p:pic>
          <p:nvPicPr>
            <p:cNvPr id="51" name="Picture 4" descr="c:\DOCUME~1\ADMINI~1\APPLIC~1\360se6\USERDA~1\Temp\DNZDYP~1.JPG"/>
            <p:cNvPicPr/>
            <p:nvPr/>
          </p:nvPicPr>
          <p:blipFill>
            <a:blip r:embed="rId4"/>
            <a:stretch/>
          </p:blipFill>
          <p:spPr>
            <a:xfrm>
              <a:off x="908280" y="487800"/>
              <a:ext cx="804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空心弧 24"/>
            <p:cNvSpPr/>
            <p:nvPr/>
          </p:nvSpPr>
          <p:spPr>
            <a:xfrm rot="18770400">
              <a:off x="828360" y="40932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931538" h="1931076">
                  <a:moveTo>
                    <a:pt x="1257264" y="1886046"/>
                  </a:moveTo>
                  <a:lnTo>
                    <a:pt x="1257264" y="1886046"/>
                  </a:lnTo>
                  <a:arcTo wR="965769" hR="965538" stAng="4345722" swAng="17254285"/>
                  <a:lnTo>
                    <a:pt x="1846783" y="965538"/>
                  </a:lnTo>
                  <a:lnTo>
                    <a:pt x="1846783" y="965538"/>
                  </a:lnTo>
                  <a:arcTo wR="881014" hR="880783" stAng="0" swAng="-17254286"/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7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8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2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8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1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组合 37" descr=""/>
          <p:cNvPicPr/>
          <p:nvPr/>
        </p:nvPicPr>
        <p:blipFill>
          <a:blip r:embed="rId2"/>
          <a:stretch/>
        </p:blipFill>
        <p:spPr>
          <a:xfrm>
            <a:off x="2584440" y="15429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78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43" descr=""/>
          <p:cNvPicPr/>
          <p:nvPr/>
        </p:nvPicPr>
        <p:blipFill>
          <a:blip r:embed="rId3"/>
          <a:stretch/>
        </p:blipFill>
        <p:spPr>
          <a:xfrm>
            <a:off x="3157560" y="2792520"/>
            <a:ext cx="993600" cy="66600"/>
          </a:xfrm>
          <a:prstGeom prst="rect">
            <a:avLst/>
          </a:prstGeom>
          <a:ln w="0">
            <a:noFill/>
          </a:ln>
        </p:spPr>
      </p:pic>
      <p:sp>
        <p:nvSpPr>
          <p:cNvPr id="81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52" descr=""/>
          <p:cNvPicPr/>
          <p:nvPr/>
        </p:nvPicPr>
        <p:blipFill>
          <a:blip r:embed="rId4"/>
          <a:stretch/>
        </p:blipFill>
        <p:spPr>
          <a:xfrm>
            <a:off x="4986360" y="3371760"/>
            <a:ext cx="987480" cy="66600"/>
          </a:xfrm>
          <a:prstGeom prst="rect">
            <a:avLst/>
          </a:prstGeom>
          <a:ln w="0">
            <a:noFill/>
          </a:ln>
        </p:spPr>
      </p:pic>
      <p:sp>
        <p:nvSpPr>
          <p:cNvPr id="85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>
              <a:gd name="textAreaLeft" fmla="*/ 0 w 2501640"/>
              <a:gd name="textAreaRight" fmla="*/ 2480040 w 250164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2501900" h="2501900">
                <a:moveTo>
                  <a:pt x="2480021" y="1483888"/>
                </a:moveTo>
                <a:lnTo>
                  <a:pt x="2480021" y="1483888"/>
                </a:lnTo>
                <a:arcTo wR="1250950" hR="1250950" stAng="643897" swAng="17252766"/>
                <a:lnTo>
                  <a:pt x="1788598" y="251499"/>
                </a:lnTo>
                <a:lnTo>
                  <a:pt x="1788598" y="251499"/>
                </a:lnTo>
                <a:arcTo wR="1134887" hR="1134887" stAng="-3703336" swAng="-17252767"/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4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1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>
              <a:gd name="textAreaLeft" fmla="*/ 191160 w 1305000"/>
              <a:gd name="textAreaRight" fmla="*/ 1113840 w 13050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4925" h="1304925">
                <a:moveTo>
                  <a:pt x="0" y="652463"/>
                </a:moveTo>
                <a:lnTo>
                  <a:pt x="0" y="652463"/>
                </a:lnTo>
                <a:arcTo wR="652463" hR="652463" stAng="-10799995" swAng="5400000"/>
                <a:lnTo>
                  <a:pt x="978693" y="0"/>
                </a:lnTo>
                <a:lnTo>
                  <a:pt x="1304925" y="0"/>
                </a:lnTo>
                <a:lnTo>
                  <a:pt x="1304925" y="489347"/>
                </a:lnTo>
                <a:arcTo wR="0" hR="163116" stAng="0" swAng="0"/>
                <a:lnTo>
                  <a:pt x="1209374" y="1209375"/>
                </a:lnTo>
                <a:arcTo wR="-326232" hR="326232" stAng="2700000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8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3" y="0"/>
                </a:lnTo>
                <a:lnTo>
                  <a:pt x="1303338" y="0"/>
                </a:lnTo>
                <a:lnTo>
                  <a:pt x="1303338" y="489347"/>
                </a:lnTo>
                <a:arcTo wR="0" hR="163116" stAng="0" swAng="0"/>
                <a:lnTo>
                  <a:pt x="1207903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>
              <a:gd name="textAreaLeft" fmla="*/ 190800 w 1303560"/>
              <a:gd name="textAreaRight" fmla="*/ 1112760 w 130356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1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38520" y="2316240"/>
            <a:ext cx="1592280" cy="159696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1924050" h="1924050">
                <a:moveTo>
                  <a:pt x="1603243" y="1679194"/>
                </a:moveTo>
                <a:lnTo>
                  <a:pt x="1603243" y="1679194"/>
                </a:lnTo>
                <a:arcTo wR="962025" hR="962025" stAng="2892014" swAng="18707994"/>
                <a:lnTo>
                  <a:pt x="1839603" y="962025"/>
                </a:lnTo>
                <a:lnTo>
                  <a:pt x="1839603" y="962025"/>
                </a:lnTo>
                <a:arcTo wR="877578" hR="877578" stAng="0" swAng="-18707995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3978360" y="5292720"/>
            <a:ext cx="106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4-12T12:40:22Z</dcterms:modified>
  <cp:revision>16</cp:revision>
  <dc:subject/>
  <dc:title>PowerPoint 演示文稿</dc:title>
</cp:coreProperties>
</file>