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11.jpeg" ContentType="image/jpe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F738-48C7-4EEF-AE3D-95E7E461E06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B4BB-255B-4C2D-9E1D-B63193C3B0C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08D4-B94C-4EDD-B4A3-26BF0169415D}"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23D6-6E90-44E2-8819-7565288929B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E9E0-522F-43EC-9A6B-C57A99A8C94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4A34-F146-4E49-B660-5BBCC4B8B06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8AA6-29FF-4805-8A03-9BFB5A58E5FD}"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52BA-1767-4A14-B7C7-40F1188A14B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B189-8FC7-495F-8B1B-20841800FB6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7C12-D4D0-4092-A2A6-690E15C71D8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DC2E-572C-47EE-A418-53E6448AFFB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8EBC-62F6-4EB7-B375-AD35BE56605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C278-64F5-47E2-B14C-0A5313F46F6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F825-D396-41E8-BFE5-AD1C32342EB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0F0F-DA2E-4C76-82EB-42E16EF02739}"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4A89-E467-43DF-95C6-DF5B835562A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88F7-716B-449D-841C-9C0D3CE5DE4D}"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20E4-7837-41CE-8E3C-A000FEE7F40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B78F-FE3B-4958-8125-D46AEC526A93}"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319A-A235-4E15-A4AF-F92B252BF1F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CC14-0DF6-4DA0-8E63-C60D24EB592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2AAF-331E-41B7-AF5B-6EA3C33464C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832F-0196-4967-8B42-0A686DCA7A0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0702-BD1F-4894-B71C-67D504FC026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2E35-E07F-4DBE-93B6-4039DB98F12C}"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EDBF-87D0-4019-B935-686F11DBEA8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F477-DC84-4222-8CD9-F2BE3D56478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3810-A0D0-4FAD-8218-0CCAD8BFDB4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FBB5-AEA5-4814-8ED7-7EF86A2644D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9459-72C1-43E8-95BE-305FED8F706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22E4-CB83-4FC8-BCBC-B7FCB4BDF5F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ADA3-1136-487C-92C7-25EF462F231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4D99-D75B-4790-968A-B8048028856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E307-74D2-453F-A168-525726004AE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7244-CFD1-48C1-B8B6-A7C31F2F0C5D}"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AB73-102B-447F-8758-AA76F01D50E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FE3F-5E48-49BF-BF87-301AF39753D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C27D-0044-4699-80C8-D0BC67288B1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A900-3FF7-4B41-B4E2-3F9DE08B6D3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A889-827B-4D61-AEA0-A74402A3C6B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1C7B-63A3-4763-AEB6-58D8432D20B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32C5-15DF-4217-8E2F-B339A4BBEB3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380880" y="685800"/>
            <a:ext cx="6096240" cy="3429000"/>
          </a:xfrm>
          <a:prstGeom prst="rect">
            <a:avLst/>
          </a:prstGeom>
          <a:ln w="0">
            <a:noFill/>
          </a:ln>
        </p:spPr>
      </p:sp>
      <p:sp>
        <p:nvSpPr>
          <p:cNvPr id="8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29CC-4DBF-428F-BFCE-AC3FD4C973B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D91D-D921-4C07-8796-73543A5425C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380880" y="685800"/>
            <a:ext cx="6096240" cy="3429000"/>
          </a:xfrm>
          <a:prstGeom prst="rect">
            <a:avLst/>
          </a:prstGeom>
          <a:ln w="0">
            <a:noFill/>
          </a:ln>
        </p:spPr>
      </p:sp>
      <p:sp>
        <p:nvSpPr>
          <p:cNvPr id="8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FECD-2DD6-4FBA-A7FB-17B1CDD3026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BDE9-4CF4-4BAF-A19E-5CCC4FE8236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4533-CFE3-4EA2-AB83-A2E9582DAD6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B569-2FE3-43D6-BD10-3FB79BF8181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380880" y="685800"/>
            <a:ext cx="6096240" cy="3429000"/>
          </a:xfrm>
          <a:prstGeom prst="rect">
            <a:avLst/>
          </a:prstGeom>
          <a:ln w="0">
            <a:noFill/>
          </a:ln>
        </p:spPr>
      </p:sp>
      <p:sp>
        <p:nvSpPr>
          <p:cNvPr id="8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E010-D3BD-4ED1-8A0A-373FDB8217C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0450-4D8C-42A8-953D-FD9C2E61418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380880" y="685800"/>
            <a:ext cx="6096240" cy="3429000"/>
          </a:xfrm>
          <a:prstGeom prst="rect">
            <a:avLst/>
          </a:prstGeom>
          <a:ln w="0">
            <a:noFill/>
          </a:ln>
        </p:spPr>
      </p:sp>
      <p:sp>
        <p:nvSpPr>
          <p:cNvPr id="8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9200-E1CD-4734-B90B-E1D7F2128F6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2B1A-AA52-4B99-8898-B6BA9C77FFB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380880" y="685800"/>
            <a:ext cx="6096240" cy="3429000"/>
          </a:xfrm>
          <a:prstGeom prst="rect">
            <a:avLst/>
          </a:prstGeom>
          <a:ln w="0">
            <a:noFill/>
          </a:ln>
        </p:spPr>
      </p:sp>
      <p:sp>
        <p:nvSpPr>
          <p:cNvPr id="8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8306-A258-4E47-A946-75AEC5DA3AA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5E41-E9BB-4B9F-A742-AE76AD733C6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380880" y="685800"/>
            <a:ext cx="6096240" cy="3429000"/>
          </a:xfrm>
          <a:prstGeom prst="rect">
            <a:avLst/>
          </a:prstGeom>
          <a:ln w="0">
            <a:noFill/>
          </a:ln>
        </p:spPr>
      </p:sp>
      <p:sp>
        <p:nvSpPr>
          <p:cNvPr id="8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A07B-7314-42C6-BD59-3F06DD3A675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854F-9024-4C8D-96C7-8767949E478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380880" y="685800"/>
            <a:ext cx="6096240" cy="3429000"/>
          </a:xfrm>
          <a:prstGeom prst="rect">
            <a:avLst/>
          </a:prstGeom>
          <a:ln w="0">
            <a:noFill/>
          </a:ln>
        </p:spPr>
      </p:sp>
      <p:sp>
        <p:nvSpPr>
          <p:cNvPr id="8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9488-9156-499E-A894-7225DE7F91D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D945-3D1D-4B9F-8B45-11E70D3DCA8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0B72-8A81-4C75-AD50-9CB1945B62DE}"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C6A8-870C-4257-9706-BE79EF116F3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54A5-5E6C-4F85-805D-19FF4C17AF4D}"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E22E-2EF2-470F-9E30-15D55E1D7DF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E6CB-6114-43BC-B9FB-76970DB28309}"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BDB9-32F0-4560-9642-59AA1518024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144D-7D1D-47AA-BD13-277EAD6DAA98}"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C28E-417B-45AB-9944-96C73267172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807F-4523-4589-8D1C-9964F8C8E35E}"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71D1-E699-4E13-A6F2-2CCF6412443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9624-9C7F-47BA-8EE9-C432E28A5A1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903E-3066-4555-AC21-17C7F4DA37E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6241B-0D94-42FB-B81B-58D429EE3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8E015-98E5-483E-BF37-87F0F8687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17543-8BA5-4278-A797-A4BD53608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4AA95-0DCE-4AE7-9304-694BD5F63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2F116-0EFB-4E75-9B55-68135A2CF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5445C-BD76-43EF-8C32-CCAADB089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E748E-C17C-4A46-97CB-31F82C3EF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66DEE-984B-43C0-B816-81927F509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4E80E-6C14-472C-B43F-6CF40B55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CD1C6-CFB2-4F36-805E-7DA7B8FD2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7E3AC-35E2-4947-8EB3-686114343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82C4-5DDD-4037-ADD1-EE39A3DC3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65AC-2811-46E0-9DF8-2A8C23673E47}" type="datetime">
              <a:rPr b="0" lang="zh-CN" sz="1200" spc="-1" strike="noStrike">
                <a:solidFill>
                  <a:srgbClr val="898989"/>
                </a:solidFill>
                <a:latin typeface="Calibri"/>
                <a:ea typeface="微软雅黑"/>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AA77-4E89-44A2-8BD6-E40E5908A8E8}"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7" name="图片 10" descr=""/>
          <p:cNvPicPr/>
          <p:nvPr/>
        </p:nvPicPr>
        <p:blipFill>
          <a:blip r:embed="rId1"/>
          <a:srcRect l="9549" t="0" r="1789" b="0"/>
          <a:stretch/>
        </p:blipFill>
        <p:spPr>
          <a:xfrm>
            <a:off x="5095800" y="2049480"/>
            <a:ext cx="1162080" cy="1163520"/>
          </a:xfrm>
          <a:prstGeom prst="rect">
            <a:avLst/>
          </a:prstGeom>
          <a:ln w="0">
            <a:noFill/>
          </a:ln>
        </p:spPr>
      </p:pic>
      <p:sp>
        <p:nvSpPr>
          <p:cNvPr id="258"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9" name="组合 32"/>
          <p:cNvGrpSpPr/>
          <p:nvPr/>
        </p:nvGrpSpPr>
        <p:grpSpPr>
          <a:xfrm>
            <a:off x="4608360" y="3156120"/>
            <a:ext cx="2227320" cy="423720"/>
            <a:chOff x="4608360" y="3156120"/>
            <a:chExt cx="2227320" cy="423720"/>
          </a:xfrm>
        </p:grpSpPr>
        <p:sp>
          <p:nvSpPr>
            <p:cNvPr id="270"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2"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3" name="图片 18" descr=""/>
          <p:cNvPicPr/>
          <p:nvPr/>
        </p:nvPicPr>
        <p:blipFill>
          <a:blip r:embed="rId3"/>
          <a:srcRect l="0" t="9787" r="0" b="36039"/>
          <a:stretch/>
        </p:blipFill>
        <p:spPr>
          <a:xfrm>
            <a:off x="4597560" y="3979800"/>
            <a:ext cx="2339640" cy="951120"/>
          </a:xfrm>
          <a:prstGeom prst="rect">
            <a:avLst/>
          </a:prstGeom>
          <a:ln w="0">
            <a:noFill/>
          </a:ln>
        </p:spPr>
      </p:pic>
      <p:pic>
        <p:nvPicPr>
          <p:cNvPr id="274" name="图片 19" descr=""/>
          <p:cNvPicPr/>
          <p:nvPr/>
        </p:nvPicPr>
        <p:blipFill>
          <a:blip r:embed="rId4"/>
          <a:srcRect l="4387" t="8940" r="3403" b="9864"/>
          <a:stretch/>
        </p:blipFill>
        <p:spPr>
          <a:xfrm>
            <a:off x="7969320" y="3979800"/>
            <a:ext cx="2360520" cy="949320"/>
          </a:xfrm>
          <a:prstGeom prst="rect">
            <a:avLst/>
          </a:prstGeom>
          <a:ln w="0">
            <a:noFill/>
          </a:ln>
        </p:spPr>
      </p:pic>
      <p:sp>
        <p:nvSpPr>
          <p:cNvPr id="275"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6"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7"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8"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9"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80"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81"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8" descr=""/>
          <p:cNvPicPr/>
          <p:nvPr/>
        </p:nvPicPr>
        <p:blipFill>
          <a:blip r:embed="rId5"/>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0"/>
          <p:cNvGrpSpPr/>
          <p:nvPr/>
        </p:nvGrpSpPr>
        <p:grpSpPr>
          <a:xfrm>
            <a:off x="546120" y="4705200"/>
            <a:ext cx="10507680" cy="1846440"/>
            <a:chOff x="546120" y="4705200"/>
            <a:chExt cx="10507680" cy="1846440"/>
          </a:xfrm>
        </p:grpSpPr>
        <p:sp>
          <p:nvSpPr>
            <p:cNvPr id="284"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6"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4" name="组合 52"/>
          <p:cNvGrpSpPr/>
          <p:nvPr/>
        </p:nvGrpSpPr>
        <p:grpSpPr>
          <a:xfrm>
            <a:off x="833400" y="473040"/>
            <a:ext cx="9825120" cy="4267080"/>
            <a:chOff x="833400" y="473040"/>
            <a:chExt cx="9825120" cy="4267080"/>
          </a:xfrm>
        </p:grpSpPr>
        <p:grpSp>
          <p:nvGrpSpPr>
            <p:cNvPr id="295" name="组合 20"/>
            <p:cNvGrpSpPr/>
            <p:nvPr/>
          </p:nvGrpSpPr>
          <p:grpSpPr>
            <a:xfrm>
              <a:off x="833400" y="941760"/>
              <a:ext cx="2579400" cy="2085840"/>
              <a:chOff x="833400" y="941760"/>
              <a:chExt cx="2579400" cy="2085840"/>
            </a:xfrm>
          </p:grpSpPr>
          <p:sp>
            <p:nvSpPr>
              <p:cNvPr id="296"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图片 15" descr=""/>
              <p:cNvPicPr/>
              <p:nvPr/>
            </p:nvPicPr>
            <p:blipFill>
              <a:blip r:embed="rId1"/>
              <a:stretch/>
            </p:blipFill>
            <p:spPr>
              <a:xfrm>
                <a:off x="833400" y="942120"/>
                <a:ext cx="2579400" cy="2018160"/>
              </a:xfrm>
              <a:prstGeom prst="rect">
                <a:avLst/>
              </a:prstGeom>
              <a:ln w="0">
                <a:noFill/>
              </a:ln>
            </p:spPr>
          </p:pic>
        </p:grpSp>
        <p:sp>
          <p:nvSpPr>
            <p:cNvPr id="298"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组合 30"/>
            <p:cNvGrpSpPr/>
            <p:nvPr/>
          </p:nvGrpSpPr>
          <p:grpSpPr>
            <a:xfrm>
              <a:off x="3148920" y="3277800"/>
              <a:ext cx="1495080" cy="1462320"/>
              <a:chOff x="3148920" y="3277800"/>
              <a:chExt cx="1495080" cy="1462320"/>
            </a:xfrm>
          </p:grpSpPr>
          <p:sp>
            <p:nvSpPr>
              <p:cNvPr id="300"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301"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2"/>
            <p:cNvGrpSpPr/>
            <p:nvPr/>
          </p:nvGrpSpPr>
          <p:grpSpPr>
            <a:xfrm>
              <a:off x="6758280" y="2699280"/>
              <a:ext cx="1495080" cy="1462320"/>
              <a:chOff x="6758280" y="2699280"/>
              <a:chExt cx="1495080" cy="1462320"/>
            </a:xfrm>
          </p:grpSpPr>
          <p:sp>
            <p:nvSpPr>
              <p:cNvPr id="303"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4"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3"/>
            <p:cNvGrpSpPr/>
            <p:nvPr/>
          </p:nvGrpSpPr>
          <p:grpSpPr>
            <a:xfrm>
              <a:off x="9163440" y="1352880"/>
              <a:ext cx="1495080" cy="1462320"/>
              <a:chOff x="9163440" y="1352880"/>
              <a:chExt cx="1495080" cy="1462320"/>
            </a:xfrm>
          </p:grpSpPr>
          <p:sp>
            <p:nvSpPr>
              <p:cNvPr id="306"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7"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组合 31"/>
            <p:cNvGrpSpPr/>
            <p:nvPr/>
          </p:nvGrpSpPr>
          <p:grpSpPr>
            <a:xfrm>
              <a:off x="5204880" y="473040"/>
              <a:ext cx="1495080" cy="1462320"/>
              <a:chOff x="5204880" y="473040"/>
              <a:chExt cx="1495080" cy="1462320"/>
            </a:xfrm>
          </p:grpSpPr>
          <p:sp>
            <p:nvSpPr>
              <p:cNvPr id="309"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10"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12"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pic>
        <p:nvPicPr>
          <p:cNvPr id="316" name="Picture 35"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8"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20"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pic>
        <p:nvPicPr>
          <p:cNvPr id="323"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6"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9"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32"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33"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4"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Picture 1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4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45"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组合 1"/>
          <p:cNvGrpSpPr/>
          <p:nvPr/>
        </p:nvGrpSpPr>
        <p:grpSpPr>
          <a:xfrm>
            <a:off x="290520" y="1271520"/>
            <a:ext cx="6473880" cy="5316480"/>
            <a:chOff x="290520" y="1271520"/>
            <a:chExt cx="6473880" cy="5316480"/>
          </a:xfrm>
        </p:grpSpPr>
        <p:sp>
          <p:nvSpPr>
            <p:cNvPr id="347"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9"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60"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61"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62"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63"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64"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33"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67"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pic>
        <p:nvPicPr>
          <p:cNvPr id="391"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93"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6" name="图片 1" descr=""/>
          <p:cNvPicPr/>
          <p:nvPr/>
        </p:nvPicPr>
        <p:blipFill>
          <a:blip r:embed="rId1"/>
          <a:stretch/>
        </p:blipFill>
        <p:spPr>
          <a:xfrm>
            <a:off x="0" y="2413080"/>
            <a:ext cx="3905280" cy="2838240"/>
          </a:xfrm>
          <a:prstGeom prst="rect">
            <a:avLst/>
          </a:prstGeom>
          <a:ln w="0">
            <a:noFill/>
          </a:ln>
        </p:spPr>
      </p:pic>
      <p:sp>
        <p:nvSpPr>
          <p:cNvPr id="39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98"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pic>
        <p:nvPicPr>
          <p:cNvPr id="399" name="Picture 9" descr=""/>
          <p:cNvPicPr/>
          <p:nvPr/>
        </p:nvPicPr>
        <p:blipFill>
          <a:blip r:embed="rId5"/>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40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40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40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1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1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18"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21"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24"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26"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27"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28"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32"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3"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pic>
        <p:nvPicPr>
          <p:cNvPr id="434" name="Picture 1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37"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9" name="组合 24"/>
          <p:cNvGrpSpPr/>
          <p:nvPr/>
        </p:nvGrpSpPr>
        <p:grpSpPr>
          <a:xfrm>
            <a:off x="819000" y="1859040"/>
            <a:ext cx="4353120" cy="3527280"/>
            <a:chOff x="819000" y="1859040"/>
            <a:chExt cx="4353120" cy="3527280"/>
          </a:xfrm>
        </p:grpSpPr>
        <p:grpSp>
          <p:nvGrpSpPr>
            <p:cNvPr id="440" name="组合 2"/>
            <p:cNvGrpSpPr/>
            <p:nvPr/>
          </p:nvGrpSpPr>
          <p:grpSpPr>
            <a:xfrm>
              <a:off x="819000" y="1859040"/>
              <a:ext cx="4353120" cy="2272320"/>
              <a:chOff x="819000" y="1859040"/>
              <a:chExt cx="4353120" cy="2272320"/>
            </a:xfrm>
          </p:grpSpPr>
          <p:sp>
            <p:nvSpPr>
              <p:cNvPr id="441"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3"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4"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45"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47"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48"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49"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50"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51"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52"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Picture 21"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58"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61"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5" name="组合 31"/>
          <p:cNvGrpSpPr/>
          <p:nvPr/>
        </p:nvGrpSpPr>
        <p:grpSpPr>
          <a:xfrm>
            <a:off x="6162840" y="4871880"/>
            <a:ext cx="4568760" cy="1376640"/>
            <a:chOff x="6162840" y="4871880"/>
            <a:chExt cx="4568760" cy="1376640"/>
          </a:xfrm>
        </p:grpSpPr>
        <p:sp>
          <p:nvSpPr>
            <p:cNvPr id="466"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8"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69"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70"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71"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Picture 22"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7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79" name="组合 30"/>
          <p:cNvGrpSpPr/>
          <p:nvPr/>
        </p:nvGrpSpPr>
        <p:grpSpPr>
          <a:xfrm>
            <a:off x="2716200" y="2075040"/>
            <a:ext cx="6157800" cy="1438200"/>
            <a:chOff x="2716200" y="2075040"/>
            <a:chExt cx="6157800" cy="1438200"/>
          </a:xfrm>
        </p:grpSpPr>
        <p:grpSp>
          <p:nvGrpSpPr>
            <p:cNvPr id="480" name="组合 13"/>
            <p:cNvGrpSpPr/>
            <p:nvPr/>
          </p:nvGrpSpPr>
          <p:grpSpPr>
            <a:xfrm>
              <a:off x="3024720" y="2234880"/>
              <a:ext cx="5849280" cy="1278360"/>
              <a:chOff x="3024720" y="2234880"/>
              <a:chExt cx="5849280" cy="1278360"/>
            </a:xfrm>
          </p:grpSpPr>
          <p:sp>
            <p:nvSpPr>
              <p:cNvPr id="481"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82"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83"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84" name="组合 20"/>
            <p:cNvGrpSpPr/>
            <p:nvPr/>
          </p:nvGrpSpPr>
          <p:grpSpPr>
            <a:xfrm>
              <a:off x="2716200" y="2081160"/>
              <a:ext cx="636480" cy="636840"/>
              <a:chOff x="2716200" y="2081160"/>
              <a:chExt cx="636480" cy="636840"/>
            </a:xfrm>
          </p:grpSpPr>
          <p:sp>
            <p:nvSpPr>
              <p:cNvPr id="485"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组合 21"/>
            <p:cNvGrpSpPr/>
            <p:nvPr/>
          </p:nvGrpSpPr>
          <p:grpSpPr>
            <a:xfrm>
              <a:off x="4959000" y="2075040"/>
              <a:ext cx="636480" cy="636840"/>
              <a:chOff x="4959000" y="2075040"/>
              <a:chExt cx="636480" cy="636840"/>
            </a:xfrm>
          </p:grpSpPr>
          <p:sp>
            <p:nvSpPr>
              <p:cNvPr id="488"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90" name="组合 22"/>
            <p:cNvGrpSpPr/>
            <p:nvPr/>
          </p:nvGrpSpPr>
          <p:grpSpPr>
            <a:xfrm>
              <a:off x="7381800" y="2103840"/>
              <a:ext cx="636480" cy="636840"/>
              <a:chOff x="7381800" y="2103840"/>
              <a:chExt cx="636480" cy="636840"/>
            </a:xfrm>
          </p:grpSpPr>
          <p:sp>
            <p:nvSpPr>
              <p:cNvPr id="491"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93" name="图片 23" descr=""/>
          <p:cNvPicPr/>
          <p:nvPr/>
        </p:nvPicPr>
        <p:blipFill>
          <a:blip r:embed="rId1"/>
          <a:stretch/>
        </p:blipFill>
        <p:spPr>
          <a:xfrm>
            <a:off x="2239920" y="4309920"/>
            <a:ext cx="2895480" cy="1930680"/>
          </a:xfrm>
          <a:prstGeom prst="rect">
            <a:avLst/>
          </a:prstGeom>
          <a:ln w="0">
            <a:noFill/>
          </a:ln>
        </p:spPr>
      </p:pic>
      <p:sp>
        <p:nvSpPr>
          <p:cNvPr id="494"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95"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pic>
        <p:nvPicPr>
          <p:cNvPr id="498" name="Picture 27"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500"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501"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2"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504" name="组合 29"/>
          <p:cNvGrpSpPr/>
          <p:nvPr/>
        </p:nvGrpSpPr>
        <p:grpSpPr>
          <a:xfrm>
            <a:off x="423720" y="1474920"/>
            <a:ext cx="10744200" cy="4735440"/>
            <a:chOff x="423720" y="1474920"/>
            <a:chExt cx="10744200" cy="4735440"/>
          </a:xfrm>
        </p:grpSpPr>
        <p:sp>
          <p:nvSpPr>
            <p:cNvPr id="505"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19"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20"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21"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22"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23"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24"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25"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26"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27"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8"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9"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30"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31"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32"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33"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4"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5"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6" name="图片 48" descr=""/>
          <p:cNvPicPr/>
          <p:nvPr/>
        </p:nvPicPr>
        <p:blipFill>
          <a:blip r:embed="rId1"/>
          <a:srcRect l="4594" t="3490" r="0" b="3832"/>
          <a:stretch/>
        </p:blipFill>
        <p:spPr>
          <a:xfrm>
            <a:off x="433440" y="1679400"/>
            <a:ext cx="1347840" cy="1328760"/>
          </a:xfrm>
          <a:prstGeom prst="rect">
            <a:avLst/>
          </a:prstGeom>
          <a:ln w="0">
            <a:noFill/>
          </a:ln>
        </p:spPr>
      </p:pic>
      <p:pic>
        <p:nvPicPr>
          <p:cNvPr id="537" name="Picture 40"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9"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1"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42" name="组合 15"/>
          <p:cNvGrpSpPr/>
          <p:nvPr/>
        </p:nvGrpSpPr>
        <p:grpSpPr>
          <a:xfrm>
            <a:off x="1257480" y="1817640"/>
            <a:ext cx="1861920" cy="4429080"/>
            <a:chOff x="1257480" y="1817640"/>
            <a:chExt cx="1861920" cy="4429080"/>
          </a:xfrm>
        </p:grpSpPr>
        <p:grpSp>
          <p:nvGrpSpPr>
            <p:cNvPr id="543" name="组合 11"/>
            <p:cNvGrpSpPr/>
            <p:nvPr/>
          </p:nvGrpSpPr>
          <p:grpSpPr>
            <a:xfrm>
              <a:off x="1257480" y="1817640"/>
              <a:ext cx="1861920" cy="4429080"/>
              <a:chOff x="1257480" y="1817640"/>
              <a:chExt cx="1861920" cy="4429080"/>
            </a:xfrm>
          </p:grpSpPr>
          <p:sp>
            <p:nvSpPr>
              <p:cNvPr id="544"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8"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9"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50"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pic>
        <p:nvPicPr>
          <p:cNvPr id="551" name="Picture 18"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5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5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pic>
        <p:nvPicPr>
          <p:cNvPr id="558"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63"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4"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5"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6"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7"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8"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9"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71"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72"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3"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75" name="组合 36"/>
          <p:cNvGrpSpPr/>
          <p:nvPr/>
        </p:nvGrpSpPr>
        <p:grpSpPr>
          <a:xfrm>
            <a:off x="3994200" y="480960"/>
            <a:ext cx="4172040" cy="3943440"/>
            <a:chOff x="3994200" y="480960"/>
            <a:chExt cx="4172040" cy="3943440"/>
          </a:xfrm>
        </p:grpSpPr>
        <p:sp>
          <p:nvSpPr>
            <p:cNvPr id="576"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83" name="Picture 26"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87"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8"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90" name="组合 22"/>
          <p:cNvGrpSpPr/>
          <p:nvPr/>
        </p:nvGrpSpPr>
        <p:grpSpPr>
          <a:xfrm>
            <a:off x="1747080" y="2327400"/>
            <a:ext cx="3920040" cy="4214520"/>
            <a:chOff x="1747080" y="2327400"/>
            <a:chExt cx="3920040" cy="4214520"/>
          </a:xfrm>
        </p:grpSpPr>
        <p:sp>
          <p:nvSpPr>
            <p:cNvPr id="591"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8"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9"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600"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601"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602"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pic>
        <p:nvPicPr>
          <p:cNvPr id="603" name="Picture 21"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607" name="组合 79"/>
          <p:cNvGrpSpPr/>
          <p:nvPr/>
        </p:nvGrpSpPr>
        <p:grpSpPr>
          <a:xfrm>
            <a:off x="1209600" y="843120"/>
            <a:ext cx="10450440" cy="3844800"/>
            <a:chOff x="1209600" y="843120"/>
            <a:chExt cx="10450440" cy="3844800"/>
          </a:xfrm>
        </p:grpSpPr>
        <p:sp>
          <p:nvSpPr>
            <p:cNvPr id="60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609" name="组合 78"/>
            <p:cNvGrpSpPr/>
            <p:nvPr/>
          </p:nvGrpSpPr>
          <p:grpSpPr>
            <a:xfrm>
              <a:off x="1209600" y="843120"/>
              <a:ext cx="9966600" cy="3844800"/>
              <a:chOff x="1209600" y="843120"/>
              <a:chExt cx="9966600" cy="3844800"/>
            </a:xfrm>
          </p:grpSpPr>
          <p:pic>
            <p:nvPicPr>
              <p:cNvPr id="610" name="图表 39" descr=""/>
              <p:cNvPicPr/>
              <p:nvPr/>
            </p:nvPicPr>
            <p:blipFill>
              <a:blip r:embed="rId1"/>
              <a:stretch/>
            </p:blipFill>
            <p:spPr>
              <a:xfrm>
                <a:off x="3746160" y="1536480"/>
                <a:ext cx="4086000" cy="2566800"/>
              </a:xfrm>
              <a:prstGeom prst="rect">
                <a:avLst/>
              </a:prstGeom>
              <a:ln w="0">
                <a:noFill/>
              </a:ln>
            </p:spPr>
          </p:pic>
          <p:grpSp>
            <p:nvGrpSpPr>
              <p:cNvPr id="611" name="组合 53"/>
              <p:cNvGrpSpPr/>
              <p:nvPr/>
            </p:nvGrpSpPr>
            <p:grpSpPr>
              <a:xfrm>
                <a:off x="2786040" y="924840"/>
                <a:ext cx="5990400" cy="3763080"/>
                <a:chOff x="2786040" y="924840"/>
                <a:chExt cx="5990400" cy="3763080"/>
              </a:xfrm>
            </p:grpSpPr>
            <p:pic>
              <p:nvPicPr>
                <p:cNvPr id="612" name="图表 40" descr=""/>
                <p:cNvPicPr/>
                <p:nvPr/>
              </p:nvPicPr>
              <p:blipFill>
                <a:blip r:embed="rId2"/>
                <a:stretch/>
              </p:blipFill>
              <p:spPr>
                <a:xfrm>
                  <a:off x="2786040" y="924840"/>
                  <a:ext cx="5990400" cy="3763080"/>
                </a:xfrm>
                <a:prstGeom prst="rect">
                  <a:avLst/>
                </a:prstGeom>
                <a:ln w="0">
                  <a:noFill/>
                </a:ln>
              </p:spPr>
            </p:pic>
            <p:pic>
              <p:nvPicPr>
                <p:cNvPr id="613" name="图表 38" descr=""/>
                <p:cNvPicPr/>
                <p:nvPr/>
              </p:nvPicPr>
              <p:blipFill>
                <a:blip r:embed="rId3"/>
                <a:stretch/>
              </p:blipFill>
              <p:spPr>
                <a:xfrm>
                  <a:off x="4437000" y="1984680"/>
                  <a:ext cx="2676600" cy="1681560"/>
                </a:xfrm>
                <a:prstGeom prst="rect">
                  <a:avLst/>
                </a:prstGeom>
                <a:ln w="0">
                  <a:noFill/>
                </a:ln>
              </p:spPr>
            </p:pic>
          </p:grpSp>
          <p:sp>
            <p:nvSpPr>
              <p:cNvPr id="61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61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61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0" name="组合 82"/>
          <p:cNvGrpSpPr/>
          <p:nvPr/>
        </p:nvGrpSpPr>
        <p:grpSpPr>
          <a:xfrm>
            <a:off x="657360" y="4894200"/>
            <a:ext cx="11555280" cy="1478160"/>
            <a:chOff x="657360" y="4894200"/>
            <a:chExt cx="11555280" cy="1478160"/>
          </a:xfrm>
        </p:grpSpPr>
        <p:sp>
          <p:nvSpPr>
            <p:cNvPr id="62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pic>
        <p:nvPicPr>
          <p:cNvPr id="623" name="Picture 21" descr=""/>
          <p:cNvPicPr/>
          <p:nvPr/>
        </p:nvPicPr>
        <p:blipFill>
          <a:blip r:embed="rId4"/>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28" name="组合 2"/>
          <p:cNvGrpSpPr/>
          <p:nvPr/>
        </p:nvGrpSpPr>
        <p:grpSpPr>
          <a:xfrm>
            <a:off x="1981080" y="2548080"/>
            <a:ext cx="9126720" cy="3790800"/>
            <a:chOff x="1981080" y="2548080"/>
            <a:chExt cx="9126720" cy="3790800"/>
          </a:xfrm>
        </p:grpSpPr>
        <p:grpSp>
          <p:nvGrpSpPr>
            <p:cNvPr id="629" name="组合 7"/>
            <p:cNvGrpSpPr/>
            <p:nvPr/>
          </p:nvGrpSpPr>
          <p:grpSpPr>
            <a:xfrm>
              <a:off x="1981080" y="2950200"/>
              <a:ext cx="9126720" cy="3388680"/>
              <a:chOff x="1981080" y="2950200"/>
              <a:chExt cx="9126720" cy="3388680"/>
            </a:xfrm>
          </p:grpSpPr>
          <p:sp>
            <p:nvSpPr>
              <p:cNvPr id="630"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34"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35"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6" name="组合 1"/>
            <p:cNvGrpSpPr/>
            <p:nvPr/>
          </p:nvGrpSpPr>
          <p:grpSpPr>
            <a:xfrm>
              <a:off x="2083680" y="2548080"/>
              <a:ext cx="7088760" cy="1181880"/>
              <a:chOff x="2083680" y="2548080"/>
              <a:chExt cx="7088760" cy="1181880"/>
            </a:xfrm>
          </p:grpSpPr>
          <p:sp>
            <p:nvSpPr>
              <p:cNvPr id="637"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41"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42"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43"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pic>
        <p:nvPicPr>
          <p:cNvPr id="644" name="Picture 25"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4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4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pic>
        <p:nvPicPr>
          <p:cNvPr id="651"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53"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组合 67"/>
          <p:cNvGrpSpPr/>
          <p:nvPr/>
        </p:nvGrpSpPr>
        <p:grpSpPr>
          <a:xfrm>
            <a:off x="601560" y="2168640"/>
            <a:ext cx="10942920" cy="4230720"/>
            <a:chOff x="601560" y="2168640"/>
            <a:chExt cx="10942920" cy="4230720"/>
          </a:xfrm>
        </p:grpSpPr>
        <p:grpSp>
          <p:nvGrpSpPr>
            <p:cNvPr id="655" name="组合 8"/>
            <p:cNvGrpSpPr/>
            <p:nvPr/>
          </p:nvGrpSpPr>
          <p:grpSpPr>
            <a:xfrm>
              <a:off x="601560" y="2855520"/>
              <a:ext cx="2408760" cy="2395080"/>
              <a:chOff x="601560" y="2855520"/>
              <a:chExt cx="2408760" cy="2395080"/>
            </a:xfrm>
          </p:grpSpPr>
          <p:sp>
            <p:nvSpPr>
              <p:cNvPr id="656"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58" name="组合 9"/>
            <p:cNvGrpSpPr/>
            <p:nvPr/>
          </p:nvGrpSpPr>
          <p:grpSpPr>
            <a:xfrm>
              <a:off x="3442680" y="4004280"/>
              <a:ext cx="2412000" cy="2395080"/>
              <a:chOff x="3442680" y="4004280"/>
              <a:chExt cx="2412000" cy="2395080"/>
            </a:xfrm>
          </p:grpSpPr>
          <p:sp>
            <p:nvSpPr>
              <p:cNvPr id="659"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61" name="组合 12"/>
            <p:cNvGrpSpPr/>
            <p:nvPr/>
          </p:nvGrpSpPr>
          <p:grpSpPr>
            <a:xfrm>
              <a:off x="6287760" y="2855520"/>
              <a:ext cx="2412000" cy="2395080"/>
              <a:chOff x="6287760" y="2855520"/>
              <a:chExt cx="2412000" cy="2395080"/>
            </a:xfrm>
          </p:grpSpPr>
          <p:sp>
            <p:nvSpPr>
              <p:cNvPr id="662"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64" name="组合 15"/>
            <p:cNvGrpSpPr/>
            <p:nvPr/>
          </p:nvGrpSpPr>
          <p:grpSpPr>
            <a:xfrm>
              <a:off x="9132480" y="4004280"/>
              <a:ext cx="2412000" cy="2395080"/>
              <a:chOff x="9132480" y="4004280"/>
              <a:chExt cx="2412000" cy="2395080"/>
            </a:xfrm>
          </p:grpSpPr>
          <p:sp>
            <p:nvSpPr>
              <p:cNvPr id="665"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67"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78"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79"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0"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1"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pic>
        <p:nvPicPr>
          <p:cNvPr id="682" name="Picture 40"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84"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88"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89"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90"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91"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2"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3"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4"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5"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Picture 20"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704"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组合 39"/>
          <p:cNvGrpSpPr/>
          <p:nvPr/>
        </p:nvGrpSpPr>
        <p:grpSpPr>
          <a:xfrm>
            <a:off x="992160" y="2509920"/>
            <a:ext cx="3235320" cy="1982160"/>
            <a:chOff x="992160" y="2509920"/>
            <a:chExt cx="3235320" cy="1982160"/>
          </a:xfrm>
        </p:grpSpPr>
        <p:sp>
          <p:nvSpPr>
            <p:cNvPr id="706"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7"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08"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709"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3"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4" name="组合 69"/>
          <p:cNvGrpSpPr/>
          <p:nvPr/>
        </p:nvGrpSpPr>
        <p:grpSpPr>
          <a:xfrm>
            <a:off x="7086600" y="2295360"/>
            <a:ext cx="1628640" cy="3633840"/>
            <a:chOff x="7086600" y="2295360"/>
            <a:chExt cx="1628640" cy="3633840"/>
          </a:xfrm>
        </p:grpSpPr>
        <p:sp>
          <p:nvSpPr>
            <p:cNvPr id="715"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7"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7"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pic>
        <p:nvPicPr>
          <p:cNvPr id="730" name="Picture 4"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8257680" y="35020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0" name="Picture 4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9" name="组合 1"/>
          <p:cNvGrpSpPr/>
          <p:nvPr/>
        </p:nvGrpSpPr>
        <p:grpSpPr>
          <a:xfrm>
            <a:off x="1125360" y="2589120"/>
            <a:ext cx="9126720" cy="3498840"/>
            <a:chOff x="1125360" y="2589120"/>
            <a:chExt cx="9126720" cy="3498840"/>
          </a:xfrm>
        </p:grpSpPr>
        <p:grpSp>
          <p:nvGrpSpPr>
            <p:cNvPr id="220" name="组合 33"/>
            <p:cNvGrpSpPr/>
            <p:nvPr/>
          </p:nvGrpSpPr>
          <p:grpSpPr>
            <a:xfrm>
              <a:off x="1125360" y="2699640"/>
              <a:ext cx="9126720" cy="3388320"/>
              <a:chOff x="1125360" y="2699640"/>
              <a:chExt cx="9126720" cy="3388320"/>
            </a:xfrm>
          </p:grpSpPr>
          <p:sp>
            <p:nvSpPr>
              <p:cNvPr id="221"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8"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9"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30"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1"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2"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pic>
        <p:nvPicPr>
          <p:cNvPr id="233"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5" name="图表 54" descr=""/>
          <p:cNvPicPr/>
          <p:nvPr/>
        </p:nvPicPr>
        <p:blipFill>
          <a:blip r:embed="rId1"/>
          <a:stretch/>
        </p:blipFill>
        <p:spPr>
          <a:xfrm>
            <a:off x="3711600" y="2635200"/>
            <a:ext cx="4086360" cy="3245040"/>
          </a:xfrm>
          <a:prstGeom prst="rect">
            <a:avLst/>
          </a:prstGeom>
          <a:ln w="0">
            <a:noFill/>
          </a:ln>
        </p:spPr>
      </p:pic>
      <p:sp>
        <p:nvSpPr>
          <p:cNvPr id="246"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3"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4"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pic>
        <p:nvPicPr>
          <p:cNvPr id="255" name="Picture 23"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Yehuan Liu</cp:lastModifiedBy>
  <dcterms:modified xsi:type="dcterms:W3CDTF">2014-11-06T02:02:21Z</dcterms:modified>
  <cp:revision>2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