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F6F-5DFF-4277-BAF0-C9A78650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9C8-64BF-4D9C-8E02-6250F42C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016-EC47-4D06-B9B0-53A4CE3C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B18-4667-414C-9D07-416C249C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B62E-CC61-4387-8B79-D64F813F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C489-9EA9-4B02-AF44-87A1AE19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E37-3B42-4EB6-834B-4F759EBF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59C-6A5B-43ED-A722-9684188C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3EC-CB88-42A6-9586-B0D11779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15A7-BC9F-4C16-A408-D8D68720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712D-6045-4619-B397-0FE1D8FB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26D-86BF-4D54-B91F-80508EC0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AD14-BF47-4CF3-B209-F1BEA4F78C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507672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86080" y="58356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优雅茶道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1784880" y="3273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40690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64281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85880" y="714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926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5356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9977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101988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3929040" y="2214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140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16280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7835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9265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286000" y="2714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568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0696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569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40690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9978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10911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3857760" y="2000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27118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0696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3549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123408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7121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21405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6498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1926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4069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123408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52837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2711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27835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2-27T07:31:36Z</dcterms:modified>
  <cp:revision>37</cp:revision>
  <dc:subject/>
  <dc:title>幻灯片 1</dc:title>
</cp:coreProperties>
</file>