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C80-1579-4D11-9E21-B7C19491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94E-A49D-4616-90A8-9018A136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FD7-F1CB-43AF-81DE-1379B7EA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B7B7-B86A-4372-ABA7-6FEC1BA4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8F9-120C-4363-8FC3-37502D75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2E8-EC18-4789-ADC0-DEE84130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CB3-C10B-4290-AC9D-3B95E905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8D55-D52A-47CA-AA53-2E0514A3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380-6F13-404F-AC46-734AC852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402-9EEF-4D1B-BD4C-A365B555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756-3777-4D2B-9C31-4C9BD049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5D9-981E-4E6C-B101-8BCC5F0C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F634-7A23-4FF6-A0F7-BD224955D6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50767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86080" y="58356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优雅茶道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178488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4069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64281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8588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926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5356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997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0198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3929040" y="2214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16280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7835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926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28600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568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069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40690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9978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10911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857760" y="2000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2711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0696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354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123408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712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21405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6498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926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069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12340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5283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2711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2783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27T07:31:36Z</dcterms:modified>
  <cp:revision>37</cp:revision>
  <dc:subject/>
  <dc:title>幻灯片 1</dc:title>
</cp:coreProperties>
</file>