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1404-6195-40E0-9022-3157E74C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9F00-AC07-4AD2-8F2E-DA337004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2AAA-D057-4C62-B03D-3E8CD4A1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145B-93C0-46F9-8F49-428E579E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7EB8-F3B0-4620-9A97-A589E0F8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3A17-B599-4CA5-BA77-895D9481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FA17-A007-4E35-AB42-281BACC2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A718-2FB6-46F1-9B1B-0D040E52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FD7E-AB8C-4677-8C10-DFCCBC12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F043-D756-4DFE-B605-8C1582AC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A27B-3D1D-443B-B43D-92872282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9923-F0F7-40DD-81B6-400AAB93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634B-A0A0-44C9-9D54-28A04D78AD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443376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357720" y="51926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中国情人节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87696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464076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3140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497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5"/>
          <p:cNvSpPr/>
          <p:nvPr/>
        </p:nvSpPr>
        <p:spPr>
          <a:xfrm>
            <a:off x="2357280" y="4473720"/>
            <a:ext cx="5214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乞巧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七月七日，一年一度的七夕就要来了，人们称这天为“乞巧节”或“少女节”、“女儿节”。七夕节是我国传统节日中最具有浪漫色彩的一个节日，也是过去姑娘最为重视的日子。中国的情人节，浪漫古典之最浓的节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8"/>
          <p:cNvSpPr/>
          <p:nvPr/>
        </p:nvSpPr>
        <p:spPr>
          <a:xfrm>
            <a:off x="618120" y="285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283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212000" y="5059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212000" y="3559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2836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7340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2132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31000" y="3357720"/>
            <a:ext cx="16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4213800" y="32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73404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3857760" y="3714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5696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6405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8056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5569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2783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33548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0695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9486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212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9"/>
          <p:cNvSpPr/>
          <p:nvPr/>
        </p:nvSpPr>
        <p:spPr>
          <a:xfrm>
            <a:off x="59266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19976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1926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485496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34261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27835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4854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59112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45691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27118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/>
          <p:cNvSpPr/>
          <p:nvPr/>
        </p:nvSpPr>
        <p:spPr>
          <a:xfrm>
            <a:off x="42120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57837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07-24T03:19:58Z</dcterms:modified>
  <cp:revision>52</cp:revision>
  <dc:subject/>
  <dc:title>幻灯片 1</dc:title>
</cp:coreProperties>
</file>