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7190-0A00-48AF-95D0-66B40D75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CFB6-663C-44D7-9D61-2DAF4406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448-A57B-4B5E-9749-A42F1B48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CB2-1231-4FF4-B447-90270570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663B-8966-4248-8949-ADC15A28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865-33E1-4E61-8A5F-F0E4BD89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9FAF-51C3-48C4-9DEE-B655E1E1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D32C-97B3-4AEE-A058-31E2D51E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88F0-C07D-4697-B0E4-3279B738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01CE-926C-4342-BAE1-549F3D36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70ED-4018-4AED-B031-546A102F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27CD-3A19-48F3-AFEA-A4437749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86BF-2242-483F-9DD2-FD4B22A20D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433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357720" y="51926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中国情人节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64076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3140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/>
          <p:cNvSpPr/>
          <p:nvPr/>
        </p:nvSpPr>
        <p:spPr>
          <a:xfrm>
            <a:off x="2357280" y="4473720"/>
            <a:ext cx="521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乞巧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月七日，一年一度的七夕就要来了，人们称这天为“乞巧节”或“少女节”、“女儿节”。七夕节是我国传统节日中最具有浪漫色彩的一个节日，也是过去姑娘最为重视的日子。中国的情人节，浪漫古典之最浓的节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618120" y="285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283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12000" y="5059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21200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2132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31000" y="3357720"/>
            <a:ext cx="16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421380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340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857760" y="371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5696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640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8056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5569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2783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3548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0695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9486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59266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19976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926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85496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34261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27835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854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5911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569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27118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42120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57837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07-24T03:19:58Z</dcterms:modified>
  <cp:revision>52</cp:revision>
  <dc:subject/>
  <dc:title>幻灯片 1</dc:title>
</cp:coreProperties>
</file>