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D1D2-8A0D-4104-B722-9FC99375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E901-73BD-4054-B220-14D5091E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3FF6-7786-46DA-9B28-438FC5A7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E00-AE3D-445B-8D59-4D51DBCD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157-F20C-4C81-BC88-1CA36910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9CE3-C34D-4549-A0B3-3D87CADD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825F-153A-4362-B692-D9E589A1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57C2-2136-4B03-8BC0-041C15E6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50AF-8A71-4D6D-AB5A-28335502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8B49-E1A2-49C0-A230-B1CFA7FD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23D-B239-4C37-9AB5-49220DDB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6FF2-9989-4231-BA92-0B9EFA4F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E392-C53C-4DB0-BDA9-A288CC06C7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6046560" y="1500120"/>
            <a:ext cx="152100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345720" y="4283640"/>
            <a:ext cx="11552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6818400" y="1357200"/>
            <a:ext cx="10951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爽及其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19486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2286000" y="3071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56408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39265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643040" y="282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3426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5283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29260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201996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6069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19260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62838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199764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201996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428920" y="5000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54979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56408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26406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194868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1714680" y="45007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63550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42120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209160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57121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2836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25689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19882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2643120" y="3500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69267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11401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4997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42120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22024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26406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57121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201996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4283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16405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6140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2-20T03:40:37Z</dcterms:modified>
  <cp:revision>33</cp:revision>
  <dc:subject/>
  <dc:title>幻灯片 1</dc:title>
</cp:coreProperties>
</file>