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6D6-6355-4F0B-8743-A2D06260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FE0-E676-489F-93D6-99FAB16F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39C-F8D8-4AAA-8C0A-F03B5B17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CEE-4D4D-4F71-98ED-E45C5502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327-FBB7-481E-AC92-AB1F33B2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EFC-1827-4D8A-BDA4-E35FC99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971-4DEA-43BE-B053-CA591720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B3C-DDEF-4A31-8012-AAA20EAF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CFD-2FBC-4131-A5B0-8861E0DF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99B-5971-4984-B623-C157DCDF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D23-56D0-4DCF-8C5D-62E5928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78F-7437-47FD-A51D-126FB854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FA73-F1E1-4C7C-A52E-728A3CD2CA3A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1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8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1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4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7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3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7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0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3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89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2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5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8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9" y="0"/>
                </a:lnTo>
                <a:lnTo>
                  <a:pt x="21600" y="10800"/>
                </a:lnTo>
                <a:lnTo>
                  <a:pt x="188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三联素材  www.3lian.com</dc:creator>
  <dc:description>三联素材  www.3lian.com</dc:description>
  <dc:language>en-US</dc:language>
  <cp:lastModifiedBy>Administrator</cp:lastModifiedBy>
  <dcterms:modified xsi:type="dcterms:W3CDTF">2016-07-25T06:30:33Z</dcterms:modified>
  <cp:revision>10</cp:revision>
  <dc:subject/>
  <dc:title>三联素材  www.3lian.com</dc:title>
</cp:coreProperties>
</file>