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336B-C2FE-43D4-862D-CF2CF4DDB10E}"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istrator</cp:lastModifiedBy>
  <dcterms:modified xsi:type="dcterms:W3CDTF">2016-07-25T05:43:57Z</dcterms:modified>
  <cp:revision>735</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