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BA4-C930-468D-AB74-A2BB3499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5B4-FB8D-4190-9137-EEF85DCE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942-4019-49DE-8C84-CEF975FE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F20-B4F3-4711-B8CB-33793536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C4F-B22A-4CDA-B724-F5252E99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915C-2F8A-4FD7-BDB5-3718147F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EC61-D0F7-4AE2-87F2-D02E7A9B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678-C572-4300-B02B-DEA7F458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30C-FBAE-4A75-AE5B-AFC2374B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BA7-9CFD-4929-A657-090AE391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7AB-5600-441C-9E65-D08BFFF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06E-DC07-4C83-A685-E9419ED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1052-B94A-4CE2-B8E5-7ADEEB9552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159A-467B-41FF-A7AD-B748494F87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eng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26:16Z</dcterms:modified>
  <cp:revision>49</cp:revision>
  <dc:subject>12sc.taobao.com</dc:subject>
  <dc:title>PowerPoint 演示文稿</dc:title>
</cp:coreProperties>
</file>