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562-FBC1-4608-BDA8-FCC07515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F99-9392-442B-B77B-A8A71E00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3B9-79EB-40B0-9AD7-5FF2B590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49C-30F1-4E8B-9B3D-D41D3747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C4CF3-7534-48E3-832F-B64751546E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58D25-21DF-4075-BF3C-22671B49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8FB7B-D1E2-4A00-83DC-F46F43A0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91429-D734-49B0-889C-586FE096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1B1D0-61A9-4EDB-BD34-D265A27C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24CE5-2125-439F-AB83-2D90E80B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DD774-F41F-4BBA-BE49-89F3B41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0F6-F36A-451C-8A1C-7EE09E3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B2297-B5F6-46E4-87CE-98EC8BCB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9EC45-DB56-4974-9DA0-F01FB87C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236C5-2EE0-4315-BB5B-53FA1D57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84C97-94C4-4CB2-AC40-2FF4574A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1F9FD-71A6-4E7F-BCA2-E284B7C557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D87-1D4C-4FE4-9169-C7B4FE65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128-D90B-4F98-A9E2-36D5B3D1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8BE-0783-4812-9909-4431B5CD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F69-19D2-4F5E-BE0E-F0E5993B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E29-5CFA-4264-9AAA-1F9CCD1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786-50A3-4040-A7C1-F7A09FFD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B63-BED2-430F-BDF0-173DC04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41F1-BAE4-4737-A1F1-D6E0AF901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AC10-CBA1-45AA-B734-7B8B17D0B13F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71640"/>
            <a:ext cx="5829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26665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3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0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1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90720" y="197496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38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4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7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70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3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6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9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6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04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16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8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9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5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1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6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7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6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7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80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6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5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8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4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4"/>
          <p:cNvSpPr/>
          <p:nvPr/>
        </p:nvSpPr>
        <p:spPr>
          <a:xfrm>
            <a:off x="7812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5"/>
          <p:cNvSpPr/>
          <p:nvPr/>
        </p:nvSpPr>
        <p:spPr>
          <a:xfrm>
            <a:off x="27716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75308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679968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AutoShape 88"/>
          <p:cNvCxnSpPr>
            <a:stCxn id="516" idx="3"/>
            <a:endCxn id="517" idx="1"/>
          </p:cNvCxnSpPr>
          <p:nvPr/>
        </p:nvCxnSpPr>
        <p:spPr>
          <a:xfrm>
            <a:off x="1520640" y="196812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3511440" y="196812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5492520" y="1968120"/>
            <a:ext cx="121356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0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1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456840" y="1555920"/>
            <a:ext cx="7938360" cy="5225760"/>
            <a:chOff x="456840" y="1555920"/>
            <a:chExt cx="7938360" cy="5225760"/>
          </a:xfrm>
        </p:grpSpPr>
        <p:sp>
          <p:nvSpPr>
            <p:cNvPr id="151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afd"/>
                </a:gs>
                <a:gs pos="100000">
                  <a:srgbClr val="94cae8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8"/>
            <p:cNvSpPr/>
            <p:nvPr/>
          </p:nvSpPr>
          <p:spPr>
            <a:xfrm rot="20056200">
              <a:off x="441936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 rot="20056200">
              <a:off x="7314840" y="2971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 rot="20056200">
              <a:off x="2819160" y="5943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557c96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 rot="20056200">
              <a:off x="5562360" y="5257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9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0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3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76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81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7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94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95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2"/>
              <p:cNvSpPr/>
              <p:nvPr/>
            </p:nvSpPr>
            <p:spPr>
              <a:xfrm>
                <a:off x="4008960" y="329436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Puzzle4"/>
              <p:cNvSpPr/>
              <p:nvPr/>
            </p:nvSpPr>
            <p:spPr>
              <a:xfrm>
                <a:off x="2937960" y="32680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bedff1">
                  <a:alpha val="12156"/>
                </a:srgbClr>
              </a:gs>
              <a:gs pos="50000">
                <a:srgbClr val="94cae8"/>
              </a:gs>
              <a:gs pos="100000">
                <a:srgbClr val="bedff1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1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2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3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07:40Z</dcterms:created>
  <dc:creator>YLMF</dc:creator>
  <dc:description/>
  <dc:language>en-US</dc:language>
  <cp:lastModifiedBy>Administrator</cp:lastModifiedBy>
  <dcterms:modified xsi:type="dcterms:W3CDTF">2016-07-25T03:33:51Z</dcterms:modified>
  <cp:revision>2</cp:revision>
  <dc:subject/>
  <dc:title>PowerPoint Template</dc:title>
</cp:coreProperties>
</file>