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4295-4832-4525-9AA4-7E0DE053DE9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CBEB-4281-4A6B-AB74-127D97FE007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3787-1EF5-46A2-BAD7-3B2A5CDF942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6544-879A-42DE-B878-EBFCE665350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6EA9-459B-41F7-922A-E0C7B32F46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3D47-211F-40E8-920B-0713E461E7A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A615-1F10-4124-9AAC-BBB4D8AE339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74B1-AE17-4CB6-887F-FB8B79D75A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F7CD-33A9-4A46-9254-47E88CF8D11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8B1E-FA70-4210-995A-621CCA9F19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C6FD-CB43-41CD-9412-0EB0769A99D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D123-A572-4183-BF2A-47DF9461522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6DF9-1B93-4550-8B34-3A585DA4F2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7F9E-6019-48AF-8210-DBFAF4C9AD5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5857-9FA5-435B-B032-80A0205164D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1138-4CB7-45F1-B333-3B0E949E7E3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23FA-F4AB-44BA-93FD-620DF320800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CBC4-B215-471C-B22D-23647F327A1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DC65-A5F8-4839-A8A4-4B8A47CCFA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1853-80A6-4663-B208-71F8284DA69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B6DA-D20B-473B-87D4-B71685B437F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5002-2F85-4FD2-82CF-32835E814B6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8FF5-1165-4441-87A4-A048A8A5E9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5543-E658-4A4A-8542-7CC0BA9214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75B0-CAEE-40CE-9231-B21BD16D4D8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34A1-3470-49CA-8023-E2325202B4A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A0F7-6AC8-4229-9A05-FADFD815809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51ED-BBB5-4CDB-A69B-CEF9916CDF3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FA59-9455-4A28-B808-C25B2DE4B7B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0166-1A55-4E9D-9EE3-E0482AB1832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97D-7699-482C-9495-A9CBEECE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6B04-CDCE-477E-BE3E-CD2EE3EB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FB87-A06F-43EC-B90D-D10C8E46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B70-72DF-4583-8DFC-A0CBE1E9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8E0-9033-4911-B50C-199C812E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74E-A556-44A0-97BA-192B4EB3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C672-E226-4FB2-BF96-EF279EC5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A9D-F766-4DD0-A408-6DB6C009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994-434B-4834-86B6-5151750F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1A8-5DDB-487B-B6DE-36F22720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0340-3E4A-4251-A882-39EB27F8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38B-DE58-47C0-AE29-930BB5E9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C7D2-026A-4351-82D0-4CBD460449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84"/>
          <p:cNvSpPr/>
          <p:nvPr/>
        </p:nvSpPr>
        <p:spPr>
          <a:xfrm>
            <a:off x="1055520" y="587520"/>
            <a:ext cx="7039080" cy="395892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校园龙卡"/>
          <p:cNvGrpSpPr/>
          <p:nvPr/>
        </p:nvGrpSpPr>
        <p:grpSpPr>
          <a:xfrm>
            <a:off x="977400" y="395280"/>
            <a:ext cx="1184760" cy="3077640"/>
            <a:chOff x="977400" y="395280"/>
            <a:chExt cx="1184760" cy="3077640"/>
          </a:xfrm>
        </p:grpSpPr>
        <p:sp>
          <p:nvSpPr>
            <p:cNvPr id="50" name="矩形 86"/>
            <p:cNvSpPr/>
            <p:nvPr/>
          </p:nvSpPr>
          <p:spPr>
            <a:xfrm>
              <a:off x="1393200" y="16462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龙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87"/>
            <p:cNvSpPr/>
            <p:nvPr/>
          </p:nvSpPr>
          <p:spPr>
            <a:xfrm>
              <a:off x="1019160" y="395280"/>
              <a:ext cx="1143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88"/>
            <p:cNvSpPr/>
            <p:nvPr/>
          </p:nvSpPr>
          <p:spPr>
            <a:xfrm>
              <a:off x="977400" y="11588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园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9"/>
            <p:cNvSpPr/>
            <p:nvPr/>
          </p:nvSpPr>
          <p:spPr>
            <a:xfrm>
              <a:off x="1116360" y="23734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色块"/>
          <p:cNvSpPr/>
          <p:nvPr/>
        </p:nvSpPr>
        <p:spPr>
          <a:xfrm>
            <a:off x="2717640" y="587520"/>
            <a:ext cx="792360" cy="3958920"/>
          </a:xfrm>
          <a:prstGeom prst="rect">
            <a:avLst/>
          </a:prstGeom>
          <a:solidFill>
            <a:srgbClr val="763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装饰块"/>
          <p:cNvGrpSpPr/>
          <p:nvPr/>
        </p:nvGrpSpPr>
        <p:grpSpPr>
          <a:xfrm>
            <a:off x="2776680" y="781200"/>
            <a:ext cx="663480" cy="3289320"/>
            <a:chOff x="2776680" y="781200"/>
            <a:chExt cx="663480" cy="3289320"/>
          </a:xfrm>
        </p:grpSpPr>
        <p:sp>
          <p:nvSpPr>
            <p:cNvPr id="56" name="矩形 92"/>
            <p:cNvSpPr/>
            <p:nvPr/>
          </p:nvSpPr>
          <p:spPr>
            <a:xfrm>
              <a:off x="3067200" y="7812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93"/>
            <p:cNvSpPr/>
            <p:nvPr/>
          </p:nvSpPr>
          <p:spPr>
            <a:xfrm>
              <a:off x="2776680" y="107964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94"/>
            <p:cNvSpPr/>
            <p:nvPr/>
          </p:nvSpPr>
          <p:spPr>
            <a:xfrm>
              <a:off x="2835360" y="140832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95"/>
            <p:cNvSpPr/>
            <p:nvPr/>
          </p:nvSpPr>
          <p:spPr>
            <a:xfrm>
              <a:off x="3054600" y="194652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96"/>
            <p:cNvSpPr/>
            <p:nvPr/>
          </p:nvSpPr>
          <p:spPr>
            <a:xfrm>
              <a:off x="2798640" y="21225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97"/>
            <p:cNvSpPr/>
            <p:nvPr/>
          </p:nvSpPr>
          <p:spPr>
            <a:xfrm>
              <a:off x="2911320" y="3105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98"/>
            <p:cNvSpPr/>
            <p:nvPr/>
          </p:nvSpPr>
          <p:spPr>
            <a:xfrm>
              <a:off x="2793960" y="342144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99"/>
            <p:cNvSpPr/>
            <p:nvPr/>
          </p:nvSpPr>
          <p:spPr>
            <a:xfrm>
              <a:off x="3079800" y="28530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100"/>
            <p:cNvSpPr/>
            <p:nvPr/>
          </p:nvSpPr>
          <p:spPr>
            <a:xfrm>
              <a:off x="2954520" y="3564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101"/>
            <p:cNvSpPr/>
            <p:nvPr/>
          </p:nvSpPr>
          <p:spPr>
            <a:xfrm>
              <a:off x="3029040" y="37101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线条"/>
          <p:cNvGrpSpPr/>
          <p:nvPr/>
        </p:nvGrpSpPr>
        <p:grpSpPr>
          <a:xfrm>
            <a:off x="3503520" y="969840"/>
            <a:ext cx="2859480" cy="3059280"/>
            <a:chOff x="3503520" y="969840"/>
            <a:chExt cx="2859480" cy="3059280"/>
          </a:xfrm>
        </p:grpSpPr>
        <p:cxnSp>
          <p:nvCxnSpPr>
            <p:cNvPr id="67" name="肘形连接符 103"/>
            <p:cNvCxnSpPr/>
            <p:nvPr/>
          </p:nvCxnSpPr>
          <p:spPr>
            <a:xfrm>
              <a:off x="3503520" y="969840"/>
              <a:ext cx="2858400" cy="157248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8" name="肘形连接符 104"/>
            <p:cNvCxnSpPr/>
            <p:nvPr/>
          </p:nvCxnSpPr>
          <p:spPr>
            <a:xfrm>
              <a:off x="3503520" y="1995120"/>
              <a:ext cx="2858400" cy="361080"/>
            </a:xfrm>
            <a:prstGeom prst="bentConnector3">
              <a:avLst>
                <a:gd name="adj1" fmla="val 64214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9" name="直接箭头连接符 105"/>
            <p:cNvCxnSpPr/>
            <p:nvPr/>
          </p:nvCxnSpPr>
          <p:spPr>
            <a:xfrm flipV="1">
              <a:off x="3503520" y="3423960"/>
              <a:ext cx="2859840" cy="2160"/>
            </a:xfrm>
            <a:prstGeom prst="straightConnector1">
              <a:avLst/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70" name="肘形连接符 106"/>
            <p:cNvCxnSpPr/>
            <p:nvPr/>
          </p:nvCxnSpPr>
          <p:spPr>
            <a:xfrm flipV="1">
              <a:off x="3503520" y="2984040"/>
              <a:ext cx="2858400" cy="104544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</p:grpSp>
      <p:grpSp>
        <p:nvGrpSpPr>
          <p:cNvPr id="71" name="组合 建行 logo"/>
          <p:cNvGrpSpPr/>
          <p:nvPr/>
        </p:nvGrpSpPr>
        <p:grpSpPr>
          <a:xfrm>
            <a:off x="5432400" y="673560"/>
            <a:ext cx="559440" cy="689760"/>
            <a:chOff x="5432400" y="673560"/>
            <a:chExt cx="559440" cy="689760"/>
          </a:xfrm>
        </p:grpSpPr>
        <p:sp>
          <p:nvSpPr>
            <p:cNvPr id="72" name="任意多边形 108"/>
            <p:cNvSpPr/>
            <p:nvPr/>
          </p:nvSpPr>
          <p:spPr>
            <a:xfrm flipV="1">
              <a:off x="5432400" y="1034280"/>
              <a:ext cx="553320" cy="328680"/>
            </a:xfrm>
            <a:custGeom>
              <a:avLst/>
              <a:gdLst/>
              <a:ahLst/>
              <a:rect l="l" t="t" r="r" b="b"/>
              <a:pathLst>
                <a:path w="1357322" h="708971">
                  <a:moveTo>
                    <a:pt x="0" y="708968"/>
                  </a:moveTo>
                  <a:cubicBezTo>
                    <a:pt x="0" y="466506"/>
                    <a:pt x="129353" y="242461"/>
                    <a:pt x="339331" y="121231"/>
                  </a:cubicBezTo>
                  <a:cubicBezTo>
                    <a:pt x="549310" y="0"/>
                    <a:pt x="808014" y="1"/>
                    <a:pt x="1017992" y="121232"/>
                  </a:cubicBezTo>
                  <a:cubicBezTo>
                    <a:pt x="1227970" y="242464"/>
                    <a:pt x="1357322" y="466508"/>
                    <a:pt x="1357321" y="708971"/>
                  </a:cubicBezTo>
                  <a:lnTo>
                    <a:pt x="1017992" y="708969"/>
                  </a:lnTo>
                  <a:lnTo>
                    <a:pt x="690548" y="373203"/>
                  </a:lnTo>
                  <a:lnTo>
                    <a:pt x="339330" y="708970"/>
                  </a:lnTo>
                  <a:lnTo>
                    <a:pt x="0" y="70896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109"/>
            <p:cNvSpPr/>
            <p:nvPr/>
          </p:nvSpPr>
          <p:spPr>
            <a:xfrm>
              <a:off x="5432400" y="709560"/>
              <a:ext cx="496440" cy="325440"/>
            </a:xfrm>
            <a:custGeom>
              <a:avLst/>
              <a:gdLst/>
              <a:ahLst/>
              <a:rect l="l" t="t" r="r" b="b"/>
              <a:pathLst>
                <a:path w="1219955" h="701135">
                  <a:moveTo>
                    <a:pt x="0" y="701133"/>
                  </a:moveTo>
                  <a:cubicBezTo>
                    <a:pt x="0" y="458671"/>
                    <a:pt x="129353" y="234626"/>
                    <a:pt x="339331" y="113396"/>
                  </a:cubicBezTo>
                  <a:cubicBezTo>
                    <a:pt x="460908" y="0"/>
                    <a:pt x="730632" y="16050"/>
                    <a:pt x="729461" y="20755"/>
                  </a:cubicBezTo>
                  <a:lnTo>
                    <a:pt x="1219955" y="522563"/>
                  </a:lnTo>
                  <a:lnTo>
                    <a:pt x="1017992" y="701134"/>
                  </a:lnTo>
                  <a:lnTo>
                    <a:pt x="690548" y="365368"/>
                  </a:lnTo>
                  <a:lnTo>
                    <a:pt x="339330" y="701135"/>
                  </a:lnTo>
                  <a:lnTo>
                    <a:pt x="0" y="701133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110"/>
            <p:cNvSpPr/>
            <p:nvPr/>
          </p:nvSpPr>
          <p:spPr>
            <a:xfrm flipH="1" rot="18900000">
              <a:off x="5823360" y="661680"/>
              <a:ext cx="82080" cy="27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2" y="1"/>
                    <a:pt x="5" y="0"/>
                  </a:cubicBezTo>
                  <a:lnTo>
                    <a:pt x="5" y="5"/>
                  </a:lnTo>
                  <a:lnTo>
                    <a:pt x="0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建行 字"/>
          <p:cNvGrpSpPr/>
          <p:nvPr/>
        </p:nvGrpSpPr>
        <p:grpSpPr>
          <a:xfrm>
            <a:off x="6004080" y="841320"/>
            <a:ext cx="1785960" cy="651960"/>
            <a:chOff x="6004080" y="841320"/>
            <a:chExt cx="1785960" cy="651960"/>
          </a:xfrm>
        </p:grpSpPr>
        <p:sp>
          <p:nvSpPr>
            <p:cNvPr id="76" name="TextBox 112"/>
            <p:cNvSpPr/>
            <p:nvPr/>
          </p:nvSpPr>
          <p:spPr>
            <a:xfrm>
              <a:off x="6004080" y="841320"/>
              <a:ext cx="17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中国建设银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13"/>
            <p:cNvSpPr/>
            <p:nvPr/>
          </p:nvSpPr>
          <p:spPr>
            <a:xfrm>
              <a:off x="6004080" y="1085760"/>
              <a:ext cx="178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orgia"/>
                  <a:ea typeface="Arial Unicode MS"/>
                </a:rPr>
                <a:t>China Construction Ba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114"/>
            <p:cNvSpPr/>
            <p:nvPr/>
          </p:nvSpPr>
          <p:spPr>
            <a:xfrm>
              <a:off x="6769080" y="1231920"/>
              <a:ext cx="100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天津市分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15"/>
          <p:cNvSpPr/>
          <p:nvPr/>
        </p:nvSpPr>
        <p:spPr>
          <a:xfrm>
            <a:off x="6420240" y="1689120"/>
            <a:ext cx="118404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本卡受天津大学校园龙卡管理规定约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如有遗失请即通知校园龙卡管理中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避免磨损、弯折、扭曲，注意防磁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只限持卡人使用，不得转借他人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29"/>
          <p:cNvGrpSpPr/>
          <p:nvPr/>
        </p:nvGrpSpPr>
        <p:grpSpPr>
          <a:xfrm>
            <a:off x="7275600" y="3433680"/>
            <a:ext cx="820800" cy="1114560"/>
            <a:chOff x="7275600" y="3433680"/>
            <a:chExt cx="820800" cy="1114560"/>
          </a:xfrm>
        </p:grpSpPr>
        <p:sp>
          <p:nvSpPr>
            <p:cNvPr id="81" name="矩形 117"/>
            <p:cNvSpPr/>
            <p:nvPr/>
          </p:nvSpPr>
          <p:spPr>
            <a:xfrm>
              <a:off x="7275600" y="4391280"/>
              <a:ext cx="466920" cy="14436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18"/>
            <p:cNvSpPr/>
            <p:nvPr/>
          </p:nvSpPr>
          <p:spPr>
            <a:xfrm rot="5400000">
              <a:off x="7636680" y="3775680"/>
              <a:ext cx="792360" cy="10800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119"/>
            <p:cNvSpPr/>
            <p:nvPr/>
          </p:nvSpPr>
          <p:spPr>
            <a:xfrm>
              <a:off x="7726680" y="4175280"/>
              <a:ext cx="369720" cy="372960"/>
            </a:xfrm>
            <a:custGeom>
              <a:avLst/>
              <a:gdLst/>
              <a:ahLst/>
              <a:rect l="l" t="t" r="r" b="b"/>
              <a:pathLst>
                <a:path w="369940" h="372528">
                  <a:moveTo>
                    <a:pt x="0" y="0"/>
                  </a:moveTo>
                  <a:lnTo>
                    <a:pt x="360000" y="0"/>
                  </a:lnTo>
                  <a:cubicBezTo>
                    <a:pt x="369940" y="89365"/>
                    <a:pt x="303634" y="197957"/>
                    <a:pt x="233745" y="267069"/>
                  </a:cubicBezTo>
                  <a:cubicBezTo>
                    <a:pt x="199409" y="295609"/>
                    <a:pt x="82340" y="372528"/>
                    <a:pt x="0" y="3600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2" descr="C:\Users\Potter Yang\Desktop\图片1.png"/>
          <p:cNvPicPr/>
          <p:nvPr/>
        </p:nvPicPr>
        <p:blipFill>
          <a:blip r:embed="rId1"/>
          <a:stretch/>
        </p:blipFill>
        <p:spPr>
          <a:xfrm>
            <a:off x="1285920" y="3286080"/>
            <a:ext cx="12492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303"/>
          <p:cNvGrpSpPr/>
          <p:nvPr/>
        </p:nvGrpSpPr>
        <p:grpSpPr>
          <a:xfrm>
            <a:off x="975960" y="399960"/>
            <a:ext cx="7120440" cy="4154400"/>
            <a:chOff x="975960" y="399960"/>
            <a:chExt cx="7120440" cy="4154400"/>
          </a:xfrm>
        </p:grpSpPr>
        <p:sp>
          <p:nvSpPr>
            <p:cNvPr id="86" name="圆角矩形 122"/>
            <p:cNvSpPr/>
            <p:nvPr/>
          </p:nvSpPr>
          <p:spPr>
            <a:xfrm>
              <a:off x="1054080" y="591840"/>
              <a:ext cx="7040880" cy="3960720"/>
            </a:xfrm>
            <a:prstGeom prst="roundRect">
              <a:avLst>
                <a:gd name="adj" fmla="val 9894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组合 校园龙卡"/>
            <p:cNvGrpSpPr/>
            <p:nvPr/>
          </p:nvGrpSpPr>
          <p:grpSpPr>
            <a:xfrm>
              <a:off x="975960" y="399960"/>
              <a:ext cx="1185120" cy="3078720"/>
              <a:chOff x="975960" y="399960"/>
              <a:chExt cx="1185120" cy="3078720"/>
            </a:xfrm>
          </p:grpSpPr>
          <p:sp>
            <p:nvSpPr>
              <p:cNvPr id="88" name="矩形 155"/>
              <p:cNvSpPr/>
              <p:nvPr/>
            </p:nvSpPr>
            <p:spPr>
              <a:xfrm>
                <a:off x="1391760" y="165060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龙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Box 156"/>
              <p:cNvSpPr/>
              <p:nvPr/>
            </p:nvSpPr>
            <p:spPr>
              <a:xfrm>
                <a:off x="1017720" y="399960"/>
                <a:ext cx="1143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矩形 157"/>
              <p:cNvSpPr/>
              <p:nvPr/>
            </p:nvSpPr>
            <p:spPr>
              <a:xfrm>
                <a:off x="975960" y="116352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园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矩形 158"/>
              <p:cNvSpPr/>
              <p:nvPr/>
            </p:nvSpPr>
            <p:spPr>
              <a:xfrm>
                <a:off x="1114920" y="237924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矩形 色块"/>
            <p:cNvSpPr/>
            <p:nvPr/>
          </p:nvSpPr>
          <p:spPr>
            <a:xfrm>
              <a:off x="2718000" y="591840"/>
              <a:ext cx="792000" cy="396072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装饰块"/>
            <p:cNvGrpSpPr/>
            <p:nvPr/>
          </p:nvGrpSpPr>
          <p:grpSpPr>
            <a:xfrm>
              <a:off x="2775960" y="786240"/>
              <a:ext cx="663120" cy="3290040"/>
              <a:chOff x="2775960" y="786240"/>
              <a:chExt cx="663120" cy="3290040"/>
            </a:xfrm>
          </p:grpSpPr>
          <p:sp>
            <p:nvSpPr>
              <p:cNvPr id="94" name="矩形 145"/>
              <p:cNvSpPr/>
              <p:nvPr/>
            </p:nvSpPr>
            <p:spPr>
              <a:xfrm>
                <a:off x="3066840" y="78624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146"/>
              <p:cNvSpPr/>
              <p:nvPr/>
            </p:nvSpPr>
            <p:spPr>
              <a:xfrm>
                <a:off x="2775960" y="10843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147"/>
              <p:cNvSpPr/>
              <p:nvPr/>
            </p:nvSpPr>
            <p:spPr>
              <a:xfrm>
                <a:off x="2834640" y="14130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148"/>
              <p:cNvSpPr/>
              <p:nvPr/>
            </p:nvSpPr>
            <p:spPr>
              <a:xfrm>
                <a:off x="3054240" y="195264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149"/>
              <p:cNvSpPr/>
              <p:nvPr/>
            </p:nvSpPr>
            <p:spPr>
              <a:xfrm>
                <a:off x="2797920" y="2129040"/>
                <a:ext cx="3610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150"/>
              <p:cNvSpPr/>
              <p:nvPr/>
            </p:nvSpPr>
            <p:spPr>
              <a:xfrm>
                <a:off x="2910960" y="311148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矩形 151"/>
              <p:cNvSpPr/>
              <p:nvPr/>
            </p:nvSpPr>
            <p:spPr>
              <a:xfrm>
                <a:off x="2793240" y="34272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矩形 152"/>
              <p:cNvSpPr/>
              <p:nvPr/>
            </p:nvSpPr>
            <p:spPr>
              <a:xfrm>
                <a:off x="3079800" y="285912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矩形 153"/>
              <p:cNvSpPr/>
              <p:nvPr/>
            </p:nvSpPr>
            <p:spPr>
              <a:xfrm>
                <a:off x="2954160" y="35701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154"/>
              <p:cNvSpPr/>
              <p:nvPr/>
            </p:nvSpPr>
            <p:spPr>
              <a:xfrm>
                <a:off x="3028680" y="371628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组合 线条"/>
            <p:cNvGrpSpPr/>
            <p:nvPr/>
          </p:nvGrpSpPr>
          <p:grpSpPr>
            <a:xfrm>
              <a:off x="3502800" y="975240"/>
              <a:ext cx="2859120" cy="3060000"/>
              <a:chOff x="3502800" y="975240"/>
              <a:chExt cx="2859120" cy="3060000"/>
            </a:xfrm>
          </p:grpSpPr>
          <p:cxnSp>
            <p:nvCxnSpPr>
              <p:cNvPr id="105" name="肘形连接符 141"/>
              <p:cNvCxnSpPr/>
              <p:nvPr/>
            </p:nvCxnSpPr>
            <p:spPr>
              <a:xfrm>
                <a:off x="3502800" y="975240"/>
                <a:ext cx="2858040" cy="157392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6" name="肘形连接符 142"/>
              <p:cNvCxnSpPr/>
              <p:nvPr/>
            </p:nvCxnSpPr>
            <p:spPr>
              <a:xfrm>
                <a:off x="3502800" y="2000160"/>
                <a:ext cx="2858040" cy="361080"/>
              </a:xfrm>
              <a:prstGeom prst="bentConnector3">
                <a:avLst>
                  <a:gd name="adj1" fmla="val 64210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7" name="直接箭头连接符 143"/>
              <p:cNvCxnSpPr/>
              <p:nvPr/>
            </p:nvCxnSpPr>
            <p:spPr>
              <a:xfrm flipV="1">
                <a:off x="3502800" y="3430440"/>
                <a:ext cx="2859480" cy="2160"/>
              </a:xfrm>
              <a:prstGeom prst="straightConnector1">
                <a:avLst/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8" name="肘形连接符 144"/>
              <p:cNvCxnSpPr/>
              <p:nvPr/>
            </p:nvCxnSpPr>
            <p:spPr>
              <a:xfrm flipV="1">
                <a:off x="3502800" y="2990520"/>
                <a:ext cx="2858040" cy="104508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</p:grpSp>
        <p:grpSp>
          <p:nvGrpSpPr>
            <p:cNvPr id="109" name="组合 建行 logo"/>
            <p:cNvGrpSpPr/>
            <p:nvPr/>
          </p:nvGrpSpPr>
          <p:grpSpPr>
            <a:xfrm>
              <a:off x="5432400" y="678960"/>
              <a:ext cx="560160" cy="689760"/>
              <a:chOff x="5432400" y="678960"/>
              <a:chExt cx="560160" cy="689760"/>
            </a:xfrm>
          </p:grpSpPr>
          <p:sp>
            <p:nvSpPr>
              <p:cNvPr id="110" name="任意多边形 138"/>
              <p:cNvSpPr/>
              <p:nvPr/>
            </p:nvSpPr>
            <p:spPr>
              <a:xfrm flipV="1">
                <a:off x="5432400" y="1040400"/>
                <a:ext cx="552960" cy="327960"/>
              </a:xfrm>
              <a:custGeom>
                <a:avLst/>
                <a:gdLst/>
                <a:ahLst/>
                <a:rect l="l" t="t" r="r" b="b"/>
                <a:pathLst>
                  <a:path w="1357322" h="708971">
                    <a:moveTo>
                      <a:pt x="0" y="708968"/>
                    </a:moveTo>
                    <a:cubicBezTo>
                      <a:pt x="0" y="466506"/>
                      <a:pt x="129353" y="242461"/>
                      <a:pt x="339331" y="121231"/>
                    </a:cubicBezTo>
                    <a:cubicBezTo>
                      <a:pt x="549310" y="0"/>
                      <a:pt x="808014" y="1"/>
                      <a:pt x="1017992" y="121232"/>
                    </a:cubicBezTo>
                    <a:cubicBezTo>
                      <a:pt x="1227970" y="242464"/>
                      <a:pt x="1357322" y="466508"/>
                      <a:pt x="1357321" y="708971"/>
                    </a:cubicBezTo>
                    <a:lnTo>
                      <a:pt x="1017992" y="708969"/>
                    </a:lnTo>
                    <a:lnTo>
                      <a:pt x="690548" y="373203"/>
                    </a:lnTo>
                    <a:lnTo>
                      <a:pt x="339330" y="708970"/>
                    </a:lnTo>
                    <a:lnTo>
                      <a:pt x="0" y="708968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任意多边形 139"/>
              <p:cNvSpPr/>
              <p:nvPr/>
            </p:nvSpPr>
            <p:spPr>
              <a:xfrm>
                <a:off x="5432400" y="714600"/>
                <a:ext cx="496080" cy="324720"/>
              </a:xfrm>
              <a:custGeom>
                <a:avLst/>
                <a:gdLst/>
                <a:ahLst/>
                <a:rect l="l" t="t" r="r" b="b"/>
                <a:pathLst>
                  <a:path w="1219955" h="701135">
                    <a:moveTo>
                      <a:pt x="0" y="701133"/>
                    </a:moveTo>
                    <a:cubicBezTo>
                      <a:pt x="0" y="458671"/>
                      <a:pt x="129353" y="234626"/>
                      <a:pt x="339331" y="113396"/>
                    </a:cubicBezTo>
                    <a:cubicBezTo>
                      <a:pt x="460908" y="0"/>
                      <a:pt x="730632" y="16050"/>
                      <a:pt x="729461" y="20755"/>
                    </a:cubicBezTo>
                    <a:lnTo>
                      <a:pt x="1219955" y="522563"/>
                    </a:lnTo>
                    <a:lnTo>
                      <a:pt x="1017992" y="701134"/>
                    </a:lnTo>
                    <a:lnTo>
                      <a:pt x="690548" y="365368"/>
                    </a:lnTo>
                    <a:lnTo>
                      <a:pt x="339330" y="701135"/>
                    </a:lnTo>
                    <a:lnTo>
                      <a:pt x="0" y="701133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任意多边形 140"/>
              <p:cNvSpPr/>
              <p:nvPr/>
            </p:nvSpPr>
            <p:spPr>
              <a:xfrm flipH="1" rot="18900000">
                <a:off x="5823000" y="667440"/>
                <a:ext cx="83520" cy="27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0" y="2"/>
                      <a:pt x="2" y="1"/>
                      <a:pt x="5" y="0"/>
                    </a:cubicBezTo>
                    <a:lnTo>
                      <a:pt x="5" y="5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建行 字"/>
            <p:cNvGrpSpPr/>
            <p:nvPr/>
          </p:nvGrpSpPr>
          <p:grpSpPr>
            <a:xfrm>
              <a:off x="6004080" y="845640"/>
              <a:ext cx="1785960" cy="651960"/>
              <a:chOff x="6004080" y="845640"/>
              <a:chExt cx="1785960" cy="651960"/>
            </a:xfrm>
          </p:grpSpPr>
          <p:sp>
            <p:nvSpPr>
              <p:cNvPr id="114" name="TextBox 135"/>
              <p:cNvSpPr/>
              <p:nvPr/>
            </p:nvSpPr>
            <p:spPr>
              <a:xfrm>
                <a:off x="6004080" y="845640"/>
                <a:ext cx="17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方正大黑简体"/>
                    <a:ea typeface="方正大黑简体"/>
                  </a:rPr>
                  <a:t>中国建设银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Box 136"/>
              <p:cNvSpPr/>
              <p:nvPr/>
            </p:nvSpPr>
            <p:spPr>
              <a:xfrm>
                <a:off x="6004080" y="1090080"/>
                <a:ext cx="178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Georgia"/>
                    <a:ea typeface="Arial Unicode MS"/>
                  </a:rPr>
                  <a:t>China Construction Ba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137"/>
              <p:cNvSpPr/>
              <p:nvPr/>
            </p:nvSpPr>
            <p:spPr>
              <a:xfrm>
                <a:off x="6769080" y="1236240"/>
                <a:ext cx="1000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000000"/>
                    </a:solidFill>
                    <a:latin typeface="宋体"/>
                  </a:rPr>
                  <a:t>天津市分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129"/>
            <p:cNvSpPr/>
            <p:nvPr/>
          </p:nvSpPr>
          <p:spPr>
            <a:xfrm>
              <a:off x="6420240" y="1693800"/>
              <a:ext cx="1184040" cy="25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本卡受天津大学校园龙卡管理规定约束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如有遗失请即通知校园龙卡管理中心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避免磨损、弯折、扭曲，注意防磁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只限持卡人使用，不得转借他人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组合 298"/>
            <p:cNvGrpSpPr/>
            <p:nvPr/>
          </p:nvGrpSpPr>
          <p:grpSpPr>
            <a:xfrm>
              <a:off x="7274880" y="3439080"/>
              <a:ext cx="821520" cy="1115280"/>
              <a:chOff x="7274880" y="3439080"/>
              <a:chExt cx="821520" cy="1115280"/>
            </a:xfrm>
          </p:grpSpPr>
          <p:sp>
            <p:nvSpPr>
              <p:cNvPr id="119" name="矩形 132"/>
              <p:cNvSpPr/>
              <p:nvPr/>
            </p:nvSpPr>
            <p:spPr>
              <a:xfrm>
                <a:off x="7274880" y="4397400"/>
                <a:ext cx="468000" cy="14436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矩形 133"/>
              <p:cNvSpPr/>
              <p:nvPr/>
            </p:nvSpPr>
            <p:spPr>
              <a:xfrm rot="5400000">
                <a:off x="7636680" y="3781080"/>
                <a:ext cx="791640" cy="10764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任意多边形 134"/>
              <p:cNvSpPr/>
              <p:nvPr/>
            </p:nvSpPr>
            <p:spPr>
              <a:xfrm>
                <a:off x="7727040" y="4181760"/>
                <a:ext cx="369360" cy="372600"/>
              </a:xfrm>
              <a:custGeom>
                <a:avLst/>
                <a:gdLst/>
                <a:ahLst/>
                <a:rect l="l" t="t" r="r" b="b"/>
                <a:pathLst>
                  <a:path w="369940" h="372528">
                    <a:moveTo>
                      <a:pt x="0" y="0"/>
                    </a:moveTo>
                    <a:lnTo>
                      <a:pt x="360000" y="0"/>
                    </a:lnTo>
                    <a:cubicBezTo>
                      <a:pt x="369940" y="89365"/>
                      <a:pt x="303634" y="197957"/>
                      <a:pt x="233745" y="267069"/>
                    </a:cubicBezTo>
                    <a:cubicBezTo>
                      <a:pt x="199409" y="295609"/>
                      <a:pt x="82340" y="372528"/>
                      <a:pt x="0" y="36000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Picture 2" descr="C:\Users\Potter Yang\Desktop\图片1.png"/>
            <p:cNvPicPr/>
            <p:nvPr/>
          </p:nvPicPr>
          <p:blipFill>
            <a:blip r:embed="rId2"/>
            <a:stretch/>
          </p:blipFill>
          <p:spPr>
            <a:xfrm>
              <a:off x="1284840" y="3291840"/>
              <a:ext cx="1249200" cy="123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组合 304"/>
          <p:cNvGrpSpPr/>
          <p:nvPr/>
        </p:nvGrpSpPr>
        <p:grpSpPr>
          <a:xfrm>
            <a:off x="1046160" y="515160"/>
            <a:ext cx="7039080" cy="4023360"/>
            <a:chOff x="1046160" y="515160"/>
            <a:chExt cx="7039080" cy="4023360"/>
          </a:xfrm>
        </p:grpSpPr>
        <p:sp>
          <p:nvSpPr>
            <p:cNvPr id="124" name="任意多边形 160"/>
            <p:cNvSpPr/>
            <p:nvPr/>
          </p:nvSpPr>
          <p:spPr>
            <a:xfrm>
              <a:off x="3562200" y="1555920"/>
              <a:ext cx="4496040" cy="1780920"/>
            </a:xfrm>
            <a:custGeom>
              <a:avLst/>
              <a:gdLst/>
              <a:ahLst/>
              <a:rect l="l" t="t" r="r" b="b"/>
              <a:pathLst>
                <a:path w="4495800" h="1781175">
                  <a:moveTo>
                    <a:pt x="0" y="1781175"/>
                  </a:moveTo>
                  <a:cubicBezTo>
                    <a:pt x="642950" y="1375293"/>
                    <a:pt x="1117594" y="1060450"/>
                    <a:pt x="1492244" y="777875"/>
                  </a:cubicBezTo>
                  <a:cubicBezTo>
                    <a:pt x="1858922" y="504840"/>
                    <a:pt x="2081190" y="346618"/>
                    <a:pt x="2300270" y="73035"/>
                  </a:cubicBezTo>
                  <a:lnTo>
                    <a:pt x="4495800" y="0"/>
                  </a:lnTo>
                  <a:lnTo>
                    <a:pt x="4495800" y="476250"/>
                  </a:lnTo>
                  <a:cubicBezTo>
                    <a:pt x="4151268" y="446092"/>
                    <a:pt x="3416300" y="592138"/>
                    <a:pt x="2667000" y="809625"/>
                  </a:cubicBezTo>
                  <a:cubicBezTo>
                    <a:pt x="2008182" y="979485"/>
                    <a:pt x="889000" y="1457325"/>
                    <a:pt x="0" y="1781175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161"/>
            <p:cNvSpPr/>
            <p:nvPr/>
          </p:nvSpPr>
          <p:spPr>
            <a:xfrm>
              <a:off x="1054080" y="4192560"/>
              <a:ext cx="700416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162"/>
            <p:cNvSpPr/>
            <p:nvPr/>
          </p:nvSpPr>
          <p:spPr>
            <a:xfrm>
              <a:off x="1049040" y="2017800"/>
              <a:ext cx="7012440" cy="221112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163"/>
            <p:cNvSpPr/>
            <p:nvPr/>
          </p:nvSpPr>
          <p:spPr>
            <a:xfrm rot="16200000">
              <a:off x="7367760" y="247140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164"/>
            <p:cNvSpPr/>
            <p:nvPr/>
          </p:nvSpPr>
          <p:spPr>
            <a:xfrm>
              <a:off x="1049040" y="587520"/>
              <a:ext cx="7018560" cy="85536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组合 60"/>
            <p:cNvGrpSpPr/>
            <p:nvPr/>
          </p:nvGrpSpPr>
          <p:grpSpPr>
            <a:xfrm>
              <a:off x="6453000" y="579240"/>
              <a:ext cx="420480" cy="467280"/>
              <a:chOff x="6453000" y="579240"/>
              <a:chExt cx="420480" cy="467280"/>
            </a:xfrm>
          </p:grpSpPr>
          <p:grpSp>
            <p:nvGrpSpPr>
              <p:cNvPr id="130" name="组合 92"/>
              <p:cNvGrpSpPr/>
              <p:nvPr/>
            </p:nvGrpSpPr>
            <p:grpSpPr>
              <a:xfrm>
                <a:off x="6455160" y="682200"/>
                <a:ext cx="418320" cy="262800"/>
                <a:chOff x="6455160" y="682200"/>
                <a:chExt cx="418320" cy="262800"/>
              </a:xfrm>
            </p:grpSpPr>
            <p:grpSp>
              <p:nvGrpSpPr>
                <p:cNvPr id="131" name="组合 83"/>
                <p:cNvGrpSpPr/>
                <p:nvPr/>
              </p:nvGrpSpPr>
              <p:grpSpPr>
                <a:xfrm>
                  <a:off x="6455160" y="797400"/>
                  <a:ext cx="226080" cy="147600"/>
                  <a:chOff x="6455160" y="797400"/>
                  <a:chExt cx="226080" cy="147600"/>
                </a:xfrm>
              </p:grpSpPr>
              <p:sp>
                <p:nvSpPr>
                  <p:cNvPr id="132" name="流程图: 终止 237"/>
                  <p:cNvSpPr/>
                  <p:nvPr/>
                </p:nvSpPr>
                <p:spPr>
                  <a:xfrm rot="14400000">
                    <a:off x="6478560" y="87840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流程图: 终止 238"/>
                  <p:cNvSpPr/>
                  <p:nvPr/>
                </p:nvSpPr>
                <p:spPr>
                  <a:xfrm rot="14400000">
                    <a:off x="6553800" y="84096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任意多边形 239"/>
                  <p:cNvSpPr/>
                  <p:nvPr/>
                </p:nvSpPr>
                <p:spPr>
                  <a:xfrm rot="14400000">
                    <a:off x="6553440" y="74880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组合 84"/>
                <p:cNvGrpSpPr/>
                <p:nvPr/>
              </p:nvGrpSpPr>
              <p:grpSpPr>
                <a:xfrm>
                  <a:off x="6645960" y="682200"/>
                  <a:ext cx="227520" cy="149760"/>
                  <a:chOff x="6645960" y="682200"/>
                  <a:chExt cx="227520" cy="149760"/>
                </a:xfrm>
              </p:grpSpPr>
              <p:sp>
                <p:nvSpPr>
                  <p:cNvPr id="136" name="流程图: 终止 31"/>
                  <p:cNvSpPr/>
                  <p:nvPr/>
                </p:nvSpPr>
                <p:spPr>
                  <a:xfrm flipV="1" rot="14400000">
                    <a:off x="6757200" y="72684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流程图: 终止 235"/>
                  <p:cNvSpPr/>
                  <p:nvPr/>
                </p:nvSpPr>
                <p:spPr>
                  <a:xfrm flipV="1" rot="14400000">
                    <a:off x="6679440" y="7657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任意多边形 236"/>
                  <p:cNvSpPr/>
                  <p:nvPr/>
                </p:nvSpPr>
                <p:spPr>
                  <a:xfrm flipV="1" rot="14400000">
                    <a:off x="6743520" y="6346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组合 101"/>
              <p:cNvGrpSpPr/>
              <p:nvPr/>
            </p:nvGrpSpPr>
            <p:grpSpPr>
              <a:xfrm>
                <a:off x="6453000" y="683280"/>
                <a:ext cx="416520" cy="266040"/>
                <a:chOff x="6453000" y="683280"/>
                <a:chExt cx="416520" cy="266040"/>
              </a:xfrm>
            </p:grpSpPr>
            <p:grpSp>
              <p:nvGrpSpPr>
                <p:cNvPr id="140" name="组合 83"/>
                <p:cNvGrpSpPr/>
                <p:nvPr/>
              </p:nvGrpSpPr>
              <p:grpSpPr>
                <a:xfrm>
                  <a:off x="6642360" y="800280"/>
                  <a:ext cx="227160" cy="149040"/>
                  <a:chOff x="6642360" y="800280"/>
                  <a:chExt cx="227160" cy="149040"/>
                </a:xfrm>
              </p:grpSpPr>
              <p:sp>
                <p:nvSpPr>
                  <p:cNvPr id="141" name="流程图: 终止 26"/>
                  <p:cNvSpPr/>
                  <p:nvPr/>
                </p:nvSpPr>
                <p:spPr>
                  <a:xfrm rot="7200000">
                    <a:off x="6759000" y="879840"/>
                    <a:ext cx="669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流程图: 终止 27"/>
                  <p:cNvSpPr/>
                  <p:nvPr/>
                </p:nvSpPr>
                <p:spPr>
                  <a:xfrm rot="7200000">
                    <a:off x="6699600" y="8420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任意多边形 28"/>
                  <p:cNvSpPr/>
                  <p:nvPr/>
                </p:nvSpPr>
                <p:spPr>
                  <a:xfrm rot="7200000">
                    <a:off x="6740280" y="752400"/>
                    <a:ext cx="309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组合 84"/>
                <p:cNvGrpSpPr/>
                <p:nvPr/>
              </p:nvGrpSpPr>
              <p:grpSpPr>
                <a:xfrm>
                  <a:off x="6453000" y="683280"/>
                  <a:ext cx="226800" cy="148680"/>
                  <a:chOff x="6453000" y="683280"/>
                  <a:chExt cx="226800" cy="148680"/>
                </a:xfrm>
              </p:grpSpPr>
              <p:sp>
                <p:nvSpPr>
                  <p:cNvPr id="145" name="流程图: 终止 226"/>
                  <p:cNvSpPr/>
                  <p:nvPr/>
                </p:nvSpPr>
                <p:spPr>
                  <a:xfrm flipV="1" rot="7200000">
                    <a:off x="6493680" y="72072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流程图: 终止 227"/>
                  <p:cNvSpPr/>
                  <p:nvPr/>
                </p:nvSpPr>
                <p:spPr>
                  <a:xfrm flipV="1" rot="7200000">
                    <a:off x="6552720" y="7574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任意多边形 228"/>
                  <p:cNvSpPr/>
                  <p:nvPr/>
                </p:nvSpPr>
                <p:spPr>
                  <a:xfrm flipV="1" rot="7200000">
                    <a:off x="6551280" y="6350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" name="组合 91"/>
              <p:cNvGrpSpPr/>
              <p:nvPr/>
            </p:nvGrpSpPr>
            <p:grpSpPr>
              <a:xfrm>
                <a:off x="6624360" y="579240"/>
                <a:ext cx="78120" cy="467280"/>
                <a:chOff x="6624360" y="579240"/>
                <a:chExt cx="78120" cy="467280"/>
              </a:xfrm>
            </p:grpSpPr>
            <p:grpSp>
              <p:nvGrpSpPr>
                <p:cNvPr id="149" name="组合 83"/>
                <p:cNvGrpSpPr/>
                <p:nvPr/>
              </p:nvGrpSpPr>
              <p:grpSpPr>
                <a:xfrm>
                  <a:off x="6624360" y="579240"/>
                  <a:ext cx="78120" cy="244440"/>
                  <a:chOff x="6624360" y="579240"/>
                  <a:chExt cx="78120" cy="244440"/>
                </a:xfrm>
              </p:grpSpPr>
              <p:sp>
                <p:nvSpPr>
                  <p:cNvPr id="150" name="流程图: 终止 4"/>
                  <p:cNvSpPr/>
                  <p:nvPr/>
                </p:nvSpPr>
                <p:spPr>
                  <a:xfrm>
                    <a:off x="6629040" y="64440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流程图: 终止 222"/>
                  <p:cNvSpPr/>
                  <p:nvPr/>
                </p:nvSpPr>
                <p:spPr>
                  <a:xfrm>
                    <a:off x="6624360" y="7174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任意多边形 223"/>
                  <p:cNvSpPr/>
                  <p:nvPr/>
                </p:nvSpPr>
                <p:spPr>
                  <a:xfrm>
                    <a:off x="6648120" y="5792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组合 428"/>
                <p:cNvGrpSpPr/>
                <p:nvPr/>
              </p:nvGrpSpPr>
              <p:grpSpPr>
                <a:xfrm>
                  <a:off x="6624360" y="802080"/>
                  <a:ext cx="78120" cy="244440"/>
                  <a:chOff x="6624360" y="802080"/>
                  <a:chExt cx="78120" cy="244440"/>
                </a:xfrm>
              </p:grpSpPr>
              <p:sp>
                <p:nvSpPr>
                  <p:cNvPr id="154" name="流程图: 终止 218"/>
                  <p:cNvSpPr/>
                  <p:nvPr/>
                </p:nvSpPr>
                <p:spPr>
                  <a:xfrm flipV="1">
                    <a:off x="6629040" y="94464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流程图: 终止 219"/>
                  <p:cNvSpPr/>
                  <p:nvPr/>
                </p:nvSpPr>
                <p:spPr>
                  <a:xfrm flipV="1">
                    <a:off x="6624360" y="867600"/>
                    <a:ext cx="78120" cy="27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任意多边形 220"/>
                  <p:cNvSpPr/>
                  <p:nvPr/>
                </p:nvSpPr>
                <p:spPr>
                  <a:xfrm flipV="1">
                    <a:off x="6648120" y="80172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" name="六边形 215"/>
              <p:cNvSpPr/>
              <p:nvPr/>
            </p:nvSpPr>
            <p:spPr>
              <a:xfrm rot="5400000">
                <a:off x="6615000" y="76500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圆角矩形 166"/>
            <p:cNvSpPr/>
            <p:nvPr/>
          </p:nvSpPr>
          <p:spPr>
            <a:xfrm>
              <a:off x="1046160" y="579600"/>
              <a:ext cx="7039080" cy="395892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组合 147"/>
            <p:cNvGrpSpPr/>
            <p:nvPr/>
          </p:nvGrpSpPr>
          <p:grpSpPr>
            <a:xfrm>
              <a:off x="5644080" y="592560"/>
              <a:ext cx="256680" cy="230040"/>
              <a:chOff x="5644080" y="592560"/>
              <a:chExt cx="256680" cy="230040"/>
            </a:xfrm>
          </p:grpSpPr>
          <p:grpSp>
            <p:nvGrpSpPr>
              <p:cNvPr id="160" name="组合 92"/>
              <p:cNvGrpSpPr/>
              <p:nvPr/>
            </p:nvGrpSpPr>
            <p:grpSpPr>
              <a:xfrm>
                <a:off x="5701320" y="592560"/>
                <a:ext cx="141480" cy="228240"/>
                <a:chOff x="5701320" y="592560"/>
                <a:chExt cx="141480" cy="228240"/>
              </a:xfrm>
            </p:grpSpPr>
            <p:grpSp>
              <p:nvGrpSpPr>
                <p:cNvPr id="161" name="组合 83"/>
                <p:cNvGrpSpPr/>
                <p:nvPr/>
              </p:nvGrpSpPr>
              <p:grpSpPr>
                <a:xfrm>
                  <a:off x="5701320" y="592560"/>
                  <a:ext cx="81000" cy="121320"/>
                  <a:chOff x="5701320" y="592560"/>
                  <a:chExt cx="81000" cy="121320"/>
                </a:xfrm>
              </p:grpSpPr>
              <p:sp>
                <p:nvSpPr>
                  <p:cNvPr id="162" name="流程图: 终止 209"/>
                  <p:cNvSpPr/>
                  <p:nvPr/>
                </p:nvSpPr>
                <p:spPr>
                  <a:xfrm rot="19800000">
                    <a:off x="5703120" y="61344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流程图: 终止 210"/>
                  <p:cNvSpPr/>
                  <p:nvPr/>
                </p:nvSpPr>
                <p:spPr>
                  <a:xfrm rot="19800000">
                    <a:off x="5721480" y="64836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任意多边形 211"/>
                  <p:cNvSpPr/>
                  <p:nvPr/>
                </p:nvSpPr>
                <p:spPr>
                  <a:xfrm rot="19800000">
                    <a:off x="5738760" y="58572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组合 84"/>
                <p:cNvGrpSpPr/>
                <p:nvPr/>
              </p:nvGrpSpPr>
              <p:grpSpPr>
                <a:xfrm>
                  <a:off x="5765760" y="698760"/>
                  <a:ext cx="77040" cy="122040"/>
                  <a:chOff x="5765760" y="698760"/>
                  <a:chExt cx="77040" cy="122040"/>
                </a:xfrm>
              </p:grpSpPr>
              <p:sp>
                <p:nvSpPr>
                  <p:cNvPr id="166" name="流程图: 终止 206"/>
                  <p:cNvSpPr/>
                  <p:nvPr/>
                </p:nvSpPr>
                <p:spPr>
                  <a:xfrm flipV="1" rot="19800000">
                    <a:off x="5799240" y="76572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流程图: 终止 207"/>
                  <p:cNvSpPr/>
                  <p:nvPr/>
                </p:nvSpPr>
                <p:spPr>
                  <a:xfrm flipV="1" rot="19800000">
                    <a:off x="5769000" y="73188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任意多边形 208"/>
                  <p:cNvSpPr/>
                  <p:nvPr/>
                </p:nvSpPr>
                <p:spPr>
                  <a:xfrm flipV="1" rot="19800000">
                    <a:off x="5798160" y="69228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组合 101"/>
              <p:cNvGrpSpPr/>
              <p:nvPr/>
            </p:nvGrpSpPr>
            <p:grpSpPr>
              <a:xfrm>
                <a:off x="5701680" y="593280"/>
                <a:ext cx="140040" cy="229320"/>
                <a:chOff x="5701680" y="593280"/>
                <a:chExt cx="140040" cy="229320"/>
              </a:xfrm>
            </p:grpSpPr>
            <p:grpSp>
              <p:nvGrpSpPr>
                <p:cNvPr id="170" name="组合 83"/>
                <p:cNvGrpSpPr/>
                <p:nvPr/>
              </p:nvGrpSpPr>
              <p:grpSpPr>
                <a:xfrm>
                  <a:off x="5701680" y="699120"/>
                  <a:ext cx="79920" cy="123480"/>
                  <a:chOff x="5701680" y="699120"/>
                  <a:chExt cx="79920" cy="123480"/>
                </a:xfrm>
              </p:grpSpPr>
              <p:sp>
                <p:nvSpPr>
                  <p:cNvPr id="171" name="流程图: 终止 201"/>
                  <p:cNvSpPr/>
                  <p:nvPr/>
                </p:nvSpPr>
                <p:spPr>
                  <a:xfrm rot="12600000">
                    <a:off x="5715720" y="764640"/>
                    <a:ext cx="37080" cy="165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流程图: 终止 202"/>
                  <p:cNvSpPr/>
                  <p:nvPr/>
                </p:nvSpPr>
                <p:spPr>
                  <a:xfrm rot="12600000">
                    <a:off x="5725800" y="741960"/>
                    <a:ext cx="42840" cy="180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任意多边形 203"/>
                  <p:cNvSpPr/>
                  <p:nvPr/>
                </p:nvSpPr>
                <p:spPr>
                  <a:xfrm rot="12600000">
                    <a:off x="5734080" y="693360"/>
                    <a:ext cx="144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组合 84"/>
                <p:cNvGrpSpPr/>
                <p:nvPr/>
              </p:nvGrpSpPr>
              <p:grpSpPr>
                <a:xfrm>
                  <a:off x="5763600" y="593280"/>
                  <a:ext cx="78120" cy="122760"/>
                  <a:chOff x="5763600" y="593280"/>
                  <a:chExt cx="78120" cy="122760"/>
                </a:xfrm>
              </p:grpSpPr>
              <p:sp>
                <p:nvSpPr>
                  <p:cNvPr id="175" name="流程图: 终止 198"/>
                  <p:cNvSpPr/>
                  <p:nvPr/>
                </p:nvSpPr>
                <p:spPr>
                  <a:xfrm flipV="1" rot="12600000">
                    <a:off x="5798160" y="62496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流程图: 终止 199"/>
                  <p:cNvSpPr/>
                  <p:nvPr/>
                </p:nvSpPr>
                <p:spPr>
                  <a:xfrm flipV="1" rot="12600000">
                    <a:off x="5767560" y="67068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任意多边形 200"/>
                  <p:cNvSpPr/>
                  <p:nvPr/>
                </p:nvSpPr>
                <p:spPr>
                  <a:xfrm flipV="1" rot="12600000">
                    <a:off x="5796000" y="58680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8" name="组合 91"/>
              <p:cNvGrpSpPr/>
              <p:nvPr/>
            </p:nvGrpSpPr>
            <p:grpSpPr>
              <a:xfrm>
                <a:off x="5644080" y="686160"/>
                <a:ext cx="256680" cy="42840"/>
                <a:chOff x="5644080" y="686160"/>
                <a:chExt cx="256680" cy="42840"/>
              </a:xfrm>
            </p:grpSpPr>
            <p:grpSp>
              <p:nvGrpSpPr>
                <p:cNvPr id="179" name="组合 83"/>
                <p:cNvGrpSpPr/>
                <p:nvPr/>
              </p:nvGrpSpPr>
              <p:grpSpPr>
                <a:xfrm>
                  <a:off x="5766480" y="686160"/>
                  <a:ext cx="134280" cy="42840"/>
                  <a:chOff x="5766480" y="686160"/>
                  <a:chExt cx="134280" cy="42840"/>
                </a:xfrm>
              </p:grpSpPr>
              <p:sp>
                <p:nvSpPr>
                  <p:cNvPr id="180" name="流程图: 终止 4"/>
                  <p:cNvSpPr/>
                  <p:nvPr/>
                </p:nvSpPr>
                <p:spPr>
                  <a:xfrm rot="5400000">
                    <a:off x="583812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流程图: 终止 194"/>
                  <p:cNvSpPr/>
                  <p:nvPr/>
                </p:nvSpPr>
                <p:spPr>
                  <a:xfrm rot="5400000">
                    <a:off x="5817960" y="69984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任意多边形 195"/>
                  <p:cNvSpPr/>
                  <p:nvPr/>
                </p:nvSpPr>
                <p:spPr>
                  <a:xfrm rot="5400000">
                    <a:off x="5828400" y="63360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组合 84"/>
                <p:cNvGrpSpPr/>
                <p:nvPr/>
              </p:nvGrpSpPr>
              <p:grpSpPr>
                <a:xfrm>
                  <a:off x="5644080" y="686160"/>
                  <a:ext cx="134280" cy="42840"/>
                  <a:chOff x="5644080" y="686160"/>
                  <a:chExt cx="134280" cy="42840"/>
                </a:xfrm>
              </p:grpSpPr>
              <p:sp>
                <p:nvSpPr>
                  <p:cNvPr id="184" name="流程图: 终止 190"/>
                  <p:cNvSpPr/>
                  <p:nvPr/>
                </p:nvSpPr>
                <p:spPr>
                  <a:xfrm flipV="1" rot="5400000">
                    <a:off x="566784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流程图: 终止 191"/>
                  <p:cNvSpPr/>
                  <p:nvPr/>
                </p:nvSpPr>
                <p:spPr>
                  <a:xfrm flipV="1" rot="5400000">
                    <a:off x="5728320" y="6991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任意多边形 192"/>
                  <p:cNvSpPr/>
                  <p:nvPr/>
                </p:nvSpPr>
                <p:spPr>
                  <a:xfrm flipV="1" rot="5400000">
                    <a:off x="5706000" y="6332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7" name="六边形 187"/>
              <p:cNvSpPr/>
              <p:nvPr/>
            </p:nvSpPr>
            <p:spPr>
              <a:xfrm rot="10800000">
                <a:off x="5745240" y="68112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67"/>
            <p:cNvGrpSpPr/>
            <p:nvPr/>
          </p:nvGrpSpPr>
          <p:grpSpPr>
            <a:xfrm>
              <a:off x="1466640" y="515160"/>
              <a:ext cx="3962520" cy="772560"/>
              <a:chOff x="1466640" y="515160"/>
              <a:chExt cx="3962520" cy="772560"/>
            </a:xfrm>
          </p:grpSpPr>
          <p:grpSp>
            <p:nvGrpSpPr>
              <p:cNvPr id="189" name="组合 139"/>
              <p:cNvGrpSpPr/>
              <p:nvPr/>
            </p:nvGrpSpPr>
            <p:grpSpPr>
              <a:xfrm>
                <a:off x="1466640" y="535320"/>
                <a:ext cx="1103760" cy="496800"/>
                <a:chOff x="1466640" y="535320"/>
                <a:chExt cx="1103760" cy="496800"/>
              </a:xfrm>
            </p:grpSpPr>
            <p:sp>
              <p:nvSpPr>
                <p:cNvPr id="190" name="任意多边形 177"/>
                <p:cNvSpPr/>
                <p:nvPr/>
              </p:nvSpPr>
              <p:spPr>
                <a:xfrm rot="14400000">
                  <a:off x="1611000" y="59832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任意多边形 178"/>
                <p:cNvSpPr/>
                <p:nvPr/>
              </p:nvSpPr>
              <p:spPr>
                <a:xfrm rot="14400000">
                  <a:off x="1580400" y="49284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任意多边形 179"/>
                <p:cNvSpPr/>
                <p:nvPr/>
              </p:nvSpPr>
              <p:spPr>
                <a:xfrm rot="7200000">
                  <a:off x="2292840" y="59940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任意多边形 180"/>
                <p:cNvSpPr/>
                <p:nvPr/>
              </p:nvSpPr>
              <p:spPr>
                <a:xfrm rot="7200000">
                  <a:off x="2377080" y="49104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流程图: 终止 181"/>
                <p:cNvSpPr/>
                <p:nvPr/>
              </p:nvSpPr>
              <p:spPr>
                <a:xfrm flipV="1">
                  <a:off x="1928880" y="78444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任意多边形 182"/>
                <p:cNvSpPr/>
                <p:nvPr/>
              </p:nvSpPr>
              <p:spPr>
                <a:xfrm flipV="1">
                  <a:off x="1916280" y="60084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任意多边形 183"/>
                <p:cNvSpPr/>
                <p:nvPr/>
              </p:nvSpPr>
              <p:spPr>
                <a:xfrm flipV="1">
                  <a:off x="1978200" y="60156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任意多边形 173"/>
              <p:cNvSpPr/>
              <p:nvPr/>
            </p:nvSpPr>
            <p:spPr>
              <a:xfrm rot="6112800">
                <a:off x="3526200" y="64692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任意多边形 174"/>
              <p:cNvSpPr/>
              <p:nvPr/>
            </p:nvSpPr>
            <p:spPr>
              <a:xfrm flipH="1" rot="14175600">
                <a:off x="4550400" y="64224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任意多边形 175"/>
              <p:cNvSpPr/>
              <p:nvPr/>
            </p:nvSpPr>
            <p:spPr>
              <a:xfrm>
                <a:off x="4143240" y="59040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任意多边形 176"/>
              <p:cNvSpPr/>
              <p:nvPr/>
            </p:nvSpPr>
            <p:spPr>
              <a:xfrm>
                <a:off x="5143680" y="60660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任意多边形 169"/>
            <p:cNvSpPr/>
            <p:nvPr/>
          </p:nvSpPr>
          <p:spPr>
            <a:xfrm flipV="1" rot="5400000">
              <a:off x="2205720" y="408240"/>
              <a:ext cx="2489040" cy="478980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58"/>
            <p:cNvSpPr/>
            <p:nvPr/>
          </p:nvSpPr>
          <p:spPr>
            <a:xfrm>
              <a:off x="1056960" y="1552680"/>
              <a:ext cx="698364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171"/>
            <p:cNvSpPr/>
            <p:nvPr/>
          </p:nvSpPr>
          <p:spPr>
            <a:xfrm>
              <a:off x="1062000" y="925560"/>
              <a:ext cx="6982200" cy="73152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85"/>
          <p:cNvGrpSpPr/>
          <p:nvPr/>
        </p:nvGrpSpPr>
        <p:grpSpPr>
          <a:xfrm>
            <a:off x="1044720" y="516600"/>
            <a:ext cx="7038720" cy="4023720"/>
            <a:chOff x="1044720" y="516600"/>
            <a:chExt cx="7038720" cy="4023720"/>
          </a:xfrm>
        </p:grpSpPr>
        <p:sp>
          <p:nvSpPr>
            <p:cNvPr id="205" name="任意多边形 241"/>
            <p:cNvSpPr/>
            <p:nvPr/>
          </p:nvSpPr>
          <p:spPr>
            <a:xfrm>
              <a:off x="3446640" y="1557360"/>
              <a:ext cx="4610160" cy="1824120"/>
            </a:xfrm>
            <a:custGeom>
              <a:avLst/>
              <a:gdLst/>
              <a:ahLst/>
              <a:rect l="l" t="t" r="r" b="b"/>
              <a:pathLst>
                <a:path w="4610093" h="1824032">
                  <a:moveTo>
                    <a:pt x="0" y="1824032"/>
                  </a:moveTo>
                  <a:cubicBezTo>
                    <a:pt x="642950" y="1418150"/>
                    <a:pt x="1231887" y="1060450"/>
                    <a:pt x="1606537" y="777875"/>
                  </a:cubicBezTo>
                  <a:cubicBezTo>
                    <a:pt x="1973215" y="504840"/>
                    <a:pt x="2176424" y="341862"/>
                    <a:pt x="2395504" y="68279"/>
                  </a:cubicBezTo>
                  <a:lnTo>
                    <a:pt x="4610093" y="0"/>
                  </a:lnTo>
                  <a:lnTo>
                    <a:pt x="4610093" y="476250"/>
                  </a:lnTo>
                  <a:cubicBezTo>
                    <a:pt x="4265561" y="446092"/>
                    <a:pt x="3530593" y="592138"/>
                    <a:pt x="2781293" y="809625"/>
                  </a:cubicBezTo>
                  <a:cubicBezTo>
                    <a:pt x="2122475" y="979485"/>
                    <a:pt x="889000" y="1500182"/>
                    <a:pt x="0" y="1824032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242"/>
            <p:cNvSpPr/>
            <p:nvPr/>
          </p:nvSpPr>
          <p:spPr>
            <a:xfrm>
              <a:off x="1052640" y="4194360"/>
              <a:ext cx="700380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243"/>
            <p:cNvSpPr/>
            <p:nvPr/>
          </p:nvSpPr>
          <p:spPr>
            <a:xfrm>
              <a:off x="1047600" y="2019240"/>
              <a:ext cx="7012080" cy="221148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244"/>
            <p:cNvSpPr/>
            <p:nvPr/>
          </p:nvSpPr>
          <p:spPr>
            <a:xfrm rot="16200000">
              <a:off x="7365960" y="247284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245"/>
            <p:cNvSpPr/>
            <p:nvPr/>
          </p:nvSpPr>
          <p:spPr>
            <a:xfrm>
              <a:off x="1047600" y="588960"/>
              <a:ext cx="7018200" cy="85572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组合 60"/>
            <p:cNvGrpSpPr/>
            <p:nvPr/>
          </p:nvGrpSpPr>
          <p:grpSpPr>
            <a:xfrm>
              <a:off x="6451200" y="580680"/>
              <a:ext cx="422280" cy="467280"/>
              <a:chOff x="6451200" y="580680"/>
              <a:chExt cx="422280" cy="467280"/>
            </a:xfrm>
          </p:grpSpPr>
          <p:grpSp>
            <p:nvGrpSpPr>
              <p:cNvPr id="211" name="组合 92"/>
              <p:cNvGrpSpPr/>
              <p:nvPr/>
            </p:nvGrpSpPr>
            <p:grpSpPr>
              <a:xfrm>
                <a:off x="6453360" y="685440"/>
                <a:ext cx="420120" cy="261000"/>
                <a:chOff x="6453360" y="685440"/>
                <a:chExt cx="420120" cy="261000"/>
              </a:xfrm>
            </p:grpSpPr>
            <p:grpSp>
              <p:nvGrpSpPr>
                <p:cNvPr id="212" name="组合 83"/>
                <p:cNvGrpSpPr/>
                <p:nvPr/>
              </p:nvGrpSpPr>
              <p:grpSpPr>
                <a:xfrm>
                  <a:off x="6453360" y="798840"/>
                  <a:ext cx="226080" cy="147600"/>
                  <a:chOff x="6453360" y="798840"/>
                  <a:chExt cx="226080" cy="147600"/>
                </a:xfrm>
              </p:grpSpPr>
              <p:sp>
                <p:nvSpPr>
                  <p:cNvPr id="213" name="流程图: 终止 318"/>
                  <p:cNvSpPr/>
                  <p:nvPr/>
                </p:nvSpPr>
                <p:spPr>
                  <a:xfrm rot="14400000">
                    <a:off x="6476760" y="87984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流程图: 终止 319"/>
                  <p:cNvSpPr/>
                  <p:nvPr/>
                </p:nvSpPr>
                <p:spPr>
                  <a:xfrm rot="14400000">
                    <a:off x="6552000" y="84240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任意多边形 320"/>
                  <p:cNvSpPr/>
                  <p:nvPr/>
                </p:nvSpPr>
                <p:spPr>
                  <a:xfrm rot="14400000">
                    <a:off x="6551640" y="75024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组合 84"/>
                <p:cNvGrpSpPr/>
                <p:nvPr/>
              </p:nvGrpSpPr>
              <p:grpSpPr>
                <a:xfrm>
                  <a:off x="6645240" y="685440"/>
                  <a:ext cx="228240" cy="150840"/>
                  <a:chOff x="6645240" y="685440"/>
                  <a:chExt cx="228240" cy="150840"/>
                </a:xfrm>
              </p:grpSpPr>
              <p:sp>
                <p:nvSpPr>
                  <p:cNvPr id="217" name="流程图: 终止 31"/>
                  <p:cNvSpPr/>
                  <p:nvPr/>
                </p:nvSpPr>
                <p:spPr>
                  <a:xfrm flipV="1" rot="14400000">
                    <a:off x="6756480" y="724320"/>
                    <a:ext cx="7488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流程图: 终止 316"/>
                  <p:cNvSpPr/>
                  <p:nvPr/>
                </p:nvSpPr>
                <p:spPr>
                  <a:xfrm flipV="1" rot="14400000">
                    <a:off x="6682320" y="7646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任意多边形 317"/>
                  <p:cNvSpPr/>
                  <p:nvPr/>
                </p:nvSpPr>
                <p:spPr>
                  <a:xfrm flipV="1" rot="14400000">
                    <a:off x="6742440" y="637920"/>
                    <a:ext cx="331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组合 101"/>
              <p:cNvGrpSpPr/>
              <p:nvPr/>
            </p:nvGrpSpPr>
            <p:grpSpPr>
              <a:xfrm>
                <a:off x="6451200" y="684720"/>
                <a:ext cx="417240" cy="266040"/>
                <a:chOff x="6451200" y="684720"/>
                <a:chExt cx="417240" cy="266040"/>
              </a:xfrm>
            </p:grpSpPr>
            <p:grpSp>
              <p:nvGrpSpPr>
                <p:cNvPr id="221" name="组合 83"/>
                <p:cNvGrpSpPr/>
                <p:nvPr/>
              </p:nvGrpSpPr>
              <p:grpSpPr>
                <a:xfrm>
                  <a:off x="6640920" y="801000"/>
                  <a:ext cx="227520" cy="149760"/>
                  <a:chOff x="6640920" y="801000"/>
                  <a:chExt cx="227520" cy="149760"/>
                </a:xfrm>
              </p:grpSpPr>
              <p:sp>
                <p:nvSpPr>
                  <p:cNvPr id="222" name="流程图: 终止 26"/>
                  <p:cNvSpPr/>
                  <p:nvPr/>
                </p:nvSpPr>
                <p:spPr>
                  <a:xfrm rot="7200000">
                    <a:off x="6756840" y="88092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流程图: 终止 27"/>
                  <p:cNvSpPr/>
                  <p:nvPr/>
                </p:nvSpPr>
                <p:spPr>
                  <a:xfrm rot="7200000">
                    <a:off x="6698520" y="843120"/>
                    <a:ext cx="7704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任意多边形 28"/>
                  <p:cNvSpPr/>
                  <p:nvPr/>
                </p:nvSpPr>
                <p:spPr>
                  <a:xfrm rot="7200000">
                    <a:off x="6738480" y="7534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组合 84"/>
                <p:cNvGrpSpPr/>
                <p:nvPr/>
              </p:nvGrpSpPr>
              <p:grpSpPr>
                <a:xfrm>
                  <a:off x="6451200" y="684720"/>
                  <a:ext cx="226800" cy="148680"/>
                  <a:chOff x="6451200" y="684720"/>
                  <a:chExt cx="226800" cy="148680"/>
                </a:xfrm>
              </p:grpSpPr>
              <p:sp>
                <p:nvSpPr>
                  <p:cNvPr id="226" name="流程图: 终止 307"/>
                  <p:cNvSpPr/>
                  <p:nvPr/>
                </p:nvSpPr>
                <p:spPr>
                  <a:xfrm flipV="1" rot="7200000">
                    <a:off x="6491880" y="72216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流程图: 终止 308"/>
                  <p:cNvSpPr/>
                  <p:nvPr/>
                </p:nvSpPr>
                <p:spPr>
                  <a:xfrm flipV="1" rot="7200000">
                    <a:off x="6550920" y="7588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任意多边形 309"/>
                  <p:cNvSpPr/>
                  <p:nvPr/>
                </p:nvSpPr>
                <p:spPr>
                  <a:xfrm flipV="1" rot="7200000">
                    <a:off x="6549480" y="6364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组合 91"/>
              <p:cNvGrpSpPr/>
              <p:nvPr/>
            </p:nvGrpSpPr>
            <p:grpSpPr>
              <a:xfrm>
                <a:off x="6622560" y="580680"/>
                <a:ext cx="78120" cy="467280"/>
                <a:chOff x="6622560" y="580680"/>
                <a:chExt cx="78120" cy="467280"/>
              </a:xfrm>
            </p:grpSpPr>
            <p:grpSp>
              <p:nvGrpSpPr>
                <p:cNvPr id="230" name="组合 83"/>
                <p:cNvGrpSpPr/>
                <p:nvPr/>
              </p:nvGrpSpPr>
              <p:grpSpPr>
                <a:xfrm>
                  <a:off x="6622560" y="580680"/>
                  <a:ext cx="78120" cy="244440"/>
                  <a:chOff x="6622560" y="580680"/>
                  <a:chExt cx="78120" cy="244440"/>
                </a:xfrm>
              </p:grpSpPr>
              <p:sp>
                <p:nvSpPr>
                  <p:cNvPr id="231" name="流程图: 终止 4"/>
                  <p:cNvSpPr/>
                  <p:nvPr/>
                </p:nvSpPr>
                <p:spPr>
                  <a:xfrm>
                    <a:off x="6627240" y="64584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流程图: 终止 303"/>
                  <p:cNvSpPr/>
                  <p:nvPr/>
                </p:nvSpPr>
                <p:spPr>
                  <a:xfrm>
                    <a:off x="6622560" y="7189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任意多边形 304"/>
                  <p:cNvSpPr/>
                  <p:nvPr/>
                </p:nvSpPr>
                <p:spPr>
                  <a:xfrm>
                    <a:off x="6646320" y="5806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组合 428"/>
                <p:cNvGrpSpPr/>
                <p:nvPr/>
              </p:nvGrpSpPr>
              <p:grpSpPr>
                <a:xfrm>
                  <a:off x="6622560" y="803520"/>
                  <a:ext cx="78120" cy="244440"/>
                  <a:chOff x="6622560" y="803520"/>
                  <a:chExt cx="78120" cy="244440"/>
                </a:xfrm>
              </p:grpSpPr>
              <p:sp>
                <p:nvSpPr>
                  <p:cNvPr id="235" name="流程图: 终止 299"/>
                  <p:cNvSpPr/>
                  <p:nvPr/>
                </p:nvSpPr>
                <p:spPr>
                  <a:xfrm flipV="1">
                    <a:off x="6627240" y="94608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流程图: 终止 300"/>
                  <p:cNvSpPr/>
                  <p:nvPr/>
                </p:nvSpPr>
                <p:spPr>
                  <a:xfrm flipV="1">
                    <a:off x="6622560" y="867600"/>
                    <a:ext cx="78120" cy="291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任意多边形 301"/>
                  <p:cNvSpPr/>
                  <p:nvPr/>
                </p:nvSpPr>
                <p:spPr>
                  <a:xfrm flipV="1">
                    <a:off x="6646320" y="80316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8" name="六边形 296"/>
              <p:cNvSpPr/>
              <p:nvPr/>
            </p:nvSpPr>
            <p:spPr>
              <a:xfrm rot="5400000">
                <a:off x="6613200" y="76644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圆角矩形 247"/>
            <p:cNvSpPr/>
            <p:nvPr/>
          </p:nvSpPr>
          <p:spPr>
            <a:xfrm>
              <a:off x="1044720" y="581040"/>
              <a:ext cx="7038720" cy="395928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147"/>
            <p:cNvGrpSpPr/>
            <p:nvPr/>
          </p:nvGrpSpPr>
          <p:grpSpPr>
            <a:xfrm>
              <a:off x="5642280" y="594000"/>
              <a:ext cx="256680" cy="230040"/>
              <a:chOff x="5642280" y="594000"/>
              <a:chExt cx="256680" cy="230040"/>
            </a:xfrm>
          </p:grpSpPr>
          <p:grpSp>
            <p:nvGrpSpPr>
              <p:cNvPr id="241" name="组合 92"/>
              <p:cNvGrpSpPr/>
              <p:nvPr/>
            </p:nvGrpSpPr>
            <p:grpSpPr>
              <a:xfrm>
                <a:off x="5699520" y="594000"/>
                <a:ext cx="141480" cy="228240"/>
                <a:chOff x="5699520" y="594000"/>
                <a:chExt cx="141480" cy="228240"/>
              </a:xfrm>
            </p:grpSpPr>
            <p:grpSp>
              <p:nvGrpSpPr>
                <p:cNvPr id="242" name="组合 83"/>
                <p:cNvGrpSpPr/>
                <p:nvPr/>
              </p:nvGrpSpPr>
              <p:grpSpPr>
                <a:xfrm>
                  <a:off x="5699520" y="594000"/>
                  <a:ext cx="81000" cy="121320"/>
                  <a:chOff x="5699520" y="594000"/>
                  <a:chExt cx="81000" cy="121320"/>
                </a:xfrm>
              </p:grpSpPr>
              <p:sp>
                <p:nvSpPr>
                  <p:cNvPr id="243" name="流程图: 终止 290"/>
                  <p:cNvSpPr/>
                  <p:nvPr/>
                </p:nvSpPr>
                <p:spPr>
                  <a:xfrm rot="19800000">
                    <a:off x="5701320" y="61488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流程图: 终止 291"/>
                  <p:cNvSpPr/>
                  <p:nvPr/>
                </p:nvSpPr>
                <p:spPr>
                  <a:xfrm rot="19800000">
                    <a:off x="5720040" y="64980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任意多边形 292"/>
                  <p:cNvSpPr/>
                  <p:nvPr/>
                </p:nvSpPr>
                <p:spPr>
                  <a:xfrm rot="19800000">
                    <a:off x="5736960" y="58716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组合 84"/>
                <p:cNvGrpSpPr/>
                <p:nvPr/>
              </p:nvGrpSpPr>
              <p:grpSpPr>
                <a:xfrm>
                  <a:off x="5763960" y="700200"/>
                  <a:ext cx="77040" cy="122040"/>
                  <a:chOff x="5763960" y="700200"/>
                  <a:chExt cx="77040" cy="122040"/>
                </a:xfrm>
              </p:grpSpPr>
              <p:sp>
                <p:nvSpPr>
                  <p:cNvPr id="247" name="流程图: 终止 287"/>
                  <p:cNvSpPr/>
                  <p:nvPr/>
                </p:nvSpPr>
                <p:spPr>
                  <a:xfrm flipV="1" rot="19800000">
                    <a:off x="5797440" y="76716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流程图: 终止 288"/>
                  <p:cNvSpPr/>
                  <p:nvPr/>
                </p:nvSpPr>
                <p:spPr>
                  <a:xfrm flipV="1" rot="19800000">
                    <a:off x="5767200" y="73332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任意多边形 289"/>
                  <p:cNvSpPr/>
                  <p:nvPr/>
                </p:nvSpPr>
                <p:spPr>
                  <a:xfrm flipV="1" rot="19800000">
                    <a:off x="5796360" y="69372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组合 101"/>
              <p:cNvGrpSpPr/>
              <p:nvPr/>
            </p:nvGrpSpPr>
            <p:grpSpPr>
              <a:xfrm>
                <a:off x="5698080" y="594720"/>
                <a:ext cx="141840" cy="229320"/>
                <a:chOff x="5698080" y="594720"/>
                <a:chExt cx="141840" cy="229320"/>
              </a:xfrm>
            </p:grpSpPr>
            <p:grpSp>
              <p:nvGrpSpPr>
                <p:cNvPr id="251" name="组合 83"/>
                <p:cNvGrpSpPr/>
                <p:nvPr/>
              </p:nvGrpSpPr>
              <p:grpSpPr>
                <a:xfrm>
                  <a:off x="5698080" y="699120"/>
                  <a:ext cx="82080" cy="124920"/>
                  <a:chOff x="5698080" y="699120"/>
                  <a:chExt cx="82080" cy="124920"/>
                </a:xfrm>
              </p:grpSpPr>
              <p:sp>
                <p:nvSpPr>
                  <p:cNvPr id="252" name="流程图: 终止 282"/>
                  <p:cNvSpPr/>
                  <p:nvPr/>
                </p:nvSpPr>
                <p:spPr>
                  <a:xfrm rot="12600000">
                    <a:off x="5707800" y="771480"/>
                    <a:ext cx="37440" cy="176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流程图: 终止 283"/>
                  <p:cNvSpPr/>
                  <p:nvPr/>
                </p:nvSpPr>
                <p:spPr>
                  <a:xfrm rot="12600000">
                    <a:off x="5726880" y="740520"/>
                    <a:ext cx="42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任意多边形 284"/>
                  <p:cNvSpPr/>
                  <p:nvPr/>
                </p:nvSpPr>
                <p:spPr>
                  <a:xfrm rot="12600000">
                    <a:off x="5730480" y="694440"/>
                    <a:ext cx="169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组合 84"/>
                <p:cNvGrpSpPr/>
                <p:nvPr/>
              </p:nvGrpSpPr>
              <p:grpSpPr>
                <a:xfrm>
                  <a:off x="5761800" y="594720"/>
                  <a:ext cx="78120" cy="122760"/>
                  <a:chOff x="5761800" y="594720"/>
                  <a:chExt cx="78120" cy="122760"/>
                </a:xfrm>
              </p:grpSpPr>
              <p:sp>
                <p:nvSpPr>
                  <p:cNvPr id="256" name="流程图: 终止 279"/>
                  <p:cNvSpPr/>
                  <p:nvPr/>
                </p:nvSpPr>
                <p:spPr>
                  <a:xfrm flipV="1" rot="12600000">
                    <a:off x="5796360" y="62640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流程图: 终止 280"/>
                  <p:cNvSpPr/>
                  <p:nvPr/>
                </p:nvSpPr>
                <p:spPr>
                  <a:xfrm flipV="1" rot="12600000">
                    <a:off x="5765760" y="67212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任意多边形 281"/>
                  <p:cNvSpPr/>
                  <p:nvPr/>
                </p:nvSpPr>
                <p:spPr>
                  <a:xfrm flipV="1" rot="12600000">
                    <a:off x="5794200" y="58824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9" name="组合 91"/>
              <p:cNvGrpSpPr/>
              <p:nvPr/>
            </p:nvGrpSpPr>
            <p:grpSpPr>
              <a:xfrm>
                <a:off x="5642280" y="687600"/>
                <a:ext cx="256680" cy="42840"/>
                <a:chOff x="5642280" y="687600"/>
                <a:chExt cx="256680" cy="42840"/>
              </a:xfrm>
            </p:grpSpPr>
            <p:grpSp>
              <p:nvGrpSpPr>
                <p:cNvPr id="260" name="组合 83"/>
                <p:cNvGrpSpPr/>
                <p:nvPr/>
              </p:nvGrpSpPr>
              <p:grpSpPr>
                <a:xfrm>
                  <a:off x="5764680" y="687600"/>
                  <a:ext cx="134280" cy="42840"/>
                  <a:chOff x="5764680" y="687600"/>
                  <a:chExt cx="134280" cy="42840"/>
                </a:xfrm>
              </p:grpSpPr>
              <p:sp>
                <p:nvSpPr>
                  <p:cNvPr id="261" name="流程图: 终止 4"/>
                  <p:cNvSpPr/>
                  <p:nvPr/>
                </p:nvSpPr>
                <p:spPr>
                  <a:xfrm rot="5400000">
                    <a:off x="583632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流程图: 终止 275"/>
                  <p:cNvSpPr/>
                  <p:nvPr/>
                </p:nvSpPr>
                <p:spPr>
                  <a:xfrm rot="5400000">
                    <a:off x="5815800" y="7009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任意多边形 276"/>
                  <p:cNvSpPr/>
                  <p:nvPr/>
                </p:nvSpPr>
                <p:spPr>
                  <a:xfrm rot="5400000">
                    <a:off x="5826600" y="6350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组合 84"/>
                <p:cNvGrpSpPr/>
                <p:nvPr/>
              </p:nvGrpSpPr>
              <p:grpSpPr>
                <a:xfrm>
                  <a:off x="5642280" y="687600"/>
                  <a:ext cx="134280" cy="42840"/>
                  <a:chOff x="5642280" y="687600"/>
                  <a:chExt cx="134280" cy="42840"/>
                </a:xfrm>
              </p:grpSpPr>
              <p:sp>
                <p:nvSpPr>
                  <p:cNvPr id="265" name="流程图: 终止 271"/>
                  <p:cNvSpPr/>
                  <p:nvPr/>
                </p:nvSpPr>
                <p:spPr>
                  <a:xfrm flipV="1" rot="5400000">
                    <a:off x="566604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流程图: 终止 272"/>
                  <p:cNvSpPr/>
                  <p:nvPr/>
                </p:nvSpPr>
                <p:spPr>
                  <a:xfrm flipV="1" rot="5400000">
                    <a:off x="5726520" y="70092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任意多边形 273"/>
                  <p:cNvSpPr/>
                  <p:nvPr/>
                </p:nvSpPr>
                <p:spPr>
                  <a:xfrm flipV="1" rot="5400000">
                    <a:off x="5704200" y="63468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六边形 268"/>
              <p:cNvSpPr/>
              <p:nvPr/>
            </p:nvSpPr>
            <p:spPr>
              <a:xfrm rot="10800000">
                <a:off x="5743440" y="68256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组合 67"/>
            <p:cNvGrpSpPr/>
            <p:nvPr/>
          </p:nvGrpSpPr>
          <p:grpSpPr>
            <a:xfrm>
              <a:off x="1465200" y="516600"/>
              <a:ext cx="3962160" cy="772560"/>
              <a:chOff x="1465200" y="516600"/>
              <a:chExt cx="3962160" cy="772560"/>
            </a:xfrm>
          </p:grpSpPr>
          <p:grpSp>
            <p:nvGrpSpPr>
              <p:cNvPr id="270" name="组合 139"/>
              <p:cNvGrpSpPr/>
              <p:nvPr/>
            </p:nvGrpSpPr>
            <p:grpSpPr>
              <a:xfrm>
                <a:off x="1465200" y="536760"/>
                <a:ext cx="1103760" cy="496800"/>
                <a:chOff x="1465200" y="536760"/>
                <a:chExt cx="1103760" cy="496800"/>
              </a:xfrm>
            </p:grpSpPr>
            <p:sp>
              <p:nvSpPr>
                <p:cNvPr id="271" name="任意多边形 258"/>
                <p:cNvSpPr/>
                <p:nvPr/>
              </p:nvSpPr>
              <p:spPr>
                <a:xfrm rot="14400000">
                  <a:off x="1609560" y="59976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任意多边形 259"/>
                <p:cNvSpPr/>
                <p:nvPr/>
              </p:nvSpPr>
              <p:spPr>
                <a:xfrm rot="14400000">
                  <a:off x="1578960" y="49428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任意多边形 260"/>
                <p:cNvSpPr/>
                <p:nvPr/>
              </p:nvSpPr>
              <p:spPr>
                <a:xfrm rot="7200000">
                  <a:off x="2291400" y="60084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任意多边形 261"/>
                <p:cNvSpPr/>
                <p:nvPr/>
              </p:nvSpPr>
              <p:spPr>
                <a:xfrm rot="7200000">
                  <a:off x="2375640" y="49248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流程图: 终止 262"/>
                <p:cNvSpPr/>
                <p:nvPr/>
              </p:nvSpPr>
              <p:spPr>
                <a:xfrm flipV="1">
                  <a:off x="1927440" y="78588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任意多边形 263"/>
                <p:cNvSpPr/>
                <p:nvPr/>
              </p:nvSpPr>
              <p:spPr>
                <a:xfrm flipV="1">
                  <a:off x="1914840" y="60228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任意多边形 264"/>
                <p:cNvSpPr/>
                <p:nvPr/>
              </p:nvSpPr>
              <p:spPr>
                <a:xfrm flipV="1">
                  <a:off x="1976760" y="60300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任意多边形 254"/>
              <p:cNvSpPr/>
              <p:nvPr/>
            </p:nvSpPr>
            <p:spPr>
              <a:xfrm rot="6112800">
                <a:off x="3524400" y="64836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任意多边形 255"/>
              <p:cNvSpPr/>
              <p:nvPr/>
            </p:nvSpPr>
            <p:spPr>
              <a:xfrm flipH="1" rot="14175600">
                <a:off x="4548600" y="64368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任意多边形 256"/>
              <p:cNvSpPr/>
              <p:nvPr/>
            </p:nvSpPr>
            <p:spPr>
              <a:xfrm>
                <a:off x="4141440" y="59184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任意多边形 257"/>
              <p:cNvSpPr/>
              <p:nvPr/>
            </p:nvSpPr>
            <p:spPr>
              <a:xfrm>
                <a:off x="5141880" y="60804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任意多边形 250"/>
            <p:cNvSpPr/>
            <p:nvPr/>
          </p:nvSpPr>
          <p:spPr>
            <a:xfrm flipV="1" rot="5400000">
              <a:off x="2203920" y="409320"/>
              <a:ext cx="2489400" cy="478944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58"/>
            <p:cNvSpPr/>
            <p:nvPr/>
          </p:nvSpPr>
          <p:spPr>
            <a:xfrm>
              <a:off x="1055520" y="1554120"/>
              <a:ext cx="698328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252"/>
            <p:cNvSpPr/>
            <p:nvPr/>
          </p:nvSpPr>
          <p:spPr>
            <a:xfrm>
              <a:off x="1060560" y="927000"/>
              <a:ext cx="6981840" cy="73188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图片 321" descr="北洋大学堂.png"/>
          <p:cNvPicPr/>
          <p:nvPr/>
        </p:nvPicPr>
        <p:blipFill>
          <a:blip r:embed="rId3"/>
          <a:stretch/>
        </p:blipFill>
        <p:spPr>
          <a:xfrm>
            <a:off x="5027760" y="2128680"/>
            <a:ext cx="3058920" cy="24480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46"/>
          <p:cNvSpPr/>
          <p:nvPr/>
        </p:nvSpPr>
        <p:spPr>
          <a:xfrm>
            <a:off x="1357200" y="1857240"/>
            <a:ext cx="1285920" cy="1714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71"/>
          <p:cNvSpPr/>
          <p:nvPr/>
        </p:nvSpPr>
        <p:spPr>
          <a:xfrm>
            <a:off x="2928960" y="2071800"/>
            <a:ext cx="4071960" cy="1455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  名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u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  科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师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  期：二零一六年五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xit" presetID="19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3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37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39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41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57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0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0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1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1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1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2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2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2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640" name="矩形 42"/>
          <p:cNvSpPr/>
          <p:nvPr/>
        </p:nvSpPr>
        <p:spPr>
          <a:xfrm>
            <a:off x="3301560" y="110016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2 Walter Benjamin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Pur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6"/>
          <p:cNvSpPr/>
          <p:nvPr/>
        </p:nvSpPr>
        <p:spPr>
          <a:xfrm>
            <a:off x="2643120" y="1881360"/>
            <a:ext cx="3786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 singl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n attain by itsel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ut be realized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y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total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of their inten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ementing each othe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组合 65"/>
          <p:cNvGrpSpPr/>
          <p:nvPr/>
        </p:nvGrpSpPr>
        <p:grpSpPr>
          <a:xfrm>
            <a:off x="6370920" y="1464120"/>
            <a:ext cx="1672200" cy="2689200"/>
            <a:chOff x="6370920" y="1464120"/>
            <a:chExt cx="1672200" cy="2689200"/>
          </a:xfrm>
        </p:grpSpPr>
        <p:grpSp>
          <p:nvGrpSpPr>
            <p:cNvPr id="643" name="组合 43"/>
            <p:cNvGrpSpPr/>
            <p:nvPr/>
          </p:nvGrpSpPr>
          <p:grpSpPr>
            <a:xfrm>
              <a:off x="6429240" y="1464120"/>
              <a:ext cx="1496880" cy="2689200"/>
              <a:chOff x="6429240" y="1464120"/>
              <a:chExt cx="1496880" cy="2689200"/>
            </a:xfrm>
          </p:grpSpPr>
          <p:sp>
            <p:nvSpPr>
              <p:cNvPr id="644" name="任意多边形 44"/>
              <p:cNvSpPr/>
              <p:nvPr/>
            </p:nvSpPr>
            <p:spPr>
              <a:xfrm rot="15516600">
                <a:off x="7380720" y="2601360"/>
                <a:ext cx="449280" cy="563760"/>
              </a:xfrm>
              <a:custGeom>
                <a:avLst/>
                <a:gdLst/>
                <a:ahLst/>
                <a:rect l="l" t="t" r="r" b="b"/>
                <a:pathLst>
                  <a:path w="1253975" h="1023408">
                    <a:moveTo>
                      <a:pt x="0" y="1000132"/>
                    </a:moveTo>
                    <a:lnTo>
                      <a:pt x="250033" y="0"/>
                    </a:lnTo>
                    <a:lnTo>
                      <a:pt x="1253975" y="102709"/>
                    </a:lnTo>
                    <a:lnTo>
                      <a:pt x="1049332" y="938164"/>
                    </a:lnTo>
                    <a:cubicBezTo>
                      <a:pt x="931039" y="954932"/>
                      <a:pt x="719016" y="1002752"/>
                      <a:pt x="544127" y="1013080"/>
                    </a:cubicBezTo>
                    <a:cubicBezTo>
                      <a:pt x="369238" y="1023408"/>
                      <a:pt x="145303" y="1003479"/>
                      <a:pt x="0" y="1000132"/>
                    </a:cubicBez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 45"/>
              <p:cNvSpPr/>
              <p:nvPr/>
            </p:nvSpPr>
            <p:spPr>
              <a:xfrm rot="15105600">
                <a:off x="6776280" y="2811600"/>
                <a:ext cx="522000" cy="781560"/>
              </a:xfrm>
              <a:custGeom>
                <a:avLst/>
                <a:gdLst/>
                <a:ahLst/>
                <a:rect l="l" t="t" r="r" b="b"/>
                <a:pathLst>
                  <a:path w="1090754" h="1289742">
                    <a:moveTo>
                      <a:pt x="26334" y="1289742"/>
                    </a:moveTo>
                    <a:lnTo>
                      <a:pt x="-1" y="0"/>
                    </a:lnTo>
                    <a:lnTo>
                      <a:pt x="1090754" y="520393"/>
                    </a:lnTo>
                    <a:lnTo>
                      <a:pt x="589389" y="1199358"/>
                    </a:lnTo>
                    <a:lnTo>
                      <a:pt x="26334" y="1289742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 46"/>
              <p:cNvSpPr/>
              <p:nvPr/>
            </p:nvSpPr>
            <p:spPr>
              <a:xfrm rot="21438600">
                <a:off x="7336440" y="2284560"/>
                <a:ext cx="563760" cy="780840"/>
              </a:xfrm>
              <a:custGeom>
                <a:avLst/>
                <a:gdLst/>
                <a:ahLst/>
                <a:rect l="l" t="t" r="r" b="b"/>
                <a:pathLst>
                  <a:path w="880891" h="1222247">
                    <a:moveTo>
                      <a:pt x="0" y="0"/>
                    </a:moveTo>
                    <a:lnTo>
                      <a:pt x="302209" y="178"/>
                    </a:lnTo>
                    <a:cubicBezTo>
                      <a:pt x="339850" y="114039"/>
                      <a:pt x="593999" y="362990"/>
                      <a:pt x="690446" y="566668"/>
                    </a:cubicBezTo>
                    <a:cubicBezTo>
                      <a:pt x="770946" y="714004"/>
                      <a:pt x="784948" y="747793"/>
                      <a:pt x="816689" y="857056"/>
                    </a:cubicBezTo>
                    <a:cubicBezTo>
                      <a:pt x="848430" y="966319"/>
                      <a:pt x="859161" y="1066278"/>
                      <a:pt x="880891" y="1222247"/>
                    </a:cubicBezTo>
                    <a:lnTo>
                      <a:pt x="0" y="12144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47"/>
              <p:cNvSpPr/>
              <p:nvPr/>
            </p:nvSpPr>
            <p:spPr>
              <a:xfrm>
                <a:off x="6732720" y="1917720"/>
                <a:ext cx="582840" cy="612720"/>
              </a:xfrm>
              <a:custGeom>
                <a:avLst/>
                <a:gdLst/>
                <a:ahLst/>
                <a:rect l="l" t="t" r="r" b="b"/>
                <a:pathLst>
                  <a:path w="913618" h="958051">
                    <a:moveTo>
                      <a:pt x="0" y="773901"/>
                    </a:moveTo>
                    <a:lnTo>
                      <a:pt x="234950" y="958051"/>
                    </a:lnTo>
                    <a:lnTo>
                      <a:pt x="913618" y="593721"/>
                    </a:lnTo>
                    <a:lnTo>
                      <a:pt x="261954" y="0"/>
                    </a:lnTo>
                    <a:cubicBezTo>
                      <a:pt x="276258" y="78587"/>
                      <a:pt x="284197" y="259164"/>
                      <a:pt x="266700" y="335751"/>
                    </a:cubicBezTo>
                    <a:cubicBezTo>
                      <a:pt x="250690" y="418168"/>
                      <a:pt x="241317" y="440529"/>
                      <a:pt x="196867" y="513554"/>
                    </a:cubicBezTo>
                    <a:cubicBezTo>
                      <a:pt x="152417" y="586579"/>
                      <a:pt x="107589" y="679976"/>
                      <a:pt x="0" y="773901"/>
                    </a:cubicBez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48"/>
              <p:cNvSpPr/>
              <p:nvPr/>
            </p:nvSpPr>
            <p:spPr>
              <a:xfrm rot="2539200">
                <a:off x="7035840" y="1571760"/>
                <a:ext cx="559080" cy="617400"/>
              </a:xfrm>
              <a:custGeom>
                <a:avLst/>
                <a:gdLst/>
                <a:ahLst/>
                <a:rect l="l" t="t" r="r" b="b"/>
                <a:pathLst>
                  <a:path w="791326" h="873626">
                    <a:moveTo>
                      <a:pt x="0" y="290788"/>
                    </a:moveTo>
                    <a:cubicBezTo>
                      <a:pt x="63583" y="204790"/>
                      <a:pt x="262975" y="83686"/>
                      <a:pt x="356671" y="49472"/>
                    </a:cubicBezTo>
                    <a:cubicBezTo>
                      <a:pt x="436557" y="6485"/>
                      <a:pt x="478836" y="0"/>
                      <a:pt x="513086" y="6005"/>
                    </a:cubicBezTo>
                    <a:cubicBezTo>
                      <a:pt x="547336" y="12010"/>
                      <a:pt x="552376" y="32479"/>
                      <a:pt x="562174" y="85501"/>
                    </a:cubicBezTo>
                    <a:cubicBezTo>
                      <a:pt x="547685" y="169382"/>
                      <a:pt x="533680" y="192782"/>
                      <a:pt x="571872" y="324136"/>
                    </a:cubicBezTo>
                    <a:cubicBezTo>
                      <a:pt x="579420" y="372901"/>
                      <a:pt x="635483" y="489658"/>
                      <a:pt x="727427" y="548284"/>
                    </a:cubicBezTo>
                    <a:lnTo>
                      <a:pt x="791326" y="873626"/>
                    </a:lnTo>
                    <a:lnTo>
                      <a:pt x="5508" y="873626"/>
                    </a:lnTo>
                    <a:lnTo>
                      <a:pt x="0" y="29078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49"/>
              <p:cNvSpPr/>
              <p:nvPr/>
            </p:nvSpPr>
            <p:spPr>
              <a:xfrm rot="1435800">
                <a:off x="6640200" y="3674880"/>
                <a:ext cx="606960" cy="371160"/>
              </a:xfrm>
              <a:custGeom>
                <a:avLst/>
                <a:gdLst/>
                <a:ahLst/>
                <a:rect l="l" t="t" r="r" b="b"/>
                <a:pathLst>
                  <a:path w="1078360" h="717771">
                    <a:moveTo>
                      <a:pt x="6790" y="0"/>
                    </a:moveTo>
                    <a:lnTo>
                      <a:pt x="1078360" y="0"/>
                    </a:lnTo>
                    <a:lnTo>
                      <a:pt x="1065304" y="551654"/>
                    </a:lnTo>
                    <a:cubicBezTo>
                      <a:pt x="893552" y="629296"/>
                      <a:pt x="598263" y="717771"/>
                      <a:pt x="487768" y="709449"/>
                    </a:cubicBezTo>
                    <a:cubicBezTo>
                      <a:pt x="385476" y="716069"/>
                      <a:pt x="355663" y="701830"/>
                      <a:pt x="335380" y="646601"/>
                    </a:cubicBezTo>
                    <a:cubicBezTo>
                      <a:pt x="329127" y="575850"/>
                      <a:pt x="405258" y="585609"/>
                      <a:pt x="403163" y="510973"/>
                    </a:cubicBezTo>
                    <a:cubicBezTo>
                      <a:pt x="378638" y="475080"/>
                      <a:pt x="265302" y="480431"/>
                      <a:pt x="198108" y="455454"/>
                    </a:cubicBezTo>
                    <a:cubicBezTo>
                      <a:pt x="130914" y="430477"/>
                      <a:pt x="49475" y="407534"/>
                      <a:pt x="0" y="361110"/>
                    </a:cubicBezTo>
                    <a:lnTo>
                      <a:pt x="6790" y="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50"/>
              <p:cNvSpPr/>
              <p:nvPr/>
            </p:nvSpPr>
            <p:spPr>
              <a:xfrm rot="853200">
                <a:off x="7229520" y="3221280"/>
                <a:ext cx="586080" cy="649080"/>
              </a:xfrm>
              <a:custGeom>
                <a:avLst/>
                <a:gdLst/>
                <a:ahLst/>
                <a:rect l="l" t="t" r="r" b="b"/>
                <a:pathLst>
                  <a:path w="1533907" h="1571631">
                    <a:moveTo>
                      <a:pt x="0" y="600310"/>
                    </a:moveTo>
                    <a:lnTo>
                      <a:pt x="896545" y="0"/>
                    </a:lnTo>
                    <a:lnTo>
                      <a:pt x="1533906" y="420489"/>
                    </a:lnTo>
                    <a:lnTo>
                      <a:pt x="1442924" y="747997"/>
                    </a:lnTo>
                    <a:cubicBezTo>
                      <a:pt x="1409934" y="892357"/>
                      <a:pt x="1312411" y="1101191"/>
                      <a:pt x="1199325" y="1283322"/>
                    </a:cubicBezTo>
                    <a:cubicBezTo>
                      <a:pt x="1117137" y="1394942"/>
                      <a:pt x="1113997" y="1450093"/>
                      <a:pt x="970929" y="1564599"/>
                    </a:cubicBezTo>
                    <a:lnTo>
                      <a:pt x="342448" y="1571631"/>
                    </a:lnTo>
                    <a:lnTo>
                      <a:pt x="0" y="60031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51"/>
              <p:cNvSpPr/>
              <p:nvPr/>
            </p:nvSpPr>
            <p:spPr>
              <a:xfrm>
                <a:off x="6430680" y="2657520"/>
                <a:ext cx="454320" cy="919080"/>
              </a:xfrm>
              <a:custGeom>
                <a:avLst/>
                <a:gdLst/>
                <a:ahLst/>
                <a:rect l="l" t="t" r="r" b="b"/>
                <a:pathLst>
                  <a:path w="712946" h="1438252">
                    <a:moveTo>
                      <a:pt x="103363" y="1219198"/>
                    </a:moveTo>
                    <a:cubicBezTo>
                      <a:pt x="27188" y="1041386"/>
                      <a:pt x="0" y="693729"/>
                      <a:pt x="17659" y="490529"/>
                    </a:cubicBezTo>
                    <a:cubicBezTo>
                      <a:pt x="35318" y="287329"/>
                      <a:pt x="152189" y="59727"/>
                      <a:pt x="209315" y="0"/>
                    </a:cubicBezTo>
                    <a:lnTo>
                      <a:pt x="712946" y="503631"/>
                    </a:lnTo>
                    <a:lnTo>
                      <a:pt x="498687" y="1438252"/>
                    </a:lnTo>
                    <a:lnTo>
                      <a:pt x="103363" y="121919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52"/>
              <p:cNvSpPr/>
              <p:nvPr/>
            </p:nvSpPr>
            <p:spPr>
              <a:xfrm>
                <a:off x="6429240" y="1611360"/>
                <a:ext cx="1490040" cy="2460600"/>
              </a:xfrm>
              <a:custGeom>
                <a:avLst/>
                <a:gdLst/>
                <a:ahLst/>
                <a:rect l="l" t="t" r="r" b="b"/>
                <a:pathLst>
                  <a:path w="2332037" h="3851275">
                    <a:moveTo>
                      <a:pt x="4762" y="2330450"/>
                    </a:moveTo>
                    <a:cubicBezTo>
                      <a:pt x="1587" y="2232025"/>
                      <a:pt x="0" y="2139950"/>
                      <a:pt x="23812" y="2035175"/>
                    </a:cubicBezTo>
                    <a:cubicBezTo>
                      <a:pt x="47625" y="1930400"/>
                      <a:pt x="82549" y="1819275"/>
                      <a:pt x="147637" y="1701800"/>
                    </a:cubicBezTo>
                    <a:cubicBezTo>
                      <a:pt x="212725" y="1584325"/>
                      <a:pt x="334962" y="1433512"/>
                      <a:pt x="414337" y="1330325"/>
                    </a:cubicBezTo>
                    <a:cubicBezTo>
                      <a:pt x="493712" y="1227138"/>
                      <a:pt x="569912" y="1165225"/>
                      <a:pt x="623887" y="1082675"/>
                    </a:cubicBezTo>
                    <a:cubicBezTo>
                      <a:pt x="677862" y="1000125"/>
                      <a:pt x="717549" y="909638"/>
                      <a:pt x="738187" y="835025"/>
                    </a:cubicBezTo>
                    <a:cubicBezTo>
                      <a:pt x="758825" y="760412"/>
                      <a:pt x="747712" y="692150"/>
                      <a:pt x="747712" y="635000"/>
                    </a:cubicBezTo>
                    <a:cubicBezTo>
                      <a:pt x="747712" y="577850"/>
                      <a:pt x="752474" y="539750"/>
                      <a:pt x="738187" y="492125"/>
                    </a:cubicBezTo>
                    <a:cubicBezTo>
                      <a:pt x="723900" y="444500"/>
                      <a:pt x="693737" y="388938"/>
                      <a:pt x="661987" y="349250"/>
                    </a:cubicBezTo>
                    <a:cubicBezTo>
                      <a:pt x="630237" y="309563"/>
                      <a:pt x="573087" y="276225"/>
                      <a:pt x="547687" y="254000"/>
                    </a:cubicBezTo>
                    <a:cubicBezTo>
                      <a:pt x="522287" y="231775"/>
                      <a:pt x="514349" y="231775"/>
                      <a:pt x="509587" y="215900"/>
                    </a:cubicBezTo>
                    <a:cubicBezTo>
                      <a:pt x="504825" y="200025"/>
                      <a:pt x="493712" y="182563"/>
                      <a:pt x="519112" y="158750"/>
                    </a:cubicBezTo>
                    <a:cubicBezTo>
                      <a:pt x="544512" y="134938"/>
                      <a:pt x="595312" y="95250"/>
                      <a:pt x="661987" y="73025"/>
                    </a:cubicBezTo>
                    <a:cubicBezTo>
                      <a:pt x="728662" y="50800"/>
                      <a:pt x="795337" y="34925"/>
                      <a:pt x="919162" y="25400"/>
                    </a:cubicBezTo>
                    <a:cubicBezTo>
                      <a:pt x="1042987" y="15875"/>
                      <a:pt x="1263650" y="0"/>
                      <a:pt x="1404937" y="15875"/>
                    </a:cubicBezTo>
                    <a:cubicBezTo>
                      <a:pt x="1546224" y="31750"/>
                      <a:pt x="1698359" y="85720"/>
                      <a:pt x="1766887" y="120650"/>
                    </a:cubicBezTo>
                    <a:cubicBezTo>
                      <a:pt x="1835415" y="155580"/>
                      <a:pt x="1821396" y="196880"/>
                      <a:pt x="1816104" y="225455"/>
                    </a:cubicBezTo>
                    <a:cubicBezTo>
                      <a:pt x="1810814" y="220707"/>
                      <a:pt x="1760802" y="268293"/>
                      <a:pt x="1735137" y="292100"/>
                    </a:cubicBezTo>
                    <a:cubicBezTo>
                      <a:pt x="1709472" y="315908"/>
                      <a:pt x="1690158" y="323850"/>
                      <a:pt x="1662112" y="368300"/>
                    </a:cubicBezTo>
                    <a:cubicBezTo>
                      <a:pt x="1634066" y="412750"/>
                      <a:pt x="1577974" y="482600"/>
                      <a:pt x="1566862" y="558800"/>
                    </a:cubicBezTo>
                    <a:cubicBezTo>
                      <a:pt x="1555750" y="635000"/>
                      <a:pt x="1568450" y="730250"/>
                      <a:pt x="1595437" y="825500"/>
                    </a:cubicBezTo>
                    <a:cubicBezTo>
                      <a:pt x="1622425" y="920750"/>
                      <a:pt x="1658937" y="1025525"/>
                      <a:pt x="1728787" y="1130300"/>
                    </a:cubicBezTo>
                    <a:cubicBezTo>
                      <a:pt x="1798637" y="1235075"/>
                      <a:pt x="1936750" y="1346200"/>
                      <a:pt x="2014537" y="1454150"/>
                    </a:cubicBezTo>
                    <a:cubicBezTo>
                      <a:pt x="2092325" y="1562100"/>
                      <a:pt x="2152650" y="1690688"/>
                      <a:pt x="2195512" y="1778000"/>
                    </a:cubicBezTo>
                    <a:cubicBezTo>
                      <a:pt x="2238374" y="1865312"/>
                      <a:pt x="2249487" y="1881187"/>
                      <a:pt x="2271712" y="1978025"/>
                    </a:cubicBezTo>
                    <a:cubicBezTo>
                      <a:pt x="2293937" y="2074863"/>
                      <a:pt x="2332037" y="2220913"/>
                      <a:pt x="2328862" y="2359025"/>
                    </a:cubicBezTo>
                    <a:cubicBezTo>
                      <a:pt x="2325687" y="2497137"/>
                      <a:pt x="2295525" y="2671763"/>
                      <a:pt x="2252662" y="2806700"/>
                    </a:cubicBezTo>
                    <a:cubicBezTo>
                      <a:pt x="2209800" y="2941638"/>
                      <a:pt x="2143125" y="3059113"/>
                      <a:pt x="2071687" y="3168650"/>
                    </a:cubicBezTo>
                    <a:cubicBezTo>
                      <a:pt x="2000250" y="3278188"/>
                      <a:pt x="1887537" y="3400425"/>
                      <a:pt x="1824037" y="3463925"/>
                    </a:cubicBezTo>
                    <a:cubicBezTo>
                      <a:pt x="1760537" y="3527425"/>
                      <a:pt x="1751547" y="3516826"/>
                      <a:pt x="1690687" y="3549650"/>
                    </a:cubicBezTo>
                    <a:cubicBezTo>
                      <a:pt x="1683813" y="3568153"/>
                      <a:pt x="1773237" y="3625850"/>
                      <a:pt x="1773237" y="3660775"/>
                    </a:cubicBezTo>
                    <a:cubicBezTo>
                      <a:pt x="1773237" y="3695700"/>
                      <a:pt x="1783820" y="3728508"/>
                      <a:pt x="1690687" y="3759200"/>
                    </a:cubicBezTo>
                    <a:cubicBezTo>
                      <a:pt x="1597554" y="3789892"/>
                      <a:pt x="1365249" y="3838575"/>
                      <a:pt x="1214437" y="3844925"/>
                    </a:cubicBezTo>
                    <a:cubicBezTo>
                      <a:pt x="1063625" y="3851275"/>
                      <a:pt x="890850" y="3817410"/>
                      <a:pt x="785812" y="3797300"/>
                    </a:cubicBezTo>
                    <a:cubicBezTo>
                      <a:pt x="680774" y="3777190"/>
                      <a:pt x="622572" y="3750989"/>
                      <a:pt x="584209" y="3724265"/>
                    </a:cubicBezTo>
                    <a:cubicBezTo>
                      <a:pt x="545846" y="3697541"/>
                      <a:pt x="547433" y="3662882"/>
                      <a:pt x="555635" y="3636953"/>
                    </a:cubicBezTo>
                    <a:cubicBezTo>
                      <a:pt x="605123" y="3604665"/>
                      <a:pt x="633169" y="3621332"/>
                      <a:pt x="633422" y="3568691"/>
                    </a:cubicBezTo>
                    <a:cubicBezTo>
                      <a:pt x="614635" y="3531916"/>
                      <a:pt x="501651" y="3476623"/>
                      <a:pt x="442912" y="3416300"/>
                    </a:cubicBezTo>
                    <a:cubicBezTo>
                      <a:pt x="384173" y="3355977"/>
                      <a:pt x="330200" y="3278188"/>
                      <a:pt x="280987" y="3206750"/>
                    </a:cubicBezTo>
                    <a:cubicBezTo>
                      <a:pt x="231775" y="3135313"/>
                      <a:pt x="187324" y="3084512"/>
                      <a:pt x="147637" y="2987675"/>
                    </a:cubicBezTo>
                    <a:cubicBezTo>
                      <a:pt x="107950" y="2890838"/>
                      <a:pt x="68262" y="2740025"/>
                      <a:pt x="42862" y="2625725"/>
                    </a:cubicBezTo>
                    <a:cubicBezTo>
                      <a:pt x="17462" y="2511425"/>
                      <a:pt x="7937" y="2428875"/>
                      <a:pt x="4762" y="2330450"/>
                    </a:cubicBezTo>
                    <a:close/>
                  </a:path>
                </a:pathLst>
              </a:custGeom>
              <a:noFill/>
              <a:ln w="1908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53"/>
              <p:cNvSpPr/>
              <p:nvPr/>
            </p:nvSpPr>
            <p:spPr>
              <a:xfrm rot="5400000">
                <a:off x="6844680" y="2561040"/>
                <a:ext cx="556920" cy="486000"/>
              </a:xfrm>
              <a:custGeom>
                <a:avLst/>
                <a:gdLst/>
                <a:ahLst/>
                <a:rect l="l" t="t" r="r" b="b"/>
                <a:pathLst>
                  <a:path w="1483349" h="760456">
                    <a:moveTo>
                      <a:pt x="1214446" y="760456"/>
                    </a:moveTo>
                    <a:lnTo>
                      <a:pt x="1483349" y="0"/>
                    </a:lnTo>
                    <a:lnTo>
                      <a:pt x="0" y="760456"/>
                    </a:lnTo>
                    <a:lnTo>
                      <a:pt x="1214446" y="760456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任意多边形 54"/>
              <p:cNvSpPr/>
              <p:nvPr/>
            </p:nvSpPr>
            <p:spPr>
              <a:xfrm>
                <a:off x="7350480" y="3059280"/>
                <a:ext cx="320760" cy="252360"/>
              </a:xfrm>
              <a:custGeom>
                <a:avLst/>
                <a:gdLst/>
                <a:ahLst/>
                <a:rect l="l" t="t" r="r" b="b"/>
                <a:pathLst>
                  <a:path w="501650" h="393700">
                    <a:moveTo>
                      <a:pt x="469900" y="285750"/>
                    </a:moveTo>
                    <a:lnTo>
                      <a:pt x="501650" y="0"/>
                    </a:lnTo>
                    <a:lnTo>
                      <a:pt x="0" y="22225"/>
                    </a:lnTo>
                    <a:lnTo>
                      <a:pt x="203200" y="393700"/>
                    </a:lnTo>
                    <a:lnTo>
                      <a:pt x="469900" y="28575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直角三角形 55"/>
              <p:cNvSpPr/>
              <p:nvPr/>
            </p:nvSpPr>
            <p:spPr>
              <a:xfrm flipH="1">
                <a:off x="6868440" y="2290680"/>
                <a:ext cx="457560" cy="245880"/>
              </a:xfrm>
              <a:prstGeom prst="rtTriangl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TextBox 58"/>
            <p:cNvSpPr/>
            <p:nvPr/>
          </p:nvSpPr>
          <p:spPr>
            <a:xfrm rot="20496600">
              <a:off x="6787800" y="308412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59"/>
            <p:cNvSpPr/>
            <p:nvPr/>
          </p:nvSpPr>
          <p:spPr>
            <a:xfrm rot="4627800">
              <a:off x="6201720" y="298872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Englis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62"/>
            <p:cNvSpPr/>
            <p:nvPr/>
          </p:nvSpPr>
          <p:spPr>
            <a:xfrm>
              <a:off x="7120440" y="1571760"/>
              <a:ext cx="285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ffffff"/>
                  </a:solidFill>
                  <a:latin typeface="Calibri"/>
                  <a:ea typeface="Malgun Gothic"/>
                </a:rPr>
                <a:t>한국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63"/>
            <p:cNvSpPr/>
            <p:nvPr/>
          </p:nvSpPr>
          <p:spPr>
            <a:xfrm>
              <a:off x="7237440" y="2714760"/>
              <a:ext cx="80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18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عرب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64"/>
            <p:cNvSpPr/>
            <p:nvPr/>
          </p:nvSpPr>
          <p:spPr>
            <a:xfrm rot="21136200">
              <a:off x="6887880" y="3429000"/>
              <a:ext cx="80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</a:rPr>
                <a:t>Deu </a:t>
              </a:r>
              <a:r>
                <a:rPr b="0" lang="de-DE" sz="1400" spc="-1" strike="noStrike">
                  <a:solidFill>
                    <a:srgbClr val="ffffff"/>
                  </a:solidFill>
                  <a:latin typeface="Calibri"/>
                </a:rPr>
                <a:t>ts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TextBox 69"/>
          <p:cNvSpPr/>
          <p:nvPr/>
        </p:nvSpPr>
        <p:spPr>
          <a:xfrm>
            <a:off x="7572240" y="18572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70"/>
          <p:cNvSpPr/>
          <p:nvPr/>
        </p:nvSpPr>
        <p:spPr>
          <a:xfrm>
            <a:off x="7759800" y="2611440"/>
            <a:ext cx="649080" cy="1258920"/>
          </a:xfrm>
          <a:custGeom>
            <a:avLst/>
            <a:gdLst/>
            <a:ahLst/>
            <a:rect l="l" t="t" r="r" b="b"/>
            <a:pathLst>
              <a:path w="806116" h="1287379">
                <a:moveTo>
                  <a:pt x="0" y="1275347"/>
                </a:moveTo>
                <a:lnTo>
                  <a:pt x="806116" y="1287379"/>
                </a:lnTo>
                <a:lnTo>
                  <a:pt x="806116" y="1287379"/>
                </a:lnTo>
                <a:lnTo>
                  <a:pt x="806116" y="0"/>
                </a:lnTo>
              </a:path>
            </a:pathLst>
          </a:custGeom>
          <a:noFill/>
          <a:ln w="12600">
            <a:solidFill>
              <a:srgbClr val="0070c0"/>
            </a:solidFill>
            <a:prstDash val="lg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66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67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68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7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7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4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7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7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7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7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8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9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9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9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10" name="矩形 42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78"/>
          <p:cNvSpPr/>
          <p:nvPr/>
        </p:nvSpPr>
        <p:spPr>
          <a:xfrm>
            <a:off x="4721400" y="35719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79"/>
          <p:cNvSpPr/>
          <p:nvPr/>
        </p:nvSpPr>
        <p:spPr>
          <a:xfrm>
            <a:off x="2857680" y="2143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68" descr="C:\Users\Potter Yang\Desktop\图片1.png"/>
          <p:cNvPicPr/>
          <p:nvPr/>
        </p:nvPicPr>
        <p:blipFill>
          <a:blip r:embed="rId2"/>
          <a:stretch/>
        </p:blipFill>
        <p:spPr>
          <a:xfrm>
            <a:off x="3619440" y="2286000"/>
            <a:ext cx="952560" cy="1928880"/>
          </a:xfrm>
          <a:prstGeom prst="rect">
            <a:avLst/>
          </a:prstGeom>
          <a:ln w="0">
            <a:noFill/>
          </a:ln>
        </p:spPr>
      </p:pic>
      <p:sp>
        <p:nvSpPr>
          <p:cNvPr id="714" name="任意多边形 112"/>
          <p:cNvSpPr/>
          <p:nvPr/>
        </p:nvSpPr>
        <p:spPr>
          <a:xfrm flipH="1">
            <a:off x="417132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18"/>
          <p:cNvGrpSpPr/>
          <p:nvPr/>
        </p:nvGrpSpPr>
        <p:grpSpPr>
          <a:xfrm>
            <a:off x="6357960" y="2857680"/>
            <a:ext cx="785880" cy="792000"/>
            <a:chOff x="6357960" y="2857680"/>
            <a:chExt cx="785880" cy="792000"/>
          </a:xfrm>
        </p:grpSpPr>
        <p:sp>
          <p:nvSpPr>
            <p:cNvPr id="716" name="椭圆 115"/>
            <p:cNvSpPr/>
            <p:nvPr/>
          </p:nvSpPr>
          <p:spPr>
            <a:xfrm>
              <a:off x="6357960" y="3000240"/>
              <a:ext cx="25236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16"/>
            <p:cNvSpPr/>
            <p:nvPr/>
          </p:nvSpPr>
          <p:spPr>
            <a:xfrm>
              <a:off x="6584760" y="3252960"/>
              <a:ext cx="395280" cy="396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17"/>
            <p:cNvSpPr/>
            <p:nvPr/>
          </p:nvSpPr>
          <p:spPr>
            <a:xfrm>
              <a:off x="6819840" y="2857680"/>
              <a:ext cx="324000" cy="3236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Box 79"/>
          <p:cNvSpPr/>
          <p:nvPr/>
        </p:nvSpPr>
        <p:spPr>
          <a:xfrm>
            <a:off x="4741920" y="235728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’s B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任意多边形 139"/>
          <p:cNvSpPr/>
          <p:nvPr/>
        </p:nvSpPr>
        <p:spPr>
          <a:xfrm>
            <a:off x="585144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140"/>
          <p:cNvSpPr/>
          <p:nvPr/>
        </p:nvSpPr>
        <p:spPr>
          <a:xfrm>
            <a:off x="7033320" y="2290680"/>
            <a:ext cx="15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all-sha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i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69" descr="C:\Users\Potter Yang\Desktop\图片2.png"/>
          <p:cNvPicPr/>
          <p:nvPr/>
        </p:nvPicPr>
        <p:blipFill>
          <a:blip r:embed="rId3"/>
          <a:stretch/>
        </p:blipFill>
        <p:spPr>
          <a:xfrm>
            <a:off x="5135400" y="1844640"/>
            <a:ext cx="579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2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2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3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3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3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74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74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74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65" name="矩形 56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组合 67"/>
          <p:cNvGrpSpPr/>
          <p:nvPr/>
        </p:nvGrpSpPr>
        <p:grpSpPr>
          <a:xfrm>
            <a:off x="3214800" y="1801800"/>
            <a:ext cx="2198520" cy="2198880"/>
            <a:chOff x="3214800" y="1801800"/>
            <a:chExt cx="2198520" cy="2198880"/>
          </a:xfrm>
        </p:grpSpPr>
        <p:pic>
          <p:nvPicPr>
            <p:cNvPr id="767" name="Picture 3" descr="F:\软件教程\PPT\元素\自然+风景\海-jpg\海2.jpg"/>
            <p:cNvPicPr/>
            <p:nvPr/>
          </p:nvPicPr>
          <p:blipFill>
            <a:blip r:embed="rId2">
              <a:lum bright="10000"/>
            </a:blip>
            <a:srcRect l="12180" t="0" r="12180" b="0"/>
            <a:stretch/>
          </p:blipFill>
          <p:spPr>
            <a:xfrm>
              <a:off x="3214800" y="1801800"/>
              <a:ext cx="2198520" cy="21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直接连接符 65"/>
            <p:cNvSpPr/>
            <p:nvPr/>
          </p:nvSpPr>
          <p:spPr>
            <a:xfrm>
              <a:off x="3214800" y="2900520"/>
              <a:ext cx="2198520" cy="144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直接连接符 66"/>
            <p:cNvSpPr/>
            <p:nvPr/>
          </p:nvSpPr>
          <p:spPr>
            <a:xfrm flipV="1">
              <a:off x="4313160" y="1801800"/>
              <a:ext cx="1440" cy="21988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矩形 61"/>
          <p:cNvSpPr/>
          <p:nvPr/>
        </p:nvSpPr>
        <p:spPr>
          <a:xfrm>
            <a:off x="3214800" y="292896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60"/>
          <p:cNvSpPr/>
          <p:nvPr/>
        </p:nvSpPr>
        <p:spPr>
          <a:xfrm>
            <a:off x="434196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" descr="http://tupian.sucaitianxia.com/images/002/pic1748.jpg"/>
          <p:cNvPicPr/>
          <p:nvPr/>
        </p:nvPicPr>
        <p:blipFill>
          <a:blip r:embed="rId3"/>
          <a:srcRect l="0" t="6120" r="0" b="6120"/>
          <a:stretch/>
        </p:blipFill>
        <p:spPr>
          <a:xfrm>
            <a:off x="5443560" y="2901960"/>
            <a:ext cx="2198520" cy="1098720"/>
          </a:xfrm>
          <a:prstGeom prst="rect">
            <a:avLst/>
          </a:prstGeom>
          <a:ln w="0">
            <a:noFill/>
          </a:ln>
        </p:spPr>
      </p:pic>
      <p:sp>
        <p:nvSpPr>
          <p:cNvPr id="773" name="矩形 62"/>
          <p:cNvSpPr/>
          <p:nvPr/>
        </p:nvSpPr>
        <p:spPr>
          <a:xfrm>
            <a:off x="657072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70"/>
          <p:cNvSpPr/>
          <p:nvPr/>
        </p:nvSpPr>
        <p:spPr>
          <a:xfrm>
            <a:off x="5435640" y="1928880"/>
            <a:ext cx="10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 am 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组合 71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776" name="任意多边形 66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圆角矩形 65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8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8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80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80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71"/>
          <p:cNvSpPr/>
          <p:nvPr/>
        </p:nvSpPr>
        <p:spPr>
          <a:xfrm>
            <a:off x="3087720" y="1785960"/>
            <a:ext cx="495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kes the relationship between original text and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zes foreignness pre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a great destiny of restoring the ultimat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五角星 67"/>
          <p:cNvSpPr/>
          <p:nvPr/>
        </p:nvSpPr>
        <p:spPr>
          <a:xfrm>
            <a:off x="3160800" y="1811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五角星 68"/>
          <p:cNvSpPr/>
          <p:nvPr/>
        </p:nvSpPr>
        <p:spPr>
          <a:xfrm>
            <a:off x="3160800" y="2630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五角星 70"/>
          <p:cNvSpPr/>
          <p:nvPr/>
        </p:nvSpPr>
        <p:spPr>
          <a:xfrm>
            <a:off x="3160800" y="317664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24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827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30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33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36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49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854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864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868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“Invisibility” to “Visibility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5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5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5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5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5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8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73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76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79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82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95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99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00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910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nuti’s Translation Eth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914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Abusive Fidelity to Resistan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18" name="矩形 57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燕尾形 82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燕尾形 8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燕尾形 8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燕尾形 85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燕尾形 86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27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930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93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93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94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51"/>
          <p:cNvSpPr/>
          <p:nvPr/>
        </p:nvSpPr>
        <p:spPr>
          <a:xfrm>
            <a:off x="3243240" y="357120"/>
            <a:ext cx="47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“Invisibility” to “Visibil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05080" y="85716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953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954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55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71"/>
          <p:cNvGrpSpPr/>
          <p:nvPr/>
        </p:nvGrpSpPr>
        <p:grpSpPr>
          <a:xfrm>
            <a:off x="5601600" y="1221840"/>
            <a:ext cx="3075120" cy="2986920"/>
            <a:chOff x="5601600" y="1221840"/>
            <a:chExt cx="3075120" cy="2986920"/>
          </a:xfrm>
        </p:grpSpPr>
        <p:grpSp>
          <p:nvGrpSpPr>
            <p:cNvPr id="969" name="组合 20"/>
            <p:cNvGrpSpPr/>
            <p:nvPr/>
          </p:nvGrpSpPr>
          <p:grpSpPr>
            <a:xfrm>
              <a:off x="5671440" y="1221840"/>
              <a:ext cx="2801520" cy="2665080"/>
              <a:chOff x="5671440" y="1221840"/>
              <a:chExt cx="2801520" cy="2665080"/>
            </a:xfrm>
          </p:grpSpPr>
          <p:sp>
            <p:nvSpPr>
              <p:cNvPr id="970" name="直接连接符 55"/>
              <p:cNvSpPr/>
              <p:nvPr/>
            </p:nvSpPr>
            <p:spPr>
              <a:xfrm flipV="1">
                <a:off x="7072200" y="1221840"/>
                <a:ext cx="1440" cy="147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直接连接符 57"/>
              <p:cNvSpPr/>
              <p:nvPr/>
            </p:nvSpPr>
            <p:spPr>
              <a:xfrm flipV="1">
                <a:off x="70718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直接连接符 65"/>
              <p:cNvSpPr/>
              <p:nvPr/>
            </p:nvSpPr>
            <p:spPr>
              <a:xfrm>
                <a:off x="707256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直接连接符 67"/>
              <p:cNvSpPr/>
              <p:nvPr/>
            </p:nvSpPr>
            <p:spPr>
              <a:xfrm flipH="1">
                <a:off x="620568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直接连接符 68"/>
              <p:cNvSpPr/>
              <p:nvPr/>
            </p:nvSpPr>
            <p:spPr>
              <a:xfrm flipH="1" flipV="1">
                <a:off x="56714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组合 22"/>
            <p:cNvGrpSpPr/>
            <p:nvPr/>
          </p:nvGrpSpPr>
          <p:grpSpPr>
            <a:xfrm>
              <a:off x="6400800" y="1985760"/>
              <a:ext cx="1342800" cy="1279440"/>
              <a:chOff x="6400800" y="1985760"/>
              <a:chExt cx="1342800" cy="1279440"/>
            </a:xfrm>
          </p:grpSpPr>
          <p:sp>
            <p:nvSpPr>
              <p:cNvPr id="976" name="正五边形 53"/>
              <p:cNvSpPr/>
              <p:nvPr/>
            </p:nvSpPr>
            <p:spPr>
              <a:xfrm>
                <a:off x="6400800" y="1985760"/>
                <a:ext cx="1342800" cy="1279440"/>
              </a:xfrm>
              <a:prstGeom prst="pentagon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矩形 54"/>
              <p:cNvSpPr/>
              <p:nvPr/>
            </p:nvSpPr>
            <p:spPr>
              <a:xfrm>
                <a:off x="6576120" y="2474280"/>
                <a:ext cx="110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ransl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矩形 48"/>
            <p:cNvSpPr/>
            <p:nvPr/>
          </p:nvSpPr>
          <p:spPr>
            <a:xfrm>
              <a:off x="5894280" y="162540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conom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49"/>
            <p:cNvSpPr/>
            <p:nvPr/>
          </p:nvSpPr>
          <p:spPr>
            <a:xfrm>
              <a:off x="7242480" y="16254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stor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0"/>
            <p:cNvSpPr/>
            <p:nvPr/>
          </p:nvSpPr>
          <p:spPr>
            <a:xfrm>
              <a:off x="5601600" y="2793960"/>
              <a:ext cx="82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1"/>
            <p:cNvSpPr/>
            <p:nvPr/>
          </p:nvSpPr>
          <p:spPr>
            <a:xfrm>
              <a:off x="7653240" y="2793960"/>
              <a:ext cx="102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ransl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2"/>
            <p:cNvSpPr/>
            <p:nvPr/>
          </p:nvSpPr>
          <p:spPr>
            <a:xfrm>
              <a:off x="6306840" y="3384720"/>
              <a:ext cx="1519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ocial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ritics, editors, publish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TextBox 69"/>
          <p:cNvSpPr/>
          <p:nvPr/>
        </p:nvSpPr>
        <p:spPr>
          <a:xfrm>
            <a:off x="3000240" y="19875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70"/>
          <p:cNvSpPr/>
          <p:nvPr/>
        </p:nvSpPr>
        <p:spPr>
          <a:xfrm>
            <a:off x="3000240" y="16430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Georgia"/>
              </a:rPr>
              <a:t>Il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2"/>
          <p:cNvSpPr/>
          <p:nvPr/>
        </p:nvSpPr>
        <p:spPr>
          <a:xfrm flipH="1">
            <a:off x="3214080" y="31640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组合 80"/>
          <p:cNvGrpSpPr/>
          <p:nvPr/>
        </p:nvGrpSpPr>
        <p:grpSpPr>
          <a:xfrm>
            <a:off x="3214800" y="2914560"/>
            <a:ext cx="1000440" cy="857880"/>
            <a:chOff x="3214800" y="2914560"/>
            <a:chExt cx="1000440" cy="857880"/>
          </a:xfrm>
        </p:grpSpPr>
        <p:cxnSp>
          <p:nvCxnSpPr>
            <p:cNvPr id="987" name="直接箭头连接符 75"/>
            <p:cNvCxnSpPr/>
            <p:nvPr/>
          </p:nvCxnSpPr>
          <p:spPr>
            <a:xfrm>
              <a:off x="3214800" y="29145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88" name="直接箭头连接符 76"/>
            <p:cNvCxnSpPr/>
            <p:nvPr/>
          </p:nvCxnSpPr>
          <p:spPr>
            <a:xfrm>
              <a:off x="3214800" y="31287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89" name="直接箭头连接符 77"/>
            <p:cNvCxnSpPr/>
            <p:nvPr/>
          </p:nvCxnSpPr>
          <p:spPr>
            <a:xfrm>
              <a:off x="3214800" y="3341880"/>
              <a:ext cx="1000800" cy="360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90" name="直接箭头连接符 78"/>
            <p:cNvCxnSpPr/>
            <p:nvPr/>
          </p:nvCxnSpPr>
          <p:spPr>
            <a:xfrm>
              <a:off x="3214800" y="355608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91" name="直接箭头连接符 79"/>
            <p:cNvCxnSpPr/>
            <p:nvPr/>
          </p:nvCxnSpPr>
          <p:spPr>
            <a:xfrm>
              <a:off x="3214800" y="377064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250" autoRev="1" fill="hold"/>
                                        <p:tgtEl>
                                          <p:spTgt spid="9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5400000">
                                      <p:cBhvr>
                                        <p:cTn id="460" dur="3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-3.08642E-006 L 0.07604 -3.08642E-006 E">
                                      <p:cBhvr>
                                        <p:cTn id="462" dur="300" fill="hold"/>
                                        <p:tgtEl>
                                          <p:spTgt spid="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燕尾形 9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燕尾形 9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燕尾形 9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燕尾形 9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燕尾形 9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9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02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05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08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16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25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26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27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等腰三角形 71"/>
          <p:cNvSpPr/>
          <p:nvPr/>
        </p:nvSpPr>
        <p:spPr>
          <a:xfrm>
            <a:off x="3306600" y="1643040"/>
            <a:ext cx="1063800" cy="915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梯形 73"/>
          <p:cNvSpPr/>
          <p:nvPr/>
        </p:nvSpPr>
        <p:spPr>
          <a:xfrm>
            <a:off x="2928960" y="2565360"/>
            <a:ext cx="1819080" cy="649440"/>
          </a:xfrm>
          <a:custGeom>
            <a:avLst/>
            <a:gdLst/>
            <a:ahLst/>
            <a:rect l="l" t="t" r="r" b="b"/>
            <a:pathLst>
              <a:path w="1819275" h="649288">
                <a:moveTo>
                  <a:pt x="0" y="649288"/>
                </a:moveTo>
                <a:lnTo>
                  <a:pt x="373263" y="0"/>
                </a:lnTo>
                <a:lnTo>
                  <a:pt x="1446012" y="0"/>
                </a:lnTo>
                <a:lnTo>
                  <a:pt x="1819275" y="649288"/>
                </a:lnTo>
                <a:lnTo>
                  <a:pt x="0" y="649288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2" name="直接箭头连接符 84"/>
          <p:cNvCxnSpPr/>
          <p:nvPr/>
        </p:nvCxnSpPr>
        <p:spPr>
          <a:xfrm>
            <a:off x="4777920" y="2927520"/>
            <a:ext cx="108036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</a:ln>
        </p:spPr>
      </p:cxnSp>
      <p:sp>
        <p:nvSpPr>
          <p:cNvPr id="1043" name="直接连接符 86"/>
          <p:cNvSpPr/>
          <p:nvPr/>
        </p:nvSpPr>
        <p:spPr>
          <a:xfrm flipH="1">
            <a:off x="4273200" y="1998720"/>
            <a:ext cx="1584360" cy="1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7"/>
          <p:cNvSpPr/>
          <p:nvPr/>
        </p:nvSpPr>
        <p:spPr>
          <a:xfrm>
            <a:off x="6057000" y="17859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manif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8"/>
          <p:cNvSpPr/>
          <p:nvPr/>
        </p:nvSpPr>
        <p:spPr>
          <a:xfrm>
            <a:off x="6035760" y="27147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La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89"/>
          <p:cNvSpPr/>
          <p:nvPr/>
        </p:nvSpPr>
        <p:spPr>
          <a:xfrm>
            <a:off x="600084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deologic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0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燕尾形 96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燕尾形 97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燕尾形 98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燕尾形 99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燕尾形 100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91"/>
          <p:cNvSpPr/>
          <p:nvPr/>
        </p:nvSpPr>
        <p:spPr>
          <a:xfrm flipH="1">
            <a:off x="3209400" y="3357720"/>
            <a:ext cx="576360" cy="57600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05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5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81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82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83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9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组合 77"/>
          <p:cNvGrpSpPr/>
          <p:nvPr/>
        </p:nvGrpSpPr>
        <p:grpSpPr>
          <a:xfrm>
            <a:off x="2786040" y="2481120"/>
            <a:ext cx="1941480" cy="987480"/>
            <a:chOff x="2786040" y="2481120"/>
            <a:chExt cx="1941480" cy="987480"/>
          </a:xfrm>
        </p:grpSpPr>
        <p:sp>
          <p:nvSpPr>
            <p:cNvPr id="1097" name="TextBox 67"/>
            <p:cNvSpPr/>
            <p:nvPr/>
          </p:nvSpPr>
          <p:spPr>
            <a:xfrm>
              <a:off x="2786040" y="2481120"/>
              <a:ext cx="11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组合 76"/>
            <p:cNvGrpSpPr/>
            <p:nvPr/>
          </p:nvGrpSpPr>
          <p:grpSpPr>
            <a:xfrm>
              <a:off x="2837520" y="2521440"/>
              <a:ext cx="1890000" cy="947160"/>
              <a:chOff x="2837520" y="2521440"/>
              <a:chExt cx="1890000" cy="947160"/>
            </a:xfrm>
          </p:grpSpPr>
          <p:sp>
            <p:nvSpPr>
              <p:cNvPr id="1099" name="直接连接符 52"/>
              <p:cNvSpPr/>
              <p:nvPr/>
            </p:nvSpPr>
            <p:spPr>
              <a:xfrm>
                <a:off x="3870000" y="252144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直接连接符 53"/>
              <p:cNvSpPr/>
              <p:nvPr/>
            </p:nvSpPr>
            <p:spPr>
              <a:xfrm>
                <a:off x="3870000" y="26388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直接连接符 54"/>
              <p:cNvSpPr/>
              <p:nvPr/>
            </p:nvSpPr>
            <p:spPr>
              <a:xfrm>
                <a:off x="3870000" y="27579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直接连接符 55"/>
              <p:cNvSpPr/>
              <p:nvPr/>
            </p:nvSpPr>
            <p:spPr>
              <a:xfrm>
                <a:off x="3870000" y="287568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直接连接符 57"/>
              <p:cNvSpPr/>
              <p:nvPr/>
            </p:nvSpPr>
            <p:spPr>
              <a:xfrm>
                <a:off x="3870000" y="29934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直接连接符 68"/>
              <p:cNvSpPr/>
              <p:nvPr/>
            </p:nvSpPr>
            <p:spPr>
              <a:xfrm>
                <a:off x="3870000" y="31125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直接连接符 72"/>
              <p:cNvSpPr/>
              <p:nvPr/>
            </p:nvSpPr>
            <p:spPr>
              <a:xfrm>
                <a:off x="2837520" y="323028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直接连接符 74"/>
              <p:cNvSpPr/>
              <p:nvPr/>
            </p:nvSpPr>
            <p:spPr>
              <a:xfrm>
                <a:off x="2837520" y="3348000"/>
                <a:ext cx="189000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直接连接符 75"/>
              <p:cNvSpPr/>
              <p:nvPr/>
            </p:nvSpPr>
            <p:spPr>
              <a:xfrm>
                <a:off x="2837520" y="346716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8" name="组合 80"/>
          <p:cNvGrpSpPr/>
          <p:nvPr/>
        </p:nvGrpSpPr>
        <p:grpSpPr>
          <a:xfrm>
            <a:off x="3684960" y="2399400"/>
            <a:ext cx="1403640" cy="1080000"/>
            <a:chOff x="3684960" y="2399400"/>
            <a:chExt cx="1403640" cy="1080000"/>
          </a:xfrm>
        </p:grpSpPr>
        <p:sp>
          <p:nvSpPr>
            <p:cNvPr id="1109" name="矩形 78"/>
            <p:cNvSpPr/>
            <p:nvPr/>
          </p:nvSpPr>
          <p:spPr>
            <a:xfrm rot="1911000">
              <a:off x="3836880" y="2668680"/>
              <a:ext cx="1125720" cy="500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矩形 79"/>
            <p:cNvSpPr/>
            <p:nvPr/>
          </p:nvSpPr>
          <p:spPr>
            <a:xfrm rot="1911000">
              <a:off x="3684240" y="2739600"/>
              <a:ext cx="14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Impact"/>
                </a:rPr>
                <a:t>Syndr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组合 95"/>
          <p:cNvGrpSpPr/>
          <p:nvPr/>
        </p:nvGrpSpPr>
        <p:grpSpPr>
          <a:xfrm>
            <a:off x="3419640" y="1434960"/>
            <a:ext cx="4484520" cy="703800"/>
            <a:chOff x="3419640" y="1434960"/>
            <a:chExt cx="4484520" cy="703800"/>
          </a:xfrm>
        </p:grpSpPr>
        <p:sp>
          <p:nvSpPr>
            <p:cNvPr id="1112" name="TextBox 81"/>
            <p:cNvSpPr/>
            <p:nvPr/>
          </p:nvSpPr>
          <p:spPr>
            <a:xfrm>
              <a:off x="34196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Symptoma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Box 82"/>
            <p:cNvSpPr/>
            <p:nvPr/>
          </p:nvSpPr>
          <p:spPr>
            <a:xfrm>
              <a:off x="61088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Humanis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Box 83"/>
            <p:cNvSpPr/>
            <p:nvPr/>
          </p:nvSpPr>
          <p:spPr>
            <a:xfrm>
              <a:off x="5224680" y="1496880"/>
              <a:ext cx="85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egoe Script"/>
                </a:rPr>
                <a:t>V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5" name="Picture 2" descr="C:\Users\Potter Yang\Desktop\图片3.png"/>
          <p:cNvPicPr/>
          <p:nvPr/>
        </p:nvPicPr>
        <p:blipFill>
          <a:blip r:embed="rId2"/>
          <a:stretch/>
        </p:blipFill>
        <p:spPr>
          <a:xfrm>
            <a:off x="3425760" y="2975040"/>
            <a:ext cx="1079640" cy="957240"/>
          </a:xfrm>
          <a:prstGeom prst="rect">
            <a:avLst/>
          </a:prstGeom>
          <a:ln w="0">
            <a:noFill/>
          </a:ln>
        </p:spPr>
      </p:pic>
      <p:sp>
        <p:nvSpPr>
          <p:cNvPr id="1116" name="TextBox 85"/>
          <p:cNvSpPr/>
          <p:nvPr/>
        </p:nvSpPr>
        <p:spPr>
          <a:xfrm>
            <a:off x="2428920" y="39290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ntinu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92"/>
          <p:cNvSpPr/>
          <p:nvPr/>
        </p:nvSpPr>
        <p:spPr>
          <a:xfrm>
            <a:off x="5214960" y="2786040"/>
            <a:ext cx="3714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To expose  the ethnocentric violence  of re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beneath the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直接连接符 94"/>
          <p:cNvSpPr/>
          <p:nvPr/>
        </p:nvSpPr>
        <p:spPr>
          <a:xfrm>
            <a:off x="3143160" y="2143080"/>
            <a:ext cx="5040360" cy="18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2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2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3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3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143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51"/>
          <p:cNvSpPr/>
          <p:nvPr/>
        </p:nvSpPr>
        <p:spPr>
          <a:xfrm>
            <a:off x="2928960" y="29844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3040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1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1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154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16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TextBox 93"/>
          <p:cNvSpPr/>
          <p:nvPr/>
        </p:nvSpPr>
        <p:spPr>
          <a:xfrm>
            <a:off x="328608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矩形 101"/>
          <p:cNvSpPr/>
          <p:nvPr/>
        </p:nvSpPr>
        <p:spPr>
          <a:xfrm>
            <a:off x="4909320" y="20001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矩形 102"/>
          <p:cNvSpPr/>
          <p:nvPr/>
        </p:nvSpPr>
        <p:spPr>
          <a:xfrm>
            <a:off x="5264640" y="200016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0" name="直接箭头连接符 104"/>
          <p:cNvCxnSpPr/>
          <p:nvPr/>
        </p:nvCxnSpPr>
        <p:spPr>
          <a:xfrm>
            <a:off x="4500360" y="2230560"/>
            <a:ext cx="432360" cy="216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  <p:sp>
        <p:nvSpPr>
          <p:cNvPr id="1171" name="直接连接符 106"/>
          <p:cNvSpPr/>
          <p:nvPr/>
        </p:nvSpPr>
        <p:spPr>
          <a:xfrm>
            <a:off x="5429160" y="2230560"/>
            <a:ext cx="635040" cy="144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2" name="直接箭头连接符 108"/>
          <p:cNvCxnSpPr/>
          <p:nvPr/>
        </p:nvCxnSpPr>
        <p:spPr>
          <a:xfrm flipH="1">
            <a:off x="5152680" y="2462040"/>
            <a:ext cx="2160" cy="43272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  <p:sp>
        <p:nvSpPr>
          <p:cNvPr id="1173" name="TextBox 110"/>
          <p:cNvSpPr/>
          <p:nvPr/>
        </p:nvSpPr>
        <p:spPr>
          <a:xfrm>
            <a:off x="4127400" y="28861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being away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111"/>
          <p:cNvSpPr/>
          <p:nvPr/>
        </p:nvSpPr>
        <p:spPr>
          <a:xfrm>
            <a:off x="6429240" y="28447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ommon u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肘形连接符 113"/>
          <p:cNvCxnSpPr/>
          <p:nvPr/>
        </p:nvCxnSpPr>
        <p:spPr>
          <a:xfrm flipH="1" rot="16200000">
            <a:off x="6798240" y="2192040"/>
            <a:ext cx="648360" cy="756360"/>
          </a:xfrm>
          <a:prstGeom prst="bentConnector3">
            <a:avLst>
              <a:gd name="adj1" fmla="val -388"/>
            </a:avLst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1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97531E-006 L 0.09479 -0.00031 E">
                                      <p:cBhvr>
                                        <p:cTn id="559" dur="5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9"/>
          <p:cNvSpPr/>
          <p:nvPr/>
        </p:nvSpPr>
        <p:spPr>
          <a:xfrm>
            <a:off x="0" y="4000680"/>
            <a:ext cx="9144000" cy="83160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12"/>
          <p:cNvGrpSpPr/>
          <p:nvPr/>
        </p:nvGrpSpPr>
        <p:grpSpPr>
          <a:xfrm>
            <a:off x="0" y="571680"/>
            <a:ext cx="9144000" cy="2955600"/>
            <a:chOff x="0" y="571680"/>
            <a:chExt cx="9144000" cy="2955600"/>
          </a:xfrm>
        </p:grpSpPr>
        <p:grpSp>
          <p:nvGrpSpPr>
            <p:cNvPr id="290" name="组合 26"/>
            <p:cNvGrpSpPr/>
            <p:nvPr/>
          </p:nvGrpSpPr>
          <p:grpSpPr>
            <a:xfrm>
              <a:off x="0" y="571680"/>
              <a:ext cx="9144000" cy="1762560"/>
              <a:chOff x="0" y="571680"/>
              <a:chExt cx="9144000" cy="1762560"/>
            </a:xfrm>
          </p:grpSpPr>
          <p:sp>
            <p:nvSpPr>
              <p:cNvPr id="291" name="矩形 27"/>
              <p:cNvSpPr/>
              <p:nvPr/>
            </p:nvSpPr>
            <p:spPr>
              <a:xfrm>
                <a:off x="0" y="1143000"/>
                <a:ext cx="9144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0c0"/>
                    </a:solidFill>
                    <a:latin typeface="Georgia"/>
                    <a:ea typeface="微软雅黑"/>
                  </a:rPr>
                  <a:t>An Interpretation of Lawrence Venuti’s Deconstruction-Oriented Translation Theory by C-E and E-C Translation Practic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矩形 3"/>
              <p:cNvSpPr/>
              <p:nvPr/>
            </p:nvSpPr>
            <p:spPr>
              <a:xfrm>
                <a:off x="357120" y="571680"/>
                <a:ext cx="842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韦努蒂解构主义倾向翻译观在汉英翻译实践中的解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Box 171"/>
            <p:cNvSpPr/>
            <p:nvPr/>
          </p:nvSpPr>
          <p:spPr>
            <a:xfrm>
              <a:off x="2928960" y="2071800"/>
              <a:ext cx="4071960" cy="1455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姓  名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es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  科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导  师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  期：二零一二年五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8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Box 51"/>
          <p:cNvSpPr/>
          <p:nvPr/>
        </p:nvSpPr>
        <p:spPr>
          <a:xfrm>
            <a:off x="2928960" y="33336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6532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0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1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1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2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矩形 65"/>
          <p:cNvSpPr/>
          <p:nvPr/>
        </p:nvSpPr>
        <p:spPr>
          <a:xfrm>
            <a:off x="2766960" y="1428840"/>
            <a:ext cx="5759640" cy="27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ct of tampering with common u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ive Fide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usive to the common usages and faithful to the source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Resist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egrounding the differences to preserve “foreignne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C:\Users\Potter Yang\Desktop\图片4.png"/>
          <p:cNvPicPr/>
          <p:nvPr/>
        </p:nvPicPr>
        <p:blipFill>
          <a:blip r:embed="rId1"/>
          <a:stretch/>
        </p:blipFill>
        <p:spPr>
          <a:xfrm>
            <a:off x="2428920" y="1571760"/>
            <a:ext cx="1914480" cy="2187360"/>
          </a:xfrm>
          <a:prstGeom prst="rect">
            <a:avLst/>
          </a:prstGeom>
          <a:ln w="0">
            <a:noFill/>
          </a:ln>
        </p:spPr>
      </p:pic>
      <p:sp>
        <p:nvSpPr>
          <p:cNvPr id="122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23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23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2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2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Box 51"/>
          <p:cNvSpPr/>
          <p:nvPr/>
        </p:nvSpPr>
        <p:spPr>
          <a:xfrm>
            <a:off x="2928960" y="46656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nuti’s Translation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8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214800" y="100008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5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6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6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7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组合 72"/>
          <p:cNvGrpSpPr/>
          <p:nvPr/>
        </p:nvGrpSpPr>
        <p:grpSpPr>
          <a:xfrm>
            <a:off x="2357280" y="1492200"/>
            <a:ext cx="2160720" cy="2158920"/>
            <a:chOff x="2357280" y="1492200"/>
            <a:chExt cx="2160720" cy="2158920"/>
          </a:xfrm>
        </p:grpSpPr>
        <p:grpSp>
          <p:nvGrpSpPr>
            <p:cNvPr id="1275" name="组合 65"/>
            <p:cNvGrpSpPr/>
            <p:nvPr/>
          </p:nvGrpSpPr>
          <p:grpSpPr>
            <a:xfrm>
              <a:off x="2673720" y="1807560"/>
              <a:ext cx="1527840" cy="1527840"/>
              <a:chOff x="2673720" y="1807560"/>
              <a:chExt cx="1527840" cy="1527840"/>
            </a:xfrm>
          </p:grpSpPr>
          <p:sp>
            <p:nvSpPr>
              <p:cNvPr id="1276" name="直接连接符 53"/>
              <p:cNvSpPr/>
              <p:nvPr/>
            </p:nvSpPr>
            <p:spPr>
              <a:xfrm>
                <a:off x="2675160" y="1807920"/>
                <a:ext cx="1525320" cy="152748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直接连接符 54"/>
              <p:cNvSpPr/>
              <p:nvPr/>
            </p:nvSpPr>
            <p:spPr>
              <a:xfrm flipH="1">
                <a:off x="2673720" y="1807560"/>
                <a:ext cx="1527840" cy="152784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椭圆 51"/>
            <p:cNvSpPr/>
            <p:nvPr/>
          </p:nvSpPr>
          <p:spPr>
            <a:xfrm>
              <a:off x="2357280" y="1492200"/>
              <a:ext cx="2160720" cy="2158920"/>
            </a:xfrm>
            <a:prstGeom prst="ellipse">
              <a:avLst/>
            </a:prstGeom>
            <a:noFill/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椭圆 50"/>
            <p:cNvSpPr/>
            <p:nvPr/>
          </p:nvSpPr>
          <p:spPr>
            <a:xfrm>
              <a:off x="2933640" y="2068200"/>
              <a:ext cx="100800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组合 84"/>
          <p:cNvGrpSpPr/>
          <p:nvPr/>
        </p:nvGrpSpPr>
        <p:grpSpPr>
          <a:xfrm>
            <a:off x="3521160" y="1654200"/>
            <a:ext cx="1384200" cy="836640"/>
            <a:chOff x="3521160" y="1654200"/>
            <a:chExt cx="1384200" cy="836640"/>
          </a:xfrm>
        </p:grpSpPr>
        <p:sp>
          <p:nvSpPr>
            <p:cNvPr id="1281" name="直接连接符 79"/>
            <p:cNvSpPr/>
            <p:nvPr/>
          </p:nvSpPr>
          <p:spPr>
            <a:xfrm flipV="1">
              <a:off x="3521160" y="1654200"/>
              <a:ext cx="836640" cy="8366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直接连接符 83"/>
            <p:cNvSpPr/>
            <p:nvPr/>
          </p:nvSpPr>
          <p:spPr>
            <a:xfrm>
              <a:off x="4365720" y="1654200"/>
              <a:ext cx="53964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组合 88"/>
          <p:cNvGrpSpPr/>
          <p:nvPr/>
        </p:nvGrpSpPr>
        <p:grpSpPr>
          <a:xfrm>
            <a:off x="3760200" y="3286080"/>
            <a:ext cx="2664360" cy="500040"/>
            <a:chOff x="3760200" y="3286080"/>
            <a:chExt cx="2664360" cy="500040"/>
          </a:xfrm>
        </p:grpSpPr>
        <p:sp>
          <p:nvSpPr>
            <p:cNvPr id="1284" name="直接连接符 86"/>
            <p:cNvSpPr/>
            <p:nvPr/>
          </p:nvSpPr>
          <p:spPr>
            <a:xfrm>
              <a:off x="3760200" y="3286080"/>
              <a:ext cx="500040" cy="5000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直接连接符 87"/>
            <p:cNvSpPr/>
            <p:nvPr/>
          </p:nvSpPr>
          <p:spPr>
            <a:xfrm>
              <a:off x="4263840" y="3784680"/>
              <a:ext cx="216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TextBox 89"/>
          <p:cNvSpPr/>
          <p:nvPr/>
        </p:nvSpPr>
        <p:spPr>
          <a:xfrm>
            <a:off x="4857840" y="13572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Box 90"/>
          <p:cNvSpPr/>
          <p:nvPr/>
        </p:nvSpPr>
        <p:spPr>
          <a:xfrm>
            <a:off x="6429240" y="3471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ct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组合 100"/>
          <p:cNvGrpSpPr/>
          <p:nvPr/>
        </p:nvGrpSpPr>
        <p:grpSpPr>
          <a:xfrm>
            <a:off x="6143760" y="1654200"/>
            <a:ext cx="720720" cy="1370160"/>
            <a:chOff x="6143760" y="1654200"/>
            <a:chExt cx="720720" cy="1370160"/>
          </a:xfrm>
        </p:grpSpPr>
        <p:sp>
          <p:nvSpPr>
            <p:cNvPr id="1289" name="直接连接符 94"/>
            <p:cNvSpPr/>
            <p:nvPr/>
          </p:nvSpPr>
          <p:spPr>
            <a:xfrm>
              <a:off x="6143760" y="1654200"/>
              <a:ext cx="72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直接连接符 96"/>
            <p:cNvSpPr/>
            <p:nvPr/>
          </p:nvSpPr>
          <p:spPr>
            <a:xfrm flipH="1">
              <a:off x="6500880" y="1655640"/>
              <a:ext cx="1440" cy="136872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直接连接符 98"/>
            <p:cNvSpPr/>
            <p:nvPr/>
          </p:nvSpPr>
          <p:spPr>
            <a:xfrm>
              <a:off x="6500880" y="233856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直接连接符 99"/>
            <p:cNvSpPr/>
            <p:nvPr/>
          </p:nvSpPr>
          <p:spPr>
            <a:xfrm>
              <a:off x="6500880" y="302292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TextBox 101"/>
          <p:cNvSpPr/>
          <p:nvPr/>
        </p:nvSpPr>
        <p:spPr>
          <a:xfrm>
            <a:off x="6929280" y="130248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Box 102"/>
          <p:cNvSpPr/>
          <p:nvPr/>
        </p:nvSpPr>
        <p:spPr>
          <a:xfrm>
            <a:off x="6929280" y="198900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Sam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103"/>
          <p:cNvSpPr/>
          <p:nvPr/>
        </p:nvSpPr>
        <p:spPr>
          <a:xfrm>
            <a:off x="6929280" y="267552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5" dur="250" autoRev="1" fill="hold"/>
                                        <p:tgtEl>
                                          <p:spTgt spid="12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30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0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1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2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328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329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1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2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343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五角星 78"/>
          <p:cNvSpPr/>
          <p:nvPr/>
        </p:nvSpPr>
        <p:spPr>
          <a:xfrm>
            <a:off x="3071880" y="23050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五角星 81"/>
          <p:cNvSpPr/>
          <p:nvPr/>
        </p:nvSpPr>
        <p:spPr>
          <a:xfrm>
            <a:off x="3071880" y="28512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84"/>
          <p:cNvSpPr/>
          <p:nvPr/>
        </p:nvSpPr>
        <p:spPr>
          <a:xfrm>
            <a:off x="3357720" y="1714680"/>
            <a:ext cx="44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iticizes the dogma of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ims for foreignizing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s his ethical turn in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onstruction-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五角星 85"/>
          <p:cNvSpPr/>
          <p:nvPr/>
        </p:nvSpPr>
        <p:spPr>
          <a:xfrm>
            <a:off x="3071880" y="3395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52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55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58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61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3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74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6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组合 78"/>
          <p:cNvGrpSpPr/>
          <p:nvPr/>
        </p:nvGrpSpPr>
        <p:grpSpPr>
          <a:xfrm>
            <a:off x="2214720" y="2319480"/>
            <a:ext cx="6480000" cy="863280"/>
            <a:chOff x="2214720" y="2319480"/>
            <a:chExt cx="6480000" cy="863280"/>
          </a:xfrm>
        </p:grpSpPr>
        <p:sp>
          <p:nvSpPr>
            <p:cNvPr id="1384" name="矩形 71"/>
            <p:cNvSpPr/>
            <p:nvPr/>
          </p:nvSpPr>
          <p:spPr>
            <a:xfrm>
              <a:off x="2281320" y="239076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矩形 72"/>
            <p:cNvSpPr/>
            <p:nvPr/>
          </p:nvSpPr>
          <p:spPr>
            <a:xfrm>
              <a:off x="2214720" y="231948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TextBox 73"/>
            <p:cNvSpPr/>
            <p:nvPr/>
          </p:nvSpPr>
          <p:spPr>
            <a:xfrm>
              <a:off x="3076560" y="242712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组合 77"/>
          <p:cNvGrpSpPr/>
          <p:nvPr/>
        </p:nvGrpSpPr>
        <p:grpSpPr>
          <a:xfrm>
            <a:off x="2214720" y="1285920"/>
            <a:ext cx="6480000" cy="863640"/>
            <a:chOff x="2214720" y="1285920"/>
            <a:chExt cx="6480000" cy="863640"/>
          </a:xfrm>
        </p:grpSpPr>
        <p:sp>
          <p:nvSpPr>
            <p:cNvPr id="1388" name="矩形 74"/>
            <p:cNvSpPr/>
            <p:nvPr/>
          </p:nvSpPr>
          <p:spPr>
            <a:xfrm>
              <a:off x="2214720" y="12859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TextBox 75"/>
            <p:cNvSpPr/>
            <p:nvPr/>
          </p:nvSpPr>
          <p:spPr>
            <a:xfrm>
              <a:off x="3000240" y="139356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anslation’s turn in the Westernization of M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矩形 76"/>
            <p:cNvSpPr/>
            <p:nvPr/>
          </p:nvSpPr>
          <p:spPr>
            <a:xfrm>
              <a:off x="2279520" y="135720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392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393" name="矩形 59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5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组合 78"/>
          <p:cNvGrpSpPr/>
          <p:nvPr/>
        </p:nvGrpSpPr>
        <p:grpSpPr>
          <a:xfrm>
            <a:off x="2214720" y="3351240"/>
            <a:ext cx="6480000" cy="863640"/>
            <a:chOff x="2214720" y="3351240"/>
            <a:chExt cx="6480000" cy="863640"/>
          </a:xfrm>
        </p:grpSpPr>
        <p:sp>
          <p:nvSpPr>
            <p:cNvPr id="1397" name="矩形 63"/>
            <p:cNvSpPr/>
            <p:nvPr/>
          </p:nvSpPr>
          <p:spPr>
            <a:xfrm>
              <a:off x="2281320" y="342252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矩形 64"/>
            <p:cNvSpPr/>
            <p:nvPr/>
          </p:nvSpPr>
          <p:spPr>
            <a:xfrm>
              <a:off x="2214720" y="335124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TextBox 73"/>
            <p:cNvSpPr/>
            <p:nvPr/>
          </p:nvSpPr>
          <p:spPr>
            <a:xfrm>
              <a:off x="3076560" y="345888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plication of Resistancy in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矩形 66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燕尾形 68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燕尾形 69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燕尾形 70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燕尾形 7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燕尾形 75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5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5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5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5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5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3" dur="250" autoRev="1" fill="hold"/>
                                        <p:tgtEl>
                                          <p:spTgt spid="1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1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1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2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3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3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44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44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45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65"/>
          <p:cNvSpPr/>
          <p:nvPr/>
        </p:nvSpPr>
        <p:spPr>
          <a:xfrm>
            <a:off x="3000240" y="1765440"/>
            <a:ext cx="60724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pression gap fi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 horse –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马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mp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邮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dding new meanings or grammatic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r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酒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网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gat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水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艳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别克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nrichment of word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ize/-ization/-ify/-ification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92"/>
          <p:cNvSpPr/>
          <p:nvPr/>
        </p:nvSpPr>
        <p:spPr>
          <a:xfrm>
            <a:off x="4327920" y="134460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Lexical Wester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6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0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7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7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8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92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0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0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0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65"/>
          <p:cNvSpPr/>
          <p:nvPr/>
        </p:nvSpPr>
        <p:spPr>
          <a:xfrm>
            <a:off x="2916360" y="1765440"/>
            <a:ext cx="608472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</a:t>
            </a:r>
            <a:r>
              <a:rPr b="1" lang="zh-CN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tension of passive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antic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o be constructed in a more complex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flexibility of wor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很懒的他立起来，看了她一眼，走过去帮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骆驼祥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老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92"/>
          <p:cNvSpPr/>
          <p:nvPr/>
        </p:nvSpPr>
        <p:spPr>
          <a:xfrm>
            <a:off x="3909240" y="134460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Syntactical Wester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2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4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27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3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3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0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4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5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57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58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0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57"/>
          <p:cNvSpPr/>
          <p:nvPr/>
        </p:nvSpPr>
        <p:spPr>
          <a:xfrm>
            <a:off x="2668680" y="1857240"/>
            <a:ext cx="621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Westernization of Modern Chinese witnesses Venuti’s appeal : to call for translation’s visibility and to promote the pluralistic development of language and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7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9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80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83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91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99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07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10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11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3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矩形 54"/>
          <p:cNvSpPr/>
          <p:nvPr/>
        </p:nvSpPr>
        <p:spPr>
          <a:xfrm>
            <a:off x="317340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说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曹操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曹操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矩形 55"/>
          <p:cNvSpPr/>
          <p:nvPr/>
        </p:nvSpPr>
        <p:spPr>
          <a:xfrm>
            <a:off x="6474240" y="256392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clear a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ryst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矩形 56"/>
          <p:cNvSpPr/>
          <p:nvPr/>
        </p:nvSpPr>
        <p:spPr>
          <a:xfrm>
            <a:off x="649116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ak of th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e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直接连接符 67"/>
          <p:cNvSpPr/>
          <p:nvPr/>
        </p:nvSpPr>
        <p:spPr>
          <a:xfrm flipH="1">
            <a:off x="6081840" y="1643040"/>
            <a:ext cx="1440" cy="216072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68"/>
          <p:cNvSpPr/>
          <p:nvPr/>
        </p:nvSpPr>
        <p:spPr>
          <a:xfrm>
            <a:off x="3321000" y="25639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小葱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拌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豆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一清二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矩形 79"/>
          <p:cNvSpPr/>
          <p:nvPr/>
        </p:nvSpPr>
        <p:spPr>
          <a:xfrm>
            <a:off x="2387880" y="1643040"/>
            <a:ext cx="357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’ll teach you how to kiss a girl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,” said Sute, I’v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gradu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矩形 83"/>
          <p:cNvSpPr/>
          <p:nvPr/>
        </p:nvSpPr>
        <p:spPr>
          <a:xfrm>
            <a:off x="6943680" y="1797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我已经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出师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3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6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6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6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6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7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Freeform 23"/>
          <p:cNvSpPr/>
          <p:nvPr/>
        </p:nvSpPr>
        <p:spPr>
          <a:xfrm>
            <a:off x="4286160" y="1420920"/>
            <a:ext cx="716040" cy="2359080"/>
          </a:xfrm>
          <a:custGeom>
            <a:avLst/>
            <a:gdLst/>
            <a:ahLst/>
            <a:rect l="l" t="t" r="r" b="b"/>
            <a:pathLst>
              <a:path w="451" h="1486">
                <a:moveTo>
                  <a:pt x="0" y="1226"/>
                </a:moveTo>
                <a:lnTo>
                  <a:pt x="0" y="1226"/>
                </a:lnTo>
                <a:lnTo>
                  <a:pt x="5" y="1223"/>
                </a:lnTo>
                <a:lnTo>
                  <a:pt x="10" y="1221"/>
                </a:lnTo>
                <a:lnTo>
                  <a:pt x="13" y="1218"/>
                </a:lnTo>
                <a:lnTo>
                  <a:pt x="15" y="1216"/>
                </a:lnTo>
                <a:lnTo>
                  <a:pt x="15" y="1215"/>
                </a:lnTo>
                <a:lnTo>
                  <a:pt x="15" y="1204"/>
                </a:lnTo>
                <a:lnTo>
                  <a:pt x="18" y="1201"/>
                </a:lnTo>
                <a:lnTo>
                  <a:pt x="22" y="1198"/>
                </a:lnTo>
                <a:lnTo>
                  <a:pt x="62" y="1171"/>
                </a:lnTo>
                <a:lnTo>
                  <a:pt x="96" y="1149"/>
                </a:lnTo>
                <a:lnTo>
                  <a:pt x="107" y="1141"/>
                </a:lnTo>
                <a:lnTo>
                  <a:pt x="111" y="1139"/>
                </a:lnTo>
                <a:lnTo>
                  <a:pt x="114" y="1137"/>
                </a:lnTo>
                <a:lnTo>
                  <a:pt x="131" y="1117"/>
                </a:lnTo>
                <a:lnTo>
                  <a:pt x="144" y="1100"/>
                </a:lnTo>
                <a:lnTo>
                  <a:pt x="159" y="1084"/>
                </a:lnTo>
                <a:lnTo>
                  <a:pt x="174" y="1069"/>
                </a:lnTo>
                <a:lnTo>
                  <a:pt x="191" y="1055"/>
                </a:lnTo>
                <a:lnTo>
                  <a:pt x="200" y="1050"/>
                </a:lnTo>
                <a:lnTo>
                  <a:pt x="206" y="1045"/>
                </a:lnTo>
                <a:lnTo>
                  <a:pt x="213" y="1038"/>
                </a:lnTo>
                <a:lnTo>
                  <a:pt x="216" y="1028"/>
                </a:lnTo>
                <a:lnTo>
                  <a:pt x="220" y="1020"/>
                </a:lnTo>
                <a:lnTo>
                  <a:pt x="223" y="1010"/>
                </a:lnTo>
                <a:lnTo>
                  <a:pt x="223" y="1000"/>
                </a:lnTo>
                <a:lnTo>
                  <a:pt x="223" y="990"/>
                </a:lnTo>
                <a:lnTo>
                  <a:pt x="220" y="970"/>
                </a:lnTo>
                <a:lnTo>
                  <a:pt x="215" y="949"/>
                </a:lnTo>
                <a:lnTo>
                  <a:pt x="213" y="944"/>
                </a:lnTo>
                <a:lnTo>
                  <a:pt x="210" y="941"/>
                </a:lnTo>
                <a:lnTo>
                  <a:pt x="205" y="933"/>
                </a:lnTo>
                <a:lnTo>
                  <a:pt x="193" y="913"/>
                </a:lnTo>
                <a:lnTo>
                  <a:pt x="183" y="894"/>
                </a:lnTo>
                <a:lnTo>
                  <a:pt x="180" y="884"/>
                </a:lnTo>
                <a:lnTo>
                  <a:pt x="176" y="879"/>
                </a:lnTo>
                <a:lnTo>
                  <a:pt x="171" y="877"/>
                </a:lnTo>
                <a:lnTo>
                  <a:pt x="153" y="867"/>
                </a:lnTo>
                <a:lnTo>
                  <a:pt x="144" y="861"/>
                </a:lnTo>
                <a:lnTo>
                  <a:pt x="136" y="854"/>
                </a:lnTo>
                <a:lnTo>
                  <a:pt x="129" y="845"/>
                </a:lnTo>
                <a:lnTo>
                  <a:pt x="126" y="837"/>
                </a:lnTo>
                <a:lnTo>
                  <a:pt x="124" y="827"/>
                </a:lnTo>
                <a:lnTo>
                  <a:pt x="124" y="815"/>
                </a:lnTo>
                <a:lnTo>
                  <a:pt x="124" y="775"/>
                </a:lnTo>
                <a:lnTo>
                  <a:pt x="126" y="726"/>
                </a:lnTo>
                <a:lnTo>
                  <a:pt x="129" y="686"/>
                </a:lnTo>
                <a:lnTo>
                  <a:pt x="129" y="641"/>
                </a:lnTo>
                <a:lnTo>
                  <a:pt x="129" y="594"/>
                </a:lnTo>
                <a:lnTo>
                  <a:pt x="128" y="507"/>
                </a:lnTo>
                <a:lnTo>
                  <a:pt x="128" y="463"/>
                </a:lnTo>
                <a:lnTo>
                  <a:pt x="128" y="419"/>
                </a:lnTo>
                <a:lnTo>
                  <a:pt x="131" y="376"/>
                </a:lnTo>
                <a:lnTo>
                  <a:pt x="134" y="354"/>
                </a:lnTo>
                <a:lnTo>
                  <a:pt x="139" y="332"/>
                </a:lnTo>
                <a:lnTo>
                  <a:pt x="146" y="312"/>
                </a:lnTo>
                <a:lnTo>
                  <a:pt x="154" y="294"/>
                </a:lnTo>
                <a:lnTo>
                  <a:pt x="176" y="258"/>
                </a:lnTo>
                <a:lnTo>
                  <a:pt x="188" y="238"/>
                </a:lnTo>
                <a:lnTo>
                  <a:pt x="193" y="230"/>
                </a:lnTo>
                <a:lnTo>
                  <a:pt x="195" y="226"/>
                </a:lnTo>
                <a:lnTo>
                  <a:pt x="196" y="221"/>
                </a:lnTo>
                <a:lnTo>
                  <a:pt x="196" y="211"/>
                </a:lnTo>
                <a:lnTo>
                  <a:pt x="196" y="206"/>
                </a:lnTo>
                <a:lnTo>
                  <a:pt x="200" y="201"/>
                </a:lnTo>
                <a:lnTo>
                  <a:pt x="210" y="200"/>
                </a:lnTo>
                <a:lnTo>
                  <a:pt x="213" y="196"/>
                </a:lnTo>
                <a:lnTo>
                  <a:pt x="216" y="195"/>
                </a:lnTo>
                <a:lnTo>
                  <a:pt x="210" y="191"/>
                </a:lnTo>
                <a:lnTo>
                  <a:pt x="206" y="186"/>
                </a:lnTo>
                <a:lnTo>
                  <a:pt x="203" y="179"/>
                </a:lnTo>
                <a:lnTo>
                  <a:pt x="201" y="173"/>
                </a:lnTo>
                <a:lnTo>
                  <a:pt x="201" y="169"/>
                </a:lnTo>
                <a:lnTo>
                  <a:pt x="200" y="166"/>
                </a:lnTo>
                <a:lnTo>
                  <a:pt x="196" y="163"/>
                </a:lnTo>
                <a:lnTo>
                  <a:pt x="196" y="159"/>
                </a:lnTo>
                <a:lnTo>
                  <a:pt x="196" y="154"/>
                </a:lnTo>
                <a:lnTo>
                  <a:pt x="195" y="148"/>
                </a:lnTo>
                <a:lnTo>
                  <a:pt x="195" y="141"/>
                </a:lnTo>
                <a:lnTo>
                  <a:pt x="193" y="136"/>
                </a:lnTo>
                <a:lnTo>
                  <a:pt x="191" y="119"/>
                </a:lnTo>
                <a:lnTo>
                  <a:pt x="195" y="104"/>
                </a:lnTo>
                <a:lnTo>
                  <a:pt x="195" y="97"/>
                </a:lnTo>
                <a:lnTo>
                  <a:pt x="195" y="96"/>
                </a:lnTo>
                <a:lnTo>
                  <a:pt x="198" y="96"/>
                </a:lnTo>
                <a:lnTo>
                  <a:pt x="198" y="92"/>
                </a:lnTo>
                <a:lnTo>
                  <a:pt x="200" y="89"/>
                </a:lnTo>
                <a:lnTo>
                  <a:pt x="201" y="87"/>
                </a:lnTo>
                <a:lnTo>
                  <a:pt x="200" y="84"/>
                </a:lnTo>
                <a:lnTo>
                  <a:pt x="196" y="84"/>
                </a:lnTo>
                <a:lnTo>
                  <a:pt x="198" y="82"/>
                </a:lnTo>
                <a:lnTo>
                  <a:pt x="196" y="82"/>
                </a:lnTo>
                <a:lnTo>
                  <a:pt x="195" y="81"/>
                </a:lnTo>
                <a:lnTo>
                  <a:pt x="196" y="79"/>
                </a:lnTo>
                <a:lnTo>
                  <a:pt x="196" y="69"/>
                </a:lnTo>
                <a:lnTo>
                  <a:pt x="198" y="65"/>
                </a:lnTo>
                <a:lnTo>
                  <a:pt x="200" y="64"/>
                </a:lnTo>
                <a:lnTo>
                  <a:pt x="198" y="62"/>
                </a:lnTo>
                <a:lnTo>
                  <a:pt x="200" y="57"/>
                </a:lnTo>
                <a:lnTo>
                  <a:pt x="200" y="52"/>
                </a:lnTo>
                <a:lnTo>
                  <a:pt x="201" y="55"/>
                </a:lnTo>
                <a:lnTo>
                  <a:pt x="203" y="59"/>
                </a:lnTo>
                <a:lnTo>
                  <a:pt x="203" y="52"/>
                </a:lnTo>
                <a:lnTo>
                  <a:pt x="205" y="45"/>
                </a:lnTo>
                <a:lnTo>
                  <a:pt x="208" y="39"/>
                </a:lnTo>
                <a:lnTo>
                  <a:pt x="213" y="34"/>
                </a:lnTo>
                <a:lnTo>
                  <a:pt x="220" y="30"/>
                </a:lnTo>
                <a:lnTo>
                  <a:pt x="226" y="27"/>
                </a:lnTo>
                <a:lnTo>
                  <a:pt x="226" y="29"/>
                </a:lnTo>
                <a:lnTo>
                  <a:pt x="226" y="27"/>
                </a:lnTo>
                <a:lnTo>
                  <a:pt x="228" y="29"/>
                </a:lnTo>
                <a:lnTo>
                  <a:pt x="226" y="29"/>
                </a:lnTo>
                <a:lnTo>
                  <a:pt x="226" y="30"/>
                </a:lnTo>
                <a:lnTo>
                  <a:pt x="226" y="27"/>
                </a:lnTo>
                <a:lnTo>
                  <a:pt x="221" y="29"/>
                </a:lnTo>
                <a:lnTo>
                  <a:pt x="218" y="30"/>
                </a:lnTo>
                <a:lnTo>
                  <a:pt x="218" y="29"/>
                </a:lnTo>
                <a:lnTo>
                  <a:pt x="220" y="27"/>
                </a:lnTo>
                <a:lnTo>
                  <a:pt x="221" y="27"/>
                </a:lnTo>
                <a:lnTo>
                  <a:pt x="223" y="23"/>
                </a:lnTo>
                <a:lnTo>
                  <a:pt x="223" y="22"/>
                </a:lnTo>
                <a:lnTo>
                  <a:pt x="225" y="22"/>
                </a:lnTo>
                <a:lnTo>
                  <a:pt x="226" y="22"/>
                </a:lnTo>
                <a:lnTo>
                  <a:pt x="226" y="25"/>
                </a:lnTo>
                <a:lnTo>
                  <a:pt x="230" y="23"/>
                </a:lnTo>
                <a:lnTo>
                  <a:pt x="232" y="22"/>
                </a:lnTo>
                <a:lnTo>
                  <a:pt x="226" y="22"/>
                </a:lnTo>
                <a:lnTo>
                  <a:pt x="226" y="20"/>
                </a:lnTo>
                <a:lnTo>
                  <a:pt x="226" y="18"/>
                </a:lnTo>
                <a:lnTo>
                  <a:pt x="237" y="12"/>
                </a:lnTo>
                <a:lnTo>
                  <a:pt x="242" y="10"/>
                </a:lnTo>
                <a:lnTo>
                  <a:pt x="247" y="8"/>
                </a:lnTo>
                <a:lnTo>
                  <a:pt x="245" y="10"/>
                </a:lnTo>
                <a:lnTo>
                  <a:pt x="245" y="12"/>
                </a:lnTo>
                <a:lnTo>
                  <a:pt x="252" y="8"/>
                </a:lnTo>
                <a:lnTo>
                  <a:pt x="257" y="7"/>
                </a:lnTo>
                <a:lnTo>
                  <a:pt x="263" y="7"/>
                </a:lnTo>
                <a:lnTo>
                  <a:pt x="270" y="7"/>
                </a:lnTo>
                <a:lnTo>
                  <a:pt x="273" y="7"/>
                </a:lnTo>
                <a:lnTo>
                  <a:pt x="275" y="5"/>
                </a:lnTo>
                <a:lnTo>
                  <a:pt x="280" y="2"/>
                </a:lnTo>
                <a:lnTo>
                  <a:pt x="285" y="0"/>
                </a:lnTo>
                <a:lnTo>
                  <a:pt x="289" y="0"/>
                </a:lnTo>
                <a:lnTo>
                  <a:pt x="290" y="2"/>
                </a:lnTo>
                <a:lnTo>
                  <a:pt x="292" y="2"/>
                </a:lnTo>
                <a:lnTo>
                  <a:pt x="294" y="2"/>
                </a:lnTo>
                <a:lnTo>
                  <a:pt x="295" y="5"/>
                </a:lnTo>
                <a:lnTo>
                  <a:pt x="304" y="10"/>
                </a:lnTo>
                <a:lnTo>
                  <a:pt x="307" y="10"/>
                </a:lnTo>
                <a:lnTo>
                  <a:pt x="310" y="12"/>
                </a:lnTo>
                <a:lnTo>
                  <a:pt x="312" y="15"/>
                </a:lnTo>
                <a:lnTo>
                  <a:pt x="314" y="15"/>
                </a:lnTo>
                <a:lnTo>
                  <a:pt x="315" y="15"/>
                </a:lnTo>
                <a:lnTo>
                  <a:pt x="317" y="13"/>
                </a:lnTo>
                <a:lnTo>
                  <a:pt x="317" y="15"/>
                </a:lnTo>
                <a:lnTo>
                  <a:pt x="319" y="17"/>
                </a:lnTo>
                <a:lnTo>
                  <a:pt x="322" y="17"/>
                </a:lnTo>
                <a:lnTo>
                  <a:pt x="327" y="18"/>
                </a:lnTo>
                <a:lnTo>
                  <a:pt x="329" y="22"/>
                </a:lnTo>
                <a:lnTo>
                  <a:pt x="332" y="23"/>
                </a:lnTo>
                <a:lnTo>
                  <a:pt x="334" y="22"/>
                </a:lnTo>
                <a:lnTo>
                  <a:pt x="336" y="20"/>
                </a:lnTo>
                <a:lnTo>
                  <a:pt x="337" y="20"/>
                </a:lnTo>
                <a:lnTo>
                  <a:pt x="339" y="17"/>
                </a:lnTo>
                <a:lnTo>
                  <a:pt x="341" y="20"/>
                </a:lnTo>
                <a:lnTo>
                  <a:pt x="342" y="22"/>
                </a:lnTo>
                <a:lnTo>
                  <a:pt x="341" y="18"/>
                </a:lnTo>
                <a:lnTo>
                  <a:pt x="342" y="18"/>
                </a:lnTo>
                <a:lnTo>
                  <a:pt x="344" y="20"/>
                </a:lnTo>
                <a:lnTo>
                  <a:pt x="346" y="22"/>
                </a:lnTo>
                <a:lnTo>
                  <a:pt x="347" y="20"/>
                </a:lnTo>
                <a:lnTo>
                  <a:pt x="349" y="25"/>
                </a:lnTo>
                <a:lnTo>
                  <a:pt x="351" y="27"/>
                </a:lnTo>
                <a:lnTo>
                  <a:pt x="352" y="29"/>
                </a:lnTo>
                <a:lnTo>
                  <a:pt x="352" y="30"/>
                </a:lnTo>
                <a:lnTo>
                  <a:pt x="352" y="32"/>
                </a:lnTo>
                <a:lnTo>
                  <a:pt x="352" y="35"/>
                </a:lnTo>
                <a:lnTo>
                  <a:pt x="354" y="35"/>
                </a:lnTo>
                <a:lnTo>
                  <a:pt x="359" y="35"/>
                </a:lnTo>
                <a:lnTo>
                  <a:pt x="359" y="39"/>
                </a:lnTo>
                <a:lnTo>
                  <a:pt x="361" y="44"/>
                </a:lnTo>
                <a:lnTo>
                  <a:pt x="367" y="49"/>
                </a:lnTo>
                <a:lnTo>
                  <a:pt x="367" y="50"/>
                </a:lnTo>
                <a:lnTo>
                  <a:pt x="367" y="52"/>
                </a:lnTo>
                <a:lnTo>
                  <a:pt x="366" y="54"/>
                </a:lnTo>
                <a:lnTo>
                  <a:pt x="366" y="57"/>
                </a:lnTo>
                <a:lnTo>
                  <a:pt x="367" y="60"/>
                </a:lnTo>
                <a:lnTo>
                  <a:pt x="366" y="60"/>
                </a:lnTo>
                <a:lnTo>
                  <a:pt x="366" y="62"/>
                </a:lnTo>
                <a:lnTo>
                  <a:pt x="366" y="64"/>
                </a:lnTo>
                <a:lnTo>
                  <a:pt x="364" y="64"/>
                </a:lnTo>
                <a:lnTo>
                  <a:pt x="364" y="65"/>
                </a:lnTo>
                <a:lnTo>
                  <a:pt x="362" y="67"/>
                </a:lnTo>
                <a:lnTo>
                  <a:pt x="361" y="65"/>
                </a:lnTo>
                <a:lnTo>
                  <a:pt x="359" y="67"/>
                </a:lnTo>
                <a:lnTo>
                  <a:pt x="366" y="86"/>
                </a:lnTo>
                <a:lnTo>
                  <a:pt x="367" y="96"/>
                </a:lnTo>
                <a:lnTo>
                  <a:pt x="367" y="107"/>
                </a:lnTo>
                <a:lnTo>
                  <a:pt x="364" y="116"/>
                </a:lnTo>
                <a:lnTo>
                  <a:pt x="362" y="121"/>
                </a:lnTo>
                <a:lnTo>
                  <a:pt x="362" y="126"/>
                </a:lnTo>
                <a:lnTo>
                  <a:pt x="367" y="134"/>
                </a:lnTo>
                <a:lnTo>
                  <a:pt x="372" y="143"/>
                </a:lnTo>
                <a:lnTo>
                  <a:pt x="377" y="151"/>
                </a:lnTo>
                <a:lnTo>
                  <a:pt x="381" y="156"/>
                </a:lnTo>
                <a:lnTo>
                  <a:pt x="381" y="161"/>
                </a:lnTo>
                <a:lnTo>
                  <a:pt x="377" y="164"/>
                </a:lnTo>
                <a:lnTo>
                  <a:pt x="374" y="166"/>
                </a:lnTo>
                <a:lnTo>
                  <a:pt x="369" y="168"/>
                </a:lnTo>
                <a:lnTo>
                  <a:pt x="369" y="169"/>
                </a:lnTo>
                <a:lnTo>
                  <a:pt x="371" y="171"/>
                </a:lnTo>
                <a:lnTo>
                  <a:pt x="372" y="191"/>
                </a:lnTo>
                <a:lnTo>
                  <a:pt x="372" y="203"/>
                </a:lnTo>
                <a:lnTo>
                  <a:pt x="374" y="206"/>
                </a:lnTo>
                <a:lnTo>
                  <a:pt x="374" y="211"/>
                </a:lnTo>
                <a:lnTo>
                  <a:pt x="372" y="216"/>
                </a:lnTo>
                <a:lnTo>
                  <a:pt x="369" y="220"/>
                </a:lnTo>
                <a:lnTo>
                  <a:pt x="362" y="223"/>
                </a:lnTo>
                <a:lnTo>
                  <a:pt x="357" y="225"/>
                </a:lnTo>
                <a:lnTo>
                  <a:pt x="344" y="226"/>
                </a:lnTo>
                <a:lnTo>
                  <a:pt x="334" y="226"/>
                </a:lnTo>
                <a:lnTo>
                  <a:pt x="332" y="228"/>
                </a:lnTo>
                <a:lnTo>
                  <a:pt x="331" y="230"/>
                </a:lnTo>
                <a:lnTo>
                  <a:pt x="331" y="235"/>
                </a:lnTo>
                <a:lnTo>
                  <a:pt x="332" y="245"/>
                </a:lnTo>
                <a:lnTo>
                  <a:pt x="336" y="255"/>
                </a:lnTo>
                <a:lnTo>
                  <a:pt x="341" y="263"/>
                </a:lnTo>
                <a:lnTo>
                  <a:pt x="342" y="273"/>
                </a:lnTo>
                <a:lnTo>
                  <a:pt x="344" y="284"/>
                </a:lnTo>
                <a:lnTo>
                  <a:pt x="344" y="294"/>
                </a:lnTo>
                <a:lnTo>
                  <a:pt x="346" y="304"/>
                </a:lnTo>
                <a:lnTo>
                  <a:pt x="356" y="320"/>
                </a:lnTo>
                <a:lnTo>
                  <a:pt x="366" y="339"/>
                </a:lnTo>
                <a:lnTo>
                  <a:pt x="376" y="359"/>
                </a:lnTo>
                <a:lnTo>
                  <a:pt x="386" y="379"/>
                </a:lnTo>
                <a:lnTo>
                  <a:pt x="396" y="401"/>
                </a:lnTo>
                <a:lnTo>
                  <a:pt x="401" y="419"/>
                </a:lnTo>
                <a:lnTo>
                  <a:pt x="409" y="440"/>
                </a:lnTo>
                <a:lnTo>
                  <a:pt x="416" y="460"/>
                </a:lnTo>
                <a:lnTo>
                  <a:pt x="419" y="481"/>
                </a:lnTo>
                <a:lnTo>
                  <a:pt x="424" y="505"/>
                </a:lnTo>
                <a:lnTo>
                  <a:pt x="430" y="549"/>
                </a:lnTo>
                <a:lnTo>
                  <a:pt x="433" y="592"/>
                </a:lnTo>
                <a:lnTo>
                  <a:pt x="436" y="637"/>
                </a:lnTo>
                <a:lnTo>
                  <a:pt x="440" y="681"/>
                </a:lnTo>
                <a:lnTo>
                  <a:pt x="440" y="723"/>
                </a:lnTo>
                <a:lnTo>
                  <a:pt x="441" y="767"/>
                </a:lnTo>
                <a:lnTo>
                  <a:pt x="440" y="787"/>
                </a:lnTo>
                <a:lnTo>
                  <a:pt x="438" y="797"/>
                </a:lnTo>
                <a:lnTo>
                  <a:pt x="435" y="807"/>
                </a:lnTo>
                <a:lnTo>
                  <a:pt x="431" y="810"/>
                </a:lnTo>
                <a:lnTo>
                  <a:pt x="428" y="814"/>
                </a:lnTo>
                <a:lnTo>
                  <a:pt x="418" y="817"/>
                </a:lnTo>
                <a:lnTo>
                  <a:pt x="408" y="819"/>
                </a:lnTo>
                <a:lnTo>
                  <a:pt x="401" y="824"/>
                </a:lnTo>
                <a:lnTo>
                  <a:pt x="398" y="827"/>
                </a:lnTo>
                <a:lnTo>
                  <a:pt x="396" y="830"/>
                </a:lnTo>
                <a:lnTo>
                  <a:pt x="396" y="837"/>
                </a:lnTo>
                <a:lnTo>
                  <a:pt x="398" y="867"/>
                </a:lnTo>
                <a:lnTo>
                  <a:pt x="399" y="889"/>
                </a:lnTo>
                <a:lnTo>
                  <a:pt x="401" y="909"/>
                </a:lnTo>
                <a:lnTo>
                  <a:pt x="399" y="913"/>
                </a:lnTo>
                <a:lnTo>
                  <a:pt x="396" y="916"/>
                </a:lnTo>
                <a:lnTo>
                  <a:pt x="389" y="921"/>
                </a:lnTo>
                <a:lnTo>
                  <a:pt x="379" y="924"/>
                </a:lnTo>
                <a:lnTo>
                  <a:pt x="379" y="928"/>
                </a:lnTo>
                <a:lnTo>
                  <a:pt x="379" y="933"/>
                </a:lnTo>
                <a:lnTo>
                  <a:pt x="384" y="980"/>
                </a:lnTo>
                <a:lnTo>
                  <a:pt x="388" y="1023"/>
                </a:lnTo>
                <a:lnTo>
                  <a:pt x="389" y="1067"/>
                </a:lnTo>
                <a:lnTo>
                  <a:pt x="393" y="1157"/>
                </a:lnTo>
                <a:lnTo>
                  <a:pt x="393" y="1201"/>
                </a:lnTo>
                <a:lnTo>
                  <a:pt x="393" y="1246"/>
                </a:lnTo>
                <a:lnTo>
                  <a:pt x="391" y="1268"/>
                </a:lnTo>
                <a:lnTo>
                  <a:pt x="391" y="1288"/>
                </a:lnTo>
                <a:lnTo>
                  <a:pt x="386" y="1310"/>
                </a:lnTo>
                <a:lnTo>
                  <a:pt x="381" y="1332"/>
                </a:lnTo>
                <a:lnTo>
                  <a:pt x="376" y="1350"/>
                </a:lnTo>
                <a:lnTo>
                  <a:pt x="374" y="1360"/>
                </a:lnTo>
                <a:lnTo>
                  <a:pt x="374" y="1371"/>
                </a:lnTo>
                <a:lnTo>
                  <a:pt x="376" y="1381"/>
                </a:lnTo>
                <a:lnTo>
                  <a:pt x="376" y="1392"/>
                </a:lnTo>
                <a:lnTo>
                  <a:pt x="374" y="1397"/>
                </a:lnTo>
                <a:lnTo>
                  <a:pt x="376" y="1401"/>
                </a:lnTo>
                <a:lnTo>
                  <a:pt x="379" y="1412"/>
                </a:lnTo>
                <a:lnTo>
                  <a:pt x="384" y="1421"/>
                </a:lnTo>
                <a:lnTo>
                  <a:pt x="391" y="1431"/>
                </a:lnTo>
                <a:lnTo>
                  <a:pt x="398" y="1438"/>
                </a:lnTo>
                <a:lnTo>
                  <a:pt x="406" y="1444"/>
                </a:lnTo>
                <a:lnTo>
                  <a:pt x="426" y="1451"/>
                </a:lnTo>
                <a:lnTo>
                  <a:pt x="446" y="1458"/>
                </a:lnTo>
                <a:lnTo>
                  <a:pt x="450" y="1461"/>
                </a:lnTo>
                <a:lnTo>
                  <a:pt x="451" y="1468"/>
                </a:lnTo>
                <a:lnTo>
                  <a:pt x="451" y="1478"/>
                </a:lnTo>
                <a:lnTo>
                  <a:pt x="450" y="1483"/>
                </a:lnTo>
                <a:lnTo>
                  <a:pt x="446" y="1485"/>
                </a:lnTo>
                <a:lnTo>
                  <a:pt x="438" y="1486"/>
                </a:lnTo>
                <a:lnTo>
                  <a:pt x="433" y="1486"/>
                </a:lnTo>
                <a:lnTo>
                  <a:pt x="426" y="1486"/>
                </a:lnTo>
                <a:lnTo>
                  <a:pt x="416" y="1486"/>
                </a:lnTo>
                <a:lnTo>
                  <a:pt x="396" y="1486"/>
                </a:lnTo>
                <a:lnTo>
                  <a:pt x="374" y="1486"/>
                </a:lnTo>
                <a:lnTo>
                  <a:pt x="364" y="1485"/>
                </a:lnTo>
                <a:lnTo>
                  <a:pt x="354" y="1483"/>
                </a:lnTo>
                <a:lnTo>
                  <a:pt x="344" y="1480"/>
                </a:lnTo>
                <a:lnTo>
                  <a:pt x="334" y="1475"/>
                </a:lnTo>
                <a:lnTo>
                  <a:pt x="324" y="1470"/>
                </a:lnTo>
                <a:lnTo>
                  <a:pt x="319" y="1468"/>
                </a:lnTo>
                <a:lnTo>
                  <a:pt x="314" y="1470"/>
                </a:lnTo>
                <a:lnTo>
                  <a:pt x="310" y="1471"/>
                </a:lnTo>
                <a:lnTo>
                  <a:pt x="305" y="1471"/>
                </a:lnTo>
                <a:lnTo>
                  <a:pt x="297" y="1468"/>
                </a:lnTo>
                <a:lnTo>
                  <a:pt x="275" y="1463"/>
                </a:lnTo>
                <a:lnTo>
                  <a:pt x="270" y="1461"/>
                </a:lnTo>
                <a:lnTo>
                  <a:pt x="267" y="1461"/>
                </a:lnTo>
                <a:lnTo>
                  <a:pt x="267" y="1459"/>
                </a:lnTo>
                <a:lnTo>
                  <a:pt x="265" y="1448"/>
                </a:lnTo>
                <a:lnTo>
                  <a:pt x="263" y="1424"/>
                </a:lnTo>
                <a:lnTo>
                  <a:pt x="260" y="1404"/>
                </a:lnTo>
                <a:lnTo>
                  <a:pt x="262" y="1394"/>
                </a:lnTo>
                <a:lnTo>
                  <a:pt x="263" y="1384"/>
                </a:lnTo>
                <a:lnTo>
                  <a:pt x="270" y="1376"/>
                </a:lnTo>
                <a:lnTo>
                  <a:pt x="275" y="1369"/>
                </a:lnTo>
                <a:lnTo>
                  <a:pt x="277" y="1364"/>
                </a:lnTo>
                <a:lnTo>
                  <a:pt x="279" y="1360"/>
                </a:lnTo>
                <a:lnTo>
                  <a:pt x="279" y="1350"/>
                </a:lnTo>
                <a:lnTo>
                  <a:pt x="282" y="1327"/>
                </a:lnTo>
                <a:lnTo>
                  <a:pt x="285" y="1305"/>
                </a:lnTo>
                <a:lnTo>
                  <a:pt x="287" y="1297"/>
                </a:lnTo>
                <a:lnTo>
                  <a:pt x="287" y="1292"/>
                </a:lnTo>
                <a:lnTo>
                  <a:pt x="285" y="1287"/>
                </a:lnTo>
                <a:lnTo>
                  <a:pt x="279" y="1278"/>
                </a:lnTo>
                <a:lnTo>
                  <a:pt x="275" y="1268"/>
                </a:lnTo>
                <a:lnTo>
                  <a:pt x="273" y="1258"/>
                </a:lnTo>
                <a:lnTo>
                  <a:pt x="273" y="1248"/>
                </a:lnTo>
                <a:lnTo>
                  <a:pt x="273" y="1226"/>
                </a:lnTo>
                <a:lnTo>
                  <a:pt x="272" y="1204"/>
                </a:lnTo>
                <a:lnTo>
                  <a:pt x="268" y="1184"/>
                </a:lnTo>
                <a:lnTo>
                  <a:pt x="263" y="1173"/>
                </a:lnTo>
                <a:lnTo>
                  <a:pt x="258" y="1161"/>
                </a:lnTo>
                <a:lnTo>
                  <a:pt x="226" y="1191"/>
                </a:lnTo>
                <a:lnTo>
                  <a:pt x="210" y="1206"/>
                </a:lnTo>
                <a:lnTo>
                  <a:pt x="193" y="1220"/>
                </a:lnTo>
                <a:lnTo>
                  <a:pt x="174" y="1231"/>
                </a:lnTo>
                <a:lnTo>
                  <a:pt x="154" y="1243"/>
                </a:lnTo>
                <a:lnTo>
                  <a:pt x="116" y="1265"/>
                </a:lnTo>
                <a:lnTo>
                  <a:pt x="97" y="1275"/>
                </a:lnTo>
                <a:lnTo>
                  <a:pt x="94" y="1278"/>
                </a:lnTo>
                <a:lnTo>
                  <a:pt x="92" y="1283"/>
                </a:lnTo>
                <a:lnTo>
                  <a:pt x="94" y="1293"/>
                </a:lnTo>
                <a:lnTo>
                  <a:pt x="94" y="1315"/>
                </a:lnTo>
                <a:lnTo>
                  <a:pt x="96" y="1327"/>
                </a:lnTo>
                <a:lnTo>
                  <a:pt x="97" y="1337"/>
                </a:lnTo>
                <a:lnTo>
                  <a:pt x="99" y="1347"/>
                </a:lnTo>
                <a:lnTo>
                  <a:pt x="102" y="1355"/>
                </a:lnTo>
                <a:lnTo>
                  <a:pt x="107" y="1364"/>
                </a:lnTo>
                <a:lnTo>
                  <a:pt x="109" y="1369"/>
                </a:lnTo>
                <a:lnTo>
                  <a:pt x="107" y="1374"/>
                </a:lnTo>
                <a:lnTo>
                  <a:pt x="102" y="1381"/>
                </a:lnTo>
                <a:lnTo>
                  <a:pt x="97" y="1384"/>
                </a:lnTo>
                <a:lnTo>
                  <a:pt x="94" y="1386"/>
                </a:lnTo>
                <a:lnTo>
                  <a:pt x="84" y="1387"/>
                </a:lnTo>
                <a:lnTo>
                  <a:pt x="79" y="1387"/>
                </a:lnTo>
                <a:lnTo>
                  <a:pt x="75" y="1386"/>
                </a:lnTo>
                <a:lnTo>
                  <a:pt x="57" y="1360"/>
                </a:lnTo>
                <a:lnTo>
                  <a:pt x="42" y="1332"/>
                </a:lnTo>
                <a:lnTo>
                  <a:pt x="27" y="1303"/>
                </a:lnTo>
                <a:lnTo>
                  <a:pt x="25" y="1295"/>
                </a:lnTo>
                <a:lnTo>
                  <a:pt x="23" y="1288"/>
                </a:lnTo>
                <a:lnTo>
                  <a:pt x="27" y="1282"/>
                </a:lnTo>
                <a:lnTo>
                  <a:pt x="30" y="1275"/>
                </a:lnTo>
                <a:lnTo>
                  <a:pt x="23" y="1275"/>
                </a:lnTo>
                <a:lnTo>
                  <a:pt x="22" y="1273"/>
                </a:lnTo>
                <a:lnTo>
                  <a:pt x="20" y="1272"/>
                </a:lnTo>
                <a:lnTo>
                  <a:pt x="12" y="1251"/>
                </a:lnTo>
                <a:lnTo>
                  <a:pt x="7" y="1240"/>
                </a:lnTo>
                <a:lnTo>
                  <a:pt x="3" y="1233"/>
                </a:lnTo>
                <a:lnTo>
                  <a:pt x="0" y="1226"/>
                </a:lnTo>
                <a:close/>
                <a:moveTo>
                  <a:pt x="287" y="5"/>
                </a:moveTo>
                <a:lnTo>
                  <a:pt x="287" y="5"/>
                </a:lnTo>
                <a:lnTo>
                  <a:pt x="290" y="7"/>
                </a:lnTo>
                <a:lnTo>
                  <a:pt x="290" y="3"/>
                </a:lnTo>
                <a:lnTo>
                  <a:pt x="287" y="3"/>
                </a:lnTo>
                <a:lnTo>
                  <a:pt x="287" y="5"/>
                </a:lnTo>
                <a:close/>
                <a:moveTo>
                  <a:pt x="200" y="84"/>
                </a:moveTo>
                <a:lnTo>
                  <a:pt x="200" y="84"/>
                </a:lnTo>
                <a:lnTo>
                  <a:pt x="200" y="82"/>
                </a:lnTo>
                <a:lnTo>
                  <a:pt x="201" y="81"/>
                </a:lnTo>
                <a:lnTo>
                  <a:pt x="200" y="81"/>
                </a:lnTo>
                <a:lnTo>
                  <a:pt x="200" y="84"/>
                </a:lnTo>
                <a:close/>
                <a:moveTo>
                  <a:pt x="196" y="134"/>
                </a:moveTo>
                <a:lnTo>
                  <a:pt x="196" y="134"/>
                </a:lnTo>
                <a:lnTo>
                  <a:pt x="196" y="131"/>
                </a:lnTo>
                <a:lnTo>
                  <a:pt x="196" y="127"/>
                </a:lnTo>
                <a:lnTo>
                  <a:pt x="196" y="129"/>
                </a:lnTo>
                <a:lnTo>
                  <a:pt x="196" y="126"/>
                </a:lnTo>
                <a:lnTo>
                  <a:pt x="195" y="126"/>
                </a:lnTo>
                <a:lnTo>
                  <a:pt x="195" y="129"/>
                </a:lnTo>
                <a:lnTo>
                  <a:pt x="196" y="13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Freeform 62"/>
          <p:cNvSpPr/>
          <p:nvPr/>
        </p:nvSpPr>
        <p:spPr>
          <a:xfrm>
            <a:off x="6586560" y="1492200"/>
            <a:ext cx="771480" cy="2279880"/>
          </a:xfrm>
          <a:custGeom>
            <a:avLst/>
            <a:gdLst>
              <a:gd name="textAreaLeft" fmla="*/ 0 w 771480"/>
              <a:gd name="textAreaRight" fmla="*/ 771840 w 771480"/>
              <a:gd name="textAreaTop" fmla="*/ 0 h 2279880"/>
              <a:gd name="textAreaBottom" fmla="*/ 2279880 h 2279880"/>
            </a:gdLst>
            <a:ahLst/>
            <a:rect l="textAreaLeft" t="textAreaTop" r="textAreaRight" b="textAreaBottom"/>
            <a:pathLst>
              <a:path w="486" h="1436">
                <a:moveTo>
                  <a:pt x="198" y="9"/>
                </a:moveTo>
                <a:lnTo>
                  <a:pt x="198" y="9"/>
                </a:lnTo>
                <a:lnTo>
                  <a:pt x="208" y="4"/>
                </a:lnTo>
                <a:lnTo>
                  <a:pt x="216" y="2"/>
                </a:lnTo>
                <a:lnTo>
                  <a:pt x="226" y="0"/>
                </a:lnTo>
                <a:lnTo>
                  <a:pt x="236" y="2"/>
                </a:lnTo>
                <a:lnTo>
                  <a:pt x="260" y="4"/>
                </a:lnTo>
                <a:lnTo>
                  <a:pt x="270" y="5"/>
                </a:lnTo>
                <a:lnTo>
                  <a:pt x="280" y="9"/>
                </a:lnTo>
                <a:lnTo>
                  <a:pt x="298" y="19"/>
                </a:lnTo>
                <a:lnTo>
                  <a:pt x="307" y="25"/>
                </a:lnTo>
                <a:lnTo>
                  <a:pt x="313" y="34"/>
                </a:lnTo>
                <a:lnTo>
                  <a:pt x="318" y="42"/>
                </a:lnTo>
                <a:lnTo>
                  <a:pt x="322" y="52"/>
                </a:lnTo>
                <a:lnTo>
                  <a:pt x="325" y="61"/>
                </a:lnTo>
                <a:lnTo>
                  <a:pt x="327" y="71"/>
                </a:lnTo>
                <a:lnTo>
                  <a:pt x="328" y="94"/>
                </a:lnTo>
                <a:lnTo>
                  <a:pt x="327" y="116"/>
                </a:lnTo>
                <a:lnTo>
                  <a:pt x="323" y="136"/>
                </a:lnTo>
                <a:lnTo>
                  <a:pt x="320" y="148"/>
                </a:lnTo>
                <a:lnTo>
                  <a:pt x="318" y="151"/>
                </a:lnTo>
                <a:lnTo>
                  <a:pt x="318" y="153"/>
                </a:lnTo>
                <a:lnTo>
                  <a:pt x="322" y="155"/>
                </a:lnTo>
                <a:lnTo>
                  <a:pt x="323" y="158"/>
                </a:lnTo>
                <a:lnTo>
                  <a:pt x="327" y="163"/>
                </a:lnTo>
                <a:lnTo>
                  <a:pt x="328" y="168"/>
                </a:lnTo>
                <a:lnTo>
                  <a:pt x="332" y="171"/>
                </a:lnTo>
                <a:lnTo>
                  <a:pt x="338" y="178"/>
                </a:lnTo>
                <a:lnTo>
                  <a:pt x="345" y="186"/>
                </a:lnTo>
                <a:lnTo>
                  <a:pt x="374" y="223"/>
                </a:lnTo>
                <a:lnTo>
                  <a:pt x="384" y="238"/>
                </a:lnTo>
                <a:lnTo>
                  <a:pt x="391" y="248"/>
                </a:lnTo>
                <a:lnTo>
                  <a:pt x="396" y="259"/>
                </a:lnTo>
                <a:lnTo>
                  <a:pt x="399" y="269"/>
                </a:lnTo>
                <a:lnTo>
                  <a:pt x="401" y="279"/>
                </a:lnTo>
                <a:lnTo>
                  <a:pt x="402" y="289"/>
                </a:lnTo>
                <a:lnTo>
                  <a:pt x="402" y="300"/>
                </a:lnTo>
                <a:lnTo>
                  <a:pt x="401" y="311"/>
                </a:lnTo>
                <a:lnTo>
                  <a:pt x="399" y="321"/>
                </a:lnTo>
                <a:lnTo>
                  <a:pt x="396" y="342"/>
                </a:lnTo>
                <a:lnTo>
                  <a:pt x="391" y="363"/>
                </a:lnTo>
                <a:lnTo>
                  <a:pt x="384" y="383"/>
                </a:lnTo>
                <a:lnTo>
                  <a:pt x="375" y="403"/>
                </a:lnTo>
                <a:lnTo>
                  <a:pt x="365" y="423"/>
                </a:lnTo>
                <a:lnTo>
                  <a:pt x="362" y="433"/>
                </a:lnTo>
                <a:lnTo>
                  <a:pt x="359" y="445"/>
                </a:lnTo>
                <a:lnTo>
                  <a:pt x="355" y="467"/>
                </a:lnTo>
                <a:lnTo>
                  <a:pt x="350" y="512"/>
                </a:lnTo>
                <a:lnTo>
                  <a:pt x="349" y="534"/>
                </a:lnTo>
                <a:lnTo>
                  <a:pt x="347" y="544"/>
                </a:lnTo>
                <a:lnTo>
                  <a:pt x="347" y="549"/>
                </a:lnTo>
                <a:lnTo>
                  <a:pt x="347" y="552"/>
                </a:lnTo>
                <a:lnTo>
                  <a:pt x="355" y="560"/>
                </a:lnTo>
                <a:lnTo>
                  <a:pt x="360" y="571"/>
                </a:lnTo>
                <a:lnTo>
                  <a:pt x="372" y="589"/>
                </a:lnTo>
                <a:lnTo>
                  <a:pt x="380" y="609"/>
                </a:lnTo>
                <a:lnTo>
                  <a:pt x="389" y="629"/>
                </a:lnTo>
                <a:lnTo>
                  <a:pt x="396" y="649"/>
                </a:lnTo>
                <a:lnTo>
                  <a:pt x="402" y="671"/>
                </a:lnTo>
                <a:lnTo>
                  <a:pt x="406" y="686"/>
                </a:lnTo>
                <a:lnTo>
                  <a:pt x="409" y="703"/>
                </a:lnTo>
                <a:lnTo>
                  <a:pt x="426" y="804"/>
                </a:lnTo>
                <a:lnTo>
                  <a:pt x="431" y="822"/>
                </a:lnTo>
                <a:lnTo>
                  <a:pt x="443" y="871"/>
                </a:lnTo>
                <a:lnTo>
                  <a:pt x="486" y="1040"/>
                </a:lnTo>
                <a:lnTo>
                  <a:pt x="464" y="1045"/>
                </a:lnTo>
                <a:lnTo>
                  <a:pt x="454" y="1045"/>
                </a:lnTo>
                <a:lnTo>
                  <a:pt x="444" y="1047"/>
                </a:lnTo>
                <a:lnTo>
                  <a:pt x="434" y="1050"/>
                </a:lnTo>
                <a:lnTo>
                  <a:pt x="431" y="1052"/>
                </a:lnTo>
                <a:lnTo>
                  <a:pt x="431" y="1054"/>
                </a:lnTo>
                <a:lnTo>
                  <a:pt x="439" y="1079"/>
                </a:lnTo>
                <a:lnTo>
                  <a:pt x="429" y="1084"/>
                </a:lnTo>
                <a:lnTo>
                  <a:pt x="426" y="1086"/>
                </a:lnTo>
                <a:lnTo>
                  <a:pt x="422" y="1087"/>
                </a:lnTo>
                <a:lnTo>
                  <a:pt x="422" y="1089"/>
                </a:lnTo>
                <a:lnTo>
                  <a:pt x="421" y="1112"/>
                </a:lnTo>
                <a:lnTo>
                  <a:pt x="414" y="1156"/>
                </a:lnTo>
                <a:lnTo>
                  <a:pt x="406" y="1200"/>
                </a:lnTo>
                <a:lnTo>
                  <a:pt x="402" y="1221"/>
                </a:lnTo>
                <a:lnTo>
                  <a:pt x="399" y="1243"/>
                </a:lnTo>
                <a:lnTo>
                  <a:pt x="397" y="1267"/>
                </a:lnTo>
                <a:lnTo>
                  <a:pt x="397" y="1289"/>
                </a:lnTo>
                <a:lnTo>
                  <a:pt x="399" y="1334"/>
                </a:lnTo>
                <a:lnTo>
                  <a:pt x="397" y="1342"/>
                </a:lnTo>
                <a:lnTo>
                  <a:pt x="399" y="1347"/>
                </a:lnTo>
                <a:lnTo>
                  <a:pt x="399" y="1351"/>
                </a:lnTo>
                <a:lnTo>
                  <a:pt x="407" y="1361"/>
                </a:lnTo>
                <a:lnTo>
                  <a:pt x="409" y="1366"/>
                </a:lnTo>
                <a:lnTo>
                  <a:pt x="411" y="1371"/>
                </a:lnTo>
                <a:lnTo>
                  <a:pt x="411" y="1381"/>
                </a:lnTo>
                <a:lnTo>
                  <a:pt x="409" y="1391"/>
                </a:lnTo>
                <a:lnTo>
                  <a:pt x="407" y="1401"/>
                </a:lnTo>
                <a:lnTo>
                  <a:pt x="404" y="1406"/>
                </a:lnTo>
                <a:lnTo>
                  <a:pt x="401" y="1409"/>
                </a:lnTo>
                <a:lnTo>
                  <a:pt x="391" y="1413"/>
                </a:lnTo>
                <a:lnTo>
                  <a:pt x="379" y="1411"/>
                </a:lnTo>
                <a:lnTo>
                  <a:pt x="369" y="1409"/>
                </a:lnTo>
                <a:lnTo>
                  <a:pt x="359" y="1406"/>
                </a:lnTo>
                <a:lnTo>
                  <a:pt x="350" y="1401"/>
                </a:lnTo>
                <a:lnTo>
                  <a:pt x="342" y="1398"/>
                </a:lnTo>
                <a:lnTo>
                  <a:pt x="320" y="1391"/>
                </a:lnTo>
                <a:lnTo>
                  <a:pt x="302" y="1386"/>
                </a:lnTo>
                <a:lnTo>
                  <a:pt x="281" y="1379"/>
                </a:lnTo>
                <a:lnTo>
                  <a:pt x="263" y="1371"/>
                </a:lnTo>
                <a:lnTo>
                  <a:pt x="258" y="1367"/>
                </a:lnTo>
                <a:lnTo>
                  <a:pt x="255" y="1362"/>
                </a:lnTo>
                <a:lnTo>
                  <a:pt x="250" y="1354"/>
                </a:lnTo>
                <a:lnTo>
                  <a:pt x="245" y="1344"/>
                </a:lnTo>
                <a:lnTo>
                  <a:pt x="245" y="1339"/>
                </a:lnTo>
                <a:lnTo>
                  <a:pt x="245" y="1335"/>
                </a:lnTo>
                <a:lnTo>
                  <a:pt x="248" y="1330"/>
                </a:lnTo>
                <a:lnTo>
                  <a:pt x="251" y="1327"/>
                </a:lnTo>
                <a:lnTo>
                  <a:pt x="260" y="1324"/>
                </a:lnTo>
                <a:lnTo>
                  <a:pt x="271" y="1322"/>
                </a:lnTo>
                <a:lnTo>
                  <a:pt x="281" y="1324"/>
                </a:lnTo>
                <a:lnTo>
                  <a:pt x="292" y="1324"/>
                </a:lnTo>
                <a:lnTo>
                  <a:pt x="302" y="1322"/>
                </a:lnTo>
                <a:lnTo>
                  <a:pt x="323" y="1325"/>
                </a:lnTo>
                <a:lnTo>
                  <a:pt x="328" y="1325"/>
                </a:lnTo>
                <a:lnTo>
                  <a:pt x="332" y="1320"/>
                </a:lnTo>
                <a:lnTo>
                  <a:pt x="335" y="1312"/>
                </a:lnTo>
                <a:lnTo>
                  <a:pt x="340" y="1290"/>
                </a:lnTo>
                <a:lnTo>
                  <a:pt x="344" y="1268"/>
                </a:lnTo>
                <a:lnTo>
                  <a:pt x="347" y="1223"/>
                </a:lnTo>
                <a:lnTo>
                  <a:pt x="347" y="1213"/>
                </a:lnTo>
                <a:lnTo>
                  <a:pt x="345" y="1203"/>
                </a:lnTo>
                <a:lnTo>
                  <a:pt x="342" y="1183"/>
                </a:lnTo>
                <a:lnTo>
                  <a:pt x="332" y="1109"/>
                </a:lnTo>
                <a:lnTo>
                  <a:pt x="327" y="1111"/>
                </a:lnTo>
                <a:lnTo>
                  <a:pt x="323" y="1109"/>
                </a:lnTo>
                <a:lnTo>
                  <a:pt x="315" y="1102"/>
                </a:lnTo>
                <a:lnTo>
                  <a:pt x="313" y="1099"/>
                </a:lnTo>
                <a:lnTo>
                  <a:pt x="310" y="1094"/>
                </a:lnTo>
                <a:lnTo>
                  <a:pt x="308" y="1094"/>
                </a:lnTo>
                <a:lnTo>
                  <a:pt x="305" y="1094"/>
                </a:lnTo>
                <a:lnTo>
                  <a:pt x="300" y="1094"/>
                </a:lnTo>
                <a:lnTo>
                  <a:pt x="290" y="1097"/>
                </a:lnTo>
                <a:lnTo>
                  <a:pt x="280" y="1101"/>
                </a:lnTo>
                <a:lnTo>
                  <a:pt x="278" y="1101"/>
                </a:lnTo>
                <a:lnTo>
                  <a:pt x="278" y="1102"/>
                </a:lnTo>
                <a:lnTo>
                  <a:pt x="280" y="1109"/>
                </a:lnTo>
                <a:lnTo>
                  <a:pt x="280" y="1121"/>
                </a:lnTo>
                <a:lnTo>
                  <a:pt x="280" y="1131"/>
                </a:lnTo>
                <a:lnTo>
                  <a:pt x="280" y="1132"/>
                </a:lnTo>
                <a:lnTo>
                  <a:pt x="278" y="1132"/>
                </a:lnTo>
                <a:lnTo>
                  <a:pt x="275" y="1134"/>
                </a:lnTo>
                <a:lnTo>
                  <a:pt x="265" y="1136"/>
                </a:lnTo>
                <a:lnTo>
                  <a:pt x="255" y="1136"/>
                </a:lnTo>
                <a:lnTo>
                  <a:pt x="250" y="1136"/>
                </a:lnTo>
                <a:lnTo>
                  <a:pt x="248" y="1136"/>
                </a:lnTo>
                <a:lnTo>
                  <a:pt x="246" y="1139"/>
                </a:lnTo>
                <a:lnTo>
                  <a:pt x="245" y="1149"/>
                </a:lnTo>
                <a:lnTo>
                  <a:pt x="238" y="1171"/>
                </a:lnTo>
                <a:lnTo>
                  <a:pt x="221" y="1215"/>
                </a:lnTo>
                <a:lnTo>
                  <a:pt x="209" y="1253"/>
                </a:lnTo>
                <a:lnTo>
                  <a:pt x="204" y="1273"/>
                </a:lnTo>
                <a:lnTo>
                  <a:pt x="201" y="1295"/>
                </a:lnTo>
                <a:lnTo>
                  <a:pt x="196" y="1341"/>
                </a:lnTo>
                <a:lnTo>
                  <a:pt x="193" y="1364"/>
                </a:lnTo>
                <a:lnTo>
                  <a:pt x="193" y="1369"/>
                </a:lnTo>
                <a:lnTo>
                  <a:pt x="196" y="1372"/>
                </a:lnTo>
                <a:lnTo>
                  <a:pt x="199" y="1382"/>
                </a:lnTo>
                <a:lnTo>
                  <a:pt x="201" y="1393"/>
                </a:lnTo>
                <a:lnTo>
                  <a:pt x="201" y="1404"/>
                </a:lnTo>
                <a:lnTo>
                  <a:pt x="199" y="1426"/>
                </a:lnTo>
                <a:lnTo>
                  <a:pt x="199" y="1431"/>
                </a:lnTo>
                <a:lnTo>
                  <a:pt x="199" y="1434"/>
                </a:lnTo>
                <a:lnTo>
                  <a:pt x="194" y="1436"/>
                </a:lnTo>
                <a:lnTo>
                  <a:pt x="189" y="1436"/>
                </a:lnTo>
                <a:lnTo>
                  <a:pt x="169" y="1436"/>
                </a:lnTo>
                <a:lnTo>
                  <a:pt x="157" y="1436"/>
                </a:lnTo>
                <a:lnTo>
                  <a:pt x="144" y="1434"/>
                </a:lnTo>
                <a:lnTo>
                  <a:pt x="134" y="1431"/>
                </a:lnTo>
                <a:lnTo>
                  <a:pt x="124" y="1429"/>
                </a:lnTo>
                <a:lnTo>
                  <a:pt x="102" y="1429"/>
                </a:lnTo>
                <a:lnTo>
                  <a:pt x="92" y="1429"/>
                </a:lnTo>
                <a:lnTo>
                  <a:pt x="82" y="1428"/>
                </a:lnTo>
                <a:lnTo>
                  <a:pt x="60" y="1424"/>
                </a:lnTo>
                <a:lnTo>
                  <a:pt x="50" y="1421"/>
                </a:lnTo>
                <a:lnTo>
                  <a:pt x="38" y="1418"/>
                </a:lnTo>
                <a:lnTo>
                  <a:pt x="20" y="1409"/>
                </a:lnTo>
                <a:lnTo>
                  <a:pt x="10" y="1404"/>
                </a:lnTo>
                <a:lnTo>
                  <a:pt x="3" y="1396"/>
                </a:lnTo>
                <a:lnTo>
                  <a:pt x="1" y="1393"/>
                </a:lnTo>
                <a:lnTo>
                  <a:pt x="0" y="1387"/>
                </a:lnTo>
                <a:lnTo>
                  <a:pt x="0" y="1382"/>
                </a:lnTo>
                <a:lnTo>
                  <a:pt x="1" y="1377"/>
                </a:lnTo>
                <a:lnTo>
                  <a:pt x="10" y="1371"/>
                </a:lnTo>
                <a:lnTo>
                  <a:pt x="20" y="1366"/>
                </a:lnTo>
                <a:lnTo>
                  <a:pt x="28" y="1364"/>
                </a:lnTo>
                <a:lnTo>
                  <a:pt x="36" y="1362"/>
                </a:lnTo>
                <a:lnTo>
                  <a:pt x="55" y="1361"/>
                </a:lnTo>
                <a:lnTo>
                  <a:pt x="80" y="1359"/>
                </a:lnTo>
                <a:lnTo>
                  <a:pt x="94" y="1359"/>
                </a:lnTo>
                <a:lnTo>
                  <a:pt x="102" y="1357"/>
                </a:lnTo>
                <a:lnTo>
                  <a:pt x="109" y="1356"/>
                </a:lnTo>
                <a:lnTo>
                  <a:pt x="114" y="1351"/>
                </a:lnTo>
                <a:lnTo>
                  <a:pt x="124" y="1341"/>
                </a:lnTo>
                <a:lnTo>
                  <a:pt x="130" y="1330"/>
                </a:lnTo>
                <a:lnTo>
                  <a:pt x="135" y="1320"/>
                </a:lnTo>
                <a:lnTo>
                  <a:pt x="139" y="1305"/>
                </a:lnTo>
                <a:lnTo>
                  <a:pt x="142" y="1292"/>
                </a:lnTo>
                <a:lnTo>
                  <a:pt x="142" y="1297"/>
                </a:lnTo>
                <a:lnTo>
                  <a:pt x="144" y="1302"/>
                </a:lnTo>
                <a:lnTo>
                  <a:pt x="142" y="1297"/>
                </a:lnTo>
                <a:lnTo>
                  <a:pt x="142" y="1292"/>
                </a:lnTo>
                <a:lnTo>
                  <a:pt x="142" y="1282"/>
                </a:lnTo>
                <a:lnTo>
                  <a:pt x="141" y="1258"/>
                </a:lnTo>
                <a:lnTo>
                  <a:pt x="141" y="1211"/>
                </a:lnTo>
                <a:lnTo>
                  <a:pt x="142" y="1126"/>
                </a:lnTo>
                <a:lnTo>
                  <a:pt x="137" y="1127"/>
                </a:lnTo>
                <a:lnTo>
                  <a:pt x="132" y="1127"/>
                </a:lnTo>
                <a:lnTo>
                  <a:pt x="122" y="1122"/>
                </a:lnTo>
                <a:lnTo>
                  <a:pt x="115" y="1117"/>
                </a:lnTo>
                <a:lnTo>
                  <a:pt x="112" y="1117"/>
                </a:lnTo>
                <a:lnTo>
                  <a:pt x="110" y="1116"/>
                </a:lnTo>
                <a:lnTo>
                  <a:pt x="105" y="1117"/>
                </a:lnTo>
                <a:lnTo>
                  <a:pt x="94" y="1119"/>
                </a:lnTo>
                <a:lnTo>
                  <a:pt x="83" y="1119"/>
                </a:lnTo>
                <a:lnTo>
                  <a:pt x="73" y="1117"/>
                </a:lnTo>
                <a:lnTo>
                  <a:pt x="63" y="1116"/>
                </a:lnTo>
                <a:lnTo>
                  <a:pt x="72" y="1065"/>
                </a:lnTo>
                <a:lnTo>
                  <a:pt x="73" y="1057"/>
                </a:lnTo>
                <a:lnTo>
                  <a:pt x="72" y="1050"/>
                </a:lnTo>
                <a:lnTo>
                  <a:pt x="73" y="1027"/>
                </a:lnTo>
                <a:lnTo>
                  <a:pt x="80" y="983"/>
                </a:lnTo>
                <a:lnTo>
                  <a:pt x="89" y="941"/>
                </a:lnTo>
                <a:lnTo>
                  <a:pt x="99" y="898"/>
                </a:lnTo>
                <a:lnTo>
                  <a:pt x="107" y="854"/>
                </a:lnTo>
                <a:lnTo>
                  <a:pt x="114" y="817"/>
                </a:lnTo>
                <a:lnTo>
                  <a:pt x="119" y="785"/>
                </a:lnTo>
                <a:lnTo>
                  <a:pt x="120" y="777"/>
                </a:lnTo>
                <a:lnTo>
                  <a:pt x="120" y="768"/>
                </a:lnTo>
                <a:lnTo>
                  <a:pt x="120" y="747"/>
                </a:lnTo>
                <a:lnTo>
                  <a:pt x="120" y="727"/>
                </a:lnTo>
                <a:lnTo>
                  <a:pt x="124" y="705"/>
                </a:lnTo>
                <a:lnTo>
                  <a:pt x="130" y="685"/>
                </a:lnTo>
                <a:lnTo>
                  <a:pt x="132" y="675"/>
                </a:lnTo>
                <a:lnTo>
                  <a:pt x="132" y="671"/>
                </a:lnTo>
                <a:lnTo>
                  <a:pt x="127" y="670"/>
                </a:lnTo>
                <a:lnTo>
                  <a:pt x="122" y="671"/>
                </a:lnTo>
                <a:lnTo>
                  <a:pt x="119" y="675"/>
                </a:lnTo>
                <a:lnTo>
                  <a:pt x="114" y="676"/>
                </a:lnTo>
                <a:lnTo>
                  <a:pt x="107" y="676"/>
                </a:lnTo>
                <a:lnTo>
                  <a:pt x="99" y="676"/>
                </a:lnTo>
                <a:lnTo>
                  <a:pt x="94" y="675"/>
                </a:lnTo>
                <a:lnTo>
                  <a:pt x="90" y="671"/>
                </a:lnTo>
                <a:lnTo>
                  <a:pt x="82" y="664"/>
                </a:lnTo>
                <a:lnTo>
                  <a:pt x="78" y="661"/>
                </a:lnTo>
                <a:lnTo>
                  <a:pt x="77" y="658"/>
                </a:lnTo>
                <a:lnTo>
                  <a:pt x="75" y="648"/>
                </a:lnTo>
                <a:lnTo>
                  <a:pt x="73" y="636"/>
                </a:lnTo>
                <a:lnTo>
                  <a:pt x="75" y="626"/>
                </a:lnTo>
                <a:lnTo>
                  <a:pt x="78" y="617"/>
                </a:lnTo>
                <a:lnTo>
                  <a:pt x="80" y="612"/>
                </a:lnTo>
                <a:lnTo>
                  <a:pt x="83" y="609"/>
                </a:lnTo>
                <a:lnTo>
                  <a:pt x="90" y="602"/>
                </a:lnTo>
                <a:lnTo>
                  <a:pt x="105" y="582"/>
                </a:lnTo>
                <a:lnTo>
                  <a:pt x="107" y="579"/>
                </a:lnTo>
                <a:lnTo>
                  <a:pt x="107" y="574"/>
                </a:lnTo>
                <a:lnTo>
                  <a:pt x="107" y="564"/>
                </a:lnTo>
                <a:lnTo>
                  <a:pt x="109" y="539"/>
                </a:lnTo>
                <a:lnTo>
                  <a:pt x="112" y="498"/>
                </a:lnTo>
                <a:lnTo>
                  <a:pt x="115" y="477"/>
                </a:lnTo>
                <a:lnTo>
                  <a:pt x="120" y="453"/>
                </a:lnTo>
                <a:lnTo>
                  <a:pt x="124" y="445"/>
                </a:lnTo>
                <a:lnTo>
                  <a:pt x="127" y="435"/>
                </a:lnTo>
                <a:lnTo>
                  <a:pt x="127" y="425"/>
                </a:lnTo>
                <a:lnTo>
                  <a:pt x="125" y="415"/>
                </a:lnTo>
                <a:lnTo>
                  <a:pt x="120" y="404"/>
                </a:lnTo>
                <a:lnTo>
                  <a:pt x="119" y="399"/>
                </a:lnTo>
                <a:lnTo>
                  <a:pt x="117" y="396"/>
                </a:lnTo>
                <a:lnTo>
                  <a:pt x="115" y="386"/>
                </a:lnTo>
                <a:lnTo>
                  <a:pt x="117" y="376"/>
                </a:lnTo>
                <a:lnTo>
                  <a:pt x="124" y="356"/>
                </a:lnTo>
                <a:lnTo>
                  <a:pt x="129" y="346"/>
                </a:lnTo>
                <a:lnTo>
                  <a:pt x="134" y="337"/>
                </a:lnTo>
                <a:lnTo>
                  <a:pt x="147" y="319"/>
                </a:lnTo>
                <a:lnTo>
                  <a:pt x="154" y="312"/>
                </a:lnTo>
                <a:lnTo>
                  <a:pt x="159" y="305"/>
                </a:lnTo>
                <a:lnTo>
                  <a:pt x="167" y="297"/>
                </a:lnTo>
                <a:lnTo>
                  <a:pt x="171" y="292"/>
                </a:lnTo>
                <a:lnTo>
                  <a:pt x="172" y="289"/>
                </a:lnTo>
                <a:lnTo>
                  <a:pt x="177" y="279"/>
                </a:lnTo>
                <a:lnTo>
                  <a:pt x="184" y="270"/>
                </a:lnTo>
                <a:lnTo>
                  <a:pt x="194" y="252"/>
                </a:lnTo>
                <a:lnTo>
                  <a:pt x="189" y="247"/>
                </a:lnTo>
                <a:lnTo>
                  <a:pt x="189" y="243"/>
                </a:lnTo>
                <a:lnTo>
                  <a:pt x="189" y="238"/>
                </a:lnTo>
                <a:lnTo>
                  <a:pt x="196" y="235"/>
                </a:lnTo>
                <a:lnTo>
                  <a:pt x="204" y="227"/>
                </a:lnTo>
                <a:lnTo>
                  <a:pt x="219" y="215"/>
                </a:lnTo>
                <a:lnTo>
                  <a:pt x="199" y="218"/>
                </a:lnTo>
                <a:lnTo>
                  <a:pt x="187" y="220"/>
                </a:lnTo>
                <a:lnTo>
                  <a:pt x="177" y="220"/>
                </a:lnTo>
                <a:lnTo>
                  <a:pt x="172" y="218"/>
                </a:lnTo>
                <a:lnTo>
                  <a:pt x="169" y="217"/>
                </a:lnTo>
                <a:lnTo>
                  <a:pt x="166" y="213"/>
                </a:lnTo>
                <a:lnTo>
                  <a:pt x="166" y="208"/>
                </a:lnTo>
                <a:lnTo>
                  <a:pt x="166" y="203"/>
                </a:lnTo>
                <a:lnTo>
                  <a:pt x="164" y="200"/>
                </a:lnTo>
                <a:lnTo>
                  <a:pt x="161" y="196"/>
                </a:lnTo>
                <a:lnTo>
                  <a:pt x="156" y="193"/>
                </a:lnTo>
                <a:lnTo>
                  <a:pt x="152" y="191"/>
                </a:lnTo>
                <a:lnTo>
                  <a:pt x="152" y="190"/>
                </a:lnTo>
                <a:lnTo>
                  <a:pt x="151" y="188"/>
                </a:lnTo>
                <a:lnTo>
                  <a:pt x="152" y="185"/>
                </a:lnTo>
                <a:lnTo>
                  <a:pt x="154" y="183"/>
                </a:lnTo>
                <a:lnTo>
                  <a:pt x="159" y="181"/>
                </a:lnTo>
                <a:lnTo>
                  <a:pt x="161" y="180"/>
                </a:lnTo>
                <a:lnTo>
                  <a:pt x="159" y="178"/>
                </a:lnTo>
                <a:lnTo>
                  <a:pt x="156" y="176"/>
                </a:lnTo>
                <a:lnTo>
                  <a:pt x="146" y="175"/>
                </a:lnTo>
                <a:lnTo>
                  <a:pt x="144" y="173"/>
                </a:lnTo>
                <a:lnTo>
                  <a:pt x="144" y="171"/>
                </a:lnTo>
                <a:lnTo>
                  <a:pt x="142" y="166"/>
                </a:lnTo>
                <a:lnTo>
                  <a:pt x="144" y="156"/>
                </a:lnTo>
                <a:lnTo>
                  <a:pt x="142" y="153"/>
                </a:lnTo>
                <a:lnTo>
                  <a:pt x="137" y="151"/>
                </a:lnTo>
                <a:lnTo>
                  <a:pt x="134" y="148"/>
                </a:lnTo>
                <a:lnTo>
                  <a:pt x="132" y="146"/>
                </a:lnTo>
                <a:lnTo>
                  <a:pt x="132" y="144"/>
                </a:lnTo>
                <a:lnTo>
                  <a:pt x="134" y="139"/>
                </a:lnTo>
                <a:lnTo>
                  <a:pt x="137" y="136"/>
                </a:lnTo>
                <a:lnTo>
                  <a:pt x="146" y="126"/>
                </a:lnTo>
                <a:lnTo>
                  <a:pt x="146" y="124"/>
                </a:lnTo>
                <a:lnTo>
                  <a:pt x="144" y="123"/>
                </a:lnTo>
                <a:lnTo>
                  <a:pt x="142" y="119"/>
                </a:lnTo>
                <a:lnTo>
                  <a:pt x="141" y="116"/>
                </a:lnTo>
                <a:lnTo>
                  <a:pt x="141" y="111"/>
                </a:lnTo>
                <a:lnTo>
                  <a:pt x="141" y="91"/>
                </a:lnTo>
                <a:lnTo>
                  <a:pt x="144" y="81"/>
                </a:lnTo>
                <a:lnTo>
                  <a:pt x="147" y="71"/>
                </a:lnTo>
                <a:lnTo>
                  <a:pt x="151" y="61"/>
                </a:lnTo>
                <a:lnTo>
                  <a:pt x="157" y="52"/>
                </a:lnTo>
                <a:lnTo>
                  <a:pt x="169" y="35"/>
                </a:lnTo>
                <a:lnTo>
                  <a:pt x="172" y="32"/>
                </a:lnTo>
                <a:lnTo>
                  <a:pt x="174" y="27"/>
                </a:lnTo>
                <a:lnTo>
                  <a:pt x="177" y="24"/>
                </a:lnTo>
                <a:lnTo>
                  <a:pt x="181" y="19"/>
                </a:lnTo>
                <a:lnTo>
                  <a:pt x="189" y="12"/>
                </a:lnTo>
                <a:lnTo>
                  <a:pt x="198" y="9"/>
                </a:lnTo>
                <a:close/>
                <a:moveTo>
                  <a:pt x="298" y="181"/>
                </a:moveTo>
                <a:lnTo>
                  <a:pt x="298" y="181"/>
                </a:lnTo>
                <a:lnTo>
                  <a:pt x="310" y="181"/>
                </a:lnTo>
                <a:lnTo>
                  <a:pt x="307" y="176"/>
                </a:lnTo>
                <a:lnTo>
                  <a:pt x="303" y="173"/>
                </a:lnTo>
                <a:lnTo>
                  <a:pt x="300" y="171"/>
                </a:lnTo>
                <a:lnTo>
                  <a:pt x="298" y="173"/>
                </a:lnTo>
                <a:lnTo>
                  <a:pt x="298" y="175"/>
                </a:lnTo>
                <a:lnTo>
                  <a:pt x="298" y="181"/>
                </a:lnTo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Picture 295" descr="C:\Users\Potter Yang\Desktop\图片6.png"/>
          <p:cNvPicPr/>
          <p:nvPr/>
        </p:nvPicPr>
        <p:blipFill>
          <a:blip r:embed="rId2"/>
          <a:stretch/>
        </p:blipFill>
        <p:spPr>
          <a:xfrm>
            <a:off x="5375160" y="2135160"/>
            <a:ext cx="781200" cy="857160"/>
          </a:xfrm>
          <a:prstGeom prst="rect">
            <a:avLst/>
          </a:prstGeom>
          <a:ln w="0">
            <a:noFill/>
          </a:ln>
        </p:spPr>
      </p:pic>
      <p:sp>
        <p:nvSpPr>
          <p:cNvPr id="1682" name="矩形 89"/>
          <p:cNvSpPr/>
          <p:nvPr/>
        </p:nvSpPr>
        <p:spPr>
          <a:xfrm>
            <a:off x="4143240" y="156384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: This is the gift to the gir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直接连接符 91"/>
          <p:cNvSpPr/>
          <p:nvPr/>
        </p:nvSpPr>
        <p:spPr>
          <a:xfrm flipH="1" flipV="1">
            <a:off x="5272200" y="1409400"/>
            <a:ext cx="144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直接连接符 92"/>
          <p:cNvSpPr/>
          <p:nvPr/>
        </p:nvSpPr>
        <p:spPr>
          <a:xfrm flipH="1" flipV="1">
            <a:off x="6246360" y="1409400"/>
            <a:ext cx="180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矩形 93"/>
          <p:cNvSpPr/>
          <p:nvPr/>
        </p:nvSpPr>
        <p:spPr>
          <a:xfrm>
            <a:off x="4143240" y="306396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男：这是     给姑娘     的礼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94" nodeType="after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9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9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9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0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0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6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1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2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28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29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1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TextBox 67"/>
          <p:cNvSpPr/>
          <p:nvPr/>
        </p:nvSpPr>
        <p:spPr>
          <a:xfrm>
            <a:off x="2668680" y="1571760"/>
            <a:ext cx="621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discontinuities disguised under the so-called fluent or standard translation can be exposed by symptomatic rea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hinglish: When in China, do as Chinese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296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297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01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02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06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07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11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12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47"/>
          <p:cNvGrpSpPr/>
          <p:nvPr/>
        </p:nvGrpSpPr>
        <p:grpSpPr>
          <a:xfrm>
            <a:off x="4063680" y="-200520"/>
            <a:ext cx="3859200" cy="2312640"/>
            <a:chOff x="4063680" y="-200520"/>
            <a:chExt cx="3859200" cy="2312640"/>
          </a:xfrm>
        </p:grpSpPr>
        <p:grpSp>
          <p:nvGrpSpPr>
            <p:cNvPr id="316" name="组合 33"/>
            <p:cNvGrpSpPr/>
            <p:nvPr/>
          </p:nvGrpSpPr>
          <p:grpSpPr>
            <a:xfrm>
              <a:off x="4063680" y="-200520"/>
              <a:ext cx="1606320" cy="2085840"/>
              <a:chOff x="4063680" y="-200520"/>
              <a:chExt cx="1606320" cy="2085840"/>
            </a:xfrm>
          </p:grpSpPr>
          <p:sp>
            <p:nvSpPr>
              <p:cNvPr id="317" name="矩形 34"/>
              <p:cNvSpPr/>
              <p:nvPr/>
            </p:nvSpPr>
            <p:spPr>
              <a:xfrm rot="900000">
                <a:off x="4429080" y="325080"/>
                <a:ext cx="905040" cy="8762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矩形 35"/>
              <p:cNvSpPr/>
              <p:nvPr/>
            </p:nvSpPr>
            <p:spPr>
              <a:xfrm rot="900000">
                <a:off x="4282200" y="-80640"/>
                <a:ext cx="116856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TextBox 45"/>
            <p:cNvSpPr/>
            <p:nvPr/>
          </p:nvSpPr>
          <p:spPr>
            <a:xfrm rot="900000">
              <a:off x="5179680" y="1189440"/>
              <a:ext cx="27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21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22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32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74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75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5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6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7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7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7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7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圆角矩形 69"/>
          <p:cNvSpPr/>
          <p:nvPr/>
        </p:nvSpPr>
        <p:spPr>
          <a:xfrm>
            <a:off x="4059360" y="1714680"/>
            <a:ext cx="3500280" cy="2357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矩形 68"/>
          <p:cNvSpPr/>
          <p:nvPr/>
        </p:nvSpPr>
        <p:spPr>
          <a:xfrm>
            <a:off x="5022720" y="1428840"/>
            <a:ext cx="1500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top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矩形 72"/>
          <p:cNvSpPr/>
          <p:nvPr/>
        </p:nvSpPr>
        <p:spPr>
          <a:xfrm>
            <a:off x="35719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矩形 79"/>
          <p:cNvSpPr/>
          <p:nvPr/>
        </p:nvSpPr>
        <p:spPr>
          <a:xfrm>
            <a:off x="67867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0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2" dur="250" autoRev="1" fill="hold"/>
                                        <p:tgtEl>
                                          <p:spTgt spid="17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矩形 61"/>
          <p:cNvSpPr/>
          <p:nvPr/>
        </p:nvSpPr>
        <p:spPr>
          <a:xfrm>
            <a:off x="3314880" y="1168560"/>
            <a:ext cx="971280" cy="93636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0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1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1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6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2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3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3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3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矩形 60"/>
          <p:cNvSpPr/>
          <p:nvPr/>
        </p:nvSpPr>
        <p:spPr>
          <a:xfrm>
            <a:off x="3263760" y="1590840"/>
            <a:ext cx="545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 hierarchies that rank the values in the domestic culture are disarranged to set going processes of defamiliariztion, cannon reformation, ideological critique, and institutional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Venuti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ranslation Studies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5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8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8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8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8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矩形 58"/>
          <p:cNvSpPr/>
          <p:nvPr/>
        </p:nvSpPr>
        <p:spPr>
          <a:xfrm>
            <a:off x="2786040" y="157176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eing these things have not brought thee to repentance, now thou shalt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----Defoe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Robison Crus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矩形 61"/>
          <p:cNvSpPr/>
          <p:nvPr/>
        </p:nvSpPr>
        <p:spPr>
          <a:xfrm>
            <a:off x="2786040" y="25718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既然所发生的一切事情都不能使你忏悔，现在就要你的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郭建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矩形 62"/>
          <p:cNvSpPr/>
          <p:nvPr/>
        </p:nvSpPr>
        <p:spPr>
          <a:xfrm>
            <a:off x="2786040" y="35719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所见诸事，尔皆不悔，死期将至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1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16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19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6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27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9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941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942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4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矩形 59"/>
          <p:cNvSpPr/>
          <p:nvPr/>
        </p:nvSpPr>
        <p:spPr>
          <a:xfrm>
            <a:off x="2714760" y="1285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rls in love ain’t no use in the whole blessed week,” …… An’ Sunday they begin it all over agi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TextBox 60"/>
          <p:cNvSpPr/>
          <p:nvPr/>
        </p:nvSpPr>
        <p:spPr>
          <a:xfrm>
            <a:off x="2786040" y="2000160"/>
            <a:ext cx="585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【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译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】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“姑娘们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若是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迷了情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个把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礼拜都指不上她们了。”她继续道，“周天儿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远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瞅着马路，盼着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那个谁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来。下午他在了，她们就没别的心思。周一早上就没醒过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迷迷瞪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周二、周三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嘛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都干不了。到了周四心里就长了草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寻思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着礼拜天快来，整天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飘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恁地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让洗碗水在鼻尖底下凉掉。周五就要打碎碟子，闷在屋子里一把鼻涕一把泪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眼巴巴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的把着窗棱子看。周六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好嘛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那个忙啊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舞马张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理云鬓贴花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。周日，她们又要从头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捣鼓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一遍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6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7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7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9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6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997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五角星 78"/>
          <p:cNvSpPr/>
          <p:nvPr/>
        </p:nvSpPr>
        <p:spPr>
          <a:xfrm>
            <a:off x="3071880" y="23572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五角星 81"/>
          <p:cNvSpPr/>
          <p:nvPr/>
        </p:nvSpPr>
        <p:spPr>
          <a:xfrm>
            <a:off x="3071880" y="3143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矩形 84"/>
          <p:cNvSpPr/>
          <p:nvPr/>
        </p:nvSpPr>
        <p:spPr>
          <a:xfrm>
            <a:off x="3357720" y="1731960"/>
            <a:ext cx="485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lation promotes the development of M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ymptomatic reading exposes the hidden domesticated ide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pplication of resistancy in poetry and novel texts testifies theory’s feasi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3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2004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2005" name="矩形 67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7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1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02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202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02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2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1" name="组合 67"/>
          <p:cNvGrpSpPr/>
          <p:nvPr/>
        </p:nvGrpSpPr>
        <p:grpSpPr>
          <a:xfrm>
            <a:off x="2286000" y="2994120"/>
            <a:ext cx="6480000" cy="863640"/>
            <a:chOff x="2286000" y="2994120"/>
            <a:chExt cx="6480000" cy="863640"/>
          </a:xfrm>
        </p:grpSpPr>
        <p:sp>
          <p:nvSpPr>
            <p:cNvPr id="2042" name="矩形 94"/>
            <p:cNvSpPr/>
            <p:nvPr/>
          </p:nvSpPr>
          <p:spPr>
            <a:xfrm>
              <a:off x="235260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矩形 95"/>
            <p:cNvSpPr/>
            <p:nvPr/>
          </p:nvSpPr>
          <p:spPr>
            <a:xfrm>
              <a:off x="228600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TextBox 96"/>
            <p:cNvSpPr/>
            <p:nvPr/>
          </p:nvSpPr>
          <p:spPr>
            <a:xfrm>
              <a:off x="314784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hics of Location under the Rise of 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组合 68"/>
          <p:cNvGrpSpPr/>
          <p:nvPr/>
        </p:nvGrpSpPr>
        <p:grpSpPr>
          <a:xfrm>
            <a:off x="2286000" y="1636560"/>
            <a:ext cx="6480000" cy="863640"/>
            <a:chOff x="2286000" y="1636560"/>
            <a:chExt cx="6480000" cy="863640"/>
          </a:xfrm>
        </p:grpSpPr>
        <p:sp>
          <p:nvSpPr>
            <p:cNvPr id="2046" name="矩形 85"/>
            <p:cNvSpPr/>
            <p:nvPr/>
          </p:nvSpPr>
          <p:spPr>
            <a:xfrm>
              <a:off x="2286000" y="163656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TextBox 86"/>
            <p:cNvSpPr/>
            <p:nvPr/>
          </p:nvSpPr>
          <p:spPr>
            <a:xfrm>
              <a:off x="3071520" y="174420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mitations In C-E and E-C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矩形 81"/>
            <p:cNvSpPr/>
            <p:nvPr/>
          </p:nvSpPr>
          <p:spPr>
            <a:xfrm>
              <a:off x="2350800" y="170784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50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2" name="燕尾形 44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燕尾形 45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燕尾形 47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燕尾形 48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燕尾形 49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燕尾形 50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燕尾形 51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燕尾形 52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燕尾形 5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燕尾形 54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燕尾形 55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燕尾形 56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燕尾形 57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燕尾形 58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燕尾形 59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矩形 6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Box 61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9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070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071" name="矩形 65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3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5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8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5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5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5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5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8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250" autoRev="1" fill="hold"/>
                                        <p:tgtEl>
                                          <p:spTgt spid="20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8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8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9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0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0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1 Limitations 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8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19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20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2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3" name="Rectangle 1"/>
          <p:cNvSpPr/>
          <p:nvPr/>
        </p:nvSpPr>
        <p:spPr>
          <a:xfrm>
            <a:off x="3051000" y="1652040"/>
            <a:ext cx="552168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gnorance of Non Indian-European Cor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families: “her beat 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ance leads to in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 Paradox in Reversed Culture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promoter or language bu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25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7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0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8" dur="250" autoRev="1" fill="hold"/>
                                        <p:tgtEl>
                                          <p:spTgt spid="2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1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14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15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6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6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2 Ethics of Location under the Rise of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矩形 65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6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77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78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0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82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矩形 87"/>
          <p:cNvSpPr/>
          <p:nvPr/>
        </p:nvSpPr>
        <p:spPr>
          <a:xfrm>
            <a:off x="3153240" y="2071800"/>
            <a:ext cx="1726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 c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矩形 93"/>
          <p:cNvSpPr/>
          <p:nvPr/>
        </p:nvSpPr>
        <p:spPr>
          <a:xfrm>
            <a:off x="6286680" y="1928880"/>
            <a:ext cx="2428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ys of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ll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矩形 94"/>
          <p:cNvSpPr/>
          <p:nvPr/>
        </p:nvSpPr>
        <p:spPr>
          <a:xfrm>
            <a:off x="5024520" y="3987720"/>
            <a:ext cx="14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pyright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TextBox 95"/>
          <p:cNvSpPr/>
          <p:nvPr/>
        </p:nvSpPr>
        <p:spPr>
          <a:xfrm>
            <a:off x="5081760" y="271476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Ethics of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3" name="组合 70"/>
          <p:cNvGrpSpPr/>
          <p:nvPr/>
        </p:nvGrpSpPr>
        <p:grpSpPr>
          <a:xfrm>
            <a:off x="3285720" y="1143000"/>
            <a:ext cx="5016960" cy="2974680"/>
            <a:chOff x="3285720" y="1143000"/>
            <a:chExt cx="5016960" cy="2974680"/>
          </a:xfrm>
        </p:grpSpPr>
        <p:grpSp>
          <p:nvGrpSpPr>
            <p:cNvPr id="2194" name="组合 85"/>
            <p:cNvGrpSpPr/>
            <p:nvPr/>
          </p:nvGrpSpPr>
          <p:grpSpPr>
            <a:xfrm>
              <a:off x="3285720" y="1432800"/>
              <a:ext cx="5016960" cy="2684880"/>
              <a:chOff x="3285720" y="1432800"/>
              <a:chExt cx="5016960" cy="2684880"/>
            </a:xfrm>
          </p:grpSpPr>
          <p:pic>
            <p:nvPicPr>
              <p:cNvPr id="21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053120" y="2755800"/>
                <a:ext cx="1249560" cy="115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6" name="Picture 762" descr="C:\Users\Potter Yang\Desktop\图片7.png"/>
              <p:cNvPicPr/>
              <p:nvPr/>
            </p:nvPicPr>
            <p:blipFill>
              <a:blip r:embed="rId3"/>
              <a:stretch/>
            </p:blipFill>
            <p:spPr>
              <a:xfrm>
                <a:off x="3285720" y="2880720"/>
                <a:ext cx="1158480" cy="110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7" name="任意多边形 72"/>
              <p:cNvSpPr/>
              <p:nvPr/>
            </p:nvSpPr>
            <p:spPr>
              <a:xfrm flipH="1" flipV="1">
                <a:off x="4515840" y="3911040"/>
                <a:ext cx="2500200" cy="20628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任意多边形 83"/>
              <p:cNvSpPr/>
              <p:nvPr/>
            </p:nvSpPr>
            <p:spPr>
              <a:xfrm flipH="1" flipV="1" rot="13239000">
                <a:off x="6351120" y="1973880"/>
                <a:ext cx="1727280" cy="1724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任意多边形 84"/>
              <p:cNvSpPr/>
              <p:nvPr/>
            </p:nvSpPr>
            <p:spPr>
              <a:xfrm flipH="1" flipV="1" rot="8034600">
                <a:off x="3675600" y="2005200"/>
                <a:ext cx="1476360" cy="1796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0" name="Picture 70" descr="F:\论文\硕士毕业论文\Presentation\png\图片8.png"/>
            <p:cNvPicPr/>
            <p:nvPr/>
          </p:nvPicPr>
          <p:blipFill>
            <a:blip r:embed="rId4"/>
            <a:stretch/>
          </p:blipFill>
          <p:spPr>
            <a:xfrm>
              <a:off x="5286240" y="1143000"/>
              <a:ext cx="954360" cy="10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0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5" dur="250" autoRev="1" fill="hold"/>
                                        <p:tgtEl>
                                          <p:spTgt spid="2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0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2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矩形 62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3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9" name="组合 65"/>
          <p:cNvGrpSpPr/>
          <p:nvPr/>
        </p:nvGrpSpPr>
        <p:grpSpPr>
          <a:xfrm>
            <a:off x="2928960" y="1190520"/>
            <a:ext cx="5759280" cy="3097440"/>
            <a:chOff x="2928960" y="1190520"/>
            <a:chExt cx="5759280" cy="3097440"/>
          </a:xfrm>
        </p:grpSpPr>
        <p:grpSp>
          <p:nvGrpSpPr>
            <p:cNvPr id="2240" name="组合 72"/>
            <p:cNvGrpSpPr/>
            <p:nvPr/>
          </p:nvGrpSpPr>
          <p:grpSpPr>
            <a:xfrm>
              <a:off x="2928960" y="1190520"/>
              <a:ext cx="5759280" cy="3097440"/>
              <a:chOff x="2928960" y="1190520"/>
              <a:chExt cx="5759280" cy="3097440"/>
            </a:xfrm>
          </p:grpSpPr>
          <p:sp>
            <p:nvSpPr>
              <p:cNvPr id="2241" name="任意多边形 75"/>
              <p:cNvSpPr/>
              <p:nvPr/>
            </p:nvSpPr>
            <p:spPr>
              <a:xfrm>
                <a:off x="3035160" y="1261800"/>
                <a:ext cx="5551560" cy="51912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umma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圆角矩形 76"/>
              <p:cNvSpPr/>
              <p:nvPr/>
            </p:nvSpPr>
            <p:spPr>
              <a:xfrm>
                <a:off x="2928960" y="1190520"/>
                <a:ext cx="5759280" cy="309744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7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3" name="五角星 77"/>
            <p:cNvSpPr/>
            <p:nvPr/>
          </p:nvSpPr>
          <p:spPr>
            <a:xfrm>
              <a:off x="3143160" y="207144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五角星 81"/>
            <p:cNvSpPr/>
            <p:nvPr/>
          </p:nvSpPr>
          <p:spPr>
            <a:xfrm>
              <a:off x="3143160" y="310536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矩形 84"/>
            <p:cNvSpPr/>
            <p:nvPr/>
          </p:nvSpPr>
          <p:spPr>
            <a:xfrm>
              <a:off x="3429000" y="1968480"/>
              <a:ext cx="4857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imitations caused by lack of non-Indo-European language analysis and in the reversed influence condition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nuti’s theory exhibits a great vitality under the development of modern information technolog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6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3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254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255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7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7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7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组合 817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281" name="燕尾形 35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燕尾形 36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燕尾形 37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燕尾形 38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燕尾形 39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6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8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89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97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9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燕尾形 58"/>
          <p:cNvSpPr/>
          <p:nvPr/>
        </p:nvSpPr>
        <p:spPr>
          <a:xfrm>
            <a:off x="69292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燕尾形 59"/>
          <p:cNvSpPr/>
          <p:nvPr/>
        </p:nvSpPr>
        <p:spPr>
          <a:xfrm>
            <a:off x="70819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燕尾形 60"/>
          <p:cNvSpPr/>
          <p:nvPr/>
        </p:nvSpPr>
        <p:spPr>
          <a:xfrm>
            <a:off x="723420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燕尾形 61"/>
          <p:cNvSpPr/>
          <p:nvPr/>
        </p:nvSpPr>
        <p:spPr>
          <a:xfrm>
            <a:off x="7386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燕尾形 62"/>
          <p:cNvSpPr/>
          <p:nvPr/>
        </p:nvSpPr>
        <p:spPr>
          <a:xfrm>
            <a:off x="75391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9" name="组合 48"/>
          <p:cNvGrpSpPr/>
          <p:nvPr/>
        </p:nvGrpSpPr>
        <p:grpSpPr>
          <a:xfrm>
            <a:off x="39600" y="-298440"/>
            <a:ext cx="3700440" cy="1846440"/>
            <a:chOff x="39600" y="-298440"/>
            <a:chExt cx="3700440" cy="1846440"/>
          </a:xfrm>
        </p:grpSpPr>
        <p:grpSp>
          <p:nvGrpSpPr>
            <p:cNvPr id="2310" name="组合 36"/>
            <p:cNvGrpSpPr/>
            <p:nvPr/>
          </p:nvGrpSpPr>
          <p:grpSpPr>
            <a:xfrm>
              <a:off x="39600" y="-298440"/>
              <a:ext cx="1168920" cy="1846440"/>
              <a:chOff x="39600" y="-298440"/>
              <a:chExt cx="1168920" cy="1846440"/>
            </a:xfrm>
          </p:grpSpPr>
          <p:sp>
            <p:nvSpPr>
              <p:cNvPr id="2311" name="矩形 70"/>
              <p:cNvSpPr/>
              <p:nvPr/>
            </p:nvSpPr>
            <p:spPr>
              <a:xfrm>
                <a:off x="156960" y="10944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矩形 38"/>
              <p:cNvSpPr/>
              <p:nvPr/>
            </p:nvSpPr>
            <p:spPr>
              <a:xfrm>
                <a:off x="39600" y="-2984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3" name="TextBox 46"/>
            <p:cNvSpPr/>
            <p:nvPr/>
          </p:nvSpPr>
          <p:spPr>
            <a:xfrm>
              <a:off x="1024920" y="5619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4" name="矩形 816"/>
          <p:cNvSpPr/>
          <p:nvPr/>
        </p:nvSpPr>
        <p:spPr>
          <a:xfrm>
            <a:off x="1801800" y="1785960"/>
            <a:ext cx="727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starting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is thus not a </a:t>
            </a:r>
            <a:r>
              <a:rPr b="0" i="1" lang="en-US" sz="2400" spc="-1" strike="noStrike">
                <a:solidFill>
                  <a:srgbClr val="0070c0"/>
                </a:solidFill>
                <a:latin typeface="Calibri"/>
              </a:rPr>
              <a:t>point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but a differ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Barbara Johnson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isse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981, trans from Derrida’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a dissé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0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5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5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5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5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5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4" dur="250" autoRev="1" fill="hold"/>
                                        <p:tgtEl>
                                          <p:spTgt spid="22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5" dur="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8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5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2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5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1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7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0" dur="5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3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2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5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1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5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7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328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329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33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34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38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39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43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44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47"/>
          <p:cNvGrpSpPr/>
          <p:nvPr/>
        </p:nvGrpSpPr>
        <p:grpSpPr>
          <a:xfrm>
            <a:off x="4063680" y="-189000"/>
            <a:ext cx="3860640" cy="2300400"/>
            <a:chOff x="4063680" y="-189000"/>
            <a:chExt cx="3860640" cy="2300400"/>
          </a:xfrm>
        </p:grpSpPr>
        <p:grpSp>
          <p:nvGrpSpPr>
            <p:cNvPr id="348" name="组合 33"/>
            <p:cNvGrpSpPr/>
            <p:nvPr/>
          </p:nvGrpSpPr>
          <p:grpSpPr>
            <a:xfrm>
              <a:off x="4063680" y="-189000"/>
              <a:ext cx="1606680" cy="2086200"/>
              <a:chOff x="4063680" y="-189000"/>
              <a:chExt cx="1606680" cy="2086200"/>
            </a:xfrm>
          </p:grpSpPr>
          <p:sp>
            <p:nvSpPr>
              <p:cNvPr id="349" name="矩形 34"/>
              <p:cNvSpPr/>
              <p:nvPr/>
            </p:nvSpPr>
            <p:spPr>
              <a:xfrm rot="900000">
                <a:off x="4424040" y="339480"/>
                <a:ext cx="9000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矩形 35"/>
              <p:cNvSpPr/>
              <p:nvPr/>
            </p:nvSpPr>
            <p:spPr>
              <a:xfrm rot="900000">
                <a:off x="4282200" y="-691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Box 45"/>
            <p:cNvSpPr/>
            <p:nvPr/>
          </p:nvSpPr>
          <p:spPr>
            <a:xfrm rot="900000">
              <a:off x="5180040" y="11883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53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54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矩形 33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900000">
                                      <p:cBhvr>
                                        <p:cTn id="1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11111E-006 -2.83951E-006 L -0.46545 -0.0895 E">
                                      <p:cBhvr>
                                        <p:cTn id="163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矩形 4"/>
          <p:cNvSpPr/>
          <p:nvPr/>
        </p:nvSpPr>
        <p:spPr>
          <a:xfrm flipH="1">
            <a:off x="-9159120" y="0"/>
            <a:ext cx="1087308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TextBox 3"/>
          <p:cNvSpPr/>
          <p:nvPr/>
        </p:nvSpPr>
        <p:spPr>
          <a:xfrm>
            <a:off x="2071800" y="2109960"/>
            <a:ext cx="50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7" name="组合 52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318" name="燕尾形 26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燕尾形 27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燕尾形 28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燕尾形 29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燕尾形 30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3" name="矩形 66"/>
          <p:cNvSpPr/>
          <p:nvPr/>
        </p:nvSpPr>
        <p:spPr>
          <a:xfrm>
            <a:off x="8658720" y="4000680"/>
            <a:ext cx="6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4" name="组合 67"/>
          <p:cNvGrpSpPr/>
          <p:nvPr/>
        </p:nvGrpSpPr>
        <p:grpSpPr>
          <a:xfrm>
            <a:off x="8874360" y="4332240"/>
            <a:ext cx="599760" cy="821880"/>
            <a:chOff x="8874360" y="4332240"/>
            <a:chExt cx="599760" cy="821880"/>
          </a:xfrm>
        </p:grpSpPr>
        <p:sp>
          <p:nvSpPr>
            <p:cNvPr id="2325" name="燕尾形 68"/>
            <p:cNvSpPr/>
            <p:nvPr/>
          </p:nvSpPr>
          <p:spPr>
            <a:xfrm rot="14400000">
              <a:off x="9219600" y="4899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燕尾形 69"/>
            <p:cNvSpPr/>
            <p:nvPr/>
          </p:nvSpPr>
          <p:spPr>
            <a:xfrm rot="14400000">
              <a:off x="9143640" y="47689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燕尾形 70"/>
            <p:cNvSpPr/>
            <p:nvPr/>
          </p:nvSpPr>
          <p:spPr>
            <a:xfrm rot="14400000">
              <a:off x="9068040" y="463824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燕尾形 71"/>
            <p:cNvSpPr/>
            <p:nvPr/>
          </p:nvSpPr>
          <p:spPr>
            <a:xfrm rot="14400000">
              <a:off x="8990640" y="4503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燕尾形 72"/>
            <p:cNvSpPr/>
            <p:nvPr/>
          </p:nvSpPr>
          <p:spPr>
            <a:xfrm rot="14400000">
              <a:off x="8913600" y="43711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0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1.56318E-006 L 0.81129 -1.56318E-006 E">
                                      <p:cBhvr>
                                        <p:cTn id="1044" dur="500" fill="hold"/>
                                        <p:tgtEl>
                                          <p:spTgt spid="2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3.39203E-006 L 0.81233 -3.39203E-006 E">
                                      <p:cBhvr>
                                        <p:cTn id="1046" dur="500" fill="hold"/>
                                        <p:tgtEl>
                                          <p:spTgt spid="2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7200000">
                                      <p:cBhvr>
                                        <p:cTn id="1048" dur="300" fill="hold"/>
                                        <p:tgtEl>
                                          <p:spTgt spid="2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049" dur="1" fill="hold">
                                    <p:stCondLst>
                                      <p:cond evt="end">
                                        <p:tn val="1047"/>
                                      </p:cond>
                                    </p:stCondLst>
                                  </p:cTn>
                                  <p:tgtEl>
                                    <p:spTgt spid="2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50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55" dur="500" fill="hold"/>
                                        <p:tgtEl>
                                          <p:spTgt spid="2323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1.11022E-016 -2.59259E-006 C -0.0066 -0.10494 -0.00937 -0.53055 -0.03993 -0.62994 C -0.07049 -0.72932 -0.11806 -0.61389 -0.18368 -0.5966 C -0.24931 -0.57932 -0.34427 -0.56358 -0.43368 -0.52531 C -0.52309 -0.48703 -0.66024 -0.40031 -0.71997 -0.36759 E">
                                      <p:cBhvr>
                                        <p:cTn id="1057" dur="500" fill="hold"/>
                                        <p:tgtEl>
                                          <p:spTgt spid="2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30">
                                  <p:stCondLst>
                                    <p:cond delay="1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4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3" presetSubtype="2">
                                  <p:stCondLst>
                                    <p:cond delay="1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0" dur="10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4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60" name="矩形 28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363" name="矩形 31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366" name="矩形 34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369" name="矩形 37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372" name="矩形 40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47"/>
          <p:cNvGrpSpPr/>
          <p:nvPr/>
        </p:nvGrpSpPr>
        <p:grpSpPr>
          <a:xfrm>
            <a:off x="71280" y="-285840"/>
            <a:ext cx="3705480" cy="1846440"/>
            <a:chOff x="71280" y="-285840"/>
            <a:chExt cx="3705480" cy="1846440"/>
          </a:xfrm>
        </p:grpSpPr>
        <p:grpSp>
          <p:nvGrpSpPr>
            <p:cNvPr id="375" name="组合 33"/>
            <p:cNvGrpSpPr/>
            <p:nvPr/>
          </p:nvGrpSpPr>
          <p:grpSpPr>
            <a:xfrm>
              <a:off x="71280" y="-285840"/>
              <a:ext cx="1168920" cy="1846440"/>
              <a:chOff x="71280" y="-285840"/>
              <a:chExt cx="1168920" cy="1846440"/>
            </a:xfrm>
          </p:grpSpPr>
          <p:sp>
            <p:nvSpPr>
              <p:cNvPr id="376" name="矩形 17"/>
              <p:cNvSpPr/>
              <p:nvPr/>
            </p:nvSpPr>
            <p:spPr>
              <a:xfrm>
                <a:off x="201240" y="133200"/>
                <a:ext cx="90792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矩形 18"/>
              <p:cNvSpPr/>
              <p:nvPr/>
            </p:nvSpPr>
            <p:spPr>
              <a:xfrm>
                <a:off x="7128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16"/>
            <p:cNvSpPr/>
            <p:nvPr/>
          </p:nvSpPr>
          <p:spPr>
            <a:xfrm>
              <a:off x="1061640" y="5212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38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燕尾形 4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燕尾形 4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燕尾形 4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燕尾形 50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燕尾形 51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0"/>
          <p:cNvGrpSpPr/>
          <p:nvPr/>
        </p:nvGrpSpPr>
        <p:grpSpPr>
          <a:xfrm>
            <a:off x="1000080" y="1359000"/>
            <a:ext cx="1857600" cy="2498760"/>
            <a:chOff x="1000080" y="1359000"/>
            <a:chExt cx="1857600" cy="2498760"/>
          </a:xfrm>
        </p:grpSpPr>
        <p:pic>
          <p:nvPicPr>
            <p:cNvPr id="388" name="图片 61" descr="http://www.princeton.edu/arts/images/bio_pics/venutibyMarthaTennent_web.jpg"/>
            <p:cNvPicPr/>
            <p:nvPr/>
          </p:nvPicPr>
          <p:blipFill>
            <a:blip r:embed="rId1"/>
            <a:stretch/>
          </p:blipFill>
          <p:spPr>
            <a:xfrm>
              <a:off x="1206720" y="1359000"/>
              <a:ext cx="1445040" cy="24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Box 17"/>
            <p:cNvSpPr/>
            <p:nvPr/>
          </p:nvSpPr>
          <p:spPr>
            <a:xfrm>
              <a:off x="1000080" y="2647800"/>
              <a:ext cx="18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enuti 1953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Box 87"/>
          <p:cNvSpPr/>
          <p:nvPr/>
        </p:nvSpPr>
        <p:spPr>
          <a:xfrm>
            <a:off x="2928960" y="135720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Prolific Sch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8"/>
          <p:cNvSpPr/>
          <p:nvPr/>
        </p:nvSpPr>
        <p:spPr>
          <a:xfrm>
            <a:off x="2928960" y="250524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Domestic Studies on Lawrence Ven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4"/>
          <p:cNvSpPr/>
          <p:nvPr/>
        </p:nvSpPr>
        <p:spPr>
          <a:xfrm>
            <a:off x="3071880" y="16398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ranslation Theories +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in 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55"/>
          <p:cNvSpPr/>
          <p:nvPr/>
        </p:nvSpPr>
        <p:spPr>
          <a:xfrm>
            <a:off x="3071880" y="279072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troduction and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scussions on foreignization and domes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thics 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39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5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5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9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0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0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0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0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22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23" name="矩形 4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94"/>
          <p:cNvSpPr/>
          <p:nvPr/>
        </p:nvSpPr>
        <p:spPr>
          <a:xfrm>
            <a:off x="2352600" y="3065400"/>
            <a:ext cx="7192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95"/>
          <p:cNvSpPr/>
          <p:nvPr/>
        </p:nvSpPr>
        <p:spPr>
          <a:xfrm>
            <a:off x="2286000" y="299412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96"/>
          <p:cNvSpPr/>
          <p:nvPr/>
        </p:nvSpPr>
        <p:spPr>
          <a:xfrm>
            <a:off x="3147840" y="3102120"/>
            <a:ext cx="55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oretical Backgrounds of Venuti’s Thou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85"/>
          <p:cNvSpPr/>
          <p:nvPr/>
        </p:nvSpPr>
        <p:spPr>
          <a:xfrm>
            <a:off x="2286000" y="163656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86"/>
          <p:cNvSpPr/>
          <p:nvPr/>
        </p:nvSpPr>
        <p:spPr>
          <a:xfrm>
            <a:off x="3071880" y="174456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struction and Deconstructiv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81"/>
          <p:cNvSpPr/>
          <p:nvPr/>
        </p:nvSpPr>
        <p:spPr>
          <a:xfrm>
            <a:off x="2351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33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矩形 40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43"/>
          <p:cNvSpPr/>
          <p:nvPr/>
        </p:nvSpPr>
        <p:spPr>
          <a:xfrm flipV="1" rot="10800000">
            <a:off x="857160" y="171468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5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5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3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71605E-006 L -0.16181 -2.71605E-006 E">
                                      <p:cBhvr>
                                        <p:cTn id="261" dur="5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7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4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42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45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4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5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59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60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4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72" name="矩形 108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燕尾形 110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燕尾形 111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燕尾形 112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燕尾形 113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燕尾形 114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88"/>
          <p:cNvGrpSpPr/>
          <p:nvPr/>
        </p:nvGrpSpPr>
        <p:grpSpPr>
          <a:xfrm>
            <a:off x="6423120" y="2619360"/>
            <a:ext cx="1841040" cy="903240"/>
            <a:chOff x="6423120" y="2619360"/>
            <a:chExt cx="1841040" cy="903240"/>
          </a:xfrm>
        </p:grpSpPr>
        <p:sp>
          <p:nvSpPr>
            <p:cNvPr id="480" name="矩形 52"/>
            <p:cNvSpPr/>
            <p:nvPr/>
          </p:nvSpPr>
          <p:spPr>
            <a:xfrm>
              <a:off x="64310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53"/>
            <p:cNvSpPr/>
            <p:nvPr/>
          </p:nvSpPr>
          <p:spPr>
            <a:xfrm>
              <a:off x="68594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55"/>
            <p:cNvSpPr/>
            <p:nvPr/>
          </p:nvSpPr>
          <p:spPr>
            <a:xfrm>
              <a:off x="726120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56"/>
            <p:cNvSpPr/>
            <p:nvPr/>
          </p:nvSpPr>
          <p:spPr>
            <a:xfrm>
              <a:off x="7693200" y="261936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57"/>
            <p:cNvSpPr/>
            <p:nvPr/>
          </p:nvSpPr>
          <p:spPr>
            <a:xfrm flipH="1">
              <a:off x="6428520" y="278748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58"/>
            <p:cNvSpPr/>
            <p:nvPr/>
          </p:nvSpPr>
          <p:spPr>
            <a:xfrm>
              <a:off x="664524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59"/>
            <p:cNvSpPr/>
            <p:nvPr/>
          </p:nvSpPr>
          <p:spPr>
            <a:xfrm>
              <a:off x="7047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60"/>
            <p:cNvSpPr/>
            <p:nvPr/>
          </p:nvSpPr>
          <p:spPr>
            <a:xfrm>
              <a:off x="7479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61"/>
            <p:cNvSpPr/>
            <p:nvPr/>
          </p:nvSpPr>
          <p:spPr>
            <a:xfrm>
              <a:off x="6429240" y="297180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62"/>
            <p:cNvSpPr/>
            <p:nvPr/>
          </p:nvSpPr>
          <p:spPr>
            <a:xfrm>
              <a:off x="685800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63"/>
            <p:cNvSpPr/>
            <p:nvPr/>
          </p:nvSpPr>
          <p:spPr>
            <a:xfrm>
              <a:off x="725976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64"/>
            <p:cNvSpPr/>
            <p:nvPr/>
          </p:nvSpPr>
          <p:spPr>
            <a:xfrm>
              <a:off x="6429240" y="3152880"/>
              <a:ext cx="215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65"/>
            <p:cNvSpPr/>
            <p:nvPr/>
          </p:nvSpPr>
          <p:spPr>
            <a:xfrm>
              <a:off x="664524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66"/>
            <p:cNvSpPr/>
            <p:nvPr/>
          </p:nvSpPr>
          <p:spPr>
            <a:xfrm>
              <a:off x="704700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67"/>
            <p:cNvSpPr/>
            <p:nvPr/>
          </p:nvSpPr>
          <p:spPr>
            <a:xfrm>
              <a:off x="64231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68"/>
            <p:cNvSpPr/>
            <p:nvPr/>
          </p:nvSpPr>
          <p:spPr>
            <a:xfrm>
              <a:off x="68515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69"/>
            <p:cNvSpPr/>
            <p:nvPr/>
          </p:nvSpPr>
          <p:spPr>
            <a:xfrm rot="1673400">
              <a:off x="7815240" y="320364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70"/>
            <p:cNvSpPr/>
            <p:nvPr/>
          </p:nvSpPr>
          <p:spPr>
            <a:xfrm>
              <a:off x="7693200" y="334332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Box 108"/>
          <p:cNvSpPr/>
          <p:nvPr/>
        </p:nvSpPr>
        <p:spPr>
          <a:xfrm>
            <a:off x="3327480" y="2556000"/>
            <a:ext cx="310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play of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ainst center or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11"/>
          <p:cNvSpPr/>
          <p:nvPr/>
        </p:nvSpPr>
        <p:spPr>
          <a:xfrm>
            <a:off x="2755800" y="1552680"/>
            <a:ext cx="53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is Deco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5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0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05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0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22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25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26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542" name="组合 51"/>
          <p:cNvGrpSpPr/>
          <p:nvPr/>
        </p:nvGrpSpPr>
        <p:grpSpPr>
          <a:xfrm>
            <a:off x="3492360" y="2063880"/>
            <a:ext cx="1079640" cy="1079280"/>
            <a:chOff x="3492360" y="2063880"/>
            <a:chExt cx="1079640" cy="1079280"/>
          </a:xfrm>
        </p:grpSpPr>
        <p:sp>
          <p:nvSpPr>
            <p:cNvPr id="543" name="椭圆 47"/>
            <p:cNvSpPr/>
            <p:nvPr/>
          </p:nvSpPr>
          <p:spPr>
            <a:xfrm>
              <a:off x="34923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50"/>
            <p:cNvSpPr/>
            <p:nvPr/>
          </p:nvSpPr>
          <p:spPr>
            <a:xfrm>
              <a:off x="35319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Orig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52"/>
          <p:cNvGrpSpPr/>
          <p:nvPr/>
        </p:nvGrpSpPr>
        <p:grpSpPr>
          <a:xfrm>
            <a:off x="6357960" y="2063880"/>
            <a:ext cx="1079640" cy="1079280"/>
            <a:chOff x="6357960" y="2063880"/>
            <a:chExt cx="1079640" cy="1079280"/>
          </a:xfrm>
        </p:grpSpPr>
        <p:sp>
          <p:nvSpPr>
            <p:cNvPr id="546" name="椭圆 53"/>
            <p:cNvSpPr/>
            <p:nvPr/>
          </p:nvSpPr>
          <p:spPr>
            <a:xfrm>
              <a:off x="63579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55"/>
            <p:cNvSpPr/>
            <p:nvPr/>
          </p:nvSpPr>
          <p:spPr>
            <a:xfrm>
              <a:off x="63975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Tr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8" name="直接箭头连接符 62"/>
          <p:cNvCxnSpPr/>
          <p:nvPr/>
        </p:nvCxnSpPr>
        <p:spPr>
          <a:xfrm>
            <a:off x="4714560" y="231732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549" name="直接箭头连接符 64"/>
          <p:cNvCxnSpPr/>
          <p:nvPr/>
        </p:nvCxnSpPr>
        <p:spPr>
          <a:xfrm flipH="1">
            <a:off x="4714200" y="274428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550" name="TextBox 68"/>
          <p:cNvSpPr/>
          <p:nvPr/>
        </p:nvSpPr>
        <p:spPr>
          <a:xfrm rot="1191600">
            <a:off x="4858560" y="1725840"/>
            <a:ext cx="1071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Segoe WP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5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5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56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5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6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6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73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76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77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593" name="矩形 56"/>
          <p:cNvSpPr/>
          <p:nvPr/>
        </p:nvSpPr>
        <p:spPr>
          <a:xfrm>
            <a:off x="3790800" y="1100160"/>
            <a:ext cx="32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1“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Foreign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in G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68"/>
          <p:cNvGrpSpPr/>
          <p:nvPr/>
        </p:nvGrpSpPr>
        <p:grpSpPr>
          <a:xfrm>
            <a:off x="2714760" y="1571760"/>
            <a:ext cx="1857240" cy="2571480"/>
            <a:chOff x="2714760" y="1571760"/>
            <a:chExt cx="1857240" cy="2571480"/>
          </a:xfrm>
        </p:grpSpPr>
        <p:pic>
          <p:nvPicPr>
            <p:cNvPr id="595" name="Picture 9" descr="http://www.haraldfischerverlag.de/hfv/Graphiken/480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2720160" y="1571760"/>
              <a:ext cx="185184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Box 60"/>
            <p:cNvSpPr/>
            <p:nvPr/>
          </p:nvSpPr>
          <p:spPr>
            <a:xfrm>
              <a:off x="2714760" y="3729240"/>
              <a:ext cx="18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Humbold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70"/>
          <p:cNvGrpSpPr/>
          <p:nvPr/>
        </p:nvGrpSpPr>
        <p:grpSpPr>
          <a:xfrm>
            <a:off x="7000920" y="1571760"/>
            <a:ext cx="1855800" cy="2571480"/>
            <a:chOff x="7000920" y="1571760"/>
            <a:chExt cx="1855800" cy="2571480"/>
          </a:xfrm>
        </p:grpSpPr>
        <p:pic>
          <p:nvPicPr>
            <p:cNvPr id="598" name="Picture 12" descr="C:\Users\Potter Yang\Desktop\图片3.jpg"/>
            <p:cNvPicPr/>
            <p:nvPr/>
          </p:nvPicPr>
          <p:blipFill>
            <a:blip r:embed="rId3">
              <a:grayscl/>
            </a:blip>
            <a:srcRect l="1262" t="0" r="1262" b="0"/>
            <a:stretch/>
          </p:blipFill>
          <p:spPr>
            <a:xfrm>
              <a:off x="7000920" y="1571760"/>
              <a:ext cx="185580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Box 61"/>
            <p:cNvSpPr/>
            <p:nvPr/>
          </p:nvSpPr>
          <p:spPr>
            <a:xfrm>
              <a:off x="7000920" y="3729240"/>
              <a:ext cx="18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Goe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69"/>
          <p:cNvGrpSpPr/>
          <p:nvPr/>
        </p:nvGrpSpPr>
        <p:grpSpPr>
          <a:xfrm>
            <a:off x="4857840" y="1571760"/>
            <a:ext cx="1850760" cy="2800080"/>
            <a:chOff x="4857840" y="1571760"/>
            <a:chExt cx="1850760" cy="2800080"/>
          </a:xfrm>
        </p:grpSpPr>
        <p:pic>
          <p:nvPicPr>
            <p:cNvPr id="601" name="Picture 7" descr="http://www.planet-wissen.de/alltag_gesundheit/lernen/deutschunterricht/img/intro_deutsch_schleier_g.jpg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4857840" y="1571760"/>
              <a:ext cx="185076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Box 63"/>
            <p:cNvSpPr/>
            <p:nvPr/>
          </p:nvSpPr>
          <p:spPr>
            <a:xfrm>
              <a:off x="4857840" y="3729240"/>
              <a:ext cx="18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Schleiermac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5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8:25:04Z</dcterms:created>
  <dc:creator>Potter Yang</dc:creator>
  <dc:description/>
  <dc:language>en-US</dc:language>
  <cp:lastModifiedBy>Administrator</cp:lastModifiedBy>
  <dcterms:modified xsi:type="dcterms:W3CDTF">2016-07-25T09:29:01Z</dcterms:modified>
  <cp:revision>9</cp:revision>
  <dc:subject/>
  <dc:title>幻灯片 1</dc:title>
</cp:coreProperties>
</file>