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37.png" ContentType="image/pn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B28-EFEA-4AFD-A1DC-E8E7944E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827-8200-4497-B9E6-83999C9D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7EC53-311C-4D03-90B4-1E12C6B3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7805D-36BA-4321-8699-77E5EABB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81BD0-4D2E-4F05-8426-BC4FC501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0E6DD-692F-4921-9965-D65199C4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247AE-D364-4B46-A3D2-1ECD651B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175A2-E341-4195-A57D-C7081558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16FB9-0713-4692-A175-214C7331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4AC43-C974-49D4-AEDA-4FB097F2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57960-C18D-438E-A8EA-A54E6524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3A74E-A19A-43DA-9C88-5964BADC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758-8165-40B0-8630-BB44DA6B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18E32-815F-40F5-9DFE-4F856704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3734E-5DA1-443B-8353-1CF2CACB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F8943-E004-485F-92B1-EAE4F332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F9FEA-F879-4F89-A083-D8691100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46D35-AEF8-446B-BDBE-5D9D7C8E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1304B-357F-4BE0-B694-7F2DD5F5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3DA8C-2735-4FE5-A47C-77FB57AF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818B6-758A-4C39-8CA3-5AF3908B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01818-C4EF-43C9-A4B7-E097C358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237C8-B7F9-4AD8-BD1F-DF459FFB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A96-1F9C-48EE-9B23-14DFED92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BAFC1-AAF8-45CB-9BD4-0DB555D2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7111A-0876-46CB-9467-8931856D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D06A8-0B9A-48AA-9ADA-6E00251F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423AC-C338-4A69-8134-77BD6524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0AF1E-C967-4041-8BB7-F2E8813E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D6B21-6918-4BB1-B2FD-915ED644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1B3E5-D130-4260-AFA4-80525D48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092A0-1B9F-458E-BAF8-2E3CE45A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DC180-BDD2-4CA6-A109-B2C2A66D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31360-1CD0-48F0-93A0-041EC601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3596A-9B29-4FD4-AB12-4B747343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C7631-9B81-4DBD-BE8E-5592CE14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A83B3-ECB3-4B48-8E1B-FB7E4905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A1B22-8E35-4E72-9BA4-5D5F4448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70BC1-26FA-44CE-9634-0A3510A9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2A463-C82E-4D64-9FCB-A2DA6803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CA55E-01A3-4BB0-9C35-AAAC0498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92609-B528-4F4A-8DAE-84C11962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2DE79-82AC-4B4B-B48F-97C34939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F750C-541B-4283-838C-01B4FDB9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E78E1-77F6-4A36-92DF-4F8CE944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14C04-A3D0-4729-B1E6-31B09E0A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2405F-6ECE-414C-A142-831BC64B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3EB94-4C79-4D9F-BCD9-2F64B8FF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1BC31-50E4-4B87-A5C7-B343804F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5A54C-70EB-455B-84CF-7340FE1F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2BA2B-3656-45BA-9461-1ACB1E81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4EEDE-6D4C-442A-9326-079B86FB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9481D-E1EF-47CD-A874-25F04D51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1D667-ECD7-4E9A-B0ED-7800A955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83B35-40CF-4A3D-B270-92C30B2F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86089-077E-4F18-9752-543BD224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2E0FB-C621-4C45-AAEC-E03247E3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0B46B-35F5-4B25-8B84-C806D21F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DABCF-E1A7-4438-AF82-82B1A01E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E346D-8D05-48CA-BBC5-F53744B3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CC852-3703-4F0C-8A88-0ADEF348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5BE0-FD38-4E47-8A3F-297885FE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4CD-55C4-4A78-BFEA-13033734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F475-BF54-40DD-AD9A-7B9FB4AA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7D1C-C780-4130-89F5-2815BE00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0B8F-B19B-482B-8701-75CE3295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248-687C-4B91-AA46-FA391653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6E31-A45F-4A03-A6B0-A2B13C63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813E-FFDE-4EEB-AFEA-FFB348C4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3ADE-D12B-4F1E-88E8-15403FE5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F5BC-E7D5-420E-8F8F-2B3F98D3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6C20-7CF4-4A70-B5E3-1875106D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7DF1-C715-494F-97CC-52D933A6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074A-5229-4F05-B95A-D3D93A74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7DFC-B592-4A08-A11C-EFA1D5F1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6EA9-A24E-45F9-96E5-65A842CE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48EA-3511-49B5-A402-A83A67DC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4E7-157D-4F06-A87C-EBC395D6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29F63-E77B-47BF-9638-622D3378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CF1B7-DE74-4914-88A1-0692C852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6A633-CF59-4770-8D3E-1431E7E3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71CCF-1F85-4838-84B9-19393F45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9C479-B442-4F1A-BD6E-2A52C986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88B32-EE89-4F78-8B82-CB66C87B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21FFF-1CA6-4654-959A-596B84BC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57FA-9FA5-43A2-82A2-D20B7AB1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73B04-E163-4745-8335-34585F4A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C5E47-9EB7-4EDD-BF4B-4184D701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D4F-7220-43DE-9371-52BC9D54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2050F-541D-4813-9B7F-00562351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BF4B5-249E-4329-B1EC-91C8CA51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D1ED1-9067-4D77-A8B5-645E92CB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5E45-5058-4302-87F8-1E4D7791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1EB0A-D659-422B-834E-91C8770C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4854D-CB7D-41A6-B723-8333E785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74181-997A-493A-A093-4038E82C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D68B8-AD08-41DB-A9E6-F913D841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DE306-5ED6-4350-A178-77780019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ED09-D8B4-49BD-BD5B-6BEEB76F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7D3-E1A2-4AAE-845D-20D2A0FD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C1E28-3ECA-40A0-8B44-2EE095D3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91343-298A-4758-8138-B2EA6205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1220A-8169-46BE-BF61-3381E06C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BE0FE-CBF7-4224-8E35-2C758AAD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B8E93-3E9A-420B-89F6-E6C8DFDF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2A09B-2017-4490-ADB2-4E0DB219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F33B1-B8B7-4295-B6C6-5E1204AD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48D1B-D76A-4845-B505-3E88F20F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7C863-52BC-4675-9782-8DFB3A4F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2DE37-B65C-40E0-9E61-BFFA7E1B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6AF7-2BB2-4D0A-8899-F27C97A7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96743-BE92-4DA0-A7CA-78160959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BA531-B1C4-48E8-959F-98893F56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52CB2-7F63-4DD1-A420-B5929B8A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AB1A4-8582-4EA7-90EC-F6F1AA1B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2A3DF-B672-48C1-A13B-6FEE2D29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E78E8-1AB2-4A4E-AC55-612DC289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2249C-0C10-4B22-90B2-54FAD5CA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A602E-87D1-4EEA-8E07-486BEBD5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FE295-2D8A-45FE-AA46-97C16587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D7342-AB62-42B4-ACD8-F31E61CD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F09-59E3-4990-A2C3-14BDF808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A3986-3F9A-4BC3-B9C8-A3FE3A70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7DE0D-400A-4D56-B05E-CD336482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DF973-3FC7-4B94-A137-DAD5797D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615A9-80EB-4887-8E91-370ECE1F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3ACF5-4AC4-4668-A6F9-439A9C9C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3DDD7-4872-4062-A9B8-9373F95F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60314-93C2-45B3-9E6E-38625B81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DA38C-EBEC-4A06-993D-1511E9A5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62D58-7C57-4568-8F5A-42DABB05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A37DA-0A69-4CD9-B951-C533A564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CAC5-1331-47E0-A51E-B329AC13C4B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BA56-38B4-49C0-9D2A-4C9536D0B5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F044-5D5F-4D5F-B708-5E11FBB724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51D3-E30A-4CBE-A386-153FA6D664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7275-FD1A-4E94-9E40-F6952C0FE8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ABF7-C6E6-47FD-9445-19FB3AF344A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8EDE-A381-48DA-AF55-89CFF2038A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032E-CEC4-4F89-8B2B-0A301462E1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71C4-7050-4C4A-B668-3ED79E86D0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88E3-D68B-4242-B37F-E0AABD6462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E018-7EDD-41AA-806A-BA4EFEB61D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536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页脚占位符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2725560" y="2637000"/>
            <a:ext cx="2816280" cy="3792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"/>
          <p:cNvPicPr/>
          <p:nvPr/>
        </p:nvPicPr>
        <p:blipFill>
          <a:blip r:embed="rId2"/>
          <a:stretch/>
        </p:blipFill>
        <p:spPr>
          <a:xfrm>
            <a:off x="5173560" y="806400"/>
            <a:ext cx="1652760" cy="19321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"/>
          <p:cNvPicPr/>
          <p:nvPr/>
        </p:nvPicPr>
        <p:blipFill>
          <a:blip r:embed="rId3"/>
          <a:stretch/>
        </p:blipFill>
        <p:spPr>
          <a:xfrm>
            <a:off x="1644480" y="1789200"/>
            <a:ext cx="408240" cy="2919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"/>
          <p:cNvPicPr/>
          <p:nvPr/>
        </p:nvPicPr>
        <p:blipFill>
          <a:blip r:embed="rId4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607" name="矩形 23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矩形 24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矩形 25"/>
          <p:cNvSpPr/>
          <p:nvPr/>
        </p:nvSpPr>
        <p:spPr>
          <a:xfrm>
            <a:off x="835200" y="1773360"/>
            <a:ext cx="811080" cy="323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26"/>
          <p:cNvSpPr/>
          <p:nvPr/>
        </p:nvSpPr>
        <p:spPr>
          <a:xfrm>
            <a:off x="2049480" y="1773360"/>
            <a:ext cx="811080" cy="32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27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28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9"/>
          <p:cNvSpPr/>
          <p:nvPr/>
        </p:nvSpPr>
        <p:spPr>
          <a:xfrm>
            <a:off x="1406160" y="17971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30"/>
          <p:cNvSpPr/>
          <p:nvPr/>
        </p:nvSpPr>
        <p:spPr>
          <a:xfrm>
            <a:off x="2025000" y="17971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5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16" name="页脚占位符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54200" y="1830240"/>
            <a:ext cx="407880" cy="2923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619" name="右箭头 33"/>
          <p:cNvSpPr/>
          <p:nvPr/>
        </p:nvSpPr>
        <p:spPr>
          <a:xfrm>
            <a:off x="2089080" y="4719600"/>
            <a:ext cx="520920" cy="1890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右箭头 34"/>
          <p:cNvSpPr/>
          <p:nvPr/>
        </p:nvSpPr>
        <p:spPr>
          <a:xfrm>
            <a:off x="4576680" y="4699080"/>
            <a:ext cx="520920" cy="1904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oup 6"/>
          <p:cNvGrpSpPr/>
          <p:nvPr/>
        </p:nvGrpSpPr>
        <p:grpSpPr>
          <a:xfrm>
            <a:off x="690480" y="3738600"/>
            <a:ext cx="1362240" cy="1892160"/>
            <a:chOff x="690480" y="3738600"/>
            <a:chExt cx="1362240" cy="1892160"/>
          </a:xfrm>
        </p:grpSpPr>
        <p:sp>
          <p:nvSpPr>
            <p:cNvPr id="622" name="椭圆 11"/>
            <p:cNvSpPr/>
            <p:nvPr/>
          </p:nvSpPr>
          <p:spPr>
            <a:xfrm>
              <a:off x="690480" y="521496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3" name="Picture 2" descr=""/>
            <p:cNvPicPr/>
            <p:nvPr/>
          </p:nvPicPr>
          <p:blipFill>
            <a:blip r:embed="rId3"/>
            <a:stretch/>
          </p:blipFill>
          <p:spPr>
            <a:xfrm>
              <a:off x="770760" y="3738600"/>
              <a:ext cx="1281960" cy="172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4" name="Group 9"/>
          <p:cNvGrpSpPr/>
          <p:nvPr/>
        </p:nvGrpSpPr>
        <p:grpSpPr>
          <a:xfrm>
            <a:off x="2868480" y="3241800"/>
            <a:ext cx="1851120" cy="2501640"/>
            <a:chOff x="2868480" y="3241800"/>
            <a:chExt cx="1851120" cy="2501640"/>
          </a:xfrm>
        </p:grpSpPr>
        <p:sp>
          <p:nvSpPr>
            <p:cNvPr id="625" name="椭圆 17"/>
            <p:cNvSpPr/>
            <p:nvPr/>
          </p:nvSpPr>
          <p:spPr>
            <a:xfrm>
              <a:off x="28684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6" name="Picture 4" descr=""/>
            <p:cNvPicPr/>
            <p:nvPr/>
          </p:nvPicPr>
          <p:blipFill>
            <a:blip r:embed="rId4"/>
            <a:stretch/>
          </p:blipFill>
          <p:spPr>
            <a:xfrm>
              <a:off x="2974320" y="3241800"/>
              <a:ext cx="1745280" cy="234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7" name="Group 12"/>
          <p:cNvGrpSpPr/>
          <p:nvPr/>
        </p:nvGrpSpPr>
        <p:grpSpPr>
          <a:xfrm>
            <a:off x="5156640" y="1452960"/>
            <a:ext cx="3873240" cy="4290480"/>
            <a:chOff x="5156640" y="1452960"/>
            <a:chExt cx="3873240" cy="4290480"/>
          </a:xfrm>
        </p:grpSpPr>
        <p:sp>
          <p:nvSpPr>
            <p:cNvPr id="628" name="椭圆 32"/>
            <p:cNvSpPr/>
            <p:nvPr/>
          </p:nvSpPr>
          <p:spPr>
            <a:xfrm>
              <a:off x="52912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9" name="Picture 4" descr=""/>
            <p:cNvPicPr/>
            <p:nvPr/>
          </p:nvPicPr>
          <p:blipFill>
            <a:blip r:embed="rId5"/>
            <a:stretch/>
          </p:blipFill>
          <p:spPr>
            <a:xfrm>
              <a:off x="5407560" y="3218040"/>
              <a:ext cx="174420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2" descr=""/>
            <p:cNvPicPr/>
            <p:nvPr/>
          </p:nvPicPr>
          <p:blipFill>
            <a:blip r:embed="rId6"/>
            <a:stretch/>
          </p:blipFill>
          <p:spPr>
            <a:xfrm rot="18427200">
              <a:off x="5590800" y="1621800"/>
              <a:ext cx="128268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2" descr=""/>
            <p:cNvPicPr/>
            <p:nvPr/>
          </p:nvPicPr>
          <p:blipFill>
            <a:blip r:embed="rId7"/>
            <a:stretch/>
          </p:blipFill>
          <p:spPr>
            <a:xfrm rot="3054600">
              <a:off x="7313400" y="2706840"/>
              <a:ext cx="128268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矩形 9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42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43"/>
          <p:cNvSpPr/>
          <p:nvPr/>
        </p:nvSpPr>
        <p:spPr>
          <a:xfrm>
            <a:off x="844560" y="1812960"/>
            <a:ext cx="811080" cy="325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44"/>
          <p:cNvSpPr/>
          <p:nvPr/>
        </p:nvSpPr>
        <p:spPr>
          <a:xfrm>
            <a:off x="2058840" y="1812960"/>
            <a:ext cx="811440" cy="325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10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45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46"/>
          <p:cNvSpPr/>
          <p:nvPr/>
        </p:nvSpPr>
        <p:spPr>
          <a:xfrm>
            <a:off x="1415880" y="18367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47"/>
          <p:cNvSpPr/>
          <p:nvPr/>
        </p:nvSpPr>
        <p:spPr>
          <a:xfrm>
            <a:off x="2034360" y="18367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8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41" name="页脚占位符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649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页脚占位符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1" descr=""/>
          <p:cNvPicPr/>
          <p:nvPr/>
        </p:nvPicPr>
        <p:blipFill>
          <a:blip r:embed="rId1"/>
          <a:srcRect l="9607" t="25379" r="3188" b="11018"/>
          <a:stretch/>
        </p:blipFill>
        <p:spPr>
          <a:xfrm>
            <a:off x="1763640" y="1268280"/>
            <a:ext cx="5545080" cy="498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00320" cy="646200"/>
          </a:xfrm>
          <a:prstGeom prst="rect">
            <a:avLst/>
          </a:prstGeom>
          <a:ln w="0">
            <a:noFill/>
          </a:ln>
        </p:spPr>
      </p:pic>
      <p:sp>
        <p:nvSpPr>
          <p:cNvPr id="54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15"/>
          <p:cNvSpPr/>
          <p:nvPr/>
        </p:nvSpPr>
        <p:spPr>
          <a:xfrm>
            <a:off x="971640" y="4995720"/>
            <a:ext cx="7416720" cy="158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14"/>
          <p:cNvSpPr/>
          <p:nvPr/>
        </p:nvSpPr>
        <p:spPr>
          <a:xfrm>
            <a:off x="4846680" y="5848200"/>
            <a:ext cx="309564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13"/>
          <p:cNvSpPr/>
          <p:nvPr/>
        </p:nvSpPr>
        <p:spPr>
          <a:xfrm>
            <a:off x="1407960" y="5843520"/>
            <a:ext cx="309564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12"/>
          <p:cNvSpPr/>
          <p:nvPr/>
        </p:nvSpPr>
        <p:spPr>
          <a:xfrm>
            <a:off x="4846680" y="5197320"/>
            <a:ext cx="309564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矩形 11"/>
          <p:cNvSpPr/>
          <p:nvPr/>
        </p:nvSpPr>
        <p:spPr>
          <a:xfrm>
            <a:off x="1407960" y="5191200"/>
            <a:ext cx="309564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图片 9" descr=""/>
          <p:cNvPicPr/>
          <p:nvPr/>
        </p:nvPicPr>
        <p:blipFill>
          <a:blip r:embed="rId1"/>
          <a:srcRect l="39477" t="0" r="0" b="8170"/>
          <a:stretch/>
        </p:blipFill>
        <p:spPr>
          <a:xfrm>
            <a:off x="5276880" y="1319040"/>
            <a:ext cx="2679840" cy="25657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0" descr=""/>
          <p:cNvPicPr/>
          <p:nvPr/>
        </p:nvPicPr>
        <p:blipFill>
          <a:blip r:embed="rId2"/>
          <a:srcRect l="0" t="0" r="52754" b="0"/>
          <a:stretch/>
        </p:blipFill>
        <p:spPr>
          <a:xfrm>
            <a:off x="1527120" y="1538280"/>
            <a:ext cx="2152800" cy="2125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724200" cy="646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7" descr=""/>
          <p:cNvPicPr/>
          <p:nvPr/>
        </p:nvPicPr>
        <p:blipFill>
          <a:blip r:embed="rId4"/>
          <a:stretch/>
        </p:blipFill>
        <p:spPr>
          <a:xfrm>
            <a:off x="1717560" y="3876840"/>
            <a:ext cx="5707080" cy="549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2" descr=""/>
          <p:cNvPicPr/>
          <p:nvPr/>
        </p:nvPicPr>
        <p:blipFill>
          <a:blip r:embed="rId5"/>
          <a:stretch/>
        </p:blipFill>
        <p:spPr>
          <a:xfrm>
            <a:off x="2013120" y="5238720"/>
            <a:ext cx="5333760" cy="1219320"/>
          </a:xfrm>
          <a:prstGeom prst="rect">
            <a:avLst/>
          </a:prstGeom>
          <a:ln w="0">
            <a:noFill/>
          </a:ln>
        </p:spPr>
      </p:pic>
      <p:sp>
        <p:nvSpPr>
          <p:cNvPr id="553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13"/>
          <p:cNvSpPr/>
          <p:nvPr/>
        </p:nvSpPr>
        <p:spPr>
          <a:xfrm>
            <a:off x="992160" y="3629160"/>
            <a:ext cx="3036960" cy="792000"/>
          </a:xfrm>
          <a:custGeom>
            <a:avLst/>
            <a:gdLst>
              <a:gd name="textAreaLeft" fmla="*/ 0 w 3036960"/>
              <a:gd name="textAreaRight" fmla="*/ 3037320 w 30369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3161918" h="791386">
                <a:moveTo>
                  <a:pt x="0" y="0"/>
                </a:moveTo>
                <a:lnTo>
                  <a:pt x="3161918" y="0"/>
                </a:lnTo>
                <a:lnTo>
                  <a:pt x="3161918" y="791386"/>
                </a:lnTo>
                <a:cubicBezTo>
                  <a:pt x="2345451" y="672633"/>
                  <a:pt x="1137100" y="625132"/>
                  <a:pt x="0" y="791386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1" descr=""/>
          <p:cNvPicPr/>
          <p:nvPr/>
        </p:nvPicPr>
        <p:blipFill>
          <a:blip r:embed="rId1"/>
          <a:stretch/>
        </p:blipFill>
        <p:spPr>
          <a:xfrm>
            <a:off x="930240" y="1538280"/>
            <a:ext cx="3160800" cy="2766960"/>
          </a:xfrm>
          <a:prstGeom prst="rect">
            <a:avLst/>
          </a:prstGeom>
          <a:ln w="0">
            <a:noFill/>
          </a:ln>
        </p:spPr>
      </p:pic>
      <p:sp>
        <p:nvSpPr>
          <p:cNvPr id="556" name="矩形 10"/>
          <p:cNvSpPr/>
          <p:nvPr/>
        </p:nvSpPr>
        <p:spPr>
          <a:xfrm>
            <a:off x="4487760" y="3782880"/>
            <a:ext cx="396108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7"/>
          <p:cNvSpPr/>
          <p:nvPr/>
        </p:nvSpPr>
        <p:spPr>
          <a:xfrm>
            <a:off x="4500720" y="1560600"/>
            <a:ext cx="395892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矩形 8"/>
          <p:cNvSpPr/>
          <p:nvPr/>
        </p:nvSpPr>
        <p:spPr>
          <a:xfrm>
            <a:off x="4487760" y="2235240"/>
            <a:ext cx="3961080" cy="74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矩形 9"/>
          <p:cNvSpPr/>
          <p:nvPr/>
        </p:nvSpPr>
        <p:spPr>
          <a:xfrm>
            <a:off x="4500720" y="3110040"/>
            <a:ext cx="395892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17"/>
          <p:cNvSpPr/>
          <p:nvPr/>
        </p:nvSpPr>
        <p:spPr>
          <a:xfrm>
            <a:off x="662040" y="5229360"/>
            <a:ext cx="7777080" cy="131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c,A.;Douce,T.B.;Ahuja,N.;Kotlyar,A.. AnticancerDrugs 2008, 19,14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ylor,A.M.;Goddard,W.A.;Keifer,G.E.;Tomalia,D.A. J.Am.Chem.Soc. 1989, 111,233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e,C.C.;MacKay,J.A.;Frechet,J.M.J.;Szoka,F.C..  Nat.Biotechnol. 2005, 23,151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ya,T.;Lee,J.;Park,K. Bioconj.Chem. 2004, 15,122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18"/>
          <p:cNvSpPr/>
          <p:nvPr/>
        </p:nvSpPr>
        <p:spPr>
          <a:xfrm>
            <a:off x="642240" y="4869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图片 20" descr=""/>
          <p:cNvPicPr/>
          <p:nvPr/>
        </p:nvPicPr>
        <p:blipFill>
          <a:blip r:embed="rId2"/>
          <a:srcRect l="62470" t="4676" r="25308" b="77239"/>
          <a:stretch/>
        </p:blipFill>
        <p:spPr>
          <a:xfrm>
            <a:off x="3679920" y="1474920"/>
            <a:ext cx="531720" cy="785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3"/>
          <a:stretch/>
        </p:blipFill>
        <p:spPr>
          <a:xfrm>
            <a:off x="687240" y="839880"/>
            <a:ext cx="6164280" cy="6462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7" descr=""/>
          <p:cNvPicPr/>
          <p:nvPr/>
        </p:nvPicPr>
        <p:blipFill>
          <a:blip r:embed="rId4"/>
          <a:stretch/>
        </p:blipFill>
        <p:spPr>
          <a:xfrm>
            <a:off x="4579920" y="1587600"/>
            <a:ext cx="1878120" cy="2773440"/>
          </a:xfrm>
          <a:prstGeom prst="rect">
            <a:avLst/>
          </a:prstGeom>
          <a:ln w="0">
            <a:noFill/>
          </a:ln>
        </p:spPr>
      </p:pic>
      <p:sp>
        <p:nvSpPr>
          <p:cNvPr id="565" name="页脚占位符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11"/>
          <p:cNvSpPr/>
          <p:nvPr/>
        </p:nvSpPr>
        <p:spPr>
          <a:xfrm>
            <a:off x="1116000" y="142560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12"/>
          <p:cNvSpPr/>
          <p:nvPr/>
        </p:nvSpPr>
        <p:spPr>
          <a:xfrm>
            <a:off x="1116000" y="21430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3"/>
          <p:cNvSpPr/>
          <p:nvPr/>
        </p:nvSpPr>
        <p:spPr>
          <a:xfrm>
            <a:off x="1116000" y="283068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矩形 14"/>
          <p:cNvSpPr/>
          <p:nvPr/>
        </p:nvSpPr>
        <p:spPr>
          <a:xfrm>
            <a:off x="1116000" y="34876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矩形 2"/>
          <p:cNvSpPr/>
          <p:nvPr/>
        </p:nvSpPr>
        <p:spPr>
          <a:xfrm>
            <a:off x="1921680" y="14986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矩形 3"/>
          <p:cNvSpPr/>
          <p:nvPr/>
        </p:nvSpPr>
        <p:spPr>
          <a:xfrm>
            <a:off x="1921680" y="22161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矩形 4"/>
          <p:cNvSpPr/>
          <p:nvPr/>
        </p:nvSpPr>
        <p:spPr>
          <a:xfrm>
            <a:off x="1921680" y="2863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矩形 5"/>
          <p:cNvSpPr/>
          <p:nvPr/>
        </p:nvSpPr>
        <p:spPr>
          <a:xfrm>
            <a:off x="1243080" y="3581280"/>
            <a:ext cx="66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矩形 6"/>
          <p:cNvSpPr/>
          <p:nvPr/>
        </p:nvSpPr>
        <p:spPr>
          <a:xfrm>
            <a:off x="765000" y="1440000"/>
            <a:ext cx="117720" cy="542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矩形 7"/>
          <p:cNvSpPr/>
          <p:nvPr/>
        </p:nvSpPr>
        <p:spPr>
          <a:xfrm>
            <a:off x="888840" y="1440000"/>
            <a:ext cx="117720" cy="542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8"/>
          <p:cNvSpPr/>
          <p:nvPr/>
        </p:nvSpPr>
        <p:spPr>
          <a:xfrm>
            <a:off x="880920" y="2135160"/>
            <a:ext cx="11772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矩形 9"/>
          <p:cNvSpPr/>
          <p:nvPr/>
        </p:nvSpPr>
        <p:spPr>
          <a:xfrm>
            <a:off x="880920" y="279072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矩形 10"/>
          <p:cNvSpPr/>
          <p:nvPr/>
        </p:nvSpPr>
        <p:spPr>
          <a:xfrm>
            <a:off x="865080" y="348768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15"/>
          <p:cNvSpPr/>
          <p:nvPr/>
        </p:nvSpPr>
        <p:spPr>
          <a:xfrm>
            <a:off x="458640" y="4878360"/>
            <a:ext cx="8229600" cy="155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ncesco M. Veronese, Gianfranco Pasut. Drug Discovery Today, 2005, 10(21), 1451-1458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inos M. Paleos, Dimitris Tsiourvas, Zili Sideratou, Leto Tziveleka. Current Topics in Medicinal Chemistry, 2008, 8, 1204-122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 Hui Corresponding, Fan Xiaodong, Cao Zhonglin. Polymer, 2005, 46(22), 9514-952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iaoqiangYang, JamisonJ. Grailer, Srikanth Pilla, Douglas A. Steeber, Shaoqin Gong. Bioconjugate Chem. 2010, 21, 496–50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6"/>
          <p:cNvSpPr/>
          <p:nvPr/>
        </p:nvSpPr>
        <p:spPr>
          <a:xfrm>
            <a:off x="437400" y="4518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5859720" cy="646200"/>
          </a:xfrm>
          <a:prstGeom prst="rect">
            <a:avLst/>
          </a:prstGeom>
          <a:ln w="0">
            <a:noFill/>
          </a:ln>
        </p:spPr>
      </p:pic>
      <p:sp>
        <p:nvSpPr>
          <p:cNvPr id="582" name="页脚占位符 1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图片 2" descr=""/>
          <p:cNvPicPr/>
          <p:nvPr/>
        </p:nvPicPr>
        <p:blipFill>
          <a:blip r:embed="rId1"/>
          <a:stretch/>
        </p:blipFill>
        <p:spPr>
          <a:xfrm>
            <a:off x="1701720" y="1268280"/>
            <a:ext cx="5770800" cy="471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601560" y="404640"/>
            <a:ext cx="2200320" cy="646200"/>
          </a:xfrm>
          <a:prstGeom prst="rect">
            <a:avLst/>
          </a:prstGeom>
          <a:ln w="0">
            <a:noFill/>
          </a:ln>
        </p:spPr>
      </p:pic>
      <p:sp>
        <p:nvSpPr>
          <p:cNvPr id="58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3" descr=""/>
          <p:cNvPicPr/>
          <p:nvPr/>
        </p:nvPicPr>
        <p:blipFill>
          <a:blip r:embed="rId1"/>
          <a:srcRect l="49940" t="18838" r="27042" b="60309"/>
          <a:stretch/>
        </p:blipFill>
        <p:spPr>
          <a:xfrm>
            <a:off x="1979640" y="1914480"/>
            <a:ext cx="1670040" cy="14446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981000" cy="6458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3"/>
          <a:stretch/>
        </p:blipFill>
        <p:spPr>
          <a:xfrm>
            <a:off x="1744560" y="2637000"/>
            <a:ext cx="5694480" cy="2292120"/>
          </a:xfrm>
          <a:prstGeom prst="rect">
            <a:avLst/>
          </a:prstGeom>
          <a:ln w="0">
            <a:noFill/>
          </a:ln>
        </p:spPr>
      </p:pic>
      <p:sp>
        <p:nvSpPr>
          <p:cNvPr id="58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3303720" cy="4078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"/>
          <p:cNvPicPr/>
          <p:nvPr/>
        </p:nvPicPr>
        <p:blipFill>
          <a:blip r:embed="rId2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592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10" descr=""/>
          <p:cNvPicPr/>
          <p:nvPr/>
        </p:nvPicPr>
        <p:blipFill>
          <a:blip r:embed="rId1"/>
          <a:stretch/>
        </p:blipFill>
        <p:spPr>
          <a:xfrm>
            <a:off x="2109960" y="4608360"/>
            <a:ext cx="1139760" cy="106056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29" descr=""/>
          <p:cNvPicPr/>
          <p:nvPr/>
        </p:nvPicPr>
        <p:blipFill>
          <a:blip r:embed="rId2"/>
          <a:stretch/>
        </p:blipFill>
        <p:spPr>
          <a:xfrm>
            <a:off x="3444840" y="3706920"/>
            <a:ext cx="1120680" cy="10904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35" descr=""/>
          <p:cNvPicPr/>
          <p:nvPr/>
        </p:nvPicPr>
        <p:blipFill>
          <a:blip r:embed="rId3"/>
          <a:stretch/>
        </p:blipFill>
        <p:spPr>
          <a:xfrm>
            <a:off x="2077920" y="2968560"/>
            <a:ext cx="1128960" cy="10796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41" descr=""/>
          <p:cNvPicPr/>
          <p:nvPr/>
        </p:nvPicPr>
        <p:blipFill>
          <a:blip r:embed="rId4"/>
          <a:stretch/>
        </p:blipFill>
        <p:spPr>
          <a:xfrm>
            <a:off x="5041800" y="3809880"/>
            <a:ext cx="1077840" cy="113364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47" descr=""/>
          <p:cNvPicPr/>
          <p:nvPr/>
        </p:nvPicPr>
        <p:blipFill>
          <a:blip r:embed="rId5"/>
          <a:stretch/>
        </p:blipFill>
        <p:spPr>
          <a:xfrm>
            <a:off x="2998800" y="1657440"/>
            <a:ext cx="1146240" cy="106668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53" descr=""/>
          <p:cNvPicPr/>
          <p:nvPr/>
        </p:nvPicPr>
        <p:blipFill>
          <a:blip r:embed="rId6"/>
          <a:stretch/>
        </p:blipFill>
        <p:spPr>
          <a:xfrm>
            <a:off x="4218120" y="762120"/>
            <a:ext cx="1139760" cy="107316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59" descr=""/>
          <p:cNvPicPr/>
          <p:nvPr/>
        </p:nvPicPr>
        <p:blipFill>
          <a:blip r:embed="rId7"/>
          <a:stretch/>
        </p:blipFill>
        <p:spPr>
          <a:xfrm>
            <a:off x="6345360" y="3078000"/>
            <a:ext cx="1128600" cy="10796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65" descr=""/>
          <p:cNvPicPr/>
          <p:nvPr/>
        </p:nvPicPr>
        <p:blipFill>
          <a:blip r:embed="rId8"/>
          <a:stretch/>
        </p:blipFill>
        <p:spPr>
          <a:xfrm>
            <a:off x="6357960" y="4632480"/>
            <a:ext cx="1066680" cy="11397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"/>
          <p:cNvPicPr/>
          <p:nvPr/>
        </p:nvPicPr>
        <p:blipFill>
          <a:blip r:embed="rId9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02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8:50:05Z</dcterms:created>
  <dc:creator>LIU Tao</dc:creator>
  <dc:description/>
  <cp:keywords/>
  <dc:language>en-US</dc:language>
  <cp:lastModifiedBy>Administrator</cp:lastModifiedBy>
  <cp:lastPrinted>1899-12-30T00:00:00Z</cp:lastPrinted>
  <dcterms:modified xsi:type="dcterms:W3CDTF">2016-07-25T09:26:51Z</dcterms:modified>
  <cp:revision>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