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82B-6ECF-43F5-9B88-8220CA5E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32D-650B-43D5-A3A1-1DB9F9E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8DB8-4E92-44E0-88A5-DA155E05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7B95C-659E-4C98-8450-CC8D1B8D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88D80-1E69-4927-81D4-6183581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05E7-34B2-4BF9-9DC4-8EE56FB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33E6D-AA8A-4FD5-9D1A-6C30206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6EDF1-E690-448A-92CC-92CF3E8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3948-BF23-4477-B605-C32AAFAD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B6485-4B8B-4E3E-A316-550375E5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D7269-9AF8-45CB-B8F0-AEAED40C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BC68B-FB70-45D7-AE78-77BC174B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1C0-A373-4D1E-B730-0F8DBDAC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703C5-2B99-418B-ABEB-907F5522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F36D-24CD-4811-A5D9-29DFC806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C1A97-DCBF-44A3-90BE-84D05A75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9575-C698-46ED-8BDC-04DDAC7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3C70F-00A0-41D7-A51A-4288AD7B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B52A0-92A7-48F5-9B4D-1C1FACC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165F0-89BD-4ED9-BE79-41D7242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AD5B7-29DD-4154-807F-0B81AD69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45C22-B70E-41D0-A90F-737036E2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B1E7-DF48-46A3-A191-5122FD1F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EC5-0CFA-438C-9FBE-F2C57D55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F1B8F-0F05-4BE5-9E68-39DDB1AC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01E4D-0B15-4669-8876-02316F5F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F973-25C4-450A-BCEF-CCE1119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D6989-C464-4C8B-8FD4-74350D4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D9F99-55AA-497B-B564-D57DECAD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08ADD-5DD6-4ADD-AFE4-7029E4C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16F79-B560-4836-A927-11F5F69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4B102-2A70-4FA6-AAA5-8B528CCA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ADA08-9713-404F-9A0B-73A12948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DACEF-5676-4674-8250-A5962D8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F44A9-704E-4D66-90FA-AE2E2B3E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49F67-D570-48E6-BCA5-B2D995AE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0356-3BEB-497D-801B-22022254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5CD94-E9AB-4EC8-8A2C-092BBC49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7AF54-E829-4682-8418-EA85A0DD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335B7-C526-415B-8B6D-A933915D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22B20-A8F0-4361-BC0A-A847F96F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1F7F-DF96-4CC8-8F1C-92EDACB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8F449-5610-4301-B341-2B961011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6724B-5909-4FE5-8CFB-4FB4477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F87A9-195F-4D08-A77E-4C3FEB7B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1E915-5162-4B9C-B759-D0098F4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2E782-9F6E-4390-A1F2-5418497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D7C11-D675-409C-A4A9-6A62A655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B484E-5FD7-47CD-95DB-8648F89D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22C21-052C-4C05-A691-82D83E84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19989-F7FA-47EC-B384-6237CE63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380BF-2566-44D0-A4A1-BE4FB3B1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FB1A3-07DC-4F1C-BC4B-C583AE0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34611-FC0D-4D0D-A588-ADD3F2AF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9DA73-1857-43D6-9F42-B11C8AB4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80218-43EB-4211-BC65-10690DAA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41564-F432-40FE-973A-09541F6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4637F-7346-4C29-98B8-F889C6B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E6272-3F9F-4A8A-99AB-C2785FA2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61446-ADB1-4559-8805-C3C97296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480B8-7FB7-47CC-B99A-C5B404DE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E85-25D2-4E90-A82D-0FFCC259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4E3-8385-4A8C-90F6-95EEDE27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932-1B76-493E-8F44-626E285C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C97F-7FC5-4A0B-A6B5-F532B700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9627-00C5-40BE-A529-6C6EE66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9C8-F71E-42B7-A885-E28C6FBD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F00E-DADE-434B-887F-0C2B692B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188-9F6F-48CD-94C5-14C7EA24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837B-2E0C-4392-9C9C-B7D65ACB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95D-2E4E-4209-AE87-C29C5BE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9A6C-B919-4718-9DB5-B83C7EC4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3B8A-8B81-4812-A9C0-A432DE3A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891A-C33F-4AF9-93A1-BB898EF2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8C61-3BAC-40EA-85C0-DD5A3E7AC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91DC-4C0D-4AA3-B538-667EA4F5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1877-4E42-477D-9ABB-9465006E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D0D-59EF-452B-BEE8-10B2A7CA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0A18-1546-41DE-8F7E-63CA7408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B3E9-FEFB-4913-A84A-D29F8446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DA97-E3E3-4E2B-8213-27284103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45A3-33F2-4B51-9E09-C5AE61DF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1EC0-274C-4E84-8926-64DEE6CA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54ED-2FC9-42A0-850B-D08B557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B922-3D14-428C-8683-DCFF782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85D7-A25E-4801-904A-27B0CEEC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06A1-106E-48B9-BF17-281C283E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C117E-5789-4E28-AB49-1790A488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6C3-0CFD-42F0-B841-C816A702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CBDF-D18B-40FA-ABDF-0385D48F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07722-7C47-4797-8EBE-F3C43E90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44823-854F-42F6-9B19-CA2E9335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1BEA-8A1B-45CD-9ACF-A68E469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FC0CF-0C52-4631-A27A-5010955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276F-18C0-497C-BD5B-994310BE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B4EE4-0937-46AD-B995-6D87E92B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8282-6E5D-4BCB-A6E2-F941484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EB76-055F-417F-84D1-90BDC88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B8FF-417C-4059-BED4-17DDC92C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C1D-B317-4D6B-A38F-7DAF526E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5107-C3EA-4E3F-A499-F920224B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DF7C-80BA-4775-89B6-035A71A5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A3874-2130-4315-9FE2-9EC7C256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FCAB0-5CC5-443B-8272-3274F0E9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8E88-9AD3-4005-B225-DAA098EA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A197E-7428-4C6F-B12E-12BFA64E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BE65D-772D-4E3C-85D9-36483AC1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E781F-1B15-4378-B50E-89A9928B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F5D1D-E2D6-43B6-98EA-6E21BC9E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A141-8C8E-4D93-A565-6710EFDC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5B0-BDCE-4A1D-908F-6BFD488E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8A8E-13AC-45F9-9D7B-BD0B4489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5E11-9A42-448D-9312-D8DA4EE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6379-B38C-45B1-B5D0-282439E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52348-CE44-4775-9FE3-945D6185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0522F-23C1-4184-8C06-9EECFBF4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0579-903F-42B0-A8AC-A88E3590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55D48-AD33-48B5-8CD1-E1D5CC57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F1393-3CAA-4234-9CF6-A27C6FD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605DC-6EC4-401C-918A-3595543B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DC805-3024-403A-A2E1-35BAC425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6FE-82F6-433F-9D84-2FAC3FF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D6B0-CEAD-4DBA-9642-D960FFD0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C92A-A931-49D2-B19D-59C92DCD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19F5-B6EB-4BB2-BCBD-618766A6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17F1-B3D9-45C4-9F39-6D9A8CD9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91F98-108D-4EE7-ABD6-1B52D17C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869C-BEEA-40BA-AFF2-04CCE7FA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52A17-DCC6-40EF-A99C-6FB2359C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6BCE1-6CEA-4EA9-8419-6A0A3C0D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1454E-5D27-4D96-A392-36FC090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2BB9-710B-4311-A0A8-2282363B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C1F7-8188-4135-BD44-95DC09BAD1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0A2A-A087-412A-AA32-2EF9103F28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638-F62D-4BB8-B7E4-4879B3FD66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EC6D-607A-4A3C-BF8E-DFAFBFA581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6144-9864-4AE4-862B-2A8E14A4203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9A36-779B-4020-B46F-334F677EED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EFD3-1A83-457C-ABD2-42CC2884C1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D912-438E-478B-A03F-320F33662D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F210-4CAF-403C-AE83-3D14A2DB8A0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D4E9-B9F8-4B88-B609-6C4BB4CEAE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BB93-D2ED-4299-80FD-79E65F91A0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536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07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16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1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62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62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62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4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649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556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565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  <p:sp>
        <p:nvSpPr>
          <p:cNvPr id="582" name="页脚占位符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59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02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LIU Tao</dc:creator>
  <dc:description/>
  <cp:keywords/>
  <dc:language>en-US</dc:language>
  <cp:lastModifiedBy>Administrator</cp:lastModifiedBy>
  <cp:lastPrinted>1899-12-30T00:00:00Z</cp:lastPrinted>
  <dcterms:modified xsi:type="dcterms:W3CDTF">2016-07-25T09:26:51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