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1ED-F63E-43B0-B2B6-C193D1B7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7F3-6B6D-4274-995C-FDAF4B3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C9493-33FC-4EF3-BB50-BD429BD6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C2222-657E-4A96-BDC8-041E2E55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15C47-926F-4292-94EC-0CA5654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A2424-E850-4666-A929-BAB51507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37DA8-0B5C-4CA0-A8AB-032419E0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08C80-4CE7-454D-A7EC-84DCDA5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304B0-84E0-46B6-94A8-57C3CB28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73170-F67C-4EC7-B74B-6377501C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A173C-06C5-4B70-B5B5-4B8CF91A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9ED0E-EB67-43DC-9D37-8EF77BB1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EEB-4DC2-4602-B495-04B23FD1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7576D-0986-4FC0-8415-D55E529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3A777-7D18-4314-8925-7A1E5B76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A503E-8897-41F2-B467-64FF3555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E14E5-1E45-416C-AE07-EA7C2832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E2A8E-26BD-4B58-B566-16EEC62C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0C18B-DBE1-49C7-90AD-3A862EE1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BDD28-0356-4C06-B09B-0E78CC4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1AECE-ADD8-4AAA-A291-E0229B9D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AAB49-82E8-4DF8-A76A-024C3622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BC085-8AF2-49E6-B828-E2C70EB7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C52-29F8-49A6-8285-F90061F3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B8E4C-BA9D-429A-8451-DBC2E8DF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77B59-E9BF-4F6F-AC90-592C8F33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56DD1-34A2-4E35-BA6C-D29445F1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7A74A-F071-4C0D-B7BA-017D59FF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9D44B-C3D5-4CE9-AF12-297E5B1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C319C-79D1-47C3-B2BD-708CCB03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31D0C-0167-444E-B878-1FBE668A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79F5-0CEE-4A1A-A860-889D3E8D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6F2F1-59EB-4CF9-BD80-A617BEAF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7F08C-26CF-4151-8556-D9E24C1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266C-490D-4C8A-A138-50A7EDEC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545AE-154D-449C-BEA3-5D57A69C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CF310-DC81-4856-B615-7B739332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8274B-9CC2-439C-807A-251F3CBE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CC462-1786-40BB-9DAF-22D7992B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CB0EE-8BA6-4DC4-B6BA-8E16F0DF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26F1C-5D28-4961-93CE-720AEFCC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2B3BC-03E7-46CC-8DF7-A71ABA11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FF3E1-0207-4021-85F5-B3D6B53A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76306-6D91-479D-BBE2-360D39EF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50432-3154-4FF2-9163-C1F15FC0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6690-0B08-4F17-873E-C82EFD2E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474F1-765A-4DC6-852C-80A1D69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50D60-0E63-4347-8FDD-28617D5C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C32B3-AF84-4EF4-9A6A-430A9FEE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BBE9A-7C20-4BCC-8808-3628ECD6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13E08-1E02-4918-A32E-13445671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B7DF-65DC-4C23-887E-5B757FEC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A85E-5BCE-4A84-8BFC-2D07A66E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12A6-6997-42FA-A008-C925656D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9050-16C0-4DEA-80FD-4F986BA3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F2FF-2D01-4775-89DD-6153101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63C-ABB2-4A36-BC1C-7EEE3E29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4732-CCEA-48B2-9186-EB5D730E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BB55-F00F-43F7-A312-BF156690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7416-EBC1-444A-A9B4-3B59D9BD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A2F7-04F0-4135-8972-0C387533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81B2-801D-48E1-B3FA-49BE1525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4A1C-7DCB-4A0E-AC33-D0FBB906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B7B5-1D07-4734-A4DE-A63D8894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5EED-D32B-46C1-BEA3-48015F4B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B650-8B8B-45DD-8D9F-C21E898E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25037-79EB-441A-92DD-6D9C30A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3AC-63F5-418B-954E-41262FD4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D500-5855-4591-AB2B-51D35EB4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52AA7-813D-43CD-B956-15FB72DF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C260-F001-4EA2-98F6-1C5BCAE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39FE-0460-4414-A952-63498B90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D62B-6895-4D55-B2E5-300F0354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74D9-4FB9-4BF5-B8E4-EC8C82D7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D180-AC74-478A-8195-055544F4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852E-584E-470B-A86A-A706E70D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332F-C766-48D9-9F62-83BC5A25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92E7-2A8C-40C2-8A67-7D947ECB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D20-E2B3-437F-A840-92199DCB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087C9-F375-4374-ACDC-2A506BD4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088A-8CDF-4462-8E13-2C89C490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F80E0-7EB2-4983-B214-A6515A3D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D7037-9A69-47D8-BDC6-046D08D2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3CC4-EF38-4D2C-9133-0CD59DB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A9CDC-FC14-4A54-BEA4-E3213E75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8BEF-0ECB-465C-90F7-8D6BAF8B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E082-76D9-4F89-80BB-A2691214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F2A3-40A2-4EFA-B9AA-24DBA49C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0DFA1-4761-4D38-B1BD-DA38321A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B5D-9189-46C6-88A2-2E2F534B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05D0-A95E-46B9-838F-D495D9A6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8EB11-5ABB-4A2E-8340-A3A6059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6675B-D9D0-4D8B-A800-E5464A18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3AC00-E4E4-402D-BA6F-7F63414E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8E506-81F3-40B5-AD32-5E5F3DF3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D4E2C-6391-48AE-B92B-056FCDEC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14362-EF4B-476D-B27A-66CB5D54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5C2AC-4746-4461-A674-7F261454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2D4BD-8378-48C4-9B67-BD413086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AC2A-F073-4E7B-97C1-F9A0595F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8D1-80E5-4CA2-8EA3-99CC161C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CA92F-C9B0-4FD7-A228-9167E242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C84F3-A434-4D92-B191-5281DFAC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4EAE5-693A-4607-A03F-08EAA6D5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72DE-EF2E-47B7-A795-A3C16AD0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F3ED-171B-49CB-B356-00D26465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B3F33-4BCE-45AF-A4EC-883AE937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9AA13-2DEB-4651-9657-9CA1FCB5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63D70-0716-43C7-BC41-D60EDBA8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478D-C93F-44C1-8C99-54D9A292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5E1E-5F08-487B-B96C-13EE2D7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1C2-A45A-4420-89C3-C3837F2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2080E-727E-4472-9704-C67BF79F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47877-2746-4E9B-8C98-0F747F14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0B7D4-6682-4202-807B-7275F0B9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08C54-0998-40B4-8EEA-B45AF10E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47BE-83FB-4D6E-B68F-1C44E917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1D1A-A5CD-4229-B88F-B67A2EB5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B624D-7F56-4E02-AAA5-0A7FE104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BE2E-F5B7-40EE-8C15-78B6D040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72B18-8544-453A-9994-FE720564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F798-48D9-40BC-B4C5-E1BBD2F0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130-11DA-44EF-9B73-3A3D7F6A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7B68-BFEF-4B9D-86E4-576974F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491B8-DCEA-489D-81B5-6C85A2A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0E404-2A62-4EDE-AE6F-7F73DA0F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69563-207B-41A6-801F-B8E3DB8D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4DD40-6914-4378-907B-82B6B158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B94F-1F1F-4016-8844-D65F5936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E6177-D0A3-43ED-97E3-9BA49C1B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72484-3EAA-40D2-AFBA-AB569995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A62F7-2A7D-4D96-A68D-AFD18502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599C6-B3DC-4729-91CA-39F07F00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B1D-C70A-4BC3-ACAA-69BFC03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1146-FD71-4892-A068-3051CD84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27F66-FDF1-4BC4-8DE9-0C2D1D96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DBFF5-002D-4B5D-80E9-D898A64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8E5B8-E366-43AF-8C80-2690C0A6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CC85B-DB83-4BC3-8C9E-42EA950E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B993C-7F12-4206-9ED5-E6F1F405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29AC1-CD91-4773-829A-9DFF3167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E11D6-7577-43AC-9918-27FABD7C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FDDF8-7B45-4BBF-B376-7CF7353B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5840E-EDF0-4399-AECF-DCC615DD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84EC-EBF4-4D51-A4F5-FDE74D2B498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47C-4558-4B6A-BAF6-6CE2FC755B8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4257-6E98-4878-893A-924BFBB0EC5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90FB-7486-4F8F-8B27-86CB8B831632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computer-823609_1920.JPG"/>
          <p:cNvPicPr/>
          <p:nvPr/>
        </p:nvPicPr>
        <p:blipFill>
          <a:blip r:embed="rId2"/>
          <a:srcRect l="0" t="7680" r="0" b="768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B081-969F-4274-AF25-19D9287C026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computer-823609_1920.JPG"/>
          <p:cNvPicPr/>
          <p:nvPr/>
        </p:nvPicPr>
        <p:blipFill>
          <a:blip r:embed="rId2"/>
          <a:srcRect l="0" t="7680" r="0" b="768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D17B-946F-4DE7-BE00-46B4D2B38F6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7A6D-D66C-4917-970E-290D226F159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6144-B419-486E-AC8D-F35D8287E0A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528B-E187-42AC-8F4F-F109B2A5C82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02F6-BA0E-4853-8542-7E15C27AA18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9B20-9127-4D63-8D79-420BC124B0A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353E-0B55-4211-9203-D2AB347C458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3"/>
          <p:cNvSpPr/>
          <p:nvPr/>
        </p:nvSpPr>
        <p:spPr>
          <a:xfrm rot="2700000">
            <a:off x="3703320" y="3840120"/>
            <a:ext cx="1079640" cy="10792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矩形 1"/>
          <p:cNvSpPr/>
          <p:nvPr/>
        </p:nvSpPr>
        <p:spPr>
          <a:xfrm rot="2700000">
            <a:off x="2792160" y="781200"/>
            <a:ext cx="2879640" cy="2879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2"/>
          <p:cNvSpPr/>
          <p:nvPr/>
        </p:nvSpPr>
        <p:spPr>
          <a:xfrm rot="2700000">
            <a:off x="2725200" y="725040"/>
            <a:ext cx="3008520" cy="3008520"/>
          </a:xfrm>
          <a:prstGeom prst="rect">
            <a:avLst/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78000" y="1571760"/>
            <a:ext cx="2286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RES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椭圆 3"/>
          <p:cNvSpPr/>
          <p:nvPr/>
        </p:nvSpPr>
        <p:spPr>
          <a:xfrm>
            <a:off x="3214800" y="642960"/>
            <a:ext cx="1800000" cy="180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KSO_Shape"/>
          <p:cNvSpPr/>
          <p:nvPr/>
        </p:nvSpPr>
        <p:spPr>
          <a:xfrm>
            <a:off x="3726000" y="1000080"/>
            <a:ext cx="846000" cy="952560"/>
          </a:xfrm>
          <a:custGeom>
            <a:avLst/>
            <a:gdLst/>
            <a:ahLst/>
            <a:rect l="l" t="t" r="r" b="b"/>
            <a:pathLst>
              <a:path w="1933575" h="2176463">
                <a:moveTo>
                  <a:pt x="917922" y="1365250"/>
                </a:moveTo>
                <a:lnTo>
                  <a:pt x="1015653" y="1365250"/>
                </a:lnTo>
                <a:lnTo>
                  <a:pt x="1065212" y="1459535"/>
                </a:lnTo>
                <a:lnTo>
                  <a:pt x="1030719" y="1495660"/>
                </a:lnTo>
                <a:lnTo>
                  <a:pt x="1062239" y="1712415"/>
                </a:lnTo>
                <a:lnTo>
                  <a:pt x="966688" y="2066925"/>
                </a:lnTo>
                <a:lnTo>
                  <a:pt x="871336" y="1712415"/>
                </a:lnTo>
                <a:lnTo>
                  <a:pt x="902657" y="1495660"/>
                </a:lnTo>
                <a:lnTo>
                  <a:pt x="868362" y="1459535"/>
                </a:lnTo>
                <a:lnTo>
                  <a:pt x="917922" y="1365250"/>
                </a:lnTo>
                <a:close/>
                <a:moveTo>
                  <a:pt x="1374656" y="1343025"/>
                </a:moveTo>
                <a:lnTo>
                  <a:pt x="1402443" y="1355917"/>
                </a:lnTo>
                <a:lnTo>
                  <a:pt x="1431222" y="1369405"/>
                </a:lnTo>
                <a:lnTo>
                  <a:pt x="1460597" y="1383487"/>
                </a:lnTo>
                <a:lnTo>
                  <a:pt x="1490369" y="1397768"/>
                </a:lnTo>
                <a:lnTo>
                  <a:pt x="1520141" y="1412644"/>
                </a:lnTo>
                <a:lnTo>
                  <a:pt x="1549318" y="1427519"/>
                </a:lnTo>
                <a:lnTo>
                  <a:pt x="1578296" y="1442395"/>
                </a:lnTo>
                <a:lnTo>
                  <a:pt x="1605885" y="1457271"/>
                </a:lnTo>
                <a:lnTo>
                  <a:pt x="1632481" y="1472146"/>
                </a:lnTo>
                <a:lnTo>
                  <a:pt x="1645382" y="1479485"/>
                </a:lnTo>
                <a:lnTo>
                  <a:pt x="1657688" y="1486427"/>
                </a:lnTo>
                <a:lnTo>
                  <a:pt x="1669597" y="1493568"/>
                </a:lnTo>
                <a:lnTo>
                  <a:pt x="1680910" y="1500708"/>
                </a:lnTo>
                <a:lnTo>
                  <a:pt x="1691827" y="1507650"/>
                </a:lnTo>
                <a:lnTo>
                  <a:pt x="1701949" y="1514394"/>
                </a:lnTo>
                <a:lnTo>
                  <a:pt x="1711675" y="1520939"/>
                </a:lnTo>
                <a:lnTo>
                  <a:pt x="1720606" y="1527484"/>
                </a:lnTo>
                <a:lnTo>
                  <a:pt x="1729141" y="1533633"/>
                </a:lnTo>
                <a:lnTo>
                  <a:pt x="1736683" y="1539980"/>
                </a:lnTo>
                <a:lnTo>
                  <a:pt x="1743431" y="1545732"/>
                </a:lnTo>
                <a:lnTo>
                  <a:pt x="1749584" y="1551484"/>
                </a:lnTo>
                <a:lnTo>
                  <a:pt x="1754745" y="1557037"/>
                </a:lnTo>
                <a:lnTo>
                  <a:pt x="1757127" y="1559616"/>
                </a:lnTo>
                <a:lnTo>
                  <a:pt x="1759111" y="1562393"/>
                </a:lnTo>
                <a:lnTo>
                  <a:pt x="1762287" y="1566756"/>
                </a:lnTo>
                <a:lnTo>
                  <a:pt x="1765661" y="1571913"/>
                </a:lnTo>
                <a:lnTo>
                  <a:pt x="1769035" y="1577467"/>
                </a:lnTo>
                <a:lnTo>
                  <a:pt x="1772409" y="1583814"/>
                </a:lnTo>
                <a:lnTo>
                  <a:pt x="1775585" y="1590557"/>
                </a:lnTo>
                <a:lnTo>
                  <a:pt x="1778959" y="1598094"/>
                </a:lnTo>
                <a:lnTo>
                  <a:pt x="1782532" y="1605830"/>
                </a:lnTo>
                <a:lnTo>
                  <a:pt x="1786105" y="1614160"/>
                </a:lnTo>
                <a:lnTo>
                  <a:pt x="1789677" y="1622887"/>
                </a:lnTo>
                <a:lnTo>
                  <a:pt x="1793250" y="1632209"/>
                </a:lnTo>
                <a:lnTo>
                  <a:pt x="1800197" y="1651845"/>
                </a:lnTo>
                <a:lnTo>
                  <a:pt x="1807540" y="1673266"/>
                </a:lnTo>
                <a:lnTo>
                  <a:pt x="1814884" y="1695878"/>
                </a:lnTo>
                <a:lnTo>
                  <a:pt x="1822228" y="1719282"/>
                </a:lnTo>
                <a:lnTo>
                  <a:pt x="1829572" y="1744075"/>
                </a:lnTo>
                <a:lnTo>
                  <a:pt x="1836915" y="1769661"/>
                </a:lnTo>
                <a:lnTo>
                  <a:pt x="1844259" y="1795644"/>
                </a:lnTo>
                <a:lnTo>
                  <a:pt x="1851405" y="1822222"/>
                </a:lnTo>
                <a:lnTo>
                  <a:pt x="1858153" y="1848999"/>
                </a:lnTo>
                <a:lnTo>
                  <a:pt x="1865100" y="1875775"/>
                </a:lnTo>
                <a:lnTo>
                  <a:pt x="1871649" y="1902551"/>
                </a:lnTo>
                <a:lnTo>
                  <a:pt x="1884551" y="1955112"/>
                </a:lnTo>
                <a:lnTo>
                  <a:pt x="1896261" y="2005491"/>
                </a:lnTo>
                <a:lnTo>
                  <a:pt x="1906780" y="2051904"/>
                </a:lnTo>
                <a:lnTo>
                  <a:pt x="1915911" y="2092961"/>
                </a:lnTo>
                <a:lnTo>
                  <a:pt x="1923453" y="2127274"/>
                </a:lnTo>
                <a:lnTo>
                  <a:pt x="1929010" y="2153654"/>
                </a:lnTo>
                <a:lnTo>
                  <a:pt x="1933575" y="2176463"/>
                </a:lnTo>
                <a:lnTo>
                  <a:pt x="1006475" y="2176463"/>
                </a:lnTo>
                <a:lnTo>
                  <a:pt x="1497515" y="1678027"/>
                </a:lnTo>
                <a:lnTo>
                  <a:pt x="1340716" y="1562393"/>
                </a:lnTo>
                <a:lnTo>
                  <a:pt x="1470720" y="1508642"/>
                </a:lnTo>
                <a:lnTo>
                  <a:pt x="1374656" y="1343025"/>
                </a:lnTo>
                <a:close/>
                <a:moveTo>
                  <a:pt x="559238" y="1343025"/>
                </a:moveTo>
                <a:lnTo>
                  <a:pt x="463153" y="1508642"/>
                </a:lnTo>
                <a:lnTo>
                  <a:pt x="593185" y="1562393"/>
                </a:lnTo>
                <a:lnTo>
                  <a:pt x="435955" y="1678027"/>
                </a:lnTo>
                <a:lnTo>
                  <a:pt x="927100" y="2176463"/>
                </a:lnTo>
                <a:lnTo>
                  <a:pt x="0" y="2176463"/>
                </a:lnTo>
                <a:lnTo>
                  <a:pt x="4566" y="2153654"/>
                </a:lnTo>
                <a:lnTo>
                  <a:pt x="10125" y="2127274"/>
                </a:lnTo>
                <a:lnTo>
                  <a:pt x="17668" y="2092961"/>
                </a:lnTo>
                <a:lnTo>
                  <a:pt x="26800" y="2051904"/>
                </a:lnTo>
                <a:lnTo>
                  <a:pt x="37322" y="2005491"/>
                </a:lnTo>
                <a:lnTo>
                  <a:pt x="49035" y="1955112"/>
                </a:lnTo>
                <a:lnTo>
                  <a:pt x="61740" y="1902551"/>
                </a:lnTo>
                <a:lnTo>
                  <a:pt x="68490" y="1875775"/>
                </a:lnTo>
                <a:lnTo>
                  <a:pt x="75438" y="1848999"/>
                </a:lnTo>
                <a:lnTo>
                  <a:pt x="82387" y="1822222"/>
                </a:lnTo>
                <a:lnTo>
                  <a:pt x="89335" y="1795644"/>
                </a:lnTo>
                <a:lnTo>
                  <a:pt x="96680" y="1769661"/>
                </a:lnTo>
                <a:lnTo>
                  <a:pt x="103827" y="1744075"/>
                </a:lnTo>
                <a:lnTo>
                  <a:pt x="111172" y="1719282"/>
                </a:lnTo>
                <a:lnTo>
                  <a:pt x="118518" y="1695878"/>
                </a:lnTo>
                <a:lnTo>
                  <a:pt x="125863" y="1673266"/>
                </a:lnTo>
                <a:lnTo>
                  <a:pt x="133010" y="1651845"/>
                </a:lnTo>
                <a:lnTo>
                  <a:pt x="140355" y="1632209"/>
                </a:lnTo>
                <a:lnTo>
                  <a:pt x="143929" y="1622887"/>
                </a:lnTo>
                <a:lnTo>
                  <a:pt x="147502" y="1614160"/>
                </a:lnTo>
                <a:lnTo>
                  <a:pt x="150877" y="1605830"/>
                </a:lnTo>
                <a:lnTo>
                  <a:pt x="154450" y="1598094"/>
                </a:lnTo>
                <a:lnTo>
                  <a:pt x="158024" y="1590557"/>
                </a:lnTo>
                <a:lnTo>
                  <a:pt x="161200" y="1583814"/>
                </a:lnTo>
                <a:lnTo>
                  <a:pt x="164575" y="1577467"/>
                </a:lnTo>
                <a:lnTo>
                  <a:pt x="167950" y="1571913"/>
                </a:lnTo>
                <a:lnTo>
                  <a:pt x="171325" y="1566756"/>
                </a:lnTo>
                <a:lnTo>
                  <a:pt x="174303" y="1562393"/>
                </a:lnTo>
                <a:lnTo>
                  <a:pt x="176288" y="1559616"/>
                </a:lnTo>
                <a:lnTo>
                  <a:pt x="178869" y="1557037"/>
                </a:lnTo>
                <a:lnTo>
                  <a:pt x="183832" y="1551484"/>
                </a:lnTo>
                <a:lnTo>
                  <a:pt x="189986" y="1545732"/>
                </a:lnTo>
                <a:lnTo>
                  <a:pt x="196736" y="1539980"/>
                </a:lnTo>
                <a:lnTo>
                  <a:pt x="204280" y="1533633"/>
                </a:lnTo>
                <a:lnTo>
                  <a:pt x="212816" y="1527484"/>
                </a:lnTo>
                <a:lnTo>
                  <a:pt x="221948" y="1520939"/>
                </a:lnTo>
                <a:lnTo>
                  <a:pt x="231477" y="1514394"/>
                </a:lnTo>
                <a:lnTo>
                  <a:pt x="241800" y="1507650"/>
                </a:lnTo>
                <a:lnTo>
                  <a:pt x="252520" y="1500708"/>
                </a:lnTo>
                <a:lnTo>
                  <a:pt x="264035" y="1493568"/>
                </a:lnTo>
                <a:lnTo>
                  <a:pt x="275748" y="1486427"/>
                </a:lnTo>
                <a:lnTo>
                  <a:pt x="288255" y="1479485"/>
                </a:lnTo>
                <a:lnTo>
                  <a:pt x="300960" y="1472146"/>
                </a:lnTo>
                <a:lnTo>
                  <a:pt x="327562" y="1457271"/>
                </a:lnTo>
                <a:lnTo>
                  <a:pt x="355355" y="1442395"/>
                </a:lnTo>
                <a:lnTo>
                  <a:pt x="384141" y="1427519"/>
                </a:lnTo>
                <a:lnTo>
                  <a:pt x="413522" y="1412644"/>
                </a:lnTo>
                <a:lnTo>
                  <a:pt x="443301" y="1397768"/>
                </a:lnTo>
                <a:lnTo>
                  <a:pt x="473079" y="1383487"/>
                </a:lnTo>
                <a:lnTo>
                  <a:pt x="502262" y="1369405"/>
                </a:lnTo>
                <a:lnTo>
                  <a:pt x="531246" y="1355917"/>
                </a:lnTo>
                <a:lnTo>
                  <a:pt x="559238" y="1343025"/>
                </a:lnTo>
                <a:close/>
                <a:moveTo>
                  <a:pt x="1211362" y="1270000"/>
                </a:moveTo>
                <a:lnTo>
                  <a:pt x="1244912" y="1284092"/>
                </a:lnTo>
                <a:lnTo>
                  <a:pt x="1282233" y="1300765"/>
                </a:lnTo>
                <a:lnTo>
                  <a:pt x="1330076" y="1322002"/>
                </a:lnTo>
                <a:lnTo>
                  <a:pt x="1429931" y="1494284"/>
                </a:lnTo>
                <a:lnTo>
                  <a:pt x="1283424" y="1554622"/>
                </a:lnTo>
                <a:lnTo>
                  <a:pt x="1454150" y="1680856"/>
                </a:lnTo>
                <a:lnTo>
                  <a:pt x="966787" y="2176463"/>
                </a:lnTo>
                <a:lnTo>
                  <a:pt x="1211362" y="1270000"/>
                </a:lnTo>
                <a:close/>
                <a:moveTo>
                  <a:pt x="723008" y="1270000"/>
                </a:moveTo>
                <a:lnTo>
                  <a:pt x="966787" y="2176463"/>
                </a:lnTo>
                <a:lnTo>
                  <a:pt x="481012" y="1680856"/>
                </a:lnTo>
                <a:lnTo>
                  <a:pt x="650924" y="1554622"/>
                </a:lnTo>
                <a:lnTo>
                  <a:pt x="504974" y="1494284"/>
                </a:lnTo>
                <a:lnTo>
                  <a:pt x="604584" y="1322002"/>
                </a:lnTo>
                <a:lnTo>
                  <a:pt x="652310" y="1300765"/>
                </a:lnTo>
                <a:lnTo>
                  <a:pt x="689739" y="1284092"/>
                </a:lnTo>
                <a:lnTo>
                  <a:pt x="723008" y="1270000"/>
                </a:lnTo>
                <a:close/>
                <a:moveTo>
                  <a:pt x="1212153" y="261938"/>
                </a:moveTo>
                <a:lnTo>
                  <a:pt x="1217712" y="264714"/>
                </a:lnTo>
                <a:lnTo>
                  <a:pt x="1223072" y="267887"/>
                </a:lnTo>
                <a:lnTo>
                  <a:pt x="1228035" y="271059"/>
                </a:lnTo>
                <a:lnTo>
                  <a:pt x="1232998" y="274034"/>
                </a:lnTo>
                <a:lnTo>
                  <a:pt x="1237762" y="277404"/>
                </a:lnTo>
                <a:lnTo>
                  <a:pt x="1242328" y="280775"/>
                </a:lnTo>
                <a:lnTo>
                  <a:pt x="1246695" y="284146"/>
                </a:lnTo>
                <a:lnTo>
                  <a:pt x="1251261" y="287517"/>
                </a:lnTo>
                <a:lnTo>
                  <a:pt x="1255430" y="291086"/>
                </a:lnTo>
                <a:lnTo>
                  <a:pt x="1259400" y="294853"/>
                </a:lnTo>
                <a:lnTo>
                  <a:pt x="1263172" y="298621"/>
                </a:lnTo>
                <a:lnTo>
                  <a:pt x="1266944" y="302388"/>
                </a:lnTo>
                <a:lnTo>
                  <a:pt x="1270517" y="306354"/>
                </a:lnTo>
                <a:lnTo>
                  <a:pt x="1274091" y="310518"/>
                </a:lnTo>
                <a:lnTo>
                  <a:pt x="1277466" y="314484"/>
                </a:lnTo>
                <a:lnTo>
                  <a:pt x="1280443" y="318648"/>
                </a:lnTo>
                <a:lnTo>
                  <a:pt x="1283620" y="323010"/>
                </a:lnTo>
                <a:lnTo>
                  <a:pt x="1286399" y="327372"/>
                </a:lnTo>
                <a:lnTo>
                  <a:pt x="1289377" y="331734"/>
                </a:lnTo>
                <a:lnTo>
                  <a:pt x="1291957" y="336295"/>
                </a:lnTo>
                <a:lnTo>
                  <a:pt x="1297317" y="345614"/>
                </a:lnTo>
                <a:lnTo>
                  <a:pt x="1302082" y="355132"/>
                </a:lnTo>
                <a:lnTo>
                  <a:pt x="1306449" y="365245"/>
                </a:lnTo>
                <a:lnTo>
                  <a:pt x="1310420" y="375357"/>
                </a:lnTo>
                <a:lnTo>
                  <a:pt x="1314191" y="385866"/>
                </a:lnTo>
                <a:lnTo>
                  <a:pt x="1317765" y="396574"/>
                </a:lnTo>
                <a:lnTo>
                  <a:pt x="1320941" y="407678"/>
                </a:lnTo>
                <a:lnTo>
                  <a:pt x="1323919" y="419178"/>
                </a:lnTo>
                <a:lnTo>
                  <a:pt x="1326698" y="431075"/>
                </a:lnTo>
                <a:lnTo>
                  <a:pt x="1329279" y="442972"/>
                </a:lnTo>
                <a:lnTo>
                  <a:pt x="1332058" y="455068"/>
                </a:lnTo>
                <a:lnTo>
                  <a:pt x="1334440" y="467758"/>
                </a:lnTo>
                <a:lnTo>
                  <a:pt x="1339006" y="493733"/>
                </a:lnTo>
                <a:lnTo>
                  <a:pt x="1348337" y="548658"/>
                </a:lnTo>
                <a:lnTo>
                  <a:pt x="1353696" y="577806"/>
                </a:lnTo>
                <a:lnTo>
                  <a:pt x="1356674" y="592678"/>
                </a:lnTo>
                <a:lnTo>
                  <a:pt x="1359652" y="607945"/>
                </a:lnTo>
                <a:lnTo>
                  <a:pt x="1364615" y="608739"/>
                </a:lnTo>
                <a:lnTo>
                  <a:pt x="1369181" y="609928"/>
                </a:lnTo>
                <a:lnTo>
                  <a:pt x="1374144" y="610920"/>
                </a:lnTo>
                <a:lnTo>
                  <a:pt x="1378710" y="612308"/>
                </a:lnTo>
                <a:lnTo>
                  <a:pt x="1383276" y="613894"/>
                </a:lnTo>
                <a:lnTo>
                  <a:pt x="1387842" y="615679"/>
                </a:lnTo>
                <a:lnTo>
                  <a:pt x="1392010" y="617463"/>
                </a:lnTo>
                <a:lnTo>
                  <a:pt x="1396576" y="619446"/>
                </a:lnTo>
                <a:lnTo>
                  <a:pt x="1400745" y="621429"/>
                </a:lnTo>
                <a:lnTo>
                  <a:pt x="1404914" y="623610"/>
                </a:lnTo>
                <a:lnTo>
                  <a:pt x="1408884" y="625990"/>
                </a:lnTo>
                <a:lnTo>
                  <a:pt x="1412656" y="628567"/>
                </a:lnTo>
                <a:lnTo>
                  <a:pt x="1416428" y="631145"/>
                </a:lnTo>
                <a:lnTo>
                  <a:pt x="1420200" y="634119"/>
                </a:lnTo>
                <a:lnTo>
                  <a:pt x="1423773" y="636895"/>
                </a:lnTo>
                <a:lnTo>
                  <a:pt x="1427148" y="639869"/>
                </a:lnTo>
                <a:lnTo>
                  <a:pt x="1430523" y="642844"/>
                </a:lnTo>
                <a:lnTo>
                  <a:pt x="1433501" y="646214"/>
                </a:lnTo>
                <a:lnTo>
                  <a:pt x="1436677" y="649585"/>
                </a:lnTo>
                <a:lnTo>
                  <a:pt x="1439655" y="652956"/>
                </a:lnTo>
                <a:lnTo>
                  <a:pt x="1442235" y="656327"/>
                </a:lnTo>
                <a:lnTo>
                  <a:pt x="1444618" y="660094"/>
                </a:lnTo>
                <a:lnTo>
                  <a:pt x="1447198" y="663862"/>
                </a:lnTo>
                <a:lnTo>
                  <a:pt x="1449382" y="667629"/>
                </a:lnTo>
                <a:lnTo>
                  <a:pt x="1451566" y="671793"/>
                </a:lnTo>
                <a:lnTo>
                  <a:pt x="1453352" y="675759"/>
                </a:lnTo>
                <a:lnTo>
                  <a:pt x="1455139" y="679923"/>
                </a:lnTo>
                <a:lnTo>
                  <a:pt x="1456727" y="684087"/>
                </a:lnTo>
                <a:lnTo>
                  <a:pt x="1457918" y="688251"/>
                </a:lnTo>
                <a:lnTo>
                  <a:pt x="1459109" y="692811"/>
                </a:lnTo>
                <a:lnTo>
                  <a:pt x="1460301" y="697174"/>
                </a:lnTo>
                <a:lnTo>
                  <a:pt x="1460896" y="701933"/>
                </a:lnTo>
                <a:lnTo>
                  <a:pt x="1461492" y="706493"/>
                </a:lnTo>
                <a:lnTo>
                  <a:pt x="1461690" y="711252"/>
                </a:lnTo>
                <a:lnTo>
                  <a:pt x="1462087" y="715812"/>
                </a:lnTo>
                <a:lnTo>
                  <a:pt x="1462087" y="720770"/>
                </a:lnTo>
                <a:lnTo>
                  <a:pt x="1461690" y="725528"/>
                </a:lnTo>
                <a:lnTo>
                  <a:pt x="1461095" y="730485"/>
                </a:lnTo>
                <a:lnTo>
                  <a:pt x="1460499" y="735443"/>
                </a:lnTo>
                <a:lnTo>
                  <a:pt x="1459506" y="740400"/>
                </a:lnTo>
                <a:lnTo>
                  <a:pt x="1458315" y="745555"/>
                </a:lnTo>
                <a:lnTo>
                  <a:pt x="1456926" y="750711"/>
                </a:lnTo>
                <a:lnTo>
                  <a:pt x="1455139" y="755866"/>
                </a:lnTo>
                <a:lnTo>
                  <a:pt x="1453352" y="761021"/>
                </a:lnTo>
                <a:lnTo>
                  <a:pt x="1451169" y="766375"/>
                </a:lnTo>
                <a:lnTo>
                  <a:pt x="1448588" y="771729"/>
                </a:lnTo>
                <a:lnTo>
                  <a:pt x="1446007" y="777083"/>
                </a:lnTo>
                <a:lnTo>
                  <a:pt x="1442831" y="782238"/>
                </a:lnTo>
                <a:lnTo>
                  <a:pt x="1439655" y="787790"/>
                </a:lnTo>
                <a:lnTo>
                  <a:pt x="1436280" y="793144"/>
                </a:lnTo>
                <a:lnTo>
                  <a:pt x="1432310" y="798696"/>
                </a:lnTo>
                <a:lnTo>
                  <a:pt x="1428339" y="804247"/>
                </a:lnTo>
                <a:lnTo>
                  <a:pt x="1423773" y="809601"/>
                </a:lnTo>
                <a:lnTo>
                  <a:pt x="1419207" y="815153"/>
                </a:lnTo>
                <a:lnTo>
                  <a:pt x="1414244" y="820705"/>
                </a:lnTo>
                <a:lnTo>
                  <a:pt x="1408884" y="826257"/>
                </a:lnTo>
                <a:lnTo>
                  <a:pt x="1403326" y="831809"/>
                </a:lnTo>
                <a:lnTo>
                  <a:pt x="1397370" y="837361"/>
                </a:lnTo>
                <a:lnTo>
                  <a:pt x="1391216" y="842913"/>
                </a:lnTo>
                <a:lnTo>
                  <a:pt x="1384864" y="848267"/>
                </a:lnTo>
                <a:lnTo>
                  <a:pt x="1377916" y="853819"/>
                </a:lnTo>
                <a:lnTo>
                  <a:pt x="1370769" y="859371"/>
                </a:lnTo>
                <a:lnTo>
                  <a:pt x="1363225" y="864724"/>
                </a:lnTo>
                <a:lnTo>
                  <a:pt x="1355285" y="870276"/>
                </a:lnTo>
                <a:lnTo>
                  <a:pt x="1353299" y="880587"/>
                </a:lnTo>
                <a:lnTo>
                  <a:pt x="1351314" y="890700"/>
                </a:lnTo>
                <a:lnTo>
                  <a:pt x="1348932" y="900812"/>
                </a:lnTo>
                <a:lnTo>
                  <a:pt x="1346351" y="911123"/>
                </a:lnTo>
                <a:lnTo>
                  <a:pt x="1343771" y="921037"/>
                </a:lnTo>
                <a:lnTo>
                  <a:pt x="1340991" y="930952"/>
                </a:lnTo>
                <a:lnTo>
                  <a:pt x="1338212" y="941064"/>
                </a:lnTo>
                <a:lnTo>
                  <a:pt x="1335036" y="950978"/>
                </a:lnTo>
                <a:lnTo>
                  <a:pt x="1332058" y="960893"/>
                </a:lnTo>
                <a:lnTo>
                  <a:pt x="1328683" y="970609"/>
                </a:lnTo>
                <a:lnTo>
                  <a:pt x="1325110" y="980523"/>
                </a:lnTo>
                <a:lnTo>
                  <a:pt x="1321537" y="990239"/>
                </a:lnTo>
                <a:lnTo>
                  <a:pt x="1317765" y="999756"/>
                </a:lnTo>
                <a:lnTo>
                  <a:pt x="1313993" y="1009274"/>
                </a:lnTo>
                <a:lnTo>
                  <a:pt x="1310023" y="1018594"/>
                </a:lnTo>
                <a:lnTo>
                  <a:pt x="1305854" y="1028111"/>
                </a:lnTo>
                <a:lnTo>
                  <a:pt x="1301486" y="1037232"/>
                </a:lnTo>
                <a:lnTo>
                  <a:pt x="1297119" y="1046552"/>
                </a:lnTo>
                <a:lnTo>
                  <a:pt x="1292553" y="1055276"/>
                </a:lnTo>
                <a:lnTo>
                  <a:pt x="1287789" y="1064397"/>
                </a:lnTo>
                <a:lnTo>
                  <a:pt x="1283223" y="1073320"/>
                </a:lnTo>
                <a:lnTo>
                  <a:pt x="1278061" y="1082045"/>
                </a:lnTo>
                <a:lnTo>
                  <a:pt x="1273098" y="1090571"/>
                </a:lnTo>
                <a:lnTo>
                  <a:pt x="1267937" y="1099295"/>
                </a:lnTo>
                <a:lnTo>
                  <a:pt x="1262577" y="1107425"/>
                </a:lnTo>
                <a:lnTo>
                  <a:pt x="1257217" y="1115951"/>
                </a:lnTo>
                <a:lnTo>
                  <a:pt x="1251658" y="1123883"/>
                </a:lnTo>
                <a:lnTo>
                  <a:pt x="1245901" y="1131814"/>
                </a:lnTo>
                <a:lnTo>
                  <a:pt x="1240144" y="1139745"/>
                </a:lnTo>
                <a:lnTo>
                  <a:pt x="1234387" y="1147280"/>
                </a:lnTo>
                <a:lnTo>
                  <a:pt x="1228432" y="1154815"/>
                </a:lnTo>
                <a:lnTo>
                  <a:pt x="1222079" y="1162350"/>
                </a:lnTo>
                <a:lnTo>
                  <a:pt x="1215925" y="1169488"/>
                </a:lnTo>
                <a:lnTo>
                  <a:pt x="1209573" y="1176626"/>
                </a:lnTo>
                <a:lnTo>
                  <a:pt x="1203021" y="1183765"/>
                </a:lnTo>
                <a:lnTo>
                  <a:pt x="1196470" y="1190308"/>
                </a:lnTo>
                <a:lnTo>
                  <a:pt x="1189721" y="1197050"/>
                </a:lnTo>
                <a:lnTo>
                  <a:pt x="1182773" y="1203197"/>
                </a:lnTo>
                <a:lnTo>
                  <a:pt x="1176023" y="1209542"/>
                </a:lnTo>
                <a:lnTo>
                  <a:pt x="1168876" y="1215689"/>
                </a:lnTo>
                <a:lnTo>
                  <a:pt x="1161730" y="1221439"/>
                </a:lnTo>
                <a:lnTo>
                  <a:pt x="1154583" y="1227189"/>
                </a:lnTo>
                <a:lnTo>
                  <a:pt x="1147436" y="1232543"/>
                </a:lnTo>
                <a:lnTo>
                  <a:pt x="1139893" y="1237698"/>
                </a:lnTo>
                <a:lnTo>
                  <a:pt x="1132349" y="1242655"/>
                </a:lnTo>
                <a:lnTo>
                  <a:pt x="1124805" y="1247613"/>
                </a:lnTo>
                <a:lnTo>
                  <a:pt x="1116865" y="1252173"/>
                </a:lnTo>
                <a:lnTo>
                  <a:pt x="1109122" y="1256535"/>
                </a:lnTo>
                <a:lnTo>
                  <a:pt x="1101182" y="1260898"/>
                </a:lnTo>
                <a:lnTo>
                  <a:pt x="1093241" y="1264863"/>
                </a:lnTo>
                <a:lnTo>
                  <a:pt x="1085102" y="1268432"/>
                </a:lnTo>
                <a:lnTo>
                  <a:pt x="1076764" y="1272002"/>
                </a:lnTo>
                <a:lnTo>
                  <a:pt x="1068625" y="1275174"/>
                </a:lnTo>
                <a:lnTo>
                  <a:pt x="1060089" y="1278148"/>
                </a:lnTo>
                <a:lnTo>
                  <a:pt x="1051751" y="1280924"/>
                </a:lnTo>
                <a:lnTo>
                  <a:pt x="1043016" y="1283502"/>
                </a:lnTo>
                <a:lnTo>
                  <a:pt x="1034480" y="1285683"/>
                </a:lnTo>
                <a:lnTo>
                  <a:pt x="1025745" y="1287666"/>
                </a:lnTo>
                <a:lnTo>
                  <a:pt x="1016812" y="1289451"/>
                </a:lnTo>
                <a:lnTo>
                  <a:pt x="1008077" y="1290839"/>
                </a:lnTo>
                <a:lnTo>
                  <a:pt x="998945" y="1292028"/>
                </a:lnTo>
                <a:lnTo>
                  <a:pt x="989813" y="1293020"/>
                </a:lnTo>
                <a:lnTo>
                  <a:pt x="980681" y="1293416"/>
                </a:lnTo>
                <a:lnTo>
                  <a:pt x="971550" y="1293813"/>
                </a:lnTo>
                <a:lnTo>
                  <a:pt x="962219" y="1293416"/>
                </a:lnTo>
                <a:lnTo>
                  <a:pt x="953286" y="1293020"/>
                </a:lnTo>
                <a:lnTo>
                  <a:pt x="944154" y="1292028"/>
                </a:lnTo>
                <a:lnTo>
                  <a:pt x="935022" y="1290839"/>
                </a:lnTo>
                <a:lnTo>
                  <a:pt x="926089" y="1289451"/>
                </a:lnTo>
                <a:lnTo>
                  <a:pt x="917156" y="1287666"/>
                </a:lnTo>
                <a:lnTo>
                  <a:pt x="908619" y="1285683"/>
                </a:lnTo>
                <a:lnTo>
                  <a:pt x="899885" y="1283502"/>
                </a:lnTo>
                <a:lnTo>
                  <a:pt x="891348" y="1280924"/>
                </a:lnTo>
                <a:lnTo>
                  <a:pt x="882812" y="1278148"/>
                </a:lnTo>
                <a:lnTo>
                  <a:pt x="874474" y="1275174"/>
                </a:lnTo>
                <a:lnTo>
                  <a:pt x="866136" y="1272002"/>
                </a:lnTo>
                <a:lnTo>
                  <a:pt x="857997" y="1268432"/>
                </a:lnTo>
                <a:lnTo>
                  <a:pt x="849858" y="1264863"/>
                </a:lnTo>
                <a:lnTo>
                  <a:pt x="841719" y="1260898"/>
                </a:lnTo>
                <a:lnTo>
                  <a:pt x="833778" y="1256535"/>
                </a:lnTo>
                <a:lnTo>
                  <a:pt x="826036" y="1252173"/>
                </a:lnTo>
                <a:lnTo>
                  <a:pt x="818294" y="1247613"/>
                </a:lnTo>
                <a:lnTo>
                  <a:pt x="810750" y="1242655"/>
                </a:lnTo>
                <a:lnTo>
                  <a:pt x="803206" y="1237698"/>
                </a:lnTo>
                <a:lnTo>
                  <a:pt x="795663" y="1232543"/>
                </a:lnTo>
                <a:lnTo>
                  <a:pt x="788317" y="1227189"/>
                </a:lnTo>
                <a:lnTo>
                  <a:pt x="780972" y="1221439"/>
                </a:lnTo>
                <a:lnTo>
                  <a:pt x="773826" y="1215689"/>
                </a:lnTo>
                <a:lnTo>
                  <a:pt x="767076" y="1209542"/>
                </a:lnTo>
                <a:lnTo>
                  <a:pt x="759929" y="1203197"/>
                </a:lnTo>
                <a:lnTo>
                  <a:pt x="753180" y="1197050"/>
                </a:lnTo>
                <a:lnTo>
                  <a:pt x="746629" y="1190308"/>
                </a:lnTo>
                <a:lnTo>
                  <a:pt x="739879" y="1183765"/>
                </a:lnTo>
                <a:lnTo>
                  <a:pt x="733527" y="1176626"/>
                </a:lnTo>
                <a:lnTo>
                  <a:pt x="727174" y="1169488"/>
                </a:lnTo>
                <a:lnTo>
                  <a:pt x="720821" y="1162350"/>
                </a:lnTo>
                <a:lnTo>
                  <a:pt x="714667" y="1154815"/>
                </a:lnTo>
                <a:lnTo>
                  <a:pt x="708712" y="1147280"/>
                </a:lnTo>
                <a:lnTo>
                  <a:pt x="702756" y="1139745"/>
                </a:lnTo>
                <a:lnTo>
                  <a:pt x="696999" y="1131814"/>
                </a:lnTo>
                <a:lnTo>
                  <a:pt x="691441" y="1123883"/>
                </a:lnTo>
                <a:lnTo>
                  <a:pt x="685882" y="1115951"/>
                </a:lnTo>
                <a:lnTo>
                  <a:pt x="680324" y="1107425"/>
                </a:lnTo>
                <a:lnTo>
                  <a:pt x="674964" y="1099295"/>
                </a:lnTo>
                <a:lnTo>
                  <a:pt x="669802" y="1090571"/>
                </a:lnTo>
                <a:lnTo>
                  <a:pt x="664641" y="1082045"/>
                </a:lnTo>
                <a:lnTo>
                  <a:pt x="659876" y="1073320"/>
                </a:lnTo>
                <a:lnTo>
                  <a:pt x="654913" y="1064397"/>
                </a:lnTo>
                <a:lnTo>
                  <a:pt x="650348" y="1055276"/>
                </a:lnTo>
                <a:lnTo>
                  <a:pt x="645782" y="1046552"/>
                </a:lnTo>
                <a:lnTo>
                  <a:pt x="641414" y="1037232"/>
                </a:lnTo>
                <a:lnTo>
                  <a:pt x="637245" y="1028111"/>
                </a:lnTo>
                <a:lnTo>
                  <a:pt x="633077" y="1018594"/>
                </a:lnTo>
                <a:lnTo>
                  <a:pt x="629106" y="1009274"/>
                </a:lnTo>
                <a:lnTo>
                  <a:pt x="624937" y="999756"/>
                </a:lnTo>
                <a:lnTo>
                  <a:pt x="621562" y="990239"/>
                </a:lnTo>
                <a:lnTo>
                  <a:pt x="617791" y="980523"/>
                </a:lnTo>
                <a:lnTo>
                  <a:pt x="614416" y="970609"/>
                </a:lnTo>
                <a:lnTo>
                  <a:pt x="611041" y="960893"/>
                </a:lnTo>
                <a:lnTo>
                  <a:pt x="607666" y="950978"/>
                </a:lnTo>
                <a:lnTo>
                  <a:pt x="604887" y="941064"/>
                </a:lnTo>
                <a:lnTo>
                  <a:pt x="601909" y="930952"/>
                </a:lnTo>
                <a:lnTo>
                  <a:pt x="599130" y="921037"/>
                </a:lnTo>
                <a:lnTo>
                  <a:pt x="596351" y="911123"/>
                </a:lnTo>
                <a:lnTo>
                  <a:pt x="593969" y="900812"/>
                </a:lnTo>
                <a:lnTo>
                  <a:pt x="591785" y="890700"/>
                </a:lnTo>
                <a:lnTo>
                  <a:pt x="589601" y="880587"/>
                </a:lnTo>
                <a:lnTo>
                  <a:pt x="587616" y="870276"/>
                </a:lnTo>
                <a:lnTo>
                  <a:pt x="579675" y="864724"/>
                </a:lnTo>
                <a:lnTo>
                  <a:pt x="572132" y="859371"/>
                </a:lnTo>
                <a:lnTo>
                  <a:pt x="565183" y="853819"/>
                </a:lnTo>
                <a:lnTo>
                  <a:pt x="558235" y="848267"/>
                </a:lnTo>
                <a:lnTo>
                  <a:pt x="551486" y="842913"/>
                </a:lnTo>
                <a:lnTo>
                  <a:pt x="545332" y="837361"/>
                </a:lnTo>
                <a:lnTo>
                  <a:pt x="539575" y="831809"/>
                </a:lnTo>
                <a:lnTo>
                  <a:pt x="534016" y="826257"/>
                </a:lnTo>
                <a:lnTo>
                  <a:pt x="528656" y="820705"/>
                </a:lnTo>
                <a:lnTo>
                  <a:pt x="523693" y="815153"/>
                </a:lnTo>
                <a:lnTo>
                  <a:pt x="518929" y="809601"/>
                </a:lnTo>
                <a:lnTo>
                  <a:pt x="514760" y="804247"/>
                </a:lnTo>
                <a:lnTo>
                  <a:pt x="510591" y="798696"/>
                </a:lnTo>
                <a:lnTo>
                  <a:pt x="506819" y="793144"/>
                </a:lnTo>
                <a:lnTo>
                  <a:pt x="503246" y="787790"/>
                </a:lnTo>
                <a:lnTo>
                  <a:pt x="500070" y="782238"/>
                </a:lnTo>
                <a:lnTo>
                  <a:pt x="496893" y="777083"/>
                </a:lnTo>
                <a:lnTo>
                  <a:pt x="494313" y="771729"/>
                </a:lnTo>
                <a:lnTo>
                  <a:pt x="491930" y="766375"/>
                </a:lnTo>
                <a:lnTo>
                  <a:pt x="489747" y="761021"/>
                </a:lnTo>
                <a:lnTo>
                  <a:pt x="487761" y="755866"/>
                </a:lnTo>
                <a:lnTo>
                  <a:pt x="486173" y="750711"/>
                </a:lnTo>
                <a:lnTo>
                  <a:pt x="484585" y="745555"/>
                </a:lnTo>
                <a:lnTo>
                  <a:pt x="483394" y="740400"/>
                </a:lnTo>
                <a:lnTo>
                  <a:pt x="482600" y="735443"/>
                </a:lnTo>
                <a:lnTo>
                  <a:pt x="481607" y="730485"/>
                </a:lnTo>
                <a:lnTo>
                  <a:pt x="481210" y="725528"/>
                </a:lnTo>
                <a:lnTo>
                  <a:pt x="481012" y="720770"/>
                </a:lnTo>
                <a:lnTo>
                  <a:pt x="481012" y="715812"/>
                </a:lnTo>
                <a:lnTo>
                  <a:pt x="481012" y="711252"/>
                </a:lnTo>
                <a:lnTo>
                  <a:pt x="481409" y="706493"/>
                </a:lnTo>
                <a:lnTo>
                  <a:pt x="482203" y="701933"/>
                </a:lnTo>
                <a:lnTo>
                  <a:pt x="482799" y="697174"/>
                </a:lnTo>
                <a:lnTo>
                  <a:pt x="483593" y="692811"/>
                </a:lnTo>
                <a:lnTo>
                  <a:pt x="484982" y="688251"/>
                </a:lnTo>
                <a:lnTo>
                  <a:pt x="486372" y="684087"/>
                </a:lnTo>
                <a:lnTo>
                  <a:pt x="487960" y="679923"/>
                </a:lnTo>
                <a:lnTo>
                  <a:pt x="489747" y="675759"/>
                </a:lnTo>
                <a:lnTo>
                  <a:pt x="491533" y="671793"/>
                </a:lnTo>
                <a:lnTo>
                  <a:pt x="493518" y="667629"/>
                </a:lnTo>
                <a:lnTo>
                  <a:pt x="495901" y="663862"/>
                </a:lnTo>
                <a:lnTo>
                  <a:pt x="498084" y="660094"/>
                </a:lnTo>
                <a:lnTo>
                  <a:pt x="500665" y="656327"/>
                </a:lnTo>
                <a:lnTo>
                  <a:pt x="503444" y="652956"/>
                </a:lnTo>
                <a:lnTo>
                  <a:pt x="506224" y="649585"/>
                </a:lnTo>
                <a:lnTo>
                  <a:pt x="509400" y="646214"/>
                </a:lnTo>
                <a:lnTo>
                  <a:pt x="512576" y="642844"/>
                </a:lnTo>
                <a:lnTo>
                  <a:pt x="515752" y="639869"/>
                </a:lnTo>
                <a:lnTo>
                  <a:pt x="519127" y="636895"/>
                </a:lnTo>
                <a:lnTo>
                  <a:pt x="522701" y="634119"/>
                </a:lnTo>
                <a:lnTo>
                  <a:pt x="526274" y="631145"/>
                </a:lnTo>
                <a:lnTo>
                  <a:pt x="530244" y="628567"/>
                </a:lnTo>
                <a:lnTo>
                  <a:pt x="534016" y="625990"/>
                </a:lnTo>
                <a:lnTo>
                  <a:pt x="537986" y="623610"/>
                </a:lnTo>
                <a:lnTo>
                  <a:pt x="542155" y="621429"/>
                </a:lnTo>
                <a:lnTo>
                  <a:pt x="546523" y="619446"/>
                </a:lnTo>
                <a:lnTo>
                  <a:pt x="550692" y="617463"/>
                </a:lnTo>
                <a:lnTo>
                  <a:pt x="555059" y="615679"/>
                </a:lnTo>
                <a:lnTo>
                  <a:pt x="559625" y="613894"/>
                </a:lnTo>
                <a:lnTo>
                  <a:pt x="564191" y="612308"/>
                </a:lnTo>
                <a:lnTo>
                  <a:pt x="568955" y="610920"/>
                </a:lnTo>
                <a:lnTo>
                  <a:pt x="573521" y="609928"/>
                </a:lnTo>
                <a:lnTo>
                  <a:pt x="578484" y="608739"/>
                </a:lnTo>
                <a:lnTo>
                  <a:pt x="583249" y="607945"/>
                </a:lnTo>
                <a:lnTo>
                  <a:pt x="587219" y="587919"/>
                </a:lnTo>
                <a:lnTo>
                  <a:pt x="590991" y="568487"/>
                </a:lnTo>
                <a:lnTo>
                  <a:pt x="594366" y="549451"/>
                </a:lnTo>
                <a:lnTo>
                  <a:pt x="597740" y="530614"/>
                </a:lnTo>
                <a:lnTo>
                  <a:pt x="603696" y="494526"/>
                </a:lnTo>
                <a:lnTo>
                  <a:pt x="606872" y="477276"/>
                </a:lnTo>
                <a:lnTo>
                  <a:pt x="609850" y="460421"/>
                </a:lnTo>
                <a:lnTo>
                  <a:pt x="613225" y="444360"/>
                </a:lnTo>
                <a:lnTo>
                  <a:pt x="616798" y="428299"/>
                </a:lnTo>
                <a:lnTo>
                  <a:pt x="620570" y="413031"/>
                </a:lnTo>
                <a:lnTo>
                  <a:pt x="624739" y="398160"/>
                </a:lnTo>
                <a:lnTo>
                  <a:pt x="626922" y="391022"/>
                </a:lnTo>
                <a:lnTo>
                  <a:pt x="629503" y="384082"/>
                </a:lnTo>
                <a:lnTo>
                  <a:pt x="631885" y="376943"/>
                </a:lnTo>
                <a:lnTo>
                  <a:pt x="634466" y="370003"/>
                </a:lnTo>
                <a:lnTo>
                  <a:pt x="637245" y="363460"/>
                </a:lnTo>
                <a:lnTo>
                  <a:pt x="640025" y="356917"/>
                </a:lnTo>
                <a:lnTo>
                  <a:pt x="643201" y="350572"/>
                </a:lnTo>
                <a:lnTo>
                  <a:pt x="646377" y="344028"/>
                </a:lnTo>
                <a:lnTo>
                  <a:pt x="658685" y="348589"/>
                </a:lnTo>
                <a:lnTo>
                  <a:pt x="666825" y="350968"/>
                </a:lnTo>
                <a:lnTo>
                  <a:pt x="675758" y="353942"/>
                </a:lnTo>
                <a:lnTo>
                  <a:pt x="685882" y="356520"/>
                </a:lnTo>
                <a:lnTo>
                  <a:pt x="696999" y="359693"/>
                </a:lnTo>
                <a:lnTo>
                  <a:pt x="708910" y="362469"/>
                </a:lnTo>
                <a:lnTo>
                  <a:pt x="722012" y="365245"/>
                </a:lnTo>
                <a:lnTo>
                  <a:pt x="735710" y="368021"/>
                </a:lnTo>
                <a:lnTo>
                  <a:pt x="750599" y="370400"/>
                </a:lnTo>
                <a:lnTo>
                  <a:pt x="766083" y="372779"/>
                </a:lnTo>
                <a:lnTo>
                  <a:pt x="782362" y="374762"/>
                </a:lnTo>
                <a:lnTo>
                  <a:pt x="799434" y="376547"/>
                </a:lnTo>
                <a:lnTo>
                  <a:pt x="817103" y="377538"/>
                </a:lnTo>
                <a:lnTo>
                  <a:pt x="826234" y="377935"/>
                </a:lnTo>
                <a:lnTo>
                  <a:pt x="835565" y="378530"/>
                </a:lnTo>
                <a:lnTo>
                  <a:pt x="845094" y="378728"/>
                </a:lnTo>
                <a:lnTo>
                  <a:pt x="854622" y="378728"/>
                </a:lnTo>
                <a:lnTo>
                  <a:pt x="864350" y="378530"/>
                </a:lnTo>
                <a:lnTo>
                  <a:pt x="874474" y="378331"/>
                </a:lnTo>
                <a:lnTo>
                  <a:pt x="884400" y="377737"/>
                </a:lnTo>
                <a:lnTo>
                  <a:pt x="894326" y="377340"/>
                </a:lnTo>
                <a:lnTo>
                  <a:pt x="904848" y="376547"/>
                </a:lnTo>
                <a:lnTo>
                  <a:pt x="915171" y="375555"/>
                </a:lnTo>
                <a:lnTo>
                  <a:pt x="925692" y="374564"/>
                </a:lnTo>
                <a:lnTo>
                  <a:pt x="936412" y="373176"/>
                </a:lnTo>
                <a:lnTo>
                  <a:pt x="946933" y="371590"/>
                </a:lnTo>
                <a:lnTo>
                  <a:pt x="957852" y="369805"/>
                </a:lnTo>
                <a:lnTo>
                  <a:pt x="968770" y="367822"/>
                </a:lnTo>
                <a:lnTo>
                  <a:pt x="979887" y="365641"/>
                </a:lnTo>
                <a:lnTo>
                  <a:pt x="991004" y="363262"/>
                </a:lnTo>
                <a:lnTo>
                  <a:pt x="1001923" y="360486"/>
                </a:lnTo>
                <a:lnTo>
                  <a:pt x="1013238" y="357511"/>
                </a:lnTo>
                <a:lnTo>
                  <a:pt x="1024554" y="354339"/>
                </a:lnTo>
                <a:lnTo>
                  <a:pt x="1036266" y="350770"/>
                </a:lnTo>
                <a:lnTo>
                  <a:pt x="1047582" y="347201"/>
                </a:lnTo>
                <a:lnTo>
                  <a:pt x="1059096" y="343037"/>
                </a:lnTo>
                <a:lnTo>
                  <a:pt x="1070809" y="338873"/>
                </a:lnTo>
                <a:lnTo>
                  <a:pt x="1082323" y="334114"/>
                </a:lnTo>
                <a:lnTo>
                  <a:pt x="1094035" y="329355"/>
                </a:lnTo>
                <a:lnTo>
                  <a:pt x="1105946" y="324200"/>
                </a:lnTo>
                <a:lnTo>
                  <a:pt x="1117659" y="318648"/>
                </a:lnTo>
                <a:lnTo>
                  <a:pt x="1129371" y="312699"/>
                </a:lnTo>
                <a:lnTo>
                  <a:pt x="1141084" y="306354"/>
                </a:lnTo>
                <a:lnTo>
                  <a:pt x="1152995" y="300009"/>
                </a:lnTo>
                <a:lnTo>
                  <a:pt x="1164707" y="293069"/>
                </a:lnTo>
                <a:lnTo>
                  <a:pt x="1176619" y="285732"/>
                </a:lnTo>
                <a:lnTo>
                  <a:pt x="1188331" y="278197"/>
                </a:lnTo>
                <a:lnTo>
                  <a:pt x="1200441" y="270266"/>
                </a:lnTo>
                <a:lnTo>
                  <a:pt x="1212153" y="261938"/>
                </a:lnTo>
                <a:close/>
                <a:moveTo>
                  <a:pt x="959343" y="0"/>
                </a:moveTo>
                <a:lnTo>
                  <a:pt x="971649" y="0"/>
                </a:lnTo>
                <a:lnTo>
                  <a:pt x="983955" y="0"/>
                </a:lnTo>
                <a:lnTo>
                  <a:pt x="996062" y="397"/>
                </a:lnTo>
                <a:lnTo>
                  <a:pt x="1008170" y="794"/>
                </a:lnTo>
                <a:lnTo>
                  <a:pt x="1020078" y="1787"/>
                </a:lnTo>
                <a:lnTo>
                  <a:pt x="1031789" y="2978"/>
                </a:lnTo>
                <a:lnTo>
                  <a:pt x="1043301" y="4169"/>
                </a:lnTo>
                <a:lnTo>
                  <a:pt x="1054812" y="5558"/>
                </a:lnTo>
                <a:lnTo>
                  <a:pt x="1066126" y="7345"/>
                </a:lnTo>
                <a:lnTo>
                  <a:pt x="1077241" y="9330"/>
                </a:lnTo>
                <a:lnTo>
                  <a:pt x="1088157" y="11315"/>
                </a:lnTo>
                <a:lnTo>
                  <a:pt x="1099073" y="13697"/>
                </a:lnTo>
                <a:lnTo>
                  <a:pt x="1109394" y="16277"/>
                </a:lnTo>
                <a:lnTo>
                  <a:pt x="1119914" y="18858"/>
                </a:lnTo>
                <a:lnTo>
                  <a:pt x="1130036" y="21835"/>
                </a:lnTo>
                <a:lnTo>
                  <a:pt x="1139960" y="24813"/>
                </a:lnTo>
                <a:lnTo>
                  <a:pt x="1149686" y="28187"/>
                </a:lnTo>
                <a:lnTo>
                  <a:pt x="1159014" y="31562"/>
                </a:lnTo>
                <a:lnTo>
                  <a:pt x="1168144" y="35135"/>
                </a:lnTo>
                <a:lnTo>
                  <a:pt x="1176878" y="38906"/>
                </a:lnTo>
                <a:lnTo>
                  <a:pt x="1185611" y="42876"/>
                </a:lnTo>
                <a:lnTo>
                  <a:pt x="1193748" y="46846"/>
                </a:lnTo>
                <a:lnTo>
                  <a:pt x="1201688" y="51015"/>
                </a:lnTo>
                <a:lnTo>
                  <a:pt x="1209230" y="55382"/>
                </a:lnTo>
                <a:lnTo>
                  <a:pt x="1216574" y="59948"/>
                </a:lnTo>
                <a:lnTo>
                  <a:pt x="1223719" y="64513"/>
                </a:lnTo>
                <a:lnTo>
                  <a:pt x="1230467" y="69476"/>
                </a:lnTo>
                <a:lnTo>
                  <a:pt x="1236818" y="74240"/>
                </a:lnTo>
                <a:lnTo>
                  <a:pt x="1242574" y="79401"/>
                </a:lnTo>
                <a:lnTo>
                  <a:pt x="1248330" y="84562"/>
                </a:lnTo>
                <a:lnTo>
                  <a:pt x="1253491" y="89921"/>
                </a:lnTo>
                <a:lnTo>
                  <a:pt x="1258254" y="95281"/>
                </a:lnTo>
                <a:lnTo>
                  <a:pt x="1262819" y="100640"/>
                </a:lnTo>
                <a:lnTo>
                  <a:pt x="1267583" y="101037"/>
                </a:lnTo>
                <a:lnTo>
                  <a:pt x="1272346" y="101236"/>
                </a:lnTo>
                <a:lnTo>
                  <a:pt x="1276911" y="101633"/>
                </a:lnTo>
                <a:lnTo>
                  <a:pt x="1281675" y="102228"/>
                </a:lnTo>
                <a:lnTo>
                  <a:pt x="1286042" y="103022"/>
                </a:lnTo>
                <a:lnTo>
                  <a:pt x="1290607" y="103816"/>
                </a:lnTo>
                <a:lnTo>
                  <a:pt x="1294973" y="105007"/>
                </a:lnTo>
                <a:lnTo>
                  <a:pt x="1299141" y="106000"/>
                </a:lnTo>
                <a:lnTo>
                  <a:pt x="1303111" y="107389"/>
                </a:lnTo>
                <a:lnTo>
                  <a:pt x="1307279" y="108977"/>
                </a:lnTo>
                <a:lnTo>
                  <a:pt x="1311447" y="110565"/>
                </a:lnTo>
                <a:lnTo>
                  <a:pt x="1315218" y="112352"/>
                </a:lnTo>
                <a:lnTo>
                  <a:pt x="1319188" y="114138"/>
                </a:lnTo>
                <a:lnTo>
                  <a:pt x="1322959" y="116123"/>
                </a:lnTo>
                <a:lnTo>
                  <a:pt x="1326532" y="118108"/>
                </a:lnTo>
                <a:lnTo>
                  <a:pt x="1329906" y="120292"/>
                </a:lnTo>
                <a:lnTo>
                  <a:pt x="1333478" y="122475"/>
                </a:lnTo>
                <a:lnTo>
                  <a:pt x="1337051" y="124857"/>
                </a:lnTo>
                <a:lnTo>
                  <a:pt x="1340425" y="127637"/>
                </a:lnTo>
                <a:lnTo>
                  <a:pt x="1343799" y="130217"/>
                </a:lnTo>
                <a:lnTo>
                  <a:pt x="1349952" y="135775"/>
                </a:lnTo>
                <a:lnTo>
                  <a:pt x="1356105" y="141730"/>
                </a:lnTo>
                <a:lnTo>
                  <a:pt x="1361861" y="148479"/>
                </a:lnTo>
                <a:lnTo>
                  <a:pt x="1367220" y="155030"/>
                </a:lnTo>
                <a:lnTo>
                  <a:pt x="1372579" y="162374"/>
                </a:lnTo>
                <a:lnTo>
                  <a:pt x="1377541" y="169917"/>
                </a:lnTo>
                <a:lnTo>
                  <a:pt x="1382304" y="177857"/>
                </a:lnTo>
                <a:lnTo>
                  <a:pt x="1386869" y="186194"/>
                </a:lnTo>
                <a:lnTo>
                  <a:pt x="1391038" y="194531"/>
                </a:lnTo>
                <a:lnTo>
                  <a:pt x="1394809" y="203464"/>
                </a:lnTo>
                <a:lnTo>
                  <a:pt x="1398580" y="212595"/>
                </a:lnTo>
                <a:lnTo>
                  <a:pt x="1402152" y="221925"/>
                </a:lnTo>
                <a:lnTo>
                  <a:pt x="1405527" y="231453"/>
                </a:lnTo>
                <a:lnTo>
                  <a:pt x="1408305" y="241179"/>
                </a:lnTo>
                <a:lnTo>
                  <a:pt x="1411282" y="251104"/>
                </a:lnTo>
                <a:lnTo>
                  <a:pt x="1413863" y="261426"/>
                </a:lnTo>
                <a:lnTo>
                  <a:pt x="1416244" y="271550"/>
                </a:lnTo>
                <a:lnTo>
                  <a:pt x="1418428" y="282269"/>
                </a:lnTo>
                <a:lnTo>
                  <a:pt x="1420809" y="292591"/>
                </a:lnTo>
                <a:lnTo>
                  <a:pt x="1422596" y="303509"/>
                </a:lnTo>
                <a:lnTo>
                  <a:pt x="1424382" y="314426"/>
                </a:lnTo>
                <a:lnTo>
                  <a:pt x="1425771" y="325344"/>
                </a:lnTo>
                <a:lnTo>
                  <a:pt x="1427161" y="336063"/>
                </a:lnTo>
                <a:lnTo>
                  <a:pt x="1428352" y="347179"/>
                </a:lnTo>
                <a:lnTo>
                  <a:pt x="1429344" y="358295"/>
                </a:lnTo>
                <a:lnTo>
                  <a:pt x="1430535" y="369411"/>
                </a:lnTo>
                <a:lnTo>
                  <a:pt x="1431924" y="391445"/>
                </a:lnTo>
                <a:lnTo>
                  <a:pt x="1432917" y="413677"/>
                </a:lnTo>
                <a:lnTo>
                  <a:pt x="1433314" y="435115"/>
                </a:lnTo>
                <a:lnTo>
                  <a:pt x="1433512" y="456355"/>
                </a:lnTo>
                <a:lnTo>
                  <a:pt x="1433314" y="477198"/>
                </a:lnTo>
                <a:lnTo>
                  <a:pt x="1432917" y="497246"/>
                </a:lnTo>
                <a:lnTo>
                  <a:pt x="1432123" y="516501"/>
                </a:lnTo>
                <a:lnTo>
                  <a:pt x="1431130" y="534763"/>
                </a:lnTo>
                <a:lnTo>
                  <a:pt x="1430138" y="552033"/>
                </a:lnTo>
                <a:lnTo>
                  <a:pt x="1428947" y="568111"/>
                </a:lnTo>
                <a:lnTo>
                  <a:pt x="1427558" y="582403"/>
                </a:lnTo>
                <a:lnTo>
                  <a:pt x="1426565" y="595504"/>
                </a:lnTo>
                <a:lnTo>
                  <a:pt x="1424382" y="616744"/>
                </a:lnTo>
                <a:lnTo>
                  <a:pt x="1418825" y="613767"/>
                </a:lnTo>
                <a:lnTo>
                  <a:pt x="1413267" y="610988"/>
                </a:lnTo>
                <a:lnTo>
                  <a:pt x="1407511" y="608606"/>
                </a:lnTo>
                <a:lnTo>
                  <a:pt x="1401358" y="606224"/>
                </a:lnTo>
                <a:lnTo>
                  <a:pt x="1395404" y="604239"/>
                </a:lnTo>
                <a:lnTo>
                  <a:pt x="1389251" y="602452"/>
                </a:lnTo>
                <a:lnTo>
                  <a:pt x="1383098" y="600864"/>
                </a:lnTo>
                <a:lnTo>
                  <a:pt x="1376548" y="599475"/>
                </a:lnTo>
                <a:lnTo>
                  <a:pt x="1367815" y="537939"/>
                </a:lnTo>
                <a:lnTo>
                  <a:pt x="1363052" y="508362"/>
                </a:lnTo>
                <a:lnTo>
                  <a:pt x="1360869" y="494070"/>
                </a:lnTo>
                <a:lnTo>
                  <a:pt x="1358487" y="480175"/>
                </a:lnTo>
                <a:lnTo>
                  <a:pt x="1355907" y="466479"/>
                </a:lnTo>
                <a:lnTo>
                  <a:pt x="1353326" y="453179"/>
                </a:lnTo>
                <a:lnTo>
                  <a:pt x="1350349" y="440078"/>
                </a:lnTo>
                <a:lnTo>
                  <a:pt x="1347570" y="427175"/>
                </a:lnTo>
                <a:lnTo>
                  <a:pt x="1344395" y="414471"/>
                </a:lnTo>
                <a:lnTo>
                  <a:pt x="1340822" y="402363"/>
                </a:lnTo>
                <a:lnTo>
                  <a:pt x="1337249" y="390452"/>
                </a:lnTo>
                <a:lnTo>
                  <a:pt x="1333280" y="378741"/>
                </a:lnTo>
                <a:lnTo>
                  <a:pt x="1329112" y="367426"/>
                </a:lnTo>
                <a:lnTo>
                  <a:pt x="1324745" y="356509"/>
                </a:lnTo>
                <a:lnTo>
                  <a:pt x="1319783" y="345988"/>
                </a:lnTo>
                <a:lnTo>
                  <a:pt x="1314623" y="335468"/>
                </a:lnTo>
                <a:lnTo>
                  <a:pt x="1309065" y="325542"/>
                </a:lnTo>
                <a:lnTo>
                  <a:pt x="1306088" y="320580"/>
                </a:lnTo>
                <a:lnTo>
                  <a:pt x="1303111" y="315816"/>
                </a:lnTo>
                <a:lnTo>
                  <a:pt x="1299737" y="311052"/>
                </a:lnTo>
                <a:lnTo>
                  <a:pt x="1296759" y="306486"/>
                </a:lnTo>
                <a:lnTo>
                  <a:pt x="1293385" y="301921"/>
                </a:lnTo>
                <a:lnTo>
                  <a:pt x="1289813" y="297554"/>
                </a:lnTo>
                <a:lnTo>
                  <a:pt x="1286240" y="293187"/>
                </a:lnTo>
                <a:lnTo>
                  <a:pt x="1282469" y="288820"/>
                </a:lnTo>
                <a:lnTo>
                  <a:pt x="1278499" y="284651"/>
                </a:lnTo>
                <a:lnTo>
                  <a:pt x="1274530" y="280483"/>
                </a:lnTo>
                <a:lnTo>
                  <a:pt x="1270560" y="276513"/>
                </a:lnTo>
                <a:lnTo>
                  <a:pt x="1266392" y="272741"/>
                </a:lnTo>
                <a:lnTo>
                  <a:pt x="1261827" y="268771"/>
                </a:lnTo>
                <a:lnTo>
                  <a:pt x="1257460" y="265000"/>
                </a:lnTo>
                <a:lnTo>
                  <a:pt x="1252895" y="261426"/>
                </a:lnTo>
                <a:lnTo>
                  <a:pt x="1247933" y="257853"/>
                </a:lnTo>
                <a:lnTo>
                  <a:pt x="1242971" y="254280"/>
                </a:lnTo>
                <a:lnTo>
                  <a:pt x="1238009" y="250906"/>
                </a:lnTo>
                <a:lnTo>
                  <a:pt x="1232650" y="247531"/>
                </a:lnTo>
                <a:lnTo>
                  <a:pt x="1227291" y="244554"/>
                </a:lnTo>
                <a:lnTo>
                  <a:pt x="1221734" y="241378"/>
                </a:lnTo>
                <a:lnTo>
                  <a:pt x="1215978" y="238400"/>
                </a:lnTo>
                <a:lnTo>
                  <a:pt x="1203672" y="246936"/>
                </a:lnTo>
                <a:lnTo>
                  <a:pt x="1191367" y="255471"/>
                </a:lnTo>
                <a:lnTo>
                  <a:pt x="1178862" y="263411"/>
                </a:lnTo>
                <a:lnTo>
                  <a:pt x="1166755" y="270955"/>
                </a:lnTo>
                <a:lnTo>
                  <a:pt x="1154251" y="278101"/>
                </a:lnTo>
                <a:lnTo>
                  <a:pt x="1142144" y="284850"/>
                </a:lnTo>
                <a:lnTo>
                  <a:pt x="1129838" y="291400"/>
                </a:lnTo>
                <a:lnTo>
                  <a:pt x="1117532" y="297355"/>
                </a:lnTo>
                <a:lnTo>
                  <a:pt x="1105226" y="303112"/>
                </a:lnTo>
                <a:lnTo>
                  <a:pt x="1093317" y="308670"/>
                </a:lnTo>
                <a:lnTo>
                  <a:pt x="1081012" y="313831"/>
                </a:lnTo>
                <a:lnTo>
                  <a:pt x="1069103" y="318595"/>
                </a:lnTo>
                <a:lnTo>
                  <a:pt x="1057194" y="323160"/>
                </a:lnTo>
                <a:lnTo>
                  <a:pt x="1045087" y="327329"/>
                </a:lnTo>
                <a:lnTo>
                  <a:pt x="1033377" y="331101"/>
                </a:lnTo>
                <a:lnTo>
                  <a:pt x="1021468" y="334872"/>
                </a:lnTo>
                <a:lnTo>
                  <a:pt x="1009956" y="338247"/>
                </a:lnTo>
                <a:lnTo>
                  <a:pt x="998047" y="341224"/>
                </a:lnTo>
                <a:lnTo>
                  <a:pt x="986535" y="344003"/>
                </a:lnTo>
                <a:lnTo>
                  <a:pt x="975023" y="346584"/>
                </a:lnTo>
                <a:lnTo>
                  <a:pt x="963710" y="348767"/>
                </a:lnTo>
                <a:lnTo>
                  <a:pt x="952397" y="350951"/>
                </a:lnTo>
                <a:lnTo>
                  <a:pt x="941282" y="352737"/>
                </a:lnTo>
                <a:lnTo>
                  <a:pt x="930167" y="354325"/>
                </a:lnTo>
                <a:lnTo>
                  <a:pt x="919449" y="355913"/>
                </a:lnTo>
                <a:lnTo>
                  <a:pt x="908533" y="357104"/>
                </a:lnTo>
                <a:lnTo>
                  <a:pt x="897815" y="357898"/>
                </a:lnTo>
                <a:lnTo>
                  <a:pt x="887097" y="358692"/>
                </a:lnTo>
                <a:lnTo>
                  <a:pt x="876776" y="359486"/>
                </a:lnTo>
                <a:lnTo>
                  <a:pt x="866653" y="359883"/>
                </a:lnTo>
                <a:lnTo>
                  <a:pt x="856332" y="360082"/>
                </a:lnTo>
                <a:lnTo>
                  <a:pt x="846408" y="360280"/>
                </a:lnTo>
                <a:lnTo>
                  <a:pt x="836683" y="360082"/>
                </a:lnTo>
                <a:lnTo>
                  <a:pt x="826759" y="359883"/>
                </a:lnTo>
                <a:lnTo>
                  <a:pt x="817232" y="359685"/>
                </a:lnTo>
                <a:lnTo>
                  <a:pt x="807903" y="359288"/>
                </a:lnTo>
                <a:lnTo>
                  <a:pt x="789841" y="357898"/>
                </a:lnTo>
                <a:lnTo>
                  <a:pt x="772177" y="356112"/>
                </a:lnTo>
                <a:lnTo>
                  <a:pt x="755504" y="354127"/>
                </a:lnTo>
                <a:lnTo>
                  <a:pt x="739427" y="351745"/>
                </a:lnTo>
                <a:lnTo>
                  <a:pt x="724343" y="348966"/>
                </a:lnTo>
                <a:lnTo>
                  <a:pt x="710251" y="346187"/>
                </a:lnTo>
                <a:lnTo>
                  <a:pt x="696754" y="343209"/>
                </a:lnTo>
                <a:lnTo>
                  <a:pt x="684448" y="340232"/>
                </a:lnTo>
                <a:lnTo>
                  <a:pt x="673135" y="337254"/>
                </a:lnTo>
                <a:lnTo>
                  <a:pt x="662616" y="334078"/>
                </a:lnTo>
                <a:lnTo>
                  <a:pt x="653486" y="331498"/>
                </a:lnTo>
                <a:lnTo>
                  <a:pt x="645348" y="328917"/>
                </a:lnTo>
                <a:lnTo>
                  <a:pt x="632248" y="324153"/>
                </a:lnTo>
                <a:lnTo>
                  <a:pt x="628874" y="330902"/>
                </a:lnTo>
                <a:lnTo>
                  <a:pt x="625897" y="337453"/>
                </a:lnTo>
                <a:lnTo>
                  <a:pt x="622721" y="344400"/>
                </a:lnTo>
                <a:lnTo>
                  <a:pt x="619942" y="351149"/>
                </a:lnTo>
                <a:lnTo>
                  <a:pt x="617164" y="358295"/>
                </a:lnTo>
                <a:lnTo>
                  <a:pt x="614583" y="365640"/>
                </a:lnTo>
                <a:lnTo>
                  <a:pt x="612003" y="373183"/>
                </a:lnTo>
                <a:lnTo>
                  <a:pt x="609820" y="380726"/>
                </a:lnTo>
                <a:lnTo>
                  <a:pt x="607637" y="388269"/>
                </a:lnTo>
                <a:lnTo>
                  <a:pt x="605453" y="396011"/>
                </a:lnTo>
                <a:lnTo>
                  <a:pt x="601484" y="412288"/>
                </a:lnTo>
                <a:lnTo>
                  <a:pt x="597911" y="428763"/>
                </a:lnTo>
                <a:lnTo>
                  <a:pt x="594339" y="445834"/>
                </a:lnTo>
                <a:lnTo>
                  <a:pt x="590964" y="463302"/>
                </a:lnTo>
                <a:lnTo>
                  <a:pt x="587987" y="481565"/>
                </a:lnTo>
                <a:lnTo>
                  <a:pt x="581437" y="519081"/>
                </a:lnTo>
                <a:lnTo>
                  <a:pt x="578063" y="538535"/>
                </a:lnTo>
                <a:lnTo>
                  <a:pt x="574689" y="558385"/>
                </a:lnTo>
                <a:lnTo>
                  <a:pt x="570918" y="578830"/>
                </a:lnTo>
                <a:lnTo>
                  <a:pt x="566551" y="599475"/>
                </a:lnTo>
                <a:lnTo>
                  <a:pt x="560001" y="600864"/>
                </a:lnTo>
                <a:lnTo>
                  <a:pt x="553452" y="602452"/>
                </a:lnTo>
                <a:lnTo>
                  <a:pt x="547299" y="604437"/>
                </a:lnTo>
                <a:lnTo>
                  <a:pt x="541146" y="606422"/>
                </a:lnTo>
                <a:lnTo>
                  <a:pt x="535191" y="608804"/>
                </a:lnTo>
                <a:lnTo>
                  <a:pt x="529039" y="611583"/>
                </a:lnTo>
                <a:lnTo>
                  <a:pt x="523481" y="614362"/>
                </a:lnTo>
                <a:lnTo>
                  <a:pt x="518122" y="617538"/>
                </a:lnTo>
                <a:lnTo>
                  <a:pt x="516336" y="606621"/>
                </a:lnTo>
                <a:lnTo>
                  <a:pt x="514351" y="593519"/>
                </a:lnTo>
                <a:lnTo>
                  <a:pt x="512565" y="578235"/>
                </a:lnTo>
                <a:lnTo>
                  <a:pt x="510580" y="561362"/>
                </a:lnTo>
                <a:lnTo>
                  <a:pt x="508992" y="542505"/>
                </a:lnTo>
                <a:lnTo>
                  <a:pt x="507603" y="522059"/>
                </a:lnTo>
                <a:lnTo>
                  <a:pt x="507206" y="511538"/>
                </a:lnTo>
                <a:lnTo>
                  <a:pt x="507007" y="500422"/>
                </a:lnTo>
                <a:lnTo>
                  <a:pt x="506809" y="489108"/>
                </a:lnTo>
                <a:lnTo>
                  <a:pt x="506412" y="477396"/>
                </a:lnTo>
                <a:lnTo>
                  <a:pt x="506809" y="465486"/>
                </a:lnTo>
                <a:lnTo>
                  <a:pt x="507007" y="453377"/>
                </a:lnTo>
                <a:lnTo>
                  <a:pt x="507404" y="441070"/>
                </a:lnTo>
                <a:lnTo>
                  <a:pt x="508198" y="428366"/>
                </a:lnTo>
                <a:lnTo>
                  <a:pt x="509191" y="415861"/>
                </a:lnTo>
                <a:lnTo>
                  <a:pt x="510183" y="402958"/>
                </a:lnTo>
                <a:lnTo>
                  <a:pt x="511771" y="389857"/>
                </a:lnTo>
                <a:lnTo>
                  <a:pt x="513359" y="376756"/>
                </a:lnTo>
                <a:lnTo>
                  <a:pt x="515343" y="363456"/>
                </a:lnTo>
                <a:lnTo>
                  <a:pt x="517527" y="350157"/>
                </a:lnTo>
                <a:lnTo>
                  <a:pt x="520305" y="336857"/>
                </a:lnTo>
                <a:lnTo>
                  <a:pt x="523084" y="323557"/>
                </a:lnTo>
                <a:lnTo>
                  <a:pt x="526458" y="310059"/>
                </a:lnTo>
                <a:lnTo>
                  <a:pt x="530229" y="296561"/>
                </a:lnTo>
                <a:lnTo>
                  <a:pt x="534199" y="283262"/>
                </a:lnTo>
                <a:lnTo>
                  <a:pt x="538566" y="269962"/>
                </a:lnTo>
                <a:lnTo>
                  <a:pt x="543329" y="256662"/>
                </a:lnTo>
                <a:lnTo>
                  <a:pt x="548688" y="243561"/>
                </a:lnTo>
                <a:lnTo>
                  <a:pt x="554246" y="230460"/>
                </a:lnTo>
                <a:lnTo>
                  <a:pt x="560398" y="217756"/>
                </a:lnTo>
                <a:lnTo>
                  <a:pt x="566750" y="205052"/>
                </a:lnTo>
                <a:lnTo>
                  <a:pt x="573895" y="192546"/>
                </a:lnTo>
                <a:lnTo>
                  <a:pt x="577666" y="186393"/>
                </a:lnTo>
                <a:lnTo>
                  <a:pt x="581437" y="180239"/>
                </a:lnTo>
                <a:lnTo>
                  <a:pt x="585407" y="174086"/>
                </a:lnTo>
                <a:lnTo>
                  <a:pt x="589377" y="168131"/>
                </a:lnTo>
                <a:lnTo>
                  <a:pt x="593743" y="162176"/>
                </a:lnTo>
                <a:lnTo>
                  <a:pt x="598110" y="156221"/>
                </a:lnTo>
                <a:lnTo>
                  <a:pt x="602476" y="150464"/>
                </a:lnTo>
                <a:lnTo>
                  <a:pt x="607240" y="144708"/>
                </a:lnTo>
                <a:lnTo>
                  <a:pt x="611805" y="138951"/>
                </a:lnTo>
                <a:lnTo>
                  <a:pt x="616767" y="133393"/>
                </a:lnTo>
                <a:lnTo>
                  <a:pt x="621927" y="127835"/>
                </a:lnTo>
                <a:lnTo>
                  <a:pt x="626889" y="122277"/>
                </a:lnTo>
                <a:lnTo>
                  <a:pt x="632248" y="116917"/>
                </a:lnTo>
                <a:lnTo>
                  <a:pt x="637806" y="111558"/>
                </a:lnTo>
                <a:lnTo>
                  <a:pt x="643363" y="106595"/>
                </a:lnTo>
                <a:lnTo>
                  <a:pt x="649119" y="101434"/>
                </a:lnTo>
                <a:lnTo>
                  <a:pt x="654875" y="96273"/>
                </a:lnTo>
                <a:lnTo>
                  <a:pt x="661028" y="91509"/>
                </a:lnTo>
                <a:lnTo>
                  <a:pt x="667379" y="86547"/>
                </a:lnTo>
                <a:lnTo>
                  <a:pt x="673730" y="81783"/>
                </a:lnTo>
                <a:lnTo>
                  <a:pt x="680280" y="77217"/>
                </a:lnTo>
                <a:lnTo>
                  <a:pt x="686830" y="72850"/>
                </a:lnTo>
                <a:lnTo>
                  <a:pt x="693777" y="68285"/>
                </a:lnTo>
                <a:lnTo>
                  <a:pt x="700922" y="64116"/>
                </a:lnTo>
                <a:lnTo>
                  <a:pt x="707869" y="59948"/>
                </a:lnTo>
                <a:lnTo>
                  <a:pt x="715213" y="55977"/>
                </a:lnTo>
                <a:lnTo>
                  <a:pt x="722755" y="52007"/>
                </a:lnTo>
                <a:lnTo>
                  <a:pt x="730496" y="48236"/>
                </a:lnTo>
                <a:lnTo>
                  <a:pt x="738236" y="44464"/>
                </a:lnTo>
                <a:lnTo>
                  <a:pt x="746573" y="40891"/>
                </a:lnTo>
                <a:lnTo>
                  <a:pt x="754710" y="37318"/>
                </a:lnTo>
                <a:lnTo>
                  <a:pt x="763245" y="33944"/>
                </a:lnTo>
                <a:lnTo>
                  <a:pt x="771581" y="30768"/>
                </a:lnTo>
                <a:lnTo>
                  <a:pt x="780513" y="27790"/>
                </a:lnTo>
                <a:lnTo>
                  <a:pt x="789444" y="24813"/>
                </a:lnTo>
                <a:lnTo>
                  <a:pt x="798376" y="22232"/>
                </a:lnTo>
                <a:lnTo>
                  <a:pt x="807903" y="19453"/>
                </a:lnTo>
                <a:lnTo>
                  <a:pt x="817232" y="17071"/>
                </a:lnTo>
                <a:lnTo>
                  <a:pt x="827156" y="14888"/>
                </a:lnTo>
                <a:lnTo>
                  <a:pt x="837080" y="12704"/>
                </a:lnTo>
                <a:lnTo>
                  <a:pt x="847004" y="10719"/>
                </a:lnTo>
                <a:lnTo>
                  <a:pt x="857523" y="8933"/>
                </a:lnTo>
                <a:lnTo>
                  <a:pt x="867844" y="7146"/>
                </a:lnTo>
                <a:lnTo>
                  <a:pt x="878562" y="5757"/>
                </a:lnTo>
                <a:lnTo>
                  <a:pt x="889479" y="4367"/>
                </a:lnTo>
                <a:lnTo>
                  <a:pt x="900593" y="3176"/>
                </a:lnTo>
                <a:lnTo>
                  <a:pt x="911907" y="2184"/>
                </a:lnTo>
                <a:lnTo>
                  <a:pt x="923419" y="1390"/>
                </a:lnTo>
                <a:lnTo>
                  <a:pt x="935129" y="596"/>
                </a:lnTo>
                <a:lnTo>
                  <a:pt x="947038" y="199"/>
                </a:lnTo>
                <a:lnTo>
                  <a:pt x="9593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3000240" y="2500200"/>
            <a:ext cx="242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大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2643120" y="378612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给我一片天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您一份惊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直接连接符 2"/>
          <p:cNvSpPr/>
          <p:nvPr/>
        </p:nvSpPr>
        <p:spPr>
          <a:xfrm flipH="1">
            <a:off x="2284560" y="357120"/>
            <a:ext cx="1440" cy="3888000"/>
          </a:xfrm>
          <a:prstGeom prst="line">
            <a:avLst/>
          </a:prstGeom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椭圆 3"/>
          <p:cNvSpPr/>
          <p:nvPr/>
        </p:nvSpPr>
        <p:spPr>
          <a:xfrm>
            <a:off x="2000160" y="714240"/>
            <a:ext cx="57168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椭圆 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8"/>
          <p:cNvSpPr/>
          <p:nvPr/>
        </p:nvSpPr>
        <p:spPr>
          <a:xfrm>
            <a:off x="2000160" y="29289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10"/>
          <p:cNvSpPr/>
          <p:nvPr/>
        </p:nvSpPr>
        <p:spPr>
          <a:xfrm>
            <a:off x="1962000" y="811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11"/>
          <p:cNvSpPr/>
          <p:nvPr/>
        </p:nvSpPr>
        <p:spPr>
          <a:xfrm>
            <a:off x="1924200" y="30290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12"/>
          <p:cNvSpPr/>
          <p:nvPr/>
        </p:nvSpPr>
        <p:spPr>
          <a:xfrm>
            <a:off x="1982880" y="19494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13"/>
          <p:cNvSpPr/>
          <p:nvPr/>
        </p:nvSpPr>
        <p:spPr>
          <a:xfrm>
            <a:off x="2857680" y="1227240"/>
            <a:ext cx="2879640" cy="642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KSO_Shape"/>
          <p:cNvSpPr/>
          <p:nvPr/>
        </p:nvSpPr>
        <p:spPr>
          <a:xfrm>
            <a:off x="2571840" y="1471680"/>
            <a:ext cx="106200" cy="171360"/>
          </a:xfrm>
          <a:custGeom>
            <a:avLst/>
            <a:gdLst/>
            <a:ahLst/>
            <a:rect l="l" t="t" r="r" b="b"/>
            <a:pathLst>
              <a:path w="4028" h="6501">
                <a:moveTo>
                  <a:pt x="227" y="5177"/>
                </a:moveTo>
                <a:lnTo>
                  <a:pt x="227" y="5177"/>
                </a:lnTo>
                <a:lnTo>
                  <a:pt x="199" y="5205"/>
                </a:lnTo>
                <a:lnTo>
                  <a:pt x="174" y="5235"/>
                </a:lnTo>
                <a:lnTo>
                  <a:pt x="150" y="5265"/>
                </a:lnTo>
                <a:lnTo>
                  <a:pt x="128" y="5297"/>
                </a:lnTo>
                <a:lnTo>
                  <a:pt x="108" y="5330"/>
                </a:lnTo>
                <a:lnTo>
                  <a:pt x="89" y="5364"/>
                </a:lnTo>
                <a:lnTo>
                  <a:pt x="72" y="5398"/>
                </a:lnTo>
                <a:lnTo>
                  <a:pt x="57" y="5432"/>
                </a:lnTo>
                <a:lnTo>
                  <a:pt x="44" y="5468"/>
                </a:lnTo>
                <a:lnTo>
                  <a:pt x="32" y="5504"/>
                </a:lnTo>
                <a:lnTo>
                  <a:pt x="22" y="5540"/>
                </a:lnTo>
                <a:lnTo>
                  <a:pt x="14" y="5577"/>
                </a:lnTo>
                <a:lnTo>
                  <a:pt x="8" y="5613"/>
                </a:lnTo>
                <a:lnTo>
                  <a:pt x="4" y="5651"/>
                </a:lnTo>
                <a:lnTo>
                  <a:pt x="1" y="5688"/>
                </a:lnTo>
                <a:lnTo>
                  <a:pt x="0" y="5726"/>
                </a:lnTo>
                <a:lnTo>
                  <a:pt x="1" y="5762"/>
                </a:lnTo>
                <a:lnTo>
                  <a:pt x="4" y="5800"/>
                </a:lnTo>
                <a:lnTo>
                  <a:pt x="8" y="5837"/>
                </a:lnTo>
                <a:lnTo>
                  <a:pt x="14" y="5874"/>
                </a:lnTo>
                <a:lnTo>
                  <a:pt x="22" y="5910"/>
                </a:lnTo>
                <a:lnTo>
                  <a:pt x="32" y="5947"/>
                </a:lnTo>
                <a:lnTo>
                  <a:pt x="44" y="5982"/>
                </a:lnTo>
                <a:lnTo>
                  <a:pt x="57" y="6018"/>
                </a:lnTo>
                <a:lnTo>
                  <a:pt x="72" y="6052"/>
                </a:lnTo>
                <a:lnTo>
                  <a:pt x="89" y="6087"/>
                </a:lnTo>
                <a:lnTo>
                  <a:pt x="108" y="6120"/>
                </a:lnTo>
                <a:lnTo>
                  <a:pt x="128" y="6153"/>
                </a:lnTo>
                <a:lnTo>
                  <a:pt x="150" y="6185"/>
                </a:lnTo>
                <a:lnTo>
                  <a:pt x="174" y="6216"/>
                </a:lnTo>
                <a:lnTo>
                  <a:pt x="199" y="6245"/>
                </a:lnTo>
                <a:lnTo>
                  <a:pt x="227" y="6275"/>
                </a:lnTo>
                <a:lnTo>
                  <a:pt x="256" y="6302"/>
                </a:lnTo>
                <a:lnTo>
                  <a:pt x="285" y="6328"/>
                </a:lnTo>
                <a:lnTo>
                  <a:pt x="316" y="6352"/>
                </a:lnTo>
                <a:lnTo>
                  <a:pt x="348" y="6373"/>
                </a:lnTo>
                <a:lnTo>
                  <a:pt x="381" y="6394"/>
                </a:lnTo>
                <a:lnTo>
                  <a:pt x="414" y="6412"/>
                </a:lnTo>
                <a:lnTo>
                  <a:pt x="449" y="6430"/>
                </a:lnTo>
                <a:lnTo>
                  <a:pt x="483" y="6444"/>
                </a:lnTo>
                <a:lnTo>
                  <a:pt x="518" y="6457"/>
                </a:lnTo>
                <a:lnTo>
                  <a:pt x="554" y="6469"/>
                </a:lnTo>
                <a:lnTo>
                  <a:pt x="591" y="6478"/>
                </a:lnTo>
                <a:lnTo>
                  <a:pt x="627" y="6487"/>
                </a:lnTo>
                <a:lnTo>
                  <a:pt x="664" y="6493"/>
                </a:lnTo>
                <a:lnTo>
                  <a:pt x="702" y="6497"/>
                </a:lnTo>
                <a:lnTo>
                  <a:pt x="739" y="6500"/>
                </a:lnTo>
                <a:lnTo>
                  <a:pt x="775" y="6501"/>
                </a:lnTo>
                <a:lnTo>
                  <a:pt x="813" y="6500"/>
                </a:lnTo>
                <a:lnTo>
                  <a:pt x="850" y="6497"/>
                </a:lnTo>
                <a:lnTo>
                  <a:pt x="888" y="6493"/>
                </a:lnTo>
                <a:lnTo>
                  <a:pt x="924" y="6487"/>
                </a:lnTo>
                <a:lnTo>
                  <a:pt x="961" y="6478"/>
                </a:lnTo>
                <a:lnTo>
                  <a:pt x="998" y="6469"/>
                </a:lnTo>
                <a:lnTo>
                  <a:pt x="1033" y="6457"/>
                </a:lnTo>
                <a:lnTo>
                  <a:pt x="1069" y="6444"/>
                </a:lnTo>
                <a:lnTo>
                  <a:pt x="1103" y="6430"/>
                </a:lnTo>
                <a:lnTo>
                  <a:pt x="1137" y="6412"/>
                </a:lnTo>
                <a:lnTo>
                  <a:pt x="1171" y="6394"/>
                </a:lnTo>
                <a:lnTo>
                  <a:pt x="1204" y="6373"/>
                </a:lnTo>
                <a:lnTo>
                  <a:pt x="1236" y="6352"/>
                </a:lnTo>
                <a:lnTo>
                  <a:pt x="1266" y="6328"/>
                </a:lnTo>
                <a:lnTo>
                  <a:pt x="1296" y="6302"/>
                </a:lnTo>
                <a:lnTo>
                  <a:pt x="1326" y="6275"/>
                </a:lnTo>
                <a:lnTo>
                  <a:pt x="3768" y="3831"/>
                </a:lnTo>
                <a:lnTo>
                  <a:pt x="3802" y="3800"/>
                </a:lnTo>
                <a:lnTo>
                  <a:pt x="3826" y="3773"/>
                </a:lnTo>
                <a:lnTo>
                  <a:pt x="3851" y="3746"/>
                </a:lnTo>
                <a:lnTo>
                  <a:pt x="3874" y="3716"/>
                </a:lnTo>
                <a:lnTo>
                  <a:pt x="3895" y="3687"/>
                </a:lnTo>
                <a:lnTo>
                  <a:pt x="3914" y="3656"/>
                </a:lnTo>
                <a:lnTo>
                  <a:pt x="3933" y="3625"/>
                </a:lnTo>
                <a:lnTo>
                  <a:pt x="3949" y="3593"/>
                </a:lnTo>
                <a:lnTo>
                  <a:pt x="3964" y="3561"/>
                </a:lnTo>
                <a:lnTo>
                  <a:pt x="3977" y="3528"/>
                </a:lnTo>
                <a:lnTo>
                  <a:pt x="3989" y="3494"/>
                </a:lnTo>
                <a:lnTo>
                  <a:pt x="3999" y="3461"/>
                </a:lnTo>
                <a:lnTo>
                  <a:pt x="4007" y="3426"/>
                </a:lnTo>
                <a:lnTo>
                  <a:pt x="4015" y="3392"/>
                </a:lnTo>
                <a:lnTo>
                  <a:pt x="4020" y="3357"/>
                </a:lnTo>
                <a:lnTo>
                  <a:pt x="4024" y="3322"/>
                </a:lnTo>
                <a:lnTo>
                  <a:pt x="4026" y="3287"/>
                </a:lnTo>
                <a:lnTo>
                  <a:pt x="4028" y="3270"/>
                </a:lnTo>
                <a:lnTo>
                  <a:pt x="4028" y="3268"/>
                </a:lnTo>
                <a:lnTo>
                  <a:pt x="4028" y="3251"/>
                </a:lnTo>
                <a:lnTo>
                  <a:pt x="4028" y="3250"/>
                </a:lnTo>
                <a:lnTo>
                  <a:pt x="4028" y="3232"/>
                </a:lnTo>
                <a:lnTo>
                  <a:pt x="4028" y="3231"/>
                </a:lnTo>
                <a:lnTo>
                  <a:pt x="4026" y="3215"/>
                </a:lnTo>
                <a:lnTo>
                  <a:pt x="4024" y="3179"/>
                </a:lnTo>
                <a:lnTo>
                  <a:pt x="4020" y="3145"/>
                </a:lnTo>
                <a:lnTo>
                  <a:pt x="4015" y="3109"/>
                </a:lnTo>
                <a:lnTo>
                  <a:pt x="4007" y="3075"/>
                </a:lnTo>
                <a:lnTo>
                  <a:pt x="3999" y="3041"/>
                </a:lnTo>
                <a:lnTo>
                  <a:pt x="3989" y="3007"/>
                </a:lnTo>
                <a:lnTo>
                  <a:pt x="3977" y="2973"/>
                </a:lnTo>
                <a:lnTo>
                  <a:pt x="3964" y="2940"/>
                </a:lnTo>
                <a:lnTo>
                  <a:pt x="3949" y="2908"/>
                </a:lnTo>
                <a:lnTo>
                  <a:pt x="3933" y="2876"/>
                </a:lnTo>
                <a:lnTo>
                  <a:pt x="3915" y="2845"/>
                </a:lnTo>
                <a:lnTo>
                  <a:pt x="3895" y="2815"/>
                </a:lnTo>
                <a:lnTo>
                  <a:pt x="3874" y="2785"/>
                </a:lnTo>
                <a:lnTo>
                  <a:pt x="3851" y="2755"/>
                </a:lnTo>
                <a:lnTo>
                  <a:pt x="3826" y="2727"/>
                </a:lnTo>
                <a:lnTo>
                  <a:pt x="3802" y="2701"/>
                </a:lnTo>
                <a:lnTo>
                  <a:pt x="3770" y="2671"/>
                </a:lnTo>
                <a:lnTo>
                  <a:pt x="1326" y="226"/>
                </a:lnTo>
                <a:lnTo>
                  <a:pt x="1296" y="199"/>
                </a:lnTo>
                <a:lnTo>
                  <a:pt x="1266" y="173"/>
                </a:lnTo>
                <a:lnTo>
                  <a:pt x="1236" y="149"/>
                </a:lnTo>
                <a:lnTo>
                  <a:pt x="1204" y="127"/>
                </a:lnTo>
                <a:lnTo>
                  <a:pt x="1171" y="107"/>
                </a:lnTo>
                <a:lnTo>
                  <a:pt x="1137" y="88"/>
                </a:lnTo>
                <a:lnTo>
                  <a:pt x="1103" y="71"/>
                </a:lnTo>
                <a:lnTo>
                  <a:pt x="1069" y="57"/>
                </a:lnTo>
                <a:lnTo>
                  <a:pt x="1033" y="43"/>
                </a:lnTo>
                <a:lnTo>
                  <a:pt x="998" y="32"/>
                </a:lnTo>
                <a:lnTo>
                  <a:pt x="961" y="22"/>
                </a:lnTo>
                <a:lnTo>
                  <a:pt x="924" y="15"/>
                </a:lnTo>
                <a:lnTo>
                  <a:pt x="888" y="7"/>
                </a:lnTo>
                <a:lnTo>
                  <a:pt x="850" y="4"/>
                </a:lnTo>
                <a:lnTo>
                  <a:pt x="813" y="0"/>
                </a:lnTo>
                <a:lnTo>
                  <a:pt x="775" y="0"/>
                </a:lnTo>
                <a:lnTo>
                  <a:pt x="739" y="0"/>
                </a:lnTo>
                <a:lnTo>
                  <a:pt x="702" y="4"/>
                </a:lnTo>
                <a:lnTo>
                  <a:pt x="664" y="7"/>
                </a:lnTo>
                <a:lnTo>
                  <a:pt x="627" y="15"/>
                </a:lnTo>
                <a:lnTo>
                  <a:pt x="591" y="22"/>
                </a:lnTo>
                <a:lnTo>
                  <a:pt x="554" y="32"/>
                </a:lnTo>
                <a:lnTo>
                  <a:pt x="518" y="43"/>
                </a:lnTo>
                <a:lnTo>
                  <a:pt x="483" y="57"/>
                </a:lnTo>
                <a:lnTo>
                  <a:pt x="449" y="71"/>
                </a:lnTo>
                <a:lnTo>
                  <a:pt x="414" y="88"/>
                </a:lnTo>
                <a:lnTo>
                  <a:pt x="381" y="107"/>
                </a:lnTo>
                <a:lnTo>
                  <a:pt x="348" y="127"/>
                </a:lnTo>
                <a:lnTo>
                  <a:pt x="316" y="149"/>
                </a:lnTo>
                <a:lnTo>
                  <a:pt x="285" y="173"/>
                </a:lnTo>
                <a:lnTo>
                  <a:pt x="256" y="199"/>
                </a:lnTo>
                <a:lnTo>
                  <a:pt x="227" y="226"/>
                </a:lnTo>
                <a:lnTo>
                  <a:pt x="199" y="255"/>
                </a:lnTo>
                <a:lnTo>
                  <a:pt x="174" y="286"/>
                </a:lnTo>
                <a:lnTo>
                  <a:pt x="150" y="316"/>
                </a:lnTo>
                <a:lnTo>
                  <a:pt x="128" y="348"/>
                </a:lnTo>
                <a:lnTo>
                  <a:pt x="108" y="380"/>
                </a:lnTo>
                <a:lnTo>
                  <a:pt x="89" y="415"/>
                </a:lnTo>
                <a:lnTo>
                  <a:pt x="72" y="448"/>
                </a:lnTo>
                <a:lnTo>
                  <a:pt x="57" y="483"/>
                </a:lnTo>
                <a:lnTo>
                  <a:pt x="44" y="519"/>
                </a:lnTo>
                <a:lnTo>
                  <a:pt x="32" y="554"/>
                </a:lnTo>
                <a:lnTo>
                  <a:pt x="22" y="591"/>
                </a:lnTo>
                <a:lnTo>
                  <a:pt x="14" y="628"/>
                </a:lnTo>
                <a:lnTo>
                  <a:pt x="8" y="664"/>
                </a:lnTo>
                <a:lnTo>
                  <a:pt x="4" y="701"/>
                </a:lnTo>
                <a:lnTo>
                  <a:pt x="1" y="738"/>
                </a:lnTo>
                <a:lnTo>
                  <a:pt x="0" y="776"/>
                </a:lnTo>
                <a:lnTo>
                  <a:pt x="1" y="813"/>
                </a:lnTo>
                <a:lnTo>
                  <a:pt x="4" y="850"/>
                </a:lnTo>
                <a:lnTo>
                  <a:pt x="8" y="887"/>
                </a:lnTo>
                <a:lnTo>
                  <a:pt x="14" y="925"/>
                </a:lnTo>
                <a:lnTo>
                  <a:pt x="22" y="960"/>
                </a:lnTo>
                <a:lnTo>
                  <a:pt x="32" y="997"/>
                </a:lnTo>
                <a:lnTo>
                  <a:pt x="44" y="1032"/>
                </a:lnTo>
                <a:lnTo>
                  <a:pt x="57" y="1068"/>
                </a:lnTo>
                <a:lnTo>
                  <a:pt x="72" y="1103"/>
                </a:lnTo>
                <a:lnTo>
                  <a:pt x="89" y="1138"/>
                </a:lnTo>
                <a:lnTo>
                  <a:pt x="108" y="1171"/>
                </a:lnTo>
                <a:lnTo>
                  <a:pt x="128" y="1203"/>
                </a:lnTo>
                <a:lnTo>
                  <a:pt x="150" y="1235"/>
                </a:lnTo>
                <a:lnTo>
                  <a:pt x="174" y="1265"/>
                </a:lnTo>
                <a:lnTo>
                  <a:pt x="199" y="1296"/>
                </a:lnTo>
                <a:lnTo>
                  <a:pt x="227" y="1325"/>
                </a:lnTo>
                <a:lnTo>
                  <a:pt x="2153" y="3251"/>
                </a:lnTo>
                <a:lnTo>
                  <a:pt x="227" y="517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17"/>
          <p:cNvSpPr/>
          <p:nvPr/>
        </p:nvSpPr>
        <p:spPr>
          <a:xfrm>
            <a:off x="2844720" y="2286000"/>
            <a:ext cx="2881440" cy="642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KSO_Shape"/>
          <p:cNvSpPr/>
          <p:nvPr/>
        </p:nvSpPr>
        <p:spPr>
          <a:xfrm>
            <a:off x="2558880" y="2530440"/>
            <a:ext cx="106560" cy="171360"/>
          </a:xfrm>
          <a:custGeom>
            <a:avLst/>
            <a:gdLst/>
            <a:ahLst/>
            <a:rect l="l" t="t" r="r" b="b"/>
            <a:pathLst>
              <a:path w="4028" h="6501">
                <a:moveTo>
                  <a:pt x="227" y="5177"/>
                </a:moveTo>
                <a:lnTo>
                  <a:pt x="227" y="5177"/>
                </a:lnTo>
                <a:lnTo>
                  <a:pt x="199" y="5205"/>
                </a:lnTo>
                <a:lnTo>
                  <a:pt x="174" y="5235"/>
                </a:lnTo>
                <a:lnTo>
                  <a:pt x="150" y="5265"/>
                </a:lnTo>
                <a:lnTo>
                  <a:pt x="128" y="5297"/>
                </a:lnTo>
                <a:lnTo>
                  <a:pt x="108" y="5330"/>
                </a:lnTo>
                <a:lnTo>
                  <a:pt x="89" y="5364"/>
                </a:lnTo>
                <a:lnTo>
                  <a:pt x="72" y="5398"/>
                </a:lnTo>
                <a:lnTo>
                  <a:pt x="57" y="5432"/>
                </a:lnTo>
                <a:lnTo>
                  <a:pt x="44" y="5468"/>
                </a:lnTo>
                <a:lnTo>
                  <a:pt x="32" y="5504"/>
                </a:lnTo>
                <a:lnTo>
                  <a:pt x="22" y="5540"/>
                </a:lnTo>
                <a:lnTo>
                  <a:pt x="14" y="5577"/>
                </a:lnTo>
                <a:lnTo>
                  <a:pt x="8" y="5613"/>
                </a:lnTo>
                <a:lnTo>
                  <a:pt x="4" y="5651"/>
                </a:lnTo>
                <a:lnTo>
                  <a:pt x="1" y="5688"/>
                </a:lnTo>
                <a:lnTo>
                  <a:pt x="0" y="5726"/>
                </a:lnTo>
                <a:lnTo>
                  <a:pt x="1" y="5762"/>
                </a:lnTo>
                <a:lnTo>
                  <a:pt x="4" y="5800"/>
                </a:lnTo>
                <a:lnTo>
                  <a:pt x="8" y="5837"/>
                </a:lnTo>
                <a:lnTo>
                  <a:pt x="14" y="5874"/>
                </a:lnTo>
                <a:lnTo>
                  <a:pt x="22" y="5910"/>
                </a:lnTo>
                <a:lnTo>
                  <a:pt x="32" y="5947"/>
                </a:lnTo>
                <a:lnTo>
                  <a:pt x="44" y="5982"/>
                </a:lnTo>
                <a:lnTo>
                  <a:pt x="57" y="6018"/>
                </a:lnTo>
                <a:lnTo>
                  <a:pt x="72" y="6052"/>
                </a:lnTo>
                <a:lnTo>
                  <a:pt x="89" y="6087"/>
                </a:lnTo>
                <a:lnTo>
                  <a:pt x="108" y="6120"/>
                </a:lnTo>
                <a:lnTo>
                  <a:pt x="128" y="6153"/>
                </a:lnTo>
                <a:lnTo>
                  <a:pt x="150" y="6185"/>
                </a:lnTo>
                <a:lnTo>
                  <a:pt x="174" y="6216"/>
                </a:lnTo>
                <a:lnTo>
                  <a:pt x="199" y="6245"/>
                </a:lnTo>
                <a:lnTo>
                  <a:pt x="227" y="6275"/>
                </a:lnTo>
                <a:lnTo>
                  <a:pt x="256" y="6302"/>
                </a:lnTo>
                <a:lnTo>
                  <a:pt x="285" y="6328"/>
                </a:lnTo>
                <a:lnTo>
                  <a:pt x="316" y="6352"/>
                </a:lnTo>
                <a:lnTo>
                  <a:pt x="348" y="6373"/>
                </a:lnTo>
                <a:lnTo>
                  <a:pt x="381" y="6394"/>
                </a:lnTo>
                <a:lnTo>
                  <a:pt x="414" y="6412"/>
                </a:lnTo>
                <a:lnTo>
                  <a:pt x="449" y="6430"/>
                </a:lnTo>
                <a:lnTo>
                  <a:pt x="483" y="6444"/>
                </a:lnTo>
                <a:lnTo>
                  <a:pt x="518" y="6457"/>
                </a:lnTo>
                <a:lnTo>
                  <a:pt x="554" y="6469"/>
                </a:lnTo>
                <a:lnTo>
                  <a:pt x="591" y="6478"/>
                </a:lnTo>
                <a:lnTo>
                  <a:pt x="627" y="6487"/>
                </a:lnTo>
                <a:lnTo>
                  <a:pt x="664" y="6493"/>
                </a:lnTo>
                <a:lnTo>
                  <a:pt x="702" y="6497"/>
                </a:lnTo>
                <a:lnTo>
                  <a:pt x="739" y="6500"/>
                </a:lnTo>
                <a:lnTo>
                  <a:pt x="775" y="6501"/>
                </a:lnTo>
                <a:lnTo>
                  <a:pt x="813" y="6500"/>
                </a:lnTo>
                <a:lnTo>
                  <a:pt x="850" y="6497"/>
                </a:lnTo>
                <a:lnTo>
                  <a:pt x="888" y="6493"/>
                </a:lnTo>
                <a:lnTo>
                  <a:pt x="924" y="6487"/>
                </a:lnTo>
                <a:lnTo>
                  <a:pt x="961" y="6478"/>
                </a:lnTo>
                <a:lnTo>
                  <a:pt x="998" y="6469"/>
                </a:lnTo>
                <a:lnTo>
                  <a:pt x="1033" y="6457"/>
                </a:lnTo>
                <a:lnTo>
                  <a:pt x="1069" y="6444"/>
                </a:lnTo>
                <a:lnTo>
                  <a:pt x="1103" y="6430"/>
                </a:lnTo>
                <a:lnTo>
                  <a:pt x="1137" y="6412"/>
                </a:lnTo>
                <a:lnTo>
                  <a:pt x="1171" y="6394"/>
                </a:lnTo>
                <a:lnTo>
                  <a:pt x="1204" y="6373"/>
                </a:lnTo>
                <a:lnTo>
                  <a:pt x="1236" y="6352"/>
                </a:lnTo>
                <a:lnTo>
                  <a:pt x="1266" y="6328"/>
                </a:lnTo>
                <a:lnTo>
                  <a:pt x="1296" y="6302"/>
                </a:lnTo>
                <a:lnTo>
                  <a:pt x="1326" y="6275"/>
                </a:lnTo>
                <a:lnTo>
                  <a:pt x="3768" y="3831"/>
                </a:lnTo>
                <a:lnTo>
                  <a:pt x="3802" y="3800"/>
                </a:lnTo>
                <a:lnTo>
                  <a:pt x="3826" y="3773"/>
                </a:lnTo>
                <a:lnTo>
                  <a:pt x="3851" y="3746"/>
                </a:lnTo>
                <a:lnTo>
                  <a:pt x="3874" y="3716"/>
                </a:lnTo>
                <a:lnTo>
                  <a:pt x="3895" y="3687"/>
                </a:lnTo>
                <a:lnTo>
                  <a:pt x="3914" y="3656"/>
                </a:lnTo>
                <a:lnTo>
                  <a:pt x="3933" y="3625"/>
                </a:lnTo>
                <a:lnTo>
                  <a:pt x="3949" y="3593"/>
                </a:lnTo>
                <a:lnTo>
                  <a:pt x="3964" y="3561"/>
                </a:lnTo>
                <a:lnTo>
                  <a:pt x="3977" y="3528"/>
                </a:lnTo>
                <a:lnTo>
                  <a:pt x="3989" y="3494"/>
                </a:lnTo>
                <a:lnTo>
                  <a:pt x="3999" y="3461"/>
                </a:lnTo>
                <a:lnTo>
                  <a:pt x="4007" y="3426"/>
                </a:lnTo>
                <a:lnTo>
                  <a:pt x="4015" y="3392"/>
                </a:lnTo>
                <a:lnTo>
                  <a:pt x="4020" y="3357"/>
                </a:lnTo>
                <a:lnTo>
                  <a:pt x="4024" y="3322"/>
                </a:lnTo>
                <a:lnTo>
                  <a:pt x="4026" y="3287"/>
                </a:lnTo>
                <a:lnTo>
                  <a:pt x="4028" y="3270"/>
                </a:lnTo>
                <a:lnTo>
                  <a:pt x="4028" y="3268"/>
                </a:lnTo>
                <a:lnTo>
                  <a:pt x="4028" y="3251"/>
                </a:lnTo>
                <a:lnTo>
                  <a:pt x="4028" y="3250"/>
                </a:lnTo>
                <a:lnTo>
                  <a:pt x="4028" y="3232"/>
                </a:lnTo>
                <a:lnTo>
                  <a:pt x="4028" y="3231"/>
                </a:lnTo>
                <a:lnTo>
                  <a:pt x="4026" y="3215"/>
                </a:lnTo>
                <a:lnTo>
                  <a:pt x="4024" y="3179"/>
                </a:lnTo>
                <a:lnTo>
                  <a:pt x="4020" y="3145"/>
                </a:lnTo>
                <a:lnTo>
                  <a:pt x="4015" y="3109"/>
                </a:lnTo>
                <a:lnTo>
                  <a:pt x="4007" y="3075"/>
                </a:lnTo>
                <a:lnTo>
                  <a:pt x="3999" y="3041"/>
                </a:lnTo>
                <a:lnTo>
                  <a:pt x="3989" y="3007"/>
                </a:lnTo>
                <a:lnTo>
                  <a:pt x="3977" y="2973"/>
                </a:lnTo>
                <a:lnTo>
                  <a:pt x="3964" y="2940"/>
                </a:lnTo>
                <a:lnTo>
                  <a:pt x="3949" y="2908"/>
                </a:lnTo>
                <a:lnTo>
                  <a:pt x="3933" y="2876"/>
                </a:lnTo>
                <a:lnTo>
                  <a:pt x="3915" y="2845"/>
                </a:lnTo>
                <a:lnTo>
                  <a:pt x="3895" y="2815"/>
                </a:lnTo>
                <a:lnTo>
                  <a:pt x="3874" y="2785"/>
                </a:lnTo>
                <a:lnTo>
                  <a:pt x="3851" y="2755"/>
                </a:lnTo>
                <a:lnTo>
                  <a:pt x="3826" y="2727"/>
                </a:lnTo>
                <a:lnTo>
                  <a:pt x="3802" y="2701"/>
                </a:lnTo>
                <a:lnTo>
                  <a:pt x="3770" y="2671"/>
                </a:lnTo>
                <a:lnTo>
                  <a:pt x="1326" y="226"/>
                </a:lnTo>
                <a:lnTo>
                  <a:pt x="1296" y="199"/>
                </a:lnTo>
                <a:lnTo>
                  <a:pt x="1266" y="173"/>
                </a:lnTo>
                <a:lnTo>
                  <a:pt x="1236" y="149"/>
                </a:lnTo>
                <a:lnTo>
                  <a:pt x="1204" y="127"/>
                </a:lnTo>
                <a:lnTo>
                  <a:pt x="1171" y="107"/>
                </a:lnTo>
                <a:lnTo>
                  <a:pt x="1137" y="88"/>
                </a:lnTo>
                <a:lnTo>
                  <a:pt x="1103" y="71"/>
                </a:lnTo>
                <a:lnTo>
                  <a:pt x="1069" y="57"/>
                </a:lnTo>
                <a:lnTo>
                  <a:pt x="1033" y="43"/>
                </a:lnTo>
                <a:lnTo>
                  <a:pt x="998" y="32"/>
                </a:lnTo>
                <a:lnTo>
                  <a:pt x="961" y="22"/>
                </a:lnTo>
                <a:lnTo>
                  <a:pt x="924" y="15"/>
                </a:lnTo>
                <a:lnTo>
                  <a:pt x="888" y="7"/>
                </a:lnTo>
                <a:lnTo>
                  <a:pt x="850" y="4"/>
                </a:lnTo>
                <a:lnTo>
                  <a:pt x="813" y="0"/>
                </a:lnTo>
                <a:lnTo>
                  <a:pt x="775" y="0"/>
                </a:lnTo>
                <a:lnTo>
                  <a:pt x="739" y="0"/>
                </a:lnTo>
                <a:lnTo>
                  <a:pt x="702" y="4"/>
                </a:lnTo>
                <a:lnTo>
                  <a:pt x="664" y="7"/>
                </a:lnTo>
                <a:lnTo>
                  <a:pt x="627" y="15"/>
                </a:lnTo>
                <a:lnTo>
                  <a:pt x="591" y="22"/>
                </a:lnTo>
                <a:lnTo>
                  <a:pt x="554" y="32"/>
                </a:lnTo>
                <a:lnTo>
                  <a:pt x="518" y="43"/>
                </a:lnTo>
                <a:lnTo>
                  <a:pt x="483" y="57"/>
                </a:lnTo>
                <a:lnTo>
                  <a:pt x="449" y="71"/>
                </a:lnTo>
                <a:lnTo>
                  <a:pt x="414" y="88"/>
                </a:lnTo>
                <a:lnTo>
                  <a:pt x="381" y="107"/>
                </a:lnTo>
                <a:lnTo>
                  <a:pt x="348" y="127"/>
                </a:lnTo>
                <a:lnTo>
                  <a:pt x="316" y="149"/>
                </a:lnTo>
                <a:lnTo>
                  <a:pt x="285" y="173"/>
                </a:lnTo>
                <a:lnTo>
                  <a:pt x="256" y="199"/>
                </a:lnTo>
                <a:lnTo>
                  <a:pt x="227" y="226"/>
                </a:lnTo>
                <a:lnTo>
                  <a:pt x="199" y="255"/>
                </a:lnTo>
                <a:lnTo>
                  <a:pt x="174" y="286"/>
                </a:lnTo>
                <a:lnTo>
                  <a:pt x="150" y="316"/>
                </a:lnTo>
                <a:lnTo>
                  <a:pt x="128" y="348"/>
                </a:lnTo>
                <a:lnTo>
                  <a:pt x="108" y="380"/>
                </a:lnTo>
                <a:lnTo>
                  <a:pt x="89" y="415"/>
                </a:lnTo>
                <a:lnTo>
                  <a:pt x="72" y="448"/>
                </a:lnTo>
                <a:lnTo>
                  <a:pt x="57" y="483"/>
                </a:lnTo>
                <a:lnTo>
                  <a:pt x="44" y="519"/>
                </a:lnTo>
                <a:lnTo>
                  <a:pt x="32" y="554"/>
                </a:lnTo>
                <a:lnTo>
                  <a:pt x="22" y="591"/>
                </a:lnTo>
                <a:lnTo>
                  <a:pt x="14" y="628"/>
                </a:lnTo>
                <a:lnTo>
                  <a:pt x="8" y="664"/>
                </a:lnTo>
                <a:lnTo>
                  <a:pt x="4" y="701"/>
                </a:lnTo>
                <a:lnTo>
                  <a:pt x="1" y="738"/>
                </a:lnTo>
                <a:lnTo>
                  <a:pt x="0" y="776"/>
                </a:lnTo>
                <a:lnTo>
                  <a:pt x="1" y="813"/>
                </a:lnTo>
                <a:lnTo>
                  <a:pt x="4" y="850"/>
                </a:lnTo>
                <a:lnTo>
                  <a:pt x="8" y="887"/>
                </a:lnTo>
                <a:lnTo>
                  <a:pt x="14" y="925"/>
                </a:lnTo>
                <a:lnTo>
                  <a:pt x="22" y="960"/>
                </a:lnTo>
                <a:lnTo>
                  <a:pt x="32" y="997"/>
                </a:lnTo>
                <a:lnTo>
                  <a:pt x="44" y="1032"/>
                </a:lnTo>
                <a:lnTo>
                  <a:pt x="57" y="1068"/>
                </a:lnTo>
                <a:lnTo>
                  <a:pt x="72" y="1103"/>
                </a:lnTo>
                <a:lnTo>
                  <a:pt x="89" y="1138"/>
                </a:lnTo>
                <a:lnTo>
                  <a:pt x="108" y="1171"/>
                </a:lnTo>
                <a:lnTo>
                  <a:pt x="128" y="1203"/>
                </a:lnTo>
                <a:lnTo>
                  <a:pt x="150" y="1235"/>
                </a:lnTo>
                <a:lnTo>
                  <a:pt x="174" y="1265"/>
                </a:lnTo>
                <a:lnTo>
                  <a:pt x="199" y="1296"/>
                </a:lnTo>
                <a:lnTo>
                  <a:pt x="227" y="1325"/>
                </a:lnTo>
                <a:lnTo>
                  <a:pt x="2153" y="3251"/>
                </a:lnTo>
                <a:lnTo>
                  <a:pt x="227" y="517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椭圆 19"/>
          <p:cNvSpPr/>
          <p:nvPr/>
        </p:nvSpPr>
        <p:spPr>
          <a:xfrm>
            <a:off x="2004840" y="400068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928880" y="4100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矩形 21"/>
          <p:cNvSpPr/>
          <p:nvPr/>
        </p:nvSpPr>
        <p:spPr>
          <a:xfrm>
            <a:off x="2854440" y="3357720"/>
            <a:ext cx="2879640" cy="642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KSO_Shape"/>
          <p:cNvSpPr/>
          <p:nvPr/>
        </p:nvSpPr>
        <p:spPr>
          <a:xfrm>
            <a:off x="2568600" y="3602160"/>
            <a:ext cx="104760" cy="171360"/>
          </a:xfrm>
          <a:custGeom>
            <a:avLst/>
            <a:gdLst/>
            <a:ahLst/>
            <a:rect l="l" t="t" r="r" b="b"/>
            <a:pathLst>
              <a:path w="4028" h="6501">
                <a:moveTo>
                  <a:pt x="227" y="5177"/>
                </a:moveTo>
                <a:lnTo>
                  <a:pt x="227" y="5177"/>
                </a:lnTo>
                <a:lnTo>
                  <a:pt x="199" y="5205"/>
                </a:lnTo>
                <a:lnTo>
                  <a:pt x="174" y="5235"/>
                </a:lnTo>
                <a:lnTo>
                  <a:pt x="150" y="5265"/>
                </a:lnTo>
                <a:lnTo>
                  <a:pt x="128" y="5297"/>
                </a:lnTo>
                <a:lnTo>
                  <a:pt x="108" y="5330"/>
                </a:lnTo>
                <a:lnTo>
                  <a:pt x="89" y="5364"/>
                </a:lnTo>
                <a:lnTo>
                  <a:pt x="72" y="5398"/>
                </a:lnTo>
                <a:lnTo>
                  <a:pt x="57" y="5432"/>
                </a:lnTo>
                <a:lnTo>
                  <a:pt x="44" y="5468"/>
                </a:lnTo>
                <a:lnTo>
                  <a:pt x="32" y="5504"/>
                </a:lnTo>
                <a:lnTo>
                  <a:pt x="22" y="5540"/>
                </a:lnTo>
                <a:lnTo>
                  <a:pt x="14" y="5577"/>
                </a:lnTo>
                <a:lnTo>
                  <a:pt x="8" y="5613"/>
                </a:lnTo>
                <a:lnTo>
                  <a:pt x="4" y="5651"/>
                </a:lnTo>
                <a:lnTo>
                  <a:pt x="1" y="5688"/>
                </a:lnTo>
                <a:lnTo>
                  <a:pt x="0" y="5726"/>
                </a:lnTo>
                <a:lnTo>
                  <a:pt x="1" y="5762"/>
                </a:lnTo>
                <a:lnTo>
                  <a:pt x="4" y="5800"/>
                </a:lnTo>
                <a:lnTo>
                  <a:pt x="8" y="5837"/>
                </a:lnTo>
                <a:lnTo>
                  <a:pt x="14" y="5874"/>
                </a:lnTo>
                <a:lnTo>
                  <a:pt x="22" y="5910"/>
                </a:lnTo>
                <a:lnTo>
                  <a:pt x="32" y="5947"/>
                </a:lnTo>
                <a:lnTo>
                  <a:pt x="44" y="5982"/>
                </a:lnTo>
                <a:lnTo>
                  <a:pt x="57" y="6018"/>
                </a:lnTo>
                <a:lnTo>
                  <a:pt x="72" y="6052"/>
                </a:lnTo>
                <a:lnTo>
                  <a:pt x="89" y="6087"/>
                </a:lnTo>
                <a:lnTo>
                  <a:pt x="108" y="6120"/>
                </a:lnTo>
                <a:lnTo>
                  <a:pt x="128" y="6153"/>
                </a:lnTo>
                <a:lnTo>
                  <a:pt x="150" y="6185"/>
                </a:lnTo>
                <a:lnTo>
                  <a:pt x="174" y="6216"/>
                </a:lnTo>
                <a:lnTo>
                  <a:pt x="199" y="6245"/>
                </a:lnTo>
                <a:lnTo>
                  <a:pt x="227" y="6275"/>
                </a:lnTo>
                <a:lnTo>
                  <a:pt x="256" y="6302"/>
                </a:lnTo>
                <a:lnTo>
                  <a:pt x="285" y="6328"/>
                </a:lnTo>
                <a:lnTo>
                  <a:pt x="316" y="6352"/>
                </a:lnTo>
                <a:lnTo>
                  <a:pt x="348" y="6373"/>
                </a:lnTo>
                <a:lnTo>
                  <a:pt x="381" y="6394"/>
                </a:lnTo>
                <a:lnTo>
                  <a:pt x="414" y="6412"/>
                </a:lnTo>
                <a:lnTo>
                  <a:pt x="449" y="6430"/>
                </a:lnTo>
                <a:lnTo>
                  <a:pt x="483" y="6444"/>
                </a:lnTo>
                <a:lnTo>
                  <a:pt x="518" y="6457"/>
                </a:lnTo>
                <a:lnTo>
                  <a:pt x="554" y="6469"/>
                </a:lnTo>
                <a:lnTo>
                  <a:pt x="591" y="6478"/>
                </a:lnTo>
                <a:lnTo>
                  <a:pt x="627" y="6487"/>
                </a:lnTo>
                <a:lnTo>
                  <a:pt x="664" y="6493"/>
                </a:lnTo>
                <a:lnTo>
                  <a:pt x="702" y="6497"/>
                </a:lnTo>
                <a:lnTo>
                  <a:pt x="739" y="6500"/>
                </a:lnTo>
                <a:lnTo>
                  <a:pt x="775" y="6501"/>
                </a:lnTo>
                <a:lnTo>
                  <a:pt x="813" y="6500"/>
                </a:lnTo>
                <a:lnTo>
                  <a:pt x="850" y="6497"/>
                </a:lnTo>
                <a:lnTo>
                  <a:pt x="888" y="6493"/>
                </a:lnTo>
                <a:lnTo>
                  <a:pt x="924" y="6487"/>
                </a:lnTo>
                <a:lnTo>
                  <a:pt x="961" y="6478"/>
                </a:lnTo>
                <a:lnTo>
                  <a:pt x="998" y="6469"/>
                </a:lnTo>
                <a:lnTo>
                  <a:pt x="1033" y="6457"/>
                </a:lnTo>
                <a:lnTo>
                  <a:pt x="1069" y="6444"/>
                </a:lnTo>
                <a:lnTo>
                  <a:pt x="1103" y="6430"/>
                </a:lnTo>
                <a:lnTo>
                  <a:pt x="1137" y="6412"/>
                </a:lnTo>
                <a:lnTo>
                  <a:pt x="1171" y="6394"/>
                </a:lnTo>
                <a:lnTo>
                  <a:pt x="1204" y="6373"/>
                </a:lnTo>
                <a:lnTo>
                  <a:pt x="1236" y="6352"/>
                </a:lnTo>
                <a:lnTo>
                  <a:pt x="1266" y="6328"/>
                </a:lnTo>
                <a:lnTo>
                  <a:pt x="1296" y="6302"/>
                </a:lnTo>
                <a:lnTo>
                  <a:pt x="1326" y="6275"/>
                </a:lnTo>
                <a:lnTo>
                  <a:pt x="3768" y="3831"/>
                </a:lnTo>
                <a:lnTo>
                  <a:pt x="3802" y="3800"/>
                </a:lnTo>
                <a:lnTo>
                  <a:pt x="3826" y="3773"/>
                </a:lnTo>
                <a:lnTo>
                  <a:pt x="3851" y="3746"/>
                </a:lnTo>
                <a:lnTo>
                  <a:pt x="3874" y="3716"/>
                </a:lnTo>
                <a:lnTo>
                  <a:pt x="3895" y="3687"/>
                </a:lnTo>
                <a:lnTo>
                  <a:pt x="3914" y="3656"/>
                </a:lnTo>
                <a:lnTo>
                  <a:pt x="3933" y="3625"/>
                </a:lnTo>
                <a:lnTo>
                  <a:pt x="3949" y="3593"/>
                </a:lnTo>
                <a:lnTo>
                  <a:pt x="3964" y="3561"/>
                </a:lnTo>
                <a:lnTo>
                  <a:pt x="3977" y="3528"/>
                </a:lnTo>
                <a:lnTo>
                  <a:pt x="3989" y="3494"/>
                </a:lnTo>
                <a:lnTo>
                  <a:pt x="3999" y="3461"/>
                </a:lnTo>
                <a:lnTo>
                  <a:pt x="4007" y="3426"/>
                </a:lnTo>
                <a:lnTo>
                  <a:pt x="4015" y="3392"/>
                </a:lnTo>
                <a:lnTo>
                  <a:pt x="4020" y="3357"/>
                </a:lnTo>
                <a:lnTo>
                  <a:pt x="4024" y="3322"/>
                </a:lnTo>
                <a:lnTo>
                  <a:pt x="4026" y="3287"/>
                </a:lnTo>
                <a:lnTo>
                  <a:pt x="4028" y="3270"/>
                </a:lnTo>
                <a:lnTo>
                  <a:pt x="4028" y="3268"/>
                </a:lnTo>
                <a:lnTo>
                  <a:pt x="4028" y="3251"/>
                </a:lnTo>
                <a:lnTo>
                  <a:pt x="4028" y="3250"/>
                </a:lnTo>
                <a:lnTo>
                  <a:pt x="4028" y="3232"/>
                </a:lnTo>
                <a:lnTo>
                  <a:pt x="4028" y="3231"/>
                </a:lnTo>
                <a:lnTo>
                  <a:pt x="4026" y="3215"/>
                </a:lnTo>
                <a:lnTo>
                  <a:pt x="4024" y="3179"/>
                </a:lnTo>
                <a:lnTo>
                  <a:pt x="4020" y="3145"/>
                </a:lnTo>
                <a:lnTo>
                  <a:pt x="4015" y="3109"/>
                </a:lnTo>
                <a:lnTo>
                  <a:pt x="4007" y="3075"/>
                </a:lnTo>
                <a:lnTo>
                  <a:pt x="3999" y="3041"/>
                </a:lnTo>
                <a:lnTo>
                  <a:pt x="3989" y="3007"/>
                </a:lnTo>
                <a:lnTo>
                  <a:pt x="3977" y="2973"/>
                </a:lnTo>
                <a:lnTo>
                  <a:pt x="3964" y="2940"/>
                </a:lnTo>
                <a:lnTo>
                  <a:pt x="3949" y="2908"/>
                </a:lnTo>
                <a:lnTo>
                  <a:pt x="3933" y="2876"/>
                </a:lnTo>
                <a:lnTo>
                  <a:pt x="3915" y="2845"/>
                </a:lnTo>
                <a:lnTo>
                  <a:pt x="3895" y="2815"/>
                </a:lnTo>
                <a:lnTo>
                  <a:pt x="3874" y="2785"/>
                </a:lnTo>
                <a:lnTo>
                  <a:pt x="3851" y="2755"/>
                </a:lnTo>
                <a:lnTo>
                  <a:pt x="3826" y="2727"/>
                </a:lnTo>
                <a:lnTo>
                  <a:pt x="3802" y="2701"/>
                </a:lnTo>
                <a:lnTo>
                  <a:pt x="3770" y="2671"/>
                </a:lnTo>
                <a:lnTo>
                  <a:pt x="1326" y="226"/>
                </a:lnTo>
                <a:lnTo>
                  <a:pt x="1296" y="199"/>
                </a:lnTo>
                <a:lnTo>
                  <a:pt x="1266" y="173"/>
                </a:lnTo>
                <a:lnTo>
                  <a:pt x="1236" y="149"/>
                </a:lnTo>
                <a:lnTo>
                  <a:pt x="1204" y="127"/>
                </a:lnTo>
                <a:lnTo>
                  <a:pt x="1171" y="107"/>
                </a:lnTo>
                <a:lnTo>
                  <a:pt x="1137" y="88"/>
                </a:lnTo>
                <a:lnTo>
                  <a:pt x="1103" y="71"/>
                </a:lnTo>
                <a:lnTo>
                  <a:pt x="1069" y="57"/>
                </a:lnTo>
                <a:lnTo>
                  <a:pt x="1033" y="43"/>
                </a:lnTo>
                <a:lnTo>
                  <a:pt x="998" y="32"/>
                </a:lnTo>
                <a:lnTo>
                  <a:pt x="961" y="22"/>
                </a:lnTo>
                <a:lnTo>
                  <a:pt x="924" y="15"/>
                </a:lnTo>
                <a:lnTo>
                  <a:pt x="888" y="7"/>
                </a:lnTo>
                <a:lnTo>
                  <a:pt x="850" y="4"/>
                </a:lnTo>
                <a:lnTo>
                  <a:pt x="813" y="0"/>
                </a:lnTo>
                <a:lnTo>
                  <a:pt x="775" y="0"/>
                </a:lnTo>
                <a:lnTo>
                  <a:pt x="739" y="0"/>
                </a:lnTo>
                <a:lnTo>
                  <a:pt x="702" y="4"/>
                </a:lnTo>
                <a:lnTo>
                  <a:pt x="664" y="7"/>
                </a:lnTo>
                <a:lnTo>
                  <a:pt x="627" y="15"/>
                </a:lnTo>
                <a:lnTo>
                  <a:pt x="591" y="22"/>
                </a:lnTo>
                <a:lnTo>
                  <a:pt x="554" y="32"/>
                </a:lnTo>
                <a:lnTo>
                  <a:pt x="518" y="43"/>
                </a:lnTo>
                <a:lnTo>
                  <a:pt x="483" y="57"/>
                </a:lnTo>
                <a:lnTo>
                  <a:pt x="449" y="71"/>
                </a:lnTo>
                <a:lnTo>
                  <a:pt x="414" y="88"/>
                </a:lnTo>
                <a:lnTo>
                  <a:pt x="381" y="107"/>
                </a:lnTo>
                <a:lnTo>
                  <a:pt x="348" y="127"/>
                </a:lnTo>
                <a:lnTo>
                  <a:pt x="316" y="149"/>
                </a:lnTo>
                <a:lnTo>
                  <a:pt x="285" y="173"/>
                </a:lnTo>
                <a:lnTo>
                  <a:pt x="256" y="199"/>
                </a:lnTo>
                <a:lnTo>
                  <a:pt x="227" y="226"/>
                </a:lnTo>
                <a:lnTo>
                  <a:pt x="199" y="255"/>
                </a:lnTo>
                <a:lnTo>
                  <a:pt x="174" y="286"/>
                </a:lnTo>
                <a:lnTo>
                  <a:pt x="150" y="316"/>
                </a:lnTo>
                <a:lnTo>
                  <a:pt x="128" y="348"/>
                </a:lnTo>
                <a:lnTo>
                  <a:pt x="108" y="380"/>
                </a:lnTo>
                <a:lnTo>
                  <a:pt x="89" y="415"/>
                </a:lnTo>
                <a:lnTo>
                  <a:pt x="72" y="448"/>
                </a:lnTo>
                <a:lnTo>
                  <a:pt x="57" y="483"/>
                </a:lnTo>
                <a:lnTo>
                  <a:pt x="44" y="519"/>
                </a:lnTo>
                <a:lnTo>
                  <a:pt x="32" y="554"/>
                </a:lnTo>
                <a:lnTo>
                  <a:pt x="22" y="591"/>
                </a:lnTo>
                <a:lnTo>
                  <a:pt x="14" y="628"/>
                </a:lnTo>
                <a:lnTo>
                  <a:pt x="8" y="664"/>
                </a:lnTo>
                <a:lnTo>
                  <a:pt x="4" y="701"/>
                </a:lnTo>
                <a:lnTo>
                  <a:pt x="1" y="738"/>
                </a:lnTo>
                <a:lnTo>
                  <a:pt x="0" y="776"/>
                </a:lnTo>
                <a:lnTo>
                  <a:pt x="1" y="813"/>
                </a:lnTo>
                <a:lnTo>
                  <a:pt x="4" y="850"/>
                </a:lnTo>
                <a:lnTo>
                  <a:pt x="8" y="887"/>
                </a:lnTo>
                <a:lnTo>
                  <a:pt x="14" y="925"/>
                </a:lnTo>
                <a:lnTo>
                  <a:pt x="22" y="960"/>
                </a:lnTo>
                <a:lnTo>
                  <a:pt x="32" y="997"/>
                </a:lnTo>
                <a:lnTo>
                  <a:pt x="44" y="1032"/>
                </a:lnTo>
                <a:lnTo>
                  <a:pt x="57" y="1068"/>
                </a:lnTo>
                <a:lnTo>
                  <a:pt x="72" y="1103"/>
                </a:lnTo>
                <a:lnTo>
                  <a:pt x="89" y="1138"/>
                </a:lnTo>
                <a:lnTo>
                  <a:pt x="108" y="1171"/>
                </a:lnTo>
                <a:lnTo>
                  <a:pt x="128" y="1203"/>
                </a:lnTo>
                <a:lnTo>
                  <a:pt x="150" y="1235"/>
                </a:lnTo>
                <a:lnTo>
                  <a:pt x="174" y="1265"/>
                </a:lnTo>
                <a:lnTo>
                  <a:pt x="199" y="1296"/>
                </a:lnTo>
                <a:lnTo>
                  <a:pt x="227" y="1325"/>
                </a:lnTo>
                <a:lnTo>
                  <a:pt x="2153" y="3251"/>
                </a:lnTo>
                <a:lnTo>
                  <a:pt x="227" y="517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23"/>
          <p:cNvSpPr/>
          <p:nvPr/>
        </p:nvSpPr>
        <p:spPr>
          <a:xfrm>
            <a:off x="3000240" y="1362240"/>
            <a:ext cx="10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大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直接连接符 25"/>
          <p:cNvSpPr/>
          <p:nvPr/>
        </p:nvSpPr>
        <p:spPr>
          <a:xfrm flipH="1">
            <a:off x="4046040" y="1273320"/>
            <a:ext cx="1800" cy="53964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接连接符 26"/>
          <p:cNvSpPr/>
          <p:nvPr/>
        </p:nvSpPr>
        <p:spPr>
          <a:xfrm flipH="1">
            <a:off x="4044960" y="2335320"/>
            <a:ext cx="1440" cy="53964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接连接符 27"/>
          <p:cNvSpPr/>
          <p:nvPr/>
        </p:nvSpPr>
        <p:spPr>
          <a:xfrm flipH="1">
            <a:off x="4046040" y="3414600"/>
            <a:ext cx="1800" cy="54000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28"/>
          <p:cNvSpPr/>
          <p:nvPr/>
        </p:nvSpPr>
        <p:spPr>
          <a:xfrm>
            <a:off x="4143240" y="127332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硕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29"/>
          <p:cNvSpPr/>
          <p:nvPr/>
        </p:nvSpPr>
        <p:spPr>
          <a:xfrm>
            <a:off x="2928960" y="350028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高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0"/>
          <p:cNvSpPr/>
          <p:nvPr/>
        </p:nvSpPr>
        <p:spPr>
          <a:xfrm>
            <a:off x="2928960" y="242892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大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31"/>
          <p:cNvSpPr/>
          <p:nvPr/>
        </p:nvSpPr>
        <p:spPr>
          <a:xfrm>
            <a:off x="4143240" y="342900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工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32"/>
          <p:cNvSpPr/>
          <p:nvPr/>
        </p:nvSpPr>
        <p:spPr>
          <a:xfrm>
            <a:off x="4143240" y="235728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3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经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5"/>
          <p:cNvSpPr/>
          <p:nvPr/>
        </p:nvSpPr>
        <p:spPr>
          <a:xfrm>
            <a:off x="1832040" y="3643200"/>
            <a:ext cx="287280" cy="287280"/>
          </a:xfrm>
          <a:prstGeom prst="ellipse">
            <a:avLst/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6"/>
          <p:cNvSpPr/>
          <p:nvPr/>
        </p:nvSpPr>
        <p:spPr>
          <a:xfrm>
            <a:off x="1903320" y="3706920"/>
            <a:ext cx="144720" cy="144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7"/>
          <p:cNvSpPr/>
          <p:nvPr/>
        </p:nvSpPr>
        <p:spPr>
          <a:xfrm>
            <a:off x="1832040" y="1000080"/>
            <a:ext cx="287280" cy="2872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椭圆 8"/>
          <p:cNvSpPr/>
          <p:nvPr/>
        </p:nvSpPr>
        <p:spPr>
          <a:xfrm>
            <a:off x="1903320" y="1063800"/>
            <a:ext cx="144720" cy="142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椭圆 9"/>
          <p:cNvSpPr/>
          <p:nvPr/>
        </p:nvSpPr>
        <p:spPr>
          <a:xfrm>
            <a:off x="1832040" y="2357280"/>
            <a:ext cx="287280" cy="287640"/>
          </a:xfrm>
          <a:prstGeom prst="ellipse">
            <a:avLst/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10"/>
          <p:cNvSpPr/>
          <p:nvPr/>
        </p:nvSpPr>
        <p:spPr>
          <a:xfrm>
            <a:off x="1900080" y="2425680"/>
            <a:ext cx="142920" cy="1429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2332080" y="9716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至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2"/>
          <p:cNvSpPr/>
          <p:nvPr/>
        </p:nvSpPr>
        <p:spPr>
          <a:xfrm>
            <a:off x="2286000" y="1285920"/>
            <a:ext cx="507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某某公司培训专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负责某某某某某某某某项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2357280" y="2357280"/>
            <a:ext cx="30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至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4"/>
          <p:cNvSpPr/>
          <p:nvPr/>
        </p:nvSpPr>
        <p:spPr>
          <a:xfrm>
            <a:off x="2357280" y="2714760"/>
            <a:ext cx="50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某某公司培训专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负责某某某某某某某某项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5"/>
          <p:cNvSpPr/>
          <p:nvPr/>
        </p:nvSpPr>
        <p:spPr>
          <a:xfrm>
            <a:off x="2340000" y="36529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至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6"/>
          <p:cNvSpPr/>
          <p:nvPr/>
        </p:nvSpPr>
        <p:spPr>
          <a:xfrm>
            <a:off x="2357280" y="4000680"/>
            <a:ext cx="50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某某公司培训专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负责某某某某某某某某项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2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技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7"/>
          <p:cNvSpPr/>
          <p:nvPr/>
        </p:nvSpPr>
        <p:spPr>
          <a:xfrm>
            <a:off x="1643040" y="1214280"/>
            <a:ext cx="5000760" cy="357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8"/>
          <p:cNvSpPr/>
          <p:nvPr/>
        </p:nvSpPr>
        <p:spPr>
          <a:xfrm>
            <a:off x="1643040" y="1214280"/>
            <a:ext cx="450072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19"/>
          <p:cNvSpPr/>
          <p:nvPr/>
        </p:nvSpPr>
        <p:spPr>
          <a:xfrm>
            <a:off x="1643040" y="2143080"/>
            <a:ext cx="500076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20"/>
          <p:cNvSpPr/>
          <p:nvPr/>
        </p:nvSpPr>
        <p:spPr>
          <a:xfrm>
            <a:off x="1643040" y="2143080"/>
            <a:ext cx="414036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21"/>
          <p:cNvSpPr/>
          <p:nvPr/>
        </p:nvSpPr>
        <p:spPr>
          <a:xfrm>
            <a:off x="1643040" y="3000240"/>
            <a:ext cx="5000760" cy="357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22"/>
          <p:cNvSpPr/>
          <p:nvPr/>
        </p:nvSpPr>
        <p:spPr>
          <a:xfrm>
            <a:off x="1643040" y="3000240"/>
            <a:ext cx="395928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3"/>
          <p:cNvSpPr/>
          <p:nvPr/>
        </p:nvSpPr>
        <p:spPr>
          <a:xfrm>
            <a:off x="1643040" y="3857760"/>
            <a:ext cx="500076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4"/>
          <p:cNvSpPr/>
          <p:nvPr/>
        </p:nvSpPr>
        <p:spPr>
          <a:xfrm>
            <a:off x="1643040" y="3857760"/>
            <a:ext cx="378000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KSO_Shape"/>
          <p:cNvSpPr/>
          <p:nvPr/>
        </p:nvSpPr>
        <p:spPr>
          <a:xfrm>
            <a:off x="5946840" y="892080"/>
            <a:ext cx="380880" cy="31428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29"/>
          <p:cNvSpPr/>
          <p:nvPr/>
        </p:nvSpPr>
        <p:spPr>
          <a:xfrm>
            <a:off x="5786280" y="84924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90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KSO_Shape"/>
          <p:cNvSpPr/>
          <p:nvPr/>
        </p:nvSpPr>
        <p:spPr>
          <a:xfrm>
            <a:off x="5592600" y="1812960"/>
            <a:ext cx="381240" cy="31284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31"/>
          <p:cNvSpPr/>
          <p:nvPr/>
        </p:nvSpPr>
        <p:spPr>
          <a:xfrm>
            <a:off x="5432400" y="17701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85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KSO_Shape"/>
          <p:cNvSpPr/>
          <p:nvPr/>
        </p:nvSpPr>
        <p:spPr>
          <a:xfrm>
            <a:off x="5400720" y="2644920"/>
            <a:ext cx="380880" cy="31248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33"/>
          <p:cNvSpPr/>
          <p:nvPr/>
        </p:nvSpPr>
        <p:spPr>
          <a:xfrm>
            <a:off x="5240160" y="260208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80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KSO_Shape"/>
          <p:cNvSpPr/>
          <p:nvPr/>
        </p:nvSpPr>
        <p:spPr>
          <a:xfrm>
            <a:off x="5227560" y="3510000"/>
            <a:ext cx="381240" cy="31428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35"/>
          <p:cNvSpPr/>
          <p:nvPr/>
        </p:nvSpPr>
        <p:spPr>
          <a:xfrm>
            <a:off x="5067360" y="346716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75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36"/>
          <p:cNvSpPr/>
          <p:nvPr/>
        </p:nvSpPr>
        <p:spPr>
          <a:xfrm>
            <a:off x="1571760" y="8571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7"/>
          <p:cNvSpPr/>
          <p:nvPr/>
        </p:nvSpPr>
        <p:spPr>
          <a:xfrm>
            <a:off x="1571760" y="17859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S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8"/>
          <p:cNvSpPr/>
          <p:nvPr/>
        </p:nvSpPr>
        <p:spPr>
          <a:xfrm>
            <a:off x="1571760" y="266220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AP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39"/>
          <p:cNvSpPr/>
          <p:nvPr/>
        </p:nvSpPr>
        <p:spPr>
          <a:xfrm>
            <a:off x="1571760" y="350028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EXCLE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Box 1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KSO_Shape"/>
          <p:cNvSpPr/>
          <p:nvPr/>
        </p:nvSpPr>
        <p:spPr>
          <a:xfrm rot="16200000">
            <a:off x="4309920" y="4547880"/>
            <a:ext cx="333360" cy="38124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9"/>
          <p:cNvSpPr/>
          <p:nvPr/>
        </p:nvSpPr>
        <p:spPr>
          <a:xfrm>
            <a:off x="2287440" y="797040"/>
            <a:ext cx="3937320" cy="3411360"/>
          </a:xfrm>
          <a:custGeom>
            <a:avLst/>
            <a:gdLst/>
            <a:ahLst/>
            <a:rect l="l" t="t" r="r" b="b"/>
            <a:pathLst>
              <a:path w="3100" h="2686">
                <a:moveTo>
                  <a:pt x="2326" y="0"/>
                </a:moveTo>
                <a:lnTo>
                  <a:pt x="3100" y="1344"/>
                </a:lnTo>
                <a:lnTo>
                  <a:pt x="2326" y="2686"/>
                </a:lnTo>
                <a:lnTo>
                  <a:pt x="774" y="2686"/>
                </a:lnTo>
                <a:lnTo>
                  <a:pt x="0" y="1344"/>
                </a:lnTo>
                <a:lnTo>
                  <a:pt x="774" y="0"/>
                </a:lnTo>
                <a:lnTo>
                  <a:pt x="2326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45"/>
          <p:cNvSpPr/>
          <p:nvPr/>
        </p:nvSpPr>
        <p:spPr>
          <a:xfrm>
            <a:off x="3263760" y="785880"/>
            <a:ext cx="2954520" cy="1706400"/>
          </a:xfrm>
          <a:custGeom>
            <a:avLst/>
            <a:gdLst/>
            <a:ahLst/>
            <a:rect l="l" t="t" r="r" b="b"/>
            <a:pathLst>
              <a:path w="3407" h="1968">
                <a:moveTo>
                  <a:pt x="2273" y="0"/>
                </a:moveTo>
                <a:lnTo>
                  <a:pt x="0" y="0"/>
                </a:lnTo>
                <a:lnTo>
                  <a:pt x="3407" y="1968"/>
                </a:lnTo>
                <a:lnTo>
                  <a:pt x="2273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22"/>
          <p:cNvSpPr/>
          <p:nvPr/>
        </p:nvSpPr>
        <p:spPr>
          <a:xfrm>
            <a:off x="2284560" y="797040"/>
            <a:ext cx="2955600" cy="1706400"/>
          </a:xfrm>
          <a:custGeom>
            <a:avLst/>
            <a:gdLst/>
            <a:ahLst/>
            <a:rect l="l" t="t" r="r" b="b"/>
            <a:pathLst>
              <a:path w="3407" h="1968">
                <a:moveTo>
                  <a:pt x="3407" y="0"/>
                </a:moveTo>
                <a:lnTo>
                  <a:pt x="1134" y="0"/>
                </a:lnTo>
                <a:lnTo>
                  <a:pt x="0" y="1968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25"/>
          <p:cNvSpPr/>
          <p:nvPr/>
        </p:nvSpPr>
        <p:spPr>
          <a:xfrm>
            <a:off x="2284560" y="2492280"/>
            <a:ext cx="2955600" cy="1704960"/>
          </a:xfrm>
          <a:custGeom>
            <a:avLst/>
            <a:gdLst/>
            <a:ahLst/>
            <a:rect l="l" t="t" r="r" b="b"/>
            <a:pathLst>
              <a:path w="3407" h="1965">
                <a:moveTo>
                  <a:pt x="0" y="0"/>
                </a:moveTo>
                <a:lnTo>
                  <a:pt x="1134" y="1965"/>
                </a:lnTo>
                <a:lnTo>
                  <a:pt x="3407" y="1965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33"/>
          <p:cNvSpPr/>
          <p:nvPr/>
        </p:nvSpPr>
        <p:spPr>
          <a:xfrm>
            <a:off x="3268800" y="2509920"/>
            <a:ext cx="2954160" cy="1704960"/>
          </a:xfrm>
          <a:custGeom>
            <a:avLst/>
            <a:gdLst/>
            <a:ahLst/>
            <a:rect l="l" t="t" r="r" b="b"/>
            <a:pathLst>
              <a:path w="3407" h="1965">
                <a:moveTo>
                  <a:pt x="3407" y="0"/>
                </a:moveTo>
                <a:lnTo>
                  <a:pt x="0" y="1965"/>
                </a:lnTo>
                <a:lnTo>
                  <a:pt x="2273" y="1965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31"/>
          <p:cNvSpPr/>
          <p:nvPr/>
        </p:nvSpPr>
        <p:spPr>
          <a:xfrm>
            <a:off x="2143080" y="142920"/>
            <a:ext cx="4859280" cy="4205160"/>
          </a:xfrm>
          <a:custGeom>
            <a:avLst/>
            <a:gdLst/>
            <a:ahLst/>
            <a:rect l="l" t="t" r="r" b="b"/>
            <a:pathLst>
              <a:path w="3061" h="2649">
                <a:moveTo>
                  <a:pt x="2297" y="0"/>
                </a:moveTo>
                <a:lnTo>
                  <a:pt x="3061" y="1325"/>
                </a:lnTo>
                <a:lnTo>
                  <a:pt x="2297" y="2649"/>
                </a:lnTo>
                <a:lnTo>
                  <a:pt x="764" y="2649"/>
                </a:lnTo>
                <a:lnTo>
                  <a:pt x="0" y="1325"/>
                </a:lnTo>
                <a:lnTo>
                  <a:pt x="764" y="0"/>
                </a:lnTo>
                <a:lnTo>
                  <a:pt x="229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133"/>
          <p:cNvSpPr/>
          <p:nvPr/>
        </p:nvSpPr>
        <p:spPr>
          <a:xfrm>
            <a:off x="4713120" y="785880"/>
            <a:ext cx="2430720" cy="2103480"/>
          </a:xfrm>
          <a:custGeom>
            <a:avLst/>
            <a:gdLst/>
            <a:ahLst/>
            <a:rect l="l" t="t" r="r" b="b"/>
            <a:pathLst>
              <a:path w="1531" h="1325">
                <a:moveTo>
                  <a:pt x="767" y="0"/>
                </a:moveTo>
                <a:lnTo>
                  <a:pt x="767" y="0"/>
                </a:lnTo>
                <a:lnTo>
                  <a:pt x="0" y="442"/>
                </a:lnTo>
                <a:lnTo>
                  <a:pt x="1531" y="1325"/>
                </a:lnTo>
                <a:lnTo>
                  <a:pt x="76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135"/>
          <p:cNvSpPr/>
          <p:nvPr/>
        </p:nvSpPr>
        <p:spPr>
          <a:xfrm>
            <a:off x="2143080" y="2246400"/>
            <a:ext cx="3646440" cy="2101680"/>
          </a:xfrm>
          <a:custGeom>
            <a:avLst/>
            <a:gdLst/>
            <a:ahLst/>
            <a:rect l="l" t="t" r="r" b="b"/>
            <a:pathLst>
              <a:path w="2297" h="1324">
                <a:moveTo>
                  <a:pt x="0" y="0"/>
                </a:moveTo>
                <a:lnTo>
                  <a:pt x="764" y="1324"/>
                </a:lnTo>
                <a:lnTo>
                  <a:pt x="2297" y="1324"/>
                </a:lnTo>
                <a:lnTo>
                  <a:pt x="764" y="1324"/>
                </a:lnTo>
                <a:lnTo>
                  <a:pt x="1530" y="8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137"/>
          <p:cNvSpPr/>
          <p:nvPr/>
        </p:nvSpPr>
        <p:spPr>
          <a:xfrm>
            <a:off x="4572000" y="2143080"/>
            <a:ext cx="2430360" cy="2102040"/>
          </a:xfrm>
          <a:custGeom>
            <a:avLst/>
            <a:gdLst/>
            <a:ahLst/>
            <a:rect l="l" t="t" r="r" b="b"/>
            <a:pathLst>
              <a:path w="1531" h="1324">
                <a:moveTo>
                  <a:pt x="1531" y="0"/>
                </a:moveTo>
                <a:lnTo>
                  <a:pt x="0" y="882"/>
                </a:lnTo>
                <a:lnTo>
                  <a:pt x="767" y="1324"/>
                </a:lnTo>
                <a:lnTo>
                  <a:pt x="153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39"/>
          <p:cNvSpPr/>
          <p:nvPr/>
        </p:nvSpPr>
        <p:spPr>
          <a:xfrm>
            <a:off x="3355920" y="3646440"/>
            <a:ext cx="2433600" cy="701640"/>
          </a:xfrm>
          <a:custGeom>
            <a:avLst/>
            <a:gdLst/>
            <a:ahLst/>
            <a:rect l="l" t="t" r="r" b="b"/>
            <a:pathLst>
              <a:path w="1533" h="442">
                <a:moveTo>
                  <a:pt x="766" y="0"/>
                </a:moveTo>
                <a:lnTo>
                  <a:pt x="0" y="442"/>
                </a:lnTo>
                <a:lnTo>
                  <a:pt x="1533" y="442"/>
                </a:lnTo>
                <a:lnTo>
                  <a:pt x="76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41"/>
          <p:cNvSpPr/>
          <p:nvPr/>
        </p:nvSpPr>
        <p:spPr>
          <a:xfrm>
            <a:off x="2284560" y="785880"/>
            <a:ext cx="2428560" cy="2103480"/>
          </a:xfrm>
          <a:custGeom>
            <a:avLst/>
            <a:gdLst/>
            <a:ahLst/>
            <a:rect l="l" t="t" r="r" b="b"/>
            <a:pathLst>
              <a:path w="1530" h="1325">
                <a:moveTo>
                  <a:pt x="764" y="0"/>
                </a:moveTo>
                <a:lnTo>
                  <a:pt x="764" y="0"/>
                </a:lnTo>
                <a:lnTo>
                  <a:pt x="0" y="1325"/>
                </a:lnTo>
                <a:lnTo>
                  <a:pt x="1530" y="442"/>
                </a:lnTo>
                <a:lnTo>
                  <a:pt x="76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43"/>
          <p:cNvSpPr/>
          <p:nvPr/>
        </p:nvSpPr>
        <p:spPr>
          <a:xfrm>
            <a:off x="3497400" y="785880"/>
            <a:ext cx="2433600" cy="701640"/>
          </a:xfrm>
          <a:custGeom>
            <a:avLst/>
            <a:gdLst/>
            <a:ahLst/>
            <a:rect l="l" t="t" r="r" b="b"/>
            <a:pathLst>
              <a:path w="1533" h="442">
                <a:moveTo>
                  <a:pt x="1533" y="0"/>
                </a:moveTo>
                <a:lnTo>
                  <a:pt x="0" y="0"/>
                </a:lnTo>
                <a:lnTo>
                  <a:pt x="766" y="442"/>
                </a:lnTo>
                <a:lnTo>
                  <a:pt x="15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椭圆 16"/>
          <p:cNvSpPr/>
          <p:nvPr/>
        </p:nvSpPr>
        <p:spPr>
          <a:xfrm>
            <a:off x="2928960" y="428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椭圆 17"/>
          <p:cNvSpPr/>
          <p:nvPr/>
        </p:nvSpPr>
        <p:spPr>
          <a:xfrm>
            <a:off x="2031840" y="214308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椭圆 18"/>
          <p:cNvSpPr/>
          <p:nvPr/>
        </p:nvSpPr>
        <p:spPr>
          <a:xfrm>
            <a:off x="2928960" y="3857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椭圆 19"/>
          <p:cNvSpPr/>
          <p:nvPr/>
        </p:nvSpPr>
        <p:spPr>
          <a:xfrm>
            <a:off x="4929120" y="3857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椭圆 20"/>
          <p:cNvSpPr/>
          <p:nvPr/>
        </p:nvSpPr>
        <p:spPr>
          <a:xfrm>
            <a:off x="5857920" y="214308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椭圆 21"/>
          <p:cNvSpPr/>
          <p:nvPr/>
        </p:nvSpPr>
        <p:spPr>
          <a:xfrm>
            <a:off x="4929120" y="428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22"/>
          <p:cNvSpPr/>
          <p:nvPr/>
        </p:nvSpPr>
        <p:spPr>
          <a:xfrm>
            <a:off x="2957400" y="5904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踏实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23"/>
          <p:cNvSpPr/>
          <p:nvPr/>
        </p:nvSpPr>
        <p:spPr>
          <a:xfrm>
            <a:off x="4968720" y="5922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24"/>
          <p:cNvSpPr/>
          <p:nvPr/>
        </p:nvSpPr>
        <p:spPr>
          <a:xfrm>
            <a:off x="5889600" y="232884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25"/>
          <p:cNvSpPr/>
          <p:nvPr/>
        </p:nvSpPr>
        <p:spPr>
          <a:xfrm>
            <a:off x="4968720" y="404028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谦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26"/>
          <p:cNvSpPr/>
          <p:nvPr/>
        </p:nvSpPr>
        <p:spPr>
          <a:xfrm>
            <a:off x="2960640" y="403236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助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7"/>
          <p:cNvSpPr/>
          <p:nvPr/>
        </p:nvSpPr>
        <p:spPr>
          <a:xfrm>
            <a:off x="2050920" y="231444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1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期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2"/>
          <p:cNvSpPr/>
          <p:nvPr/>
        </p:nvSpPr>
        <p:spPr>
          <a:xfrm>
            <a:off x="1714680" y="1071720"/>
            <a:ext cx="371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期待</a:t>
            </a:r>
            <a:r>
              <a:rPr b="1" lang="zh-CN" sz="2000" spc="-1" strike="noStrike">
                <a:solidFill>
                  <a:srgbClr val="e46c0a"/>
                </a:solidFill>
                <a:latin typeface="微软雅黑"/>
                <a:ea typeface="微软雅黑"/>
              </a:rPr>
              <a:t>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开发公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5"/>
          <p:cNvSpPr/>
          <p:nvPr/>
        </p:nvSpPr>
        <p:spPr>
          <a:xfrm>
            <a:off x="1714680" y="2286000"/>
            <a:ext cx="371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期待</a:t>
            </a:r>
            <a:r>
              <a:rPr b="1" lang="zh-CN" sz="2000" spc="-1" strike="noStrike">
                <a:solidFill>
                  <a:srgbClr val="e46c0a"/>
                </a:solidFill>
                <a:latin typeface="微软雅黑"/>
                <a:ea typeface="微软雅黑"/>
              </a:rPr>
              <a:t>职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开发  运营  推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6"/>
          <p:cNvSpPr/>
          <p:nvPr/>
        </p:nvSpPr>
        <p:spPr>
          <a:xfrm>
            <a:off x="1714680" y="3354480"/>
            <a:ext cx="371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期待</a:t>
            </a:r>
            <a:r>
              <a:rPr b="1" lang="zh-CN" sz="2000" spc="-1" strike="noStrike">
                <a:solidFill>
                  <a:srgbClr val="e46c0a"/>
                </a:solidFill>
                <a:latin typeface="微软雅黑"/>
                <a:ea typeface="微软雅黑"/>
              </a:rPr>
              <a:t>薪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5000-7000</a:t>
            </a: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KSO_Shape"/>
          <p:cNvSpPr/>
          <p:nvPr/>
        </p:nvSpPr>
        <p:spPr>
          <a:xfrm>
            <a:off x="1071720" y="1143000"/>
            <a:ext cx="552240" cy="571680"/>
          </a:xfrm>
          <a:custGeom>
            <a:avLst/>
            <a:gdLst/>
            <a:ahLst/>
            <a:rect l="l" t="t" r="r" b="b"/>
            <a:pathLst>
              <a:path w="1119349" h="1157433">
                <a:moveTo>
                  <a:pt x="135620" y="818456"/>
                </a:moveTo>
                <a:cubicBezTo>
                  <a:pt x="71450" y="948523"/>
                  <a:pt x="57484" y="1054732"/>
                  <a:pt x="108323" y="1103729"/>
                </a:cubicBezTo>
                <a:cubicBezTo>
                  <a:pt x="164989" y="1158341"/>
                  <a:pt x="289713" y="1129874"/>
                  <a:pt x="437069" y="1040437"/>
                </a:cubicBezTo>
                <a:cubicBezTo>
                  <a:pt x="307239" y="1007168"/>
                  <a:pt x="198946" y="926245"/>
                  <a:pt x="135620" y="818456"/>
                </a:cubicBezTo>
                <a:close/>
                <a:moveTo>
                  <a:pt x="582086" y="345816"/>
                </a:moveTo>
                <a:cubicBezTo>
                  <a:pt x="490772" y="345817"/>
                  <a:pt x="434615" y="407693"/>
                  <a:pt x="413811" y="495363"/>
                </a:cubicBezTo>
                <a:lnTo>
                  <a:pt x="750361" y="495364"/>
                </a:lnTo>
                <a:cubicBezTo>
                  <a:pt x="729557" y="407692"/>
                  <a:pt x="673401" y="345816"/>
                  <a:pt x="582086" y="345816"/>
                </a:cubicBezTo>
                <a:close/>
                <a:moveTo>
                  <a:pt x="954622" y="129"/>
                </a:moveTo>
                <a:cubicBezTo>
                  <a:pt x="1007406" y="-1466"/>
                  <a:pt x="1051113" y="11645"/>
                  <a:pt x="1081775" y="41196"/>
                </a:cubicBezTo>
                <a:cubicBezTo>
                  <a:pt x="1101805" y="60500"/>
                  <a:pt x="1115030" y="85625"/>
                  <a:pt x="1119349" y="116033"/>
                </a:cubicBezTo>
                <a:cubicBezTo>
                  <a:pt x="1112931" y="103633"/>
                  <a:pt x="1104158" y="92219"/>
                  <a:pt x="1093494" y="81508"/>
                </a:cubicBezTo>
                <a:cubicBezTo>
                  <a:pt x="1010899" y="-1451"/>
                  <a:pt x="882017" y="28786"/>
                  <a:pt x="737350" y="130602"/>
                </a:cubicBezTo>
                <a:cubicBezTo>
                  <a:pt x="943277" y="190863"/>
                  <a:pt x="1091569" y="370605"/>
                  <a:pt x="1091569" y="582598"/>
                </a:cubicBezTo>
                <a:lnTo>
                  <a:pt x="1085273" y="640757"/>
                </a:lnTo>
                <a:lnTo>
                  <a:pt x="755888" y="640756"/>
                </a:lnTo>
                <a:lnTo>
                  <a:pt x="719073" y="640757"/>
                </a:lnTo>
                <a:lnTo>
                  <a:pt x="408284" y="640757"/>
                </a:lnTo>
                <a:cubicBezTo>
                  <a:pt x="424002" y="743453"/>
                  <a:pt x="484447" y="819382"/>
                  <a:pt x="582086" y="819383"/>
                </a:cubicBezTo>
                <a:cubicBezTo>
                  <a:pt x="648673" y="819382"/>
                  <a:pt x="697960" y="784070"/>
                  <a:pt x="725617" y="727992"/>
                </a:cubicBezTo>
                <a:lnTo>
                  <a:pt x="1064773" y="727992"/>
                </a:lnTo>
                <a:cubicBezTo>
                  <a:pt x="1000780" y="921122"/>
                  <a:pt x="807116" y="1060320"/>
                  <a:pt x="578539" y="1060320"/>
                </a:cubicBezTo>
                <a:cubicBezTo>
                  <a:pt x="541437" y="1060319"/>
                  <a:pt x="505255" y="1056652"/>
                  <a:pt x="470646" y="1048435"/>
                </a:cubicBezTo>
                <a:cubicBezTo>
                  <a:pt x="288189" y="1159820"/>
                  <a:pt x="124174" y="1191927"/>
                  <a:pt x="45670" y="1116267"/>
                </a:cubicBezTo>
                <a:cubicBezTo>
                  <a:pt x="-38972" y="1034693"/>
                  <a:pt x="-2092" y="849162"/>
                  <a:pt x="124297" y="645271"/>
                </a:cubicBezTo>
                <a:cubicBezTo>
                  <a:pt x="126384" y="641564"/>
                  <a:pt x="128546" y="637931"/>
                  <a:pt x="130887" y="634433"/>
                </a:cubicBezTo>
                <a:cubicBezTo>
                  <a:pt x="140131" y="616742"/>
                  <a:pt x="151256" y="599735"/>
                  <a:pt x="163296" y="582889"/>
                </a:cubicBezTo>
                <a:cubicBezTo>
                  <a:pt x="171413" y="570408"/>
                  <a:pt x="179765" y="558285"/>
                  <a:pt x="189707" y="547372"/>
                </a:cubicBezTo>
                <a:cubicBezTo>
                  <a:pt x="207410" y="520542"/>
                  <a:pt x="227598" y="494496"/>
                  <a:pt x="249351" y="468810"/>
                </a:cubicBezTo>
                <a:cubicBezTo>
                  <a:pt x="261501" y="453873"/>
                  <a:pt x="274484" y="439223"/>
                  <a:pt x="288439" y="424719"/>
                </a:cubicBezTo>
                <a:cubicBezTo>
                  <a:pt x="304701" y="403895"/>
                  <a:pt x="322841" y="384213"/>
                  <a:pt x="341644" y="364703"/>
                </a:cubicBezTo>
                <a:cubicBezTo>
                  <a:pt x="392793" y="311630"/>
                  <a:pt x="445389" y="263415"/>
                  <a:pt x="498166" y="220924"/>
                </a:cubicBezTo>
                <a:cubicBezTo>
                  <a:pt x="310657" y="309270"/>
                  <a:pt x="183697" y="431706"/>
                  <a:pt x="65845" y="579499"/>
                </a:cubicBezTo>
                <a:cubicBezTo>
                  <a:pt x="67312" y="317087"/>
                  <a:pt x="296312" y="104878"/>
                  <a:pt x="578538" y="104878"/>
                </a:cubicBezTo>
                <a:lnTo>
                  <a:pt x="651994" y="111773"/>
                </a:lnTo>
                <a:cubicBezTo>
                  <a:pt x="764896" y="41979"/>
                  <a:pt x="871117" y="2651"/>
                  <a:pt x="954622" y="129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KSO_Shape"/>
          <p:cNvSpPr/>
          <p:nvPr/>
        </p:nvSpPr>
        <p:spPr>
          <a:xfrm>
            <a:off x="1143000" y="3500280"/>
            <a:ext cx="539640" cy="420840"/>
          </a:xfrm>
          <a:custGeom>
            <a:avLst/>
            <a:gdLst/>
            <a:ahLst/>
            <a:rect l="l" t="t" r="r" b="b"/>
            <a:pathLst>
              <a:path w="3938" h="3063">
                <a:moveTo>
                  <a:pt x="181" y="1510"/>
                </a:moveTo>
                <a:cubicBezTo>
                  <a:pt x="181" y="1597"/>
                  <a:pt x="181" y="1597"/>
                  <a:pt x="181" y="1597"/>
                </a:cubicBezTo>
                <a:cubicBezTo>
                  <a:pt x="1311" y="2418"/>
                  <a:pt x="1311" y="2418"/>
                  <a:pt x="1311" y="2418"/>
                </a:cubicBezTo>
                <a:cubicBezTo>
                  <a:pt x="1311" y="2333"/>
                  <a:pt x="1311" y="2333"/>
                  <a:pt x="1311" y="2333"/>
                </a:cubicBezTo>
                <a:cubicBezTo>
                  <a:pt x="181" y="1510"/>
                  <a:pt x="181" y="1510"/>
                  <a:pt x="181" y="1510"/>
                </a:cubicBezTo>
                <a:close/>
                <a:moveTo>
                  <a:pt x="3061" y="959"/>
                </a:moveTo>
                <a:cubicBezTo>
                  <a:pt x="3074" y="970"/>
                  <a:pt x="3087" y="981"/>
                  <a:pt x="3100" y="992"/>
                </a:cubicBezTo>
                <a:cubicBezTo>
                  <a:pt x="3077" y="1006"/>
                  <a:pt x="3054" y="1021"/>
                  <a:pt x="3031" y="1036"/>
                </a:cubicBezTo>
                <a:cubicBezTo>
                  <a:pt x="3008" y="1052"/>
                  <a:pt x="2985" y="1067"/>
                  <a:pt x="2962" y="1082"/>
                </a:cubicBezTo>
                <a:cubicBezTo>
                  <a:pt x="2948" y="1070"/>
                  <a:pt x="2934" y="1059"/>
                  <a:pt x="2921" y="1047"/>
                </a:cubicBezTo>
                <a:cubicBezTo>
                  <a:pt x="2878" y="1063"/>
                  <a:pt x="2839" y="1069"/>
                  <a:pt x="2805" y="1066"/>
                </a:cubicBezTo>
                <a:cubicBezTo>
                  <a:pt x="2770" y="1063"/>
                  <a:pt x="2739" y="1050"/>
                  <a:pt x="2713" y="1027"/>
                </a:cubicBezTo>
                <a:cubicBezTo>
                  <a:pt x="2668" y="988"/>
                  <a:pt x="2623" y="949"/>
                  <a:pt x="2578" y="910"/>
                </a:cubicBezTo>
                <a:cubicBezTo>
                  <a:pt x="2602" y="896"/>
                  <a:pt x="2626" y="881"/>
                  <a:pt x="2650" y="867"/>
                </a:cubicBezTo>
                <a:cubicBezTo>
                  <a:pt x="2674" y="852"/>
                  <a:pt x="2698" y="837"/>
                  <a:pt x="2721" y="823"/>
                </a:cubicBezTo>
                <a:cubicBezTo>
                  <a:pt x="2766" y="861"/>
                  <a:pt x="2811" y="900"/>
                  <a:pt x="2856" y="938"/>
                </a:cubicBezTo>
                <a:cubicBezTo>
                  <a:pt x="2870" y="950"/>
                  <a:pt x="2886" y="950"/>
                  <a:pt x="2904" y="938"/>
                </a:cubicBezTo>
                <a:cubicBezTo>
                  <a:pt x="2922" y="926"/>
                  <a:pt x="2924" y="915"/>
                  <a:pt x="2911" y="904"/>
                </a:cubicBezTo>
                <a:cubicBezTo>
                  <a:pt x="2888" y="884"/>
                  <a:pt x="2864" y="864"/>
                  <a:pt x="2841" y="844"/>
                </a:cubicBezTo>
                <a:cubicBezTo>
                  <a:pt x="2827" y="832"/>
                  <a:pt x="2805" y="824"/>
                  <a:pt x="2777" y="819"/>
                </a:cubicBezTo>
                <a:cubicBezTo>
                  <a:pt x="2763" y="817"/>
                  <a:pt x="2737" y="814"/>
                  <a:pt x="2698" y="812"/>
                </a:cubicBezTo>
                <a:cubicBezTo>
                  <a:pt x="2659" y="809"/>
                  <a:pt x="2607" y="808"/>
                  <a:pt x="2542" y="803"/>
                </a:cubicBezTo>
                <a:cubicBezTo>
                  <a:pt x="2476" y="799"/>
                  <a:pt x="2430" y="782"/>
                  <a:pt x="2404" y="759"/>
                </a:cubicBezTo>
                <a:cubicBezTo>
                  <a:pt x="2382" y="741"/>
                  <a:pt x="2361" y="722"/>
                  <a:pt x="2340" y="704"/>
                </a:cubicBezTo>
                <a:cubicBezTo>
                  <a:pt x="2311" y="679"/>
                  <a:pt x="2297" y="654"/>
                  <a:pt x="2297" y="629"/>
                </a:cubicBezTo>
                <a:cubicBezTo>
                  <a:pt x="2298" y="604"/>
                  <a:pt x="2314" y="579"/>
                  <a:pt x="2343" y="554"/>
                </a:cubicBezTo>
                <a:cubicBezTo>
                  <a:pt x="2331" y="543"/>
                  <a:pt x="2318" y="532"/>
                  <a:pt x="2305" y="521"/>
                </a:cubicBezTo>
                <a:cubicBezTo>
                  <a:pt x="2329" y="508"/>
                  <a:pt x="2353" y="495"/>
                  <a:pt x="2377" y="481"/>
                </a:cubicBezTo>
                <a:cubicBezTo>
                  <a:pt x="2401" y="468"/>
                  <a:pt x="2424" y="455"/>
                  <a:pt x="2448" y="442"/>
                </a:cubicBezTo>
                <a:cubicBezTo>
                  <a:pt x="2460" y="453"/>
                  <a:pt x="2473" y="464"/>
                  <a:pt x="2485" y="474"/>
                </a:cubicBezTo>
                <a:cubicBezTo>
                  <a:pt x="2521" y="462"/>
                  <a:pt x="2555" y="459"/>
                  <a:pt x="2585" y="463"/>
                </a:cubicBezTo>
                <a:cubicBezTo>
                  <a:pt x="2616" y="468"/>
                  <a:pt x="2643" y="481"/>
                  <a:pt x="2668" y="501"/>
                </a:cubicBezTo>
                <a:cubicBezTo>
                  <a:pt x="2700" y="528"/>
                  <a:pt x="2733" y="555"/>
                  <a:pt x="2765" y="582"/>
                </a:cubicBezTo>
                <a:cubicBezTo>
                  <a:pt x="2743" y="596"/>
                  <a:pt x="2720" y="609"/>
                  <a:pt x="2697" y="623"/>
                </a:cubicBezTo>
                <a:cubicBezTo>
                  <a:pt x="2674" y="636"/>
                  <a:pt x="2651" y="650"/>
                  <a:pt x="2627" y="664"/>
                </a:cubicBezTo>
                <a:cubicBezTo>
                  <a:pt x="2592" y="634"/>
                  <a:pt x="2558" y="605"/>
                  <a:pt x="2523" y="576"/>
                </a:cubicBezTo>
                <a:cubicBezTo>
                  <a:pt x="2512" y="566"/>
                  <a:pt x="2499" y="565"/>
                  <a:pt x="2484" y="574"/>
                </a:cubicBezTo>
                <a:cubicBezTo>
                  <a:pt x="2467" y="584"/>
                  <a:pt x="2468" y="599"/>
                  <a:pt x="2490" y="617"/>
                </a:cubicBezTo>
                <a:cubicBezTo>
                  <a:pt x="2503" y="627"/>
                  <a:pt x="2518" y="636"/>
                  <a:pt x="2530" y="646"/>
                </a:cubicBezTo>
                <a:cubicBezTo>
                  <a:pt x="2552" y="663"/>
                  <a:pt x="2593" y="675"/>
                  <a:pt x="2657" y="679"/>
                </a:cubicBezTo>
                <a:cubicBezTo>
                  <a:pt x="2719" y="683"/>
                  <a:pt x="2770" y="686"/>
                  <a:pt x="2810" y="689"/>
                </a:cubicBezTo>
                <a:cubicBezTo>
                  <a:pt x="2849" y="693"/>
                  <a:pt x="2876" y="696"/>
                  <a:pt x="2893" y="699"/>
                </a:cubicBezTo>
                <a:cubicBezTo>
                  <a:pt x="2925" y="706"/>
                  <a:pt x="2952" y="719"/>
                  <a:pt x="2975" y="737"/>
                </a:cubicBezTo>
                <a:cubicBezTo>
                  <a:pt x="3000" y="758"/>
                  <a:pt x="3025" y="779"/>
                  <a:pt x="3049" y="799"/>
                </a:cubicBezTo>
                <a:cubicBezTo>
                  <a:pt x="3081" y="826"/>
                  <a:pt x="3098" y="852"/>
                  <a:pt x="3100" y="878"/>
                </a:cubicBezTo>
                <a:cubicBezTo>
                  <a:pt x="3101" y="905"/>
                  <a:pt x="3089" y="932"/>
                  <a:pt x="3061" y="959"/>
                </a:cubicBezTo>
                <a:close/>
                <a:moveTo>
                  <a:pt x="1767" y="1674"/>
                </a:moveTo>
                <a:cubicBezTo>
                  <a:pt x="1781" y="1686"/>
                  <a:pt x="1795" y="1698"/>
                  <a:pt x="1810" y="1710"/>
                </a:cubicBezTo>
                <a:cubicBezTo>
                  <a:pt x="1785" y="1726"/>
                  <a:pt x="1759" y="1743"/>
                  <a:pt x="1734" y="1759"/>
                </a:cubicBezTo>
                <a:cubicBezTo>
                  <a:pt x="1709" y="1776"/>
                  <a:pt x="1683" y="1792"/>
                  <a:pt x="1657" y="1809"/>
                </a:cubicBezTo>
                <a:cubicBezTo>
                  <a:pt x="1642" y="1796"/>
                  <a:pt x="1627" y="1784"/>
                  <a:pt x="1612" y="1771"/>
                </a:cubicBezTo>
                <a:cubicBezTo>
                  <a:pt x="1566" y="1788"/>
                  <a:pt x="1523" y="1795"/>
                  <a:pt x="1485" y="1792"/>
                </a:cubicBezTo>
                <a:cubicBezTo>
                  <a:pt x="1446" y="1788"/>
                  <a:pt x="1413" y="1774"/>
                  <a:pt x="1384" y="1749"/>
                </a:cubicBezTo>
                <a:cubicBezTo>
                  <a:pt x="1334" y="1706"/>
                  <a:pt x="1285" y="1663"/>
                  <a:pt x="1235" y="1620"/>
                </a:cubicBezTo>
                <a:cubicBezTo>
                  <a:pt x="1262" y="1604"/>
                  <a:pt x="1288" y="1588"/>
                  <a:pt x="1315" y="1572"/>
                </a:cubicBezTo>
                <a:cubicBezTo>
                  <a:pt x="1341" y="1556"/>
                  <a:pt x="1367" y="1540"/>
                  <a:pt x="1393" y="1524"/>
                </a:cubicBezTo>
                <a:cubicBezTo>
                  <a:pt x="1442" y="1567"/>
                  <a:pt x="1492" y="1609"/>
                  <a:pt x="1541" y="1651"/>
                </a:cubicBezTo>
                <a:cubicBezTo>
                  <a:pt x="1556" y="1664"/>
                  <a:pt x="1574" y="1663"/>
                  <a:pt x="1595" y="1651"/>
                </a:cubicBezTo>
                <a:cubicBezTo>
                  <a:pt x="1614" y="1638"/>
                  <a:pt x="1617" y="1625"/>
                  <a:pt x="1602" y="1613"/>
                </a:cubicBezTo>
                <a:cubicBezTo>
                  <a:pt x="1576" y="1591"/>
                  <a:pt x="1550" y="1570"/>
                  <a:pt x="1525" y="1548"/>
                </a:cubicBezTo>
                <a:cubicBezTo>
                  <a:pt x="1508" y="1534"/>
                  <a:pt x="1485" y="1525"/>
                  <a:pt x="1455" y="1520"/>
                </a:cubicBezTo>
                <a:cubicBezTo>
                  <a:pt x="1439" y="1518"/>
                  <a:pt x="1410" y="1515"/>
                  <a:pt x="1367" y="1512"/>
                </a:cubicBezTo>
                <a:cubicBezTo>
                  <a:pt x="1324" y="1509"/>
                  <a:pt x="1267" y="1508"/>
                  <a:pt x="1196" y="1503"/>
                </a:cubicBezTo>
                <a:cubicBezTo>
                  <a:pt x="1123" y="1497"/>
                  <a:pt x="1072" y="1479"/>
                  <a:pt x="1043" y="1454"/>
                </a:cubicBezTo>
                <a:cubicBezTo>
                  <a:pt x="1020" y="1434"/>
                  <a:pt x="996" y="1414"/>
                  <a:pt x="973" y="1393"/>
                </a:cubicBezTo>
                <a:cubicBezTo>
                  <a:pt x="941" y="1366"/>
                  <a:pt x="925" y="1338"/>
                  <a:pt x="926" y="1310"/>
                </a:cubicBezTo>
                <a:cubicBezTo>
                  <a:pt x="927" y="1283"/>
                  <a:pt x="944" y="1255"/>
                  <a:pt x="977" y="1228"/>
                </a:cubicBezTo>
                <a:cubicBezTo>
                  <a:pt x="963" y="1216"/>
                  <a:pt x="949" y="1204"/>
                  <a:pt x="935" y="1192"/>
                </a:cubicBezTo>
                <a:cubicBezTo>
                  <a:pt x="961" y="1177"/>
                  <a:pt x="988" y="1163"/>
                  <a:pt x="1014" y="1148"/>
                </a:cubicBezTo>
                <a:cubicBezTo>
                  <a:pt x="1040" y="1134"/>
                  <a:pt x="1066" y="1120"/>
                  <a:pt x="1091" y="1105"/>
                </a:cubicBezTo>
                <a:cubicBezTo>
                  <a:pt x="1105" y="1117"/>
                  <a:pt x="1119" y="1129"/>
                  <a:pt x="1133" y="1140"/>
                </a:cubicBezTo>
                <a:cubicBezTo>
                  <a:pt x="1173" y="1127"/>
                  <a:pt x="1210" y="1123"/>
                  <a:pt x="1243" y="1128"/>
                </a:cubicBezTo>
                <a:cubicBezTo>
                  <a:pt x="1276" y="1133"/>
                  <a:pt x="1307" y="1147"/>
                  <a:pt x="1334" y="1170"/>
                </a:cubicBezTo>
                <a:cubicBezTo>
                  <a:pt x="1370" y="1200"/>
                  <a:pt x="1406" y="1230"/>
                  <a:pt x="1441" y="1259"/>
                </a:cubicBezTo>
                <a:cubicBezTo>
                  <a:pt x="1416" y="1274"/>
                  <a:pt x="1391" y="1289"/>
                  <a:pt x="1366" y="1304"/>
                </a:cubicBezTo>
                <a:cubicBezTo>
                  <a:pt x="1341" y="1319"/>
                  <a:pt x="1315" y="1334"/>
                  <a:pt x="1289" y="1349"/>
                </a:cubicBezTo>
                <a:cubicBezTo>
                  <a:pt x="1251" y="1316"/>
                  <a:pt x="1213" y="1284"/>
                  <a:pt x="1175" y="1252"/>
                </a:cubicBezTo>
                <a:cubicBezTo>
                  <a:pt x="1162" y="1241"/>
                  <a:pt x="1148" y="1241"/>
                  <a:pt x="1132" y="1250"/>
                </a:cubicBezTo>
                <a:cubicBezTo>
                  <a:pt x="1113" y="1261"/>
                  <a:pt x="1114" y="1277"/>
                  <a:pt x="1139" y="1297"/>
                </a:cubicBezTo>
                <a:cubicBezTo>
                  <a:pt x="1153" y="1309"/>
                  <a:pt x="1169" y="1318"/>
                  <a:pt x="1183" y="1330"/>
                </a:cubicBezTo>
                <a:cubicBezTo>
                  <a:pt x="1206" y="1349"/>
                  <a:pt x="1252" y="1362"/>
                  <a:pt x="1322" y="1366"/>
                </a:cubicBezTo>
                <a:cubicBezTo>
                  <a:pt x="1391" y="1370"/>
                  <a:pt x="1447" y="1373"/>
                  <a:pt x="1490" y="1377"/>
                </a:cubicBezTo>
                <a:cubicBezTo>
                  <a:pt x="1533" y="1381"/>
                  <a:pt x="1564" y="1384"/>
                  <a:pt x="1581" y="1388"/>
                </a:cubicBezTo>
                <a:cubicBezTo>
                  <a:pt x="1617" y="1395"/>
                  <a:pt x="1647" y="1410"/>
                  <a:pt x="1672" y="1430"/>
                </a:cubicBezTo>
                <a:cubicBezTo>
                  <a:pt x="1699" y="1453"/>
                  <a:pt x="1727" y="1476"/>
                  <a:pt x="1754" y="1498"/>
                </a:cubicBezTo>
                <a:cubicBezTo>
                  <a:pt x="1788" y="1527"/>
                  <a:pt x="1807" y="1556"/>
                  <a:pt x="1809" y="1585"/>
                </a:cubicBezTo>
                <a:cubicBezTo>
                  <a:pt x="1812" y="1614"/>
                  <a:pt x="1797" y="1644"/>
                  <a:pt x="1767" y="1674"/>
                </a:cubicBezTo>
                <a:close/>
                <a:moveTo>
                  <a:pt x="1492" y="2452"/>
                </a:moveTo>
                <a:cubicBezTo>
                  <a:pt x="2354" y="1954"/>
                  <a:pt x="2354" y="1954"/>
                  <a:pt x="2354" y="1954"/>
                </a:cubicBezTo>
                <a:cubicBezTo>
                  <a:pt x="2354" y="1837"/>
                  <a:pt x="2354" y="1837"/>
                  <a:pt x="2354" y="1837"/>
                </a:cubicBezTo>
                <a:cubicBezTo>
                  <a:pt x="1492" y="2339"/>
                  <a:pt x="1492" y="2339"/>
                  <a:pt x="1492" y="2339"/>
                </a:cubicBezTo>
                <a:cubicBezTo>
                  <a:pt x="1492" y="2452"/>
                  <a:pt x="1492" y="2452"/>
                  <a:pt x="1492" y="2452"/>
                </a:cubicBezTo>
                <a:close/>
                <a:moveTo>
                  <a:pt x="2822" y="1684"/>
                </a:moveTo>
                <a:cubicBezTo>
                  <a:pt x="3756" y="1143"/>
                  <a:pt x="3756" y="1143"/>
                  <a:pt x="3756" y="1143"/>
                </a:cubicBezTo>
                <a:cubicBezTo>
                  <a:pt x="3756" y="1021"/>
                  <a:pt x="3756" y="1021"/>
                  <a:pt x="3756" y="1021"/>
                </a:cubicBezTo>
                <a:cubicBezTo>
                  <a:pt x="2818" y="1567"/>
                  <a:pt x="2818" y="1567"/>
                  <a:pt x="2818" y="1567"/>
                </a:cubicBezTo>
                <a:cubicBezTo>
                  <a:pt x="2822" y="1684"/>
                  <a:pt x="2822" y="1684"/>
                  <a:pt x="2822" y="1684"/>
                </a:cubicBezTo>
                <a:close/>
                <a:moveTo>
                  <a:pt x="3756" y="1199"/>
                </a:moveTo>
                <a:cubicBezTo>
                  <a:pt x="3756" y="1302"/>
                  <a:pt x="3756" y="1302"/>
                  <a:pt x="3756" y="1302"/>
                </a:cubicBezTo>
                <a:cubicBezTo>
                  <a:pt x="2826" y="1840"/>
                  <a:pt x="2826" y="1840"/>
                  <a:pt x="2826" y="1840"/>
                </a:cubicBezTo>
                <a:cubicBezTo>
                  <a:pt x="2823" y="1738"/>
                  <a:pt x="2823" y="1738"/>
                  <a:pt x="2823" y="1738"/>
                </a:cubicBezTo>
                <a:cubicBezTo>
                  <a:pt x="3756" y="1199"/>
                  <a:pt x="3756" y="1199"/>
                  <a:pt x="3756" y="1199"/>
                </a:cubicBezTo>
                <a:close/>
                <a:moveTo>
                  <a:pt x="2354" y="2010"/>
                </a:moveTo>
                <a:cubicBezTo>
                  <a:pt x="2354" y="2113"/>
                  <a:pt x="2354" y="2113"/>
                  <a:pt x="2354" y="2113"/>
                </a:cubicBezTo>
                <a:cubicBezTo>
                  <a:pt x="1491" y="2612"/>
                  <a:pt x="1491" y="2612"/>
                  <a:pt x="1491" y="2612"/>
                </a:cubicBezTo>
                <a:cubicBezTo>
                  <a:pt x="1492" y="2508"/>
                  <a:pt x="1492" y="2508"/>
                  <a:pt x="1492" y="2508"/>
                </a:cubicBezTo>
                <a:cubicBezTo>
                  <a:pt x="2354" y="2010"/>
                  <a:pt x="2354" y="2010"/>
                  <a:pt x="2354" y="2010"/>
                </a:cubicBezTo>
                <a:close/>
                <a:moveTo>
                  <a:pt x="3756" y="1358"/>
                </a:moveTo>
                <a:cubicBezTo>
                  <a:pt x="3756" y="1462"/>
                  <a:pt x="3756" y="1462"/>
                  <a:pt x="3756" y="1462"/>
                </a:cubicBezTo>
                <a:cubicBezTo>
                  <a:pt x="2831" y="2006"/>
                  <a:pt x="2831" y="2006"/>
                  <a:pt x="2831" y="2006"/>
                </a:cubicBezTo>
                <a:cubicBezTo>
                  <a:pt x="2828" y="1894"/>
                  <a:pt x="2828" y="1894"/>
                  <a:pt x="2828" y="1894"/>
                </a:cubicBezTo>
                <a:cubicBezTo>
                  <a:pt x="3756" y="1358"/>
                  <a:pt x="3756" y="1358"/>
                  <a:pt x="3756" y="1358"/>
                </a:cubicBezTo>
                <a:close/>
                <a:moveTo>
                  <a:pt x="2354" y="2169"/>
                </a:moveTo>
                <a:cubicBezTo>
                  <a:pt x="2354" y="2288"/>
                  <a:pt x="2354" y="2288"/>
                  <a:pt x="2354" y="2288"/>
                </a:cubicBezTo>
                <a:cubicBezTo>
                  <a:pt x="1491" y="2795"/>
                  <a:pt x="1491" y="2795"/>
                  <a:pt x="1491" y="2795"/>
                </a:cubicBezTo>
                <a:cubicBezTo>
                  <a:pt x="1491" y="2667"/>
                  <a:pt x="1491" y="2667"/>
                  <a:pt x="1491" y="2667"/>
                </a:cubicBezTo>
                <a:cubicBezTo>
                  <a:pt x="2354" y="2169"/>
                  <a:pt x="2354" y="2169"/>
                  <a:pt x="2354" y="2169"/>
                </a:cubicBezTo>
                <a:close/>
                <a:moveTo>
                  <a:pt x="181" y="1657"/>
                </a:moveTo>
                <a:cubicBezTo>
                  <a:pt x="1311" y="2478"/>
                  <a:pt x="1311" y="2478"/>
                  <a:pt x="1311" y="2478"/>
                </a:cubicBezTo>
                <a:cubicBezTo>
                  <a:pt x="1311" y="2577"/>
                  <a:pt x="1311" y="2577"/>
                  <a:pt x="1311" y="2577"/>
                </a:cubicBezTo>
                <a:cubicBezTo>
                  <a:pt x="181" y="1756"/>
                  <a:pt x="181" y="1756"/>
                  <a:pt x="181" y="1756"/>
                </a:cubicBezTo>
                <a:cubicBezTo>
                  <a:pt x="181" y="1657"/>
                  <a:pt x="181" y="1657"/>
                  <a:pt x="181" y="1657"/>
                </a:cubicBezTo>
                <a:close/>
                <a:moveTo>
                  <a:pt x="181" y="1816"/>
                </a:moveTo>
                <a:cubicBezTo>
                  <a:pt x="1311" y="2637"/>
                  <a:pt x="1311" y="2637"/>
                  <a:pt x="1311" y="2637"/>
                </a:cubicBezTo>
                <a:cubicBezTo>
                  <a:pt x="1311" y="2768"/>
                  <a:pt x="1311" y="2768"/>
                  <a:pt x="1311" y="2768"/>
                </a:cubicBezTo>
                <a:cubicBezTo>
                  <a:pt x="181" y="1890"/>
                  <a:pt x="181" y="1890"/>
                  <a:pt x="181" y="1890"/>
                </a:cubicBezTo>
                <a:cubicBezTo>
                  <a:pt x="181" y="1816"/>
                  <a:pt x="181" y="1816"/>
                  <a:pt x="181" y="1816"/>
                </a:cubicBezTo>
                <a:close/>
                <a:moveTo>
                  <a:pt x="2354" y="2497"/>
                </a:moveTo>
                <a:cubicBezTo>
                  <a:pt x="1397" y="3063"/>
                  <a:pt x="1397" y="3063"/>
                  <a:pt x="1397" y="3063"/>
                </a:cubicBezTo>
                <a:cubicBezTo>
                  <a:pt x="0" y="1978"/>
                  <a:pt x="0" y="1978"/>
                  <a:pt x="0" y="1978"/>
                </a:cubicBezTo>
                <a:cubicBezTo>
                  <a:pt x="0" y="1935"/>
                  <a:pt x="0" y="1935"/>
                  <a:pt x="0" y="1935"/>
                </a:cubicBezTo>
                <a:cubicBezTo>
                  <a:pt x="0" y="1277"/>
                  <a:pt x="0" y="1277"/>
                  <a:pt x="0" y="1277"/>
                </a:cubicBezTo>
                <a:cubicBezTo>
                  <a:pt x="1127" y="720"/>
                  <a:pt x="1127" y="720"/>
                  <a:pt x="1127" y="720"/>
                </a:cubicBezTo>
                <a:cubicBezTo>
                  <a:pt x="1094" y="696"/>
                  <a:pt x="1076" y="683"/>
                  <a:pt x="1078" y="686"/>
                </a:cubicBezTo>
                <a:cubicBezTo>
                  <a:pt x="1521" y="446"/>
                  <a:pt x="1521" y="446"/>
                  <a:pt x="1521" y="446"/>
                </a:cubicBezTo>
                <a:cubicBezTo>
                  <a:pt x="1586" y="493"/>
                  <a:pt x="1586" y="493"/>
                  <a:pt x="1586" y="493"/>
                </a:cubicBezTo>
                <a:cubicBezTo>
                  <a:pt x="2585" y="0"/>
                  <a:pt x="2585" y="0"/>
                  <a:pt x="2585" y="0"/>
                </a:cubicBezTo>
                <a:cubicBezTo>
                  <a:pt x="3938" y="816"/>
                  <a:pt x="3938" y="816"/>
                  <a:pt x="3938" y="816"/>
                </a:cubicBezTo>
                <a:cubicBezTo>
                  <a:pt x="3938" y="1568"/>
                  <a:pt x="3938" y="1568"/>
                  <a:pt x="3938" y="1568"/>
                </a:cubicBezTo>
                <a:cubicBezTo>
                  <a:pt x="2838" y="2212"/>
                  <a:pt x="2838" y="2212"/>
                  <a:pt x="2838" y="2212"/>
                </a:cubicBezTo>
                <a:cubicBezTo>
                  <a:pt x="2839" y="2273"/>
                  <a:pt x="2839" y="2273"/>
                  <a:pt x="2839" y="2273"/>
                </a:cubicBezTo>
                <a:cubicBezTo>
                  <a:pt x="2354" y="2557"/>
                  <a:pt x="2354" y="2557"/>
                  <a:pt x="2354" y="2557"/>
                </a:cubicBezTo>
                <a:cubicBezTo>
                  <a:pt x="2354" y="2497"/>
                  <a:pt x="2354" y="2497"/>
                  <a:pt x="2354" y="2497"/>
                </a:cubicBezTo>
                <a:close/>
                <a:moveTo>
                  <a:pt x="1290" y="841"/>
                </a:moveTo>
                <a:cubicBezTo>
                  <a:pt x="1597" y="1071"/>
                  <a:pt x="2147" y="1491"/>
                  <a:pt x="2338" y="1637"/>
                </a:cubicBezTo>
                <a:cubicBezTo>
                  <a:pt x="1407" y="2179"/>
                  <a:pt x="1407" y="2179"/>
                  <a:pt x="1407" y="2179"/>
                </a:cubicBezTo>
                <a:cubicBezTo>
                  <a:pt x="265" y="1347"/>
                  <a:pt x="265" y="1347"/>
                  <a:pt x="265" y="1347"/>
                </a:cubicBezTo>
                <a:cubicBezTo>
                  <a:pt x="1290" y="841"/>
                  <a:pt x="1290" y="841"/>
                  <a:pt x="1290" y="841"/>
                </a:cubicBezTo>
                <a:close/>
                <a:moveTo>
                  <a:pt x="2794" y="1372"/>
                </a:moveTo>
                <a:cubicBezTo>
                  <a:pt x="3669" y="863"/>
                  <a:pt x="3669" y="863"/>
                  <a:pt x="3669" y="863"/>
                </a:cubicBezTo>
                <a:cubicBezTo>
                  <a:pt x="2579" y="204"/>
                  <a:pt x="2579" y="204"/>
                  <a:pt x="2579" y="204"/>
                </a:cubicBezTo>
                <a:cubicBezTo>
                  <a:pt x="1751" y="613"/>
                  <a:pt x="1751" y="613"/>
                  <a:pt x="1751" y="613"/>
                </a:cubicBezTo>
                <a:lnTo>
                  <a:pt x="2794" y="137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KSO_Shape"/>
          <p:cNvSpPr/>
          <p:nvPr/>
        </p:nvSpPr>
        <p:spPr>
          <a:xfrm>
            <a:off x="1143000" y="2286000"/>
            <a:ext cx="419040" cy="571680"/>
          </a:xfrm>
          <a:custGeom>
            <a:avLst/>
            <a:gdLst/>
            <a:ahLst/>
            <a:rect l="l" t="t" r="r" b="b"/>
            <a:pathLst>
              <a:path w="1727200" h="2355851">
                <a:moveTo>
                  <a:pt x="1251043" y="2284413"/>
                </a:moveTo>
                <a:lnTo>
                  <a:pt x="1346200" y="2284413"/>
                </a:lnTo>
                <a:lnTo>
                  <a:pt x="1345016" y="2287238"/>
                </a:lnTo>
                <a:lnTo>
                  <a:pt x="1345410" y="2288853"/>
                </a:lnTo>
                <a:lnTo>
                  <a:pt x="1345410" y="2291275"/>
                </a:lnTo>
                <a:lnTo>
                  <a:pt x="1345805" y="2294503"/>
                </a:lnTo>
                <a:lnTo>
                  <a:pt x="1345410" y="2299347"/>
                </a:lnTo>
                <a:lnTo>
                  <a:pt x="1345016" y="2305804"/>
                </a:lnTo>
                <a:lnTo>
                  <a:pt x="1343831" y="2313473"/>
                </a:lnTo>
                <a:lnTo>
                  <a:pt x="1341857" y="2322756"/>
                </a:lnTo>
                <a:lnTo>
                  <a:pt x="1340278" y="2323159"/>
                </a:lnTo>
                <a:lnTo>
                  <a:pt x="1337908" y="2323563"/>
                </a:lnTo>
                <a:lnTo>
                  <a:pt x="1331986" y="2324774"/>
                </a:lnTo>
                <a:lnTo>
                  <a:pt x="1320930" y="2325177"/>
                </a:lnTo>
                <a:lnTo>
                  <a:pt x="1320535" y="2324774"/>
                </a:lnTo>
                <a:lnTo>
                  <a:pt x="1319746" y="2324774"/>
                </a:lnTo>
                <a:lnTo>
                  <a:pt x="1319351" y="2323159"/>
                </a:lnTo>
                <a:lnTo>
                  <a:pt x="1318561" y="2321948"/>
                </a:lnTo>
                <a:lnTo>
                  <a:pt x="1318166" y="2321141"/>
                </a:lnTo>
                <a:lnTo>
                  <a:pt x="1316982" y="2320334"/>
                </a:lnTo>
                <a:lnTo>
                  <a:pt x="1315008" y="2320334"/>
                </a:lnTo>
                <a:lnTo>
                  <a:pt x="1312639" y="2321545"/>
                </a:lnTo>
                <a:lnTo>
                  <a:pt x="1308295" y="2323966"/>
                </a:lnTo>
                <a:lnTo>
                  <a:pt x="1299214" y="2330828"/>
                </a:lnTo>
                <a:lnTo>
                  <a:pt x="1290133" y="2336882"/>
                </a:lnTo>
                <a:lnTo>
                  <a:pt x="1279867" y="2342936"/>
                </a:lnTo>
                <a:lnTo>
                  <a:pt x="1274339" y="2345761"/>
                </a:lnTo>
                <a:lnTo>
                  <a:pt x="1269601" y="2347779"/>
                </a:lnTo>
                <a:lnTo>
                  <a:pt x="1263678" y="2349797"/>
                </a:lnTo>
                <a:lnTo>
                  <a:pt x="1257756" y="2351412"/>
                </a:lnTo>
                <a:lnTo>
                  <a:pt x="1251833" y="2353430"/>
                </a:lnTo>
                <a:lnTo>
                  <a:pt x="1245516" y="2354237"/>
                </a:lnTo>
                <a:lnTo>
                  <a:pt x="1238803" y="2355044"/>
                </a:lnTo>
                <a:lnTo>
                  <a:pt x="1231696" y="2355851"/>
                </a:lnTo>
                <a:lnTo>
                  <a:pt x="1224589" y="2355851"/>
                </a:lnTo>
                <a:lnTo>
                  <a:pt x="1217087" y="2355448"/>
                </a:lnTo>
                <a:lnTo>
                  <a:pt x="1210770" y="2354640"/>
                </a:lnTo>
                <a:lnTo>
                  <a:pt x="1205637" y="2353833"/>
                </a:lnTo>
                <a:lnTo>
                  <a:pt x="1201688" y="2352622"/>
                </a:lnTo>
                <a:lnTo>
                  <a:pt x="1198135" y="2350604"/>
                </a:lnTo>
                <a:lnTo>
                  <a:pt x="1195766" y="2348990"/>
                </a:lnTo>
                <a:lnTo>
                  <a:pt x="1193791" y="2346972"/>
                </a:lnTo>
                <a:lnTo>
                  <a:pt x="1192607" y="2344147"/>
                </a:lnTo>
                <a:lnTo>
                  <a:pt x="1192212" y="2342129"/>
                </a:lnTo>
                <a:lnTo>
                  <a:pt x="1192607" y="2339303"/>
                </a:lnTo>
                <a:lnTo>
                  <a:pt x="1193397" y="2336478"/>
                </a:lnTo>
                <a:lnTo>
                  <a:pt x="1194976" y="2333653"/>
                </a:lnTo>
                <a:lnTo>
                  <a:pt x="1196555" y="2330424"/>
                </a:lnTo>
                <a:lnTo>
                  <a:pt x="1198924" y="2327195"/>
                </a:lnTo>
                <a:lnTo>
                  <a:pt x="1201688" y="2323966"/>
                </a:lnTo>
                <a:lnTo>
                  <a:pt x="1207216" y="2317912"/>
                </a:lnTo>
                <a:lnTo>
                  <a:pt x="1213928" y="2311455"/>
                </a:lnTo>
                <a:lnTo>
                  <a:pt x="1221825" y="2305401"/>
                </a:lnTo>
                <a:lnTo>
                  <a:pt x="1228932" y="2299750"/>
                </a:lnTo>
                <a:lnTo>
                  <a:pt x="1235645" y="2294503"/>
                </a:lnTo>
                <a:lnTo>
                  <a:pt x="1246305" y="2287238"/>
                </a:lnTo>
                <a:lnTo>
                  <a:pt x="1251043" y="2284413"/>
                </a:lnTo>
                <a:close/>
                <a:moveTo>
                  <a:pt x="1054800" y="2279650"/>
                </a:moveTo>
                <a:lnTo>
                  <a:pt x="1150937" y="2279650"/>
                </a:lnTo>
                <a:lnTo>
                  <a:pt x="1149740" y="2282428"/>
                </a:lnTo>
                <a:lnTo>
                  <a:pt x="1150139" y="2284413"/>
                </a:lnTo>
                <a:lnTo>
                  <a:pt x="1150139" y="2286397"/>
                </a:lnTo>
                <a:lnTo>
                  <a:pt x="1150538" y="2289572"/>
                </a:lnTo>
                <a:lnTo>
                  <a:pt x="1150538" y="2294335"/>
                </a:lnTo>
                <a:lnTo>
                  <a:pt x="1149740" y="2300288"/>
                </a:lnTo>
                <a:lnTo>
                  <a:pt x="1148544" y="2307828"/>
                </a:lnTo>
                <a:lnTo>
                  <a:pt x="1146948" y="2316956"/>
                </a:lnTo>
                <a:lnTo>
                  <a:pt x="1144953" y="2318147"/>
                </a:lnTo>
                <a:lnTo>
                  <a:pt x="1142560" y="2318544"/>
                </a:lnTo>
                <a:lnTo>
                  <a:pt x="1136576" y="2318941"/>
                </a:lnTo>
                <a:lnTo>
                  <a:pt x="1125407" y="2319338"/>
                </a:lnTo>
                <a:lnTo>
                  <a:pt x="1125008" y="2319338"/>
                </a:lnTo>
                <a:lnTo>
                  <a:pt x="1124609" y="2319338"/>
                </a:lnTo>
                <a:lnTo>
                  <a:pt x="1123811" y="2318147"/>
                </a:lnTo>
                <a:lnTo>
                  <a:pt x="1123412" y="2316560"/>
                </a:lnTo>
                <a:lnTo>
                  <a:pt x="1122615" y="2315369"/>
                </a:lnTo>
                <a:lnTo>
                  <a:pt x="1121418" y="2314972"/>
                </a:lnTo>
                <a:lnTo>
                  <a:pt x="1119822" y="2314972"/>
                </a:lnTo>
                <a:lnTo>
                  <a:pt x="1117030" y="2315766"/>
                </a:lnTo>
                <a:lnTo>
                  <a:pt x="1113041" y="2318941"/>
                </a:lnTo>
                <a:lnTo>
                  <a:pt x="1103467" y="2325291"/>
                </a:lnTo>
                <a:lnTo>
                  <a:pt x="1094292" y="2331641"/>
                </a:lnTo>
                <a:lnTo>
                  <a:pt x="1083920" y="2336800"/>
                </a:lnTo>
                <a:lnTo>
                  <a:pt x="1079133" y="2339578"/>
                </a:lnTo>
                <a:lnTo>
                  <a:pt x="1073549" y="2341960"/>
                </a:lnTo>
                <a:lnTo>
                  <a:pt x="1067565" y="2343944"/>
                </a:lnTo>
                <a:lnTo>
                  <a:pt x="1061581" y="2345928"/>
                </a:lnTo>
                <a:lnTo>
                  <a:pt x="1055598" y="2347119"/>
                </a:lnTo>
                <a:lnTo>
                  <a:pt x="1049215" y="2348310"/>
                </a:lnTo>
                <a:lnTo>
                  <a:pt x="1042434" y="2349103"/>
                </a:lnTo>
                <a:lnTo>
                  <a:pt x="1035652" y="2349500"/>
                </a:lnTo>
                <a:lnTo>
                  <a:pt x="1028073" y="2349500"/>
                </a:lnTo>
                <a:lnTo>
                  <a:pt x="1020493" y="2349500"/>
                </a:lnTo>
                <a:lnTo>
                  <a:pt x="1014111" y="2348706"/>
                </a:lnTo>
                <a:lnTo>
                  <a:pt x="1008925" y="2347913"/>
                </a:lnTo>
                <a:lnTo>
                  <a:pt x="1004936" y="2346722"/>
                </a:lnTo>
                <a:lnTo>
                  <a:pt x="1001346" y="2345135"/>
                </a:lnTo>
                <a:lnTo>
                  <a:pt x="998952" y="2342753"/>
                </a:lnTo>
                <a:lnTo>
                  <a:pt x="997357" y="2341166"/>
                </a:lnTo>
                <a:lnTo>
                  <a:pt x="995761" y="2338785"/>
                </a:lnTo>
                <a:lnTo>
                  <a:pt x="995362" y="2336006"/>
                </a:lnTo>
                <a:lnTo>
                  <a:pt x="995761" y="2333625"/>
                </a:lnTo>
                <a:lnTo>
                  <a:pt x="996958" y="2330847"/>
                </a:lnTo>
                <a:lnTo>
                  <a:pt x="998154" y="2328069"/>
                </a:lnTo>
                <a:lnTo>
                  <a:pt x="999750" y="2325291"/>
                </a:lnTo>
                <a:lnTo>
                  <a:pt x="1002144" y="2321719"/>
                </a:lnTo>
                <a:lnTo>
                  <a:pt x="1004936" y="2318941"/>
                </a:lnTo>
                <a:lnTo>
                  <a:pt x="1010920" y="2312591"/>
                </a:lnTo>
                <a:lnTo>
                  <a:pt x="1017701" y="2306241"/>
                </a:lnTo>
                <a:lnTo>
                  <a:pt x="1025280" y="2300288"/>
                </a:lnTo>
                <a:lnTo>
                  <a:pt x="1032461" y="2294731"/>
                </a:lnTo>
                <a:lnTo>
                  <a:pt x="1039242" y="2289572"/>
                </a:lnTo>
                <a:lnTo>
                  <a:pt x="1050013" y="2282031"/>
                </a:lnTo>
                <a:lnTo>
                  <a:pt x="1054800" y="2279650"/>
                </a:lnTo>
                <a:close/>
                <a:moveTo>
                  <a:pt x="214312" y="2259013"/>
                </a:moveTo>
                <a:lnTo>
                  <a:pt x="309863" y="2259013"/>
                </a:lnTo>
                <a:lnTo>
                  <a:pt x="314207" y="2261449"/>
                </a:lnTo>
                <a:lnTo>
                  <a:pt x="324867" y="2269161"/>
                </a:lnTo>
                <a:lnTo>
                  <a:pt x="331580" y="2274031"/>
                </a:lnTo>
                <a:lnTo>
                  <a:pt x="339082" y="2280120"/>
                </a:lnTo>
                <a:lnTo>
                  <a:pt x="346584" y="2286208"/>
                </a:lnTo>
                <a:lnTo>
                  <a:pt x="353296" y="2292703"/>
                </a:lnTo>
                <a:lnTo>
                  <a:pt x="359219" y="2299197"/>
                </a:lnTo>
                <a:lnTo>
                  <a:pt x="361982" y="2302038"/>
                </a:lnTo>
                <a:lnTo>
                  <a:pt x="363957" y="2305286"/>
                </a:lnTo>
                <a:lnTo>
                  <a:pt x="365536" y="2308127"/>
                </a:lnTo>
                <a:lnTo>
                  <a:pt x="367115" y="2311374"/>
                </a:lnTo>
                <a:lnTo>
                  <a:pt x="367905" y="2314215"/>
                </a:lnTo>
                <a:lnTo>
                  <a:pt x="368300" y="2316651"/>
                </a:lnTo>
                <a:lnTo>
                  <a:pt x="367905" y="2319492"/>
                </a:lnTo>
                <a:lnTo>
                  <a:pt x="367115" y="2321521"/>
                </a:lnTo>
                <a:lnTo>
                  <a:pt x="364746" y="2323551"/>
                </a:lnTo>
                <a:lnTo>
                  <a:pt x="362377" y="2325986"/>
                </a:lnTo>
                <a:lnTo>
                  <a:pt x="358824" y="2327204"/>
                </a:lnTo>
                <a:lnTo>
                  <a:pt x="354875" y="2328422"/>
                </a:lnTo>
                <a:lnTo>
                  <a:pt x="349742" y="2329639"/>
                </a:lnTo>
                <a:lnTo>
                  <a:pt x="343425" y="2330045"/>
                </a:lnTo>
                <a:lnTo>
                  <a:pt x="335923" y="2330451"/>
                </a:lnTo>
                <a:lnTo>
                  <a:pt x="328816" y="2330451"/>
                </a:lnTo>
                <a:lnTo>
                  <a:pt x="321709" y="2330045"/>
                </a:lnTo>
                <a:lnTo>
                  <a:pt x="315391" y="2329234"/>
                </a:lnTo>
                <a:lnTo>
                  <a:pt x="308679" y="2328016"/>
                </a:lnTo>
                <a:lnTo>
                  <a:pt x="302756" y="2326798"/>
                </a:lnTo>
                <a:lnTo>
                  <a:pt x="296834" y="2324363"/>
                </a:lnTo>
                <a:lnTo>
                  <a:pt x="291306" y="2322739"/>
                </a:lnTo>
                <a:lnTo>
                  <a:pt x="286173" y="2320304"/>
                </a:lnTo>
                <a:lnTo>
                  <a:pt x="281040" y="2317463"/>
                </a:lnTo>
                <a:lnTo>
                  <a:pt x="270774" y="2312186"/>
                </a:lnTo>
                <a:lnTo>
                  <a:pt x="261298" y="2305691"/>
                </a:lnTo>
                <a:lnTo>
                  <a:pt x="252612" y="2299197"/>
                </a:lnTo>
                <a:lnTo>
                  <a:pt x="248268" y="2295950"/>
                </a:lnTo>
                <a:lnTo>
                  <a:pt x="245504" y="2294732"/>
                </a:lnTo>
                <a:lnTo>
                  <a:pt x="243530" y="2294732"/>
                </a:lnTo>
                <a:lnTo>
                  <a:pt x="242346" y="2295544"/>
                </a:lnTo>
                <a:lnTo>
                  <a:pt x="241951" y="2296762"/>
                </a:lnTo>
                <a:lnTo>
                  <a:pt x="241556" y="2298385"/>
                </a:lnTo>
                <a:lnTo>
                  <a:pt x="240766" y="2299197"/>
                </a:lnTo>
                <a:lnTo>
                  <a:pt x="240371" y="2299603"/>
                </a:lnTo>
                <a:lnTo>
                  <a:pt x="239582" y="2299603"/>
                </a:lnTo>
                <a:lnTo>
                  <a:pt x="228526" y="2299197"/>
                </a:lnTo>
                <a:lnTo>
                  <a:pt x="222604" y="2298791"/>
                </a:lnTo>
                <a:lnTo>
                  <a:pt x="220629" y="2298385"/>
                </a:lnTo>
                <a:lnTo>
                  <a:pt x="219050" y="2297574"/>
                </a:lnTo>
                <a:lnTo>
                  <a:pt x="216681" y="2287832"/>
                </a:lnTo>
                <a:lnTo>
                  <a:pt x="215496" y="2280120"/>
                </a:lnTo>
                <a:lnTo>
                  <a:pt x="215102" y="2274031"/>
                </a:lnTo>
                <a:lnTo>
                  <a:pt x="215102" y="2269161"/>
                </a:lnTo>
                <a:lnTo>
                  <a:pt x="215102" y="2265914"/>
                </a:lnTo>
                <a:lnTo>
                  <a:pt x="215496" y="2263478"/>
                </a:lnTo>
                <a:lnTo>
                  <a:pt x="215891" y="2261449"/>
                </a:lnTo>
                <a:lnTo>
                  <a:pt x="214312" y="2259013"/>
                </a:lnTo>
                <a:close/>
                <a:moveTo>
                  <a:pt x="387350" y="2254250"/>
                </a:moveTo>
                <a:lnTo>
                  <a:pt x="482901" y="2254250"/>
                </a:lnTo>
                <a:lnTo>
                  <a:pt x="487245" y="2257390"/>
                </a:lnTo>
                <a:lnTo>
                  <a:pt x="498300" y="2264453"/>
                </a:lnTo>
                <a:lnTo>
                  <a:pt x="505013" y="2269162"/>
                </a:lnTo>
                <a:lnTo>
                  <a:pt x="512120" y="2274656"/>
                </a:lnTo>
                <a:lnTo>
                  <a:pt x="519622" y="2280935"/>
                </a:lnTo>
                <a:lnTo>
                  <a:pt x="526334" y="2286821"/>
                </a:lnTo>
                <a:lnTo>
                  <a:pt x="532257" y="2293099"/>
                </a:lnTo>
                <a:lnTo>
                  <a:pt x="534626" y="2296239"/>
                </a:lnTo>
                <a:lnTo>
                  <a:pt x="537390" y="2299378"/>
                </a:lnTo>
                <a:lnTo>
                  <a:pt x="538969" y="2302125"/>
                </a:lnTo>
                <a:lnTo>
                  <a:pt x="540153" y="2305264"/>
                </a:lnTo>
                <a:lnTo>
                  <a:pt x="540943" y="2308011"/>
                </a:lnTo>
                <a:lnTo>
                  <a:pt x="541338" y="2310758"/>
                </a:lnTo>
                <a:lnTo>
                  <a:pt x="540943" y="2313113"/>
                </a:lnTo>
                <a:lnTo>
                  <a:pt x="539759" y="2315075"/>
                </a:lnTo>
                <a:lnTo>
                  <a:pt x="538179" y="2317429"/>
                </a:lnTo>
                <a:lnTo>
                  <a:pt x="535415" y="2318999"/>
                </a:lnTo>
                <a:lnTo>
                  <a:pt x="532257" y="2320569"/>
                </a:lnTo>
                <a:lnTo>
                  <a:pt x="527913" y="2321746"/>
                </a:lnTo>
                <a:lnTo>
                  <a:pt x="523175" y="2322923"/>
                </a:lnTo>
                <a:lnTo>
                  <a:pt x="516858" y="2323315"/>
                </a:lnTo>
                <a:lnTo>
                  <a:pt x="509356" y="2324100"/>
                </a:lnTo>
                <a:lnTo>
                  <a:pt x="501459" y="2324100"/>
                </a:lnTo>
                <a:lnTo>
                  <a:pt x="494747" y="2323315"/>
                </a:lnTo>
                <a:lnTo>
                  <a:pt x="488034" y="2322531"/>
                </a:lnTo>
                <a:lnTo>
                  <a:pt x="481717" y="2321353"/>
                </a:lnTo>
                <a:lnTo>
                  <a:pt x="476189" y="2319784"/>
                </a:lnTo>
                <a:lnTo>
                  <a:pt x="470267" y="2318214"/>
                </a:lnTo>
                <a:lnTo>
                  <a:pt x="464344" y="2315860"/>
                </a:lnTo>
                <a:lnTo>
                  <a:pt x="459211" y="2313897"/>
                </a:lnTo>
                <a:lnTo>
                  <a:pt x="453683" y="2311543"/>
                </a:lnTo>
                <a:lnTo>
                  <a:pt x="443812" y="2306049"/>
                </a:lnTo>
                <a:lnTo>
                  <a:pt x="434336" y="2299770"/>
                </a:lnTo>
                <a:lnTo>
                  <a:pt x="425255" y="2293099"/>
                </a:lnTo>
                <a:lnTo>
                  <a:pt x="420911" y="2290745"/>
                </a:lnTo>
                <a:lnTo>
                  <a:pt x="418542" y="2289175"/>
                </a:lnTo>
                <a:lnTo>
                  <a:pt x="416963" y="2289175"/>
                </a:lnTo>
                <a:lnTo>
                  <a:pt x="415778" y="2289960"/>
                </a:lnTo>
                <a:lnTo>
                  <a:pt x="415384" y="2291530"/>
                </a:lnTo>
                <a:lnTo>
                  <a:pt x="414199" y="2292707"/>
                </a:lnTo>
                <a:lnTo>
                  <a:pt x="413409" y="2293492"/>
                </a:lnTo>
                <a:lnTo>
                  <a:pt x="413015" y="2293884"/>
                </a:lnTo>
                <a:lnTo>
                  <a:pt x="412620" y="2293884"/>
                </a:lnTo>
                <a:lnTo>
                  <a:pt x="401959" y="2293492"/>
                </a:lnTo>
                <a:lnTo>
                  <a:pt x="396036" y="2293099"/>
                </a:lnTo>
                <a:lnTo>
                  <a:pt x="393273" y="2292315"/>
                </a:lnTo>
                <a:lnTo>
                  <a:pt x="391693" y="2291922"/>
                </a:lnTo>
                <a:lnTo>
                  <a:pt x="390114" y="2282504"/>
                </a:lnTo>
                <a:lnTo>
                  <a:pt x="388929" y="2275048"/>
                </a:lnTo>
                <a:lnTo>
                  <a:pt x="388140" y="2269162"/>
                </a:lnTo>
                <a:lnTo>
                  <a:pt x="388140" y="2264845"/>
                </a:lnTo>
                <a:lnTo>
                  <a:pt x="388534" y="2261314"/>
                </a:lnTo>
                <a:lnTo>
                  <a:pt x="388534" y="2258959"/>
                </a:lnTo>
                <a:lnTo>
                  <a:pt x="388929" y="2257390"/>
                </a:lnTo>
                <a:lnTo>
                  <a:pt x="387350" y="2254250"/>
                </a:lnTo>
                <a:close/>
                <a:moveTo>
                  <a:pt x="1427162" y="1922463"/>
                </a:moveTo>
                <a:lnTo>
                  <a:pt x="1564119" y="1922463"/>
                </a:lnTo>
                <a:lnTo>
                  <a:pt x="1564119" y="1952298"/>
                </a:lnTo>
                <a:lnTo>
                  <a:pt x="1564515" y="1953094"/>
                </a:lnTo>
                <a:lnTo>
                  <a:pt x="1565306" y="1953889"/>
                </a:lnTo>
                <a:lnTo>
                  <a:pt x="1567285" y="1955083"/>
                </a:lnTo>
                <a:lnTo>
                  <a:pt x="1569265" y="1955878"/>
                </a:lnTo>
                <a:lnTo>
                  <a:pt x="1571640" y="1956674"/>
                </a:lnTo>
                <a:lnTo>
                  <a:pt x="1575994" y="1957071"/>
                </a:lnTo>
                <a:lnTo>
                  <a:pt x="1580744" y="1957469"/>
                </a:lnTo>
                <a:lnTo>
                  <a:pt x="1585494" y="1957071"/>
                </a:lnTo>
                <a:lnTo>
                  <a:pt x="1589452" y="1956674"/>
                </a:lnTo>
                <a:lnTo>
                  <a:pt x="1592618" y="1955878"/>
                </a:lnTo>
                <a:lnTo>
                  <a:pt x="1594993" y="1955083"/>
                </a:lnTo>
                <a:lnTo>
                  <a:pt x="1596577" y="1953889"/>
                </a:lnTo>
                <a:lnTo>
                  <a:pt x="1597368" y="1953094"/>
                </a:lnTo>
                <a:lnTo>
                  <a:pt x="1598160" y="1952298"/>
                </a:lnTo>
                <a:lnTo>
                  <a:pt x="1598160" y="1922463"/>
                </a:lnTo>
                <a:lnTo>
                  <a:pt x="1727200" y="1922463"/>
                </a:lnTo>
                <a:lnTo>
                  <a:pt x="1727200" y="2064079"/>
                </a:lnTo>
                <a:lnTo>
                  <a:pt x="1727200" y="2066863"/>
                </a:lnTo>
                <a:lnTo>
                  <a:pt x="1726804" y="2070045"/>
                </a:lnTo>
                <a:lnTo>
                  <a:pt x="1726013" y="2072830"/>
                </a:lnTo>
                <a:lnTo>
                  <a:pt x="1725221" y="2075615"/>
                </a:lnTo>
                <a:lnTo>
                  <a:pt x="1724034" y="2078001"/>
                </a:lnTo>
                <a:lnTo>
                  <a:pt x="1722450" y="2080388"/>
                </a:lnTo>
                <a:lnTo>
                  <a:pt x="1720471" y="2083173"/>
                </a:lnTo>
                <a:lnTo>
                  <a:pt x="1718888" y="2085162"/>
                </a:lnTo>
                <a:lnTo>
                  <a:pt x="1716909" y="2086753"/>
                </a:lnTo>
                <a:lnTo>
                  <a:pt x="1714138" y="2088742"/>
                </a:lnTo>
                <a:lnTo>
                  <a:pt x="1711763" y="2090333"/>
                </a:lnTo>
                <a:lnTo>
                  <a:pt x="1709388" y="2091526"/>
                </a:lnTo>
                <a:lnTo>
                  <a:pt x="1706617" y="2092322"/>
                </a:lnTo>
                <a:lnTo>
                  <a:pt x="1703846" y="2093118"/>
                </a:lnTo>
                <a:lnTo>
                  <a:pt x="1700680" y="2093515"/>
                </a:lnTo>
                <a:lnTo>
                  <a:pt x="1697513" y="2093913"/>
                </a:lnTo>
                <a:lnTo>
                  <a:pt x="1456849" y="2093913"/>
                </a:lnTo>
                <a:lnTo>
                  <a:pt x="1454078" y="2093515"/>
                </a:lnTo>
                <a:lnTo>
                  <a:pt x="1451308" y="2093118"/>
                </a:lnTo>
                <a:lnTo>
                  <a:pt x="1448141" y="2092322"/>
                </a:lnTo>
                <a:lnTo>
                  <a:pt x="1445766" y="2091526"/>
                </a:lnTo>
                <a:lnTo>
                  <a:pt x="1442995" y="2090333"/>
                </a:lnTo>
                <a:lnTo>
                  <a:pt x="1440620" y="2088742"/>
                </a:lnTo>
                <a:lnTo>
                  <a:pt x="1438245" y="2086753"/>
                </a:lnTo>
                <a:lnTo>
                  <a:pt x="1435870" y="2085162"/>
                </a:lnTo>
                <a:lnTo>
                  <a:pt x="1434287" y="2083173"/>
                </a:lnTo>
                <a:lnTo>
                  <a:pt x="1432308" y="2080388"/>
                </a:lnTo>
                <a:lnTo>
                  <a:pt x="1431120" y="2078001"/>
                </a:lnTo>
                <a:lnTo>
                  <a:pt x="1429537" y="2075615"/>
                </a:lnTo>
                <a:lnTo>
                  <a:pt x="1428745" y="2072830"/>
                </a:lnTo>
                <a:lnTo>
                  <a:pt x="1427954" y="2070045"/>
                </a:lnTo>
                <a:lnTo>
                  <a:pt x="1427558" y="2066863"/>
                </a:lnTo>
                <a:lnTo>
                  <a:pt x="1427162" y="2064079"/>
                </a:lnTo>
                <a:lnTo>
                  <a:pt x="1427162" y="1922463"/>
                </a:lnTo>
                <a:close/>
                <a:moveTo>
                  <a:pt x="1456849" y="1844675"/>
                </a:moveTo>
                <a:lnTo>
                  <a:pt x="1697513" y="1844675"/>
                </a:lnTo>
                <a:lnTo>
                  <a:pt x="1700680" y="1845074"/>
                </a:lnTo>
                <a:lnTo>
                  <a:pt x="1703846" y="1845474"/>
                </a:lnTo>
                <a:lnTo>
                  <a:pt x="1706617" y="1845873"/>
                </a:lnTo>
                <a:lnTo>
                  <a:pt x="1709388" y="1847071"/>
                </a:lnTo>
                <a:lnTo>
                  <a:pt x="1711763" y="1848269"/>
                </a:lnTo>
                <a:lnTo>
                  <a:pt x="1714138" y="1849467"/>
                </a:lnTo>
                <a:lnTo>
                  <a:pt x="1716909" y="1851463"/>
                </a:lnTo>
                <a:lnTo>
                  <a:pt x="1718888" y="1853460"/>
                </a:lnTo>
                <a:lnTo>
                  <a:pt x="1720471" y="1855457"/>
                </a:lnTo>
                <a:lnTo>
                  <a:pt x="1722450" y="1858252"/>
                </a:lnTo>
                <a:lnTo>
                  <a:pt x="1724034" y="1860248"/>
                </a:lnTo>
                <a:lnTo>
                  <a:pt x="1725221" y="1863044"/>
                </a:lnTo>
                <a:lnTo>
                  <a:pt x="1726013" y="1865839"/>
                </a:lnTo>
                <a:lnTo>
                  <a:pt x="1726804" y="1868634"/>
                </a:lnTo>
                <a:lnTo>
                  <a:pt x="1727200" y="1871828"/>
                </a:lnTo>
                <a:lnTo>
                  <a:pt x="1727200" y="1874624"/>
                </a:lnTo>
                <a:lnTo>
                  <a:pt x="1727200" y="1909763"/>
                </a:lnTo>
                <a:lnTo>
                  <a:pt x="1427162" y="1909763"/>
                </a:lnTo>
                <a:lnTo>
                  <a:pt x="1427162" y="1874624"/>
                </a:lnTo>
                <a:lnTo>
                  <a:pt x="1427558" y="1871828"/>
                </a:lnTo>
                <a:lnTo>
                  <a:pt x="1427954" y="1868634"/>
                </a:lnTo>
                <a:lnTo>
                  <a:pt x="1428745" y="1865839"/>
                </a:lnTo>
                <a:lnTo>
                  <a:pt x="1429537" y="1863044"/>
                </a:lnTo>
                <a:lnTo>
                  <a:pt x="1431120" y="1860248"/>
                </a:lnTo>
                <a:lnTo>
                  <a:pt x="1432308" y="1858252"/>
                </a:lnTo>
                <a:lnTo>
                  <a:pt x="1434287" y="1855457"/>
                </a:lnTo>
                <a:lnTo>
                  <a:pt x="1435870" y="1853460"/>
                </a:lnTo>
                <a:lnTo>
                  <a:pt x="1438245" y="1851463"/>
                </a:lnTo>
                <a:lnTo>
                  <a:pt x="1440620" y="1849467"/>
                </a:lnTo>
                <a:lnTo>
                  <a:pt x="1442995" y="1848269"/>
                </a:lnTo>
                <a:lnTo>
                  <a:pt x="1445766" y="1847071"/>
                </a:lnTo>
                <a:lnTo>
                  <a:pt x="1448141" y="1845873"/>
                </a:lnTo>
                <a:lnTo>
                  <a:pt x="1451308" y="1845474"/>
                </a:lnTo>
                <a:lnTo>
                  <a:pt x="1454078" y="1845074"/>
                </a:lnTo>
                <a:lnTo>
                  <a:pt x="1456849" y="1844675"/>
                </a:lnTo>
                <a:close/>
                <a:moveTo>
                  <a:pt x="1220993" y="1843629"/>
                </a:moveTo>
                <a:lnTo>
                  <a:pt x="1221192" y="1843629"/>
                </a:lnTo>
                <a:lnTo>
                  <a:pt x="1221390" y="1843670"/>
                </a:lnTo>
                <a:lnTo>
                  <a:pt x="1221398" y="1844027"/>
                </a:lnTo>
                <a:lnTo>
                  <a:pt x="1221390" y="1844026"/>
                </a:lnTo>
                <a:lnTo>
                  <a:pt x="1220993" y="1843629"/>
                </a:lnTo>
                <a:close/>
                <a:moveTo>
                  <a:pt x="1620838" y="1724025"/>
                </a:moveTo>
                <a:lnTo>
                  <a:pt x="1620444" y="1728788"/>
                </a:lnTo>
                <a:lnTo>
                  <a:pt x="1618474" y="1739503"/>
                </a:lnTo>
                <a:lnTo>
                  <a:pt x="1615321" y="1755775"/>
                </a:lnTo>
                <a:lnTo>
                  <a:pt x="1612956" y="1764903"/>
                </a:lnTo>
                <a:lnTo>
                  <a:pt x="1610197" y="1774031"/>
                </a:lnTo>
                <a:lnTo>
                  <a:pt x="1607439" y="1783556"/>
                </a:lnTo>
                <a:lnTo>
                  <a:pt x="1603498" y="1792685"/>
                </a:lnTo>
                <a:lnTo>
                  <a:pt x="1599557" y="1801019"/>
                </a:lnTo>
                <a:lnTo>
                  <a:pt x="1595222" y="1808560"/>
                </a:lnTo>
                <a:lnTo>
                  <a:pt x="1592857" y="1812528"/>
                </a:lnTo>
                <a:lnTo>
                  <a:pt x="1589704" y="1815306"/>
                </a:lnTo>
                <a:lnTo>
                  <a:pt x="1587340" y="1818481"/>
                </a:lnTo>
                <a:lnTo>
                  <a:pt x="1584187" y="1820466"/>
                </a:lnTo>
                <a:lnTo>
                  <a:pt x="1581428" y="1822450"/>
                </a:lnTo>
                <a:lnTo>
                  <a:pt x="1577881" y="1824435"/>
                </a:lnTo>
                <a:lnTo>
                  <a:pt x="1574728" y="1825228"/>
                </a:lnTo>
                <a:lnTo>
                  <a:pt x="1571181" y="1825625"/>
                </a:lnTo>
                <a:lnTo>
                  <a:pt x="1567240" y="1825625"/>
                </a:lnTo>
                <a:lnTo>
                  <a:pt x="1563299" y="1825625"/>
                </a:lnTo>
                <a:lnTo>
                  <a:pt x="1560147" y="1824831"/>
                </a:lnTo>
                <a:lnTo>
                  <a:pt x="1556994" y="1824038"/>
                </a:lnTo>
                <a:lnTo>
                  <a:pt x="1554235" y="1822450"/>
                </a:lnTo>
                <a:lnTo>
                  <a:pt x="1551476" y="1821260"/>
                </a:lnTo>
                <a:lnTo>
                  <a:pt x="1549506" y="1819672"/>
                </a:lnTo>
                <a:lnTo>
                  <a:pt x="1547929" y="1817688"/>
                </a:lnTo>
                <a:lnTo>
                  <a:pt x="1546353" y="1815306"/>
                </a:lnTo>
                <a:lnTo>
                  <a:pt x="1544777" y="1812925"/>
                </a:lnTo>
                <a:lnTo>
                  <a:pt x="1543988" y="1810544"/>
                </a:lnTo>
                <a:lnTo>
                  <a:pt x="1543200" y="1807369"/>
                </a:lnTo>
                <a:lnTo>
                  <a:pt x="1542412" y="1800622"/>
                </a:lnTo>
                <a:lnTo>
                  <a:pt x="1542018" y="1793478"/>
                </a:lnTo>
                <a:lnTo>
                  <a:pt x="1542018" y="1789906"/>
                </a:lnTo>
                <a:lnTo>
                  <a:pt x="1542018" y="1786731"/>
                </a:lnTo>
                <a:lnTo>
                  <a:pt x="1541624" y="1784350"/>
                </a:lnTo>
                <a:lnTo>
                  <a:pt x="1540836" y="1781969"/>
                </a:lnTo>
                <a:lnTo>
                  <a:pt x="1540047" y="1780381"/>
                </a:lnTo>
                <a:lnTo>
                  <a:pt x="1539259" y="1779191"/>
                </a:lnTo>
                <a:lnTo>
                  <a:pt x="1538077" y="1778397"/>
                </a:lnTo>
                <a:lnTo>
                  <a:pt x="1536895" y="1778000"/>
                </a:lnTo>
                <a:lnTo>
                  <a:pt x="1535712" y="1778000"/>
                </a:lnTo>
                <a:lnTo>
                  <a:pt x="1534924" y="1778397"/>
                </a:lnTo>
                <a:lnTo>
                  <a:pt x="1534136" y="1778794"/>
                </a:lnTo>
                <a:lnTo>
                  <a:pt x="1532954" y="1779985"/>
                </a:lnTo>
                <a:lnTo>
                  <a:pt x="1532165" y="1781572"/>
                </a:lnTo>
                <a:lnTo>
                  <a:pt x="1531377" y="1783556"/>
                </a:lnTo>
                <a:lnTo>
                  <a:pt x="1530983" y="1785541"/>
                </a:lnTo>
                <a:lnTo>
                  <a:pt x="1530589" y="1787922"/>
                </a:lnTo>
                <a:lnTo>
                  <a:pt x="1530195" y="1790700"/>
                </a:lnTo>
                <a:lnTo>
                  <a:pt x="1529407" y="1793875"/>
                </a:lnTo>
                <a:lnTo>
                  <a:pt x="1528224" y="1797447"/>
                </a:lnTo>
                <a:lnTo>
                  <a:pt x="1526648" y="1801019"/>
                </a:lnTo>
                <a:lnTo>
                  <a:pt x="1522313" y="1808163"/>
                </a:lnTo>
                <a:lnTo>
                  <a:pt x="1517584" y="1814513"/>
                </a:lnTo>
                <a:lnTo>
                  <a:pt x="1515613" y="1817291"/>
                </a:lnTo>
                <a:lnTo>
                  <a:pt x="1513643" y="1818878"/>
                </a:lnTo>
                <a:lnTo>
                  <a:pt x="1512066" y="1820069"/>
                </a:lnTo>
                <a:lnTo>
                  <a:pt x="1510096" y="1820069"/>
                </a:lnTo>
                <a:lnTo>
                  <a:pt x="1509307" y="1820069"/>
                </a:lnTo>
                <a:lnTo>
                  <a:pt x="1508913" y="1819275"/>
                </a:lnTo>
                <a:lnTo>
                  <a:pt x="1508125" y="1817688"/>
                </a:lnTo>
                <a:lnTo>
                  <a:pt x="1508125" y="1814116"/>
                </a:lnTo>
                <a:lnTo>
                  <a:pt x="1508125" y="1809353"/>
                </a:lnTo>
                <a:lnTo>
                  <a:pt x="1509307" y="1797844"/>
                </a:lnTo>
                <a:lnTo>
                  <a:pt x="1510096" y="1785144"/>
                </a:lnTo>
                <a:lnTo>
                  <a:pt x="1510490" y="1772047"/>
                </a:lnTo>
                <a:lnTo>
                  <a:pt x="1511278" y="1759744"/>
                </a:lnTo>
                <a:lnTo>
                  <a:pt x="1512854" y="1749028"/>
                </a:lnTo>
                <a:lnTo>
                  <a:pt x="1513643" y="1743869"/>
                </a:lnTo>
                <a:lnTo>
                  <a:pt x="1514825" y="1739503"/>
                </a:lnTo>
                <a:lnTo>
                  <a:pt x="1516401" y="1736328"/>
                </a:lnTo>
                <a:lnTo>
                  <a:pt x="1517978" y="1733550"/>
                </a:lnTo>
                <a:lnTo>
                  <a:pt x="1519554" y="1732360"/>
                </a:lnTo>
                <a:lnTo>
                  <a:pt x="1520736" y="1731963"/>
                </a:lnTo>
                <a:lnTo>
                  <a:pt x="1521919" y="1731169"/>
                </a:lnTo>
                <a:lnTo>
                  <a:pt x="1523101" y="1731169"/>
                </a:lnTo>
                <a:lnTo>
                  <a:pt x="1620838" y="1724025"/>
                </a:lnTo>
                <a:close/>
                <a:moveTo>
                  <a:pt x="741170" y="1477566"/>
                </a:moveTo>
                <a:lnTo>
                  <a:pt x="739191" y="1478360"/>
                </a:lnTo>
                <a:lnTo>
                  <a:pt x="735628" y="1479154"/>
                </a:lnTo>
                <a:lnTo>
                  <a:pt x="731273" y="1478757"/>
                </a:lnTo>
                <a:lnTo>
                  <a:pt x="729690" y="1480345"/>
                </a:lnTo>
                <a:lnTo>
                  <a:pt x="728898" y="1481535"/>
                </a:lnTo>
                <a:lnTo>
                  <a:pt x="728502" y="1483123"/>
                </a:lnTo>
                <a:lnTo>
                  <a:pt x="728898" y="1485107"/>
                </a:lnTo>
                <a:lnTo>
                  <a:pt x="730086" y="1486695"/>
                </a:lnTo>
                <a:lnTo>
                  <a:pt x="731669" y="1487885"/>
                </a:lnTo>
                <a:lnTo>
                  <a:pt x="734440" y="1489076"/>
                </a:lnTo>
                <a:lnTo>
                  <a:pt x="737607" y="1489870"/>
                </a:lnTo>
                <a:lnTo>
                  <a:pt x="740774" y="1489076"/>
                </a:lnTo>
                <a:lnTo>
                  <a:pt x="743546" y="1487885"/>
                </a:lnTo>
                <a:lnTo>
                  <a:pt x="745525" y="1487091"/>
                </a:lnTo>
                <a:lnTo>
                  <a:pt x="747504" y="1485901"/>
                </a:lnTo>
                <a:lnTo>
                  <a:pt x="748692" y="1484313"/>
                </a:lnTo>
                <a:lnTo>
                  <a:pt x="749088" y="1483123"/>
                </a:lnTo>
                <a:lnTo>
                  <a:pt x="749484" y="1481932"/>
                </a:lnTo>
                <a:lnTo>
                  <a:pt x="749880" y="1481138"/>
                </a:lnTo>
                <a:lnTo>
                  <a:pt x="749484" y="1480345"/>
                </a:lnTo>
                <a:lnTo>
                  <a:pt x="748692" y="1479551"/>
                </a:lnTo>
                <a:lnTo>
                  <a:pt x="747900" y="1478757"/>
                </a:lnTo>
                <a:lnTo>
                  <a:pt x="746713" y="1478360"/>
                </a:lnTo>
                <a:lnTo>
                  <a:pt x="744733" y="1477566"/>
                </a:lnTo>
                <a:lnTo>
                  <a:pt x="743150" y="1477566"/>
                </a:lnTo>
                <a:lnTo>
                  <a:pt x="741170" y="1477566"/>
                </a:lnTo>
                <a:close/>
                <a:moveTo>
                  <a:pt x="770069" y="1446213"/>
                </a:moveTo>
                <a:lnTo>
                  <a:pt x="773236" y="1446213"/>
                </a:lnTo>
                <a:lnTo>
                  <a:pt x="775612" y="1446213"/>
                </a:lnTo>
                <a:lnTo>
                  <a:pt x="777195" y="1446610"/>
                </a:lnTo>
                <a:lnTo>
                  <a:pt x="778383" y="1447404"/>
                </a:lnTo>
                <a:lnTo>
                  <a:pt x="779175" y="1448198"/>
                </a:lnTo>
                <a:lnTo>
                  <a:pt x="779175" y="1448991"/>
                </a:lnTo>
                <a:lnTo>
                  <a:pt x="779175" y="1450182"/>
                </a:lnTo>
                <a:lnTo>
                  <a:pt x="782342" y="1451373"/>
                </a:lnTo>
                <a:lnTo>
                  <a:pt x="784717" y="1452166"/>
                </a:lnTo>
                <a:lnTo>
                  <a:pt x="787092" y="1453357"/>
                </a:lnTo>
                <a:lnTo>
                  <a:pt x="788280" y="1455341"/>
                </a:lnTo>
                <a:lnTo>
                  <a:pt x="822325" y="1543051"/>
                </a:lnTo>
                <a:lnTo>
                  <a:pt x="818366" y="1543448"/>
                </a:lnTo>
                <a:lnTo>
                  <a:pt x="809261" y="1544639"/>
                </a:lnTo>
                <a:lnTo>
                  <a:pt x="795406" y="1546623"/>
                </a:lnTo>
                <a:lnTo>
                  <a:pt x="787488" y="1547020"/>
                </a:lnTo>
                <a:lnTo>
                  <a:pt x="778779" y="1547417"/>
                </a:lnTo>
                <a:lnTo>
                  <a:pt x="776403" y="1549798"/>
                </a:lnTo>
                <a:lnTo>
                  <a:pt x="773632" y="1552973"/>
                </a:lnTo>
                <a:lnTo>
                  <a:pt x="770069" y="1554957"/>
                </a:lnTo>
                <a:lnTo>
                  <a:pt x="766902" y="1557339"/>
                </a:lnTo>
                <a:lnTo>
                  <a:pt x="758589" y="1561704"/>
                </a:lnTo>
                <a:lnTo>
                  <a:pt x="749880" y="1564879"/>
                </a:lnTo>
                <a:lnTo>
                  <a:pt x="741170" y="1568054"/>
                </a:lnTo>
                <a:lnTo>
                  <a:pt x="731273" y="1570435"/>
                </a:lnTo>
                <a:lnTo>
                  <a:pt x="721772" y="1572420"/>
                </a:lnTo>
                <a:lnTo>
                  <a:pt x="712271" y="1574404"/>
                </a:lnTo>
                <a:lnTo>
                  <a:pt x="702770" y="1575595"/>
                </a:lnTo>
                <a:lnTo>
                  <a:pt x="694061" y="1576389"/>
                </a:lnTo>
                <a:lnTo>
                  <a:pt x="679414" y="1577579"/>
                </a:lnTo>
                <a:lnTo>
                  <a:pt x="668725" y="1577976"/>
                </a:lnTo>
                <a:lnTo>
                  <a:pt x="665162" y="1577976"/>
                </a:lnTo>
                <a:lnTo>
                  <a:pt x="672288" y="1466454"/>
                </a:lnTo>
                <a:lnTo>
                  <a:pt x="672684" y="1464073"/>
                </a:lnTo>
                <a:lnTo>
                  <a:pt x="673079" y="1462485"/>
                </a:lnTo>
                <a:lnTo>
                  <a:pt x="673871" y="1460898"/>
                </a:lnTo>
                <a:lnTo>
                  <a:pt x="675059" y="1459707"/>
                </a:lnTo>
                <a:lnTo>
                  <a:pt x="676642" y="1458516"/>
                </a:lnTo>
                <a:lnTo>
                  <a:pt x="678622" y="1456929"/>
                </a:lnTo>
                <a:lnTo>
                  <a:pt x="682581" y="1454944"/>
                </a:lnTo>
                <a:lnTo>
                  <a:pt x="687727" y="1453357"/>
                </a:lnTo>
                <a:lnTo>
                  <a:pt x="693269" y="1452166"/>
                </a:lnTo>
                <a:lnTo>
                  <a:pt x="699999" y="1451373"/>
                </a:lnTo>
                <a:lnTo>
                  <a:pt x="706729" y="1450182"/>
                </a:lnTo>
                <a:lnTo>
                  <a:pt x="721772" y="1449388"/>
                </a:lnTo>
                <a:lnTo>
                  <a:pt x="737212" y="1448594"/>
                </a:lnTo>
                <a:lnTo>
                  <a:pt x="752255" y="1447801"/>
                </a:lnTo>
                <a:lnTo>
                  <a:pt x="759777" y="1447404"/>
                </a:lnTo>
                <a:lnTo>
                  <a:pt x="766506" y="1446610"/>
                </a:lnTo>
                <a:lnTo>
                  <a:pt x="770069" y="1446213"/>
                </a:lnTo>
                <a:close/>
                <a:moveTo>
                  <a:pt x="59062" y="1431772"/>
                </a:moveTo>
                <a:lnTo>
                  <a:pt x="61440" y="1459148"/>
                </a:lnTo>
                <a:lnTo>
                  <a:pt x="192645" y="1469067"/>
                </a:lnTo>
                <a:lnTo>
                  <a:pt x="59062" y="1431772"/>
                </a:lnTo>
                <a:close/>
                <a:moveTo>
                  <a:pt x="1076062" y="950913"/>
                </a:moveTo>
                <a:lnTo>
                  <a:pt x="1080032" y="951310"/>
                </a:lnTo>
                <a:lnTo>
                  <a:pt x="1083606" y="951707"/>
                </a:lnTo>
                <a:lnTo>
                  <a:pt x="1083606" y="952104"/>
                </a:lnTo>
                <a:lnTo>
                  <a:pt x="1084400" y="952502"/>
                </a:lnTo>
                <a:lnTo>
                  <a:pt x="1087974" y="954487"/>
                </a:lnTo>
                <a:lnTo>
                  <a:pt x="1093136" y="957267"/>
                </a:lnTo>
                <a:lnTo>
                  <a:pt x="1100283" y="960444"/>
                </a:lnTo>
                <a:lnTo>
                  <a:pt x="1093930" y="1312288"/>
                </a:lnTo>
                <a:lnTo>
                  <a:pt x="1134431" y="1020408"/>
                </a:lnTo>
                <a:lnTo>
                  <a:pt x="1128078" y="998170"/>
                </a:lnTo>
                <a:lnTo>
                  <a:pt x="1141975" y="972357"/>
                </a:lnTo>
                <a:lnTo>
                  <a:pt x="1175726" y="972754"/>
                </a:lnTo>
                <a:lnTo>
                  <a:pt x="1190418" y="998170"/>
                </a:lnTo>
                <a:lnTo>
                  <a:pt x="1182874" y="1017231"/>
                </a:lnTo>
                <a:lnTo>
                  <a:pt x="1177315" y="1217775"/>
                </a:lnTo>
                <a:lnTo>
                  <a:pt x="1165800" y="1329364"/>
                </a:lnTo>
                <a:lnTo>
                  <a:pt x="1283333" y="956076"/>
                </a:lnTo>
                <a:lnTo>
                  <a:pt x="1317084" y="953296"/>
                </a:lnTo>
                <a:lnTo>
                  <a:pt x="1339717" y="952104"/>
                </a:lnTo>
                <a:lnTo>
                  <a:pt x="1347261" y="951707"/>
                </a:lnTo>
                <a:lnTo>
                  <a:pt x="1351232" y="951707"/>
                </a:lnTo>
                <a:lnTo>
                  <a:pt x="1365129" y="954090"/>
                </a:lnTo>
                <a:lnTo>
                  <a:pt x="1378630" y="957664"/>
                </a:lnTo>
                <a:lnTo>
                  <a:pt x="1392130" y="960444"/>
                </a:lnTo>
                <a:lnTo>
                  <a:pt x="1405234" y="964415"/>
                </a:lnTo>
                <a:lnTo>
                  <a:pt x="1418337" y="967592"/>
                </a:lnTo>
                <a:lnTo>
                  <a:pt x="1430249" y="971960"/>
                </a:lnTo>
                <a:lnTo>
                  <a:pt x="1442558" y="975534"/>
                </a:lnTo>
                <a:lnTo>
                  <a:pt x="1454073" y="979903"/>
                </a:lnTo>
                <a:lnTo>
                  <a:pt x="1465191" y="984271"/>
                </a:lnTo>
                <a:lnTo>
                  <a:pt x="1475118" y="988242"/>
                </a:lnTo>
                <a:lnTo>
                  <a:pt x="1484648" y="993007"/>
                </a:lnTo>
                <a:lnTo>
                  <a:pt x="1493780" y="997376"/>
                </a:lnTo>
                <a:lnTo>
                  <a:pt x="1501722" y="1001347"/>
                </a:lnTo>
                <a:lnTo>
                  <a:pt x="1508869" y="1006112"/>
                </a:lnTo>
                <a:lnTo>
                  <a:pt x="1514825" y="1010480"/>
                </a:lnTo>
                <a:lnTo>
                  <a:pt x="1520384" y="1014452"/>
                </a:lnTo>
                <a:lnTo>
                  <a:pt x="1523164" y="1018026"/>
                </a:lnTo>
                <a:lnTo>
                  <a:pt x="1526737" y="1021997"/>
                </a:lnTo>
                <a:lnTo>
                  <a:pt x="1529517" y="1026365"/>
                </a:lnTo>
                <a:lnTo>
                  <a:pt x="1532693" y="1031528"/>
                </a:lnTo>
                <a:lnTo>
                  <a:pt x="1535473" y="1037484"/>
                </a:lnTo>
                <a:lnTo>
                  <a:pt x="1538252" y="1043441"/>
                </a:lnTo>
                <a:lnTo>
                  <a:pt x="1541429" y="1050192"/>
                </a:lnTo>
                <a:lnTo>
                  <a:pt x="1544208" y="1057737"/>
                </a:lnTo>
                <a:lnTo>
                  <a:pt x="1549370" y="1073622"/>
                </a:lnTo>
                <a:lnTo>
                  <a:pt x="1554532" y="1091095"/>
                </a:lnTo>
                <a:lnTo>
                  <a:pt x="1558900" y="1110156"/>
                </a:lnTo>
                <a:lnTo>
                  <a:pt x="1563665" y="1131204"/>
                </a:lnTo>
                <a:lnTo>
                  <a:pt x="1568033" y="1153442"/>
                </a:lnTo>
                <a:lnTo>
                  <a:pt x="1572003" y="1176475"/>
                </a:lnTo>
                <a:lnTo>
                  <a:pt x="1575577" y="1201096"/>
                </a:lnTo>
                <a:lnTo>
                  <a:pt x="1579151" y="1225717"/>
                </a:lnTo>
                <a:lnTo>
                  <a:pt x="1582327" y="1251927"/>
                </a:lnTo>
                <a:lnTo>
                  <a:pt x="1585107" y="1278136"/>
                </a:lnTo>
                <a:lnTo>
                  <a:pt x="1588283" y="1305140"/>
                </a:lnTo>
                <a:lnTo>
                  <a:pt x="1590666" y="1332144"/>
                </a:lnTo>
                <a:lnTo>
                  <a:pt x="1595034" y="1386152"/>
                </a:lnTo>
                <a:lnTo>
                  <a:pt x="1598210" y="1439365"/>
                </a:lnTo>
                <a:lnTo>
                  <a:pt x="1601387" y="1490196"/>
                </a:lnTo>
                <a:lnTo>
                  <a:pt x="1602975" y="1538644"/>
                </a:lnTo>
                <a:lnTo>
                  <a:pt x="1603769" y="1581532"/>
                </a:lnTo>
                <a:lnTo>
                  <a:pt x="1603769" y="1618861"/>
                </a:lnTo>
                <a:lnTo>
                  <a:pt x="1603372" y="1649836"/>
                </a:lnTo>
                <a:lnTo>
                  <a:pt x="1602975" y="1662147"/>
                </a:lnTo>
                <a:lnTo>
                  <a:pt x="1602181" y="1671678"/>
                </a:lnTo>
                <a:lnTo>
                  <a:pt x="1601784" y="1678031"/>
                </a:lnTo>
                <a:lnTo>
                  <a:pt x="1601784" y="1683591"/>
                </a:lnTo>
                <a:lnTo>
                  <a:pt x="1602578" y="1688356"/>
                </a:lnTo>
                <a:lnTo>
                  <a:pt x="1602975" y="1692328"/>
                </a:lnTo>
                <a:lnTo>
                  <a:pt x="1604166" y="1696696"/>
                </a:lnTo>
                <a:lnTo>
                  <a:pt x="1605357" y="1699873"/>
                </a:lnTo>
                <a:lnTo>
                  <a:pt x="1607740" y="1705432"/>
                </a:lnTo>
                <a:lnTo>
                  <a:pt x="1609328" y="1709404"/>
                </a:lnTo>
                <a:lnTo>
                  <a:pt x="1609725" y="1710992"/>
                </a:lnTo>
                <a:lnTo>
                  <a:pt x="1609725" y="1711786"/>
                </a:lnTo>
                <a:lnTo>
                  <a:pt x="1609328" y="1712978"/>
                </a:lnTo>
                <a:lnTo>
                  <a:pt x="1608534" y="1713375"/>
                </a:lnTo>
                <a:lnTo>
                  <a:pt x="1606549" y="1713772"/>
                </a:lnTo>
                <a:lnTo>
                  <a:pt x="1604166" y="1714169"/>
                </a:lnTo>
                <a:lnTo>
                  <a:pt x="1599798" y="1714169"/>
                </a:lnTo>
                <a:lnTo>
                  <a:pt x="1595431" y="1714169"/>
                </a:lnTo>
                <a:lnTo>
                  <a:pt x="1583916" y="1713375"/>
                </a:lnTo>
                <a:lnTo>
                  <a:pt x="1571209" y="1711786"/>
                </a:lnTo>
                <a:lnTo>
                  <a:pt x="1558106" y="1710198"/>
                </a:lnTo>
                <a:lnTo>
                  <a:pt x="1534679" y="1706227"/>
                </a:lnTo>
                <a:lnTo>
                  <a:pt x="1521178" y="1704241"/>
                </a:lnTo>
                <a:lnTo>
                  <a:pt x="1520384" y="1693519"/>
                </a:lnTo>
                <a:lnTo>
                  <a:pt x="1518002" y="1674855"/>
                </a:lnTo>
                <a:lnTo>
                  <a:pt x="1511649" y="1617273"/>
                </a:lnTo>
                <a:lnTo>
                  <a:pt x="1493383" y="1456044"/>
                </a:lnTo>
                <a:lnTo>
                  <a:pt x="1474324" y="1299183"/>
                </a:lnTo>
                <a:lnTo>
                  <a:pt x="1467177" y="1245970"/>
                </a:lnTo>
                <a:lnTo>
                  <a:pt x="1465191" y="1230482"/>
                </a:lnTo>
                <a:lnTo>
                  <a:pt x="1463603" y="1223334"/>
                </a:lnTo>
                <a:lnTo>
                  <a:pt x="1462412" y="1218569"/>
                </a:lnTo>
                <a:lnTo>
                  <a:pt x="1461221" y="1215789"/>
                </a:lnTo>
                <a:lnTo>
                  <a:pt x="1460029" y="1214598"/>
                </a:lnTo>
                <a:lnTo>
                  <a:pt x="1459632" y="1214201"/>
                </a:lnTo>
                <a:lnTo>
                  <a:pt x="1459235" y="1214201"/>
                </a:lnTo>
                <a:lnTo>
                  <a:pt x="1458441" y="1215392"/>
                </a:lnTo>
                <a:lnTo>
                  <a:pt x="1457250" y="1216980"/>
                </a:lnTo>
                <a:lnTo>
                  <a:pt x="1456456" y="1222937"/>
                </a:lnTo>
                <a:lnTo>
                  <a:pt x="1456059" y="1229688"/>
                </a:lnTo>
                <a:lnTo>
                  <a:pt x="1455662" y="1236836"/>
                </a:lnTo>
                <a:lnTo>
                  <a:pt x="1455662" y="1243984"/>
                </a:lnTo>
                <a:lnTo>
                  <a:pt x="1451691" y="1302757"/>
                </a:lnTo>
                <a:lnTo>
                  <a:pt x="1447323" y="1369870"/>
                </a:lnTo>
                <a:lnTo>
                  <a:pt x="1442955" y="1440556"/>
                </a:lnTo>
                <a:lnTo>
                  <a:pt x="1439779" y="1509655"/>
                </a:lnTo>
                <a:lnTo>
                  <a:pt x="1434220" y="1624024"/>
                </a:lnTo>
                <a:lnTo>
                  <a:pt x="1431837" y="1671678"/>
                </a:lnTo>
                <a:lnTo>
                  <a:pt x="1431837" y="1676046"/>
                </a:lnTo>
                <a:lnTo>
                  <a:pt x="1431440" y="1687165"/>
                </a:lnTo>
                <a:lnTo>
                  <a:pt x="1429852" y="1703050"/>
                </a:lnTo>
                <a:lnTo>
                  <a:pt x="1428661" y="1711786"/>
                </a:lnTo>
                <a:lnTo>
                  <a:pt x="1427470" y="1720920"/>
                </a:lnTo>
                <a:lnTo>
                  <a:pt x="1425484" y="1730451"/>
                </a:lnTo>
                <a:lnTo>
                  <a:pt x="1422705" y="1739187"/>
                </a:lnTo>
                <a:lnTo>
                  <a:pt x="1419925" y="1747527"/>
                </a:lnTo>
                <a:lnTo>
                  <a:pt x="1416352" y="1755469"/>
                </a:lnTo>
                <a:lnTo>
                  <a:pt x="1414366" y="1759043"/>
                </a:lnTo>
                <a:lnTo>
                  <a:pt x="1412381" y="1762220"/>
                </a:lnTo>
                <a:lnTo>
                  <a:pt x="1409998" y="1765000"/>
                </a:lnTo>
                <a:lnTo>
                  <a:pt x="1407616" y="1766985"/>
                </a:lnTo>
                <a:lnTo>
                  <a:pt x="1404836" y="1769368"/>
                </a:lnTo>
                <a:lnTo>
                  <a:pt x="1402057" y="1770956"/>
                </a:lnTo>
                <a:lnTo>
                  <a:pt x="1398880" y="1771751"/>
                </a:lnTo>
                <a:lnTo>
                  <a:pt x="1395307" y="1772148"/>
                </a:lnTo>
                <a:lnTo>
                  <a:pt x="1350041" y="2259805"/>
                </a:lnTo>
                <a:lnTo>
                  <a:pt x="1229728" y="2262188"/>
                </a:lnTo>
                <a:lnTo>
                  <a:pt x="1221398" y="1844027"/>
                </a:lnTo>
                <a:lnTo>
                  <a:pt x="1224169" y="1844423"/>
                </a:lnTo>
                <a:lnTo>
                  <a:pt x="1226949" y="1844820"/>
                </a:lnTo>
                <a:lnTo>
                  <a:pt x="1221390" y="1843670"/>
                </a:lnTo>
                <a:lnTo>
                  <a:pt x="1221390" y="1843629"/>
                </a:lnTo>
                <a:lnTo>
                  <a:pt x="1221192" y="1843629"/>
                </a:lnTo>
                <a:lnTo>
                  <a:pt x="1215434" y="1842437"/>
                </a:lnTo>
                <a:lnTo>
                  <a:pt x="1204316" y="1840849"/>
                </a:lnTo>
                <a:lnTo>
                  <a:pt x="1190021" y="1839260"/>
                </a:lnTo>
                <a:lnTo>
                  <a:pt x="1160638" y="2260600"/>
                </a:lnTo>
                <a:lnTo>
                  <a:pt x="1054620" y="2260600"/>
                </a:lnTo>
                <a:lnTo>
                  <a:pt x="1015310" y="1736010"/>
                </a:lnTo>
                <a:lnTo>
                  <a:pt x="1010942" y="1729259"/>
                </a:lnTo>
                <a:lnTo>
                  <a:pt x="1006574" y="1722508"/>
                </a:lnTo>
                <a:lnTo>
                  <a:pt x="1002604" y="1715757"/>
                </a:lnTo>
                <a:lnTo>
                  <a:pt x="999030" y="1708609"/>
                </a:lnTo>
                <a:lnTo>
                  <a:pt x="995456" y="1701461"/>
                </a:lnTo>
                <a:lnTo>
                  <a:pt x="992677" y="1693916"/>
                </a:lnTo>
                <a:lnTo>
                  <a:pt x="989500" y="1687165"/>
                </a:lnTo>
                <a:lnTo>
                  <a:pt x="987515" y="1679620"/>
                </a:lnTo>
                <a:lnTo>
                  <a:pt x="986721" y="1675649"/>
                </a:lnTo>
                <a:lnTo>
                  <a:pt x="982353" y="1629583"/>
                </a:lnTo>
                <a:lnTo>
                  <a:pt x="977985" y="1578355"/>
                </a:lnTo>
                <a:lnTo>
                  <a:pt x="972029" y="1512831"/>
                </a:lnTo>
                <a:lnTo>
                  <a:pt x="960514" y="1330555"/>
                </a:lnTo>
                <a:lnTo>
                  <a:pt x="955352" y="1372650"/>
                </a:lnTo>
                <a:lnTo>
                  <a:pt x="948602" y="1421892"/>
                </a:lnTo>
                <a:lnTo>
                  <a:pt x="942249" y="1462795"/>
                </a:lnTo>
                <a:lnTo>
                  <a:pt x="939866" y="1479871"/>
                </a:lnTo>
                <a:lnTo>
                  <a:pt x="938278" y="1480268"/>
                </a:lnTo>
                <a:lnTo>
                  <a:pt x="938675" y="1485430"/>
                </a:lnTo>
                <a:lnTo>
                  <a:pt x="849731" y="1541027"/>
                </a:lnTo>
                <a:lnTo>
                  <a:pt x="804862" y="1434997"/>
                </a:lnTo>
                <a:lnTo>
                  <a:pt x="915248" y="1388137"/>
                </a:lnTo>
                <a:lnTo>
                  <a:pt x="915248" y="1370664"/>
                </a:lnTo>
                <a:lnTo>
                  <a:pt x="916439" y="1352397"/>
                </a:lnTo>
                <a:lnTo>
                  <a:pt x="917630" y="1332541"/>
                </a:lnTo>
                <a:lnTo>
                  <a:pt x="919616" y="1312288"/>
                </a:lnTo>
                <a:lnTo>
                  <a:pt x="923586" y="1282107"/>
                </a:lnTo>
                <a:lnTo>
                  <a:pt x="928351" y="1250735"/>
                </a:lnTo>
                <a:lnTo>
                  <a:pt x="934307" y="1218569"/>
                </a:lnTo>
                <a:lnTo>
                  <a:pt x="941455" y="1187197"/>
                </a:lnTo>
                <a:lnTo>
                  <a:pt x="948999" y="1155428"/>
                </a:lnTo>
                <a:lnTo>
                  <a:pt x="953367" y="1139940"/>
                </a:lnTo>
                <a:lnTo>
                  <a:pt x="958132" y="1124453"/>
                </a:lnTo>
                <a:lnTo>
                  <a:pt x="962499" y="1109759"/>
                </a:lnTo>
                <a:lnTo>
                  <a:pt x="967661" y="1095066"/>
                </a:lnTo>
                <a:lnTo>
                  <a:pt x="972823" y="1080770"/>
                </a:lnTo>
                <a:lnTo>
                  <a:pt x="977985" y="1067268"/>
                </a:lnTo>
                <a:lnTo>
                  <a:pt x="983147" y="1053766"/>
                </a:lnTo>
                <a:lnTo>
                  <a:pt x="988706" y="1041058"/>
                </a:lnTo>
                <a:lnTo>
                  <a:pt x="994662" y="1028748"/>
                </a:lnTo>
                <a:lnTo>
                  <a:pt x="1000618" y="1017629"/>
                </a:lnTo>
                <a:lnTo>
                  <a:pt x="1006971" y="1006906"/>
                </a:lnTo>
                <a:lnTo>
                  <a:pt x="1013324" y="996979"/>
                </a:lnTo>
                <a:lnTo>
                  <a:pt x="1019678" y="987845"/>
                </a:lnTo>
                <a:lnTo>
                  <a:pt x="1026428" y="979505"/>
                </a:lnTo>
                <a:lnTo>
                  <a:pt x="1033178" y="972357"/>
                </a:lnTo>
                <a:lnTo>
                  <a:pt x="1039928" y="966004"/>
                </a:lnTo>
                <a:lnTo>
                  <a:pt x="1047075" y="960444"/>
                </a:lnTo>
                <a:lnTo>
                  <a:pt x="1050252" y="958458"/>
                </a:lnTo>
                <a:lnTo>
                  <a:pt x="1054223" y="956870"/>
                </a:lnTo>
                <a:lnTo>
                  <a:pt x="1057399" y="954884"/>
                </a:lnTo>
                <a:lnTo>
                  <a:pt x="1061370" y="953296"/>
                </a:lnTo>
                <a:lnTo>
                  <a:pt x="1064547" y="952502"/>
                </a:lnTo>
                <a:lnTo>
                  <a:pt x="1068517" y="951707"/>
                </a:lnTo>
                <a:lnTo>
                  <a:pt x="1072488" y="951310"/>
                </a:lnTo>
                <a:lnTo>
                  <a:pt x="1076062" y="950913"/>
                </a:lnTo>
                <a:close/>
                <a:moveTo>
                  <a:pt x="460208" y="927100"/>
                </a:moveTo>
                <a:lnTo>
                  <a:pt x="466154" y="927100"/>
                </a:lnTo>
                <a:lnTo>
                  <a:pt x="472099" y="927497"/>
                </a:lnTo>
                <a:lnTo>
                  <a:pt x="477649" y="929084"/>
                </a:lnTo>
                <a:lnTo>
                  <a:pt x="483198" y="931068"/>
                </a:lnTo>
                <a:lnTo>
                  <a:pt x="488351" y="933845"/>
                </a:lnTo>
                <a:lnTo>
                  <a:pt x="493505" y="937416"/>
                </a:lnTo>
                <a:lnTo>
                  <a:pt x="498658" y="940987"/>
                </a:lnTo>
                <a:lnTo>
                  <a:pt x="503414" y="945351"/>
                </a:lnTo>
                <a:lnTo>
                  <a:pt x="508171" y="950509"/>
                </a:lnTo>
                <a:lnTo>
                  <a:pt x="512531" y="955666"/>
                </a:lnTo>
                <a:lnTo>
                  <a:pt x="516891" y="962015"/>
                </a:lnTo>
                <a:lnTo>
                  <a:pt x="520855" y="968363"/>
                </a:lnTo>
                <a:lnTo>
                  <a:pt x="525216" y="975504"/>
                </a:lnTo>
                <a:lnTo>
                  <a:pt x="528783" y="982646"/>
                </a:lnTo>
                <a:lnTo>
                  <a:pt x="532747" y="990581"/>
                </a:lnTo>
                <a:lnTo>
                  <a:pt x="535918" y="998913"/>
                </a:lnTo>
                <a:lnTo>
                  <a:pt x="539486" y="1007245"/>
                </a:lnTo>
                <a:lnTo>
                  <a:pt x="546224" y="1025495"/>
                </a:lnTo>
                <a:lnTo>
                  <a:pt x="552170" y="1044539"/>
                </a:lnTo>
                <a:lnTo>
                  <a:pt x="557720" y="1064774"/>
                </a:lnTo>
                <a:lnTo>
                  <a:pt x="562080" y="1086199"/>
                </a:lnTo>
                <a:lnTo>
                  <a:pt x="566837" y="1108020"/>
                </a:lnTo>
                <a:lnTo>
                  <a:pt x="570800" y="1129842"/>
                </a:lnTo>
                <a:lnTo>
                  <a:pt x="573972" y="1152060"/>
                </a:lnTo>
                <a:lnTo>
                  <a:pt x="577539" y="1175072"/>
                </a:lnTo>
                <a:lnTo>
                  <a:pt x="579917" y="1197290"/>
                </a:lnTo>
                <a:lnTo>
                  <a:pt x="582296" y="1219508"/>
                </a:lnTo>
                <a:lnTo>
                  <a:pt x="584674" y="1240933"/>
                </a:lnTo>
                <a:lnTo>
                  <a:pt x="587449" y="1282592"/>
                </a:lnTo>
                <a:lnTo>
                  <a:pt x="589431" y="1319887"/>
                </a:lnTo>
                <a:lnTo>
                  <a:pt x="591016" y="1351628"/>
                </a:lnTo>
                <a:lnTo>
                  <a:pt x="591016" y="1376226"/>
                </a:lnTo>
                <a:lnTo>
                  <a:pt x="591016" y="1392890"/>
                </a:lnTo>
                <a:lnTo>
                  <a:pt x="590620" y="1397651"/>
                </a:lnTo>
                <a:lnTo>
                  <a:pt x="589827" y="1399635"/>
                </a:lnTo>
                <a:lnTo>
                  <a:pt x="588242" y="1390510"/>
                </a:lnTo>
                <a:lnTo>
                  <a:pt x="585070" y="1366308"/>
                </a:lnTo>
                <a:lnTo>
                  <a:pt x="580710" y="1336551"/>
                </a:lnTo>
                <a:lnTo>
                  <a:pt x="577143" y="1307191"/>
                </a:lnTo>
                <a:lnTo>
                  <a:pt x="571197" y="1397254"/>
                </a:lnTo>
                <a:lnTo>
                  <a:pt x="204933" y="1299256"/>
                </a:lnTo>
                <a:lnTo>
                  <a:pt x="140718" y="1285370"/>
                </a:lnTo>
                <a:lnTo>
                  <a:pt x="569611" y="1420266"/>
                </a:lnTo>
                <a:lnTo>
                  <a:pt x="569215" y="1425424"/>
                </a:lnTo>
                <a:lnTo>
                  <a:pt x="647700" y="1454784"/>
                </a:lnTo>
                <a:lnTo>
                  <a:pt x="646511" y="1467083"/>
                </a:lnTo>
                <a:lnTo>
                  <a:pt x="644925" y="1480970"/>
                </a:lnTo>
                <a:lnTo>
                  <a:pt x="642150" y="1513503"/>
                </a:lnTo>
                <a:lnTo>
                  <a:pt x="638979" y="1548418"/>
                </a:lnTo>
                <a:lnTo>
                  <a:pt x="636997" y="1565478"/>
                </a:lnTo>
                <a:lnTo>
                  <a:pt x="634619" y="1582539"/>
                </a:lnTo>
                <a:lnTo>
                  <a:pt x="619160" y="1576587"/>
                </a:lnTo>
                <a:lnTo>
                  <a:pt x="601322" y="1570636"/>
                </a:lnTo>
                <a:lnTo>
                  <a:pt x="581107" y="1564288"/>
                </a:lnTo>
                <a:lnTo>
                  <a:pt x="559305" y="1557940"/>
                </a:lnTo>
                <a:lnTo>
                  <a:pt x="553359" y="1625388"/>
                </a:lnTo>
                <a:lnTo>
                  <a:pt x="550981" y="1651177"/>
                </a:lnTo>
                <a:lnTo>
                  <a:pt x="550188" y="1655542"/>
                </a:lnTo>
                <a:lnTo>
                  <a:pt x="547810" y="1662683"/>
                </a:lnTo>
                <a:lnTo>
                  <a:pt x="545035" y="1669825"/>
                </a:lnTo>
                <a:lnTo>
                  <a:pt x="541864" y="1676966"/>
                </a:lnTo>
                <a:lnTo>
                  <a:pt x="538693" y="1684108"/>
                </a:lnTo>
                <a:lnTo>
                  <a:pt x="534729" y="1690853"/>
                </a:lnTo>
                <a:lnTo>
                  <a:pt x="531161" y="1697994"/>
                </a:lnTo>
                <a:lnTo>
                  <a:pt x="526801" y="1704739"/>
                </a:lnTo>
                <a:lnTo>
                  <a:pt x="522045" y="1711484"/>
                </a:lnTo>
                <a:lnTo>
                  <a:pt x="483198" y="2235200"/>
                </a:lnTo>
                <a:lnTo>
                  <a:pt x="377362" y="2235200"/>
                </a:lnTo>
                <a:lnTo>
                  <a:pt x="324246" y="1818608"/>
                </a:lnTo>
                <a:lnTo>
                  <a:pt x="317508" y="1819401"/>
                </a:lnTo>
                <a:lnTo>
                  <a:pt x="310769" y="1819798"/>
                </a:lnTo>
                <a:lnTo>
                  <a:pt x="306409" y="1819401"/>
                </a:lnTo>
                <a:lnTo>
                  <a:pt x="302049" y="1819005"/>
                </a:lnTo>
                <a:lnTo>
                  <a:pt x="316319" y="2229646"/>
                </a:lnTo>
                <a:lnTo>
                  <a:pt x="188285" y="2234803"/>
                </a:lnTo>
                <a:lnTo>
                  <a:pt x="132790" y="1794803"/>
                </a:lnTo>
                <a:lnTo>
                  <a:pt x="128430" y="1793612"/>
                </a:lnTo>
                <a:lnTo>
                  <a:pt x="124863" y="1792025"/>
                </a:lnTo>
                <a:lnTo>
                  <a:pt x="120899" y="1789248"/>
                </a:lnTo>
                <a:lnTo>
                  <a:pt x="117728" y="1786471"/>
                </a:lnTo>
                <a:lnTo>
                  <a:pt x="114160" y="1783297"/>
                </a:lnTo>
                <a:lnTo>
                  <a:pt x="111385" y="1779329"/>
                </a:lnTo>
                <a:lnTo>
                  <a:pt x="108611" y="1775362"/>
                </a:lnTo>
                <a:lnTo>
                  <a:pt x="105836" y="1770997"/>
                </a:lnTo>
                <a:lnTo>
                  <a:pt x="103458" y="1766236"/>
                </a:lnTo>
                <a:lnTo>
                  <a:pt x="101079" y="1761078"/>
                </a:lnTo>
                <a:lnTo>
                  <a:pt x="97115" y="1750763"/>
                </a:lnTo>
                <a:lnTo>
                  <a:pt x="93151" y="1739257"/>
                </a:lnTo>
                <a:lnTo>
                  <a:pt x="90377" y="1727354"/>
                </a:lnTo>
                <a:lnTo>
                  <a:pt x="87602" y="1715848"/>
                </a:lnTo>
                <a:lnTo>
                  <a:pt x="85224" y="1704342"/>
                </a:lnTo>
                <a:lnTo>
                  <a:pt x="81656" y="1683314"/>
                </a:lnTo>
                <a:lnTo>
                  <a:pt x="78881" y="1666254"/>
                </a:lnTo>
                <a:lnTo>
                  <a:pt x="78089" y="1659906"/>
                </a:lnTo>
                <a:lnTo>
                  <a:pt x="76899" y="1655938"/>
                </a:lnTo>
                <a:lnTo>
                  <a:pt x="76503" y="1651177"/>
                </a:lnTo>
                <a:lnTo>
                  <a:pt x="70557" y="1587300"/>
                </a:lnTo>
                <a:lnTo>
                  <a:pt x="63819" y="1517074"/>
                </a:lnTo>
                <a:lnTo>
                  <a:pt x="56684" y="1428598"/>
                </a:lnTo>
                <a:lnTo>
                  <a:pt x="47567" y="1425424"/>
                </a:lnTo>
                <a:lnTo>
                  <a:pt x="39639" y="1421853"/>
                </a:lnTo>
                <a:lnTo>
                  <a:pt x="32900" y="1418679"/>
                </a:lnTo>
                <a:lnTo>
                  <a:pt x="27351" y="1415505"/>
                </a:lnTo>
                <a:lnTo>
                  <a:pt x="23387" y="1412331"/>
                </a:lnTo>
                <a:lnTo>
                  <a:pt x="20216" y="1409157"/>
                </a:lnTo>
                <a:lnTo>
                  <a:pt x="19423" y="1407967"/>
                </a:lnTo>
                <a:lnTo>
                  <a:pt x="18630" y="1406776"/>
                </a:lnTo>
                <a:lnTo>
                  <a:pt x="18234" y="1405189"/>
                </a:lnTo>
                <a:lnTo>
                  <a:pt x="18630" y="1403999"/>
                </a:lnTo>
                <a:lnTo>
                  <a:pt x="16252" y="1398445"/>
                </a:lnTo>
                <a:lnTo>
                  <a:pt x="13874" y="1390906"/>
                </a:lnTo>
                <a:lnTo>
                  <a:pt x="11892" y="1381781"/>
                </a:lnTo>
                <a:lnTo>
                  <a:pt x="9910" y="1371465"/>
                </a:lnTo>
                <a:lnTo>
                  <a:pt x="7531" y="1359166"/>
                </a:lnTo>
                <a:lnTo>
                  <a:pt x="5549" y="1346073"/>
                </a:lnTo>
                <a:lnTo>
                  <a:pt x="3964" y="1331393"/>
                </a:lnTo>
                <a:lnTo>
                  <a:pt x="2775" y="1315920"/>
                </a:lnTo>
                <a:lnTo>
                  <a:pt x="1189" y="1299256"/>
                </a:lnTo>
                <a:lnTo>
                  <a:pt x="396" y="1282196"/>
                </a:lnTo>
                <a:lnTo>
                  <a:pt x="0" y="1263945"/>
                </a:lnTo>
                <a:lnTo>
                  <a:pt x="396" y="1245297"/>
                </a:lnTo>
                <a:lnTo>
                  <a:pt x="793" y="1226253"/>
                </a:lnTo>
                <a:lnTo>
                  <a:pt x="2378" y="1206812"/>
                </a:lnTo>
                <a:lnTo>
                  <a:pt x="4360" y="1187371"/>
                </a:lnTo>
                <a:lnTo>
                  <a:pt x="6739" y="1167533"/>
                </a:lnTo>
                <a:lnTo>
                  <a:pt x="10306" y="1147696"/>
                </a:lnTo>
                <a:lnTo>
                  <a:pt x="14270" y="1127858"/>
                </a:lnTo>
                <a:lnTo>
                  <a:pt x="19423" y="1108417"/>
                </a:lnTo>
                <a:lnTo>
                  <a:pt x="22594" y="1098498"/>
                </a:lnTo>
                <a:lnTo>
                  <a:pt x="25369" y="1088976"/>
                </a:lnTo>
                <a:lnTo>
                  <a:pt x="28540" y="1079851"/>
                </a:lnTo>
                <a:lnTo>
                  <a:pt x="32504" y="1070329"/>
                </a:lnTo>
                <a:lnTo>
                  <a:pt x="36468" y="1061203"/>
                </a:lnTo>
                <a:lnTo>
                  <a:pt x="40035" y="1052475"/>
                </a:lnTo>
                <a:lnTo>
                  <a:pt x="44792" y="1043349"/>
                </a:lnTo>
                <a:lnTo>
                  <a:pt x="49549" y="1034621"/>
                </a:lnTo>
                <a:lnTo>
                  <a:pt x="53909" y="1026289"/>
                </a:lnTo>
                <a:lnTo>
                  <a:pt x="59458" y="1018354"/>
                </a:lnTo>
                <a:lnTo>
                  <a:pt x="65008" y="1010022"/>
                </a:lnTo>
                <a:lnTo>
                  <a:pt x="70557" y="1002087"/>
                </a:lnTo>
                <a:lnTo>
                  <a:pt x="76899" y="994548"/>
                </a:lnTo>
                <a:lnTo>
                  <a:pt x="83242" y="987407"/>
                </a:lnTo>
                <a:lnTo>
                  <a:pt x="89980" y="980662"/>
                </a:lnTo>
                <a:lnTo>
                  <a:pt x="97115" y="973917"/>
                </a:lnTo>
                <a:lnTo>
                  <a:pt x="104250" y="967569"/>
                </a:lnTo>
                <a:lnTo>
                  <a:pt x="112178" y="961618"/>
                </a:lnTo>
                <a:lnTo>
                  <a:pt x="120106" y="956063"/>
                </a:lnTo>
                <a:lnTo>
                  <a:pt x="128430" y="950905"/>
                </a:lnTo>
                <a:lnTo>
                  <a:pt x="137547" y="946144"/>
                </a:lnTo>
                <a:lnTo>
                  <a:pt x="146664" y="941383"/>
                </a:lnTo>
                <a:lnTo>
                  <a:pt x="155781" y="937416"/>
                </a:lnTo>
                <a:lnTo>
                  <a:pt x="166087" y="933845"/>
                </a:lnTo>
                <a:lnTo>
                  <a:pt x="175997" y="930671"/>
                </a:lnTo>
                <a:lnTo>
                  <a:pt x="187096" y="927894"/>
                </a:lnTo>
                <a:lnTo>
                  <a:pt x="190663" y="927497"/>
                </a:lnTo>
                <a:lnTo>
                  <a:pt x="198591" y="927894"/>
                </a:lnTo>
                <a:lnTo>
                  <a:pt x="221185" y="929084"/>
                </a:lnTo>
                <a:lnTo>
                  <a:pt x="254878" y="931861"/>
                </a:lnTo>
                <a:lnTo>
                  <a:pt x="371813" y="1304811"/>
                </a:lnTo>
                <a:lnTo>
                  <a:pt x="360714" y="1193322"/>
                </a:lnTo>
                <a:lnTo>
                  <a:pt x="355165" y="993358"/>
                </a:lnTo>
                <a:lnTo>
                  <a:pt x="347633" y="973917"/>
                </a:lnTo>
                <a:lnTo>
                  <a:pt x="362300" y="948525"/>
                </a:lnTo>
                <a:lnTo>
                  <a:pt x="395993" y="948525"/>
                </a:lnTo>
                <a:lnTo>
                  <a:pt x="409866" y="973917"/>
                </a:lnTo>
                <a:lnTo>
                  <a:pt x="403524" y="996532"/>
                </a:lnTo>
                <a:lnTo>
                  <a:pt x="443956" y="1288147"/>
                </a:lnTo>
                <a:lnTo>
                  <a:pt x="437614" y="937019"/>
                </a:lnTo>
                <a:lnTo>
                  <a:pt x="444749" y="933448"/>
                </a:lnTo>
                <a:lnTo>
                  <a:pt x="449902" y="930671"/>
                </a:lnTo>
                <a:lnTo>
                  <a:pt x="453073" y="928687"/>
                </a:lnTo>
                <a:lnTo>
                  <a:pt x="453866" y="927894"/>
                </a:lnTo>
                <a:lnTo>
                  <a:pt x="460208" y="927100"/>
                </a:lnTo>
                <a:close/>
                <a:moveTo>
                  <a:pt x="1383083" y="640160"/>
                </a:moveTo>
                <a:lnTo>
                  <a:pt x="1382686" y="644922"/>
                </a:lnTo>
                <a:lnTo>
                  <a:pt x="1384275" y="651669"/>
                </a:lnTo>
                <a:lnTo>
                  <a:pt x="1385070" y="658813"/>
                </a:lnTo>
                <a:lnTo>
                  <a:pt x="1385467" y="666750"/>
                </a:lnTo>
                <a:lnTo>
                  <a:pt x="1385864" y="674688"/>
                </a:lnTo>
                <a:lnTo>
                  <a:pt x="1386262" y="674688"/>
                </a:lnTo>
                <a:lnTo>
                  <a:pt x="1385467" y="660797"/>
                </a:lnTo>
                <a:lnTo>
                  <a:pt x="1383083" y="640160"/>
                </a:lnTo>
                <a:close/>
                <a:moveTo>
                  <a:pt x="153566" y="634207"/>
                </a:moveTo>
                <a:lnTo>
                  <a:pt x="152376" y="649288"/>
                </a:lnTo>
                <a:lnTo>
                  <a:pt x="152773" y="649685"/>
                </a:lnTo>
                <a:lnTo>
                  <a:pt x="153566" y="634207"/>
                </a:lnTo>
                <a:close/>
                <a:moveTo>
                  <a:pt x="155152" y="615157"/>
                </a:moveTo>
                <a:lnTo>
                  <a:pt x="153566" y="633810"/>
                </a:lnTo>
                <a:lnTo>
                  <a:pt x="154359" y="626666"/>
                </a:lnTo>
                <a:lnTo>
                  <a:pt x="155548" y="619919"/>
                </a:lnTo>
                <a:lnTo>
                  <a:pt x="155152" y="615157"/>
                </a:lnTo>
                <a:close/>
                <a:moveTo>
                  <a:pt x="1356862" y="559594"/>
                </a:moveTo>
                <a:lnTo>
                  <a:pt x="1359643" y="561578"/>
                </a:lnTo>
                <a:lnTo>
                  <a:pt x="1362424" y="563960"/>
                </a:lnTo>
                <a:lnTo>
                  <a:pt x="1367589" y="569516"/>
                </a:lnTo>
                <a:lnTo>
                  <a:pt x="1365205" y="565547"/>
                </a:lnTo>
                <a:lnTo>
                  <a:pt x="1362424" y="562372"/>
                </a:lnTo>
                <a:lnTo>
                  <a:pt x="1361232" y="561181"/>
                </a:lnTo>
                <a:lnTo>
                  <a:pt x="1359643" y="560388"/>
                </a:lnTo>
                <a:lnTo>
                  <a:pt x="1358451" y="559991"/>
                </a:lnTo>
                <a:lnTo>
                  <a:pt x="1356862" y="559594"/>
                </a:lnTo>
                <a:close/>
                <a:moveTo>
                  <a:pt x="180128" y="534591"/>
                </a:moveTo>
                <a:lnTo>
                  <a:pt x="178939" y="535385"/>
                </a:lnTo>
                <a:lnTo>
                  <a:pt x="176956" y="536178"/>
                </a:lnTo>
                <a:lnTo>
                  <a:pt x="175767" y="536972"/>
                </a:lnTo>
                <a:lnTo>
                  <a:pt x="173388" y="540544"/>
                </a:lnTo>
                <a:lnTo>
                  <a:pt x="170613" y="544513"/>
                </a:lnTo>
                <a:lnTo>
                  <a:pt x="175767" y="539353"/>
                </a:lnTo>
                <a:lnTo>
                  <a:pt x="178939" y="536575"/>
                </a:lnTo>
                <a:lnTo>
                  <a:pt x="181714" y="534591"/>
                </a:lnTo>
                <a:lnTo>
                  <a:pt x="180128" y="534591"/>
                </a:lnTo>
                <a:close/>
                <a:moveTo>
                  <a:pt x="1221780" y="479425"/>
                </a:moveTo>
                <a:lnTo>
                  <a:pt x="1236480" y="479425"/>
                </a:lnTo>
                <a:lnTo>
                  <a:pt x="1251578" y="480219"/>
                </a:lnTo>
                <a:lnTo>
                  <a:pt x="1267072" y="481806"/>
                </a:lnTo>
                <a:lnTo>
                  <a:pt x="1282964" y="484585"/>
                </a:lnTo>
                <a:lnTo>
                  <a:pt x="1299253" y="488156"/>
                </a:lnTo>
                <a:lnTo>
                  <a:pt x="1315940" y="492919"/>
                </a:lnTo>
                <a:lnTo>
                  <a:pt x="1323886" y="495300"/>
                </a:lnTo>
                <a:lnTo>
                  <a:pt x="1332229" y="498872"/>
                </a:lnTo>
                <a:lnTo>
                  <a:pt x="1340970" y="502047"/>
                </a:lnTo>
                <a:lnTo>
                  <a:pt x="1349710" y="505619"/>
                </a:lnTo>
                <a:lnTo>
                  <a:pt x="1358054" y="509588"/>
                </a:lnTo>
                <a:lnTo>
                  <a:pt x="1366794" y="513953"/>
                </a:lnTo>
                <a:lnTo>
                  <a:pt x="1368383" y="515144"/>
                </a:lnTo>
                <a:lnTo>
                  <a:pt x="1370370" y="516731"/>
                </a:lnTo>
                <a:lnTo>
                  <a:pt x="1374343" y="521494"/>
                </a:lnTo>
                <a:lnTo>
                  <a:pt x="1378713" y="527844"/>
                </a:lnTo>
                <a:lnTo>
                  <a:pt x="1383878" y="536178"/>
                </a:lnTo>
                <a:lnTo>
                  <a:pt x="1388646" y="545703"/>
                </a:lnTo>
                <a:lnTo>
                  <a:pt x="1393413" y="556022"/>
                </a:lnTo>
                <a:lnTo>
                  <a:pt x="1397783" y="567928"/>
                </a:lnTo>
                <a:lnTo>
                  <a:pt x="1401756" y="580231"/>
                </a:lnTo>
                <a:lnTo>
                  <a:pt x="1404935" y="592931"/>
                </a:lnTo>
                <a:lnTo>
                  <a:pt x="1406127" y="599282"/>
                </a:lnTo>
                <a:lnTo>
                  <a:pt x="1407319" y="605632"/>
                </a:lnTo>
                <a:lnTo>
                  <a:pt x="1407716" y="612378"/>
                </a:lnTo>
                <a:lnTo>
                  <a:pt x="1408113" y="618728"/>
                </a:lnTo>
                <a:lnTo>
                  <a:pt x="1408113" y="624682"/>
                </a:lnTo>
                <a:lnTo>
                  <a:pt x="1408113" y="631032"/>
                </a:lnTo>
                <a:lnTo>
                  <a:pt x="1407319" y="637382"/>
                </a:lnTo>
                <a:lnTo>
                  <a:pt x="1406524" y="643335"/>
                </a:lnTo>
                <a:lnTo>
                  <a:pt x="1404935" y="649288"/>
                </a:lnTo>
                <a:lnTo>
                  <a:pt x="1402551" y="654844"/>
                </a:lnTo>
                <a:lnTo>
                  <a:pt x="1400167" y="660400"/>
                </a:lnTo>
                <a:lnTo>
                  <a:pt x="1397386" y="665163"/>
                </a:lnTo>
                <a:lnTo>
                  <a:pt x="1393810" y="670322"/>
                </a:lnTo>
                <a:lnTo>
                  <a:pt x="1389440" y="675085"/>
                </a:lnTo>
                <a:lnTo>
                  <a:pt x="1391427" y="675878"/>
                </a:lnTo>
                <a:lnTo>
                  <a:pt x="1392619" y="677466"/>
                </a:lnTo>
                <a:lnTo>
                  <a:pt x="1393413" y="679053"/>
                </a:lnTo>
                <a:lnTo>
                  <a:pt x="1394605" y="681832"/>
                </a:lnTo>
                <a:lnTo>
                  <a:pt x="1396591" y="687785"/>
                </a:lnTo>
                <a:lnTo>
                  <a:pt x="1398975" y="694928"/>
                </a:lnTo>
                <a:lnTo>
                  <a:pt x="1400167" y="703263"/>
                </a:lnTo>
                <a:lnTo>
                  <a:pt x="1401359" y="712788"/>
                </a:lnTo>
                <a:lnTo>
                  <a:pt x="1402154" y="723107"/>
                </a:lnTo>
                <a:lnTo>
                  <a:pt x="1402154" y="734616"/>
                </a:lnTo>
                <a:lnTo>
                  <a:pt x="1402154" y="746125"/>
                </a:lnTo>
                <a:lnTo>
                  <a:pt x="1401359" y="757635"/>
                </a:lnTo>
                <a:lnTo>
                  <a:pt x="1399770" y="768350"/>
                </a:lnTo>
                <a:lnTo>
                  <a:pt x="1398181" y="777082"/>
                </a:lnTo>
                <a:lnTo>
                  <a:pt x="1395797" y="784225"/>
                </a:lnTo>
                <a:lnTo>
                  <a:pt x="1394605" y="787004"/>
                </a:lnTo>
                <a:lnTo>
                  <a:pt x="1393413" y="789782"/>
                </a:lnTo>
                <a:lnTo>
                  <a:pt x="1392221" y="791766"/>
                </a:lnTo>
                <a:lnTo>
                  <a:pt x="1390632" y="793354"/>
                </a:lnTo>
                <a:lnTo>
                  <a:pt x="1389043" y="794147"/>
                </a:lnTo>
                <a:lnTo>
                  <a:pt x="1387454" y="794941"/>
                </a:lnTo>
                <a:lnTo>
                  <a:pt x="1386262" y="794147"/>
                </a:lnTo>
                <a:lnTo>
                  <a:pt x="1385070" y="793354"/>
                </a:lnTo>
                <a:lnTo>
                  <a:pt x="1383878" y="792163"/>
                </a:lnTo>
                <a:lnTo>
                  <a:pt x="1382289" y="790575"/>
                </a:lnTo>
                <a:lnTo>
                  <a:pt x="1379905" y="785813"/>
                </a:lnTo>
                <a:lnTo>
                  <a:pt x="1377918" y="779463"/>
                </a:lnTo>
                <a:lnTo>
                  <a:pt x="1375137" y="788988"/>
                </a:lnTo>
                <a:lnTo>
                  <a:pt x="1372356" y="798116"/>
                </a:lnTo>
                <a:lnTo>
                  <a:pt x="1368781" y="807244"/>
                </a:lnTo>
                <a:lnTo>
                  <a:pt x="1365602" y="816372"/>
                </a:lnTo>
                <a:lnTo>
                  <a:pt x="1361232" y="825104"/>
                </a:lnTo>
                <a:lnTo>
                  <a:pt x="1357259" y="833438"/>
                </a:lnTo>
                <a:lnTo>
                  <a:pt x="1352889" y="842169"/>
                </a:lnTo>
                <a:lnTo>
                  <a:pt x="1348121" y="850504"/>
                </a:lnTo>
                <a:lnTo>
                  <a:pt x="1343354" y="858044"/>
                </a:lnTo>
                <a:lnTo>
                  <a:pt x="1338189" y="865585"/>
                </a:lnTo>
                <a:lnTo>
                  <a:pt x="1333024" y="873126"/>
                </a:lnTo>
                <a:lnTo>
                  <a:pt x="1327462" y="880269"/>
                </a:lnTo>
                <a:lnTo>
                  <a:pt x="1321899" y="887413"/>
                </a:lnTo>
                <a:lnTo>
                  <a:pt x="1316337" y="893763"/>
                </a:lnTo>
                <a:lnTo>
                  <a:pt x="1310378" y="900113"/>
                </a:lnTo>
                <a:lnTo>
                  <a:pt x="1304418" y="906463"/>
                </a:lnTo>
                <a:lnTo>
                  <a:pt x="1298459" y="912416"/>
                </a:lnTo>
                <a:lnTo>
                  <a:pt x="1292499" y="917972"/>
                </a:lnTo>
                <a:lnTo>
                  <a:pt x="1286540" y="922735"/>
                </a:lnTo>
                <a:lnTo>
                  <a:pt x="1280183" y="927497"/>
                </a:lnTo>
                <a:lnTo>
                  <a:pt x="1274224" y="932260"/>
                </a:lnTo>
                <a:lnTo>
                  <a:pt x="1268661" y="936229"/>
                </a:lnTo>
                <a:lnTo>
                  <a:pt x="1262702" y="940197"/>
                </a:lnTo>
                <a:lnTo>
                  <a:pt x="1256743" y="943769"/>
                </a:lnTo>
                <a:lnTo>
                  <a:pt x="1250783" y="946548"/>
                </a:lnTo>
                <a:lnTo>
                  <a:pt x="1245221" y="949326"/>
                </a:lnTo>
                <a:lnTo>
                  <a:pt x="1239261" y="951707"/>
                </a:lnTo>
                <a:lnTo>
                  <a:pt x="1233699" y="953691"/>
                </a:lnTo>
                <a:lnTo>
                  <a:pt x="1228932" y="954882"/>
                </a:lnTo>
                <a:lnTo>
                  <a:pt x="1223767" y="956073"/>
                </a:lnTo>
                <a:lnTo>
                  <a:pt x="1218602" y="956469"/>
                </a:lnTo>
                <a:lnTo>
                  <a:pt x="1214232" y="957263"/>
                </a:lnTo>
                <a:lnTo>
                  <a:pt x="1208272" y="956469"/>
                </a:lnTo>
                <a:lnTo>
                  <a:pt x="1202313" y="956073"/>
                </a:lnTo>
                <a:lnTo>
                  <a:pt x="1195956" y="954882"/>
                </a:lnTo>
                <a:lnTo>
                  <a:pt x="1189996" y="953691"/>
                </a:lnTo>
                <a:lnTo>
                  <a:pt x="1183640" y="952104"/>
                </a:lnTo>
                <a:lnTo>
                  <a:pt x="1177283" y="949326"/>
                </a:lnTo>
                <a:lnTo>
                  <a:pt x="1171323" y="946944"/>
                </a:lnTo>
                <a:lnTo>
                  <a:pt x="1164967" y="944166"/>
                </a:lnTo>
                <a:lnTo>
                  <a:pt x="1158610" y="940594"/>
                </a:lnTo>
                <a:lnTo>
                  <a:pt x="1152253" y="937419"/>
                </a:lnTo>
                <a:lnTo>
                  <a:pt x="1146294" y="933054"/>
                </a:lnTo>
                <a:lnTo>
                  <a:pt x="1140334" y="928291"/>
                </a:lnTo>
                <a:lnTo>
                  <a:pt x="1133977" y="923926"/>
                </a:lnTo>
                <a:lnTo>
                  <a:pt x="1128018" y="918766"/>
                </a:lnTo>
                <a:lnTo>
                  <a:pt x="1122058" y="913210"/>
                </a:lnTo>
                <a:lnTo>
                  <a:pt x="1116099" y="907257"/>
                </a:lnTo>
                <a:lnTo>
                  <a:pt x="1110537" y="901304"/>
                </a:lnTo>
                <a:lnTo>
                  <a:pt x="1104975" y="894557"/>
                </a:lnTo>
                <a:lnTo>
                  <a:pt x="1099810" y="887810"/>
                </a:lnTo>
                <a:lnTo>
                  <a:pt x="1094645" y="880666"/>
                </a:lnTo>
                <a:lnTo>
                  <a:pt x="1089877" y="873522"/>
                </a:lnTo>
                <a:lnTo>
                  <a:pt x="1085507" y="865585"/>
                </a:lnTo>
                <a:lnTo>
                  <a:pt x="1080739" y="857647"/>
                </a:lnTo>
                <a:lnTo>
                  <a:pt x="1076766" y="849313"/>
                </a:lnTo>
                <a:lnTo>
                  <a:pt x="1072793" y="840582"/>
                </a:lnTo>
                <a:lnTo>
                  <a:pt x="1069218" y="831851"/>
                </a:lnTo>
                <a:lnTo>
                  <a:pt x="1066039" y="822722"/>
                </a:lnTo>
                <a:lnTo>
                  <a:pt x="1063258" y="813197"/>
                </a:lnTo>
                <a:lnTo>
                  <a:pt x="1060875" y="803672"/>
                </a:lnTo>
                <a:lnTo>
                  <a:pt x="1058491" y="793354"/>
                </a:lnTo>
                <a:lnTo>
                  <a:pt x="1056504" y="783432"/>
                </a:lnTo>
                <a:lnTo>
                  <a:pt x="1055312" y="772716"/>
                </a:lnTo>
                <a:lnTo>
                  <a:pt x="1054915" y="773113"/>
                </a:lnTo>
                <a:lnTo>
                  <a:pt x="1054518" y="773113"/>
                </a:lnTo>
                <a:lnTo>
                  <a:pt x="1053723" y="771525"/>
                </a:lnTo>
                <a:lnTo>
                  <a:pt x="1052929" y="767954"/>
                </a:lnTo>
                <a:lnTo>
                  <a:pt x="1051737" y="762000"/>
                </a:lnTo>
                <a:lnTo>
                  <a:pt x="1048558" y="745729"/>
                </a:lnTo>
                <a:lnTo>
                  <a:pt x="1046174" y="726282"/>
                </a:lnTo>
                <a:lnTo>
                  <a:pt x="1043393" y="706041"/>
                </a:lnTo>
                <a:lnTo>
                  <a:pt x="1042201" y="688578"/>
                </a:lnTo>
                <a:lnTo>
                  <a:pt x="1042201" y="681435"/>
                </a:lnTo>
                <a:lnTo>
                  <a:pt x="1042599" y="675878"/>
                </a:lnTo>
                <a:lnTo>
                  <a:pt x="1043393" y="672307"/>
                </a:lnTo>
                <a:lnTo>
                  <a:pt x="1043791" y="671116"/>
                </a:lnTo>
                <a:lnTo>
                  <a:pt x="1044585" y="671116"/>
                </a:lnTo>
                <a:lnTo>
                  <a:pt x="1045777" y="671116"/>
                </a:lnTo>
                <a:lnTo>
                  <a:pt x="1046969" y="671910"/>
                </a:lnTo>
                <a:lnTo>
                  <a:pt x="1048956" y="674291"/>
                </a:lnTo>
                <a:lnTo>
                  <a:pt x="1048558" y="662385"/>
                </a:lnTo>
                <a:lnTo>
                  <a:pt x="1048161" y="649685"/>
                </a:lnTo>
                <a:lnTo>
                  <a:pt x="1048558" y="636588"/>
                </a:lnTo>
                <a:lnTo>
                  <a:pt x="1050147" y="622697"/>
                </a:lnTo>
                <a:lnTo>
                  <a:pt x="1052929" y="624682"/>
                </a:lnTo>
                <a:lnTo>
                  <a:pt x="1055710" y="626666"/>
                </a:lnTo>
                <a:lnTo>
                  <a:pt x="1058888" y="627857"/>
                </a:lnTo>
                <a:lnTo>
                  <a:pt x="1061669" y="629047"/>
                </a:lnTo>
                <a:lnTo>
                  <a:pt x="1065245" y="629841"/>
                </a:lnTo>
                <a:lnTo>
                  <a:pt x="1068423" y="630238"/>
                </a:lnTo>
                <a:lnTo>
                  <a:pt x="1075575" y="630635"/>
                </a:lnTo>
                <a:lnTo>
                  <a:pt x="1082726" y="630238"/>
                </a:lnTo>
                <a:lnTo>
                  <a:pt x="1090672" y="629047"/>
                </a:lnTo>
                <a:lnTo>
                  <a:pt x="1099412" y="627063"/>
                </a:lnTo>
                <a:lnTo>
                  <a:pt x="1108153" y="623888"/>
                </a:lnTo>
                <a:lnTo>
                  <a:pt x="1116894" y="621110"/>
                </a:lnTo>
                <a:lnTo>
                  <a:pt x="1126429" y="617141"/>
                </a:lnTo>
                <a:lnTo>
                  <a:pt x="1146294" y="608410"/>
                </a:lnTo>
                <a:lnTo>
                  <a:pt x="1187613" y="588169"/>
                </a:lnTo>
                <a:lnTo>
                  <a:pt x="1176886" y="592535"/>
                </a:lnTo>
                <a:lnTo>
                  <a:pt x="1167350" y="597297"/>
                </a:lnTo>
                <a:lnTo>
                  <a:pt x="1158213" y="601663"/>
                </a:lnTo>
                <a:lnTo>
                  <a:pt x="1149869" y="605235"/>
                </a:lnTo>
                <a:lnTo>
                  <a:pt x="1141923" y="607616"/>
                </a:lnTo>
                <a:lnTo>
                  <a:pt x="1134375" y="609203"/>
                </a:lnTo>
                <a:lnTo>
                  <a:pt x="1126826" y="610394"/>
                </a:lnTo>
                <a:lnTo>
                  <a:pt x="1120072" y="611188"/>
                </a:lnTo>
                <a:lnTo>
                  <a:pt x="1113318" y="611188"/>
                </a:lnTo>
                <a:lnTo>
                  <a:pt x="1106564" y="610791"/>
                </a:lnTo>
                <a:lnTo>
                  <a:pt x="1100604" y="609600"/>
                </a:lnTo>
                <a:lnTo>
                  <a:pt x="1094645" y="608410"/>
                </a:lnTo>
                <a:lnTo>
                  <a:pt x="1089083" y="606822"/>
                </a:lnTo>
                <a:lnTo>
                  <a:pt x="1083521" y="604044"/>
                </a:lnTo>
                <a:lnTo>
                  <a:pt x="1079150" y="601663"/>
                </a:lnTo>
                <a:lnTo>
                  <a:pt x="1073985" y="599282"/>
                </a:lnTo>
                <a:lnTo>
                  <a:pt x="1069615" y="596107"/>
                </a:lnTo>
                <a:lnTo>
                  <a:pt x="1065642" y="592931"/>
                </a:lnTo>
                <a:lnTo>
                  <a:pt x="1061669" y="589360"/>
                </a:lnTo>
                <a:lnTo>
                  <a:pt x="1058491" y="586185"/>
                </a:lnTo>
                <a:lnTo>
                  <a:pt x="1052134" y="579041"/>
                </a:lnTo>
                <a:lnTo>
                  <a:pt x="1046572" y="572294"/>
                </a:lnTo>
                <a:lnTo>
                  <a:pt x="1042201" y="565944"/>
                </a:lnTo>
                <a:lnTo>
                  <a:pt x="1039023" y="560388"/>
                </a:lnTo>
                <a:lnTo>
                  <a:pt x="1036639" y="555625"/>
                </a:lnTo>
                <a:lnTo>
                  <a:pt x="1035050" y="552053"/>
                </a:lnTo>
                <a:lnTo>
                  <a:pt x="1041407" y="546497"/>
                </a:lnTo>
                <a:lnTo>
                  <a:pt x="1049353" y="540147"/>
                </a:lnTo>
                <a:lnTo>
                  <a:pt x="1060477" y="532606"/>
                </a:lnTo>
                <a:lnTo>
                  <a:pt x="1074383" y="523478"/>
                </a:lnTo>
                <a:lnTo>
                  <a:pt x="1082329" y="519113"/>
                </a:lnTo>
                <a:lnTo>
                  <a:pt x="1090672" y="514350"/>
                </a:lnTo>
                <a:lnTo>
                  <a:pt x="1100207" y="509588"/>
                </a:lnTo>
                <a:lnTo>
                  <a:pt x="1109742" y="505619"/>
                </a:lnTo>
                <a:lnTo>
                  <a:pt x="1120072" y="500856"/>
                </a:lnTo>
                <a:lnTo>
                  <a:pt x="1130799" y="496888"/>
                </a:lnTo>
                <a:lnTo>
                  <a:pt x="1142321" y="492919"/>
                </a:lnTo>
                <a:lnTo>
                  <a:pt x="1154637" y="489347"/>
                </a:lnTo>
                <a:lnTo>
                  <a:pt x="1166953" y="486172"/>
                </a:lnTo>
                <a:lnTo>
                  <a:pt x="1179667" y="483791"/>
                </a:lnTo>
                <a:lnTo>
                  <a:pt x="1193175" y="481410"/>
                </a:lnTo>
                <a:lnTo>
                  <a:pt x="1207478" y="480219"/>
                </a:lnTo>
                <a:lnTo>
                  <a:pt x="1221780" y="479425"/>
                </a:lnTo>
                <a:close/>
                <a:moveTo>
                  <a:pt x="301839" y="454025"/>
                </a:moveTo>
                <a:lnTo>
                  <a:pt x="316508" y="454422"/>
                </a:lnTo>
                <a:lnTo>
                  <a:pt x="330781" y="454819"/>
                </a:lnTo>
                <a:lnTo>
                  <a:pt x="344656" y="456803"/>
                </a:lnTo>
                <a:lnTo>
                  <a:pt x="358136" y="458788"/>
                </a:lnTo>
                <a:lnTo>
                  <a:pt x="371219" y="461169"/>
                </a:lnTo>
                <a:lnTo>
                  <a:pt x="383509" y="464344"/>
                </a:lnTo>
                <a:lnTo>
                  <a:pt x="395799" y="467916"/>
                </a:lnTo>
                <a:lnTo>
                  <a:pt x="406900" y="471885"/>
                </a:lnTo>
                <a:lnTo>
                  <a:pt x="418000" y="475853"/>
                </a:lnTo>
                <a:lnTo>
                  <a:pt x="428308" y="480219"/>
                </a:lnTo>
                <a:lnTo>
                  <a:pt x="437823" y="484981"/>
                </a:lnTo>
                <a:lnTo>
                  <a:pt x="446941" y="489347"/>
                </a:lnTo>
                <a:lnTo>
                  <a:pt x="455663" y="494110"/>
                </a:lnTo>
                <a:lnTo>
                  <a:pt x="463593" y="498872"/>
                </a:lnTo>
                <a:lnTo>
                  <a:pt x="477468" y="507206"/>
                </a:lnTo>
                <a:lnTo>
                  <a:pt x="488173" y="515144"/>
                </a:lnTo>
                <a:lnTo>
                  <a:pt x="496498" y="521097"/>
                </a:lnTo>
                <a:lnTo>
                  <a:pt x="503238" y="527050"/>
                </a:lnTo>
                <a:lnTo>
                  <a:pt x="500859" y="531019"/>
                </a:lnTo>
                <a:lnTo>
                  <a:pt x="498877" y="534988"/>
                </a:lnTo>
                <a:lnTo>
                  <a:pt x="495309" y="540941"/>
                </a:lnTo>
                <a:lnTo>
                  <a:pt x="491344" y="547291"/>
                </a:lnTo>
                <a:lnTo>
                  <a:pt x="485794" y="554038"/>
                </a:lnTo>
                <a:lnTo>
                  <a:pt x="479451" y="561181"/>
                </a:lnTo>
                <a:lnTo>
                  <a:pt x="476279" y="564753"/>
                </a:lnTo>
                <a:lnTo>
                  <a:pt x="472315" y="567928"/>
                </a:lnTo>
                <a:lnTo>
                  <a:pt x="467954" y="570707"/>
                </a:lnTo>
                <a:lnTo>
                  <a:pt x="463989" y="573882"/>
                </a:lnTo>
                <a:lnTo>
                  <a:pt x="459232" y="576660"/>
                </a:lnTo>
                <a:lnTo>
                  <a:pt x="454078" y="579438"/>
                </a:lnTo>
                <a:lnTo>
                  <a:pt x="448924" y="581422"/>
                </a:lnTo>
                <a:lnTo>
                  <a:pt x="443373" y="583010"/>
                </a:lnTo>
                <a:lnTo>
                  <a:pt x="437427" y="584994"/>
                </a:lnTo>
                <a:lnTo>
                  <a:pt x="431480" y="585788"/>
                </a:lnTo>
                <a:lnTo>
                  <a:pt x="424740" y="586185"/>
                </a:lnTo>
                <a:lnTo>
                  <a:pt x="418000" y="586185"/>
                </a:lnTo>
                <a:lnTo>
                  <a:pt x="411261" y="585788"/>
                </a:lnTo>
                <a:lnTo>
                  <a:pt x="403728" y="584200"/>
                </a:lnTo>
                <a:lnTo>
                  <a:pt x="396195" y="582216"/>
                </a:lnTo>
                <a:lnTo>
                  <a:pt x="388266" y="579835"/>
                </a:lnTo>
                <a:lnTo>
                  <a:pt x="379544" y="576263"/>
                </a:lnTo>
                <a:lnTo>
                  <a:pt x="370822" y="572294"/>
                </a:lnTo>
                <a:lnTo>
                  <a:pt x="361307" y="567531"/>
                </a:lnTo>
                <a:lnTo>
                  <a:pt x="350603" y="563166"/>
                </a:lnTo>
                <a:lnTo>
                  <a:pt x="392231" y="583010"/>
                </a:lnTo>
                <a:lnTo>
                  <a:pt x="411657" y="592138"/>
                </a:lnTo>
                <a:lnTo>
                  <a:pt x="420776" y="595710"/>
                </a:lnTo>
                <a:lnTo>
                  <a:pt x="429894" y="599282"/>
                </a:lnTo>
                <a:lnTo>
                  <a:pt x="438616" y="601663"/>
                </a:lnTo>
                <a:lnTo>
                  <a:pt x="446941" y="603647"/>
                </a:lnTo>
                <a:lnTo>
                  <a:pt x="454871" y="605235"/>
                </a:lnTo>
                <a:lnTo>
                  <a:pt x="462403" y="606028"/>
                </a:lnTo>
                <a:lnTo>
                  <a:pt x="469539" y="605632"/>
                </a:lnTo>
                <a:lnTo>
                  <a:pt x="472711" y="604441"/>
                </a:lnTo>
                <a:lnTo>
                  <a:pt x="476279" y="603647"/>
                </a:lnTo>
                <a:lnTo>
                  <a:pt x="479054" y="602853"/>
                </a:lnTo>
                <a:lnTo>
                  <a:pt x="481829" y="601266"/>
                </a:lnTo>
                <a:lnTo>
                  <a:pt x="485001" y="599678"/>
                </a:lnTo>
                <a:lnTo>
                  <a:pt x="487380" y="597694"/>
                </a:lnTo>
                <a:lnTo>
                  <a:pt x="489362" y="611982"/>
                </a:lnTo>
                <a:lnTo>
                  <a:pt x="489758" y="624682"/>
                </a:lnTo>
                <a:lnTo>
                  <a:pt x="489758" y="636985"/>
                </a:lnTo>
                <a:lnTo>
                  <a:pt x="488569" y="648891"/>
                </a:lnTo>
                <a:lnTo>
                  <a:pt x="490948" y="646907"/>
                </a:lnTo>
                <a:lnTo>
                  <a:pt x="492137" y="646510"/>
                </a:lnTo>
                <a:lnTo>
                  <a:pt x="493327" y="646113"/>
                </a:lnTo>
                <a:lnTo>
                  <a:pt x="493723" y="646510"/>
                </a:lnTo>
                <a:lnTo>
                  <a:pt x="494119" y="647303"/>
                </a:lnTo>
                <a:lnTo>
                  <a:pt x="494912" y="650875"/>
                </a:lnTo>
                <a:lnTo>
                  <a:pt x="495309" y="656432"/>
                </a:lnTo>
                <a:lnTo>
                  <a:pt x="495309" y="663575"/>
                </a:lnTo>
                <a:lnTo>
                  <a:pt x="494119" y="681435"/>
                </a:lnTo>
                <a:lnTo>
                  <a:pt x="491741" y="701279"/>
                </a:lnTo>
                <a:lnTo>
                  <a:pt x="489362" y="720725"/>
                </a:lnTo>
                <a:lnTo>
                  <a:pt x="486190" y="736600"/>
                </a:lnTo>
                <a:lnTo>
                  <a:pt x="485001" y="742554"/>
                </a:lnTo>
                <a:lnTo>
                  <a:pt x="484208" y="746522"/>
                </a:lnTo>
                <a:lnTo>
                  <a:pt x="483415" y="748507"/>
                </a:lnTo>
                <a:lnTo>
                  <a:pt x="483019" y="748507"/>
                </a:lnTo>
                <a:lnTo>
                  <a:pt x="482622" y="747713"/>
                </a:lnTo>
                <a:lnTo>
                  <a:pt x="481037" y="758032"/>
                </a:lnTo>
                <a:lnTo>
                  <a:pt x="479451" y="768350"/>
                </a:lnTo>
                <a:lnTo>
                  <a:pt x="477072" y="778272"/>
                </a:lnTo>
                <a:lnTo>
                  <a:pt x="474297" y="788194"/>
                </a:lnTo>
                <a:lnTo>
                  <a:pt x="471918" y="797719"/>
                </a:lnTo>
                <a:lnTo>
                  <a:pt x="468350" y="806451"/>
                </a:lnTo>
                <a:lnTo>
                  <a:pt x="465178" y="815976"/>
                </a:lnTo>
                <a:lnTo>
                  <a:pt x="460817" y="824310"/>
                </a:lnTo>
                <a:lnTo>
                  <a:pt x="457249" y="832644"/>
                </a:lnTo>
                <a:lnTo>
                  <a:pt x="452492" y="840582"/>
                </a:lnTo>
                <a:lnTo>
                  <a:pt x="447734" y="848122"/>
                </a:lnTo>
                <a:lnTo>
                  <a:pt x="443373" y="856060"/>
                </a:lnTo>
                <a:lnTo>
                  <a:pt x="438220" y="863204"/>
                </a:lnTo>
                <a:lnTo>
                  <a:pt x="432669" y="869951"/>
                </a:lnTo>
                <a:lnTo>
                  <a:pt x="427119" y="876301"/>
                </a:lnTo>
                <a:lnTo>
                  <a:pt x="421965" y="882254"/>
                </a:lnTo>
                <a:lnTo>
                  <a:pt x="416018" y="887810"/>
                </a:lnTo>
                <a:lnTo>
                  <a:pt x="410071" y="893366"/>
                </a:lnTo>
                <a:lnTo>
                  <a:pt x="404124" y="898922"/>
                </a:lnTo>
                <a:lnTo>
                  <a:pt x="398178" y="903685"/>
                </a:lnTo>
                <a:lnTo>
                  <a:pt x="391834" y="907654"/>
                </a:lnTo>
                <a:lnTo>
                  <a:pt x="385491" y="912019"/>
                </a:lnTo>
                <a:lnTo>
                  <a:pt x="379148" y="915591"/>
                </a:lnTo>
                <a:lnTo>
                  <a:pt x="372805" y="919163"/>
                </a:lnTo>
                <a:lnTo>
                  <a:pt x="366858" y="921941"/>
                </a:lnTo>
                <a:lnTo>
                  <a:pt x="360911" y="924719"/>
                </a:lnTo>
                <a:lnTo>
                  <a:pt x="354568" y="926704"/>
                </a:lnTo>
                <a:lnTo>
                  <a:pt x="348225" y="928688"/>
                </a:lnTo>
                <a:lnTo>
                  <a:pt x="342278" y="930276"/>
                </a:lnTo>
                <a:lnTo>
                  <a:pt x="335934" y="931069"/>
                </a:lnTo>
                <a:lnTo>
                  <a:pt x="329988" y="931863"/>
                </a:lnTo>
                <a:lnTo>
                  <a:pt x="324041" y="931863"/>
                </a:lnTo>
                <a:lnTo>
                  <a:pt x="319283" y="931863"/>
                </a:lnTo>
                <a:lnTo>
                  <a:pt x="314922" y="931069"/>
                </a:lnTo>
                <a:lnTo>
                  <a:pt x="309372" y="930276"/>
                </a:lnTo>
                <a:lnTo>
                  <a:pt x="304218" y="928291"/>
                </a:lnTo>
                <a:lnTo>
                  <a:pt x="298668" y="926704"/>
                </a:lnTo>
                <a:lnTo>
                  <a:pt x="293514" y="924323"/>
                </a:lnTo>
                <a:lnTo>
                  <a:pt x="287567" y="921544"/>
                </a:lnTo>
                <a:lnTo>
                  <a:pt x="281620" y="918369"/>
                </a:lnTo>
                <a:lnTo>
                  <a:pt x="275673" y="914797"/>
                </a:lnTo>
                <a:lnTo>
                  <a:pt x="269727" y="911226"/>
                </a:lnTo>
                <a:lnTo>
                  <a:pt x="263780" y="906860"/>
                </a:lnTo>
                <a:lnTo>
                  <a:pt x="257833" y="902494"/>
                </a:lnTo>
                <a:lnTo>
                  <a:pt x="251490" y="897732"/>
                </a:lnTo>
                <a:lnTo>
                  <a:pt x="245939" y="892572"/>
                </a:lnTo>
                <a:lnTo>
                  <a:pt x="239993" y="887016"/>
                </a:lnTo>
                <a:lnTo>
                  <a:pt x="234046" y="881063"/>
                </a:lnTo>
                <a:lnTo>
                  <a:pt x="228099" y="875110"/>
                </a:lnTo>
                <a:lnTo>
                  <a:pt x="222152" y="868760"/>
                </a:lnTo>
                <a:lnTo>
                  <a:pt x="216602" y="862013"/>
                </a:lnTo>
                <a:lnTo>
                  <a:pt x="210655" y="855663"/>
                </a:lnTo>
                <a:lnTo>
                  <a:pt x="205501" y="848122"/>
                </a:lnTo>
                <a:lnTo>
                  <a:pt x="200347" y="840582"/>
                </a:lnTo>
                <a:lnTo>
                  <a:pt x="195193" y="833041"/>
                </a:lnTo>
                <a:lnTo>
                  <a:pt x="190039" y="825104"/>
                </a:lnTo>
                <a:lnTo>
                  <a:pt x="185678" y="817166"/>
                </a:lnTo>
                <a:lnTo>
                  <a:pt x="181317" y="808832"/>
                </a:lnTo>
                <a:lnTo>
                  <a:pt x="176956" y="800101"/>
                </a:lnTo>
                <a:lnTo>
                  <a:pt x="173388" y="791369"/>
                </a:lnTo>
                <a:lnTo>
                  <a:pt x="169424" y="782638"/>
                </a:lnTo>
                <a:lnTo>
                  <a:pt x="166252" y="773113"/>
                </a:lnTo>
                <a:lnTo>
                  <a:pt x="163081" y="763985"/>
                </a:lnTo>
                <a:lnTo>
                  <a:pt x="160702" y="754460"/>
                </a:lnTo>
                <a:lnTo>
                  <a:pt x="158720" y="760413"/>
                </a:lnTo>
                <a:lnTo>
                  <a:pt x="155944" y="765572"/>
                </a:lnTo>
                <a:lnTo>
                  <a:pt x="154755" y="767160"/>
                </a:lnTo>
                <a:lnTo>
                  <a:pt x="153566" y="768747"/>
                </a:lnTo>
                <a:lnTo>
                  <a:pt x="152376" y="769541"/>
                </a:lnTo>
                <a:lnTo>
                  <a:pt x="151187" y="769541"/>
                </a:lnTo>
                <a:lnTo>
                  <a:pt x="149205" y="769144"/>
                </a:lnTo>
                <a:lnTo>
                  <a:pt x="148015" y="768350"/>
                </a:lnTo>
                <a:lnTo>
                  <a:pt x="146430" y="766763"/>
                </a:lnTo>
                <a:lnTo>
                  <a:pt x="145240" y="764779"/>
                </a:lnTo>
                <a:lnTo>
                  <a:pt x="143654" y="762397"/>
                </a:lnTo>
                <a:lnTo>
                  <a:pt x="142465" y="759222"/>
                </a:lnTo>
                <a:lnTo>
                  <a:pt x="140483" y="751682"/>
                </a:lnTo>
                <a:lnTo>
                  <a:pt x="138897" y="742950"/>
                </a:lnTo>
                <a:lnTo>
                  <a:pt x="136915" y="732632"/>
                </a:lnTo>
                <a:lnTo>
                  <a:pt x="136122" y="721519"/>
                </a:lnTo>
                <a:lnTo>
                  <a:pt x="136122" y="709216"/>
                </a:lnTo>
                <a:lnTo>
                  <a:pt x="136122" y="698104"/>
                </a:lnTo>
                <a:lnTo>
                  <a:pt x="136915" y="687785"/>
                </a:lnTo>
                <a:lnTo>
                  <a:pt x="138500" y="678260"/>
                </a:lnTo>
                <a:lnTo>
                  <a:pt x="139690" y="669528"/>
                </a:lnTo>
                <a:lnTo>
                  <a:pt x="141672" y="662385"/>
                </a:lnTo>
                <a:lnTo>
                  <a:pt x="143654" y="656432"/>
                </a:lnTo>
                <a:lnTo>
                  <a:pt x="145240" y="654447"/>
                </a:lnTo>
                <a:lnTo>
                  <a:pt x="146033" y="652066"/>
                </a:lnTo>
                <a:lnTo>
                  <a:pt x="147222" y="650875"/>
                </a:lnTo>
                <a:lnTo>
                  <a:pt x="148808" y="649685"/>
                </a:lnTo>
                <a:lnTo>
                  <a:pt x="144844" y="644922"/>
                </a:lnTo>
                <a:lnTo>
                  <a:pt x="141276" y="640557"/>
                </a:lnTo>
                <a:lnTo>
                  <a:pt x="138500" y="635397"/>
                </a:lnTo>
                <a:lnTo>
                  <a:pt x="135725" y="629841"/>
                </a:lnTo>
                <a:lnTo>
                  <a:pt x="133743" y="623888"/>
                </a:lnTo>
                <a:lnTo>
                  <a:pt x="132554" y="618728"/>
                </a:lnTo>
                <a:lnTo>
                  <a:pt x="131364" y="612378"/>
                </a:lnTo>
                <a:lnTo>
                  <a:pt x="130175" y="606425"/>
                </a:lnTo>
                <a:lnTo>
                  <a:pt x="130175" y="600075"/>
                </a:lnTo>
                <a:lnTo>
                  <a:pt x="130175" y="593725"/>
                </a:lnTo>
                <a:lnTo>
                  <a:pt x="130968" y="586978"/>
                </a:lnTo>
                <a:lnTo>
                  <a:pt x="131364" y="580628"/>
                </a:lnTo>
                <a:lnTo>
                  <a:pt x="132554" y="574278"/>
                </a:lnTo>
                <a:lnTo>
                  <a:pt x="133743" y="567531"/>
                </a:lnTo>
                <a:lnTo>
                  <a:pt x="136518" y="554831"/>
                </a:lnTo>
                <a:lnTo>
                  <a:pt x="140879" y="542528"/>
                </a:lnTo>
                <a:lnTo>
                  <a:pt x="145240" y="531416"/>
                </a:lnTo>
                <a:lnTo>
                  <a:pt x="149998" y="520700"/>
                </a:lnTo>
                <a:lnTo>
                  <a:pt x="154755" y="511175"/>
                </a:lnTo>
                <a:lnTo>
                  <a:pt x="159909" y="502841"/>
                </a:lnTo>
                <a:lnTo>
                  <a:pt x="163874" y="496094"/>
                </a:lnTo>
                <a:lnTo>
                  <a:pt x="168234" y="491728"/>
                </a:lnTo>
                <a:lnTo>
                  <a:pt x="169820" y="490141"/>
                </a:lnTo>
                <a:lnTo>
                  <a:pt x="171803" y="488950"/>
                </a:lnTo>
                <a:lnTo>
                  <a:pt x="180525" y="484981"/>
                </a:lnTo>
                <a:lnTo>
                  <a:pt x="188850" y="480616"/>
                </a:lnTo>
                <a:lnTo>
                  <a:pt x="197176" y="477044"/>
                </a:lnTo>
                <a:lnTo>
                  <a:pt x="206294" y="473472"/>
                </a:lnTo>
                <a:lnTo>
                  <a:pt x="214620" y="470694"/>
                </a:lnTo>
                <a:lnTo>
                  <a:pt x="222549" y="467519"/>
                </a:lnTo>
                <a:lnTo>
                  <a:pt x="239596" y="463153"/>
                </a:lnTo>
                <a:lnTo>
                  <a:pt x="255454" y="459581"/>
                </a:lnTo>
                <a:lnTo>
                  <a:pt x="270916" y="456803"/>
                </a:lnTo>
                <a:lnTo>
                  <a:pt x="286774" y="454819"/>
                </a:lnTo>
                <a:lnTo>
                  <a:pt x="301839" y="454025"/>
                </a:lnTo>
                <a:close/>
                <a:moveTo>
                  <a:pt x="634999" y="33338"/>
                </a:moveTo>
                <a:lnTo>
                  <a:pt x="647699" y="33338"/>
                </a:lnTo>
                <a:lnTo>
                  <a:pt x="660003" y="33734"/>
                </a:lnTo>
                <a:lnTo>
                  <a:pt x="671512" y="34923"/>
                </a:lnTo>
                <a:lnTo>
                  <a:pt x="683418" y="36903"/>
                </a:lnTo>
                <a:lnTo>
                  <a:pt x="695325" y="39280"/>
                </a:lnTo>
                <a:lnTo>
                  <a:pt x="706437" y="42052"/>
                </a:lnTo>
                <a:lnTo>
                  <a:pt x="697309" y="50766"/>
                </a:lnTo>
                <a:lnTo>
                  <a:pt x="688975" y="59877"/>
                </a:lnTo>
                <a:lnTo>
                  <a:pt x="681434" y="69383"/>
                </a:lnTo>
                <a:lnTo>
                  <a:pt x="673893" y="79285"/>
                </a:lnTo>
                <a:lnTo>
                  <a:pt x="667146" y="89188"/>
                </a:lnTo>
                <a:lnTo>
                  <a:pt x="660796" y="99486"/>
                </a:lnTo>
                <a:lnTo>
                  <a:pt x="654843" y="109785"/>
                </a:lnTo>
                <a:lnTo>
                  <a:pt x="649287" y="120875"/>
                </a:lnTo>
                <a:lnTo>
                  <a:pt x="644524" y="131966"/>
                </a:lnTo>
                <a:lnTo>
                  <a:pt x="640556" y="143057"/>
                </a:lnTo>
                <a:lnTo>
                  <a:pt x="636587" y="154543"/>
                </a:lnTo>
                <a:lnTo>
                  <a:pt x="633809" y="166426"/>
                </a:lnTo>
                <a:lnTo>
                  <a:pt x="631824" y="177913"/>
                </a:lnTo>
                <a:lnTo>
                  <a:pt x="629840" y="189796"/>
                </a:lnTo>
                <a:lnTo>
                  <a:pt x="628649" y="202075"/>
                </a:lnTo>
                <a:lnTo>
                  <a:pt x="628649" y="214750"/>
                </a:lnTo>
                <a:lnTo>
                  <a:pt x="628649" y="224256"/>
                </a:lnTo>
                <a:lnTo>
                  <a:pt x="629443" y="233762"/>
                </a:lnTo>
                <a:lnTo>
                  <a:pt x="630237" y="243269"/>
                </a:lnTo>
                <a:lnTo>
                  <a:pt x="632221" y="252379"/>
                </a:lnTo>
                <a:lnTo>
                  <a:pt x="633809" y="261885"/>
                </a:lnTo>
                <a:lnTo>
                  <a:pt x="635793" y="270995"/>
                </a:lnTo>
                <a:lnTo>
                  <a:pt x="638968" y="280502"/>
                </a:lnTo>
                <a:lnTo>
                  <a:pt x="641746" y="289216"/>
                </a:lnTo>
                <a:lnTo>
                  <a:pt x="644921" y="297930"/>
                </a:lnTo>
                <a:lnTo>
                  <a:pt x="648890" y="306644"/>
                </a:lnTo>
                <a:lnTo>
                  <a:pt x="652859" y="315358"/>
                </a:lnTo>
                <a:lnTo>
                  <a:pt x="657224" y="323676"/>
                </a:lnTo>
                <a:lnTo>
                  <a:pt x="661987" y="331994"/>
                </a:lnTo>
                <a:lnTo>
                  <a:pt x="667543" y="340312"/>
                </a:lnTo>
                <a:lnTo>
                  <a:pt x="673099" y="348630"/>
                </a:lnTo>
                <a:lnTo>
                  <a:pt x="678656" y="356552"/>
                </a:lnTo>
                <a:lnTo>
                  <a:pt x="667146" y="358928"/>
                </a:lnTo>
                <a:lnTo>
                  <a:pt x="655240" y="360513"/>
                </a:lnTo>
                <a:lnTo>
                  <a:pt x="643731" y="362097"/>
                </a:lnTo>
                <a:lnTo>
                  <a:pt x="573087" y="436563"/>
                </a:lnTo>
                <a:lnTo>
                  <a:pt x="552846" y="352195"/>
                </a:lnTo>
                <a:lnTo>
                  <a:pt x="541337" y="348630"/>
                </a:lnTo>
                <a:lnTo>
                  <a:pt x="530224" y="343877"/>
                </a:lnTo>
                <a:lnTo>
                  <a:pt x="519509" y="338332"/>
                </a:lnTo>
                <a:lnTo>
                  <a:pt x="508793" y="332390"/>
                </a:lnTo>
                <a:lnTo>
                  <a:pt x="499268" y="326053"/>
                </a:lnTo>
                <a:lnTo>
                  <a:pt x="490140" y="319319"/>
                </a:lnTo>
                <a:lnTo>
                  <a:pt x="481409" y="311793"/>
                </a:lnTo>
                <a:lnTo>
                  <a:pt x="473471" y="303871"/>
                </a:lnTo>
                <a:lnTo>
                  <a:pt x="465931" y="295553"/>
                </a:lnTo>
                <a:lnTo>
                  <a:pt x="459184" y="286443"/>
                </a:lnTo>
                <a:lnTo>
                  <a:pt x="453231" y="277333"/>
                </a:lnTo>
                <a:lnTo>
                  <a:pt x="447674" y="267827"/>
                </a:lnTo>
                <a:lnTo>
                  <a:pt x="443309" y="257924"/>
                </a:lnTo>
                <a:lnTo>
                  <a:pt x="439737" y="247626"/>
                </a:lnTo>
                <a:lnTo>
                  <a:pt x="436959" y="236535"/>
                </a:lnTo>
                <a:lnTo>
                  <a:pt x="434578" y="225444"/>
                </a:lnTo>
                <a:lnTo>
                  <a:pt x="433784" y="217126"/>
                </a:lnTo>
                <a:lnTo>
                  <a:pt x="433387" y="208808"/>
                </a:lnTo>
                <a:lnTo>
                  <a:pt x="433387" y="200490"/>
                </a:lnTo>
                <a:lnTo>
                  <a:pt x="434181" y="192568"/>
                </a:lnTo>
                <a:lnTo>
                  <a:pt x="434974" y="183854"/>
                </a:lnTo>
                <a:lnTo>
                  <a:pt x="436959" y="175932"/>
                </a:lnTo>
                <a:lnTo>
                  <a:pt x="438943" y="168011"/>
                </a:lnTo>
                <a:lnTo>
                  <a:pt x="441324" y="160089"/>
                </a:lnTo>
                <a:lnTo>
                  <a:pt x="444499" y="152563"/>
                </a:lnTo>
                <a:lnTo>
                  <a:pt x="447674" y="145037"/>
                </a:lnTo>
                <a:lnTo>
                  <a:pt x="451643" y="137115"/>
                </a:lnTo>
                <a:lnTo>
                  <a:pt x="456009" y="129985"/>
                </a:lnTo>
                <a:lnTo>
                  <a:pt x="460374" y="122856"/>
                </a:lnTo>
                <a:lnTo>
                  <a:pt x="465534" y="115726"/>
                </a:lnTo>
                <a:lnTo>
                  <a:pt x="471090" y="108992"/>
                </a:lnTo>
                <a:lnTo>
                  <a:pt x="476646" y="102259"/>
                </a:lnTo>
                <a:lnTo>
                  <a:pt x="482996" y="95921"/>
                </a:lnTo>
                <a:lnTo>
                  <a:pt x="488949" y="89980"/>
                </a:lnTo>
                <a:lnTo>
                  <a:pt x="495696" y="84434"/>
                </a:lnTo>
                <a:lnTo>
                  <a:pt x="503237" y="78889"/>
                </a:lnTo>
                <a:lnTo>
                  <a:pt x="510778" y="73344"/>
                </a:lnTo>
                <a:lnTo>
                  <a:pt x="518318" y="68195"/>
                </a:lnTo>
                <a:lnTo>
                  <a:pt x="526256" y="63441"/>
                </a:lnTo>
                <a:lnTo>
                  <a:pt x="534590" y="59084"/>
                </a:lnTo>
                <a:lnTo>
                  <a:pt x="543321" y="54727"/>
                </a:lnTo>
                <a:lnTo>
                  <a:pt x="552449" y="51162"/>
                </a:lnTo>
                <a:lnTo>
                  <a:pt x="561181" y="47598"/>
                </a:lnTo>
                <a:lnTo>
                  <a:pt x="570309" y="44429"/>
                </a:lnTo>
                <a:lnTo>
                  <a:pt x="580231" y="41656"/>
                </a:lnTo>
                <a:lnTo>
                  <a:pt x="589756" y="39280"/>
                </a:lnTo>
                <a:lnTo>
                  <a:pt x="600074" y="37299"/>
                </a:lnTo>
                <a:lnTo>
                  <a:pt x="609996" y="35319"/>
                </a:lnTo>
                <a:lnTo>
                  <a:pt x="622696" y="34130"/>
                </a:lnTo>
                <a:lnTo>
                  <a:pt x="634999" y="33338"/>
                </a:lnTo>
                <a:close/>
                <a:moveTo>
                  <a:pt x="942975" y="0"/>
                </a:moveTo>
                <a:lnTo>
                  <a:pt x="956886" y="396"/>
                </a:lnTo>
                <a:lnTo>
                  <a:pt x="970400" y="793"/>
                </a:lnTo>
                <a:lnTo>
                  <a:pt x="983119" y="2378"/>
                </a:lnTo>
                <a:lnTo>
                  <a:pt x="996236" y="4359"/>
                </a:lnTo>
                <a:lnTo>
                  <a:pt x="1009352" y="6737"/>
                </a:lnTo>
                <a:lnTo>
                  <a:pt x="1022071" y="9907"/>
                </a:lnTo>
                <a:lnTo>
                  <a:pt x="1034392" y="13078"/>
                </a:lnTo>
                <a:lnTo>
                  <a:pt x="1046714" y="17040"/>
                </a:lnTo>
                <a:lnTo>
                  <a:pt x="1058638" y="21003"/>
                </a:lnTo>
                <a:lnTo>
                  <a:pt x="1069767" y="25759"/>
                </a:lnTo>
                <a:lnTo>
                  <a:pt x="1080896" y="31307"/>
                </a:lnTo>
                <a:lnTo>
                  <a:pt x="1091628" y="36855"/>
                </a:lnTo>
                <a:lnTo>
                  <a:pt x="1102359" y="42403"/>
                </a:lnTo>
                <a:lnTo>
                  <a:pt x="1112693" y="48743"/>
                </a:lnTo>
                <a:lnTo>
                  <a:pt x="1121835" y="55480"/>
                </a:lnTo>
                <a:lnTo>
                  <a:pt x="1130977" y="62613"/>
                </a:lnTo>
                <a:lnTo>
                  <a:pt x="1140119" y="70143"/>
                </a:lnTo>
                <a:lnTo>
                  <a:pt x="1148465" y="78465"/>
                </a:lnTo>
                <a:lnTo>
                  <a:pt x="1156415" y="86390"/>
                </a:lnTo>
                <a:lnTo>
                  <a:pt x="1163966" y="94712"/>
                </a:lnTo>
                <a:lnTo>
                  <a:pt x="1170723" y="103431"/>
                </a:lnTo>
                <a:lnTo>
                  <a:pt x="1177083" y="112545"/>
                </a:lnTo>
                <a:lnTo>
                  <a:pt x="1183045" y="121660"/>
                </a:lnTo>
                <a:lnTo>
                  <a:pt x="1188609" y="130774"/>
                </a:lnTo>
                <a:lnTo>
                  <a:pt x="1192982" y="141078"/>
                </a:lnTo>
                <a:lnTo>
                  <a:pt x="1197354" y="150589"/>
                </a:lnTo>
                <a:lnTo>
                  <a:pt x="1201328" y="160892"/>
                </a:lnTo>
                <a:lnTo>
                  <a:pt x="1204111" y="171195"/>
                </a:lnTo>
                <a:lnTo>
                  <a:pt x="1206098" y="181895"/>
                </a:lnTo>
                <a:lnTo>
                  <a:pt x="1208085" y="192991"/>
                </a:lnTo>
                <a:lnTo>
                  <a:pt x="1209278" y="203294"/>
                </a:lnTo>
                <a:lnTo>
                  <a:pt x="1209675" y="214787"/>
                </a:lnTo>
                <a:lnTo>
                  <a:pt x="1209278" y="225486"/>
                </a:lnTo>
                <a:lnTo>
                  <a:pt x="1208085" y="236582"/>
                </a:lnTo>
                <a:lnTo>
                  <a:pt x="1206098" y="247282"/>
                </a:lnTo>
                <a:lnTo>
                  <a:pt x="1204111" y="257586"/>
                </a:lnTo>
                <a:lnTo>
                  <a:pt x="1201328" y="268285"/>
                </a:lnTo>
                <a:lnTo>
                  <a:pt x="1197354" y="278192"/>
                </a:lnTo>
                <a:lnTo>
                  <a:pt x="1192982" y="288496"/>
                </a:lnTo>
                <a:lnTo>
                  <a:pt x="1188609" y="298007"/>
                </a:lnTo>
                <a:lnTo>
                  <a:pt x="1183045" y="307914"/>
                </a:lnTo>
                <a:lnTo>
                  <a:pt x="1177083" y="317028"/>
                </a:lnTo>
                <a:lnTo>
                  <a:pt x="1170723" y="325747"/>
                </a:lnTo>
                <a:lnTo>
                  <a:pt x="1163966" y="334861"/>
                </a:lnTo>
                <a:lnTo>
                  <a:pt x="1156415" y="343183"/>
                </a:lnTo>
                <a:lnTo>
                  <a:pt x="1148465" y="351109"/>
                </a:lnTo>
                <a:lnTo>
                  <a:pt x="1140119" y="358638"/>
                </a:lnTo>
                <a:lnTo>
                  <a:pt x="1130977" y="366168"/>
                </a:lnTo>
                <a:lnTo>
                  <a:pt x="1121835" y="373301"/>
                </a:lnTo>
                <a:lnTo>
                  <a:pt x="1112693" y="380038"/>
                </a:lnTo>
                <a:lnTo>
                  <a:pt x="1102359" y="386378"/>
                </a:lnTo>
                <a:lnTo>
                  <a:pt x="1091628" y="392323"/>
                </a:lnTo>
                <a:lnTo>
                  <a:pt x="1080896" y="398267"/>
                </a:lnTo>
                <a:lnTo>
                  <a:pt x="1069767" y="403419"/>
                </a:lnTo>
                <a:lnTo>
                  <a:pt x="1058638" y="407778"/>
                </a:lnTo>
                <a:lnTo>
                  <a:pt x="1046714" y="412137"/>
                </a:lnTo>
                <a:lnTo>
                  <a:pt x="1034392" y="416496"/>
                </a:lnTo>
                <a:lnTo>
                  <a:pt x="1022071" y="419666"/>
                </a:lnTo>
                <a:lnTo>
                  <a:pt x="1009352" y="422440"/>
                </a:lnTo>
                <a:lnTo>
                  <a:pt x="996236" y="424818"/>
                </a:lnTo>
                <a:lnTo>
                  <a:pt x="983119" y="426799"/>
                </a:lnTo>
                <a:lnTo>
                  <a:pt x="970400" y="427988"/>
                </a:lnTo>
                <a:lnTo>
                  <a:pt x="956886" y="429177"/>
                </a:lnTo>
                <a:lnTo>
                  <a:pt x="942975" y="429573"/>
                </a:lnTo>
                <a:lnTo>
                  <a:pt x="931051" y="429573"/>
                </a:lnTo>
                <a:lnTo>
                  <a:pt x="923897" y="438292"/>
                </a:lnTo>
                <a:lnTo>
                  <a:pt x="921512" y="440669"/>
                </a:lnTo>
                <a:lnTo>
                  <a:pt x="920320" y="442651"/>
                </a:lnTo>
                <a:lnTo>
                  <a:pt x="919525" y="444632"/>
                </a:lnTo>
                <a:lnTo>
                  <a:pt x="918730" y="447010"/>
                </a:lnTo>
                <a:lnTo>
                  <a:pt x="918332" y="449784"/>
                </a:lnTo>
                <a:lnTo>
                  <a:pt x="917935" y="453351"/>
                </a:lnTo>
                <a:lnTo>
                  <a:pt x="917537" y="457710"/>
                </a:lnTo>
                <a:lnTo>
                  <a:pt x="917935" y="468806"/>
                </a:lnTo>
                <a:lnTo>
                  <a:pt x="919127" y="484657"/>
                </a:lnTo>
                <a:lnTo>
                  <a:pt x="921512" y="506056"/>
                </a:lnTo>
                <a:lnTo>
                  <a:pt x="925487" y="533400"/>
                </a:lnTo>
                <a:lnTo>
                  <a:pt x="803862" y="397474"/>
                </a:lnTo>
                <a:lnTo>
                  <a:pt x="799490" y="395493"/>
                </a:lnTo>
                <a:lnTo>
                  <a:pt x="785578" y="387171"/>
                </a:lnTo>
                <a:lnTo>
                  <a:pt x="772064" y="378849"/>
                </a:lnTo>
                <a:lnTo>
                  <a:pt x="759346" y="370131"/>
                </a:lnTo>
                <a:lnTo>
                  <a:pt x="747819" y="360223"/>
                </a:lnTo>
                <a:lnTo>
                  <a:pt x="736690" y="350713"/>
                </a:lnTo>
                <a:lnTo>
                  <a:pt x="726753" y="339617"/>
                </a:lnTo>
                <a:lnTo>
                  <a:pt x="717214" y="328917"/>
                </a:lnTo>
                <a:lnTo>
                  <a:pt x="708867" y="317425"/>
                </a:lnTo>
                <a:lnTo>
                  <a:pt x="701713" y="305536"/>
                </a:lnTo>
                <a:lnTo>
                  <a:pt x="694956" y="293251"/>
                </a:lnTo>
                <a:lnTo>
                  <a:pt x="689391" y="280966"/>
                </a:lnTo>
                <a:lnTo>
                  <a:pt x="687007" y="274626"/>
                </a:lnTo>
                <a:lnTo>
                  <a:pt x="684622" y="268285"/>
                </a:lnTo>
                <a:lnTo>
                  <a:pt x="682635" y="261548"/>
                </a:lnTo>
                <a:lnTo>
                  <a:pt x="681045" y="255208"/>
                </a:lnTo>
                <a:lnTo>
                  <a:pt x="679852" y="248471"/>
                </a:lnTo>
                <a:lnTo>
                  <a:pt x="678660" y="241734"/>
                </a:lnTo>
                <a:lnTo>
                  <a:pt x="677467" y="234997"/>
                </a:lnTo>
                <a:lnTo>
                  <a:pt x="676673" y="228260"/>
                </a:lnTo>
                <a:lnTo>
                  <a:pt x="676275" y="221524"/>
                </a:lnTo>
                <a:lnTo>
                  <a:pt x="676275" y="214787"/>
                </a:lnTo>
                <a:lnTo>
                  <a:pt x="676673" y="203294"/>
                </a:lnTo>
                <a:lnTo>
                  <a:pt x="677467" y="192991"/>
                </a:lnTo>
                <a:lnTo>
                  <a:pt x="679455" y="181895"/>
                </a:lnTo>
                <a:lnTo>
                  <a:pt x="681840" y="171195"/>
                </a:lnTo>
                <a:lnTo>
                  <a:pt x="684622" y="160892"/>
                </a:lnTo>
                <a:lnTo>
                  <a:pt x="688199" y="150589"/>
                </a:lnTo>
                <a:lnTo>
                  <a:pt x="692571" y="141078"/>
                </a:lnTo>
                <a:lnTo>
                  <a:pt x="696943" y="130774"/>
                </a:lnTo>
                <a:lnTo>
                  <a:pt x="702508" y="121660"/>
                </a:lnTo>
                <a:lnTo>
                  <a:pt x="708470" y="112545"/>
                </a:lnTo>
                <a:lnTo>
                  <a:pt x="714829" y="103431"/>
                </a:lnTo>
                <a:lnTo>
                  <a:pt x="721984" y="94712"/>
                </a:lnTo>
                <a:lnTo>
                  <a:pt x="729138" y="86390"/>
                </a:lnTo>
                <a:lnTo>
                  <a:pt x="737087" y="78465"/>
                </a:lnTo>
                <a:lnTo>
                  <a:pt x="745434" y="70143"/>
                </a:lnTo>
                <a:lnTo>
                  <a:pt x="754576" y="62613"/>
                </a:lnTo>
                <a:lnTo>
                  <a:pt x="763718" y="55480"/>
                </a:lnTo>
                <a:lnTo>
                  <a:pt x="773654" y="48743"/>
                </a:lnTo>
                <a:lnTo>
                  <a:pt x="783591" y="42403"/>
                </a:lnTo>
                <a:lnTo>
                  <a:pt x="793925" y="36855"/>
                </a:lnTo>
                <a:lnTo>
                  <a:pt x="804657" y="31307"/>
                </a:lnTo>
                <a:lnTo>
                  <a:pt x="815786" y="25759"/>
                </a:lnTo>
                <a:lnTo>
                  <a:pt x="827710" y="21003"/>
                </a:lnTo>
                <a:lnTo>
                  <a:pt x="839236" y="17040"/>
                </a:lnTo>
                <a:lnTo>
                  <a:pt x="851160" y="13078"/>
                </a:lnTo>
                <a:lnTo>
                  <a:pt x="863879" y="9907"/>
                </a:lnTo>
                <a:lnTo>
                  <a:pt x="876598" y="6737"/>
                </a:lnTo>
                <a:lnTo>
                  <a:pt x="889317" y="4359"/>
                </a:lnTo>
                <a:lnTo>
                  <a:pt x="902434" y="2378"/>
                </a:lnTo>
                <a:lnTo>
                  <a:pt x="915947" y="793"/>
                </a:lnTo>
                <a:lnTo>
                  <a:pt x="929461" y="396"/>
                </a:lnTo>
                <a:lnTo>
                  <a:pt x="942975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联系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KSO_Shape"/>
          <p:cNvSpPr/>
          <p:nvPr/>
        </p:nvSpPr>
        <p:spPr>
          <a:xfrm>
            <a:off x="1785960" y="1357200"/>
            <a:ext cx="380880" cy="254160"/>
          </a:xfrm>
          <a:custGeom>
            <a:avLst/>
            <a:gdLst/>
            <a:ahLst/>
            <a:rect l="l" t="t" r="r" b="b"/>
            <a:pathLst>
              <a:path w="4974795" h="3320682">
                <a:moveTo>
                  <a:pt x="1897867" y="1805825"/>
                </a:moveTo>
                <a:lnTo>
                  <a:pt x="2485737" y="2315734"/>
                </a:lnTo>
                <a:lnTo>
                  <a:pt x="3073607" y="1805825"/>
                </a:lnTo>
                <a:lnTo>
                  <a:pt x="4820061" y="3320682"/>
                </a:lnTo>
                <a:lnTo>
                  <a:pt x="151413" y="3320682"/>
                </a:lnTo>
                <a:lnTo>
                  <a:pt x="1897867" y="1805825"/>
                </a:lnTo>
                <a:close/>
                <a:moveTo>
                  <a:pt x="0" y="159634"/>
                </a:moveTo>
                <a:lnTo>
                  <a:pt x="1788328" y="1710812"/>
                </a:lnTo>
                <a:lnTo>
                  <a:pt x="0" y="3261996"/>
                </a:lnTo>
                <a:lnTo>
                  <a:pt x="0" y="159634"/>
                </a:lnTo>
                <a:close/>
                <a:moveTo>
                  <a:pt x="4974795" y="156753"/>
                </a:moveTo>
                <a:lnTo>
                  <a:pt x="4974795" y="3264872"/>
                </a:lnTo>
                <a:lnTo>
                  <a:pt x="3183146" y="1710812"/>
                </a:lnTo>
                <a:lnTo>
                  <a:pt x="4974795" y="156753"/>
                </a:lnTo>
                <a:close/>
                <a:moveTo>
                  <a:pt x="35040" y="0"/>
                </a:moveTo>
                <a:lnTo>
                  <a:pt x="4936434" y="0"/>
                </a:lnTo>
                <a:lnTo>
                  <a:pt x="2485737" y="2125709"/>
                </a:lnTo>
                <a:lnTo>
                  <a:pt x="3504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KSO_Shape"/>
          <p:cNvSpPr/>
          <p:nvPr/>
        </p:nvSpPr>
        <p:spPr>
          <a:xfrm>
            <a:off x="1857240" y="2286000"/>
            <a:ext cx="347760" cy="411120"/>
          </a:xfrm>
          <a:custGeom>
            <a:avLst/>
            <a:gdLst/>
            <a:ahLst/>
            <a:rect l="l" t="t" r="r" b="b"/>
            <a:pathLst>
              <a:path w="396520" h="469210">
                <a:moveTo>
                  <a:pt x="327445" y="314600"/>
                </a:moveTo>
                <a:cubicBezTo>
                  <a:pt x="356349" y="319254"/>
                  <a:pt x="385797" y="360745"/>
                  <a:pt x="394054" y="381803"/>
                </a:cubicBezTo>
                <a:cubicBezTo>
                  <a:pt x="402312" y="402860"/>
                  <a:pt x="388098" y="427511"/>
                  <a:pt x="376990" y="440944"/>
                </a:cubicBezTo>
                <a:cubicBezTo>
                  <a:pt x="373700" y="421882"/>
                  <a:pt x="364955" y="401443"/>
                  <a:pt x="352485" y="383463"/>
                </a:cubicBezTo>
                <a:cubicBezTo>
                  <a:pt x="332676" y="354903"/>
                  <a:pt x="307287" y="337803"/>
                  <a:pt x="287162" y="338581"/>
                </a:cubicBezTo>
                <a:cubicBezTo>
                  <a:pt x="300917" y="326499"/>
                  <a:pt x="298542" y="309947"/>
                  <a:pt x="327445" y="314600"/>
                </a:cubicBezTo>
                <a:close/>
                <a:moveTo>
                  <a:pt x="44367" y="9445"/>
                </a:moveTo>
                <a:cubicBezTo>
                  <a:pt x="65307" y="7976"/>
                  <a:pt x="88582" y="48300"/>
                  <a:pt x="98716" y="103893"/>
                </a:cubicBezTo>
                <a:cubicBezTo>
                  <a:pt x="103023" y="127522"/>
                  <a:pt x="104507" y="151694"/>
                  <a:pt x="102812" y="172874"/>
                </a:cubicBezTo>
                <a:cubicBezTo>
                  <a:pt x="96419" y="177933"/>
                  <a:pt x="92462" y="183883"/>
                  <a:pt x="93679" y="191748"/>
                </a:cubicBezTo>
                <a:cubicBezTo>
                  <a:pt x="97962" y="219449"/>
                  <a:pt x="202914" y="329063"/>
                  <a:pt x="240363" y="349244"/>
                </a:cubicBezTo>
                <a:cubicBezTo>
                  <a:pt x="253454" y="356299"/>
                  <a:pt x="265280" y="353652"/>
                  <a:pt x="275564" y="347108"/>
                </a:cubicBezTo>
                <a:lnTo>
                  <a:pt x="275884" y="347663"/>
                </a:lnTo>
                <a:cubicBezTo>
                  <a:pt x="293996" y="337193"/>
                  <a:pt x="324545" y="354625"/>
                  <a:pt x="347507" y="388530"/>
                </a:cubicBezTo>
                <a:cubicBezTo>
                  <a:pt x="360303" y="407426"/>
                  <a:pt x="369015" y="429003"/>
                  <a:pt x="371399" y="448117"/>
                </a:cubicBezTo>
                <a:cubicBezTo>
                  <a:pt x="347296" y="472826"/>
                  <a:pt x="310581" y="469765"/>
                  <a:pt x="288158" y="468159"/>
                </a:cubicBezTo>
                <a:cubicBezTo>
                  <a:pt x="253182" y="465654"/>
                  <a:pt x="-15065" y="364036"/>
                  <a:pt x="664" y="89829"/>
                </a:cubicBezTo>
                <a:cubicBezTo>
                  <a:pt x="3125" y="70964"/>
                  <a:pt x="7079" y="53749"/>
                  <a:pt x="14299" y="39550"/>
                </a:cubicBezTo>
                <a:cubicBezTo>
                  <a:pt x="20978" y="26415"/>
                  <a:pt x="30453" y="15861"/>
                  <a:pt x="44367" y="9445"/>
                </a:cubicBezTo>
                <a:close/>
                <a:moveTo>
                  <a:pt x="85842" y="6"/>
                </a:moveTo>
                <a:cubicBezTo>
                  <a:pt x="147282" y="-938"/>
                  <a:pt x="156451" y="106342"/>
                  <a:pt x="147962" y="128156"/>
                </a:cubicBezTo>
                <a:cubicBezTo>
                  <a:pt x="140696" y="146825"/>
                  <a:pt x="125598" y="157194"/>
                  <a:pt x="109217" y="167957"/>
                </a:cubicBezTo>
                <a:cubicBezTo>
                  <a:pt x="111214" y="147002"/>
                  <a:pt x="109601" y="123749"/>
                  <a:pt x="105273" y="101024"/>
                </a:cubicBezTo>
                <a:cubicBezTo>
                  <a:pt x="95931" y="51971"/>
                  <a:pt x="75887" y="14560"/>
                  <a:pt x="55177" y="5105"/>
                </a:cubicBezTo>
                <a:cubicBezTo>
                  <a:pt x="63799" y="1769"/>
                  <a:pt x="73998" y="188"/>
                  <a:pt x="85842" y="6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2428920" y="12859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8888888@qq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14"/>
          <p:cNvSpPr/>
          <p:nvPr/>
        </p:nvSpPr>
        <p:spPr>
          <a:xfrm>
            <a:off x="2428920" y="23446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15088888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17"/>
          <p:cNvSpPr/>
          <p:nvPr/>
        </p:nvSpPr>
        <p:spPr>
          <a:xfrm>
            <a:off x="2428920" y="32018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  <a:ea typeface="微软雅黑 Light"/>
              </a:rPr>
              <a:t>http://weibo.com/8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KSO_Shape"/>
          <p:cNvSpPr/>
          <p:nvPr/>
        </p:nvSpPr>
        <p:spPr>
          <a:xfrm>
            <a:off x="1928880" y="3214800"/>
            <a:ext cx="380880" cy="30960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03:19:40Z</dcterms:created>
  <dc:creator>Administrator</dc:creator>
  <dc:description/>
  <cp:keywords/>
  <dc:language>en-US</dc:language>
  <cp:lastModifiedBy>admin</cp:lastModifiedBy>
  <dcterms:modified xsi:type="dcterms:W3CDTF">2017-05-30T09:58:4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