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1C7-269E-4A7B-89C5-E0153BF2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51C-6111-479F-96F7-19171421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049F0-B799-4463-8A1A-B837D22A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C4D9B-2237-4F49-8BA1-416A204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F19B1-1629-491C-B91F-354A2131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828D4-D79A-44E3-9B6F-945A2DC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F4FCB-57DD-4B67-990B-019B521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A7D4E-15A7-4440-83A6-1F4501A3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09F7-F4DE-4D25-8C01-166334A9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2F32B-90E4-447F-B03C-512D40E3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2039D-36F1-4CB2-A5B6-4138CFDA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90706-68E8-412F-976E-96666305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CA1-F425-4A1D-9261-2976A78C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4364B-B944-454D-BD60-ACB605A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58EC1-C885-470D-9FD4-EBDCFEB9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CD520-472D-4D1E-B366-EB599439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E7ACE-3EFD-4A8A-9950-A60E726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0CB8A-87D9-4595-90BF-9F4779DF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6C62B-E0E0-44F6-9FD3-C7FA8570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05A0D-82EA-4174-929D-19451044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21FFF-C81E-4E40-B600-A8E95D09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AA0F7-D8F4-4B4E-9012-30B36ED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B5CEE-8E6D-47D1-925A-FD0C89C6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A77-EBB8-43CC-BED0-1B2328CE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B8EDA-89C0-4350-A390-90EF88BF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98089-0E0E-49A2-A581-0B53D494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D25ED-15AB-4561-ABF7-5B91099C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267AA-EFED-4E8A-BAED-F472565C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0968-EA0E-4AC1-966B-DD28907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6E6E6-EE37-410E-B609-28D9F905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3C9F6-C6C6-4995-8F6E-2D9C8E72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76A94-5B06-4F72-AADD-4D08B8B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CCCDF-1D4A-4897-B6F9-8D43E58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ACE91-0BA3-4A56-B07E-5080154B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C13-7C91-464C-999C-6B881ADF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39FF2-DA03-42E0-974C-96C8712C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5EFAD-FF5A-4B4C-AD88-410FEA1F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7C0F7-4594-4FEC-8F6A-74BA6B3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7377C-BCAD-4BA8-A21A-CD275903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88BF4-045A-4CCD-ACA5-52B7AA2C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72693-0553-4B0B-9C3D-8FE3B519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DEDFF-F1A5-4123-A312-DA10F799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AAFC-788A-4143-AE7F-901F7D97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A281B-852F-431D-A75C-480876DB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6E3424-482E-4B2C-AE2D-CA069906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0904-A8E7-4D06-8466-F029A15F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219DA-86AD-436B-AA98-977A063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95D7CA-20EF-4B6F-BCC8-5B53B091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063BD-2F4F-4A5D-94DF-1150D7BC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45E43-1340-4C58-B8E0-4A77115F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0AE2F-64BD-4B68-8C09-0829E267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67E0D-C68B-4F3C-8664-5FAC8DEE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57733-5189-40C8-9185-439A9ABE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E1574-7691-4C08-8C63-0F4A0F4A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8E486-6AED-4765-AAED-252B3BE8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8729A-B282-4930-9BC4-EC9BC871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8C0E-7102-4AA6-8EBF-D6ECDA9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D6401-76FA-413B-8440-7E2A469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722DF-000A-45EE-B4F7-8E6D4F3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8BA62-BC26-440D-9689-1253E75A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7A9EC-77BC-46E8-8B3C-B47E4FA0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1D61DA-F207-40D7-8A85-57658672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1C6B0-9853-4E95-BD20-993BB9E1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42139-E387-4C52-813E-4CE599D0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940F-571A-406C-BE35-CE7E8B1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7CDD-F4EB-4047-AA77-8AAC73E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63F-1D7D-4521-A237-8DD318B7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D358-CDA3-44A2-92CB-691671C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EB7-02BD-40D2-8472-D6CEF8CC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ACE-6287-4481-A65B-8E90EB67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0BFD-74F3-4B4F-BB90-F24D1F5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7196-7853-4618-9976-7D9280C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73F1-9224-4DA7-A0AE-5CBBD722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714C-6316-46C2-95A5-0C97E352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C882-6BF4-40B7-815E-6581E619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C905E-2B3D-45BB-85C1-AB4AB36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A30C-28E2-4FBF-ACF5-E823284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4CED-4B4D-4A88-B642-0D554AB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6F5E-23C9-4C78-9BE2-6D13CB4C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81F-2132-494B-8E1F-4A988142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3F5A4-2585-4D10-A17D-D7E59B1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37670-E49E-4754-BDD3-AC674B66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FC89-3BAF-4497-B3E7-1F08571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A8B7-C800-428E-8A4F-EFD24D0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AAFD-B2BE-4756-9F35-E322C043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6010-ECE0-499A-9BE0-80895A6C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9883-DC4E-498F-86FE-059F6710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DDED-3713-4048-800C-BFA49221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E7842-273E-46EB-A8D2-A991C5A0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076E2-F603-47BC-9067-D2646F52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137-FC1E-4AEF-8296-92040E6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40CA-4909-46F5-8638-908F84BF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ACF9-B634-4348-9F05-1B83EDE2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A6DB-0453-4281-BB2E-A68563DA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C9982-EE44-47A0-B6D9-6EC1D55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57ED-9EBD-4BB6-872B-A88E7DEC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25069-5FD9-4059-9590-8F52FA9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98139-1C88-4EE5-8A28-355AA299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8373-7FE9-4527-8ECC-C61DFD78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609AE-FD2B-4B31-8C30-5312BEF9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1F07-442C-4FC6-BAEF-DFC97447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386-92C1-46D0-A6B7-996C8D5C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C9602-2C73-4EFA-9FE1-590C78D6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F2D1-1718-4581-BB04-5937CF15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D7007-D0AE-40F6-9AA1-55D3CE88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F6D1-29FE-4A3D-834A-EA319245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314E-D5A5-48C2-98D6-BC93D653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972F-A30B-4819-96F6-E5B98F8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2D16-D602-447D-A044-4F1560D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88B3-B0AF-4F0A-9569-76D75AD7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968E-A099-4E7B-B0F8-EEBDD4B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47050-0EA9-492D-B645-1CF4EDD1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435-B25C-4E8D-B4BD-50A2F640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52D83-A0FA-4D72-99A6-5122199C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C005C-C6E8-419E-9549-5A8C3687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19D0B-2473-49F2-92EF-2019F5E4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0E90-60DC-407C-BE04-38886DCB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3094D-1C8E-470A-8138-615A267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8F23-71CD-493A-A9B4-C468EAF9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24B55-F600-442A-A71F-D735525F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B085D-1373-499C-BA90-80D41C8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BCABF-7141-40D8-AF8E-651F7BF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F1C4E-ED82-46C8-AD72-E50C75FB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6F5-5146-43BC-8E4E-79824F5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6C9BC-9775-49FB-9605-D988CA7C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7A07-B6E8-43BD-9B81-22A8A62B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96C7-D1CE-41B5-A277-6B1D82FA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CBA9C-9912-4C93-AB52-C652D506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1B87-0C34-4B33-B12F-1AFFC650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649AD-FC36-464D-9B4E-BD3BF2C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A6887-7B9D-491C-A0E7-DCB3835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F3D7B-FE8E-4C22-B060-51EC2595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868CC-34B8-4E29-A7CE-8F743DA6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F9233-40B7-4930-833A-C7FDB96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CEA-A6A1-438C-8AD9-7A53B5A3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74378-BF9B-4298-9150-AC954E2E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2C162-9D09-4283-98F0-0515239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B7C2-DA04-4CB3-87DD-F263CE8D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59F72-C983-445C-A856-E42BD723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ECB9B-0EBA-4742-81D2-632A91EC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956C-7ECB-486F-B70E-1C590E47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A751-1B9C-47E5-B5B6-637CC8AB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FC24-F930-41DC-A507-B83F6121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519A6-DE61-4C9A-A214-C0A0DFD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C2369-C784-4D68-BCFF-37814798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BD7-291B-45F6-986E-E6DCD0D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D100-5E35-45FB-BB35-FFE4B63B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92B81-5401-4687-932B-1796702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2E2FE-22B1-4F67-9B25-13FC0DE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C1B5-B109-4D7A-AE90-4985D2C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957B4-F55F-4C5C-A9A7-009EF8A2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2B98B-45B8-453D-B3A3-6A1D8B76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7BD75-7F50-4913-9FAD-5132604B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97809-9591-4687-B242-75D6974A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43A70-7ACE-4458-89F4-E98EEE3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A4A52-45C4-4F2B-876D-F3127D09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0D9C-CFB2-4FBF-BB61-24D4B539F7B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9D6F-FA08-484F-AC5B-F488E38023B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04A-2024-40F6-9F5B-34B3DC0BA95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9CE-9294-477D-BD01-5129F07A63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06B8-8CB2-484A-BEED-5C71E53F3F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F580-015C-4776-9724-67D6840C29D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593-F001-4A34-980A-566F203C37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CFC0-1F18-4FAF-829B-A85C81173B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6ECB-8F5C-4166-8122-FA02B76099E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8217-9799-45EF-9B88-CF417832B6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A9E7-73CA-4058-96A4-3B4ECA66E96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F2C4-9C88-403F-A7AD-8288FB71BF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C10B-12FF-46BF-B5C3-1FC5B89CD07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A49-EC63-4CBD-9ABB-226F7C8B8E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8758-8D52-47EC-9916-05A9E915C3A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276-69D6-405D-A2B2-8780676736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B361-76E5-4C0B-A471-B4ECF62072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8F45-5C70-4186-80B5-ED2BEFE09B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7A8D-24DB-4A2E-B76A-87EA02801AC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94C2-EC8C-4C75-B82A-8041EDD5F37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EE52-C360-4EBE-8C5D-B76FFD7C4CD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2FC-868C-40FA-B16B-50AB78051D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E946-7097-4DE3-9907-C4E5F7F296E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C857-06C2-46D0-BC49-B82049EF29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C465-06BC-4127-9A69-57356B2614F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97B1-A07A-4619-891D-B937FB6860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prstGeom prst="pie">
            <a:avLst/>
          </a:pr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5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User</cp:lastModifiedBy>
  <dcterms:modified xsi:type="dcterms:W3CDTF">2015-03-15T10:20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