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9D9-49B0-40BD-BB38-7E437CF1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625-9BD1-441D-9909-37BFF387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584B-97E5-439E-9354-889AA94E3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7CFBB-5AD2-491A-BDB3-3981DE18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CE864-8CAB-47C1-9D29-A789110C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353F5-0056-4261-99B7-C859AE0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ABC84-20D0-4CB9-80B5-FDB4A1E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0B6F5-DEFC-412D-A191-925ADA87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D25E0-ADA8-48C2-B2C3-5E9424FE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5896B-4679-4877-AE99-F03DB6D7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5486F-A349-481C-BF99-62BE4711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8D91D-3401-4589-AD69-D5CA6415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5EF-8B6F-4445-AD0C-67317EB3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8D4D1-3749-4996-BD59-A2447F1E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7FE9B-3179-4369-8B0A-B33BB1B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D30AF-361C-4DE1-9CB0-C362963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12B43-9D76-485C-9421-8D971361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BD5B-AEAE-454A-916B-C961BDE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BCE5F-86EA-45FE-9AAD-CDB9389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9C9C-902A-4218-8E1E-380318C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1DF13-1AC4-4BA7-BCFB-F224332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8865B-9BFD-48BD-97FD-7050EBE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A0AB3-DA79-4709-994C-823E3BA0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BA7-FFB4-4C81-9F54-8C35597E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F15E8-FEA1-451D-80EF-72F42627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790EF-394D-4467-8090-902573E9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B6EF-860B-4ECD-8635-2885CBF1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E522D-634B-4210-BB4D-44DDCBCC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86191-ABFD-470C-8455-B8544C7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BBCD-0635-4F37-832D-8C97647D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D4353-265C-43E5-9B32-841D1BBF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A5C9B-0719-4703-AF65-F59001E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D8101-3150-4CFD-BB49-E34ED18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8AB2E-536A-4D5D-BC0E-14A7893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2BD0-D014-43AE-9CDD-358FB12B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7BD5B-BFC9-4DB2-BD82-F803061D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4654-5BAD-481D-91DA-B3AA453B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475D5-8F72-44D7-A1AF-D3F51982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DBA35-4291-4951-9631-C8D37C21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9A45A-911A-4EC7-B55E-05E90B27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A19CF-B298-4289-8993-CEAF7653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F2F39-C617-4659-B700-D5CBBC3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48883-9906-4F7A-9A31-25B4969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89B79-E41D-47F8-817D-D5019B07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72399-8724-4171-A6CB-E181061E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277B-7778-48E4-AD1E-765937E0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7F7A3-0E75-440A-8E4B-7BD03DA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A02D1-D218-44A5-ABDB-9B65F63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799A4-7633-4D27-9CA7-7B820EEB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A4F76-D80A-4436-ABB7-3DE83D53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8CDC9-07DD-4855-B092-ADC9CE4B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5F2AA-D321-4FFD-B156-EAA0D1B6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5C338-916E-4640-9CDC-0C150E66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41D0E-32A9-4A51-BECD-0F4580A4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BDF02-6F22-4F47-AA7E-C81EA5E8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CA4A5-4D7A-494D-998E-CF9CFDE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96C6-A0DC-4BA8-AA14-E301C7D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49054-E815-42C9-8E3A-723A6D6F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0564D-545A-44BF-B050-102E775E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4971A1-A4CF-4B66-9A04-F963AA0A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712C5-CDC9-4145-AAEA-B81D6506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1AF4D-330C-4EBB-9A98-E77C8A8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00E881-2D17-49E2-9077-643D3FC3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DD7FD-041C-48B5-A228-FE654931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E44A-B471-4032-8955-0E595D1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2FCB-46D9-44BD-B099-85FFAD9F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0687-67CD-46A3-88CA-81B0576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29C-D2AC-4D42-B0D2-0574A7AA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573-73C6-45AA-8144-9A61F8C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34DB-8385-4EF4-A36C-8C80546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F15B-2C31-4964-A92C-49FE49D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5DF8-02E8-4BFE-9ECF-18AF06CE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B728-9EA5-4355-AED7-07E42C08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7BD9-119B-4402-B6DB-0FEE586E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7774-2A21-4507-BC9B-D728077E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8F4F-3901-478C-80D6-A43F0516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8FB9-AB9F-4548-BD8A-C0AF2A2A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341B-3B8D-4F6C-B96D-3EF0D501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A959-CA1B-4B3B-BCAB-181B4687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9D3-58B5-4909-8D83-5C5B9D49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BCB7-542E-43D0-946B-FD30E5A8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771B-17A4-4E03-8263-14CA74D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D1A5-E130-4CC3-818D-4874C0D9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2D94D-6471-46DD-9AAD-BF74849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BA06-6038-4681-8642-476F97D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602A1-997E-44A6-821D-06EB2CBA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CAF5-D5CA-45C3-8851-1988DEF9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CC541-9BE9-459F-96FB-5722C4F1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751ED-E066-4611-B1AE-A2ADE6C3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0A255-E928-41C1-B4C8-F3EDBF7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620-2DB4-42C0-9D04-65C6531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95C1-D647-4DBA-B0E3-398F9F0F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33FEF-1CD9-49DD-82B4-7F76D3B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1A97-C26C-4C82-BD83-DCF14C91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3473-9749-40C4-A5FC-DB9C2EC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5426-DBBC-49F9-A7B7-0A406237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191A-8474-44E4-BD84-FDC17D8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294D-5555-44CB-8AC3-06BA8C87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2AEB-9CD2-474B-8DD9-7F25E7C4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DBEAD-1172-4EE6-81EE-90DD20B01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0F23A-F7F9-4828-BD22-00D61B6F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49E-3653-4F37-B657-78C71BA2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68D9-7F8A-4B8A-AA61-15CB6FE0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E9C16-65AF-4D3E-A6EF-481C334F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8813-593B-49F4-A9C4-3FA9872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F1C9E-4276-4E3B-A7CC-89EFE1D3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638D-1759-4AA3-BEE9-DDB21559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DA3A4-481C-4BE2-B88E-4E9B008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98D8F-3127-4C5A-8D9A-93DBA0FE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5B5C-C9CA-4D42-904B-64A5A44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B95B-8A1D-47F4-8C34-6B8E572B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43BB-981E-4A12-B0BC-B63CFE51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0FC-7B97-4239-90AF-006CD995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94B57-873C-4909-BBFE-3672BDDB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6FBE8-C067-4028-BDDC-4DD56151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8F8A-F515-4BDC-BF53-D2136F06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32722-0E3E-4162-80AC-FED7BFC5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47006-D546-4C0F-9963-81CBDD86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F22EB-112C-498D-B38B-5B229F49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D39D-5DEA-4C67-B662-ADCDFA35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6AFCE-EBBF-4198-AF3A-3EECF81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62F78-D117-4FD2-AB07-9362A4B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FBC2-F623-4C0A-96F5-C9A5214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E4F-F075-406A-82F8-89FB5E5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771EA-A6D2-410A-92A0-35A28A18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4AED-AC22-497E-AB22-014A5522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FB68A-B22C-4BFF-B0F4-1F4FB533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AC38C-0F96-4A99-84D7-76E21B86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6B8B1-6FA4-4491-AC7D-6B19C1C8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7A3B-9E5D-48BF-AE66-E62706B4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49FE-9460-43B8-9E14-168E72C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B7F51-B624-4B44-BD6F-E791D664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06329-04C4-4204-98FF-D86CC3D4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3BE24-A4B7-481C-90F7-126A991F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91F-52F4-41F7-8284-8A263984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4A92-37F9-4FBC-A777-4E9FB1BE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D1F90-5428-41DE-9D0E-0BE7243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CC3F1-5C2F-4521-B7C0-7F44A006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3BD8F-7547-4C5C-8D94-F0BFE229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A01AD-DD18-4CB3-A1FD-419A093E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F846-D9F3-489C-AFB3-06C00B74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14AFB-F728-4C62-8EEF-8661939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C9B7A-EF45-4169-8C47-41040373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10A6-46F8-42F2-A677-D94213BD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96451-E01E-418E-AAE7-D3329630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F6C-1BF2-4608-A187-78829B8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CD0D4-DF15-4F6B-BED3-429E971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04432-2C19-49B0-B620-28E6EDA2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FFF05-4960-42BA-B823-9627DE3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1518D-7958-47D1-BFD0-32ED301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37C3-B0B3-4E9D-B065-AAB65323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87BC5-7551-46C7-9B1A-A5EC4A8D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B5254-BEA6-4A38-B624-A350A0F7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892EA-887A-4C60-A725-B7D03B18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19800-0F9B-4661-BE72-897F5906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F6373-16F5-41C3-8B13-295BF4CB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B8A7-6091-4979-BB2A-3E2DE5056C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DC22-8C1E-4DEC-9294-2C3CA9B313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AB1-574A-4469-99F1-69795AB490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27C3-B257-4784-98ED-71273327787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A06-D4EC-45CA-B660-6CC03F3A72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ACB5-6BC5-4A50-8C04-B716FEB5E3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59DB-D654-4962-9CD9-B4E066E3773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5ED7-26CB-4AAE-B1A6-906044D495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E3D9-2AA0-4F91-9089-69359B9578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7BE1-B5AF-436C-B090-73A2B4CDDB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276A-4AAF-4DBD-8CBD-3C5AD7A6C3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D746-AF20-4DB9-988A-4550B1827A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6FF1-F8C5-4631-BF53-B4493D067DC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8878-FCF7-4F6C-95AE-917792807A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EAE8-D1E5-48D3-9D03-07823A4726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3A1-FD97-4580-9EF6-859A0E4BEC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78F-2C69-47AE-A93F-5550B7A4FF7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D32F-4EAA-44A3-8E95-DF45432B588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7DA5-6190-455A-9CAE-E9AF8EE6FF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3681-DE5F-4B5F-BF09-E6E91C53BE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1441-A7A9-4006-952A-9B05FD18EBB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FAB-94C1-4B9D-A6D2-17DD6D8BD9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AA2-096E-4609-9CA5-D0809C73DF0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BDA8-078C-4597-8E8F-D78C1A1458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F9FF-BA9F-4018-A000-9FFF5A534BC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0657-F23D-411E-AA44-DDBAE3EED0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prstGeom prst="pie">
            <a:avLst/>
          </a:pr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prstGeom prst="pie">
            <a:avLst/>
          </a:pr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5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60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1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45"/>
            <p:cNvSpPr/>
            <p:nvPr/>
          </p:nvSpPr>
          <p:spPr>
            <a:xfrm>
              <a:off x="465840" y="305280"/>
              <a:ext cx="855360" cy="86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50"/>
          <p:cNvSpPr/>
          <p:nvPr/>
        </p:nvSpPr>
        <p:spPr>
          <a:xfrm>
            <a:off x="947880" y="4708440"/>
            <a:ext cx="691920" cy="70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82"/>
          <p:cNvSpPr/>
          <p:nvPr/>
        </p:nvSpPr>
        <p:spPr>
          <a:xfrm>
            <a:off x="3365640" y="3497400"/>
            <a:ext cx="488880" cy="496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prstGeom prst="pie">
            <a:avLst/>
          </a:prstGeom>
          <a:noFill/>
          <a:ln w="209520">
            <a:solidFill>
              <a:srgbClr val="bfbfb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prstGeom prst="pi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prstGeom prst="pi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prstGeom prst="pi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prstGeom prst="pie">
            <a:avLst/>
          </a:pr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  <a:ea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5" t="552" r="76398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prstGeom prst="pi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prstGeom prst="pie">
              <a:avLst/>
            </a:pr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cp:keywords/>
  <dc:language>en-US</dc:language>
  <cp:lastModifiedBy>User</cp:lastModifiedBy>
  <dcterms:modified xsi:type="dcterms:W3CDTF">2015-03-15T10:20:4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