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189A-6496-41D0-AEA4-372AF9BA8A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85CA-C1BF-4A8D-85E3-5B41F118B0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5DB3-FFE3-4FA2-9009-9DC5547E68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36D7-CCDC-4FC8-8744-82E476C6ED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1E86-97B2-4401-A18C-2785F511A1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5EF9-3EDA-4CEE-880D-531723A574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35B6-3371-4687-8373-D416249A50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D9C8-C070-412A-8554-9648A79B2F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6923-DAC2-4BBB-A3A0-7030716F87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4E1D-EC76-4862-AEDF-F7090E0698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A726-654D-4A19-B5B8-F5404B87A9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4F67-21D1-4C84-8D10-5B92F2DF86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9F02-8FAC-4C9B-82F9-5770BCC61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DE65-112B-4CC9-8FB6-AEFF0AF955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D1F1-59B4-45BC-BBA6-40BBA8BB3A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9375-81A4-4B81-9728-277EBFCD9D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163B-7C3B-415D-B49D-9E09F7C8BE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BA6-E99F-4D2B-8E59-8C1F1628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AEB-2C90-45F0-9CEF-988D40D9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BC5-FECC-4CDF-BAC5-9DD85877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E8F-AF6B-4B0B-8BDB-DFCA8566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735-F02C-43B5-9ADA-4F0D3A6B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E42-1E5B-4A10-B8A4-7F925ACB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4FD-35B3-4FE8-80C7-A47276B3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BD2-ACFC-4C95-97C9-DC81B31C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070-BC78-476E-A135-524D6F13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043-4F25-4DF9-8C4B-65FBB105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26F-B9BB-4A21-A1AF-B3ABCC9A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522-823A-4CE0-88F1-B6E3EFDB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akoa.taobao.com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iloveppt.org/forum.php?mod=forumdisplay&amp;fid=51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A7F2-C48D-4DA2-A407-AE20C882F1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395280" y="110952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1089000" y="1374840"/>
            <a:ext cx="9349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创整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4103640" y="1374840"/>
            <a:ext cx="9367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86868"/>
                </a:solidFill>
                <a:latin typeface="微软雅黑"/>
                <a:ea typeface="微软雅黑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7120080" y="1374840"/>
            <a:ext cx="934920" cy="936720"/>
          </a:xfrm>
          <a:prstGeom prst="ellipse">
            <a:avLst/>
          </a:prstGeom>
          <a:solidFill>
            <a:srgbClr val="e60000"/>
          </a:solidFill>
          <a:ln w="1260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395280" y="297180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84120" y="2523960"/>
            <a:ext cx="254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史上最新最全的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素材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3714840" y="252396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享受二年期的免费更新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6445080" y="25239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1000G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高精度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SD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创意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395280" y="4096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梵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帝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精品资源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395280" y="6078600"/>
            <a:ext cx="4680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更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素材集  请访问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http://wakoa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395280" y="580248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搜集整理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-  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旺旺：梵帝尼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QQ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56632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7"/>
          <p:cNvSpPr/>
          <p:nvPr/>
        </p:nvSpPr>
        <p:spPr>
          <a:xfrm>
            <a:off x="1655640" y="3840120"/>
            <a:ext cx="5832720" cy="72072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圆角矩形 18"/>
          <p:cNvGrpSpPr/>
          <p:nvPr/>
        </p:nvGrpSpPr>
        <p:grpSpPr>
          <a:xfrm>
            <a:off x="1773360" y="3986280"/>
            <a:ext cx="4383000" cy="549360"/>
            <a:chOff x="1773360" y="3986280"/>
            <a:chExt cx="4383000" cy="549360"/>
          </a:xfrm>
        </p:grpSpPr>
        <p:pic>
          <p:nvPicPr>
            <p:cNvPr id="54" name="圆角矩形 18" descr=""/>
            <p:cNvPicPr/>
            <p:nvPr/>
          </p:nvPicPr>
          <p:blipFill>
            <a:blip r:embed="rId3"/>
            <a:stretch/>
          </p:blipFill>
          <p:spPr>
            <a:xfrm>
              <a:off x="1773360" y="3986280"/>
              <a:ext cx="4383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98560" y="4013280"/>
              <a:ext cx="4330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6868"/>
                  </a:solidFill>
                  <a:latin typeface="微软雅黑"/>
                  <a:ea typeface="微软雅黑"/>
                </a:rPr>
                <a:t>http://wakoa.taobao.c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圆角矩形 19">
            <a:hlinkClick r:id="rId4"/>
          </p:cNvPr>
          <p:cNvSpPr/>
          <p:nvPr/>
        </p:nvSpPr>
        <p:spPr>
          <a:xfrm>
            <a:off x="6316560" y="3938760"/>
            <a:ext cx="1008000" cy="52380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f6bb00"/>
              </a:gs>
              <a:gs pos="100000">
                <a:srgbClr val="ffd243"/>
              </a:gs>
            </a:gsLst>
            <a:lin ang="16200000"/>
          </a:gradFill>
          <a:ln w="9360">
            <a:solidFill>
              <a:srgbClr val="ffd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86868"/>
                </a:solidFill>
                <a:latin typeface="微软雅黑"/>
                <a:ea typeface="微软雅黑"/>
              </a:rPr>
              <a:t>搜 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1655640" y="4586400"/>
            <a:ext cx="583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支持：梵帝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1"/>
          <p:cNvSpPr/>
          <p:nvPr/>
        </p:nvSpPr>
        <p:spPr>
          <a:xfrm>
            <a:off x="4071960" y="1357200"/>
            <a:ext cx="1000080" cy="100008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467735-lg"/>
          <p:cNvPicPr/>
          <p:nvPr/>
        </p:nvPicPr>
        <p:blipFill>
          <a:blip r:embed="rId1"/>
          <a:stretch/>
        </p:blipFill>
        <p:spPr>
          <a:xfrm>
            <a:off x="0" y="-1981080"/>
            <a:ext cx="9144000" cy="936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7279505-l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7358430-l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7557524-md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448920" cy="707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ooten0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art-017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6824447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5618023-lg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975600-lg"/>
          <p:cNvPicPr/>
          <p:nvPr/>
        </p:nvPicPr>
        <p:blipFill>
          <a:blip r:embed="rId1"/>
          <a:stretch/>
        </p:blipFill>
        <p:spPr>
          <a:xfrm>
            <a:off x="221148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6057225-lg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Pooten05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3944000-l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6643156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4647590-lg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45:37Z</dcterms:created>
  <dc:creator>Elldin Zeneli</dc:creator>
  <dc:description/>
  <dc:language>en-US</dc:language>
  <cp:lastModifiedBy>zjp888</cp:lastModifiedBy>
  <dcterms:modified xsi:type="dcterms:W3CDTF">2012-04-10T13:31:11Z</dcterms:modified>
  <cp:revision>5</cp:revision>
  <dc:subject/>
  <dc:title>Slide 1</dc:title>
</cp:coreProperties>
</file>