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342A-1DFB-47AB-939A-ECEDB401EB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FD4B-07CF-46CD-BEC6-15DA52477F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D345-1610-4D6C-8FB4-D1F81859B6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94A7-0DBF-49E3-9590-A3BF098D72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54D2-BBCC-422E-8ECE-0BBC45C12F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3BA0-C4B1-4488-8725-D4FE9AB3A1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55E0-5178-4E2B-B6B1-FAF5F935E5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D4DA-63CB-495A-93DE-262B72E48F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3CF-7E2A-4D99-BC22-B7B03415BE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D99D-F3DC-4DEC-867E-D07F600424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CF5B-406A-4209-9C95-873B7796F3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33B5-67E3-47FB-991C-6557D88C88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5BF-2716-4181-AD43-68C3BA7AF7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D3AF-E97E-4B60-A2A3-6E12C692AA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D46E-D5AE-4289-9FB3-214C71A3A8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9E18-9B43-4C70-B68C-495819AFAF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F5E1-F51C-4BA7-AAB9-64198210BC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1FA-48F0-43B6-9B2A-A26B764E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33A-49D3-433A-84CA-B75C0DC3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7C5-67FA-479E-82C4-C994CD45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F37-8F0C-4699-9934-2293D6BA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988-1E8D-45D6-8247-306349EE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2DE-FEBC-4059-97D3-D2CFDA1F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82F-02BB-4F16-8A3C-70925F0F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C9A-2DBF-4B59-8726-E5B7B19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01D-99B6-4999-8B46-8D220C2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27B-443D-46C6-AA79-BC53DC43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4F6-C205-4981-AA25-954D3B19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24C-A192-4222-9209-3C3EF18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akoa.taobao.com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iloveppt.org/forum.php?mod=forumdisplay&amp;fid=51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18D-9CAE-4A2A-A617-D152CDEDD9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95280" y="110952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1089000" y="1374840"/>
            <a:ext cx="9349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创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103640" y="1374840"/>
            <a:ext cx="9367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120080" y="1374840"/>
            <a:ext cx="934920" cy="936720"/>
          </a:xfrm>
          <a:prstGeom prst="ellipse">
            <a:avLst/>
          </a:prstGeom>
          <a:solidFill>
            <a:srgbClr val="e60000"/>
          </a:solidFill>
          <a:ln w="1260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395280" y="297180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84120" y="2523960"/>
            <a:ext cx="25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史上最新最全的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素材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3714840" y="25239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享受二年期的免费更新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445080" y="25239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1000G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高精度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SD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创意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395280" y="4096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梵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帝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精品资源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395280" y="6078600"/>
            <a:ext cx="468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更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素材集  请访问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http://wakoa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395280" y="580248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搜集整理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-  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旺旺：梵帝尼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QQ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56632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7"/>
          <p:cNvSpPr/>
          <p:nvPr/>
        </p:nvSpPr>
        <p:spPr>
          <a:xfrm>
            <a:off x="1655640" y="3840120"/>
            <a:ext cx="5832720" cy="72072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圆角矩形 18"/>
          <p:cNvGrpSpPr/>
          <p:nvPr/>
        </p:nvGrpSpPr>
        <p:grpSpPr>
          <a:xfrm>
            <a:off x="1773360" y="3986280"/>
            <a:ext cx="4383000" cy="549360"/>
            <a:chOff x="1773360" y="3986280"/>
            <a:chExt cx="4383000" cy="549360"/>
          </a:xfrm>
        </p:grpSpPr>
        <p:pic>
          <p:nvPicPr>
            <p:cNvPr id="54" name="圆角矩形 18" descr=""/>
            <p:cNvPicPr/>
            <p:nvPr/>
          </p:nvPicPr>
          <p:blipFill>
            <a:blip r:embed="rId3"/>
            <a:stretch/>
          </p:blipFill>
          <p:spPr>
            <a:xfrm>
              <a:off x="1773360" y="3986280"/>
              <a:ext cx="4383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8560" y="4013280"/>
              <a:ext cx="433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6868"/>
                  </a:solidFill>
                  <a:latin typeface="微软雅黑"/>
                  <a:ea typeface="微软雅黑"/>
                </a:rPr>
                <a:t>http://wakoa.taobao.c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19">
            <a:hlinkClick r:id="rId4"/>
          </p:cNvPr>
          <p:cNvSpPr/>
          <p:nvPr/>
        </p:nvSpPr>
        <p:spPr>
          <a:xfrm>
            <a:off x="6316560" y="3938760"/>
            <a:ext cx="1008000" cy="52380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f6bb00"/>
              </a:gs>
              <a:gs pos="100000">
                <a:srgbClr val="ffd243"/>
              </a:gs>
            </a:gsLst>
            <a:lin ang="16200000"/>
          </a:gradFill>
          <a:ln w="9360">
            <a:solidFill>
              <a:srgbClr val="ffd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86868"/>
                </a:solidFill>
                <a:latin typeface="微软雅黑"/>
                <a:ea typeface="微软雅黑"/>
              </a:rPr>
              <a:t>搜 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1655640" y="4586400"/>
            <a:ext cx="583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支持：梵帝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1"/>
          <p:cNvSpPr/>
          <p:nvPr/>
        </p:nvSpPr>
        <p:spPr>
          <a:xfrm>
            <a:off x="4071960" y="1357200"/>
            <a:ext cx="1000080" cy="10000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467735-lg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936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7279505-l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7358430-l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7557524-md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448920" cy="707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ooten0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ooten07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art-01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6824447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618023-lg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975600-lg"/>
          <p:cNvPicPr/>
          <p:nvPr/>
        </p:nvPicPr>
        <p:blipFill>
          <a:blip r:embed="rId1"/>
          <a:stretch/>
        </p:blipFill>
        <p:spPr>
          <a:xfrm>
            <a:off x="221148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6057225-l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Pooten05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3944000-l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6643156-md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4647590-lg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45:37Z</dcterms:created>
  <dc:creator>Elldin Zeneli</dc:creator>
  <dc:description/>
  <dc:language>en-US</dc:language>
  <cp:lastModifiedBy>zjp888</cp:lastModifiedBy>
  <dcterms:modified xsi:type="dcterms:W3CDTF">2012-04-10T13:31:11Z</dcterms:modified>
  <cp:revision>5</cp:revision>
  <dc:subject/>
  <dc:title>Slide 1</dc:title>
</cp:coreProperties>
</file>