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6F9-75A5-409A-B1A4-A7F7A6F5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D43-033A-4002-8A6F-59A9ED3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226-8898-4095-84E4-66446E63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5E7-DE33-4E94-88E3-10038C90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8DB-977C-4748-9E74-841D4CE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917-04AA-4C2D-8143-2D4EF03F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9DA-85B3-49F3-9DBC-052FDD0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AC9-DE40-4DBB-ABEA-7C135598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D1F-E1B7-4A74-8524-7A28DEA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DA9-98B3-45BB-B715-D97BE19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BA1-4B35-4FC5-8149-E2E9CE0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D5C-DB2F-434A-9AC3-6CAD505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4286-D10A-47AA-A529-BF613B3C10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2BC3-D8E4-495D-9A22-71119C9BA7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Administrator</cp:lastModifiedBy>
  <dcterms:modified xsi:type="dcterms:W3CDTF">2016-08-22T03:59:34Z</dcterms:modified>
  <cp:revision>89</cp:revision>
  <dc:subject/>
  <dc:title>PowerPoint 演示文稿</dc:title>
</cp:coreProperties>
</file>