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F4D-307B-451B-AB0D-0304187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8A3-1B4C-49FD-8480-D29D617F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829-D15A-486B-85CC-5C289B3A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F45-9A72-478B-8A6F-4F7505BD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034-E849-4688-B947-A56980E5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D6E-CD2C-4797-BE45-D7F6AB98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8D4-2F3E-495A-B668-919A169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C8F-2996-4005-8B15-8CA1001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49E-DC84-47A0-A50C-13DB20E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792-2DF2-4DD5-A917-B605263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17C-0E85-4739-9E8A-51DB92F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F24-352E-4DE6-B079-36A47604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8F6-BC85-4DA8-9827-2039F8F7D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93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哎呀小小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1936800" y="43750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4044960" y="438480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6243480" y="4384800"/>
            <a:ext cx="189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8345520" y="44038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4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4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哎呀小小草，请在百度搜索：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69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2011320" y="1836720"/>
            <a:ext cx="33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202716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202716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7337520" y="183348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33"/>
          <p:cNvSpPr/>
          <p:nvPr/>
        </p:nvSpPr>
        <p:spPr>
          <a:xfrm>
            <a:off x="733752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733752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8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82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5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8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91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25"/>
          <p:cNvSpPr/>
          <p:nvPr/>
        </p:nvSpPr>
        <p:spPr>
          <a:xfrm>
            <a:off x="94608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6"/>
          <p:cNvSpPr/>
          <p:nvPr/>
        </p:nvSpPr>
        <p:spPr>
          <a:xfrm>
            <a:off x="369252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634680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907560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03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7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12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6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9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5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32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5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8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5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9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3520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50088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29A6-0577-4D1C-88FA-D85F755D5AA5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66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9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72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75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8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81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84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7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91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9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202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205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208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4Z</dcterms:modified>
  <cp:revision>4</cp:revision>
  <dc:subject/>
  <dc:title>PowerPoint 演示文稿</dc:title>
</cp:coreProperties>
</file>