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D4C-FAF6-4C16-A72E-503E78D8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F58-2E38-45C0-B97F-46D2B1D1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626-1DCD-4E72-8EEB-60F23371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D93-9B9E-4193-945D-E1AC9AB6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208-4AA1-4EBF-A676-FD8AC1BB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365-89D7-44D0-8F3E-1A354BB9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DCE-BA6A-4CEC-9040-ACD46E3E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072-E461-4284-8D1A-C0B21E88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C0C-4513-406F-A969-2EC61500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E32-0119-412D-B2EF-7B613E26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C35-2A48-4A17-873D-E2CB3D20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E88-1F22-4A25-BC12-6CD98FDA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DFE12D8-EA3D-4FC3-835F-B17644DE4AEE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C2CE26D5-73E7-4E60-92ED-84D0E0D0101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19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03" name="Freeform 30"/>
            <p:cNvSpPr/>
            <p:nvPr/>
          </p:nvSpPr>
          <p:spPr>
            <a:xfrm>
              <a:off x="4869360" y="3670200"/>
              <a:ext cx="271116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1"/>
            <p:cNvSpPr/>
            <p:nvPr/>
          </p:nvSpPr>
          <p:spPr>
            <a:xfrm>
              <a:off x="7577280" y="2949480"/>
              <a:ext cx="271044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158560" y="4389120"/>
              <a:ext cx="2710800" cy="1440"/>
              <a:chOff x="2158560" y="4389120"/>
              <a:chExt cx="2710800" cy="1440"/>
            </a:xfrm>
          </p:grpSpPr>
          <p:sp>
            <p:nvSpPr>
              <p:cNvPr id="1306" name="Line 34"/>
              <p:cNvSpPr/>
              <p:nvPr/>
            </p:nvSpPr>
            <p:spPr>
              <a:xfrm flipH="1">
                <a:off x="2158560" y="4389120"/>
                <a:ext cx="2710440" cy="1440"/>
              </a:xfrm>
              <a:prstGeom prst="line">
                <a:avLst/>
              </a:prstGeom>
              <a:ln w="25560">
                <a:solidFill>
                  <a:srgbClr val="9e9e9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2158920" y="4389120"/>
                <a:ext cx="2710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09" name="Freeform 5"/>
            <p:cNvSpPr/>
            <p:nvPr/>
          </p:nvSpPr>
          <p:spPr>
            <a:xfrm>
              <a:off x="2158920" y="318528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12" name="Freeform 5"/>
            <p:cNvSpPr/>
            <p:nvPr/>
          </p:nvSpPr>
          <p:spPr>
            <a:xfrm>
              <a:off x="5040360" y="241704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15" name="Freeform 5"/>
            <p:cNvSpPr/>
            <p:nvPr/>
          </p:nvSpPr>
          <p:spPr>
            <a:xfrm>
              <a:off x="7824960" y="1743840"/>
              <a:ext cx="576000" cy="11134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18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21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24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C2B-38B8-4090-951E-6F873EF764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3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2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43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46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49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3BD-2F04-41EA-A2A0-D9825660AB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60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任意多边形 21"/>
          <p:cNvSpPr/>
          <p:nvPr/>
        </p:nvSpPr>
        <p:spPr>
          <a:xfrm rot="8017200">
            <a:off x="5154480" y="2786040"/>
            <a:ext cx="109512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任意多边形 22"/>
          <p:cNvSpPr/>
          <p:nvPr/>
        </p:nvSpPr>
        <p:spPr>
          <a:xfrm rot="13330800">
            <a:off x="4393800" y="35460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任意多边形 23"/>
          <p:cNvSpPr/>
          <p:nvPr/>
        </p:nvSpPr>
        <p:spPr>
          <a:xfrm rot="2853000">
            <a:off x="4488120" y="20286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任意多边形 24"/>
          <p:cNvSpPr/>
          <p:nvPr/>
        </p:nvSpPr>
        <p:spPr>
          <a:xfrm rot="18918600">
            <a:off x="5781240" y="2761920"/>
            <a:ext cx="109548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任意多边形 25"/>
          <p:cNvSpPr/>
          <p:nvPr/>
        </p:nvSpPr>
        <p:spPr>
          <a:xfrm rot="13330800">
            <a:off x="6486120" y="35398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任意多边形 26"/>
          <p:cNvSpPr/>
          <p:nvPr/>
        </p:nvSpPr>
        <p:spPr>
          <a:xfrm rot="2853000">
            <a:off x="6516720" y="21142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7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7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58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58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83B-5790-4415-AD7C-F0E1565EDA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9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3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14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BC3-57F8-44D3-BECA-DEE5B9A8AC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2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46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49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1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52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4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55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69F-958B-443B-90C6-01770AC5D7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6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2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1980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1983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1986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1989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1992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D5D-A51C-4918-995E-DF05C942D2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0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D10-E8A1-43E3-BB31-C861DC6CEA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6" name="矩形​​ 3"/>
            <p:cNvSpPr/>
            <p:nvPr/>
          </p:nvSpPr>
          <p:spPr>
            <a:xfrm>
              <a:off x="2409840" y="3150720"/>
              <a:ext cx="974880" cy="81792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69" name="矩形​​ 3"/>
            <p:cNvSpPr/>
            <p:nvPr/>
          </p:nvSpPr>
          <p:spPr>
            <a:xfrm>
              <a:off x="2409840" y="4095360"/>
              <a:ext cx="974880" cy="82116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2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2"/>
          <p:cNvSpPr/>
          <p:nvPr/>
        </p:nvSpPr>
        <p:spPr>
          <a:xfrm>
            <a:off x="4446000" y="228456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3"/>
          <p:cNvSpPr/>
          <p:nvPr/>
        </p:nvSpPr>
        <p:spPr>
          <a:xfrm>
            <a:off x="4446000" y="3230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4"/>
          <p:cNvSpPr/>
          <p:nvPr/>
        </p:nvSpPr>
        <p:spPr>
          <a:xfrm>
            <a:off x="4446000" y="4157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5"/>
          <p:cNvSpPr/>
          <p:nvPr/>
        </p:nvSpPr>
        <p:spPr>
          <a:xfrm>
            <a:off x="4446000" y="50450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4" name="矩形​​ 3"/>
            <p:cNvSpPr/>
            <p:nvPr/>
          </p:nvSpPr>
          <p:spPr>
            <a:xfrm>
              <a:off x="2409840" y="2203560"/>
              <a:ext cx="974880" cy="82080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61E-1B28-406E-8718-55F148AB1E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8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0F643B9-6590-499A-A7FD-4F93DDC860B2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8F3-4C07-4B3A-AE3D-7A6FF589F7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0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0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1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2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25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6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27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0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1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2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35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38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8D7-B9BF-492B-9994-230A618BEC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5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0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65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68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1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74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A4A-8FC7-4929-B2A6-586767D378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8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79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79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79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0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62F-5DCC-4F49-83DE-AEF6DF818E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1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9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1BE-9635-4B79-A395-7BA7C018AA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2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6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37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38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41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44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47" name="Freeform 5"/>
            <p:cNvSpPr/>
            <p:nvPr/>
          </p:nvSpPr>
          <p:spPr>
            <a:xfrm>
              <a:off x="5645160" y="198216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50" name="Freeform 5"/>
            <p:cNvSpPr/>
            <p:nvPr/>
          </p:nvSpPr>
          <p:spPr>
            <a:xfrm>
              <a:off x="7661160" y="198216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53" name="Freeform 5"/>
            <p:cNvSpPr/>
            <p:nvPr/>
          </p:nvSpPr>
          <p:spPr>
            <a:xfrm>
              <a:off x="9677520" y="1982160"/>
              <a:ext cx="576000" cy="1113480"/>
            </a:xfrm>
            <a:prstGeom prst="pi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E88-4483-436D-A015-A0241397B5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6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72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任意多边形 21"/>
          <p:cNvSpPr/>
          <p:nvPr/>
        </p:nvSpPr>
        <p:spPr>
          <a:xfrm rot="8017200">
            <a:off x="3461400" y="2763000"/>
            <a:ext cx="1095480" cy="10555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任意多边形 22"/>
          <p:cNvSpPr/>
          <p:nvPr/>
        </p:nvSpPr>
        <p:spPr>
          <a:xfrm rot="13330800">
            <a:off x="2700000" y="3521160"/>
            <a:ext cx="1095480" cy="105552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任意多边形 23"/>
          <p:cNvSpPr/>
          <p:nvPr/>
        </p:nvSpPr>
        <p:spPr>
          <a:xfrm rot="2853000">
            <a:off x="2793960" y="200484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任意多边形 24"/>
          <p:cNvSpPr/>
          <p:nvPr/>
        </p:nvSpPr>
        <p:spPr>
          <a:xfrm rot="18918600">
            <a:off x="7692840" y="2652840"/>
            <a:ext cx="109512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任意多边形 25"/>
          <p:cNvSpPr/>
          <p:nvPr/>
        </p:nvSpPr>
        <p:spPr>
          <a:xfrm rot="13330800">
            <a:off x="8397360" y="3430080"/>
            <a:ext cx="1095480" cy="10558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6"/>
          <p:cNvSpPr/>
          <p:nvPr/>
        </p:nvSpPr>
        <p:spPr>
          <a:xfrm rot="2853000">
            <a:off x="8428320" y="200484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81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184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EC1-E0C8-44F9-B987-3158A49CC8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dc:language>en-US</dc:language>
  <cp:lastModifiedBy>Sky123.Org</cp:lastModifiedBy>
  <dcterms:modified xsi:type="dcterms:W3CDTF">2015-01-07T08:59:16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