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338-AF43-46F0-8511-BDC4A6B5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E7D1-AB35-4C44-9ED5-5D59EA7A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6A70-6C6F-4CF4-A539-C531A951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7050-E73F-4E03-96F9-425B873F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9D51-EC55-4D9E-A528-B212F933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73D-BF3B-44DD-9822-79B219D9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293D-DF3E-4551-808E-30565330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CE48-81C6-4AA9-9812-E9DBC1AC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4F5A-4BAA-482C-A0DB-7C3B0D43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FD17-9D3D-4756-B3CC-87C5CEC7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4B0-6FF4-42B0-AF43-4896DD9F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4661-E71E-4E8B-A81A-B1FBA415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A90F-CD6D-4EC8-BD6C-F2435E263C4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68BC-25BA-4C09-AB0C-EDD74FADEA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178640" y="1434960"/>
            <a:ext cx="2071332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ba62af"/>
                </a:solidFill>
                <a:latin typeface="HelveticaNeueLT Std UltLt Ext"/>
              </a:rPr>
              <a:t>SOCIAL CUSTOMER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-1433520" y="1052640"/>
            <a:ext cx="862632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UNDENIABLE 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AUTHORITY 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OF 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3924360" y="6575400"/>
            <a:ext cx="525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4722840" y="1109520"/>
            <a:ext cx="4350240" cy="18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603a9a"/>
                </a:solidFill>
                <a:latin typeface="BigNoodleTitling"/>
              </a:rPr>
              <a:t>88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88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CUSTOMER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ence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ading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-918360" y="673200"/>
            <a:ext cx="6366240" cy="45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USTOMER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L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LISTEN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OMPANY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ESSAG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HEY’RE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LISTENING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P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INSTEAD.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HIFTED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BRAND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UST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 UltLt Ext"/>
              </a:rPr>
              <a:t>	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verage,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ill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OTH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bou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ompany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igNoodleTitling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650520" y="1828800"/>
            <a:ext cx="70477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NeueLT Std UltLt Ext"/>
              </a:rPr>
              <a:t>HOW  DOES  THIS  SHIFT  IN  AUTHORITY  A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820080" y="2476440"/>
            <a:ext cx="712404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2a4e"/>
                </a:solidFill>
                <a:latin typeface="HelveticaNeueLT Std UltLt Ext"/>
              </a:rPr>
              <a:t>CUSTOMER  SUPPORT 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2a4e"/>
                </a:solidFill>
                <a:latin typeface="HelveticaNeueLT Std UltLt Ext"/>
              </a:rPr>
              <a:t>BUSINES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617400" y="1098720"/>
            <a:ext cx="7181640" cy="11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UNFORTUNATELY,  MANY  ORGANIZATIONS  STILL  DO 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BELIEVE  IN  THE  AUTHORITY  OF  THE  SOCIAL  CUSTO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775600" y="2692440"/>
            <a:ext cx="26308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50c4b3"/>
                </a:solidFill>
                <a:latin typeface="BigNoodleTitling"/>
              </a:rPr>
              <a:t>6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don'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media,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ske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5222520" y="4267080"/>
            <a:ext cx="326196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tailer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have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rase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question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Facebook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290120" y="2374920"/>
            <a:ext cx="48103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88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nsumer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likely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buy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igno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laint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question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1969200" y="4648320"/>
            <a:ext cx="515484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c4b3"/>
                </a:solidFill>
                <a:latin typeface="BigNoodleTitling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50c4b3"/>
                </a:solidFill>
                <a:latin typeface="BigNoodleTitling"/>
              </a:rPr>
              <a:t>17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nsu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ha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experienc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recommen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3911760" y="2819520"/>
            <a:ext cx="9043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HelveticaNeueLT Std UltLt Ext"/>
              </a:rPr>
              <a:t>88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7222320" y="5089680"/>
            <a:ext cx="100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HelveticaNeueLT Std UltLt Ext"/>
              </a:rPr>
              <a:t>17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628920" y="1111320"/>
            <a:ext cx="563508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BUT  THEY’RE  PAYING  FOR  IT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779040" y="4521240"/>
            <a:ext cx="13633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2c63"/>
                </a:solidFill>
                <a:latin typeface="微软雅黑"/>
              </a:rPr>
              <a:t>MON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3f2c63"/>
                </a:solidFill>
                <a:latin typeface="微软雅黑"/>
              </a:rPr>
              <a:t>SHRED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0" y="888840"/>
            <a:ext cx="9144000" cy="52707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-483840" y="1065240"/>
            <a:ext cx="10315080" cy="25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THE  MOST  SOCIALLY  PROACTIVE 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SEE  SOLIDRE  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engag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edia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pen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20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40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os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a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the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-131400" y="4673520"/>
            <a:ext cx="70290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c4b3"/>
                </a:solidFill>
                <a:latin typeface="BigNoodleTitling"/>
              </a:rPr>
              <a:t>81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tro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deliveri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excellent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ut-performi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ei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eti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6907680" y="4546440"/>
            <a:ext cx="1105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62af"/>
                </a:solidFill>
                <a:latin typeface="HelveticaNeueLT Std UltLt Ext"/>
              </a:rPr>
              <a:t>81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"/>
          <p:cNvSpPr/>
          <p:nvPr/>
        </p:nvSpPr>
        <p:spPr>
          <a:xfrm>
            <a:off x="777600" y="1663560"/>
            <a:ext cx="675036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NeueLT Std UltLt Ext"/>
              </a:rPr>
              <a:t>HOW  SHOULD  YOU  PREPARE  YOURSELF 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695880" y="1828800"/>
            <a:ext cx="668052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2a4e"/>
                </a:solidFill>
                <a:latin typeface="HelveticaNeueLT Std UltLt Ext"/>
              </a:rPr>
              <a:t>THE  COMING  AGE  OF 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787680" y="2133720"/>
            <a:ext cx="743796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62a4e"/>
                </a:solidFill>
                <a:latin typeface="HelveticaNeueLT Std UltLt Ext"/>
              </a:rPr>
              <a:t>SOCIAL  CUSTOM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1003320" y="1720800"/>
            <a:ext cx="17133480" cy="19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4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ffffff"/>
                </a:solidFill>
                <a:latin typeface="HelveticaNeueLT Std UltLt Ext"/>
              </a:rPr>
              <a:t>ALWAYS  RESPOND.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-2317680" y="863640"/>
            <a:ext cx="127638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ATTE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EMBARRASSED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FRUSTRATED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AY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OMPLAIN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EDIA,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6159240" y="3645000"/>
            <a:ext cx="1949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ba62af"/>
                </a:solidFill>
                <a:latin typeface="BigNoodleTitling"/>
              </a:rPr>
              <a:t>83%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6194160" y="4699080"/>
            <a:ext cx="213732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wee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mpl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lov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6101280" y="5613480"/>
            <a:ext cx="2431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resp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"/>
          <p:cNvSpPr/>
          <p:nvPr/>
        </p:nvSpPr>
        <p:spPr>
          <a:xfrm>
            <a:off x="635400" y="800280"/>
            <a:ext cx="617760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WHEN  RESPONDING  TO  THE  SOCIAL  CUSTOM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LT Std UltLt Ext"/>
              </a:rPr>
              <a:t>DON’T  FORGET 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451800" y="2747880"/>
            <a:ext cx="691524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STRIVEFORFASTRESPONSETIM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BEHUMANAND,ATTIMES,APPLYHUMO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DON’TBEDEFENSIV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ALWAYSTHANKTHECUSTOME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SUGGESTASOLUTIONTOTHEPROBLE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1386360" y="2689200"/>
            <a:ext cx="26280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781200" y="958680"/>
            <a:ext cx="65815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TO  IMPROVE  YOUR  COMPANY’S  OVERALL  PLAN 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SOCIAL  CUSTOMER  SERVICE,  CONSIDER  THESE  TI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836640" y="2540160"/>
            <a:ext cx="595188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LISTENTOYOURCUSTOMERS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BUILDRELATIONSHIPSWITHTHE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458640" y="3479760"/>
            <a:ext cx="7739640" cy="10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HAVEADETAILEDCRISIS-MANAGEMENTPLA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DESIGNATEATLEASTONEMEMBEROFYOU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66960" y="4413240"/>
            <a:ext cx="94676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COMPANYTOBEAVAILABLE24/7ONSOCIALMEDI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COMMITRANDOMACTSOFWOWFORYOURCUSTOMER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STRIVETOALWAYSPROVIDELINKSTOHELPFU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INFORMATIONATTHEENDOFEACHRESPONS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"/>
          <p:cNvSpPr/>
          <p:nvPr/>
        </p:nvSpPr>
        <p:spPr>
          <a:xfrm>
            <a:off x="636120" y="1071720"/>
            <a:ext cx="74527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EVEN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 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CHANNELS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(FACEBOOK,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TWITTER,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ETC.)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EVOL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751680" y="1571760"/>
            <a:ext cx="748800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LT Std UltLt Ext"/>
              </a:rPr>
              <a:t>THE  SOCIAL  CUSTOMER  IS  HERE  TO  ST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1954080" y="2730600"/>
            <a:ext cx="80758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IN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NOT-SO-DISTANT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FUTUR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CONSUMERS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WILL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EXPECT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FASTER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RESPONSES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COMPANIES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LIKE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YOU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3951720" y="4584600"/>
            <a:ext cx="362016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LT Std UltLt Ext"/>
              </a:rPr>
              <a:t>DON’T  LET  YOUR 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3825720" y="5397480"/>
            <a:ext cx="401796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LT Std UltLt Ext"/>
              </a:rPr>
              <a:t>SERVICE  EFFORTS  FALL  BEHIN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58428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763560" y="609480"/>
            <a:ext cx="493704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62af"/>
                </a:solidFill>
                <a:latin typeface="HelveticaNeueLT Std UltLt Ext"/>
              </a:rPr>
              <a:t>THE  DAWN  OF  THEDIGITAL  A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-109440" y="1568520"/>
            <a:ext cx="533916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alo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explosiv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media,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force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evolutio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cam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ris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customer—on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know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oppl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respecte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br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-803520" y="3822840"/>
            <a:ext cx="66013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NEWFOUN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AUTHORITY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698400" y="4295880"/>
            <a:ext cx="38736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lveticaNeueLT Std UltLt Ext"/>
              </a:rPr>
              <a:t>THE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lveticaNeueLT Std UltLt Ext"/>
              </a:rPr>
              <a:t>CUSTOM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-1627920" y="3797280"/>
            <a:ext cx="1200312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gNoodleTitling"/>
              </a:rPr>
              <a:t>DESK.COM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ONLY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ERVIC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PRODUCT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BUILT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GROUND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UP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ERV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CUSTOMER.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VIEW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RESPOND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YOUR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CUSTOMERS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DIRECTLY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DESK.C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Sources: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pewinternet.org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forrester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conecomm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oracle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touchagency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zendesk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americanexpress.c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liveops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crmidol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nmincite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inc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peppersandrogersgroup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maritzresearch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696600" y="1676520"/>
            <a:ext cx="75902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NeueLT Std UltLt Ext"/>
              </a:rPr>
              <a:t>SIGN  UP  FOR  YOUR  FREE  14-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NeueLT Std UltLt Ext"/>
              </a:rPr>
              <a:t>TRIAL  OF  DESK.COM  TOD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4745160" y="2970360"/>
            <a:ext cx="447372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gNoodleTitling"/>
              </a:rPr>
              <a:t>CLICK  HERE  TO  GET 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486000" y="1486080"/>
            <a:ext cx="391752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62a4e"/>
                </a:solidFill>
                <a:latin typeface="HelveticaNeueLT Std UltLt Ext"/>
              </a:rPr>
              <a:t>WHO IS 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763200" y="3429000"/>
            <a:ext cx="723960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elveticaNeueLT Std UltLt Ext"/>
              </a:rPr>
              <a:t>SOCIAL CUSTOM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763200" y="1028880"/>
            <a:ext cx="704304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THE  SOCIAL  CUSTOMER  TO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NEARLY  EVERY  CORNER  OF  THE  GLO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7357680" y="4203720"/>
            <a:ext cx="9043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ctr"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  <a:ea typeface="微软雅黑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2938320" y="3083040"/>
            <a:ext cx="51883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AT  LEAST  </a:t>
            </a:r>
            <a:r>
              <a:rPr b="0" lang="en-US" sz="2800" spc="-1" strike="noStrike">
                <a:solidFill>
                  <a:srgbClr val="ba62af"/>
                </a:solidFill>
                <a:latin typeface="BigNoodleTitling"/>
                <a:ea typeface="微软雅黑"/>
              </a:rPr>
              <a:t>20%  </a:t>
            </a: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OF 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WORLD’S 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USE  SSOCIAL  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THAT’S  MORE  THAN  HALF 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THE  2.4  BILLION 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USERS  ACROSS  THE 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781920" y="1009800"/>
            <a:ext cx="551304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TODAY’S  SOCIAL  CUSTOMER 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-1499040" y="4978440"/>
            <a:ext cx="9164160" cy="15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…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WHICH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HAS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CHANGED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EVER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BUSINESS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OWNERS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THOUGHT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THEY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K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ABOUT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RELATIONSHIP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923760" y="3854520"/>
            <a:ext cx="236916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LISTENING  TO  P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3621240" y="3854520"/>
            <a:ext cx="18766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RESEAR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HEAVILY 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5738400" y="3854520"/>
            <a:ext cx="25441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POSTING  COMPL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N  SOCIAL 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461520" y="1015920"/>
            <a:ext cx="455004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EXPECTATIONS  ARE 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5024880" y="533520"/>
            <a:ext cx="37652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day'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nnectivity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olutions,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demand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mmediat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1820520" y="584280"/>
            <a:ext cx="210996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HelveticaNeueLT Std UltLt Ext"/>
              </a:rPr>
              <a:t>FACE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69480" y="2629080"/>
            <a:ext cx="2934360" cy="34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46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1" lang="en-US" sz="2000" spc="-1" strike="noStrike">
                <a:solidFill>
                  <a:srgbClr val="ba62af"/>
                </a:solidFill>
                <a:latin typeface="BigNoodleTitling"/>
              </a:rPr>
              <a:t>46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ngag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b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via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Facebook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BigNoodleTitling"/>
              </a:rPr>
              <a:t>39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hem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loo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giv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product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6126840" y="2629080"/>
            <a:ext cx="2148120" cy="23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29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BigNoodleTitling"/>
              </a:rPr>
              <a:t>29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ithin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3318480" y="2629080"/>
            <a:ext cx="2148120" cy="23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2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c4b3"/>
                </a:solidFill>
                <a:latin typeface="BigNoodleTitling"/>
              </a:rPr>
              <a:t>22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ame-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respo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1915560" y="584280"/>
            <a:ext cx="208872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HelveticaNeueLT Std UltLt Ext"/>
              </a:rPr>
              <a:t>TWI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6042960" y="1092240"/>
            <a:ext cx="2935440" cy="46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81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witt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same-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22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witt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30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witt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5180760" y="1523880"/>
            <a:ext cx="727200" cy="40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800" spc="-1" strike="noStrike">
                <a:solidFill>
                  <a:srgbClr val="ba62af"/>
                </a:solidFill>
                <a:latin typeface="BigNoodleTitling"/>
              </a:rPr>
              <a:t>8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BigNoodleTitling"/>
              </a:rPr>
              <a:t>2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BigNoodleTitling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673200"/>
            <a:ext cx="9144000" cy="5499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6144840" y="4000680"/>
            <a:ext cx="2283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a62af"/>
                </a:solidFill>
                <a:latin typeface="BigNoodleTitling"/>
              </a:rPr>
              <a:t>80%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3430080" y="4762440"/>
            <a:ext cx="23616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M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T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MILL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weet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6174720" y="3665520"/>
            <a:ext cx="23446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ROUG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weet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ritical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n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76760" y="838080"/>
            <a:ext cx="58266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EDIA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UltLt Ext"/>
              </a:rPr>
              <a:t>AN  INTIMATE 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UltLt Ext"/>
              </a:rPr>
              <a:t>AMONG  ALL 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henkui</dc:creator>
  <dc:description/>
  <dc:language>en-US</dc:language>
  <cp:lastModifiedBy>陈魁chinakui</cp:lastModifiedBy>
  <dcterms:modified xsi:type="dcterms:W3CDTF">2015-01-06T16:19:00Z</dcterms:modified>
  <cp:revision>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