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72F-1585-4F13-8736-8D7828B9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91D-DC77-408E-BD03-85E1D6F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AC7-6878-4ABD-ABE8-690BB10F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18B-3D8F-4222-AB3E-6769BADC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044-BD0A-4DF5-BC9E-A32B64CE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3AC-7B31-46C3-8087-4F2B6E0D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866-2BD6-4104-8EAB-59DF65FA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337-79F9-420F-9515-AC067D2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A98-50C7-4FF9-8FF2-852FB6C9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B05-EA2E-4605-9A20-389B849C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F26-B020-4024-BE7B-D926CCEA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5C8-9909-41A0-ADA8-2E4D2E1F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54C5-487D-4537-B8CE-8271E3077A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8"/>
          <p:cNvSpPr/>
          <p:nvPr/>
        </p:nvSpPr>
        <p:spPr>
          <a:xfrm>
            <a:off x="7559640" y="1600200"/>
            <a:ext cx="364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8"/>
          <p:cNvGrpSpPr/>
          <p:nvPr/>
        </p:nvGrpSpPr>
        <p:grpSpPr>
          <a:xfrm>
            <a:off x="2216160" y="3736800"/>
            <a:ext cx="2440080" cy="663480"/>
            <a:chOff x="2216160" y="3736800"/>
            <a:chExt cx="2440080" cy="663480"/>
          </a:xfrm>
        </p:grpSpPr>
        <p:sp>
          <p:nvSpPr>
            <p:cNvPr id="234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16"/>
            <p:cNvSpPr/>
            <p:nvPr/>
          </p:nvSpPr>
          <p:spPr>
            <a:xfrm>
              <a:off x="2216160" y="40932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2216160" y="2459160"/>
            <a:ext cx="2440080" cy="613800"/>
            <a:chOff x="2216160" y="2459160"/>
            <a:chExt cx="2440080" cy="613800"/>
          </a:xfrm>
        </p:grpSpPr>
        <p:sp>
          <p:nvSpPr>
            <p:cNvPr id="237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6"/>
            <p:cNvSpPr/>
            <p:nvPr/>
          </p:nvSpPr>
          <p:spPr>
            <a:xfrm>
              <a:off x="2216160" y="276588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4"/>
          <p:cNvGrpSpPr/>
          <p:nvPr/>
        </p:nvGrpSpPr>
        <p:grpSpPr>
          <a:xfrm>
            <a:off x="7489800" y="2465280"/>
            <a:ext cx="2444760" cy="605880"/>
            <a:chOff x="7489800" y="2465280"/>
            <a:chExt cx="2444760" cy="605880"/>
          </a:xfrm>
        </p:grpSpPr>
        <p:sp>
          <p:nvSpPr>
            <p:cNvPr id="240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7495200" y="276408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27"/>
          <p:cNvGrpSpPr/>
          <p:nvPr/>
        </p:nvGrpSpPr>
        <p:grpSpPr>
          <a:xfrm>
            <a:off x="7489800" y="3772080"/>
            <a:ext cx="2444760" cy="663120"/>
            <a:chOff x="7489800" y="3772080"/>
            <a:chExt cx="2444760" cy="663120"/>
          </a:xfrm>
        </p:grpSpPr>
        <p:sp>
          <p:nvSpPr>
            <p:cNvPr id="243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7495200" y="412812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Rectangle 19"/>
          <p:cNvSpPr/>
          <p:nvPr/>
        </p:nvSpPr>
        <p:spPr>
          <a:xfrm>
            <a:off x="1230480" y="5397480"/>
            <a:ext cx="948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培训新闻微信公众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920"/>
            <a:chOff x="1839960" y="2960640"/>
            <a:chExt cx="8512200" cy="1303920"/>
          </a:xfrm>
        </p:grpSpPr>
        <p:sp>
          <p:nvSpPr>
            <p:cNvPr id="80" name="TextBox 4"/>
            <p:cNvSpPr/>
            <p:nvPr/>
          </p:nvSpPr>
          <p:spPr>
            <a:xfrm>
              <a:off x="509184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微信公众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56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1939320"/>
            <a:chOff x="1123920" y="2336760"/>
            <a:chExt cx="2049480" cy="193932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320"/>
              <a:ext cx="2049480" cy="680760"/>
              <a:chOff x="1123920" y="3595320"/>
              <a:chExt cx="2049480" cy="68076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1961640"/>
            <a:chOff x="3770280" y="2314440"/>
            <a:chExt cx="2049480" cy="196164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0960"/>
              <a:chOff x="4479480" y="2314440"/>
              <a:chExt cx="630720" cy="84096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36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48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680760"/>
              <a:chOff x="3770280" y="3595320"/>
              <a:chExt cx="2049480" cy="68076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1923120"/>
            <a:chOff x="6416640" y="2352600"/>
            <a:chExt cx="2049480" cy="192312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5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320"/>
              <a:ext cx="2049480" cy="680400"/>
              <a:chOff x="6416640" y="3595320"/>
              <a:chExt cx="2049480" cy="68040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864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1957680"/>
            <a:chOff x="9063000" y="2319480"/>
            <a:chExt cx="2048040" cy="1957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400"/>
              <a:ext cx="2048040" cy="680760"/>
              <a:chOff x="9063000" y="3596400"/>
              <a:chExt cx="2048040" cy="68076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70080"/>
                <a:ext cx="204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40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967320"/>
            <a:chOff x="552600" y="2166840"/>
            <a:chExt cx="2935080" cy="96732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80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7080"/>
              <a:ext cx="29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663840"/>
            <a:chOff x="2862360" y="1747800"/>
            <a:chExt cx="2658960" cy="66384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663840"/>
            <a:chOff x="2862360" y="3052800"/>
            <a:chExt cx="2658960" cy="66384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663840"/>
            <a:chOff x="2862360" y="4357800"/>
            <a:chExt cx="2658960" cy="66384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663840"/>
            <a:chOff x="7623000" y="1747800"/>
            <a:chExt cx="2659320" cy="66384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663840"/>
            <a:chOff x="7623000" y="3052800"/>
            <a:chExt cx="2659320" cy="66384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663840"/>
            <a:chOff x="7623000" y="4357800"/>
            <a:chExt cx="2659320" cy="66384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8320"/>
            <a:ext cx="2049480" cy="2890800"/>
            <a:chOff x="984240" y="1768320"/>
            <a:chExt cx="2049480" cy="289080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8320"/>
              <a:ext cx="1696320" cy="1766160"/>
              <a:chOff x="1179000" y="1768320"/>
              <a:chExt cx="1696320" cy="176616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16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8320"/>
            <a:ext cx="2049480" cy="2890800"/>
            <a:chOff x="3719520" y="1768320"/>
            <a:chExt cx="2049480" cy="289080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8320"/>
              <a:ext cx="1696320" cy="1766160"/>
              <a:chOff x="3877920" y="1768320"/>
              <a:chExt cx="1696320" cy="176616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2884680"/>
            <a:chOff x="6454800" y="1768320"/>
            <a:chExt cx="2049480" cy="2884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92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2906640"/>
            <a:chOff x="9113760" y="1752480"/>
            <a:chExt cx="2048040" cy="290664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6-05-07T08:41:2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