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DC5-67D1-4B9B-B1C1-B67453DC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8AC-2982-4224-809E-8372CC42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CFB-CFEC-4D87-83ED-BCE73C74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54E-048F-4FB9-8624-34BC97AC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DE6-BBA5-4260-9D09-0B8BB30A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562-AB5D-4090-8ADB-BD5AA9C0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51C-FEA0-42F6-8FFD-86E0BEED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250-A8A2-45B9-86EC-B84ECE5F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096-670B-4B80-8C9C-09798A9D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C11-D2BE-4E6B-BEBC-E4B8FEC0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74F-5A1D-43B7-8EB9-E3681878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4EF-167E-4357-9009-B06673AC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C53E-595A-4BED-A605-DDD9319928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8"/>
          <p:cNvSpPr/>
          <p:nvPr/>
        </p:nvSpPr>
        <p:spPr>
          <a:xfrm>
            <a:off x="7559640" y="1600200"/>
            <a:ext cx="3641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8"/>
          <p:cNvGrpSpPr/>
          <p:nvPr/>
        </p:nvGrpSpPr>
        <p:grpSpPr>
          <a:xfrm>
            <a:off x="2216160" y="3736800"/>
            <a:ext cx="2440080" cy="663480"/>
            <a:chOff x="2216160" y="3736800"/>
            <a:chExt cx="2440080" cy="663480"/>
          </a:xfrm>
        </p:grpSpPr>
        <p:sp>
          <p:nvSpPr>
            <p:cNvPr id="234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16"/>
            <p:cNvSpPr/>
            <p:nvPr/>
          </p:nvSpPr>
          <p:spPr>
            <a:xfrm>
              <a:off x="2216160" y="409320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8"/>
          <p:cNvGrpSpPr/>
          <p:nvPr/>
        </p:nvGrpSpPr>
        <p:grpSpPr>
          <a:xfrm>
            <a:off x="2216160" y="2459160"/>
            <a:ext cx="2440080" cy="613800"/>
            <a:chOff x="2216160" y="2459160"/>
            <a:chExt cx="2440080" cy="613800"/>
          </a:xfrm>
        </p:grpSpPr>
        <p:sp>
          <p:nvSpPr>
            <p:cNvPr id="237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16"/>
            <p:cNvSpPr/>
            <p:nvPr/>
          </p:nvSpPr>
          <p:spPr>
            <a:xfrm>
              <a:off x="2216160" y="276588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24"/>
          <p:cNvGrpSpPr/>
          <p:nvPr/>
        </p:nvGrpSpPr>
        <p:grpSpPr>
          <a:xfrm>
            <a:off x="7489800" y="2465280"/>
            <a:ext cx="2444760" cy="605880"/>
            <a:chOff x="7489800" y="2465280"/>
            <a:chExt cx="2444760" cy="605880"/>
          </a:xfrm>
        </p:grpSpPr>
        <p:sp>
          <p:nvSpPr>
            <p:cNvPr id="240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7495200" y="276408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27"/>
          <p:cNvGrpSpPr/>
          <p:nvPr/>
        </p:nvGrpSpPr>
        <p:grpSpPr>
          <a:xfrm>
            <a:off x="7489800" y="3772080"/>
            <a:ext cx="2444760" cy="663120"/>
            <a:chOff x="7489800" y="3772080"/>
            <a:chExt cx="2444760" cy="663120"/>
          </a:xfrm>
        </p:grpSpPr>
        <p:sp>
          <p:nvSpPr>
            <p:cNvPr id="243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7495200" y="412812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Rectangle 19"/>
          <p:cNvSpPr/>
          <p:nvPr/>
        </p:nvSpPr>
        <p:spPr>
          <a:xfrm>
            <a:off x="1230480" y="5397480"/>
            <a:ext cx="948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培训新闻微信公众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920"/>
            <a:chOff x="1839960" y="2960640"/>
            <a:chExt cx="8512200" cy="1303920"/>
          </a:xfrm>
        </p:grpSpPr>
        <p:sp>
          <p:nvSpPr>
            <p:cNvPr id="80" name="TextBox 4"/>
            <p:cNvSpPr/>
            <p:nvPr/>
          </p:nvSpPr>
          <p:spPr>
            <a:xfrm>
              <a:off x="509184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微信公众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56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1939320"/>
            <a:chOff x="1123920" y="2336760"/>
            <a:chExt cx="2049480" cy="193932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48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320"/>
              <a:ext cx="2049480" cy="680760"/>
              <a:chOff x="1123920" y="3595320"/>
              <a:chExt cx="2049480" cy="68076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1961640"/>
            <a:chOff x="3770280" y="2314440"/>
            <a:chExt cx="2049480" cy="196164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0960"/>
              <a:chOff x="4479480" y="2314440"/>
              <a:chExt cx="630720" cy="84096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36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48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680760"/>
              <a:chOff x="3770280" y="3595320"/>
              <a:chExt cx="2049480" cy="68076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1923120"/>
            <a:chOff x="6416640" y="2352600"/>
            <a:chExt cx="2049480" cy="192312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5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320"/>
              <a:ext cx="2049480" cy="680400"/>
              <a:chOff x="6416640" y="3595320"/>
              <a:chExt cx="2049480" cy="68040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864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1957680"/>
            <a:chOff x="9063000" y="2319480"/>
            <a:chExt cx="2048040" cy="1957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400"/>
              <a:ext cx="2048040" cy="680760"/>
              <a:chOff x="9063000" y="3596400"/>
              <a:chExt cx="2048040" cy="68076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70080"/>
                <a:ext cx="204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40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967320"/>
            <a:chOff x="552600" y="2166840"/>
            <a:chExt cx="2935080" cy="96732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80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7080"/>
              <a:ext cx="29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663840"/>
            <a:chOff x="2862360" y="1747800"/>
            <a:chExt cx="2658960" cy="66384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663840"/>
            <a:chOff x="2862360" y="3052800"/>
            <a:chExt cx="2658960" cy="66384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663840"/>
            <a:chOff x="2862360" y="4357800"/>
            <a:chExt cx="2658960" cy="66384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663840"/>
            <a:chOff x="7623000" y="1747800"/>
            <a:chExt cx="2659320" cy="66384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663840"/>
            <a:chOff x="7623000" y="3052800"/>
            <a:chExt cx="2659320" cy="66384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663840"/>
            <a:chOff x="7623000" y="4357800"/>
            <a:chExt cx="2659320" cy="66384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8320"/>
            <a:ext cx="2049480" cy="2890800"/>
            <a:chOff x="984240" y="1768320"/>
            <a:chExt cx="2049480" cy="289080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8320"/>
              <a:ext cx="1696320" cy="1766160"/>
              <a:chOff x="1179000" y="1768320"/>
              <a:chExt cx="1696320" cy="176616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16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8320"/>
            <a:ext cx="2049480" cy="2890800"/>
            <a:chOff x="3719520" y="1768320"/>
            <a:chExt cx="2049480" cy="289080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8320"/>
              <a:ext cx="1696320" cy="1766160"/>
              <a:chOff x="3877920" y="1768320"/>
              <a:chExt cx="1696320" cy="176616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2884680"/>
            <a:chOff x="6454800" y="1768320"/>
            <a:chExt cx="2049480" cy="2884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92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2906640"/>
            <a:chOff x="9113760" y="1752480"/>
            <a:chExt cx="2048040" cy="290664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6-05-07T08:41:29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