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DF1-E82A-4976-BA89-70C1C1A0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A52-DB5E-44D3-94E1-D8F2816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9B9-761F-4E54-A966-67B67385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4F4-E9C8-4E9F-B101-4C9B6BBA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21C-068D-44FB-8835-0828A33C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D97-CBDA-4ED2-B53F-10C1837B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CDD-DCF0-4AAB-94B3-0BFD10C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C53-A855-4BDD-9655-566E1A2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100-668F-43BB-AC7E-8E9039A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792-6A9A-481B-85AC-53EFAE7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B92-4D93-4B49-BFB7-829C624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6AE-35DA-4CC3-B6C5-B7A4891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CE6-B66A-49B4-8E10-AFC07367A8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/>
            <a:ahLst/>
            <a:rect l="l" t="t" r="r" b="b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/>
            <a:ahLst/>
            <a:rect l="l" t="t" r="r" b="b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/>
            <a:ahLst/>
            <a:rect l="l" t="t" r="r" b="b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/>
            <a:ahLst/>
            <a:rect l="l" t="t" r="r" b="b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/>
            <a:ahLst/>
            <a:rect l="l" t="t" r="r" b="b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  <a:ea typeface="宋体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89360" y="2333520"/>
            <a:ext cx="2824200" cy="360"/>
            <a:chOff x="4689360" y="2333520"/>
            <a:chExt cx="2824200" cy="360"/>
          </a:xfrm>
        </p:grpSpPr>
        <p:sp>
          <p:nvSpPr>
            <p:cNvPr id="52" name="直接连接符 11"/>
            <p:cNvSpPr/>
            <p:nvPr/>
          </p:nvSpPr>
          <p:spPr>
            <a:xfrm>
              <a:off x="4689360" y="2333520"/>
              <a:ext cx="2824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689360" y="2333520"/>
              <a:ext cx="282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42040" y="3932280"/>
            <a:ext cx="1476360" cy="1440"/>
            <a:chOff x="5342040" y="3932280"/>
            <a:chExt cx="1476360" cy="1440"/>
          </a:xfrm>
        </p:grpSpPr>
        <p:sp>
          <p:nvSpPr>
            <p:cNvPr id="55" name="直接连接符 37"/>
            <p:cNvSpPr/>
            <p:nvPr/>
          </p:nvSpPr>
          <p:spPr>
            <a:xfrm>
              <a:off x="5342040" y="3932280"/>
              <a:ext cx="1476360" cy="144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42040" y="3932280"/>
              <a:ext cx="14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4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5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/>
            <a:ahLst/>
            <a:rect l="l" t="t" r="r" b="b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 flipH="1" rot="18803400">
            <a:off x="6075000" y="2395800"/>
            <a:ext cx="1133640" cy="1443240"/>
          </a:xfrm>
          <a:custGeom>
            <a:avLst/>
            <a:gdLst/>
            <a:ahLst/>
            <a:rect l="l" t="t" r="r" b="b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/>
            <a:ahLst/>
            <a:rect l="l" t="t" r="r" b="b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/>
            <a:ahLst/>
            <a:rect l="l" t="t" r="r" b="b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0"/>
          <p:cNvSpPr/>
          <p:nvPr/>
        </p:nvSpPr>
        <p:spPr>
          <a:xfrm flipV="1" rot="18754800">
            <a:off x="5018040" y="4433040"/>
            <a:ext cx="1130040" cy="1441440"/>
          </a:xfrm>
          <a:custGeom>
            <a:avLst/>
            <a:gdLst/>
            <a:ahLst/>
            <a:rect l="l" t="t" r="r" b="b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 flipH="1" flipV="1" rot="2845200">
            <a:off x="6091200" y="4433040"/>
            <a:ext cx="1130040" cy="14414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38160" y="3162240"/>
            <a:ext cx="1582920" cy="360"/>
            <a:chOff x="938160" y="3162240"/>
            <a:chExt cx="1582920" cy="360"/>
          </a:xfrm>
        </p:grpSpPr>
        <p:sp>
          <p:nvSpPr>
            <p:cNvPr id="268" name="直接连接符 28"/>
            <p:cNvSpPr/>
            <p:nvPr/>
          </p:nvSpPr>
          <p:spPr>
            <a:xfrm>
              <a:off x="938160" y="31622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38160" y="31622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38160" y="4656240"/>
            <a:ext cx="1582920" cy="1440"/>
            <a:chOff x="938160" y="4656240"/>
            <a:chExt cx="1582920" cy="1440"/>
          </a:xfrm>
        </p:grpSpPr>
        <p:sp>
          <p:nvSpPr>
            <p:cNvPr id="272" name="直接连接符 30"/>
            <p:cNvSpPr/>
            <p:nvPr/>
          </p:nvSpPr>
          <p:spPr>
            <a:xfrm>
              <a:off x="938160" y="4656240"/>
              <a:ext cx="1582920" cy="144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938160" y="4656240"/>
              <a:ext cx="15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8160" y="6148440"/>
            <a:ext cx="1582920" cy="360"/>
            <a:chOff x="938160" y="6148440"/>
            <a:chExt cx="1582920" cy="360"/>
          </a:xfrm>
        </p:grpSpPr>
        <p:sp>
          <p:nvSpPr>
            <p:cNvPr id="276" name="直接连接符 32"/>
            <p:cNvSpPr/>
            <p:nvPr/>
          </p:nvSpPr>
          <p:spPr>
            <a:xfrm>
              <a:off x="938160" y="61484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38160" y="61484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45280" y="3153960"/>
            <a:ext cx="1584360" cy="360"/>
            <a:chOff x="9845280" y="3153960"/>
            <a:chExt cx="1584360" cy="360"/>
          </a:xfrm>
        </p:grpSpPr>
        <p:sp>
          <p:nvSpPr>
            <p:cNvPr id="280" name="直接连接符 34"/>
            <p:cNvSpPr/>
            <p:nvPr/>
          </p:nvSpPr>
          <p:spPr>
            <a:xfrm flipH="1">
              <a:off x="9845280" y="3154320"/>
              <a:ext cx="15843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9845280" y="3153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79120" y="4582800"/>
            <a:ext cx="1582560" cy="360"/>
            <a:chOff x="9879120" y="4582800"/>
            <a:chExt cx="1582560" cy="360"/>
          </a:xfrm>
        </p:grpSpPr>
        <p:sp>
          <p:nvSpPr>
            <p:cNvPr id="284" name="直接连接符 36"/>
            <p:cNvSpPr/>
            <p:nvPr/>
          </p:nvSpPr>
          <p:spPr>
            <a:xfrm flipH="1">
              <a:off x="9879120" y="458316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9879120" y="458280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879120" y="6076440"/>
            <a:ext cx="1582560" cy="360"/>
            <a:chOff x="9879120" y="6076440"/>
            <a:chExt cx="1582560" cy="360"/>
          </a:xfrm>
        </p:grpSpPr>
        <p:sp>
          <p:nvSpPr>
            <p:cNvPr id="288" name="直接连接符 38"/>
            <p:cNvSpPr/>
            <p:nvPr/>
          </p:nvSpPr>
          <p:spPr>
            <a:xfrm flipH="1">
              <a:off x="9879120" y="607680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9879120" y="607644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92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5330880" y="3069360"/>
              <a:ext cx="395280" cy="17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95" name="Freeform 20"/>
            <p:cNvSpPr/>
            <p:nvPr/>
          </p:nvSpPr>
          <p:spPr>
            <a:xfrm>
              <a:off x="4657680" y="4025880"/>
              <a:ext cx="353880" cy="3510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4982040" y="3971880"/>
              <a:ext cx="209160" cy="2091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98" name="Freeform 32"/>
            <p:cNvSpPr/>
            <p:nvPr/>
          </p:nvSpPr>
          <p:spPr>
            <a:xfrm>
              <a:off x="5477760" y="497376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365800" y="521028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5591160" y="509832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302" name="Freeform 136"/>
            <p:cNvSpPr/>
            <p:nvPr/>
          </p:nvSpPr>
          <p:spPr>
            <a:xfrm>
              <a:off x="6588000" y="3122640"/>
              <a:ext cx="34632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7"/>
            <p:cNvSpPr/>
            <p:nvPr/>
          </p:nvSpPr>
          <p:spPr>
            <a:xfrm>
              <a:off x="6588000" y="2930400"/>
              <a:ext cx="34632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305" name="Freeform 25"/>
            <p:cNvSpPr/>
            <p:nvPr/>
          </p:nvSpPr>
          <p:spPr>
            <a:xfrm>
              <a:off x="7320600" y="4281120"/>
              <a:ext cx="9576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84"/>
            <p:cNvSpPr/>
            <p:nvPr/>
          </p:nvSpPr>
          <p:spPr>
            <a:xfrm>
              <a:off x="7189920" y="4035600"/>
              <a:ext cx="35712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308" name="Freeform 148"/>
            <p:cNvSpPr/>
            <p:nvPr/>
          </p:nvSpPr>
          <p:spPr>
            <a:xfrm>
              <a:off x="6608880" y="497376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9"/>
            <p:cNvSpPr/>
            <p:nvPr/>
          </p:nvSpPr>
          <p:spPr>
            <a:xfrm>
              <a:off x="6556320" y="519444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1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/>
            <a:ahLst/>
            <a:rect l="l" t="t" r="r" b="b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  <a:ea typeface="宋体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  <a:ea typeface="宋体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354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6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6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六边形 10"/>
          <p:cNvSpPr/>
          <p:nvPr/>
        </p:nvSpPr>
        <p:spPr>
          <a:xfrm rot="5400000">
            <a:off x="4461840" y="2538360"/>
            <a:ext cx="3232440" cy="2203560"/>
          </a:xfrm>
          <a:prstGeom prst="hexagon">
            <a:avLst>
              <a:gd name="adj" fmla="val 25019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95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4"/>
            <p:cNvSpPr/>
            <p:nvPr/>
          </p:nvSpPr>
          <p:spPr>
            <a:xfrm>
              <a:off x="5803920" y="2915280"/>
              <a:ext cx="587520" cy="2548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98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401" name="Freeform 32"/>
            <p:cNvSpPr/>
            <p:nvPr/>
          </p:nvSpPr>
          <p:spPr>
            <a:xfrm>
              <a:off x="6022440" y="4340160"/>
              <a:ext cx="113400" cy="57312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5856120" y="4689720"/>
              <a:ext cx="112320" cy="2235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6190560" y="4524480"/>
              <a:ext cx="113400" cy="388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405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/>
            <a:ahLst/>
            <a:rect l="l" t="t" r="r" b="b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/>
            <a:ahLst/>
            <a:rect l="l" t="t" r="r" b="b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568520" y="4405320"/>
            <a:ext cx="1517760" cy="360"/>
            <a:chOff x="1568520" y="4405320"/>
            <a:chExt cx="1517760" cy="360"/>
          </a:xfrm>
        </p:grpSpPr>
        <p:sp>
          <p:nvSpPr>
            <p:cNvPr id="419" name="直接连接符 36"/>
            <p:cNvSpPr/>
            <p:nvPr/>
          </p:nvSpPr>
          <p:spPr>
            <a:xfrm>
              <a:off x="156852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56852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346800" y="4405320"/>
            <a:ext cx="1517760" cy="360"/>
            <a:chOff x="6346800" y="4405320"/>
            <a:chExt cx="1517760" cy="360"/>
          </a:xfrm>
        </p:grpSpPr>
        <p:sp>
          <p:nvSpPr>
            <p:cNvPr id="422" name="直接连接符 40"/>
            <p:cNvSpPr/>
            <p:nvPr/>
          </p:nvSpPr>
          <p:spPr>
            <a:xfrm>
              <a:off x="634680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34680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98800" y="4191120"/>
            <a:ext cx="1517760" cy="360"/>
            <a:chOff x="3898800" y="4191120"/>
            <a:chExt cx="1517760" cy="360"/>
          </a:xfrm>
        </p:grpSpPr>
        <p:sp>
          <p:nvSpPr>
            <p:cNvPr id="425" name="直接连接符 44"/>
            <p:cNvSpPr/>
            <p:nvPr/>
          </p:nvSpPr>
          <p:spPr>
            <a:xfrm>
              <a:off x="3898800" y="4191120"/>
              <a:ext cx="151776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898800" y="41911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813880" y="4191120"/>
            <a:ext cx="1517400" cy="360"/>
            <a:chOff x="8813880" y="4191120"/>
            <a:chExt cx="1517400" cy="360"/>
          </a:xfrm>
        </p:grpSpPr>
        <p:sp>
          <p:nvSpPr>
            <p:cNvPr id="428" name="直接连接符 48"/>
            <p:cNvSpPr/>
            <p:nvPr/>
          </p:nvSpPr>
          <p:spPr>
            <a:xfrm>
              <a:off x="8813880" y="4191120"/>
              <a:ext cx="15174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813880" y="4191120"/>
              <a:ext cx="151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435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41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45" name="Freeform 136"/>
            <p:cNvSpPr/>
            <p:nvPr/>
          </p:nvSpPr>
          <p:spPr>
            <a:xfrm>
              <a:off x="6864480" y="4012560"/>
              <a:ext cx="423720" cy="1846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6864480" y="3776760"/>
              <a:ext cx="423720" cy="244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48" name="Freeform 154"/>
            <p:cNvSpPr/>
            <p:nvPr/>
          </p:nvSpPr>
          <p:spPr>
            <a:xfrm>
              <a:off x="2259720" y="410832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6"/>
            <p:cNvSpPr/>
            <p:nvPr/>
          </p:nvSpPr>
          <p:spPr>
            <a:xfrm>
              <a:off x="2162880" y="378072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7"/>
            <p:cNvSpPr/>
            <p:nvPr/>
          </p:nvSpPr>
          <p:spPr>
            <a:xfrm>
              <a:off x="2125800" y="370368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8"/>
            <p:cNvSpPr/>
            <p:nvPr/>
          </p:nvSpPr>
          <p:spPr>
            <a:xfrm>
              <a:off x="2387520" y="389628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5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6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65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76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4"/>
            <p:cNvSpPr/>
            <p:nvPr/>
          </p:nvSpPr>
          <p:spPr>
            <a:xfrm>
              <a:off x="3890880" y="2543760"/>
              <a:ext cx="424080" cy="18360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79" name="Freeform 20"/>
            <p:cNvSpPr/>
            <p:nvPr/>
          </p:nvSpPr>
          <p:spPr>
            <a:xfrm>
              <a:off x="3797280" y="39862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4121640" y="39322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82" name="Freeform 32"/>
            <p:cNvSpPr/>
            <p:nvPr/>
          </p:nvSpPr>
          <p:spPr>
            <a:xfrm>
              <a:off x="4036320" y="548640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"/>
            <p:cNvSpPr/>
            <p:nvPr/>
          </p:nvSpPr>
          <p:spPr>
            <a:xfrm>
              <a:off x="3924360" y="572292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"/>
            <p:cNvSpPr/>
            <p:nvPr/>
          </p:nvSpPr>
          <p:spPr>
            <a:xfrm>
              <a:off x="4149720" y="561096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92" name="Freeform 136"/>
            <p:cNvSpPr/>
            <p:nvPr/>
          </p:nvSpPr>
          <p:spPr>
            <a:xfrm>
              <a:off x="8007480" y="2576520"/>
              <a:ext cx="34596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7"/>
            <p:cNvSpPr/>
            <p:nvPr/>
          </p:nvSpPr>
          <p:spPr>
            <a:xfrm>
              <a:off x="8007480" y="2384280"/>
              <a:ext cx="34596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95" name="Freeform 25"/>
            <p:cNvSpPr/>
            <p:nvPr/>
          </p:nvSpPr>
          <p:spPr>
            <a:xfrm>
              <a:off x="8128080" y="4209480"/>
              <a:ext cx="9540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"/>
            <p:cNvSpPr/>
            <p:nvPr/>
          </p:nvSpPr>
          <p:spPr>
            <a:xfrm>
              <a:off x="7997760" y="3963960"/>
              <a:ext cx="35568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98" name="Freeform 148"/>
            <p:cNvSpPr/>
            <p:nvPr/>
          </p:nvSpPr>
          <p:spPr>
            <a:xfrm>
              <a:off x="8047080" y="545292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9"/>
            <p:cNvSpPr/>
            <p:nvPr/>
          </p:nvSpPr>
          <p:spPr>
            <a:xfrm>
              <a:off x="7994520" y="567360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508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1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534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40" name="Freeform 148"/>
            <p:cNvSpPr/>
            <p:nvPr/>
          </p:nvSpPr>
          <p:spPr>
            <a:xfrm>
              <a:off x="4530240" y="5000760"/>
              <a:ext cx="381600" cy="497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4470480" y="5252760"/>
              <a:ext cx="251640" cy="248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44" name="Freeform 136"/>
            <p:cNvSpPr/>
            <p:nvPr/>
          </p:nvSpPr>
          <p:spPr>
            <a:xfrm>
              <a:off x="5587920" y="4149720"/>
              <a:ext cx="424080" cy="184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7"/>
            <p:cNvSpPr/>
            <p:nvPr/>
          </p:nvSpPr>
          <p:spPr>
            <a:xfrm>
              <a:off x="5587920" y="3914640"/>
              <a:ext cx="424080" cy="243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47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53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59" name="Freeform 148"/>
            <p:cNvSpPr/>
            <p:nvPr/>
          </p:nvSpPr>
          <p:spPr>
            <a:xfrm rot="1029600">
              <a:off x="6623640" y="3351960"/>
              <a:ext cx="314280" cy="408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9"/>
            <p:cNvSpPr/>
            <p:nvPr/>
          </p:nvSpPr>
          <p:spPr>
            <a:xfrm rot="1029600">
              <a:off x="6548040" y="3524400"/>
              <a:ext cx="207360" cy="2037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63" name="Freeform 136"/>
            <p:cNvSpPr/>
            <p:nvPr/>
          </p:nvSpPr>
          <p:spPr>
            <a:xfrm rot="1029600">
              <a:off x="7521480" y="3012120"/>
              <a:ext cx="350640" cy="152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7"/>
            <p:cNvSpPr/>
            <p:nvPr/>
          </p:nvSpPr>
          <p:spPr>
            <a:xfrm rot="1029600">
              <a:off x="7571520" y="2825640"/>
              <a:ext cx="350640" cy="2012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66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/>
            <a:ahLst/>
            <a:rect l="l" t="t" r="r" b="b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/>
            <a:ahLst/>
            <a:rect l="l" t="t" r="r" b="b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/>
            <a:ahLst/>
            <a:rect l="l" t="t" r="r" b="b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/>
            <a:ahLst/>
            <a:rect l="l" t="t" r="r" b="b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7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8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/>
            <a:ahLst/>
            <a:rect l="l" t="t" r="r" b="b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/>
            <a:ahLst/>
            <a:rect l="l" t="t" r="r" b="b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/>
            <a:ahLst/>
            <a:rect l="l" t="t" r="r" b="b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/>
            <a:ahLst/>
            <a:rect l="l" t="t" r="r" b="b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/>
            <a:ahLst/>
            <a:rect l="l" t="t" r="r" b="b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0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/>
            <a:ahLst/>
            <a:rect l="l" t="t" r="r" b="b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/>
            <a:ahLst/>
            <a:rect l="l" t="t" r="r" b="b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617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620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2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2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4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5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69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75" name="Freeform 148"/>
            <p:cNvSpPr/>
            <p:nvPr/>
          </p:nvSpPr>
          <p:spPr>
            <a:xfrm>
              <a:off x="5973120" y="5124600"/>
              <a:ext cx="310320" cy="401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5924520" y="5328000"/>
              <a:ext cx="204480" cy="1998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79" name="Freeform 136"/>
            <p:cNvSpPr/>
            <p:nvPr/>
          </p:nvSpPr>
          <p:spPr>
            <a:xfrm>
              <a:off x="5910120" y="3338280"/>
              <a:ext cx="344520" cy="1494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7"/>
            <p:cNvSpPr/>
            <p:nvPr/>
          </p:nvSpPr>
          <p:spPr>
            <a:xfrm>
              <a:off x="5910120" y="3147840"/>
              <a:ext cx="344520" cy="197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82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69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6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80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/>
            <a:ahLst/>
            <a:rect l="l" t="t" r="r" b="b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/>
            <a:ahLst/>
            <a:rect l="l" t="t" r="r" b="b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/>
            <a:ahLst/>
            <a:rect l="l" t="t" r="r" b="b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/>
            <a:ahLst/>
            <a:rect l="l" t="t" r="r" b="b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0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/>
            <a:ahLst/>
            <a:rect l="l" t="t" r="r" b="b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flipH="1" rot="16193400">
            <a:off x="4791240" y="2623680"/>
            <a:ext cx="1225800" cy="122544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105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11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14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20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/>
            <a:ahLst/>
            <a:rect l="l" t="t" r="r" b="b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25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9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33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9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55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8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64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2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6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8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202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14680" y="2906640"/>
            <a:ext cx="1820520" cy="360"/>
            <a:chOff x="1714680" y="2906640"/>
            <a:chExt cx="1820520" cy="360"/>
          </a:xfrm>
        </p:grpSpPr>
        <p:sp>
          <p:nvSpPr>
            <p:cNvPr id="222" name="直接连接符 14"/>
            <p:cNvSpPr/>
            <p:nvPr/>
          </p:nvSpPr>
          <p:spPr>
            <a:xfrm>
              <a:off x="1714680" y="2906640"/>
              <a:ext cx="182052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14680" y="2906640"/>
              <a:ext cx="182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27560" y="2911320"/>
            <a:ext cx="1820880" cy="360"/>
            <a:chOff x="5227560" y="2911320"/>
            <a:chExt cx="1820880" cy="360"/>
          </a:xfrm>
        </p:grpSpPr>
        <p:sp>
          <p:nvSpPr>
            <p:cNvPr id="225" name="直接连接符 29"/>
            <p:cNvSpPr/>
            <p:nvPr/>
          </p:nvSpPr>
          <p:spPr>
            <a:xfrm>
              <a:off x="5227560" y="291132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27560" y="291132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729640" y="2936880"/>
            <a:ext cx="1820880" cy="360"/>
            <a:chOff x="8729640" y="2936880"/>
            <a:chExt cx="1820880" cy="360"/>
          </a:xfrm>
        </p:grpSpPr>
        <p:sp>
          <p:nvSpPr>
            <p:cNvPr id="228" name="直接连接符 30"/>
            <p:cNvSpPr/>
            <p:nvPr/>
          </p:nvSpPr>
          <p:spPr>
            <a:xfrm>
              <a:off x="8729640" y="293688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29640" y="293688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/>
            <a:ahLst/>
            <a:rect l="l" t="t" r="r" b="b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36" name="Freeform 136"/>
            <p:cNvSpPr/>
            <p:nvPr/>
          </p:nvSpPr>
          <p:spPr>
            <a:xfrm>
              <a:off x="6006960" y="2576880"/>
              <a:ext cx="325440" cy="140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6006960" y="2397240"/>
              <a:ext cx="325440" cy="186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39" name="Freeform 154"/>
            <p:cNvSpPr/>
            <p:nvPr/>
          </p:nvSpPr>
          <p:spPr>
            <a:xfrm>
              <a:off x="2656440" y="27046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6"/>
            <p:cNvSpPr/>
            <p:nvPr/>
          </p:nvSpPr>
          <p:spPr>
            <a:xfrm>
              <a:off x="2582640" y="2455560"/>
              <a:ext cx="189360" cy="187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7"/>
            <p:cNvSpPr/>
            <p:nvPr/>
          </p:nvSpPr>
          <p:spPr>
            <a:xfrm>
              <a:off x="2554200" y="2397240"/>
              <a:ext cx="245520" cy="3618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8"/>
            <p:cNvSpPr/>
            <p:nvPr/>
          </p:nvSpPr>
          <p:spPr>
            <a:xfrm>
              <a:off x="2754360" y="2543400"/>
              <a:ext cx="138240" cy="137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45" name="Freeform 32"/>
            <p:cNvSpPr/>
            <p:nvPr/>
          </p:nvSpPr>
          <p:spPr>
            <a:xfrm>
              <a:off x="9729720" y="2371680"/>
              <a:ext cx="7668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9617040" y="2608200"/>
              <a:ext cx="7596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9843480" y="2496240"/>
              <a:ext cx="7668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Administrator</cp:lastModifiedBy>
  <dcterms:modified xsi:type="dcterms:W3CDTF">2016-05-07T08:49:50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