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A90-5FC7-402A-9358-CDC1DB6B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9E2-CF68-4B4C-9077-AA60A34C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9DE-5CC7-4B4A-801C-CED66249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4C8-475D-4199-B270-4748138D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7B4-ABD2-4F5A-98F3-207E04D6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F18-0C2A-4057-85F4-BE9CA801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97A-57F0-4426-AB98-F65EAA1E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D16-41D5-4831-BF2B-F0563794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F4D-E135-4593-9C7F-E5954436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0A3-6D1E-486D-847C-9EFF8332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C1A-819C-44A6-B40B-40187F6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147-8F05-448A-9BAE-1C1B071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347B-F2B4-469A-B16F-8290FA33C7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9EE4-6EA7-4BC2-8D8F-EE13ED8425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61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7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7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7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8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39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41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44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5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7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9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69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70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73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15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1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2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2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2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2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84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9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90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92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3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4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95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6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97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8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9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900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902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3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4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2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910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912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6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68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101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4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55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64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Text Box 38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97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99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2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53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57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66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3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8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9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2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60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61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62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9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4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4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80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5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21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23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6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8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8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40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72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76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80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1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13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14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7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20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23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26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7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30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36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40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42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45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9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哎呀小小草</dc:creator>
  <dc:description/>
  <cp:keywords/>
  <dc:language>en-US</dc:language>
  <cp:lastModifiedBy>my</cp:lastModifiedBy>
  <dcterms:modified xsi:type="dcterms:W3CDTF">2015-11-24T06:47:24Z</dcterms:modified>
  <cp:revision>88</cp:revision>
  <dc:subject/>
  <dc:title>PowerPoint 演示文稿</dc:title>
</cp:coreProperties>
</file>