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A62-79BB-4927-AAAB-77BA8FE2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EE8-1C61-4AD2-B448-EC8BBEF1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7FE-4098-4281-862B-C279B6EC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878-78E2-428E-BAC4-843D01C0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2D0-367C-4459-B657-C1495477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00B-56E8-4A29-A36D-D2570981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BB4-E8F6-47A7-B6B9-BAAAA1D6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DAB-3B26-4278-B330-7366D8D5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AC0-C4C4-4E5C-9A11-8D8E90FC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39B-0B37-4669-832D-38ABEB8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B76-D544-4443-8205-94754F1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4B0-00B8-4519-96E4-BA77B695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E09E-6BC2-4896-A826-04549B78D8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4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036800" y="44100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培训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4" descr=""/>
          <p:cNvPicPr/>
          <p:nvPr/>
        </p:nvPicPr>
        <p:blipFill>
          <a:blip r:embed="rId3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8" descr=""/>
          <p:cNvPicPr/>
          <p:nvPr/>
        </p:nvPicPr>
        <p:blipFill>
          <a:blip r:embed="rId4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4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206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378000" y="1747800"/>
            <a:ext cx="8388000" cy="3614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444760" y="4657680"/>
            <a:ext cx="16524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1933560" y="4915080"/>
            <a:ext cx="1235160" cy="5094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2141640" y="530208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23880" y="2233440"/>
            <a:ext cx="3862440" cy="268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23880" y="455436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74720" y="2394000"/>
            <a:ext cx="3560760" cy="19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81360" y="2147760"/>
            <a:ext cx="3967200" cy="2833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1" descr=""/>
          <p:cNvPicPr/>
          <p:nvPr/>
        </p:nvPicPr>
        <p:blipFill>
          <a:blip r:embed="rId3"/>
          <a:srcRect l="0" t="14212" r="0" b="6079"/>
          <a:stretch/>
        </p:blipFill>
        <p:spPr>
          <a:xfrm>
            <a:off x="760320" y="2395440"/>
            <a:ext cx="3575160" cy="2022480"/>
          </a:xfrm>
          <a:prstGeom prst="rect">
            <a:avLst/>
          </a:prstGeom>
          <a:ln w="0">
            <a:noFill/>
          </a:ln>
        </p:spPr>
      </p:pic>
      <p:sp>
        <p:nvSpPr>
          <p:cNvPr id="227" name="Line 18"/>
          <p:cNvSpPr/>
          <p:nvPr/>
        </p:nvSpPr>
        <p:spPr>
          <a:xfrm>
            <a:off x="4862520" y="265104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862520" y="278460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862520" y="23940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849920" y="394956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519200" y="44816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813200" y="3692520"/>
            <a:ext cx="60192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160800" y="40910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35720" y="3294000"/>
            <a:ext cx="601560" cy="600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165320" y="41688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2832120" y="37926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498920" y="3413160"/>
            <a:ext cx="16718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161040" y="3036960"/>
            <a:ext cx="16732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27960" y="3484440"/>
            <a:ext cx="242640" cy="216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1662120" y="4637160"/>
            <a:ext cx="304920" cy="30312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363840" y="4249800"/>
            <a:ext cx="20160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30"/>
          <p:cNvSpPr/>
          <p:nvPr/>
        </p:nvSpPr>
        <p:spPr>
          <a:xfrm>
            <a:off x="3319560" y="4206960"/>
            <a:ext cx="29052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3424320" y="4321080"/>
            <a:ext cx="8892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110200" y="3865680"/>
            <a:ext cx="46080" cy="2476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038560" y="3914640"/>
            <a:ext cx="44640" cy="1987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4962600" y="3954600"/>
            <a:ext cx="46080" cy="158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5183280" y="3803760"/>
            <a:ext cx="46080" cy="30960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1158840" y="34131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162080" y="3656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2836800" y="29574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840040" y="3198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503600" y="25797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4506840" y="2820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6161040" y="2163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64280" y="2405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3902040" y="2311560"/>
            <a:ext cx="4773600" cy="31827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4"/>
          <p:cNvSpPr/>
          <p:nvPr/>
        </p:nvSpPr>
        <p:spPr>
          <a:xfrm>
            <a:off x="8729640" y="121932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B869B48F-22FA-4E23-98D4-8B12CD492086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49440" y="49705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Group 23" descr=""/>
          <p:cNvPicPr/>
          <p:nvPr/>
        </p:nvPicPr>
        <p:blipFill>
          <a:blip r:embed="rId3"/>
          <a:stretch/>
        </p:blipFill>
        <p:spPr>
          <a:xfrm>
            <a:off x="785880" y="5121360"/>
            <a:ext cx="293760" cy="242640"/>
          </a:xfrm>
          <a:prstGeom prst="rect">
            <a:avLst/>
          </a:prstGeom>
          <a:ln w="0">
            <a:noFill/>
          </a:ln>
        </p:spPr>
      </p:pic>
      <p:sp>
        <p:nvSpPr>
          <p:cNvPr id="264" name="Oval 16"/>
          <p:cNvSpPr/>
          <p:nvPr/>
        </p:nvSpPr>
        <p:spPr>
          <a:xfrm>
            <a:off x="649440" y="4178160"/>
            <a:ext cx="533160" cy="53676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Group 34" descr=""/>
          <p:cNvPicPr/>
          <p:nvPr/>
        </p:nvPicPr>
        <p:blipFill>
          <a:blip r:embed="rId4"/>
          <a:stretch/>
        </p:blipFill>
        <p:spPr>
          <a:xfrm>
            <a:off x="781200" y="429732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266" name="Oval 10"/>
          <p:cNvSpPr/>
          <p:nvPr/>
        </p:nvSpPr>
        <p:spPr>
          <a:xfrm>
            <a:off x="649440" y="33847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oup 82" descr=""/>
          <p:cNvPicPr/>
          <p:nvPr/>
        </p:nvPicPr>
        <p:blipFill>
          <a:blip r:embed="rId5"/>
          <a:stretch/>
        </p:blipFill>
        <p:spPr>
          <a:xfrm>
            <a:off x="792000" y="3505320"/>
            <a:ext cx="262080" cy="285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1309680" y="34164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1312920" y="363060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309680" y="41893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312920" y="44038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1309680" y="49975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1312920" y="5211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3371760" y="3054240"/>
            <a:ext cx="23958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092240" y="3249720"/>
            <a:ext cx="1463760" cy="146520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871640" y="2473200"/>
            <a:ext cx="1463760" cy="127656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647800" y="3249720"/>
            <a:ext cx="1465560" cy="146520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75"/>
          <p:cNvSpPr/>
          <p:nvPr/>
        </p:nvSpPr>
        <p:spPr>
          <a:xfrm>
            <a:off x="2356920" y="29574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6"/>
          <p:cNvSpPr/>
          <p:nvPr/>
        </p:nvSpPr>
        <p:spPr>
          <a:xfrm>
            <a:off x="1558440" y="374976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7"/>
          <p:cNvSpPr/>
          <p:nvPr/>
        </p:nvSpPr>
        <p:spPr>
          <a:xfrm>
            <a:off x="3104640" y="374976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4789440" y="2313000"/>
            <a:ext cx="0" cy="2565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5248440" y="2128680"/>
            <a:ext cx="76176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248440" y="3094200"/>
            <a:ext cx="761760" cy="100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5248440" y="4084560"/>
            <a:ext cx="7617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776920" y="235260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5776920" y="26020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776920" y="332748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776920" y="357516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5776920" y="43322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5776920" y="457992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8" descr=""/>
          <p:cNvPicPr/>
          <p:nvPr/>
        </p:nvPicPr>
        <p:blipFill>
          <a:blip r:embed="rId1"/>
          <a:stretch/>
        </p:blipFill>
        <p:spPr>
          <a:xfrm>
            <a:off x="3932280" y="2014560"/>
            <a:ext cx="4340160" cy="32004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53960" y="2546280"/>
            <a:ext cx="4354560" cy="112392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730080" y="27939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777960" y="416088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777960" y="39196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144440" y="2341440"/>
            <a:ext cx="2106720" cy="267192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077920" y="2739960"/>
            <a:ext cx="26532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987560" y="2995560"/>
            <a:ext cx="4492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23660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508200" y="2303640"/>
            <a:ext cx="2106720" cy="267156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4103640" y="2751120"/>
            <a:ext cx="263520" cy="26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013280" y="300672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789440" y="2755800"/>
            <a:ext cx="2653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99080" y="301140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441680" y="2793960"/>
            <a:ext cx="2635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351320" y="3049560"/>
            <a:ext cx="44784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359892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5872320" y="2303640"/>
            <a:ext cx="2104920" cy="26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6176880" y="2575080"/>
            <a:ext cx="1495440" cy="833400"/>
            <a:chOff x="6176880" y="2575080"/>
            <a:chExt cx="1495440" cy="833400"/>
          </a:xfrm>
        </p:grpSpPr>
        <p:sp>
          <p:nvSpPr>
            <p:cNvPr id="322" name="AutoShape 14"/>
            <p:cNvSpPr/>
            <p:nvPr/>
          </p:nvSpPr>
          <p:spPr>
            <a:xfrm>
              <a:off x="6235200" y="302688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AutoShape 15"/>
            <p:cNvSpPr/>
            <p:nvPr/>
          </p:nvSpPr>
          <p:spPr>
            <a:xfrm>
              <a:off x="6176880" y="3193560"/>
              <a:ext cx="29088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AutoShape 16"/>
            <p:cNvSpPr/>
            <p:nvPr/>
          </p:nvSpPr>
          <p:spPr>
            <a:xfrm>
              <a:off x="668160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17"/>
            <p:cNvSpPr/>
            <p:nvPr/>
          </p:nvSpPr>
          <p:spPr>
            <a:xfrm>
              <a:off x="662328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AutoShape 18"/>
            <p:cNvSpPr/>
            <p:nvPr/>
          </p:nvSpPr>
          <p:spPr>
            <a:xfrm>
              <a:off x="645552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19"/>
            <p:cNvSpPr/>
            <p:nvPr/>
          </p:nvSpPr>
          <p:spPr>
            <a:xfrm>
              <a:off x="6396480" y="322164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20"/>
            <p:cNvSpPr/>
            <p:nvPr/>
          </p:nvSpPr>
          <p:spPr>
            <a:xfrm>
              <a:off x="6992280" y="302724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21"/>
            <p:cNvSpPr/>
            <p:nvPr/>
          </p:nvSpPr>
          <p:spPr>
            <a:xfrm>
              <a:off x="6933960" y="319356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AutoShape 22"/>
            <p:cNvSpPr/>
            <p:nvPr/>
          </p:nvSpPr>
          <p:spPr>
            <a:xfrm>
              <a:off x="743904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23"/>
            <p:cNvSpPr/>
            <p:nvPr/>
          </p:nvSpPr>
          <p:spPr>
            <a:xfrm>
              <a:off x="738072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AutoShape 24"/>
            <p:cNvSpPr/>
            <p:nvPr/>
          </p:nvSpPr>
          <p:spPr>
            <a:xfrm>
              <a:off x="721260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AutoShape 25"/>
            <p:cNvSpPr/>
            <p:nvPr/>
          </p:nvSpPr>
          <p:spPr>
            <a:xfrm>
              <a:off x="7153560" y="32216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>
              <a:off x="6616080" y="25750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>
              <a:off x="6557760" y="274104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>
              <a:off x="7062840" y="257796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29"/>
            <p:cNvSpPr/>
            <p:nvPr/>
          </p:nvSpPr>
          <p:spPr>
            <a:xfrm>
              <a:off x="7004520" y="274392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0"/>
            <p:cNvSpPr/>
            <p:nvPr/>
          </p:nvSpPr>
          <p:spPr>
            <a:xfrm>
              <a:off x="6836400" y="2602440"/>
              <a:ext cx="172440" cy="17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31"/>
            <p:cNvSpPr/>
            <p:nvPr/>
          </p:nvSpPr>
          <p:spPr>
            <a:xfrm>
              <a:off x="6777360" y="276912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Line 38"/>
          <p:cNvSpPr/>
          <p:nvPr/>
        </p:nvSpPr>
        <p:spPr>
          <a:xfrm>
            <a:off x="596268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336680" y="3965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133812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81360" y="39654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368460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037200" y="396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6040440" y="4181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7" descr=""/>
          <p:cNvPicPr/>
          <p:nvPr/>
        </p:nvPicPr>
        <p:blipFill>
          <a:blip r:embed="rId1"/>
          <a:stretch/>
        </p:blipFill>
        <p:spPr>
          <a:xfrm>
            <a:off x="-1440" y="2352600"/>
            <a:ext cx="5675040" cy="2584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6031080" y="2359080"/>
            <a:ext cx="3112920" cy="2582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6216480" y="309708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2640" y="2738520"/>
            <a:ext cx="7675560" cy="253512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428840" y="2216160"/>
            <a:ext cx="133992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100320" y="2216160"/>
            <a:ext cx="133992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4759200" y="2217600"/>
            <a:ext cx="133848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467400" y="2217600"/>
            <a:ext cx="131616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32"/>
          <p:cNvSpPr/>
          <p:nvPr/>
        </p:nvSpPr>
        <p:spPr>
          <a:xfrm>
            <a:off x="3649680" y="2684520"/>
            <a:ext cx="239760" cy="3333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20"/>
          <p:cNvSpPr/>
          <p:nvPr/>
        </p:nvSpPr>
        <p:spPr>
          <a:xfrm>
            <a:off x="1925640" y="2684520"/>
            <a:ext cx="420840" cy="314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组合 10" descr=""/>
          <p:cNvPicPr/>
          <p:nvPr/>
        </p:nvPicPr>
        <p:blipFill>
          <a:blip r:embed="rId2"/>
          <a:stretch/>
        </p:blipFill>
        <p:spPr>
          <a:xfrm>
            <a:off x="5254560" y="2676600"/>
            <a:ext cx="311040" cy="33480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289"/>
          <p:cNvSpPr/>
          <p:nvPr/>
        </p:nvSpPr>
        <p:spPr>
          <a:xfrm>
            <a:off x="6975360" y="2727360"/>
            <a:ext cx="328680" cy="33336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144000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2884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16404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15288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772160" y="38098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47610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45336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64422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手动输入 4"/>
          <p:cNvSpPr/>
          <p:nvPr/>
        </p:nvSpPr>
        <p:spPr>
          <a:xfrm rot="5400000">
            <a:off x="-1720080" y="1719720"/>
            <a:ext cx="6858000" cy="341784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"/>
          <p:cNvSpPr/>
          <p:nvPr/>
        </p:nvSpPr>
        <p:spPr>
          <a:xfrm>
            <a:off x="436680" y="25462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324000" y="33926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222960" y="23162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719680" y="2254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6222960" y="31147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5719680" y="30528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2"/>
          <p:cNvSpPr/>
          <p:nvPr/>
        </p:nvSpPr>
        <p:spPr>
          <a:xfrm>
            <a:off x="6222960" y="39798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3"/>
          <p:cNvSpPr/>
          <p:nvPr/>
        </p:nvSpPr>
        <p:spPr>
          <a:xfrm>
            <a:off x="5719680" y="39178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>
            <a:off x="6222960" y="478008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5"/>
          <p:cNvSpPr/>
          <p:nvPr/>
        </p:nvSpPr>
        <p:spPr>
          <a:xfrm>
            <a:off x="5719680" y="47181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9" descr=""/>
          <p:cNvPicPr/>
          <p:nvPr/>
        </p:nvPicPr>
        <p:blipFill>
          <a:blip r:embed="rId2"/>
          <a:stretch/>
        </p:blipFill>
        <p:spPr>
          <a:xfrm>
            <a:off x="3373560" y="3068640"/>
            <a:ext cx="2396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5"/>
          <p:cNvSpPr/>
          <p:nvPr/>
        </p:nvSpPr>
        <p:spPr>
          <a:xfrm flipH="1">
            <a:off x="4560840" y="2251080"/>
            <a:ext cx="23760" cy="37688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043000" y="4014720"/>
            <a:ext cx="283392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115"/>
          <p:cNvSpPr/>
          <p:nvPr/>
        </p:nvSpPr>
        <p:spPr>
          <a:xfrm>
            <a:off x="4471920" y="4157640"/>
            <a:ext cx="246240" cy="30312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043000" y="2201760"/>
            <a:ext cx="283392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97"/>
          <p:cNvSpPr/>
          <p:nvPr/>
        </p:nvSpPr>
        <p:spPr>
          <a:xfrm>
            <a:off x="4435560" y="2359080"/>
            <a:ext cx="276120" cy="23652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5"/>
          <p:cNvSpPr/>
          <p:nvPr/>
        </p:nvSpPr>
        <p:spPr>
          <a:xfrm rot="10800000">
            <a:off x="4267080" y="4920840"/>
            <a:ext cx="283536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102"/>
          <p:cNvSpPr/>
          <p:nvPr/>
        </p:nvSpPr>
        <p:spPr>
          <a:xfrm>
            <a:off x="4421160" y="5089680"/>
            <a:ext cx="304920" cy="27144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4286160" y="3108240"/>
            <a:ext cx="283536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101"/>
          <p:cNvSpPr/>
          <p:nvPr/>
        </p:nvSpPr>
        <p:spPr>
          <a:xfrm>
            <a:off x="4421160" y="3286080"/>
            <a:ext cx="343080" cy="2653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14520" y="23590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17400" y="25732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614520" y="41576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17400" y="43718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283520" y="3244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7286760" y="3459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283520" y="5089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286760" y="53038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Bent Arrow 5@|1FFC:0|FBC:0|LFC:9868950|LBC:16777215"/>
          <p:cNvSpPr/>
          <p:nvPr/>
        </p:nvSpPr>
        <p:spPr>
          <a:xfrm rot="2700000">
            <a:off x="3560760" y="22014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6@|1FFC:0|FBC:0|LFC:9868950|LBC:16777215"/>
          <p:cNvSpPr/>
          <p:nvPr/>
        </p:nvSpPr>
        <p:spPr>
          <a:xfrm flipV="1" rot="2700000">
            <a:off x="3241800" y="3147120"/>
            <a:ext cx="31680" cy="2257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Bent Arrow 8@|1FFC:0|FBC:0|LFC:9868950|LBC:16777215"/>
          <p:cNvSpPr/>
          <p:nvPr/>
        </p:nvSpPr>
        <p:spPr>
          <a:xfrm rot="18900000">
            <a:off x="3036600" y="4491000"/>
            <a:ext cx="1239840" cy="2239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9@|1FFC:0|FBC:0|LFC:9868950|LBC:16777215"/>
          <p:cNvSpPr/>
          <p:nvPr/>
        </p:nvSpPr>
        <p:spPr>
          <a:xfrm flipV="1" rot="18900000">
            <a:off x="3983040" y="5001480"/>
            <a:ext cx="22536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Bent Arrow 11@|1FFC:0|FBC:0|LFC:9868950|LBC:16777215"/>
          <p:cNvSpPr/>
          <p:nvPr/>
        </p:nvSpPr>
        <p:spPr>
          <a:xfrm flipH="1" flipV="1" rot="18900000">
            <a:off x="4825440" y="2701440"/>
            <a:ext cx="1239840" cy="2257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2@|1FFC:0|FBC:0|LFC:9868950|LBC:16777215"/>
          <p:cNvSpPr/>
          <p:nvPr/>
        </p:nvSpPr>
        <p:spPr>
          <a:xfrm flipH="1" rot="18900000">
            <a:off x="4894560" y="2382120"/>
            <a:ext cx="22392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Bent Arrow 14@|1FFC:0|FBC:0|LFC:9868950|LBC:16777215"/>
          <p:cNvSpPr/>
          <p:nvPr/>
        </p:nvSpPr>
        <p:spPr>
          <a:xfrm flipH="1" flipV="1" rot="2700000">
            <a:off x="5357160" y="39978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@|1FFC:0|FBC:0|LFC:9868950|LBC:16777215"/>
          <p:cNvSpPr/>
          <p:nvPr/>
        </p:nvSpPr>
        <p:spPr>
          <a:xfrm flipH="1" rot="2700000">
            <a:off x="5869800" y="4067280"/>
            <a:ext cx="3168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ounded Rectangle 20@|1FFC:2381804|FBC:16777215|LFC:16777215|LBC:16777215"/>
          <p:cNvSpPr/>
          <p:nvPr/>
        </p:nvSpPr>
        <p:spPr>
          <a:xfrm flipV="1" rot="18900000">
            <a:off x="48412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Group 34" descr=""/>
          <p:cNvPicPr/>
          <p:nvPr/>
        </p:nvPicPr>
        <p:blipFill>
          <a:blip r:embed="rId2"/>
          <a:stretch/>
        </p:blipFill>
        <p:spPr>
          <a:xfrm>
            <a:off x="5162400" y="351792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17@|1FFC:14657585|FBC:16777215|LFC:16777215|LBC:16777215"/>
          <p:cNvSpPr/>
          <p:nvPr/>
        </p:nvSpPr>
        <p:spPr>
          <a:xfrm flipV="1" rot="18900000">
            <a:off x="4014720" y="3990960"/>
            <a:ext cx="1114560" cy="111456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hape 719@|5FFC:16777215|FBC:16777215|LFC:16777215|LBC:16777215"/>
          <p:cNvSpPr/>
          <p:nvPr/>
        </p:nvSpPr>
        <p:spPr>
          <a:xfrm>
            <a:off x="4351320" y="4336920"/>
            <a:ext cx="441360" cy="3794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ounded Rectangle 23@|1FFC:0|FBC:0|LFC:16777215|LBC:16777215"/>
          <p:cNvSpPr/>
          <p:nvPr/>
        </p:nvSpPr>
        <p:spPr>
          <a:xfrm flipV="1" rot="18900000">
            <a:off x="31870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hape 2102@|5FFC:16777215|FBC:16777215|LFC:16777215|LBC:16777215"/>
          <p:cNvSpPr/>
          <p:nvPr/>
        </p:nvSpPr>
        <p:spPr>
          <a:xfrm>
            <a:off x="3467160" y="3498840"/>
            <a:ext cx="539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ounded Rectangle 26@|1FFC:4308095|FBC:16777215|LFC:16777215|LBC:16777215"/>
          <p:cNvSpPr/>
          <p:nvPr/>
        </p:nvSpPr>
        <p:spPr>
          <a:xfrm flipV="1" rot="18900000">
            <a:off x="4015080" y="2334960"/>
            <a:ext cx="1113840" cy="1114560"/>
          </a:xfrm>
          <a:custGeom>
            <a:avLst/>
            <a:gdLst>
              <a:gd name="textAreaLeft" fmla="*/ 31320 w 1113840"/>
              <a:gd name="textAreaRight" fmla="*/ 1082520 w 1113840"/>
              <a:gd name="textAreaTop" fmla="*/ 31320 h 1114560"/>
              <a:gd name="textAreaBottom" fmla="*/ 1083240 h 1114560"/>
            </a:gdLst>
            <a:ahLst/>
            <a:rect l="textAreaLeft" t="textAreaTop" r="textAreaRight" b="textAreaBottom"/>
            <a:pathLst>
              <a:path w="21600" h="21614">
                <a:moveTo>
                  <a:pt x="2084" y="0"/>
                </a:moveTo>
                <a:arcTo wR="2084" hR="2084" stAng="16200000" swAng="-5400000"/>
                <a:lnTo>
                  <a:pt x="0" y="19530"/>
                </a:lnTo>
                <a:arcTo wR="2084" hR="2084" stAng="10800000" swAng="-5400000"/>
                <a:lnTo>
                  <a:pt x="19516" y="21614"/>
                </a:lnTo>
                <a:arcTo wR="2084" hR="2084" stAng="5400000" swAng="-5400000"/>
                <a:lnTo>
                  <a:pt x="21600" y="2084"/>
                </a:lnTo>
                <a:arcTo wR="2084" hR="2084" stAng="0" swAng="-5400000"/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56@|5FFC:16777215|FBC:16777215|LFC:16777215|LBC:16777215"/>
          <p:cNvSpPr/>
          <p:nvPr/>
        </p:nvSpPr>
        <p:spPr>
          <a:xfrm>
            <a:off x="4352760" y="2708280"/>
            <a:ext cx="498600" cy="40788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6280200" y="24415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6283440" y="265572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280200" y="4390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83440" y="46054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1031760" y="24415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035000" y="2655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031760" y="4390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035000" y="4605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ound Same Side Corner Rectangle 4"/>
          <p:cNvSpPr/>
          <p:nvPr/>
        </p:nvSpPr>
        <p:spPr>
          <a:xfrm rot="16200000">
            <a:off x="469800" y="2725200"/>
            <a:ext cx="2624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711360" y="3381480"/>
            <a:ext cx="214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6"/>
          <p:cNvSpPr/>
          <p:nvPr/>
        </p:nvSpPr>
        <p:spPr>
          <a:xfrm>
            <a:off x="1576440" y="2722680"/>
            <a:ext cx="411120" cy="3315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155600" y="307800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ound Same Side Corner Rectangle 12"/>
          <p:cNvSpPr/>
          <p:nvPr/>
        </p:nvSpPr>
        <p:spPr>
          <a:xfrm flipH="1" rot="5400000">
            <a:off x="6031800" y="2725200"/>
            <a:ext cx="2624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3"/>
          <p:cNvSpPr/>
          <p:nvPr/>
        </p:nvSpPr>
        <p:spPr>
          <a:xfrm flipH="1">
            <a:off x="6270480" y="3381480"/>
            <a:ext cx="214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22"/>
          <p:cNvSpPr/>
          <p:nvPr/>
        </p:nvSpPr>
        <p:spPr>
          <a:xfrm>
            <a:off x="7153200" y="2744640"/>
            <a:ext cx="379440" cy="29844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716880" y="305424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2"/>
          <p:cNvSpPr/>
          <p:nvPr/>
        </p:nvSpPr>
        <p:spPr>
          <a:xfrm>
            <a:off x="108576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667872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2" descr=""/>
          <p:cNvPicPr/>
          <p:nvPr/>
        </p:nvPicPr>
        <p:blipFill>
          <a:blip r:embed="rId2"/>
          <a:stretch/>
        </p:blipFill>
        <p:spPr>
          <a:xfrm>
            <a:off x="2782800" y="1962000"/>
            <a:ext cx="3484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entagon 49"/>
          <p:cNvSpPr/>
          <p:nvPr/>
        </p:nvSpPr>
        <p:spPr>
          <a:xfrm>
            <a:off x="2824200" y="183204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entagon 51"/>
          <p:cNvSpPr/>
          <p:nvPr/>
        </p:nvSpPr>
        <p:spPr>
          <a:xfrm>
            <a:off x="2824200" y="33433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entagon 52"/>
          <p:cNvSpPr/>
          <p:nvPr/>
        </p:nvSpPr>
        <p:spPr>
          <a:xfrm flipH="1">
            <a:off x="4800600" y="259560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entagon 53"/>
          <p:cNvSpPr/>
          <p:nvPr/>
        </p:nvSpPr>
        <p:spPr>
          <a:xfrm flipH="1">
            <a:off x="4800600" y="412596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69"/>
          <p:cNvSpPr/>
          <p:nvPr/>
        </p:nvSpPr>
        <p:spPr>
          <a:xfrm>
            <a:off x="3451320" y="2058840"/>
            <a:ext cx="203040" cy="38124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23"/>
          <p:cNvSpPr/>
          <p:nvPr/>
        </p:nvSpPr>
        <p:spPr>
          <a:xfrm>
            <a:off x="3406680" y="3622680"/>
            <a:ext cx="292320" cy="27612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7"/>
          <p:cNvSpPr/>
          <p:nvPr/>
        </p:nvSpPr>
        <p:spPr>
          <a:xfrm>
            <a:off x="5616720" y="4389480"/>
            <a:ext cx="347400" cy="30780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66"/>
          <p:cNvSpPr/>
          <p:nvPr/>
        </p:nvSpPr>
        <p:spPr>
          <a:xfrm>
            <a:off x="5667480" y="2863800"/>
            <a:ext cx="257040" cy="30024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600440" y="18828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4600440" y="263520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4600440" y="3387600"/>
            <a:ext cx="200160" cy="750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600440" y="413856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4600440" y="48816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entagon 31"/>
          <p:cNvSpPr/>
          <p:nvPr/>
        </p:nvSpPr>
        <p:spPr>
          <a:xfrm>
            <a:off x="2824200" y="480708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2"/>
          <p:cNvSpPr/>
          <p:nvPr/>
        </p:nvSpPr>
        <p:spPr>
          <a:xfrm>
            <a:off x="3349800" y="5048280"/>
            <a:ext cx="385560" cy="35568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898560" y="19731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901800" y="2187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841320" y="351468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844560" y="37288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901800" y="497988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905040" y="519444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6750000" y="27464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753240" y="2960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692760" y="4289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696000" y="4503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66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14"/>
          <p:cNvSpPr/>
          <p:nvPr/>
        </p:nvSpPr>
        <p:spPr>
          <a:xfrm>
            <a:off x="1311120" y="44100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14" descr=""/>
          <p:cNvPicPr/>
          <p:nvPr/>
        </p:nvPicPr>
        <p:blipFill>
          <a:blip r:embed="rId2"/>
          <a:stretch/>
        </p:blipFill>
        <p:spPr>
          <a:xfrm>
            <a:off x="3444840" y="3065400"/>
            <a:ext cx="2254320" cy="7254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空心弧 3"/>
          <p:cNvSpPr/>
          <p:nvPr/>
        </p:nvSpPr>
        <p:spPr>
          <a:xfrm rot="16921200">
            <a:off x="3198600" y="222516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空心弧 4"/>
          <p:cNvSpPr/>
          <p:nvPr/>
        </p:nvSpPr>
        <p:spPr>
          <a:xfrm rot="10221000">
            <a:off x="3214800" y="2231280"/>
            <a:ext cx="2789280" cy="275580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空心弧 5"/>
          <p:cNvSpPr/>
          <p:nvPr/>
        </p:nvSpPr>
        <p:spPr>
          <a:xfrm rot="850800">
            <a:off x="3185640" y="2207880"/>
            <a:ext cx="2787840" cy="275436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空心弧 6"/>
          <p:cNvSpPr/>
          <p:nvPr/>
        </p:nvSpPr>
        <p:spPr>
          <a:xfrm rot="4608000">
            <a:off x="3198240" y="222552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3656160" y="2809800"/>
            <a:ext cx="363240" cy="320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64"/>
          <p:cNvSpPr/>
          <p:nvPr/>
        </p:nvSpPr>
        <p:spPr>
          <a:xfrm>
            <a:off x="3701880" y="4229280"/>
            <a:ext cx="327240" cy="31248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0"/>
          <p:cNvSpPr/>
          <p:nvPr/>
        </p:nvSpPr>
        <p:spPr>
          <a:xfrm>
            <a:off x="5354640" y="4311720"/>
            <a:ext cx="81000" cy="81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11"/>
          <p:cNvSpPr/>
          <p:nvPr/>
        </p:nvSpPr>
        <p:spPr>
          <a:xfrm>
            <a:off x="5335560" y="4289400"/>
            <a:ext cx="88920" cy="9216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2"/>
          <p:cNvSpPr/>
          <p:nvPr/>
        </p:nvSpPr>
        <p:spPr>
          <a:xfrm>
            <a:off x="5319720" y="4276800"/>
            <a:ext cx="84240" cy="8424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13"/>
          <p:cNvSpPr/>
          <p:nvPr/>
        </p:nvSpPr>
        <p:spPr>
          <a:xfrm>
            <a:off x="5297400" y="4359240"/>
            <a:ext cx="57240" cy="554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114"/>
          <p:cNvSpPr/>
          <p:nvPr/>
        </p:nvSpPr>
        <p:spPr>
          <a:xfrm>
            <a:off x="5283360" y="4405320"/>
            <a:ext cx="2844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15"/>
          <p:cNvSpPr/>
          <p:nvPr/>
        </p:nvSpPr>
        <p:spPr>
          <a:xfrm>
            <a:off x="5402160" y="4255920"/>
            <a:ext cx="55800" cy="572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6"/>
          <p:cNvSpPr/>
          <p:nvPr/>
        </p:nvSpPr>
        <p:spPr>
          <a:xfrm>
            <a:off x="5145120" y="4229280"/>
            <a:ext cx="225360" cy="2728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7"/>
          <p:cNvSpPr/>
          <p:nvPr/>
        </p:nvSpPr>
        <p:spPr>
          <a:xfrm>
            <a:off x="5184720" y="432108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8"/>
          <p:cNvSpPr/>
          <p:nvPr/>
        </p:nvSpPr>
        <p:spPr>
          <a:xfrm>
            <a:off x="5184720" y="435276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5184720" y="438948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0"/>
          <p:cNvSpPr/>
          <p:nvPr/>
        </p:nvSpPr>
        <p:spPr>
          <a:xfrm>
            <a:off x="5184720" y="442260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6"/>
          <p:cNvSpPr/>
          <p:nvPr/>
        </p:nvSpPr>
        <p:spPr>
          <a:xfrm>
            <a:off x="5335560" y="2841480"/>
            <a:ext cx="163440" cy="26532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7"/>
          <p:cNvSpPr/>
          <p:nvPr/>
        </p:nvSpPr>
        <p:spPr>
          <a:xfrm>
            <a:off x="5153040" y="2841480"/>
            <a:ext cx="162000" cy="26532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8"/>
          <p:cNvSpPr/>
          <p:nvPr/>
        </p:nvSpPr>
        <p:spPr>
          <a:xfrm>
            <a:off x="5162400" y="2762280"/>
            <a:ext cx="333360" cy="13176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104920" y="250992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270080" y="276876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035760" y="25099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6039000" y="277020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10492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270080" y="45464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3576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39000" y="454644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754360" y="2179800"/>
            <a:ext cx="36464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5"/>
          <p:cNvSpPr/>
          <p:nvPr/>
        </p:nvSpPr>
        <p:spPr>
          <a:xfrm>
            <a:off x="3867120" y="2341440"/>
            <a:ext cx="1420920" cy="115596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3309840" y="3497400"/>
            <a:ext cx="2535480" cy="90468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2600" rIns="4626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2754360" y="4402080"/>
            <a:ext cx="3646440" cy="90324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7360" rIns="65736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332960" y="31147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338360" y="384336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338360" y="473544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1"/>
          <p:cNvGrpSpPr/>
          <p:nvPr/>
        </p:nvGrpSpPr>
        <p:grpSpPr>
          <a:xfrm>
            <a:off x="568440" y="3243240"/>
            <a:ext cx="2253960" cy="468720"/>
            <a:chOff x="568440" y="3243240"/>
            <a:chExt cx="2253960" cy="468720"/>
          </a:xfrm>
        </p:grpSpPr>
        <p:sp>
          <p:nvSpPr>
            <p:cNvPr id="107" name="矩形 12"/>
            <p:cNvSpPr/>
            <p:nvPr/>
          </p:nvSpPr>
          <p:spPr>
            <a:xfrm>
              <a:off x="568440" y="352908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3"/>
            <p:cNvSpPr/>
            <p:nvPr/>
          </p:nvSpPr>
          <p:spPr>
            <a:xfrm>
              <a:off x="56844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6502320" y="3243240"/>
            <a:ext cx="2254320" cy="468720"/>
            <a:chOff x="6502320" y="3243240"/>
            <a:chExt cx="2254320" cy="468720"/>
          </a:xfrm>
        </p:grpSpPr>
        <p:sp>
          <p:nvSpPr>
            <p:cNvPr id="110" name="矩形 15"/>
            <p:cNvSpPr/>
            <p:nvPr/>
          </p:nvSpPr>
          <p:spPr>
            <a:xfrm>
              <a:off x="6502320" y="352908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650232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830240" y="2619360"/>
            <a:ext cx="1257480" cy="13971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979720" y="2281320"/>
            <a:ext cx="1562040" cy="17352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4432320" y="2492280"/>
            <a:ext cx="1371600" cy="152424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1278000" y="419112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716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11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6"/>
          <p:cNvSpPr/>
          <p:nvPr/>
        </p:nvSpPr>
        <p:spPr>
          <a:xfrm>
            <a:off x="636264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5694480" y="2424240"/>
            <a:ext cx="1431720" cy="159228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070600" y="4143240"/>
            <a:ext cx="950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591516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462276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326880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196524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9151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4622760" y="2900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2655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63800" y="29638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4897440" y="2962440"/>
            <a:ext cx="1454040" cy="14317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4148280" y="3141720"/>
            <a:ext cx="1110960" cy="10936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3457440" y="3232080"/>
            <a:ext cx="973440" cy="94932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2916360" y="3325680"/>
            <a:ext cx="771480" cy="7812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100"/>
          <p:cNvSpPr/>
          <p:nvPr/>
        </p:nvSpPr>
        <p:spPr>
          <a:xfrm>
            <a:off x="5899320" y="3263760"/>
            <a:ext cx="1911240" cy="216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108"/>
          <p:cNvSpPr/>
          <p:nvPr/>
        </p:nvSpPr>
        <p:spPr>
          <a:xfrm flipH="1">
            <a:off x="1212840" y="3495600"/>
            <a:ext cx="1914480" cy="21456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12"/>
          <p:cNvSpPr/>
          <p:nvPr/>
        </p:nvSpPr>
        <p:spPr>
          <a:xfrm>
            <a:off x="4703760" y="273852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3"/>
          <p:cNvSpPr/>
          <p:nvPr/>
        </p:nvSpPr>
        <p:spPr>
          <a:xfrm flipH="1">
            <a:off x="3419640" y="273384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249720" y="3613320"/>
            <a:ext cx="169920" cy="18072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45160" y="3614760"/>
            <a:ext cx="182520" cy="18900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42"/>
          <p:cNvSpPr/>
          <p:nvPr/>
        </p:nvSpPr>
        <p:spPr>
          <a:xfrm>
            <a:off x="3886200" y="3627360"/>
            <a:ext cx="193680" cy="1666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7"/>
          <p:cNvSpPr/>
          <p:nvPr/>
        </p:nvSpPr>
        <p:spPr>
          <a:xfrm>
            <a:off x="4738680" y="3627360"/>
            <a:ext cx="117360" cy="106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8"/>
          <p:cNvSpPr/>
          <p:nvPr/>
        </p:nvSpPr>
        <p:spPr>
          <a:xfrm>
            <a:off x="4800600" y="3710160"/>
            <a:ext cx="90360" cy="1029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9"/>
          <p:cNvSpPr/>
          <p:nvPr/>
        </p:nvSpPr>
        <p:spPr>
          <a:xfrm>
            <a:off x="4848120" y="3603600"/>
            <a:ext cx="77760" cy="14436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4" descr=""/>
          <p:cNvPicPr/>
          <p:nvPr/>
        </p:nvPicPr>
        <p:blipFill>
          <a:blip r:embed="rId1"/>
          <a:stretch/>
        </p:blipFill>
        <p:spPr>
          <a:xfrm>
            <a:off x="0" y="887400"/>
            <a:ext cx="4657680" cy="51404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">
            <a:hlinkClick r:id="" action="ppaction://hlinkshowjump?jump=nextslide"/>
          </p:cNvPr>
          <p:cNvSpPr/>
          <p:nvPr/>
        </p:nvSpPr>
        <p:spPr>
          <a:xfrm>
            <a:off x="714240" y="5730840"/>
            <a:ext cx="17172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eft Arrow">
            <a:hlinkClick r:id="" action="ppaction://hlinkshowjump?jump=previousslide"/>
          </p:cNvPr>
          <p:cNvSpPr/>
          <p:nvPr/>
        </p:nvSpPr>
        <p:spPr>
          <a:xfrm>
            <a:off x="457200" y="5730840"/>
            <a:ext cx="17136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"/>
          <p:cNvSpPr/>
          <p:nvPr/>
        </p:nvSpPr>
        <p:spPr>
          <a:xfrm>
            <a:off x="5361120" y="3511440"/>
            <a:ext cx="438120" cy="4366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5361120" y="3633840"/>
            <a:ext cx="438120" cy="3142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361120" y="425304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361120" y="4498920"/>
            <a:ext cx="438120" cy="19368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361120" y="499752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5361120" y="5141880"/>
            <a:ext cx="438120" cy="29520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2" descr=""/>
          <p:cNvPicPr/>
          <p:nvPr/>
        </p:nvPicPr>
        <p:blipFill>
          <a:blip r:embed="rId3"/>
          <a:stretch/>
        </p:blipFill>
        <p:spPr>
          <a:xfrm>
            <a:off x="457200" y="1847880"/>
            <a:ext cx="1731960" cy="17305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3"/>
          <p:cNvSpPr/>
          <p:nvPr/>
        </p:nvSpPr>
        <p:spPr>
          <a:xfrm>
            <a:off x="628560" y="397836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8560" y="37368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4632480" y="20448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035760" y="3457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039000" y="3672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6035760" y="41958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6039000" y="4410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035760" y="4944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6039000" y="515952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9" descr=""/>
          <p:cNvPicPr/>
          <p:nvPr/>
        </p:nvPicPr>
        <p:blipFill>
          <a:blip r:embed="rId2"/>
          <a:stretch/>
        </p:blipFill>
        <p:spPr>
          <a:xfrm>
            <a:off x="3379680" y="3060720"/>
            <a:ext cx="2384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istrator</cp:lastModifiedBy>
  <dcterms:modified xsi:type="dcterms:W3CDTF">2015-11-10T05:57:2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