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12B-4547-4E95-91F7-9F0C13DF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7826-D1DE-4119-A32A-1BBF4438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A60-EB70-45F8-869B-A5CB4BAD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796B-D6EF-4726-B1F9-6C9B581D0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59E7-B3A4-4916-B8B0-C831805A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49E-A161-4532-B624-03D6137A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D36-7FEA-4E2F-8F1C-EAECB2EF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C5CA-7E8B-4356-AD7C-F485F1BA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A2E9-B41C-4FB8-B0F1-9458AD59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AA1-8239-4015-9B39-71780E00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B59-44A8-4A20-B914-B78A53E6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E01-6105-44F1-AC1D-72447541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C861-C3A5-4568-BDE2-AC9FD98875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357800" y="43344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000760" y="12859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爱心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1377000" y="114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426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1997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00080" y="114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5712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265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54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425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44864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783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140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9"/>
          <p:cNvSpPr/>
          <p:nvPr/>
        </p:nvSpPr>
        <p:spPr>
          <a:xfrm>
            <a:off x="4854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1"/>
          <p:cNvSpPr/>
          <p:nvPr/>
        </p:nvSpPr>
        <p:spPr>
          <a:xfrm>
            <a:off x="3140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426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997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54979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30572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57208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140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211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712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997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5997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712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1926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2926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448640" y="1285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4569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069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283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137700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2120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069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8-23T15:18:00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93</vt:lpwstr>
  </property>
</Properties>
</file>