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E86-C713-40EF-8D5C-A7462A61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085-9B42-4BA5-B19F-DA81A617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55B20-75CF-4FBE-AE26-B42CF791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319B0-F2C1-4D09-9FE9-0E2AA6B7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0DA8A-3149-4003-98CD-D5FC9777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053B2-6A4B-4866-8013-B658924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088B8-C975-480B-ACEE-F409096D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C1A33-BC03-4588-96F3-A1032E5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449C6-B92A-4AA0-8D72-2C416979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45B0A-6483-44C9-B3A0-B435B917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AE886-80EB-4275-B17B-A04A1FEF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0510D-9197-4EEA-BD6D-E457FE07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C5C-DCAF-4733-9179-7F19D29B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282C6-7168-4CF1-9FDD-47389F44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FF89D-EAA4-4511-AC5E-0FB24A24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5D9F4-B0F7-4E19-9C41-E4E3279F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8E643-C2FD-4442-88F1-EF1343BE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01C9E-5250-4CCB-ACA7-3ADC214D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F2801-F065-4586-A990-C60644E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9AA3F-3A84-401B-B14B-452DE65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57FBB-434B-4DF2-9FD7-57927EED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0E959-39CC-4551-B189-2C554AF9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535A1-B486-488A-B2D7-9DF664CA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504-95E9-4332-AFE6-F8E0FAF2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7B6F0-E71F-465A-AA40-4C11D588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9D417-EBB7-4C36-AA64-3BC92770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75C19-486F-4ECA-9F5B-765FE749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4667F-C474-4F30-AB47-D0B01D94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27540-CFCD-4C9A-9D3B-58CC300C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23530-75AB-4ADA-85BB-F7DB108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AADE1-0280-43CA-B782-AE8803D5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18AFF-BEE4-420B-9D58-556758FA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DA3C8-4C14-4C9C-A9A9-4E868F0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9782D-BBFE-474C-BB3C-877F6555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5017-BB10-4091-BA3D-9438A575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3E3EF-C5E9-4552-BBF7-12C9263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88018-616E-43F8-9F8E-C73F7DD0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7AA9D-A6C5-4B63-9EF9-8F990094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30920-8C24-414B-89E1-8ACAF032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C678B-B289-42BD-A104-CB919A56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6A894-BFCE-4411-8B00-3AE71446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C4281-6AA3-46BF-B498-2FB7BAC8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3C92D-50BF-4203-BC15-4FD482F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D4314-405B-4D37-B8E5-DEADA74B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0F3D9-7F3F-4CB6-A56C-51D20C45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4798-37D9-4197-80DD-19EC6FEB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2806D-015D-400C-B123-C08EA5C7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CB01B-E4E5-40BD-BBE9-751FFE07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6172F-45E7-475B-B4D4-1FD7E4FC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9C573-ED29-4936-85CB-9E6B7B0D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6537C-0E85-4F68-9167-B7FBCC15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7221-F222-4393-AA26-476A6777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56F8-D296-4754-B6F5-43B84EBA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F9CA-68A6-43DF-9A5F-31E8B59A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619D-64C8-4640-9DBF-5D642516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76BD-1D2F-4FEA-A9D8-2F75CCED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667-0E4E-4481-9574-C3683EA9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6C2E-AACB-4AF9-A92D-01D317D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1867-3FDF-46C2-B935-429052E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DC23-1A58-4CD4-89AB-B8A40C4D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E261-F15A-4E2D-99DF-26D2A70B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687D-5D0C-4A63-9189-B3BD6D51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5621-9F0C-4D4A-BA15-B93C8377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3C10-A412-4E6B-8715-7E9312D1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72373-6B41-41AB-9332-40C96A15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016B-17CD-4715-990F-83FCAE5D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CFC9-65A5-4D6C-A912-7C2C90BF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34E-7025-49F2-A751-207AC44E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8D3B-76BB-4FD8-A9E6-4BC78AC7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5B04-B043-4897-8F01-6B933E3D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EF35-F764-4790-A8D6-51F7685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BAE2-B8CF-4DB2-80E1-B87B11E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3042-D2FC-48F7-B45D-A0B88665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0648-443E-4176-83C0-5ED257E5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4557-8303-4039-A199-FB6315AE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21DA9-0AA5-421F-A174-6C477087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21E48-345C-4391-8BB9-A63D6E4A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23EE-F06E-485E-957A-0153E935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196-58CC-4A21-9270-5FCA552D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F557-C371-4CB7-917A-3BDE7AA9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F7B2-1156-4998-8112-A0E50B8C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F278-6E16-4A93-857B-3AFD7C0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2B83B-A74E-4D82-A642-CFDC71BD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25244-FE5F-4FE1-883A-321172BB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8439-20ED-4006-9639-7E5158D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458D-7B8A-4CF4-AF9A-F8A58A8C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7338-7846-4D47-A361-E11F3252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B22E-1D97-4DCE-9910-B9E742A9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CD2C-AB83-4FC9-B582-351D4A43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11A-BEA2-4C23-8F1D-DD86EEC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08AE7-C36D-4160-932C-0A791372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A6ED2-2185-47B0-AD2D-3499DF27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0BD5-923E-44C2-AA67-47368D9B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7C8A-8D83-4E8D-A577-CF42477E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1893-63FE-4D5F-B37C-D522D564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D8B52-2A7A-42D5-85EA-38CA9A7E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7FCA7-35F7-4A97-A4D7-46F4AA3D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860F8-E50A-4505-BDF2-F86A784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E0957-B7B5-4C9F-B17E-4EE830CA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0A46-BA5D-49E8-83CB-ED3EEEF5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C2A-021D-411D-B4D1-C365A2CF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E2313-8840-43D7-A6FD-192C4E7A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2DA4F-0ABC-4854-92D2-51E6A8F5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C006-6DFD-4797-A12E-1DF53ACF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FCC7-1F0B-474F-8496-77987D81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93201-75F1-4843-B043-FE1F0F19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5DDCF-515D-4154-80F1-DF7EADE9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9B80C-77E9-43D0-83E6-E19C4377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E51DA-4E69-47FA-B15F-2495097D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FA85B-9614-4690-B416-EE222F72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0117C-F122-4F92-87F2-DD102891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434-9D39-4FE6-8B1D-9EEBE992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982CD-E1A6-459B-BE46-705655FE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48BAF-B95D-4D58-9A44-FB4D00BA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04188-9393-4A57-8526-B8A20925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9D1CE-513A-4EC6-B301-7AE28049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DD9F4-65BA-4C11-8DD6-DF9E608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588FC-7D3F-4F00-A0F2-24089BC3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5A6D4-3537-4E10-99CF-97141679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C0B98-3BF6-4074-9949-AD889BBE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8AD13-ED7B-4CAC-BC07-13E8008A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FDE5C-36ED-43D2-BB57-7DBF7510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7DE-7FCB-4A14-8F6A-FC8D4E4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95D57-6D0D-4F37-BD79-A3F1394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C6723-412A-441F-9E99-86ED0BE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44A1-B6F2-442A-AB9A-E8AA090B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C4D6C-5FA3-42E2-BB69-34EE4134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5524F-03A8-43EF-950B-C56331BE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CC58C-71CE-48CD-9AE2-671D5E9E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4C163-9C36-4FD0-97D9-D1EB88D2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28F4E-5C63-4BAB-AC04-9DB21605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D07DE-4DFC-457B-BC67-BB2B15F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BB704-0924-4A4D-A3C4-DF713338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370-8801-44B0-BE46-9154027C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70004-CC22-43B7-8289-141AE105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B05C1-3EFF-4F33-A5F1-2B7D62C4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875A5-D4B0-44B2-89F1-B61A3E2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8A2A3-B30B-469B-8FE0-27455B5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4E873-32C1-4432-BA44-8AEAF8CE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F9223-D9CB-4537-A794-A79C75F1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DFC9-A588-4EFF-8A74-EC1D4525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8B1EB-FD9E-4797-8086-5FAD0D4F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0FAC9-3B16-472B-8AA3-EEB5558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E2E6B-621A-4582-BF5F-46E2A409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595B-349C-44E4-B96B-9D2C3F0D2F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DC39-02A5-4B2F-9526-3BBE2E8520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914E-4387-41FE-A738-E7013E45DE7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75E2-FB7E-4E8F-99B6-4773038E6E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42E5-4665-44A6-AFEA-AABECEBD7B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D13E-E1C5-4415-9AAD-B5D9C214FB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FE43-2D1F-4815-AC8F-BBA9124BAA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F732-DED5-4202-AA83-F46307FF0D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7B62-1ECA-4259-823E-D6ED172502E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9296-5157-47A5-9783-549C411E8C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A505-E89F-4073-AF2C-C153D4C944E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20D3-B67E-4A4A-AA04-AEFE5572B5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D69-20B1-41ED-8257-02CDF3D268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17C7-6175-4514-8720-05C709DCF5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5AF9-80AE-4333-818D-2777B66766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3E5-22F0-4158-8241-447F24F64F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56DB-3061-4BB8-AD40-B280D823809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F946-BC80-42F5-A51A-FD428B5994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2E05-5F7D-42C1-8E02-4D956F1841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668F-0C46-4B3F-B519-43EF1E9C25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F30C-5AF9-4ADE-8888-BD65F1D790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3757-8A5A-4643-A955-45FA8B79A9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B02F-F6BC-4745-AA86-2B783E0345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71F5-7D26-47F1-A755-657A285ED4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9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图片 3" descr=""/>
          <p:cNvPicPr/>
          <p:nvPr/>
        </p:nvPicPr>
        <p:blipFill>
          <a:blip r:embed="rId15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2824200" y="2125800"/>
            <a:ext cx="5429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童年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生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17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19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0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1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2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25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2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3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32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3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3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39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4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4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46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4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5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57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572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574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576" name="椭圆 90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91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92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93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94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5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591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3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59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6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597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9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00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07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14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624" name="椭圆 75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6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7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78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79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80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39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40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42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4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8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50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51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2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53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5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61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662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3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664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6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673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0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680" name="椭圆 106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107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椭圆 108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109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10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11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8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695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699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03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07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9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718" name="椭圆 22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23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4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5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6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7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733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4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5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6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37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39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41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46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2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5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dc:language>en-US</dc:language>
  <cp:lastModifiedBy>lenovo</cp:lastModifiedBy>
  <dcterms:modified xsi:type="dcterms:W3CDTF">2014-07-20T06:37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