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F66-04A9-4D45-A082-650C9735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013-AD21-4973-B81C-56F1DB90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120-1643-4A33-9759-2458180C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083C-FC3B-4FBE-B0DC-7BEA6D94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02A7-DB9A-4806-96AF-28387D18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A337-B355-45AD-A654-6DAD600F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3BD7-CAC3-4FC9-AA41-2155C891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88D4-CFF2-4822-8E72-65C374CC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BAF3-BB25-40C3-884D-E4DD9ACE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7487-7EC8-4DC1-A2AC-1CFEC178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D9E2-53A0-4A87-AE36-8A306CD7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23F0-1C2F-4212-9871-E329B7D7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4C84-55B1-471C-812D-7AC72A31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2115-2E65-4847-A847-DEC922C7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DA8D-E66D-48C7-8188-D1CFAA78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4C3F-C91B-4133-B2A5-5A3D382A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C663-2CE7-470C-A873-843B82C4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C33F-73C7-47E4-9594-09396F5B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F31-E98B-4CC6-B3F8-356E8D44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276-DC9E-44B1-9B9D-683B7806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186-09C2-4742-AEE6-39D86A5F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9C4-49DC-4A5C-BF8B-4AADF51C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D8C7-8543-4807-AF9B-70EE1D50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DEF-1493-410E-85F7-71440AB6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8116-C1B7-419A-87E7-3A0EC438FCDF}" type="slidenum"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F60D-73B5-4724-B6BB-E72030DC5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40" y="1935000"/>
            <a:ext cx="914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720d"/>
                </a:solidFill>
                <a:latin typeface="Helvetica LT Black"/>
              </a:rPr>
              <a:t>Research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91000" y="4270320"/>
            <a:ext cx="196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41680" y="4078440"/>
            <a:ext cx="2060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af6f"/>
                </a:solidFill>
                <a:latin typeface="Arial"/>
              </a:rPr>
              <a:t>Office of W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62240" y="4365720"/>
            <a:ext cx="28195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af6f"/>
                </a:solidFill>
                <a:latin typeface="Arial"/>
              </a:rPr>
              <a:t>Professor Laura Amrkhoul,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443640" y="360360"/>
            <a:ext cx="2556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720d"/>
                </a:solidFill>
                <a:latin typeface="Helvetica LT Black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1670040"/>
            <a:ext cx="3629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e46"/>
                </a:solidFill>
                <a:latin typeface="Arial"/>
              </a:rPr>
              <a:t>What is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e46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e46"/>
                </a:solidFill>
                <a:latin typeface="Arial"/>
              </a:rPr>
              <a:t>Research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e46"/>
                </a:solidFill>
                <a:latin typeface="Arial"/>
              </a:rPr>
              <a:t>The advantages of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e46"/>
                </a:solidFill>
                <a:latin typeface="Arial"/>
              </a:rPr>
              <a:t>The role of practice in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e46"/>
                </a:solidFill>
                <a:latin typeface="Arial"/>
              </a:rPr>
              <a:t>Ways of using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曲线 87"/>
          <p:cNvSpPr/>
          <p:nvPr/>
        </p:nvSpPr>
        <p:spPr>
          <a:xfrm>
            <a:off x="3406680" y="177336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曲线 87"/>
          <p:cNvSpPr/>
          <p:nvPr/>
        </p:nvSpPr>
        <p:spPr>
          <a:xfrm>
            <a:off x="3406680" y="232092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曲线 87"/>
          <p:cNvSpPr/>
          <p:nvPr/>
        </p:nvSpPr>
        <p:spPr>
          <a:xfrm>
            <a:off x="3406680" y="286704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曲线 87"/>
          <p:cNvSpPr/>
          <p:nvPr/>
        </p:nvSpPr>
        <p:spPr>
          <a:xfrm>
            <a:off x="3406680" y="342900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曲线 87"/>
          <p:cNvSpPr/>
          <p:nvPr/>
        </p:nvSpPr>
        <p:spPr>
          <a:xfrm>
            <a:off x="3406680" y="396252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曲线 87"/>
          <p:cNvSpPr/>
          <p:nvPr/>
        </p:nvSpPr>
        <p:spPr>
          <a:xfrm>
            <a:off x="3406680" y="4514760"/>
            <a:ext cx="1144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30480" y="2492280"/>
            <a:ext cx="367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720d"/>
                </a:solidFill>
                <a:latin typeface="Arial"/>
              </a:rPr>
              <a:t>What is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79760" y="3413160"/>
            <a:ext cx="32464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44e46"/>
                </a:solidFill>
                <a:latin typeface="Arial"/>
              </a:rPr>
              <a:t>Research is an ORGANIZED and SYSTEMATIC way of FINDING ANSWERS to QUESTIO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95640" y="716040"/>
            <a:ext cx="54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44e46"/>
                </a:solidFill>
                <a:latin typeface="Arial"/>
              </a:rPr>
              <a:t>The role of practice in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1670040"/>
            <a:ext cx="4780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44e46"/>
                </a:solidFill>
                <a:latin typeface="Arial"/>
              </a:rPr>
              <a:t>Practice-based projects are those which include as an integral part the production of an original artefact in addition to, or perhaps instead of, the production of a written thesis. (UKCGE, UK Council for Graduate Education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68520" y="3286080"/>
            <a:ext cx="478008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44e46"/>
                </a:solidFill>
                <a:latin typeface="Arial"/>
              </a:rPr>
              <a:t>Positioning of the resear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Context and position,  researcher, practitioner or both Translat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hypothesis into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Relationship between theory and pract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Practice to generate the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Practice as a reflection or informed by the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曲线 87"/>
          <p:cNvSpPr/>
          <p:nvPr/>
        </p:nvSpPr>
        <p:spPr>
          <a:xfrm>
            <a:off x="2558880" y="3740040"/>
            <a:ext cx="6840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曲线 87"/>
          <p:cNvSpPr/>
          <p:nvPr/>
        </p:nvSpPr>
        <p:spPr>
          <a:xfrm>
            <a:off x="2556000" y="4086360"/>
            <a:ext cx="6804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曲线 87"/>
          <p:cNvSpPr/>
          <p:nvPr/>
        </p:nvSpPr>
        <p:spPr>
          <a:xfrm>
            <a:off x="2556000" y="4290840"/>
            <a:ext cx="68040" cy="10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曲线 87"/>
          <p:cNvSpPr/>
          <p:nvPr/>
        </p:nvSpPr>
        <p:spPr>
          <a:xfrm>
            <a:off x="2556000" y="4505400"/>
            <a:ext cx="68040" cy="10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211640" y="3424320"/>
            <a:ext cx="367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720d"/>
                </a:solidFill>
                <a:latin typeface="Arial"/>
              </a:rPr>
              <a:t>Research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4240" y="4240080"/>
            <a:ext cx="32464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44e46"/>
                </a:solidFill>
                <a:latin typeface="Arial"/>
              </a:rPr>
              <a:t>Selecting your Topic (Novel/Feasible/Useful/Definable outcomes/Gap in knowled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160" y="2798640"/>
            <a:ext cx="914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720d"/>
                </a:solidFill>
                <a:latin typeface="Helvetica LT Black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sus</dc:creator>
  <dc:description/>
  <dc:language>en-US</dc:language>
  <cp:lastModifiedBy/>
  <dcterms:modified xsi:type="dcterms:W3CDTF">2014-09-06T14:54:2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