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D80EF-6DA7-4468-AA55-C7735A18BD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48348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735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450DB-ABA4-4C8C-A01C-E971BCE7D0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48348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131FE-556E-4815-9BB2-EBA591297A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48348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5297F-8286-45A2-81C8-B4EE2D29042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48348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E0B27-FCEC-433E-85F5-7905948B81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48348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9D357-4D19-4C84-944E-975DF3D657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48348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DF886-AC27-481F-B20C-5594001425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48348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70917-355B-432C-9AD8-DBB4A3F2C0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6840" y="583920"/>
            <a:ext cx="76201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AA63E-0475-4A91-AF42-5511C0D8CC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48348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BA226-4D81-484C-BD8D-89E791BA0C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48348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04FD7-C23D-4746-9B13-6D1DAA07BB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48348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8F6A7-D8EE-4814-BE1E-C80B016FD2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方正兰亭粗黑_GBK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305920" y="38052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F3600-68B7-41AC-9299-C4CB92C8F5D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0" y="558720"/>
            <a:ext cx="152280" cy="5335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15"/>
          <p:cNvSpPr/>
          <p:nvPr/>
        </p:nvSpPr>
        <p:spPr>
          <a:xfrm>
            <a:off x="0" y="801720"/>
            <a:ext cx="10152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16"/>
          <p:cNvSpPr/>
          <p:nvPr/>
        </p:nvSpPr>
        <p:spPr>
          <a:xfrm>
            <a:off x="0" y="863640"/>
            <a:ext cx="1015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6"/>
          <p:cNvSpPr/>
          <p:nvPr/>
        </p:nvSpPr>
        <p:spPr>
          <a:xfrm>
            <a:off x="0" y="6259680"/>
            <a:ext cx="9144000" cy="6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Oval 13">
            <a:hlinkClick r:id="" action="ppaction://hlinkshowjump?jump=nextslide"/>
          </p:cNvPr>
          <p:cNvSpPr/>
          <p:nvPr/>
        </p:nvSpPr>
        <p:spPr>
          <a:xfrm>
            <a:off x="8381880" y="6375240"/>
            <a:ext cx="365400" cy="3654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4">
            <a:hlinkClick r:id="" action="ppaction://hlinkshowjump?jump=previousslide"/>
          </p:cNvPr>
          <p:cNvSpPr/>
          <p:nvPr/>
        </p:nvSpPr>
        <p:spPr>
          <a:xfrm>
            <a:off x="7924680" y="6375240"/>
            <a:ext cx="365400" cy="3654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Chevron 17"/>
          <p:cNvSpPr/>
          <p:nvPr/>
        </p:nvSpPr>
        <p:spPr>
          <a:xfrm flipH="1">
            <a:off x="8065440" y="6491160"/>
            <a:ext cx="82440" cy="133560"/>
          </a:xfrm>
          <a:custGeom>
            <a:avLst/>
            <a:gdLst>
              <a:gd name="textAreaLeft" fmla="*/ -360 w 82440"/>
              <a:gd name="textAreaRight" fmla="*/ 82440 w 82440"/>
              <a:gd name="textAreaTop" fmla="*/ 0 h 133560"/>
              <a:gd name="textAreaBottom" fmla="*/ 133920 h 13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482" y="0"/>
                </a:lnTo>
                <a:lnTo>
                  <a:pt x="21600" y="10800"/>
                </a:lnTo>
                <a:lnTo>
                  <a:pt x="4482" y="21600"/>
                </a:lnTo>
                <a:lnTo>
                  <a:pt x="0" y="21600"/>
                </a:lnTo>
                <a:lnTo>
                  <a:pt x="17118" y="10800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Chevron 18"/>
          <p:cNvSpPr/>
          <p:nvPr/>
        </p:nvSpPr>
        <p:spPr>
          <a:xfrm>
            <a:off x="8523360" y="6491160"/>
            <a:ext cx="82440" cy="133560"/>
          </a:xfrm>
          <a:custGeom>
            <a:avLst/>
            <a:gdLst>
              <a:gd name="textAreaLeft" fmla="*/ 0 w 82440"/>
              <a:gd name="textAreaRight" fmla="*/ 82800 w 82440"/>
              <a:gd name="textAreaTop" fmla="*/ 0 h 133560"/>
              <a:gd name="textAreaBottom" fmla="*/ 133920 h 13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482" y="0"/>
                </a:lnTo>
                <a:lnTo>
                  <a:pt x="21600" y="10800"/>
                </a:lnTo>
                <a:lnTo>
                  <a:pt x="4482" y="21600"/>
                </a:lnTo>
                <a:lnTo>
                  <a:pt x="0" y="21600"/>
                </a:lnTo>
                <a:lnTo>
                  <a:pt x="17118" y="10800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456840" y="6374880"/>
            <a:ext cx="6629400" cy="3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7f7f7f"/>
                </a:solidFill>
                <a:latin typeface="方正兰亭粗黑_GB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447920" y="368316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3f3f3f"/>
                </a:solidFill>
                <a:latin typeface="方正兰亭粗黑_GBK"/>
              </a:rPr>
              <a:t>PRESENTED BY </a:t>
            </a:r>
            <a:r>
              <a:rPr b="0" lang="zh-CN" sz="2200" spc="-1" strike="noStrike">
                <a:solidFill>
                  <a:srgbClr val="3f3f3f"/>
                </a:solidFill>
                <a:latin typeface="方正兰亭粗黑_GBK"/>
              </a:rPr>
              <a:t>哎呀小小草</a:t>
            </a:r>
            <a:endParaRPr b="0" lang="en-US" sz="2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Oval 4">
            <a:hlinkClick r:id="" action="ppaction://hlinkshowjump?jump=nextslide"/>
          </p:cNvPr>
          <p:cNvSpPr/>
          <p:nvPr/>
        </p:nvSpPr>
        <p:spPr>
          <a:xfrm>
            <a:off x="4343400" y="4770360"/>
            <a:ext cx="457200" cy="4572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5"/>
          <p:cNvGrpSpPr/>
          <p:nvPr/>
        </p:nvGrpSpPr>
        <p:grpSpPr>
          <a:xfrm>
            <a:off x="2209680" y="2184480"/>
            <a:ext cx="4876920" cy="1371600"/>
            <a:chOff x="2209680" y="2184480"/>
            <a:chExt cx="4876920" cy="1371600"/>
          </a:xfrm>
        </p:grpSpPr>
        <p:sp>
          <p:nvSpPr>
            <p:cNvPr id="53" name="Rectangle 11"/>
            <p:cNvSpPr/>
            <p:nvPr/>
          </p:nvSpPr>
          <p:spPr>
            <a:xfrm>
              <a:off x="2209680" y="2184480"/>
              <a:ext cx="4876920" cy="1371600"/>
            </a:xfrm>
            <a:prstGeom prst="rect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2"/>
            <p:cNvSpPr/>
            <p:nvPr/>
          </p:nvSpPr>
          <p:spPr>
            <a:xfrm>
              <a:off x="2209680" y="2489040"/>
              <a:ext cx="152280" cy="6094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3"/>
            <p:cNvSpPr/>
            <p:nvPr/>
          </p:nvSpPr>
          <p:spPr>
            <a:xfrm>
              <a:off x="6934320" y="2489040"/>
              <a:ext cx="152280" cy="6094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Rectangle 14"/>
          <p:cNvSpPr/>
          <p:nvPr/>
        </p:nvSpPr>
        <p:spPr>
          <a:xfrm>
            <a:off x="2666880" y="4191120"/>
            <a:ext cx="3810240" cy="457200"/>
          </a:xfrm>
          <a:prstGeom prst="rect">
            <a:avLst/>
          </a:prstGeom>
          <a:solidFill>
            <a:srgbClr val="f2f2f2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0c0"/>
                </a:solidFill>
                <a:latin typeface="方正兰亭黑_GBK"/>
                <a:ea typeface="宋体"/>
              </a:rPr>
              <a:t>Subtitle Goe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2362320" y="2565000"/>
            <a:ext cx="4572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5b0"/>
                </a:solidFill>
                <a:latin typeface="方正兰亭粗黑_GBK"/>
              </a:rPr>
              <a:t>BUSINESS PLAN LAYOUT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58" name="Chevron 5"/>
          <p:cNvSpPr/>
          <p:nvPr/>
        </p:nvSpPr>
        <p:spPr>
          <a:xfrm>
            <a:off x="4518000" y="4906800"/>
            <a:ext cx="108000" cy="165240"/>
          </a:xfrm>
          <a:custGeom>
            <a:avLst/>
            <a:gdLst>
              <a:gd name="textAreaLeft" fmla="*/ 0 w 108000"/>
              <a:gd name="textAreaRight" fmla="*/ 108360 w 108000"/>
              <a:gd name="textAreaTop" fmla="*/ 0 h 165240"/>
              <a:gd name="textAreaBottom" fmla="*/ 165600 h 16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482" y="0"/>
                </a:lnTo>
                <a:lnTo>
                  <a:pt x="21600" y="10800"/>
                </a:lnTo>
                <a:lnTo>
                  <a:pt x="4482" y="21600"/>
                </a:lnTo>
                <a:lnTo>
                  <a:pt x="0" y="21600"/>
                </a:lnTo>
                <a:lnTo>
                  <a:pt x="17118" y="10800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traight Connector 10"/>
          <p:cNvSpPr/>
          <p:nvPr/>
        </p:nvSpPr>
        <p:spPr>
          <a:xfrm>
            <a:off x="2260440" y="2757600"/>
            <a:ext cx="1018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traight Connector 16"/>
          <p:cNvSpPr/>
          <p:nvPr/>
        </p:nvSpPr>
        <p:spPr>
          <a:xfrm>
            <a:off x="2260440" y="2819520"/>
            <a:ext cx="1018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traight Connector 17"/>
          <p:cNvSpPr/>
          <p:nvPr/>
        </p:nvSpPr>
        <p:spPr>
          <a:xfrm>
            <a:off x="6934320" y="2757600"/>
            <a:ext cx="10152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traight Connector 18"/>
          <p:cNvSpPr/>
          <p:nvPr/>
        </p:nvSpPr>
        <p:spPr>
          <a:xfrm>
            <a:off x="6934320" y="2819520"/>
            <a:ext cx="1015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MEET THE </a:t>
            </a:r>
            <a:r>
              <a:rPr b="0" lang="zh-CN" sz="4400" spc="-1" strike="noStrike">
                <a:solidFill>
                  <a:srgbClr val="0070c0"/>
                </a:solidFill>
                <a:latin typeface="方正兰亭粗黑_GBK"/>
              </a:rPr>
              <a:t>DREAM TEAM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514240" y="4317840"/>
            <a:ext cx="190188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方正兰亭粗黑_GBK"/>
              </a:rPr>
              <a:t>RACHEL DOE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1640" y="4317840"/>
            <a:ext cx="190188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方正兰亭粗黑_GBK"/>
              </a:rPr>
              <a:t>MATTHEW DOE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629040" y="4317840"/>
            <a:ext cx="190188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方正兰亭粗黑_GBK"/>
              </a:rPr>
              <a:t>JASON doe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6840" y="4317840"/>
            <a:ext cx="190188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方正兰亭粗黑_GBK"/>
              </a:rPr>
              <a:t>AMANDA DOE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514240" y="4571640"/>
            <a:ext cx="190188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Arial"/>
                <a:ea typeface="Tahoma"/>
              </a:rPr>
              <a:t>Lorem ipsum dolor sit e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Arial"/>
                <a:ea typeface="Tahoma"/>
              </a:rPr>
              <a:t>amet, Consectetur arines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Arial"/>
                <a:ea typeface="Tahoma"/>
              </a:rPr>
              <a:t>adipiscing elit. Aenean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Arial"/>
                <a:ea typeface="Tahoma"/>
              </a:rPr>
              <a:t>acelit a felis pharetra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1640" y="4571640"/>
            <a:ext cx="190188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Arial"/>
                <a:ea typeface="Tahoma"/>
              </a:rPr>
              <a:t>Lorem ipsum dolor sit e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Arial"/>
                <a:ea typeface="Tahoma"/>
              </a:rPr>
              <a:t>amet, Consectetur arines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Arial"/>
                <a:ea typeface="Tahoma"/>
              </a:rPr>
              <a:t>adipiscing elit. Aenean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Arial"/>
                <a:ea typeface="Tahoma"/>
              </a:rPr>
              <a:t>acelit a felis pharetra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629040" y="4571640"/>
            <a:ext cx="190188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Arial"/>
                <a:ea typeface="Tahoma"/>
              </a:rPr>
              <a:t>Lorem ipsum dolor sit e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Arial"/>
                <a:ea typeface="Tahoma"/>
              </a:rPr>
              <a:t>amet, Consectetur arines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Arial"/>
                <a:ea typeface="Tahoma"/>
              </a:rPr>
              <a:t>adipiscing elit. Aenean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Arial"/>
                <a:ea typeface="Tahoma"/>
              </a:rPr>
              <a:t>acelit a felis pharetra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6840" y="4571640"/>
            <a:ext cx="190188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Arial"/>
                <a:ea typeface="Tahoma"/>
              </a:rPr>
              <a:t>Lorem ipsum dolor sit e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Arial"/>
                <a:ea typeface="Tahoma"/>
              </a:rPr>
              <a:t>amet, Consectetur arines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Arial"/>
                <a:ea typeface="Tahoma"/>
              </a:rPr>
              <a:t>adipiscing elit. Aenean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Arial"/>
                <a:ea typeface="Tahoma"/>
              </a:rPr>
              <a:t>acelit a felis pharetra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3578400"/>
            <a:ext cx="1828800" cy="35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方正兰亭粗黑_GBK"/>
              </a:rPr>
              <a:t>MANAGING DIRECTOR</a:t>
            </a:r>
            <a:endParaRPr b="0" lang="en-US" sz="1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2590920" y="3578400"/>
            <a:ext cx="1828800" cy="35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方正兰亭粗黑_GBK"/>
              </a:rPr>
              <a:t>CREATIVE DIRECTOR</a:t>
            </a:r>
            <a:endParaRPr b="0" lang="en-US" sz="1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648320" y="3578400"/>
            <a:ext cx="1828800" cy="35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方正兰亭粗黑_GBK"/>
              </a:rPr>
              <a:t>FINANCE MANAGER</a:t>
            </a:r>
            <a:endParaRPr b="0" lang="en-US" sz="1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705720" y="3578400"/>
            <a:ext cx="1828800" cy="35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方正兰亭粗黑_GBK"/>
              </a:rPr>
              <a:t>HEAD OF HUMAN RESOURCES </a:t>
            </a:r>
            <a:endParaRPr b="0" lang="en-US" sz="1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828800"/>
            <a:ext cx="1828800" cy="17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590920" y="1828800"/>
            <a:ext cx="1828800" cy="17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48320" y="1828800"/>
            <a:ext cx="1828800" cy="17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705720" y="1828800"/>
            <a:ext cx="1828800" cy="17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24"/>
          <p:cNvSpPr/>
          <p:nvPr/>
        </p:nvSpPr>
        <p:spPr>
          <a:xfrm>
            <a:off x="2698920" y="3825720"/>
            <a:ext cx="1463400" cy="31932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PINTEREST:  400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3"/>
          <p:cNvSpPr/>
          <p:nvPr/>
        </p:nvSpPr>
        <p:spPr>
          <a:xfrm>
            <a:off x="636480" y="3825720"/>
            <a:ext cx="1463760" cy="319320"/>
          </a:xfrm>
          <a:prstGeom prst="rect">
            <a:avLst/>
          </a:prstGeom>
          <a:solidFill>
            <a:srgbClr val="0065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PINTEREST:  400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DOUGHNUT </a:t>
            </a:r>
            <a:r>
              <a:rPr b="0" lang="zh-CN" sz="4000" spc="-1" strike="noStrike">
                <a:solidFill>
                  <a:srgbClr val="262626"/>
                </a:solidFill>
                <a:latin typeface="方正兰亭粗黑_GBK"/>
              </a:rPr>
              <a:t>INFOGRAPHIC </a:t>
            </a:r>
            <a:r>
              <a:rPr b="0" lang="zh-CN" sz="4400" spc="-1" strike="noStrike">
                <a:solidFill>
                  <a:srgbClr val="0070c0"/>
                </a:solidFill>
                <a:latin typeface="方正兰亭粗黑_GBK"/>
              </a:rPr>
              <a:t>ELEMENT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pic>
        <p:nvPicPr>
          <p:cNvPr id="179" name="Chart 3" descr=""/>
          <p:cNvPicPr/>
          <p:nvPr/>
        </p:nvPicPr>
        <p:blipFill>
          <a:blip r:embed="rId1"/>
          <a:stretch/>
        </p:blipFill>
        <p:spPr>
          <a:xfrm>
            <a:off x="230040" y="1755720"/>
            <a:ext cx="2281320" cy="1803600"/>
          </a:xfrm>
          <a:prstGeom prst="rect">
            <a:avLst/>
          </a:prstGeom>
          <a:ln w="0">
            <a:noFill/>
          </a:ln>
        </p:spPr>
      </p:pic>
      <p:sp>
        <p:nvSpPr>
          <p:cNvPr id="180" name="TextBox 1"/>
          <p:cNvSpPr/>
          <p:nvPr/>
        </p:nvSpPr>
        <p:spPr>
          <a:xfrm>
            <a:off x="843120" y="2197080"/>
            <a:ext cx="106668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62626"/>
                </a:solidFill>
                <a:latin typeface="方正兰亭粗黑_GBK"/>
                <a:ea typeface="黑体"/>
              </a:rPr>
              <a:t>50</a:t>
            </a:r>
            <a:r>
              <a:rPr b="0" lang="zh-CN" sz="2000" spc="-1" strike="noStrike">
                <a:solidFill>
                  <a:srgbClr val="262626"/>
                </a:solidFill>
                <a:latin typeface="方正兰亭粗黑_GBK"/>
                <a:ea typeface="黑体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Chart 7" descr=""/>
          <p:cNvPicPr/>
          <p:nvPr/>
        </p:nvPicPr>
        <p:blipFill>
          <a:blip r:embed="rId2"/>
          <a:stretch/>
        </p:blipFill>
        <p:spPr>
          <a:xfrm>
            <a:off x="2284560" y="1755720"/>
            <a:ext cx="2280960" cy="1803600"/>
          </a:xfrm>
          <a:prstGeom prst="rect">
            <a:avLst/>
          </a:prstGeom>
          <a:ln w="0">
            <a:noFill/>
          </a:ln>
        </p:spPr>
      </p:pic>
      <p:sp>
        <p:nvSpPr>
          <p:cNvPr id="182" name="TextBox 1"/>
          <p:cNvSpPr/>
          <p:nvPr/>
        </p:nvSpPr>
        <p:spPr>
          <a:xfrm>
            <a:off x="2895480" y="2197080"/>
            <a:ext cx="1067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62626"/>
                </a:solidFill>
                <a:latin typeface="方正兰亭粗黑_GBK"/>
                <a:ea typeface="黑体"/>
              </a:rPr>
              <a:t>74</a:t>
            </a:r>
            <a:r>
              <a:rPr b="0" lang="zh-CN" sz="2000" spc="-1" strike="noStrike">
                <a:solidFill>
                  <a:srgbClr val="262626"/>
                </a:solidFill>
                <a:latin typeface="方正兰亭粗黑_GBK"/>
                <a:ea typeface="黑体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Chart 9" descr=""/>
          <p:cNvPicPr/>
          <p:nvPr/>
        </p:nvPicPr>
        <p:blipFill>
          <a:blip r:embed="rId3"/>
          <a:stretch/>
        </p:blipFill>
        <p:spPr>
          <a:xfrm>
            <a:off x="4309920" y="1755720"/>
            <a:ext cx="2281320" cy="1803600"/>
          </a:xfrm>
          <a:prstGeom prst="rect">
            <a:avLst/>
          </a:prstGeom>
          <a:ln w="0">
            <a:noFill/>
          </a:ln>
        </p:spPr>
      </p:pic>
      <p:sp>
        <p:nvSpPr>
          <p:cNvPr id="184" name="TextBox 1"/>
          <p:cNvSpPr/>
          <p:nvPr/>
        </p:nvSpPr>
        <p:spPr>
          <a:xfrm>
            <a:off x="4924440" y="2197080"/>
            <a:ext cx="106668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62626"/>
                </a:solidFill>
                <a:latin typeface="方正兰亭粗黑_GBK"/>
                <a:ea typeface="黑体"/>
              </a:rPr>
              <a:t>82</a:t>
            </a:r>
            <a:r>
              <a:rPr b="0" lang="zh-CN" sz="2000" spc="-1" strike="noStrike">
                <a:solidFill>
                  <a:srgbClr val="262626"/>
                </a:solidFill>
                <a:latin typeface="Futura LT Condensed"/>
                <a:ea typeface="黑体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Chart 11" descr=""/>
          <p:cNvPicPr/>
          <p:nvPr/>
        </p:nvPicPr>
        <p:blipFill>
          <a:blip r:embed="rId4"/>
          <a:stretch/>
        </p:blipFill>
        <p:spPr>
          <a:xfrm>
            <a:off x="6348240" y="1755720"/>
            <a:ext cx="2281320" cy="1803600"/>
          </a:xfrm>
          <a:prstGeom prst="rect">
            <a:avLst/>
          </a:prstGeom>
          <a:ln w="0">
            <a:noFill/>
          </a:ln>
        </p:spPr>
      </p:pic>
      <p:sp>
        <p:nvSpPr>
          <p:cNvPr id="186" name="TextBox 1"/>
          <p:cNvSpPr/>
          <p:nvPr/>
        </p:nvSpPr>
        <p:spPr>
          <a:xfrm>
            <a:off x="6854760" y="2197080"/>
            <a:ext cx="13208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62626"/>
                </a:solidFill>
                <a:latin typeface="方正兰亭粗黑_GBK"/>
                <a:ea typeface="黑体"/>
              </a:rPr>
              <a:t>95</a:t>
            </a:r>
            <a:r>
              <a:rPr b="0" lang="zh-CN" sz="2000" spc="-1" strike="noStrike">
                <a:solidFill>
                  <a:srgbClr val="262626"/>
                </a:solidFill>
                <a:latin typeface="方正兰亭粗黑_GBK"/>
                <a:ea typeface="黑体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Content Placeholder 3"/>
          <p:cNvSpPr/>
          <p:nvPr/>
        </p:nvSpPr>
        <p:spPr>
          <a:xfrm>
            <a:off x="533520" y="4622760"/>
            <a:ext cx="815328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宋体"/>
              </a:rPr>
              <a:t>Lorem ipsum dolor sit amet, consectetur  met adipiscing elit. Aenean ac elit a felis pharecing Lorem ipsu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宋体"/>
              </a:rPr>
              <a:t>dolor sit amet sectet met adipiscing elit. Aenean ac elit a felis pharecing Lorem ipsum dolor sit amet et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宋体"/>
              </a:rPr>
              <a:t>consectetur  met adipiscing elit. Aenean ac elit a felis pharecing Lorem ipsum dolor sit amet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7"/>
          <p:cNvSpPr/>
          <p:nvPr/>
        </p:nvSpPr>
        <p:spPr>
          <a:xfrm>
            <a:off x="6762600" y="3817800"/>
            <a:ext cx="1463760" cy="3207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PINTEREST:  400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8"/>
          <p:cNvSpPr/>
          <p:nvPr/>
        </p:nvSpPr>
        <p:spPr>
          <a:xfrm>
            <a:off x="4695840" y="3817800"/>
            <a:ext cx="1463760" cy="3207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PINTEREST:  400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3"/>
          <p:cNvSpPr/>
          <p:nvPr/>
        </p:nvSpPr>
        <p:spPr>
          <a:xfrm>
            <a:off x="4448160" y="1828800"/>
            <a:ext cx="1463760" cy="320760"/>
          </a:xfrm>
          <a:prstGeom prst="rect">
            <a:avLst/>
          </a:prstGeom>
          <a:solidFill>
            <a:srgbClr val="0065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PINTEREST:  400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62626"/>
                </a:solidFill>
                <a:latin typeface="方正兰亭粗黑_GBK"/>
              </a:rPr>
              <a:t>DOUGHNUT INFOGRAPHIC </a:t>
            </a:r>
            <a:r>
              <a:rPr b="0" lang="zh-CN" sz="3200" spc="-1" strike="noStrike">
                <a:solidFill>
                  <a:srgbClr val="0070c0"/>
                </a:solidFill>
                <a:latin typeface="方正兰亭粗黑_GBK"/>
              </a:rPr>
              <a:t>ELEMENT</a:t>
            </a:r>
            <a:endParaRPr b="0" lang="en-US" sz="3200" spc="-1" strike="noStrike">
              <a:solidFill>
                <a:srgbClr val="262626"/>
              </a:solidFill>
              <a:latin typeface="方正兰亭粗黑_GBK"/>
            </a:endParaRPr>
          </a:p>
        </p:txBody>
      </p:sp>
      <p:pic>
        <p:nvPicPr>
          <p:cNvPr id="193" name="Chart 3" descr=""/>
          <p:cNvPicPr/>
          <p:nvPr/>
        </p:nvPicPr>
        <p:blipFill>
          <a:blip r:embed="rId1"/>
          <a:stretch/>
        </p:blipFill>
        <p:spPr>
          <a:xfrm>
            <a:off x="380880" y="1222200"/>
            <a:ext cx="1981440" cy="2206800"/>
          </a:xfrm>
          <a:prstGeom prst="rect">
            <a:avLst/>
          </a:prstGeom>
          <a:ln w="0">
            <a:noFill/>
          </a:ln>
        </p:spPr>
      </p:pic>
      <p:sp>
        <p:nvSpPr>
          <p:cNvPr id="194" name="Content Placeholder 3"/>
          <p:cNvSpPr/>
          <p:nvPr/>
        </p:nvSpPr>
        <p:spPr>
          <a:xfrm>
            <a:off x="4371840" y="2179800"/>
            <a:ext cx="423864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宋体"/>
              </a:rPr>
              <a:t>Lorem ipsum dolor sit amet, consectetur met adipisci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宋体"/>
              </a:rPr>
              <a:t>elit. Aenea ac elit a felis pharecing Lorem ipsu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Chart 29" descr=""/>
          <p:cNvPicPr/>
          <p:nvPr/>
        </p:nvPicPr>
        <p:blipFill>
          <a:blip r:embed="rId2"/>
          <a:stretch/>
        </p:blipFill>
        <p:spPr>
          <a:xfrm>
            <a:off x="380880" y="3355920"/>
            <a:ext cx="1981440" cy="2206800"/>
          </a:xfrm>
          <a:prstGeom prst="rect">
            <a:avLst/>
          </a:prstGeom>
          <a:ln w="0">
            <a:noFill/>
          </a:ln>
        </p:spPr>
      </p:pic>
      <p:pic>
        <p:nvPicPr>
          <p:cNvPr id="196" name="Chart 34" descr=""/>
          <p:cNvPicPr/>
          <p:nvPr/>
        </p:nvPicPr>
        <p:blipFill>
          <a:blip r:embed="rId3"/>
          <a:stretch/>
        </p:blipFill>
        <p:spPr>
          <a:xfrm>
            <a:off x="2133720" y="1222200"/>
            <a:ext cx="1981080" cy="2206800"/>
          </a:xfrm>
          <a:prstGeom prst="rect">
            <a:avLst/>
          </a:prstGeom>
          <a:ln w="0">
            <a:noFill/>
          </a:ln>
        </p:spPr>
      </p:pic>
      <p:pic>
        <p:nvPicPr>
          <p:cNvPr id="197" name="Chart 36" descr=""/>
          <p:cNvPicPr/>
          <p:nvPr/>
        </p:nvPicPr>
        <p:blipFill>
          <a:blip r:embed="rId4"/>
          <a:stretch/>
        </p:blipFill>
        <p:spPr>
          <a:xfrm>
            <a:off x="2133720" y="3355920"/>
            <a:ext cx="1981080" cy="220680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39"/>
          <p:cNvSpPr/>
          <p:nvPr/>
        </p:nvSpPr>
        <p:spPr>
          <a:xfrm>
            <a:off x="4448160" y="3089160"/>
            <a:ext cx="1463760" cy="319320"/>
          </a:xfrm>
          <a:prstGeom prst="rect">
            <a:avLst/>
          </a:prstGeom>
          <a:solidFill>
            <a:srgbClr val="0065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PINTEREST:  400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Content Placeholder 3"/>
          <p:cNvSpPr/>
          <p:nvPr/>
        </p:nvSpPr>
        <p:spPr>
          <a:xfrm>
            <a:off x="4371840" y="3438360"/>
            <a:ext cx="423864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宋体"/>
              </a:rPr>
              <a:t>Lorem ipsum dolor sit amet, consectetur met adipisci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宋体"/>
              </a:rPr>
              <a:t>elit. Aenea ac elit a felis pharecing Lorem ipsu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1"/>
          <p:cNvSpPr/>
          <p:nvPr/>
        </p:nvSpPr>
        <p:spPr>
          <a:xfrm>
            <a:off x="4448160" y="4348080"/>
            <a:ext cx="1463760" cy="320760"/>
          </a:xfrm>
          <a:prstGeom prst="rect">
            <a:avLst/>
          </a:prstGeom>
          <a:solidFill>
            <a:srgbClr val="0065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PINTEREST:  400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Content Placeholder 3"/>
          <p:cNvSpPr/>
          <p:nvPr/>
        </p:nvSpPr>
        <p:spPr>
          <a:xfrm>
            <a:off x="4371840" y="4754520"/>
            <a:ext cx="423864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宋体"/>
              </a:rPr>
              <a:t>Lorem ipsum dolor sit amet, consectetur met adipisci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宋体"/>
              </a:rPr>
              <a:t>elit. Aenea ac elit a felis pharecing Lorem ipsu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2" descr="C:\Users\ADRIEN~1.REY\AppData\Local\Temp\Rar$DR19.072\icons grid\camera_Black.png"/>
          <p:cNvPicPr/>
          <p:nvPr/>
        </p:nvPicPr>
        <p:blipFill>
          <a:blip r:embed="rId5"/>
          <a:stretch/>
        </p:blipFill>
        <p:spPr>
          <a:xfrm>
            <a:off x="1082520" y="2050920"/>
            <a:ext cx="578160" cy="549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C:\Users\ADRIEN~1.REY\AppData\Local\Temp\Rar$DR81.072\icons grid\monitor_black.png"/>
          <p:cNvPicPr/>
          <p:nvPr/>
        </p:nvPicPr>
        <p:blipFill>
          <a:blip r:embed="rId6"/>
          <a:stretch/>
        </p:blipFill>
        <p:spPr>
          <a:xfrm>
            <a:off x="1082520" y="4184640"/>
            <a:ext cx="578160" cy="549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5" descr="C:\Users\ADRIEN~1.REY\AppData\Local\Temp\Rar$DR78.072\icons grid\phone_black.png"/>
          <p:cNvPicPr/>
          <p:nvPr/>
        </p:nvPicPr>
        <p:blipFill>
          <a:blip r:embed="rId7"/>
          <a:stretch/>
        </p:blipFill>
        <p:spPr>
          <a:xfrm>
            <a:off x="2835360" y="4184640"/>
            <a:ext cx="577800" cy="5493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6" descr="C:\Users\ADRIEN~1.REY\AppData\Local\Temp\Rar$DR38.776\icons grid\user_black.png"/>
          <p:cNvPicPr/>
          <p:nvPr/>
        </p:nvPicPr>
        <p:blipFill>
          <a:blip r:embed="rId8"/>
          <a:stretch/>
        </p:blipFill>
        <p:spPr>
          <a:xfrm>
            <a:off x="2835360" y="2050920"/>
            <a:ext cx="577800" cy="549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GROWTH IN </a:t>
            </a:r>
            <a:r>
              <a:rPr b="0" lang="zh-CN" sz="4400" spc="-1" strike="noStrike">
                <a:solidFill>
                  <a:srgbClr val="0070c0"/>
                </a:solidFill>
                <a:latin typeface="方正兰亭粗黑_GBK"/>
              </a:rPr>
              <a:t>THE INDUSTRY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208" name="TextBox 3"/>
          <p:cNvSpPr/>
          <p:nvPr/>
        </p:nvSpPr>
        <p:spPr>
          <a:xfrm>
            <a:off x="533520" y="1511280"/>
            <a:ext cx="99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0c0"/>
                </a:solidFill>
                <a:latin typeface="方正兰亭粗黑_GBK"/>
                <a:ea typeface="宋体"/>
              </a:rPr>
              <a:t>$120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4"/>
          <p:cNvSpPr/>
          <p:nvPr/>
        </p:nvSpPr>
        <p:spPr>
          <a:xfrm>
            <a:off x="1371600" y="1511280"/>
            <a:ext cx="1832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Arial"/>
                <a:ea typeface="宋体"/>
              </a:rPr>
              <a:t>Projected income for 3 months of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Chart Placeholder 10" descr=""/>
          <p:cNvPicPr/>
          <p:nvPr/>
        </p:nvPicPr>
        <p:blipFill>
          <a:blip r:embed="rId1"/>
          <a:stretch/>
        </p:blipFill>
        <p:spPr>
          <a:xfrm>
            <a:off x="457200" y="2114640"/>
            <a:ext cx="8153280" cy="3900240"/>
          </a:xfrm>
          <a:prstGeom prst="rect">
            <a:avLst/>
          </a:prstGeom>
          <a:ln w="0">
            <a:noFill/>
          </a:ln>
        </p:spPr>
      </p:pic>
      <p:sp>
        <p:nvSpPr>
          <p:cNvPr id="211" name="TextBox 6"/>
          <p:cNvSpPr/>
          <p:nvPr/>
        </p:nvSpPr>
        <p:spPr>
          <a:xfrm>
            <a:off x="3276720" y="1498680"/>
            <a:ext cx="99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$120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7"/>
          <p:cNvSpPr/>
          <p:nvPr/>
        </p:nvSpPr>
        <p:spPr>
          <a:xfrm>
            <a:off x="4114800" y="1498680"/>
            <a:ext cx="1832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Arial"/>
                <a:ea typeface="宋体"/>
              </a:rPr>
              <a:t>Projected income for 3 months of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8"/>
          <p:cNvSpPr/>
          <p:nvPr/>
        </p:nvSpPr>
        <p:spPr>
          <a:xfrm>
            <a:off x="6019920" y="1498680"/>
            <a:ext cx="99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$120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9"/>
          <p:cNvSpPr/>
          <p:nvPr/>
        </p:nvSpPr>
        <p:spPr>
          <a:xfrm>
            <a:off x="6858000" y="1498680"/>
            <a:ext cx="1832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Arial"/>
                <a:ea typeface="宋体"/>
              </a:rPr>
              <a:t>Projected income for 3 months of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ular Callout 10"/>
          <p:cNvSpPr/>
          <p:nvPr/>
        </p:nvSpPr>
        <p:spPr>
          <a:xfrm>
            <a:off x="4748040" y="2514600"/>
            <a:ext cx="1070280" cy="609480"/>
          </a:xfrm>
          <a:prstGeom prst="wedgeRectCallout">
            <a:avLst>
              <a:gd name="adj1" fmla="val -20833"/>
              <a:gd name="adj2" fmla="val 82064"/>
            </a:avLst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$6M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Sept 12 20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MONTHLY SALES </a:t>
            </a:r>
            <a:r>
              <a:rPr b="0" lang="zh-CN" sz="4400" spc="-1" strike="noStrike">
                <a:solidFill>
                  <a:srgbClr val="0070c0"/>
                </a:solidFill>
                <a:latin typeface="方正兰亭粗黑_GBK"/>
              </a:rPr>
              <a:t>PROJECTIONS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218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</a:rPr>
              <a:t>Lorem ipsum dolor sit amet, consectetur adipiscing elit. Proin a erat ut nibh aliquam anim entum et sed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</a:rPr>
              <a:t>quam. Quisque Mollis augue nec enim Lorem ipsum lorem ipsum consect lorem ipsum dolor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219" name="Chart Placeholder 13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4572000" cy="38354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 txBox="1"/>
          <p:nvPr/>
        </p:nvSpPr>
        <p:spPr>
          <a:xfrm>
            <a:off x="5791320" y="2438280"/>
            <a:ext cx="2666880" cy="7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Lorem ipsum dolor sit amet,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nibh lorem et consectetur lorem 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5791320" y="3276360"/>
            <a:ext cx="266688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Lorem ipsum dolor sit amet,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nibh lorem et consectetur lorem 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5791320" y="4089240"/>
            <a:ext cx="2666880" cy="7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Lorem ipsum dolor sit amet,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nibh lorem et consectetur lorem 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791320" y="4876560"/>
            <a:ext cx="266688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Lorem ipsum dolor sit amet,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nibh lorem et consectetur lorem 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5181480" y="4968360"/>
            <a:ext cx="533520" cy="3654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tIns="0" anchor="ctr" anchorCtr="1">
            <a:normAutofit fontScale="78000"/>
          </a:bodyPr>
          <a:p>
            <a:pPr marL="267480" indent="-26748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ffffff"/>
                </a:solidFill>
                <a:latin typeface="方正兰亭粗黑_GBK"/>
              </a:rPr>
              <a:t>15%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181480" y="4156200"/>
            <a:ext cx="533520" cy="3650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tIns="0" anchor="ctr" anchorCtr="1">
            <a:normAutofit/>
          </a:bodyPr>
          <a:p>
            <a:pPr marL="343080" indent="-34308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ffffff"/>
                </a:solidFill>
                <a:latin typeface="方正兰亭粗黑_GBK"/>
              </a:rPr>
              <a:t>5%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5181480" y="2505240"/>
            <a:ext cx="533520" cy="365040"/>
          </a:xfrm>
          <a:prstGeom prst="rect">
            <a:avLst/>
          </a:prstGeom>
          <a:solidFill>
            <a:srgbClr val="0065b0"/>
          </a:solidFill>
          <a:ln w="0">
            <a:noFill/>
          </a:ln>
        </p:spPr>
        <p:txBody>
          <a:bodyPr tIns="0" anchor="b" anchorCtr="1">
            <a:normAutofit fontScale="78000"/>
          </a:bodyPr>
          <a:p>
            <a:pPr marL="267480" indent="-26748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ffffff"/>
                </a:solidFill>
                <a:latin typeface="方正兰亭粗黑_GBK"/>
              </a:rPr>
              <a:t>65%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181480" y="3343320"/>
            <a:ext cx="533520" cy="3650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tIns="0" anchor="ctr" anchorCtr="1">
            <a:normAutofit fontScale="78000"/>
          </a:bodyPr>
          <a:p>
            <a:pPr marL="267480" indent="-26748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ffffff"/>
                </a:solidFill>
                <a:latin typeface="方正兰亭粗黑_GBK"/>
              </a:rPr>
              <a:t>15%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灯片编号占位符 3"/>
          <p:cNvSpPr/>
          <p:nvPr/>
        </p:nvSpPr>
        <p:spPr>
          <a:xfrm>
            <a:off x="8305920" y="38088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8E0FC-7B93-4DE6-81A4-715B314EEF5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REVENUE PROJECTS </a:t>
            </a:r>
            <a:r>
              <a:rPr b="0" lang="zh-CN" sz="4400" spc="-1" strike="noStrike">
                <a:solidFill>
                  <a:srgbClr val="0070c0"/>
                </a:solidFill>
                <a:latin typeface="方正兰亭粗黑_GBK"/>
              </a:rPr>
              <a:t>LINE GRAPH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pic>
        <p:nvPicPr>
          <p:cNvPr id="231" name="Chart Placeholder 9" descr=""/>
          <p:cNvPicPr/>
          <p:nvPr/>
        </p:nvPicPr>
        <p:blipFill>
          <a:blip r:embed="rId1"/>
          <a:stretch/>
        </p:blipFill>
        <p:spPr>
          <a:xfrm>
            <a:off x="457200" y="2311560"/>
            <a:ext cx="5486400" cy="34290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6095520" y="3327480"/>
            <a:ext cx="2590920" cy="185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Lorem ipsum dolor sit amet nibh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et consectetur lorem ipsum dolor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sit amet, nibh et Consectetur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Lorem ipsum dolor sit amet, nibh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et consectetur lorem ipsum dolor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Lorem ipsum dolor sit amet nibh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et consectetur lorem ipsum dolor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172200" y="2847600"/>
            <a:ext cx="2362320" cy="3207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方正兰亭粗黑_GBK"/>
              </a:rPr>
              <a:t>2013 Revenue projections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32048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</a:rPr>
              <a:t>Lorem ipsum dolor sit amet, consectetur adipiscing elit. Proin a erat ut nibh aliquam anim entum et sed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</a:rPr>
              <a:t>quam. Quisque Mollis augue nec enim Lorem ipsum lorem ipsum consect lorem ipsum dolor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Rectangular Callout 8"/>
          <p:cNvSpPr/>
          <p:nvPr/>
        </p:nvSpPr>
        <p:spPr>
          <a:xfrm>
            <a:off x="4038480" y="2644920"/>
            <a:ext cx="914400" cy="482400"/>
          </a:xfrm>
          <a:prstGeom prst="wedgeRectCallout">
            <a:avLst>
              <a:gd name="adj1" fmla="val -20833"/>
              <a:gd name="adj2" fmla="val 82064"/>
            </a:avLst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$6M GRO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PYRAMID </a:t>
            </a:r>
            <a:r>
              <a:rPr b="0" lang="zh-CN" sz="4400" spc="-1" strike="noStrike">
                <a:solidFill>
                  <a:srgbClr val="0070c0"/>
                </a:solidFill>
                <a:latin typeface="方正兰亭粗黑_GBK"/>
              </a:rPr>
              <a:t>SMART ART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218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</a:rPr>
              <a:t>Lorem ipsum dolor sit amet, consectetur adipiscing elit. Proin a erat ut nibh aliquam anim entum et sed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</a:rPr>
              <a:t>quam. Quisque mollis augue nec enim Lorem ipsum lorem ipsum consectetur lorem ipsum dolor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grpSp>
        <p:nvGrpSpPr>
          <p:cNvPr id="239" name="Group 4"/>
          <p:cNvGrpSpPr/>
          <p:nvPr/>
        </p:nvGrpSpPr>
        <p:grpSpPr>
          <a:xfrm>
            <a:off x="457200" y="2437920"/>
            <a:ext cx="4114800" cy="3124800"/>
            <a:chOff x="457200" y="2437920"/>
            <a:chExt cx="4114800" cy="3124800"/>
          </a:xfrm>
        </p:grpSpPr>
        <p:sp>
          <p:nvSpPr>
            <p:cNvPr id="240" name="AutoShape 5"/>
            <p:cNvSpPr/>
            <p:nvPr/>
          </p:nvSpPr>
          <p:spPr>
            <a:xfrm flipV="1">
              <a:off x="1983960" y="2437560"/>
              <a:ext cx="1061280" cy="806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08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3f3f"/>
            </a:solidFill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6"/>
            <p:cNvSpPr/>
            <p:nvPr/>
          </p:nvSpPr>
          <p:spPr>
            <a:xfrm>
              <a:off x="1983960" y="2438280"/>
              <a:ext cx="1061280" cy="8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17640" bIns="17640" anchor="ctr">
              <a:norm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r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AutoShape 7"/>
            <p:cNvSpPr/>
            <p:nvPr/>
          </p:nvSpPr>
          <p:spPr>
            <a:xfrm flipV="1">
              <a:off x="1602000" y="3244320"/>
              <a:ext cx="1824840" cy="579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4517" y="21600"/>
                  </a:lnTo>
                  <a:lnTo>
                    <a:pt x="1708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3f3f"/>
            </a:solidFill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8"/>
            <p:cNvSpPr/>
            <p:nvPr/>
          </p:nvSpPr>
          <p:spPr>
            <a:xfrm>
              <a:off x="1921320" y="3244320"/>
              <a:ext cx="1186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17640" bIns="17640" anchor="ctr">
              <a:norm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romo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AutoShape 9"/>
            <p:cNvSpPr/>
            <p:nvPr/>
          </p:nvSpPr>
          <p:spPr>
            <a:xfrm flipV="1">
              <a:off x="1220400" y="3823920"/>
              <a:ext cx="2588040" cy="579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3185" y="21600"/>
                  </a:lnTo>
                  <a:lnTo>
                    <a:pt x="18415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0c0"/>
            </a:solidFill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10"/>
            <p:cNvSpPr/>
            <p:nvPr/>
          </p:nvSpPr>
          <p:spPr>
            <a:xfrm>
              <a:off x="1673280" y="3823920"/>
              <a:ext cx="1682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17640" bIns="17640" anchor="ctr">
              <a:norm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eopl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AutoShape 11"/>
            <p:cNvSpPr/>
            <p:nvPr/>
          </p:nvSpPr>
          <p:spPr>
            <a:xfrm flipV="1">
              <a:off x="838800" y="4403520"/>
              <a:ext cx="3351600" cy="579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459" y="21600"/>
                  </a:lnTo>
                  <a:lnTo>
                    <a:pt x="19141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3f3f"/>
            </a:solidFill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12"/>
            <p:cNvSpPr/>
            <p:nvPr/>
          </p:nvSpPr>
          <p:spPr>
            <a:xfrm>
              <a:off x="1425240" y="4403520"/>
              <a:ext cx="2178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17640" bIns="17640" anchor="ctr">
              <a:norm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la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AutoShape 13"/>
            <p:cNvSpPr/>
            <p:nvPr/>
          </p:nvSpPr>
          <p:spPr>
            <a:xfrm flipV="1">
              <a:off x="457200" y="4983120"/>
              <a:ext cx="4114800" cy="579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003" y="21600"/>
                  </a:lnTo>
                  <a:lnTo>
                    <a:pt x="19597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3f3f"/>
            </a:solidFill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14"/>
            <p:cNvSpPr/>
            <p:nvPr/>
          </p:nvSpPr>
          <p:spPr>
            <a:xfrm>
              <a:off x="1177200" y="4983120"/>
              <a:ext cx="2674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17640" bIns="17640" anchor="ctr">
              <a:norm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Distribu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"/>
          <p:cNvSpPr txBox="1"/>
          <p:nvPr/>
        </p:nvSpPr>
        <p:spPr>
          <a:xfrm>
            <a:off x="5866920" y="2514600"/>
            <a:ext cx="2667240" cy="7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Lorem ipsum dolor sit amet nibh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et consectetur lorem ipsum 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5866920" y="3327120"/>
            <a:ext cx="266724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Lorem ipsum dolor sit amet nibh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et consectetur lorem ipsum 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5866920" y="4140000"/>
            <a:ext cx="266724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Lorem ipsum dolor sit amet nibh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et consectetur lorem ipsum 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5866920" y="4952880"/>
            <a:ext cx="2667240" cy="7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Lorem ipsum dolor sit amet nibh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et consectetur lorem ipsum 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5105160" y="2581200"/>
            <a:ext cx="609480" cy="3650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tIns="0" anchor="ctr" anchorCtr="1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粗黑_GBK"/>
              </a:rPr>
              <a:t>95%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105160" y="3419640"/>
            <a:ext cx="609480" cy="3650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tIns="0" anchor="ctr" anchorCtr="1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粗黑_GBK"/>
              </a:rPr>
              <a:t>95%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05160" y="4231800"/>
            <a:ext cx="609480" cy="3654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tIns="0" anchor="ctr" anchorCtr="1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粗黑_GBK"/>
              </a:rPr>
              <a:t>95%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5105160" y="5045040"/>
            <a:ext cx="609480" cy="3650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tIns="0" anchor="ctr" anchorCtr="1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粗黑_GBK"/>
              </a:rPr>
              <a:t>95%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THREE </a:t>
            </a:r>
            <a:r>
              <a:rPr b="0" lang="zh-CN" sz="4400" spc="-1" strike="noStrike">
                <a:solidFill>
                  <a:srgbClr val="0070c0"/>
                </a:solidFill>
                <a:latin typeface="方正兰亭粗黑_GBK"/>
              </a:rPr>
              <a:t>COLUMN LAYOUT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2108160"/>
            <a:ext cx="26719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Consectetur  met adipiscing elit.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Aenean ac elit a felis pharetra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Met adipiscing. Nam tincidun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enim sit Amet Gravida nunc 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Fringilla elit. Duis dui arcu, am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scelerisque nec dictum ac conse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eu elit. Donec tincidunt enim si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amet consequat eu eli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Consectetur  met adipiscing elit.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Aenean ac elit a felis pharetra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Met adipiscing. Nam tincidun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enim sit Amet Gravida nunc 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Consectetur lorem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533160" y="1599840"/>
            <a:ext cx="2103480" cy="3207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方正兰亭粗黑_GBK"/>
              </a:rPr>
              <a:t>ONLINE MARKETING</a:t>
            </a:r>
            <a:r>
              <a:rPr b="0" lang="zh-CN" sz="1100" spc="-1" strike="noStrike">
                <a:solidFill>
                  <a:srgbClr val="ffffff"/>
                </a:solidFill>
                <a:latin typeface="方正兰亭粗黑_GBK"/>
              </a:rPr>
              <a:t>	</a:t>
            </a:r>
            <a:endParaRPr b="0" lang="en-US" sz="11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352320" y="1599840"/>
            <a:ext cx="2133720" cy="3207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ffffff"/>
                </a:solidFill>
                <a:latin typeface="方正兰亭粗黑_GBK"/>
              </a:rPr>
              <a:t>PRINT MEDIA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6248520" y="1599840"/>
            <a:ext cx="2133360" cy="3207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ffffff"/>
                </a:solidFill>
                <a:latin typeface="方正兰亭粗黑_GBK"/>
              </a:rPr>
              <a:t>PROMOTION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276720" y="2108160"/>
            <a:ext cx="2743200" cy="37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Consectetur  met adipiscing elit.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Aenean ac elit a felis pharetra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Met adipiscing. Nam tincidun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enim sit Amet Gravida nunc 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Fringilla elit. Duis dui arcu, am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scelerisque nec dictum ac conse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eu elit. Donec tincidunt enim si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amet consequat eu eli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Consectetur  met adipiscing elit.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Aenean ac elit a felis pharetra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Met adipiscing. Nam tincidun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enim sit Amet Gravida nunc 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Consectetur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172200" y="2108160"/>
            <a:ext cx="2666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Consectetur  met adipiscing elit.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Aenean ac elit a felis pharetra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Met adipiscing. Nam tincidun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enim sit Amet Gravida nunc 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Fringilla elit. Duis dui arcu, am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scelerisque nec dictum ac conse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eu elit. Donec tincidunt enim si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amet consequat eu eli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Consectetur  met adipiscing elit.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Aenean ac elit a felis pharetra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Met adipiscing. Nam tincidun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enim sit Amet Gravida nunc 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Consectetur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TWO COLUMN </a:t>
            </a:r>
            <a:r>
              <a:rPr b="0" lang="zh-CN" sz="4400" spc="-1" strike="noStrike">
                <a:solidFill>
                  <a:srgbClr val="0070c0"/>
                </a:solidFill>
                <a:latin typeface="方正兰亭粗黑_GBK"/>
              </a:rPr>
              <a:t>LAYOUT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533160" y="2209680"/>
            <a:ext cx="3886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Lorem ipsum dolor sit amet, aenea am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Sisectetur adipiscing elit. Aenean eget elit aelit 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a felis pharetra adipiscing. Nibh elit nam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incidents enim sit amet eget nec renin gravida.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Nunc vel nec aenea 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Dictum ac, consequateu elit. Donec dolor sit er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nibh, pellentesque eget lac felis emin sollicitudin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eu, malesuada eget et odio. Lore ipsum dolor si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amet, dui arcu, nibh elit scelerisque nec  dictum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enim sit amet eget nec remin gravida. Nunc 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fringilla elit. Duis lac erat eget elit aelit  a felis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pharetra adipiscing. Nibh elit nam incidents enim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sit amet eget nec remin gravida.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723920" y="2235240"/>
            <a:ext cx="39625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Lorem ipsum dolor sit amet, aenea am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Sisectetur adipiscing elit. Aenean eget elit aelit 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a felis pharetra adipiscing. Nibh elit nam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incidents enim sit amet eget nec renin gravida.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Nunc vel nec aenea 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Dictum ac, consequateu elit. Donec dolor sit er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nibh, pellentesque eget lac felis emin sollicitudin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eu, malesuada eget et odio. Lore ipsum dolor si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amet, dui arcu, nibh elit scelerisque nec  dictum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enim sit amet eget nec remin gravida. Nunc 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fringilla elit. Duis lac erat eget elit aelit  a felis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pharetra adipiscing. Nibh elit nam incidents enim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sit amet eget nec remin gravida.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609480" y="1726920"/>
            <a:ext cx="2819520" cy="3207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方正兰亭粗黑_GBK"/>
              </a:rPr>
              <a:t>INSERT HEADING HERE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800600" y="1726920"/>
            <a:ext cx="2819520" cy="3207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方正兰亭粗黑_GBK"/>
              </a:rPr>
              <a:t>INSERT HEADING HERE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5" descr=""/>
          <p:cNvPicPr/>
          <p:nvPr/>
        </p:nvPicPr>
        <p:blipFill>
          <a:blip r:embed="rId1"/>
          <a:stretch/>
        </p:blipFill>
        <p:spPr>
          <a:xfrm>
            <a:off x="4267080" y="1752480"/>
            <a:ext cx="4419720" cy="401004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COMPUTER DISPLAY </a:t>
            </a:r>
            <a:r>
              <a:rPr b="0" lang="zh-CN" sz="4400" spc="-1" strike="noStrike">
                <a:solidFill>
                  <a:srgbClr val="0070c0"/>
                </a:solidFill>
                <a:latin typeface="方正兰亭粗黑_GBK"/>
              </a:rPr>
              <a:t>LAYOUT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295280" y="1727280"/>
            <a:ext cx="2286000" cy="37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70c0"/>
                </a:solidFill>
                <a:latin typeface="方正兰亭粗黑_GBK"/>
              </a:rPr>
              <a:t>LOREM IPSUM DOLOR SIT AMET</a:t>
            </a:r>
            <a:endParaRPr b="0" lang="en-US" sz="1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295280" y="2031840"/>
            <a:ext cx="2743200" cy="7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3f3f3f"/>
                </a:solidFill>
                <a:latin typeface="Arial"/>
              </a:rPr>
              <a:t>Lorem ipsum dolor sit amet, consectetur lorem ipsum dolor  Lorem ipsum dolor sit</a:t>
            </a:r>
            <a:endParaRPr b="0" lang="en-US" sz="11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1295280" y="3022560"/>
            <a:ext cx="2286000" cy="37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70c0"/>
                </a:solidFill>
                <a:latin typeface="方正兰亭粗黑_GBK"/>
              </a:rPr>
              <a:t>LOREM IPSUM DOLOR SIT AMET</a:t>
            </a:r>
            <a:endParaRPr b="0" lang="en-US" sz="1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1295280" y="3327120"/>
            <a:ext cx="274320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3f3f3f"/>
                </a:solidFill>
                <a:latin typeface="Arial"/>
              </a:rPr>
              <a:t>Lorem ipsum dolor sit amet, consectetur lorem ipsum dolor  Lorem ipsum dolor sit amet</a:t>
            </a:r>
            <a:endParaRPr b="0" lang="en-US" sz="11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1295280" y="4444920"/>
            <a:ext cx="2286000" cy="37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70c0"/>
                </a:solidFill>
                <a:latin typeface="方正兰亭粗黑_GBK"/>
              </a:rPr>
              <a:t>LOREM IPSUM DOLOR SIT AMET</a:t>
            </a:r>
            <a:endParaRPr b="0" lang="en-US" sz="1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1294920" y="4749480"/>
            <a:ext cx="266724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Lorem ipsum dolor sit amet, consectetur lorem ipsum dolor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Oval 10"/>
          <p:cNvSpPr/>
          <p:nvPr/>
        </p:nvSpPr>
        <p:spPr>
          <a:xfrm>
            <a:off x="593640" y="1808280"/>
            <a:ext cx="641520" cy="6397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C:\Users\adrienne.reynolds\Desktop\tv.png"/>
          <p:cNvPicPr/>
          <p:nvPr/>
        </p:nvPicPr>
        <p:blipFill>
          <a:blip r:embed="rId2"/>
          <a:stretch/>
        </p:blipFill>
        <p:spPr>
          <a:xfrm>
            <a:off x="739800" y="1925640"/>
            <a:ext cx="349200" cy="404640"/>
          </a:xfrm>
          <a:prstGeom prst="rect">
            <a:avLst/>
          </a:prstGeom>
          <a:ln w="0">
            <a:noFill/>
          </a:ln>
        </p:spPr>
      </p:pic>
      <p:sp>
        <p:nvSpPr>
          <p:cNvPr id="283" name="Oval 12"/>
          <p:cNvSpPr/>
          <p:nvPr/>
        </p:nvSpPr>
        <p:spPr>
          <a:xfrm>
            <a:off x="593640" y="3103560"/>
            <a:ext cx="641520" cy="6397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13"/>
          <p:cNvSpPr/>
          <p:nvPr/>
        </p:nvSpPr>
        <p:spPr>
          <a:xfrm>
            <a:off x="593640" y="4424400"/>
            <a:ext cx="641520" cy="6397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2" descr="C:\Users\adrienne.reynolds\Desktop\iphone.png"/>
          <p:cNvPicPr/>
          <p:nvPr/>
        </p:nvPicPr>
        <p:blipFill>
          <a:blip r:embed="rId3"/>
          <a:stretch/>
        </p:blipFill>
        <p:spPr>
          <a:xfrm>
            <a:off x="754200" y="3236760"/>
            <a:ext cx="322200" cy="3747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3" descr="C:\Users\adrienne.reynolds\Desktop\camera.png"/>
          <p:cNvPicPr/>
          <p:nvPr/>
        </p:nvPicPr>
        <p:blipFill>
          <a:blip r:embed="rId4"/>
          <a:stretch/>
        </p:blipFill>
        <p:spPr>
          <a:xfrm>
            <a:off x="754200" y="4557600"/>
            <a:ext cx="322200" cy="37476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 txBox="1"/>
          <p:nvPr/>
        </p:nvSpPr>
        <p:spPr>
          <a:xfrm>
            <a:off x="4543560" y="2072880"/>
            <a:ext cx="3860640" cy="242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1" descr=""/>
          <p:cNvPicPr/>
          <p:nvPr/>
        </p:nvPicPr>
        <p:blipFill>
          <a:blip r:embed="rId1"/>
          <a:stretch/>
        </p:blipFill>
        <p:spPr>
          <a:xfrm>
            <a:off x="380880" y="2168640"/>
            <a:ext cx="5257800" cy="30128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LAPTOP COMPUTER </a:t>
            </a:r>
            <a:r>
              <a:rPr b="0" lang="zh-CN" sz="4400" spc="-1" strike="noStrike">
                <a:solidFill>
                  <a:srgbClr val="0070c0"/>
                </a:solidFill>
                <a:latin typeface="方正兰亭粗黑_GBK"/>
              </a:rPr>
              <a:t>LAYOUT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791320" y="2921040"/>
            <a:ext cx="1676160" cy="3650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方正兰亭粗黑_GBK"/>
              </a:rPr>
              <a:t>LOREM IPSUM DOLOR</a:t>
            </a:r>
            <a:endParaRPr b="0" lang="en-US" sz="1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714640" y="3325680"/>
            <a:ext cx="2971800" cy="81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Lorem ipsum dolor sit amet eta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reconsectetur adipiscing elit. Proin lorem ipsum dolor amet proin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791320" y="4322880"/>
            <a:ext cx="1676160" cy="3664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方正兰亭粗黑_GBK"/>
              </a:rPr>
              <a:t>LOREM IPSUM DOLOR</a:t>
            </a:r>
            <a:endParaRPr b="0" lang="en-US" sz="1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714640" y="4673520"/>
            <a:ext cx="2971800" cy="81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Lorem ipsum dolor sit amet eta reconsectetur adipiscing elit. Proin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714640" y="2158920"/>
            <a:ext cx="2971800" cy="81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方正兰亭粗黑_GBK"/>
              </a:rPr>
              <a:t>LOREM IPSUM DOLOR SIT AMET ELITIR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方正兰亭粗黑_GBK"/>
              </a:rPr>
              <a:t>PROIN RECONSECTETUR LOREM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176480" y="2514240"/>
            <a:ext cx="3666960" cy="212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5" descr=""/>
          <p:cNvPicPr/>
          <p:nvPr/>
        </p:nvPicPr>
        <p:blipFill>
          <a:blip r:embed="rId1"/>
          <a:stretch/>
        </p:blipFill>
        <p:spPr>
          <a:xfrm>
            <a:off x="514440" y="1835280"/>
            <a:ext cx="2286000" cy="33271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7" descr=""/>
          <p:cNvPicPr/>
          <p:nvPr/>
        </p:nvPicPr>
        <p:blipFill>
          <a:blip r:embed="rId2"/>
          <a:stretch/>
        </p:blipFill>
        <p:spPr>
          <a:xfrm>
            <a:off x="3276720" y="1805040"/>
            <a:ext cx="2286000" cy="33274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9" descr=""/>
          <p:cNvPicPr/>
          <p:nvPr/>
        </p:nvPicPr>
        <p:blipFill>
          <a:blip r:embed="rId3"/>
          <a:stretch/>
        </p:blipFill>
        <p:spPr>
          <a:xfrm>
            <a:off x="6095880" y="1805040"/>
            <a:ext cx="2286000" cy="33274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IPAD TABLET </a:t>
            </a:r>
            <a:r>
              <a:rPr b="0" lang="zh-CN" sz="4400" spc="-1" strike="noStrike">
                <a:solidFill>
                  <a:srgbClr val="0070c0"/>
                </a:solidFill>
                <a:latin typeface="方正兰亭粗黑_GBK"/>
              </a:rPr>
              <a:t>LAYOUT OPTION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09120" y="5156280"/>
            <a:ext cx="2057400" cy="40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方正兰亭粗黑_GBK"/>
              </a:rPr>
              <a:t>IMAGE DESCRIPTION HERE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428640" y="5156280"/>
            <a:ext cx="2057400" cy="40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方正兰亭粗黑_GBK"/>
              </a:rPr>
              <a:t>IMAGE DESCRIPTION HERE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248160" y="5156280"/>
            <a:ext cx="2057400" cy="40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方正兰亭粗黑_GBK"/>
              </a:rPr>
              <a:t>IMAGE DESCRIPTION HERE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Oval 12"/>
          <p:cNvSpPr/>
          <p:nvPr/>
        </p:nvSpPr>
        <p:spPr>
          <a:xfrm>
            <a:off x="2470320" y="1676520"/>
            <a:ext cx="549000" cy="54900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13"/>
          <p:cNvSpPr/>
          <p:nvPr/>
        </p:nvSpPr>
        <p:spPr>
          <a:xfrm>
            <a:off x="5241960" y="1676520"/>
            <a:ext cx="549360" cy="54900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14"/>
          <p:cNvSpPr/>
          <p:nvPr/>
        </p:nvSpPr>
        <p:spPr>
          <a:xfrm>
            <a:off x="8061480" y="1676520"/>
            <a:ext cx="549000" cy="54900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793800" y="2228760"/>
            <a:ext cx="1727280" cy="25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556080" y="2198520"/>
            <a:ext cx="1727280" cy="25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375240" y="2198520"/>
            <a:ext cx="1727280" cy="25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19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303" name="Rectangle 14"/>
          <p:cNvSpPr/>
          <p:nvPr/>
        </p:nvSpPr>
        <p:spPr>
          <a:xfrm>
            <a:off x="0" y="2260440"/>
            <a:ext cx="228600" cy="1727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traight Connector 12"/>
          <p:cNvSpPr/>
          <p:nvPr/>
        </p:nvSpPr>
        <p:spPr>
          <a:xfrm>
            <a:off x="0" y="3062160"/>
            <a:ext cx="10152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3"/>
          <p:cNvSpPr/>
          <p:nvPr/>
        </p:nvSpPr>
        <p:spPr>
          <a:xfrm>
            <a:off x="0" y="3124080"/>
            <a:ext cx="1015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20">
            <a:hlinkClick r:id="" action="ppaction://hlinkshowjump?jump=nextslide"/>
          </p:cNvPr>
          <p:cNvSpPr/>
          <p:nvPr/>
        </p:nvSpPr>
        <p:spPr>
          <a:xfrm>
            <a:off x="8381880" y="6248520"/>
            <a:ext cx="365400" cy="36504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21">
            <a:hlinkClick r:id="" action="ppaction://hlinkshowjump?jump=previousslide"/>
          </p:cNvPr>
          <p:cNvSpPr/>
          <p:nvPr/>
        </p:nvSpPr>
        <p:spPr>
          <a:xfrm>
            <a:off x="7924680" y="6248520"/>
            <a:ext cx="365400" cy="36504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Chevron 22"/>
          <p:cNvSpPr/>
          <p:nvPr/>
        </p:nvSpPr>
        <p:spPr>
          <a:xfrm flipH="1">
            <a:off x="8065440" y="6364440"/>
            <a:ext cx="82440" cy="133200"/>
          </a:xfrm>
          <a:custGeom>
            <a:avLst/>
            <a:gdLst>
              <a:gd name="textAreaLeft" fmla="*/ -360 w 82440"/>
              <a:gd name="textAreaRight" fmla="*/ 82440 w 82440"/>
              <a:gd name="textAreaTop" fmla="*/ 0 h 133200"/>
              <a:gd name="textAreaBottom" fmla="*/ 133200 h 13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482" y="0"/>
                </a:lnTo>
                <a:lnTo>
                  <a:pt x="21600" y="10800"/>
                </a:lnTo>
                <a:lnTo>
                  <a:pt x="4482" y="21600"/>
                </a:lnTo>
                <a:lnTo>
                  <a:pt x="0" y="21600"/>
                </a:lnTo>
                <a:lnTo>
                  <a:pt x="17118" y="10800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Chevron 23"/>
          <p:cNvSpPr/>
          <p:nvPr/>
        </p:nvSpPr>
        <p:spPr>
          <a:xfrm>
            <a:off x="8523360" y="6364440"/>
            <a:ext cx="82440" cy="133200"/>
          </a:xfrm>
          <a:custGeom>
            <a:avLst/>
            <a:gdLst>
              <a:gd name="textAreaLeft" fmla="*/ 0 w 82440"/>
              <a:gd name="textAreaRight" fmla="*/ 82800 w 82440"/>
              <a:gd name="textAreaTop" fmla="*/ 0 h 133200"/>
              <a:gd name="textAreaBottom" fmla="*/ 133200 h 13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482" y="0"/>
                </a:lnTo>
                <a:lnTo>
                  <a:pt x="21600" y="10800"/>
                </a:lnTo>
                <a:lnTo>
                  <a:pt x="4482" y="21600"/>
                </a:lnTo>
                <a:lnTo>
                  <a:pt x="0" y="21600"/>
                </a:lnTo>
                <a:lnTo>
                  <a:pt x="17118" y="10800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533160" y="2286000"/>
            <a:ext cx="7391160" cy="16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62626"/>
                </a:solidFill>
                <a:latin typeface="方正兰亭粗黑_GBK"/>
              </a:rPr>
              <a:t>SECTION BREAK </a:t>
            </a:r>
            <a:r>
              <a:rPr b="0" lang="zh-CN" sz="4000" spc="-1" strike="noStrike">
                <a:solidFill>
                  <a:srgbClr val="0070c0"/>
                </a:solidFill>
                <a:latin typeface="方正兰亭粗黑_GBK"/>
              </a:rPr>
              <a:t>PAGE</a:t>
            </a: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160" y="3276720"/>
            <a:ext cx="647676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Lorem ipsum dolor sit amet, consectetur adipiscing elit. Aenean ac elit a sit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amet, consectetur adipiscing lorem ipsum aenean elit sit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312" name="Picture 2" descr="C:\Users\ADRIEN~1.REY\AppData\Local\Temp\Rar$DR96.184\icons grid\alram_black.png"/>
          <p:cNvPicPr/>
          <p:nvPr/>
        </p:nvPicPr>
        <p:blipFill>
          <a:blip r:embed="rId2"/>
          <a:stretch/>
        </p:blipFill>
        <p:spPr>
          <a:xfrm>
            <a:off x="6934320" y="2971800"/>
            <a:ext cx="1066680" cy="104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PRODUCT </a:t>
            </a:r>
            <a:r>
              <a:rPr b="0" lang="zh-CN" sz="4400" spc="-1" strike="noStrike">
                <a:solidFill>
                  <a:srgbClr val="0070c0"/>
                </a:solidFill>
                <a:latin typeface="方正兰亭粗黑_GBK"/>
              </a:rPr>
              <a:t>REVIEW LAYOUT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966960" y="2892600"/>
            <a:ext cx="1358640" cy="135864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方正兰亭粗黑_GBK"/>
              </a:rPr>
              <a:t>PRODUCT ONE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862440" y="2900520"/>
            <a:ext cx="1358640" cy="135864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方正兰亭粗黑_GBK"/>
              </a:rPr>
              <a:t>PRODUCT ONE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6757920" y="2900520"/>
            <a:ext cx="1358280" cy="135864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方正兰亭粗黑_GBK"/>
              </a:rPr>
              <a:t>PRODUCT ONE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583920" y="4677840"/>
            <a:ext cx="2158920" cy="11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Lorem ipsum dolor amet, consectetur adipiscing elit. Sit et aenean acelit a felis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428640" y="4677840"/>
            <a:ext cx="2158920" cy="11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Lorem ipsum dolor amet, consectetur adipiscing elit. Sit et aenean acelit a felis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6375240" y="4677840"/>
            <a:ext cx="2159280" cy="11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Lorem ipsum dolor amet, consectetur adipiscing elit. Sit et aenean acelit a felis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132048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</a:rPr>
              <a:t>Lorem ipsum dolor sit amet, consectetuer adipiscing elit sed diam nonummy nibh tincidunt ut laoreet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</a:rPr>
              <a:t>dolore magna dolor sit amet, consectetuer adipiscing elit sed lorem ipsum dolor sit amet adipising elit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Right Arrow 10"/>
          <p:cNvSpPr/>
          <p:nvPr/>
        </p:nvSpPr>
        <p:spPr>
          <a:xfrm rot="5400000">
            <a:off x="385200" y="3281400"/>
            <a:ext cx="812880" cy="549000"/>
          </a:xfrm>
          <a:prstGeom prst="rightArrow">
            <a:avLst>
              <a:gd name="adj1" fmla="val 50000"/>
              <a:gd name="adj2" fmla="val 49965"/>
            </a:avLst>
          </a:prstGeom>
          <a:solidFill>
            <a:srgbClr val="ff05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ight Arrow 11"/>
          <p:cNvSpPr/>
          <p:nvPr/>
        </p:nvSpPr>
        <p:spPr>
          <a:xfrm rot="5400000">
            <a:off x="3281400" y="3281400"/>
            <a:ext cx="812880" cy="549360"/>
          </a:xfrm>
          <a:prstGeom prst="rightArrow">
            <a:avLst>
              <a:gd name="adj1" fmla="val 50000"/>
              <a:gd name="adj2" fmla="val 49932"/>
            </a:avLst>
          </a:prstGeom>
          <a:solidFill>
            <a:srgbClr val="ff05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ight Arrow 12"/>
          <p:cNvSpPr/>
          <p:nvPr/>
        </p:nvSpPr>
        <p:spPr>
          <a:xfrm rot="16200000">
            <a:off x="6192720" y="3224160"/>
            <a:ext cx="812880" cy="549360"/>
          </a:xfrm>
          <a:prstGeom prst="rightArrow">
            <a:avLst>
              <a:gd name="adj1" fmla="val 50000"/>
              <a:gd name="adj2" fmla="val 49932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traight Connector 13"/>
          <p:cNvSpPr/>
          <p:nvPr/>
        </p:nvSpPr>
        <p:spPr>
          <a:xfrm>
            <a:off x="3124080" y="2590920"/>
            <a:ext cx="0" cy="274320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traight Connector 14"/>
          <p:cNvSpPr/>
          <p:nvPr/>
        </p:nvSpPr>
        <p:spPr>
          <a:xfrm>
            <a:off x="6019920" y="2590920"/>
            <a:ext cx="0" cy="274320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CASE STUDY </a:t>
            </a:r>
            <a:r>
              <a:rPr b="0" lang="zh-CN" sz="4400" spc="-1" strike="noStrike">
                <a:solidFill>
                  <a:srgbClr val="0070c0"/>
                </a:solidFill>
                <a:latin typeface="方正兰亭粗黑_GBK"/>
              </a:rPr>
              <a:t>LAYOUT 2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7200" y="132048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</a:rPr>
              <a:t>Lorem ipsum dolor sit amet, consectetuer adipiscing elit sed diam nonummy nibh tincidunt ut laoreet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</a:rPr>
              <a:t>dolore magna dolor sit amet, consectetuer adipiscing elit sed lorem ipsum dolor sit amet lorem ipsum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5257440" y="5054400"/>
            <a:ext cx="3429000" cy="609480"/>
          </a:xfrm>
          <a:prstGeom prst="rect">
            <a:avLst/>
          </a:prstGeom>
          <a:solidFill>
            <a:srgbClr val="f2f2f2"/>
          </a:solidFill>
          <a:ln w="9360">
            <a:solidFill>
              <a:srgbClr val="d8d8d8"/>
            </a:solidFill>
            <a:miter/>
          </a:ln>
        </p:spPr>
        <p:txBody>
          <a:bodyPr anchor="ctr">
            <a:norm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70c0"/>
                </a:solidFill>
                <a:latin typeface="方正兰亭粗黑_GBK"/>
              </a:rPr>
              <a:t>WEBSITE 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marL="57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www.loopy.com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5257440" y="3225600"/>
            <a:ext cx="3429000" cy="1625400"/>
          </a:xfrm>
          <a:prstGeom prst="rect">
            <a:avLst/>
          </a:prstGeom>
          <a:solidFill>
            <a:srgbClr val="f2f2f2"/>
          </a:solidFill>
          <a:ln w="9360">
            <a:solidFill>
              <a:srgbClr val="d8d8d8"/>
            </a:solidFill>
            <a:miter/>
          </a:ln>
        </p:spPr>
        <p:txBody>
          <a:bodyPr anchor="ctr">
            <a:norm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70c0"/>
                </a:solidFill>
                <a:latin typeface="方正兰亭粗黑_GBK"/>
              </a:rPr>
              <a:t>OVERVIEW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marL="572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  <a:ea typeface="Tahoma"/>
              </a:rPr>
              <a:t>Lorem ipsum dolor sit amet,  consectetur adipiscing elit ann ac  elit a felis pharetra Lorem ipsum dolor sit amet lorem ipsum dolor sit am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572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5257440" y="2311200"/>
            <a:ext cx="3429000" cy="609480"/>
          </a:xfrm>
          <a:prstGeom prst="rect">
            <a:avLst/>
          </a:prstGeom>
          <a:solidFill>
            <a:srgbClr val="f2f2f2"/>
          </a:solidFill>
          <a:ln w="9360">
            <a:solidFill>
              <a:srgbClr val="d8d8d8"/>
            </a:solidFill>
            <a:miter/>
          </a:ln>
        </p:spPr>
        <p:txBody>
          <a:bodyPr anchor="ctr">
            <a:norm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70c0"/>
                </a:solidFill>
                <a:latin typeface="方正兰亭粗黑_GBK"/>
              </a:rPr>
              <a:t>CLIEN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marL="57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Loopy Enterprise Limited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533520" y="2387520"/>
            <a:ext cx="4419360" cy="3276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Content Placeholder 5"/>
          <p:cNvSpPr/>
          <p:nvPr/>
        </p:nvSpPr>
        <p:spPr>
          <a:xfrm>
            <a:off x="533520" y="990720"/>
            <a:ext cx="1981080" cy="50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0000"/>
          </a:bodyPr>
          <a:p>
            <a:pPr marL="240120" indent="-240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方正兰亭粗黑_GBK"/>
                <a:ea typeface="黑体"/>
              </a:rPr>
              <a:t>GROWTH POT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Content Placeholder 6"/>
          <p:cNvSpPr/>
          <p:nvPr/>
        </p:nvSpPr>
        <p:spPr>
          <a:xfrm>
            <a:off x="533520" y="1473120"/>
            <a:ext cx="3343320" cy="5079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8000"/>
          </a:bodyPr>
          <a:p>
            <a:pPr marL="233280" indent="-233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方正兰亭粗黑_GBK"/>
                <a:ea typeface="黑体"/>
              </a:rPr>
              <a:t>PROPOSED  MONTHLY SALES TAR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0" y="-360"/>
            <a:ext cx="9144000" cy="688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5839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IMAGE </a:t>
            </a:r>
            <a:r>
              <a:rPr b="0" lang="zh-CN" sz="4400" spc="-1" strike="noStrike">
                <a:solidFill>
                  <a:srgbClr val="0070c0"/>
                </a:solidFill>
                <a:latin typeface="方正兰亭粗黑_GBK"/>
              </a:rPr>
              <a:t>AND CONTENT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380880" y="533376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Lorem ipsum dolor sit amet, consectetur  met adipiscing elit. Aenean ac elit a felis pharecing Lorem ipsum dolor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sit amet consectetur  met adipiscing elit. Aenean ac elit a felis pharecing Lorem ipsum dolor sit amet conse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0" y="1397160"/>
            <a:ext cx="9144000" cy="37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WHAT OUR CLIENTS </a:t>
            </a:r>
            <a:r>
              <a:rPr b="0" lang="zh-CN" sz="4400" spc="-1" strike="noStrike">
                <a:solidFill>
                  <a:srgbClr val="0070c0"/>
                </a:solidFill>
                <a:latin typeface="方正兰亭粗黑_GBK"/>
              </a:rPr>
              <a:t>HAVE TO SAY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344" name="Text Placeholder 1"/>
          <p:cNvSpPr/>
          <p:nvPr/>
        </p:nvSpPr>
        <p:spPr>
          <a:xfrm>
            <a:off x="5791320" y="2362320"/>
            <a:ext cx="2819160" cy="31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黑体"/>
              </a:rPr>
              <a:t>Consectetur adipiscing elit. Proin vulputate elementum lorem sed molestie. Pellentesque Lorem Ipsum Dolor Sit Ametlorem sed molestie. Pellentesque amet ullamcorper lorem ipsum dol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黑体"/>
              </a:rPr>
              <a:t>Consectetur adipiscing elit. Proin set vulputate elementum lorem sed molestie. Pellentesque Lorem Ipsum Dolor Sit eer Ametlorem sed molestie. Pellentesque amet ullamcorper lorem ipsum dol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4"/>
          <p:cNvSpPr/>
          <p:nvPr/>
        </p:nvSpPr>
        <p:spPr>
          <a:xfrm>
            <a:off x="609480" y="3387600"/>
            <a:ext cx="1189080" cy="1189080"/>
          </a:xfrm>
          <a:prstGeom prst="ellipse">
            <a:avLst/>
          </a:prstGeom>
          <a:noFill/>
          <a:ln w="381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Ad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U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ular Callout 5"/>
          <p:cNvSpPr/>
          <p:nvPr/>
        </p:nvSpPr>
        <p:spPr>
          <a:xfrm>
            <a:off x="952560" y="1962000"/>
            <a:ext cx="1905120" cy="979560"/>
          </a:xfrm>
          <a:prstGeom prst="wedgeRectCallout">
            <a:avLst>
              <a:gd name="adj1" fmla="val -35041"/>
              <a:gd name="adj2" fmla="val 85925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Great logos designs. Easy to use. Perfect for Al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6"/>
          <p:cNvSpPr/>
          <p:nvPr/>
        </p:nvSpPr>
        <p:spPr>
          <a:xfrm>
            <a:off x="1676520" y="4546440"/>
            <a:ext cx="1189080" cy="1189080"/>
          </a:xfrm>
          <a:prstGeom prst="ellipse">
            <a:avLst/>
          </a:prstGeom>
          <a:noFill/>
          <a:ln w="381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Ad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U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ular Callout 7"/>
          <p:cNvSpPr/>
          <p:nvPr/>
        </p:nvSpPr>
        <p:spPr>
          <a:xfrm>
            <a:off x="1905120" y="3265560"/>
            <a:ext cx="1904760" cy="979560"/>
          </a:xfrm>
          <a:prstGeom prst="wedgeRectCallout">
            <a:avLst>
              <a:gd name="adj1" fmla="val -33925"/>
              <a:gd name="adj2" fmla="val 84611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Great logos designs. Easy to use. Perfect for al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Oval 8"/>
          <p:cNvSpPr/>
          <p:nvPr/>
        </p:nvSpPr>
        <p:spPr>
          <a:xfrm>
            <a:off x="3932280" y="3438360"/>
            <a:ext cx="1189080" cy="1189080"/>
          </a:xfrm>
          <a:prstGeom prst="ellipse">
            <a:avLst/>
          </a:prstGeom>
          <a:noFill/>
          <a:ln w="381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Ad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U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ular Callout 9"/>
          <p:cNvSpPr/>
          <p:nvPr/>
        </p:nvSpPr>
        <p:spPr>
          <a:xfrm>
            <a:off x="3238560" y="1941480"/>
            <a:ext cx="1905120" cy="979560"/>
          </a:xfrm>
          <a:prstGeom prst="wedgeRectCallout">
            <a:avLst>
              <a:gd name="adj1" fmla="val 12907"/>
              <a:gd name="adj2" fmla="val 87185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Great logos designs. Easy to use. Perfect for al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0"/>
          <p:cNvSpPr/>
          <p:nvPr/>
        </p:nvSpPr>
        <p:spPr>
          <a:xfrm>
            <a:off x="5791320" y="1941480"/>
            <a:ext cx="312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VULPUTATE LOREM IPSUM SO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PROCESS </a:t>
            </a:r>
            <a:r>
              <a:rPr b="0" lang="zh-CN" sz="4400" spc="-1" strike="noStrike">
                <a:solidFill>
                  <a:srgbClr val="0070c0"/>
                </a:solidFill>
                <a:latin typeface="方正兰亭粗黑_GBK"/>
              </a:rPr>
              <a:t>DIAGRAM LAYOUT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354" name="Oval 3"/>
          <p:cNvSpPr/>
          <p:nvPr/>
        </p:nvSpPr>
        <p:spPr>
          <a:xfrm>
            <a:off x="622440" y="1981080"/>
            <a:ext cx="1461960" cy="14637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Ad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4"/>
          <p:cNvSpPr/>
          <p:nvPr/>
        </p:nvSpPr>
        <p:spPr>
          <a:xfrm>
            <a:off x="2362320" y="2209680"/>
            <a:ext cx="1006200" cy="1006560"/>
          </a:xfrm>
          <a:prstGeom prst="ellipse">
            <a:avLst/>
          </a:prstGeom>
          <a:noFill/>
          <a:ln w="381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方正兰亭粗黑_GBK"/>
                <a:ea typeface="宋体"/>
              </a:rPr>
              <a:t>Ad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方正兰亭粗黑_GBK"/>
                <a:ea typeface="宋体"/>
              </a:rPr>
              <a:t>U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5"/>
          <p:cNvSpPr/>
          <p:nvPr/>
        </p:nvSpPr>
        <p:spPr>
          <a:xfrm>
            <a:off x="3962520" y="2209680"/>
            <a:ext cx="1006200" cy="1006560"/>
          </a:xfrm>
          <a:prstGeom prst="ellipse">
            <a:avLst/>
          </a:prstGeom>
          <a:noFill/>
          <a:ln w="381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方正兰亭粗黑_GBK"/>
                <a:ea typeface="宋体"/>
              </a:rPr>
              <a:t>Ad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方正兰亭粗黑_GBK"/>
                <a:ea typeface="宋体"/>
              </a:rPr>
              <a:t>U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12"/>
          <p:cNvSpPr/>
          <p:nvPr/>
        </p:nvSpPr>
        <p:spPr>
          <a:xfrm>
            <a:off x="5562720" y="2209680"/>
            <a:ext cx="1006200" cy="1006560"/>
          </a:xfrm>
          <a:prstGeom prst="ellipse">
            <a:avLst/>
          </a:prstGeom>
          <a:noFill/>
          <a:ln w="381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方正兰亭粗黑_GBK"/>
                <a:ea typeface="宋体"/>
              </a:rPr>
              <a:t>Ad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方正兰亭粗黑_GBK"/>
                <a:ea typeface="宋体"/>
              </a:rPr>
              <a:t>U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Oval 14"/>
          <p:cNvSpPr/>
          <p:nvPr/>
        </p:nvSpPr>
        <p:spPr>
          <a:xfrm>
            <a:off x="7178760" y="2209680"/>
            <a:ext cx="1004760" cy="1006560"/>
          </a:xfrm>
          <a:prstGeom prst="ellipse">
            <a:avLst/>
          </a:prstGeom>
          <a:noFill/>
          <a:ln w="381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方正兰亭粗黑_GBK"/>
                <a:ea typeface="宋体"/>
              </a:rPr>
              <a:t>Ad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方正兰亭粗黑_GBK"/>
                <a:ea typeface="宋体"/>
              </a:rPr>
              <a:t>U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16"/>
          <p:cNvSpPr/>
          <p:nvPr/>
        </p:nvSpPr>
        <p:spPr>
          <a:xfrm>
            <a:off x="636480" y="3938760"/>
            <a:ext cx="1463760" cy="146340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Ad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val 17"/>
          <p:cNvSpPr/>
          <p:nvPr/>
        </p:nvSpPr>
        <p:spPr>
          <a:xfrm>
            <a:off x="2378160" y="4156200"/>
            <a:ext cx="1004760" cy="1006200"/>
          </a:xfrm>
          <a:prstGeom prst="ellipse">
            <a:avLst/>
          </a:prstGeom>
          <a:noFill/>
          <a:ln w="381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Oval 18"/>
          <p:cNvSpPr/>
          <p:nvPr/>
        </p:nvSpPr>
        <p:spPr>
          <a:xfrm>
            <a:off x="3978360" y="4156200"/>
            <a:ext cx="1004760" cy="100620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Oval 20"/>
          <p:cNvSpPr/>
          <p:nvPr/>
        </p:nvSpPr>
        <p:spPr>
          <a:xfrm>
            <a:off x="5578560" y="4156200"/>
            <a:ext cx="1004760" cy="1006200"/>
          </a:xfrm>
          <a:prstGeom prst="ellipse">
            <a:avLst/>
          </a:prstGeom>
          <a:noFill/>
          <a:ln w="381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22"/>
          <p:cNvSpPr/>
          <p:nvPr/>
        </p:nvSpPr>
        <p:spPr>
          <a:xfrm>
            <a:off x="7178760" y="4156200"/>
            <a:ext cx="1004760" cy="100620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ight Arrow 7"/>
          <p:cNvSpPr/>
          <p:nvPr/>
        </p:nvSpPr>
        <p:spPr>
          <a:xfrm>
            <a:off x="3505320" y="2616120"/>
            <a:ext cx="380880" cy="274680"/>
          </a:xfrm>
          <a:prstGeom prst="rightArrow">
            <a:avLst>
              <a:gd name="adj1" fmla="val 50000"/>
              <a:gd name="adj2" fmla="val 49912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ight Arrow 28"/>
          <p:cNvSpPr/>
          <p:nvPr/>
        </p:nvSpPr>
        <p:spPr>
          <a:xfrm>
            <a:off x="5105520" y="2616120"/>
            <a:ext cx="380880" cy="274680"/>
          </a:xfrm>
          <a:prstGeom prst="rightArrow">
            <a:avLst>
              <a:gd name="adj1" fmla="val 50000"/>
              <a:gd name="adj2" fmla="val 49912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ight Arrow 29"/>
          <p:cNvSpPr/>
          <p:nvPr/>
        </p:nvSpPr>
        <p:spPr>
          <a:xfrm>
            <a:off x="6705720" y="2616120"/>
            <a:ext cx="380880" cy="274680"/>
          </a:xfrm>
          <a:prstGeom prst="rightArrow">
            <a:avLst>
              <a:gd name="adj1" fmla="val 50000"/>
              <a:gd name="adj2" fmla="val 49912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ight Arrow 32"/>
          <p:cNvSpPr/>
          <p:nvPr/>
        </p:nvSpPr>
        <p:spPr>
          <a:xfrm>
            <a:off x="3505320" y="4546440"/>
            <a:ext cx="380880" cy="274680"/>
          </a:xfrm>
          <a:prstGeom prst="rightArrow">
            <a:avLst>
              <a:gd name="adj1" fmla="val 50000"/>
              <a:gd name="adj2" fmla="val 49912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ight Arrow 33"/>
          <p:cNvSpPr/>
          <p:nvPr/>
        </p:nvSpPr>
        <p:spPr>
          <a:xfrm>
            <a:off x="5105520" y="4546440"/>
            <a:ext cx="380880" cy="274680"/>
          </a:xfrm>
          <a:prstGeom prst="rightArrow">
            <a:avLst>
              <a:gd name="adj1" fmla="val 50000"/>
              <a:gd name="adj2" fmla="val 49912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ight Arrow 34"/>
          <p:cNvSpPr/>
          <p:nvPr/>
        </p:nvSpPr>
        <p:spPr>
          <a:xfrm>
            <a:off x="6705720" y="4546440"/>
            <a:ext cx="380880" cy="274680"/>
          </a:xfrm>
          <a:prstGeom prst="rightArrow">
            <a:avLst>
              <a:gd name="adj1" fmla="val 50000"/>
              <a:gd name="adj2" fmla="val 49912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2" descr="C:\Users\ADRIEN~1.REY\AppData\Local\Temp\Rar$DR83.184\icons grid\clock.png"/>
          <p:cNvPicPr/>
          <p:nvPr/>
        </p:nvPicPr>
        <p:blipFill>
          <a:blip r:embed="rId1"/>
          <a:stretch/>
        </p:blipFill>
        <p:spPr>
          <a:xfrm>
            <a:off x="4181400" y="4386240"/>
            <a:ext cx="619200" cy="5666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3" descr="C:\Users\ADRIEN~1.REY\AppData\Local\Temp\Rar$DR58.888\icons grid\comments.png"/>
          <p:cNvPicPr/>
          <p:nvPr/>
        </p:nvPicPr>
        <p:blipFill>
          <a:blip r:embed="rId2"/>
          <a:stretch/>
        </p:blipFill>
        <p:spPr>
          <a:xfrm>
            <a:off x="7429680" y="4425840"/>
            <a:ext cx="471240" cy="4921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4" descr="C:\Users\ADRIEN~1.REY\AppData\Local\Temp\Rar$DR79.888\icons grid\calendar_black.png"/>
          <p:cNvPicPr/>
          <p:nvPr/>
        </p:nvPicPr>
        <p:blipFill>
          <a:blip r:embed="rId3"/>
          <a:stretch/>
        </p:blipFill>
        <p:spPr>
          <a:xfrm>
            <a:off x="2627280" y="4425840"/>
            <a:ext cx="476280" cy="50328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5" descr="C:\Users\ADRIEN~1.REY\AppData\Local\Temp\Rar$DR56.888\icons grid\monitor_black.png"/>
          <p:cNvPicPr/>
          <p:nvPr/>
        </p:nvPicPr>
        <p:blipFill>
          <a:blip r:embed="rId4"/>
          <a:stretch/>
        </p:blipFill>
        <p:spPr>
          <a:xfrm>
            <a:off x="5848200" y="4425840"/>
            <a:ext cx="476280" cy="46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INFOGRAPHIC ELEMENT </a:t>
            </a:r>
            <a:r>
              <a:rPr b="0" lang="zh-CN" sz="4400" spc="-1" strike="noStrike">
                <a:solidFill>
                  <a:srgbClr val="0070c0"/>
                </a:solidFill>
                <a:latin typeface="方正兰亭粗黑_GBK"/>
              </a:rPr>
              <a:t>ONE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376" name="Text Placeholder 1"/>
          <p:cNvSpPr/>
          <p:nvPr/>
        </p:nvSpPr>
        <p:spPr>
          <a:xfrm>
            <a:off x="5257800" y="1905120"/>
            <a:ext cx="33526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黑体"/>
              </a:rPr>
              <a:t>Consectetur adipiscing elit. Proin vulputate elementum lorem sed lorem ipsum dol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Placeholder 2"/>
          <p:cNvSpPr/>
          <p:nvPr/>
        </p:nvSpPr>
        <p:spPr>
          <a:xfrm>
            <a:off x="5257800" y="3913200"/>
            <a:ext cx="33526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黑体"/>
              </a:rPr>
              <a:t>Lorem Ipsum Dolor Sit Ametlorem sed molestie. Pellentesque amet ullamcorp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黑体"/>
              </a:rPr>
              <a:t>lorem ipsum dolor Ipsum Dolor Si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Placeholder 3"/>
          <p:cNvSpPr/>
          <p:nvPr/>
        </p:nvSpPr>
        <p:spPr>
          <a:xfrm>
            <a:off x="5257800" y="4952880"/>
            <a:ext cx="33526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黑体"/>
              </a:rPr>
              <a:t>Lorem Ipsum Dolor Sit Ametlorem sed molestie. Pellentesque amet ullamcorp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Placeholder 7"/>
          <p:cNvSpPr/>
          <p:nvPr/>
        </p:nvSpPr>
        <p:spPr>
          <a:xfrm>
            <a:off x="5257800" y="2795760"/>
            <a:ext cx="3352680" cy="8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黑体"/>
              </a:rPr>
              <a:t>Lorem Ipsum Dolor Sit Ametlorem sed molestie. Pellentesque amet ullamcorper lorem ipsum dolor Ipsum Dolor Si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7"/>
          <p:cNvSpPr/>
          <p:nvPr/>
        </p:nvSpPr>
        <p:spPr>
          <a:xfrm>
            <a:off x="601560" y="2006640"/>
            <a:ext cx="2514600" cy="40644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PARI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8"/>
          <p:cNvSpPr/>
          <p:nvPr/>
        </p:nvSpPr>
        <p:spPr>
          <a:xfrm>
            <a:off x="3192480" y="2006640"/>
            <a:ext cx="533520" cy="61236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70c0"/>
                </a:solidFill>
                <a:latin typeface="方正兰亭粗黑_GBK"/>
                <a:ea typeface="宋体"/>
              </a:rPr>
              <a:t>90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9"/>
          <p:cNvSpPr/>
          <p:nvPr/>
        </p:nvSpPr>
        <p:spPr>
          <a:xfrm>
            <a:off x="601560" y="2571840"/>
            <a:ext cx="1257480" cy="4064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ITAL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0"/>
          <p:cNvSpPr/>
          <p:nvPr/>
        </p:nvSpPr>
        <p:spPr>
          <a:xfrm>
            <a:off x="601560" y="3168720"/>
            <a:ext cx="990720" cy="40644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ROM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1"/>
          <p:cNvSpPr/>
          <p:nvPr/>
        </p:nvSpPr>
        <p:spPr>
          <a:xfrm>
            <a:off x="601560" y="3733920"/>
            <a:ext cx="2514600" cy="40644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NEW YOR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12"/>
          <p:cNvSpPr/>
          <p:nvPr/>
        </p:nvSpPr>
        <p:spPr>
          <a:xfrm>
            <a:off x="601560" y="4343400"/>
            <a:ext cx="3353040" cy="40644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LOND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3"/>
          <p:cNvSpPr/>
          <p:nvPr/>
        </p:nvSpPr>
        <p:spPr>
          <a:xfrm>
            <a:off x="601560" y="4908600"/>
            <a:ext cx="2133720" cy="40644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HONG KO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14"/>
          <p:cNvSpPr/>
          <p:nvPr/>
        </p:nvSpPr>
        <p:spPr>
          <a:xfrm>
            <a:off x="1917720" y="2571840"/>
            <a:ext cx="533520" cy="61236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70c0"/>
                </a:solidFill>
                <a:latin typeface="方正兰亭粗黑_GBK"/>
                <a:ea typeface="宋体"/>
              </a:rPr>
              <a:t>90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15"/>
          <p:cNvSpPr/>
          <p:nvPr/>
        </p:nvSpPr>
        <p:spPr>
          <a:xfrm>
            <a:off x="1668600" y="3184560"/>
            <a:ext cx="533160" cy="61236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70c0"/>
                </a:solidFill>
                <a:latin typeface="方正兰亭粗黑_GBK"/>
                <a:ea typeface="宋体"/>
              </a:rPr>
              <a:t>90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16"/>
          <p:cNvSpPr/>
          <p:nvPr/>
        </p:nvSpPr>
        <p:spPr>
          <a:xfrm>
            <a:off x="3192480" y="3733920"/>
            <a:ext cx="533520" cy="61236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65b0"/>
                </a:solidFill>
                <a:latin typeface="方正兰亭粗黑_GBK"/>
                <a:ea typeface="宋体"/>
              </a:rPr>
              <a:t>90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17"/>
          <p:cNvSpPr/>
          <p:nvPr/>
        </p:nvSpPr>
        <p:spPr>
          <a:xfrm>
            <a:off x="4038480" y="4352760"/>
            <a:ext cx="533520" cy="61236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65b0"/>
                </a:solidFill>
                <a:latin typeface="方正兰亭粗黑_GBK"/>
                <a:ea typeface="宋体"/>
              </a:rPr>
              <a:t>90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18"/>
          <p:cNvSpPr/>
          <p:nvPr/>
        </p:nvSpPr>
        <p:spPr>
          <a:xfrm>
            <a:off x="2849400" y="4908600"/>
            <a:ext cx="533520" cy="61236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65b0"/>
                </a:solidFill>
                <a:latin typeface="方正兰亭粗黑_GBK"/>
                <a:ea typeface="宋体"/>
              </a:rPr>
              <a:t>90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0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PROJECT </a:t>
            </a:r>
            <a:r>
              <a:rPr b="0" lang="zh-CN" sz="4400" spc="-1" strike="noStrike">
                <a:solidFill>
                  <a:srgbClr val="0070c0"/>
                </a:solidFill>
                <a:latin typeface="方正兰亭粗黑_GBK"/>
              </a:rPr>
              <a:t>LAYOUT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5409720" y="1998360"/>
            <a:ext cx="2971800" cy="414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粗黑_GBK"/>
              </a:rPr>
              <a:t>GROWTH OBJECTIVES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5410080" y="1523520"/>
            <a:ext cx="2438640" cy="4827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粗黑_GBK"/>
              </a:rPr>
              <a:t>FINANCIAL TARGETS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409720" y="2819160"/>
            <a:ext cx="3429000" cy="609480"/>
          </a:xfrm>
          <a:prstGeom prst="rect">
            <a:avLst/>
          </a:prstGeom>
          <a:solidFill>
            <a:srgbClr val="f2f2f2"/>
          </a:solidFill>
          <a:ln w="9360">
            <a:solidFill>
              <a:srgbClr val="d8d8d8"/>
            </a:solidFill>
            <a:miter/>
          </a:ln>
        </p:spPr>
        <p:txBody>
          <a:bodyPr anchor="t">
            <a:norm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70c0"/>
                </a:solidFill>
                <a:latin typeface="方正兰亭粗黑_GBK"/>
              </a:rPr>
              <a:t>CLIEN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marL="57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Loopy Enterprise Limited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5409720" y="3632040"/>
            <a:ext cx="3429000" cy="1524240"/>
          </a:xfrm>
          <a:prstGeom prst="rect">
            <a:avLst/>
          </a:prstGeom>
          <a:solidFill>
            <a:srgbClr val="f2f2f2"/>
          </a:solidFill>
          <a:ln w="9360">
            <a:solidFill>
              <a:srgbClr val="d8d8d8"/>
            </a:solidFill>
            <a:miter/>
          </a:ln>
        </p:spPr>
        <p:txBody>
          <a:bodyPr anchor="t">
            <a:norm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70c0"/>
                </a:solidFill>
                <a:latin typeface="方正兰亭粗黑_GBK"/>
              </a:rPr>
              <a:t>OVERVIEW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marL="572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  <a:ea typeface="Tahoma"/>
              </a:rPr>
              <a:t>Lorem ipsum dolor sit amet,  consectetur adipiscing elit ann ac  elit a felis pharetra Lorem ipsum dolor sit amet lorem ipsum dolor sit am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5409720" y="5257440"/>
            <a:ext cx="3429000" cy="609480"/>
          </a:xfrm>
          <a:prstGeom prst="rect">
            <a:avLst/>
          </a:prstGeom>
          <a:solidFill>
            <a:srgbClr val="f2f2f2"/>
          </a:solidFill>
          <a:ln w="9360">
            <a:solidFill>
              <a:srgbClr val="d8d8d8"/>
            </a:solidFill>
            <a:miter/>
          </a:ln>
        </p:spPr>
        <p:txBody>
          <a:bodyPr anchor="t">
            <a:norm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70c0"/>
                </a:solidFill>
                <a:latin typeface="方正兰亭粗黑_GBK"/>
              </a:rPr>
              <a:t>WEBSITE 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marL="57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www.loopy.com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-360" y="1498320"/>
            <a:ext cx="5181480" cy="43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INFOGRAPHIC CIRCLE </a:t>
            </a:r>
            <a:r>
              <a:rPr b="0" lang="zh-CN" sz="4400" spc="-1" strike="noStrike">
                <a:solidFill>
                  <a:srgbClr val="0065b0"/>
                </a:solidFill>
                <a:latin typeface="方正兰亭粗黑_GBK"/>
              </a:rPr>
              <a:t>LAYOUT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33520" y="1803240"/>
            <a:ext cx="2217600" cy="37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70c0"/>
                </a:solidFill>
                <a:latin typeface="方正兰亭粗黑_GBK"/>
              </a:rPr>
              <a:t>01. LOREM IPSUL DOLOR</a:t>
            </a:r>
            <a:endParaRPr b="0" lang="en-US" sz="9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533520" y="2107800"/>
            <a:ext cx="2743200" cy="91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Lorem ipsum dolor sit amet, consectetur lorem ipsum dolor  Lorem ipsum dolor sit amet con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33520" y="3225600"/>
            <a:ext cx="2217600" cy="37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70c0"/>
                </a:solidFill>
                <a:latin typeface="方正兰亭粗黑_GBK"/>
              </a:rPr>
              <a:t>02. LOREM IPSUL DOLOR</a:t>
            </a:r>
            <a:endParaRPr b="0" lang="en-US" sz="9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33520" y="3530160"/>
            <a:ext cx="2743200" cy="91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Lorem ipsum dolor sit amet, consectetur lorem ipsum dolor  Lorem ipsum dolor sit amet con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533520" y="4648320"/>
            <a:ext cx="2217600" cy="37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70c0"/>
                </a:solidFill>
                <a:latin typeface="方正兰亭粗黑_GBK"/>
              </a:rPr>
              <a:t>03. LOREM IPSUL DOLOR</a:t>
            </a:r>
            <a:endParaRPr b="0" lang="en-US" sz="9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33520" y="4952880"/>
            <a:ext cx="2743200" cy="9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Lorem ipsum dolor sit amet, consectetur lorem ipsum dolor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Oval 9"/>
          <p:cNvSpPr/>
          <p:nvPr/>
        </p:nvSpPr>
        <p:spPr>
          <a:xfrm>
            <a:off x="3505320" y="2773440"/>
            <a:ext cx="2560680" cy="2560680"/>
          </a:xfrm>
          <a:prstGeom prst="ellipse">
            <a:avLst/>
          </a:prstGeom>
          <a:solidFill>
            <a:srgbClr val="005ea4">
              <a:alpha val="80000"/>
            </a:srgbClr>
          </a:solidFill>
          <a:ln w="64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LOREM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10"/>
          <p:cNvSpPr/>
          <p:nvPr/>
        </p:nvSpPr>
        <p:spPr>
          <a:xfrm>
            <a:off x="5397480" y="3429000"/>
            <a:ext cx="1919160" cy="1920960"/>
          </a:xfrm>
          <a:prstGeom prst="ellipse">
            <a:avLst/>
          </a:prstGeom>
          <a:solidFill>
            <a:srgbClr val="262626">
              <a:alpha val="80000"/>
            </a:srgbClr>
          </a:solidFill>
          <a:ln w="64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TW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LOREM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1"/>
          <p:cNvSpPr/>
          <p:nvPr/>
        </p:nvSpPr>
        <p:spPr>
          <a:xfrm>
            <a:off x="6912000" y="3780000"/>
            <a:ext cx="1555560" cy="1554120"/>
          </a:xfrm>
          <a:prstGeom prst="ellipse">
            <a:avLst/>
          </a:prstGeom>
          <a:solidFill>
            <a:srgbClr val="bfbfbf">
              <a:alpha val="80000"/>
            </a:srgbClr>
          </a:solidFill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c0c0c"/>
                </a:solidFill>
                <a:latin typeface="方正兰亭粗黑_GBK"/>
                <a:ea typeface="宋体"/>
              </a:rPr>
              <a:t>LOREM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2"/>
          <p:cNvSpPr/>
          <p:nvPr/>
        </p:nvSpPr>
        <p:spPr>
          <a:xfrm>
            <a:off x="3733920" y="2209680"/>
            <a:ext cx="201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REVAMPED RESHA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3"/>
          <p:cNvSpPr/>
          <p:nvPr/>
        </p:nvSpPr>
        <p:spPr>
          <a:xfrm>
            <a:off x="5791320" y="2819520"/>
            <a:ext cx="1104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RESCO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4"/>
          <p:cNvSpPr/>
          <p:nvPr/>
        </p:nvSpPr>
        <p:spPr>
          <a:xfrm>
            <a:off x="7201080" y="3282840"/>
            <a:ext cx="1104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REVISI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80880" y="5839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COMPETITIVE </a:t>
            </a:r>
            <a:r>
              <a:rPr b="0" lang="zh-CN" sz="4400" spc="-1" strike="noStrike">
                <a:solidFill>
                  <a:srgbClr val="0065b0"/>
                </a:solidFill>
                <a:latin typeface="方正兰亭粗黑_GBK"/>
              </a:rPr>
              <a:t>MATRIX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533520" y="2158920"/>
          <a:ext cx="7772400" cy="2911680"/>
        </p:xfrm>
        <a:graphic>
          <a:graphicData uri="http://schemas.openxmlformats.org/drawingml/2006/table">
            <a:tbl>
              <a:tblPr/>
              <a:tblGrid>
                <a:gridCol w="1689120"/>
                <a:gridCol w="1520640"/>
                <a:gridCol w="1521000"/>
                <a:gridCol w="1520640"/>
                <a:gridCol w="1521000"/>
              </a:tblGrid>
              <a:tr h="701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方正兰亭粗黑_GBK"/>
                          <a:ea typeface="MS PGothic"/>
                        </a:rPr>
                        <a:t>COMPA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5b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方正兰亭粗黑_GBK"/>
                          <a:ea typeface="MS PGothic"/>
                        </a:rPr>
                        <a:t>PA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5b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方正兰亭粗黑_GBK"/>
                          <a:ea typeface="MS PGothic"/>
                        </a:rPr>
                        <a:t>T-SHIR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5b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方正兰亭粗黑_GBK"/>
                          <a:ea typeface="MS PGothic"/>
                        </a:rPr>
                        <a:t>DRES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5b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方正兰亭粗黑_GBK"/>
                          <a:ea typeface="MS PGothic"/>
                        </a:rPr>
                        <a:t>SHIR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5b0"/>
                    </a:solidFill>
                  </a:tcPr>
                </a:tc>
              </a:tr>
              <a:tr h="38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Your Clothing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Lorem ips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Lorem ips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Lorem ips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Lorem ips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Competitor On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Lorem ips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Lorem ips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Lorem ips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Lorem ips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Competitor Tw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Lorem ips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Lorem ips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Lorem ips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Lorem ipsum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Competitor  Thre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Lorem ips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Lorem ips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Lorem ipsum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Lorem ipsum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Competitor Fou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Lorem ips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Lorem ips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Lorem ips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Lorem ipsum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3" name=""/>
          <p:cNvSpPr txBox="1"/>
          <p:nvPr/>
        </p:nvSpPr>
        <p:spPr>
          <a:xfrm>
            <a:off x="457200" y="1523520"/>
            <a:ext cx="822960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5b0"/>
                </a:solidFill>
                <a:latin typeface="方正兰亭粗黑_GBK"/>
              </a:rPr>
              <a:t>INSERT THE TITLE OF YOUR TABLE IN THIS AREA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6840" y="5105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Lorem ipsum dolor sit amet, consectetur adipiscing elit. Aenean ac elit a felis pharetra elit  sit adipiscing. Nam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tincidunt enim sit amet gravida. Nunc vel fringilla elit. Duis dui arcu ipsumem lorem ipsum dolor sit amet lorem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16"/>
          <p:cNvSpPr/>
          <p:nvPr/>
        </p:nvSpPr>
        <p:spPr>
          <a:xfrm>
            <a:off x="5486400" y="4241880"/>
            <a:ext cx="403200" cy="40320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OUR CONTACT </a:t>
            </a:r>
            <a:r>
              <a:rPr b="0" lang="zh-CN" sz="4400" spc="-1" strike="noStrike">
                <a:solidFill>
                  <a:srgbClr val="0070c0"/>
                </a:solidFill>
                <a:latin typeface="方正兰亭粗黑_GBK"/>
              </a:rPr>
              <a:t>DETAILS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160" y="2158920"/>
            <a:ext cx="4343400" cy="3301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6840" y="1346040"/>
            <a:ext cx="80773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95959"/>
                </a:solidFill>
                <a:latin typeface="Arial"/>
              </a:rPr>
              <a:t>Lorem ipsum dolor sit amet, consectetur adipiscing elit. Aenean ac elit a sit amet, lorem ipsum dolor</a:t>
            </a:r>
            <a:endParaRPr b="0" lang="en-US" sz="10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95959"/>
                </a:solidFill>
                <a:latin typeface="Arial"/>
              </a:rPr>
              <a:t>Consectetur adipiscing lorem ipsum lorem ipsum dolor sit consectetur lorem ipsum dolor</a:t>
            </a:r>
            <a:endParaRPr b="0" lang="en-US" sz="1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6171840" y="2311560"/>
            <a:ext cx="2438280" cy="40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87 Loop Lane, Miami, F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6171840" y="2717280"/>
            <a:ext cx="2438280" cy="4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www.doeenterpise.com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6171840" y="3123720"/>
            <a:ext cx="2438280" cy="4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john@doeenterprise.com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6171840" y="3530160"/>
            <a:ext cx="2438280" cy="4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1.954.123.4567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867280" y="4241520"/>
            <a:ext cx="2743200" cy="4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www.facebook.com/doe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5867280" y="4774680"/>
            <a:ext cx="2743200" cy="4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@johndoelimited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5105160" y="2311560"/>
            <a:ext cx="990360" cy="40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70c0"/>
                </a:solidFill>
                <a:latin typeface="方正兰亭粗黑_GBK"/>
              </a:rPr>
              <a:t>ADDRESS: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5105160" y="2717280"/>
            <a:ext cx="990360" cy="4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70c0"/>
                </a:solidFill>
                <a:latin typeface="方正兰亭粗黑_GBK"/>
              </a:rPr>
              <a:t>WEBSITE: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5105160" y="3123720"/>
            <a:ext cx="990360" cy="4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70c0"/>
                </a:solidFill>
                <a:latin typeface="方正兰亭粗黑_GBK"/>
              </a:rPr>
              <a:t>EMAIL: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5105160" y="3530160"/>
            <a:ext cx="990360" cy="4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70c0"/>
                </a:solidFill>
                <a:latin typeface="方正兰亭粗黑_GBK"/>
              </a:rPr>
              <a:t>TELEPHONE: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420" name="Picture 15" descr="twitter.png"/>
          <p:cNvPicPr/>
          <p:nvPr/>
        </p:nvPicPr>
        <p:blipFill>
          <a:blip r:embed="rId1"/>
          <a:stretch/>
        </p:blipFill>
        <p:spPr>
          <a:xfrm>
            <a:off x="5562720" y="4278240"/>
            <a:ext cx="266760" cy="355680"/>
          </a:xfrm>
          <a:prstGeom prst="rect">
            <a:avLst/>
          </a:prstGeom>
          <a:ln w="0">
            <a:noFill/>
          </a:ln>
        </p:spPr>
      </p:pic>
      <p:sp>
        <p:nvSpPr>
          <p:cNvPr id="421" name="Oval 17"/>
          <p:cNvSpPr/>
          <p:nvPr/>
        </p:nvSpPr>
        <p:spPr>
          <a:xfrm>
            <a:off x="5486400" y="4749840"/>
            <a:ext cx="403200" cy="40320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19" descr="facebook.png"/>
          <p:cNvPicPr/>
          <p:nvPr/>
        </p:nvPicPr>
        <p:blipFill>
          <a:blip r:embed="rId2"/>
          <a:stretch/>
        </p:blipFill>
        <p:spPr>
          <a:xfrm>
            <a:off x="5572080" y="4800600"/>
            <a:ext cx="22860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16"/>
          <p:cNvSpPr/>
          <p:nvPr/>
        </p:nvSpPr>
        <p:spPr>
          <a:xfrm>
            <a:off x="0" y="2260440"/>
            <a:ext cx="228600" cy="1727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traight Connector 17"/>
          <p:cNvSpPr/>
          <p:nvPr/>
        </p:nvSpPr>
        <p:spPr>
          <a:xfrm>
            <a:off x="0" y="3062160"/>
            <a:ext cx="10152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Straight Connector 18"/>
          <p:cNvSpPr/>
          <p:nvPr/>
        </p:nvSpPr>
        <p:spPr>
          <a:xfrm>
            <a:off x="0" y="3124080"/>
            <a:ext cx="1015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380520" y="2286000"/>
            <a:ext cx="81536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262626"/>
                </a:solidFill>
                <a:latin typeface="方正兰亭粗黑_GBK"/>
              </a:rPr>
              <a:t>THANKS </a:t>
            </a:r>
            <a:r>
              <a:rPr b="0" lang="zh-CN" sz="4800" spc="-1" strike="noStrike">
                <a:solidFill>
                  <a:srgbClr val="0065b0"/>
                </a:solidFill>
                <a:latin typeface="方正兰亭粗黑_GBK"/>
              </a:rPr>
              <a:t>FOR YOUR TIME</a:t>
            </a:r>
            <a:endParaRPr b="0" lang="en-US" sz="4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7200" y="3352320"/>
            <a:ext cx="64771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</a:rPr>
              <a:t>Lorem ipsum dolor sit amet, consectetur adipiscing elit. Nam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</a:rPr>
              <a:t>Lobortis lorem ipsum dolor sit amet, consectetur adipiscing elit. Nam lobortis 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429" name="Picture 3" descr="C:\Users\ADRIEN~1.REY\AppData\Local\Temp\Rar$DR63.888\icons grid\plane_black.png"/>
          <p:cNvPicPr/>
          <p:nvPr/>
        </p:nvPicPr>
        <p:blipFill>
          <a:blip r:embed="rId2"/>
          <a:stretch/>
        </p:blipFill>
        <p:spPr>
          <a:xfrm>
            <a:off x="7007400" y="2133720"/>
            <a:ext cx="1223640" cy="163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2" descr="E:\小小草店铺中的素材\Y3030-30套合集+文艺唯美风格（把时间改成了2016）\扫一扫更多惊喜等着您.jpg"/>
          <p:cNvPicPr/>
          <p:nvPr/>
        </p:nvPicPr>
        <p:blipFill>
          <a:blip r:embed="rId1"/>
          <a:stretch/>
        </p:blipFill>
        <p:spPr>
          <a:xfrm>
            <a:off x="103320" y="57240"/>
            <a:ext cx="893736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Something </a:t>
            </a:r>
            <a:r>
              <a:rPr b="0" lang="zh-CN" sz="4400" spc="-1" strike="noStrike">
                <a:solidFill>
                  <a:srgbClr val="0070c0"/>
                </a:solidFill>
                <a:latin typeface="方正兰亭粗黑_GBK"/>
              </a:rPr>
              <a:t>about us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33160" y="4978440"/>
            <a:ext cx="2438280" cy="3808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方正兰亭粗黑_GBK"/>
              </a:rPr>
              <a:t>GROWTH POTENTIAL</a:t>
            </a:r>
            <a:endParaRPr b="0" lang="en-US" sz="1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33160" y="5358960"/>
            <a:ext cx="2971800" cy="3812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方正兰亭粗黑_GBK"/>
              </a:rPr>
              <a:t>PROPOSED SALES TARGETS</a:t>
            </a:r>
            <a:endParaRPr b="0" lang="en-US" sz="1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48320" y="4851360"/>
            <a:ext cx="39621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262626"/>
                </a:solidFill>
                <a:latin typeface="Arial"/>
                <a:ea typeface="Tahoma"/>
              </a:rPr>
              <a:t>Lorem ipsum dolor sit amet, consectetur  met</a:t>
            </a:r>
            <a:endParaRPr b="0" lang="en-US" sz="11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262626"/>
                </a:solidFill>
                <a:latin typeface="Arial"/>
                <a:ea typeface="Tahoma"/>
              </a:rPr>
              <a:t>adipiscing elit. Aenean ac elit a felis pharetra meters adipiscing. Nam tincidunt enim sit amet gravida lorem ipsum dolor sit amet</a:t>
            </a:r>
            <a:endParaRPr b="0" lang="en-US" sz="11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33160" y="1320480"/>
            <a:ext cx="8001000" cy="3327480"/>
          </a:xfrm>
          <a:prstGeom prst="rect">
            <a:avLst/>
          </a:prstGeom>
          <a:noFill/>
          <a:ln w="38160">
            <a:solidFill>
              <a:srgbClr val="f2f2f2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533520" y="1373040"/>
            <a:ext cx="7772400" cy="532080"/>
          </a:xfrm>
          <a:prstGeom prst="rect">
            <a:avLst/>
          </a:prstGeom>
          <a:solidFill>
            <a:srgbClr val="f2f2f2"/>
          </a:solidFill>
          <a:ln w="648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WHAT WE </a:t>
            </a:r>
            <a:r>
              <a:rPr b="0" lang="zh-CN" sz="4400" spc="-1" strike="noStrike">
                <a:solidFill>
                  <a:srgbClr val="0070c0"/>
                </a:solidFill>
                <a:latin typeface="方正兰亭粗黑_GBK"/>
              </a:rPr>
              <a:t>OFFER 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600200" y="2413080"/>
            <a:ext cx="19828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70c0"/>
                </a:solidFill>
                <a:latin typeface="方正兰亭粗黑_GBK"/>
              </a:rPr>
              <a:t>IMAGE DESCRIPTION</a:t>
            </a:r>
            <a:endParaRPr b="0" lang="en-US" sz="9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599840" y="2742840"/>
            <a:ext cx="2971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Lorem ipsum dolor sit am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Amet consectetur adipiscing elit.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Proin A lorem ipsum dolor am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790960" y="2413080"/>
            <a:ext cx="198252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70c0"/>
                </a:solidFill>
                <a:latin typeface="方正兰亭粗黑_GBK"/>
              </a:rPr>
              <a:t>IMAGE DESCRIPTION</a:t>
            </a:r>
            <a:endParaRPr b="0" lang="en-US" sz="9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791320" y="2742840"/>
            <a:ext cx="27432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Lorem ipsum dolor sit am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Amet consectetur adipiscing elit.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Proin A lorem ipsum dolor am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00200" y="4241880"/>
            <a:ext cx="19828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70c0"/>
                </a:solidFill>
                <a:latin typeface="方正兰亭粗黑_GBK"/>
              </a:rPr>
              <a:t>IMAGE DESCRIPTION</a:t>
            </a:r>
            <a:endParaRPr b="0" lang="en-US" sz="9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600200" y="4571640"/>
            <a:ext cx="27432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Lorem ipsum dolor sit am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Amet consectetur adipiscing elit.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Proin A lorem ipsum dolor am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790960" y="4241880"/>
            <a:ext cx="198252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70c0"/>
                </a:solidFill>
                <a:latin typeface="方正兰亭粗黑_GBK"/>
              </a:rPr>
              <a:t>IMAGE DESCRIPTION</a:t>
            </a:r>
            <a:endParaRPr b="0" lang="en-US" sz="9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791320" y="4571640"/>
            <a:ext cx="27432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Lorem ipsum dolor sit am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Amet consectetur adipiscing elit.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Proin A lorem ipsum dolor am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TextBox 15"/>
          <p:cNvSpPr/>
          <p:nvPr/>
        </p:nvSpPr>
        <p:spPr>
          <a:xfrm>
            <a:off x="533520" y="1509840"/>
            <a:ext cx="205740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CREATIVE STA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6"/>
          <p:cNvSpPr/>
          <p:nvPr/>
        </p:nvSpPr>
        <p:spPr>
          <a:xfrm>
            <a:off x="2590920" y="1511280"/>
            <a:ext cx="205740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FLEXIBLE WORK H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7"/>
          <p:cNvSpPr/>
          <p:nvPr/>
        </p:nvSpPr>
        <p:spPr>
          <a:xfrm>
            <a:off x="4648320" y="1511280"/>
            <a:ext cx="167616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FLEX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8"/>
          <p:cNvSpPr/>
          <p:nvPr/>
        </p:nvSpPr>
        <p:spPr>
          <a:xfrm>
            <a:off x="6324480" y="1511280"/>
            <a:ext cx="198144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INNOVATIVE MIND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27"/>
          <p:cNvSpPr/>
          <p:nvPr/>
        </p:nvSpPr>
        <p:spPr>
          <a:xfrm>
            <a:off x="2590920" y="1371600"/>
            <a:ext cx="0" cy="533520"/>
          </a:xfrm>
          <a:prstGeom prst="line">
            <a:avLst/>
          </a:prstGeom>
          <a:ln w="93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28"/>
          <p:cNvSpPr/>
          <p:nvPr/>
        </p:nvSpPr>
        <p:spPr>
          <a:xfrm>
            <a:off x="6324480" y="1371600"/>
            <a:ext cx="0" cy="533520"/>
          </a:xfrm>
          <a:prstGeom prst="line">
            <a:avLst/>
          </a:prstGeom>
          <a:ln w="93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29"/>
          <p:cNvSpPr/>
          <p:nvPr/>
        </p:nvSpPr>
        <p:spPr>
          <a:xfrm>
            <a:off x="4648320" y="1371600"/>
            <a:ext cx="0" cy="531720"/>
          </a:xfrm>
          <a:prstGeom prst="line">
            <a:avLst/>
          </a:prstGeom>
          <a:ln w="93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74200" y="2478600"/>
            <a:ext cx="833040" cy="7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764960" y="2478600"/>
            <a:ext cx="833040" cy="7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764960" y="4307400"/>
            <a:ext cx="833040" cy="7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74200" y="4307400"/>
            <a:ext cx="833040" cy="7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traight Connector 6"/>
          <p:cNvSpPr/>
          <p:nvPr/>
        </p:nvSpPr>
        <p:spPr>
          <a:xfrm>
            <a:off x="3200400" y="1584360"/>
            <a:ext cx="0" cy="358128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7"/>
          <p:cNvSpPr/>
          <p:nvPr/>
        </p:nvSpPr>
        <p:spPr>
          <a:xfrm>
            <a:off x="6095880" y="1584360"/>
            <a:ext cx="0" cy="358128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MARKETING </a:t>
            </a:r>
            <a:r>
              <a:rPr b="0" lang="zh-CN" sz="4400" spc="-1" strike="noStrike">
                <a:solidFill>
                  <a:srgbClr val="0070c0"/>
                </a:solidFill>
                <a:latin typeface="方正兰亭粗黑_GBK"/>
              </a:rPr>
              <a:t>MATRIX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2108160"/>
            <a:ext cx="259056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  <a:ea typeface="Tahoma"/>
              </a:rPr>
              <a:t>You Tube Videos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  <a:ea typeface="Tahoma"/>
              </a:rPr>
              <a:t>Twitter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  <a:ea typeface="Tahoma"/>
              </a:rPr>
              <a:t>Facebook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  <a:ea typeface="Tahoma"/>
              </a:rPr>
              <a:t>Banners Ads  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  <a:ea typeface="Tahoma"/>
              </a:rPr>
              <a:t>Company Website 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  <a:ea typeface="Tahoma"/>
              </a:rPr>
              <a:t>Google Ads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  <a:ea typeface="Tahoma"/>
              </a:rPr>
              <a:t>Folor sit amet  sectetur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  <a:ea typeface="Tahoma"/>
              </a:rPr>
              <a:t>Company Website 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428640" y="2108160"/>
            <a:ext cx="259092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  <a:ea typeface="Tahoma"/>
              </a:rPr>
              <a:t>FREE Samples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  <a:ea typeface="Tahoma"/>
              </a:rPr>
              <a:t>Giveaways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  <a:ea typeface="Tahoma"/>
              </a:rPr>
              <a:t>Public Relations Drive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  <a:ea typeface="Tahoma"/>
              </a:rPr>
              <a:t>Radio Station Giveaways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  <a:ea typeface="Tahoma"/>
              </a:rPr>
              <a:t>Targeted Emails 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  <a:ea typeface="Tahoma"/>
              </a:rPr>
              <a:t>Folor sit amet  sectetur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  <a:ea typeface="Tahoma"/>
              </a:rPr>
              <a:t>Facebook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324120" y="2108160"/>
            <a:ext cx="259092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  <a:ea typeface="Tahoma"/>
              </a:rPr>
              <a:t>Newspaper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  <a:ea typeface="Tahoma"/>
              </a:rPr>
              <a:t>Fliers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  <a:ea typeface="Tahoma"/>
              </a:rPr>
              <a:t>Magazine 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  <a:ea typeface="Tahoma"/>
              </a:rPr>
              <a:t>Brochures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  <a:ea typeface="Tahoma"/>
              </a:rPr>
              <a:t>Product Cards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  <a:ea typeface="Tahoma"/>
              </a:rPr>
              <a:t>Folor sit amet  sectetur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  <a:ea typeface="Tahoma"/>
              </a:rPr>
              <a:t>Company Website 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428640" y="1600200"/>
            <a:ext cx="2057400" cy="3808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方正兰亭粗黑_GBK"/>
              </a:rPr>
              <a:t>Print media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324120" y="1600200"/>
            <a:ext cx="2057400" cy="3808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粗黑_GBK"/>
              </a:rPr>
              <a:t>promotion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33160" y="1600200"/>
            <a:ext cx="2057400" cy="3808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方正兰亭粗黑_GBK"/>
              </a:rPr>
              <a:t>ONLINE MARKETING</a:t>
            </a:r>
            <a:r>
              <a:rPr b="0" lang="zh-CN" sz="1000" spc="-1" strike="noStrike">
                <a:solidFill>
                  <a:srgbClr val="ffffff"/>
                </a:solidFill>
                <a:latin typeface="方正兰亭粗黑_GBK"/>
              </a:rPr>
              <a:t>	</a:t>
            </a:r>
            <a:endParaRPr b="0" lang="en-US" sz="10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IMAGE GALLERY </a:t>
            </a:r>
            <a:r>
              <a:rPr b="0" lang="zh-CN" sz="4400" spc="-1" strike="noStrike">
                <a:solidFill>
                  <a:srgbClr val="0070c0"/>
                </a:solidFill>
                <a:latin typeface="方正兰亭粗黑_GBK"/>
              </a:rPr>
              <a:t>LAYOUT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3022560"/>
            <a:ext cx="2286000" cy="3650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方正兰亭粗黑_GBK"/>
              </a:rPr>
              <a:t>IMAGE NUMBER ONE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124080" y="3022560"/>
            <a:ext cx="2286000" cy="3650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方正兰亭粗黑_GBK"/>
              </a:rPr>
              <a:t>IMAGE NUMBER TWO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715000" y="3022560"/>
            <a:ext cx="2286000" cy="3650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方正兰亭粗黑_GBK"/>
              </a:rPr>
              <a:t>IMAGE NUMBER  THREE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33520" y="5359320"/>
            <a:ext cx="2286000" cy="3650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方正兰亭粗黑_GBK"/>
              </a:rPr>
              <a:t>IMAGE NUMBER FOUR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124080" y="5359320"/>
            <a:ext cx="2286000" cy="3650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方正兰亭粗黑_GBK"/>
              </a:rPr>
              <a:t>IMAGE NUMBER  FIVE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715000" y="5359320"/>
            <a:ext cx="2286000" cy="3650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方正兰亭粗黑_GBK"/>
              </a:rPr>
              <a:t>IMAGE NUMBER  SIX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98320"/>
            <a:ext cx="22860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124080" y="1498320"/>
            <a:ext cx="22860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715000" y="1498320"/>
            <a:ext cx="22860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715000" y="3835080"/>
            <a:ext cx="22860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124080" y="3835080"/>
            <a:ext cx="22860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33520" y="3835080"/>
            <a:ext cx="22860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SWOT </a:t>
            </a:r>
            <a:r>
              <a:rPr b="0" lang="zh-CN" sz="4400" spc="-1" strike="noStrike">
                <a:solidFill>
                  <a:srgbClr val="0070c0"/>
                </a:solidFill>
                <a:latin typeface="方正兰亭粗黑_GBK"/>
              </a:rPr>
              <a:t>ANALYSIS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2057040"/>
            <a:ext cx="304776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Original + Creative Designs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High quality materials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User friendly website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Online sales presence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Low start up cos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343040" y="2057040"/>
            <a:ext cx="30481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Ease of entry into the mark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New company in a market of established players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4343040"/>
            <a:ext cx="30477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The ability to expand into new markets via online sales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Able to extend the product line to include new offers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343040" y="4343040"/>
            <a:ext cx="30481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Ease of entry into the mark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Meeting high demand in a short period of time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160" y="1625760"/>
            <a:ext cx="2438280" cy="3650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</a:rPr>
              <a:t>STRENGTHS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343040" y="1625760"/>
            <a:ext cx="2514600" cy="3650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</a:rPr>
              <a:t>WEAKNESSES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33520" y="3962520"/>
            <a:ext cx="2590560" cy="3650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</a:rPr>
              <a:t>OPPORTUNITIES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343040" y="3936960"/>
            <a:ext cx="2514600" cy="3650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</a:rPr>
              <a:t>THREATS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62626"/>
                </a:solidFill>
                <a:latin typeface="方正兰亭粗黑_GBK"/>
              </a:rPr>
              <a:t>GROWTH IN </a:t>
            </a:r>
            <a:r>
              <a:rPr b="0" lang="zh-CN" sz="4000" spc="-1" strike="noStrike">
                <a:solidFill>
                  <a:srgbClr val="0070c0"/>
                </a:solidFill>
                <a:latin typeface="方正兰亭粗黑_GBK"/>
              </a:rPr>
              <a:t>THE INDUSTRY</a:t>
            </a:r>
            <a:endParaRPr b="0" lang="en-US" sz="4000" spc="-1" strike="noStrike">
              <a:solidFill>
                <a:srgbClr val="262626"/>
              </a:solidFill>
              <a:latin typeface="方正兰亭粗黑_GBK"/>
            </a:endParaRPr>
          </a:p>
        </p:txBody>
      </p:sp>
      <p:pic>
        <p:nvPicPr>
          <p:cNvPr id="150" name="Chart Placeholder 10" descr=""/>
          <p:cNvPicPr/>
          <p:nvPr/>
        </p:nvPicPr>
        <p:blipFill>
          <a:blip r:embed="rId1"/>
          <a:stretch/>
        </p:blipFill>
        <p:spPr>
          <a:xfrm>
            <a:off x="3276720" y="1193760"/>
            <a:ext cx="5638680" cy="46735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533520" y="1803240"/>
            <a:ext cx="2217600" cy="37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70c0"/>
                </a:solidFill>
                <a:latin typeface="方正兰亭粗黑_GBK"/>
              </a:rPr>
              <a:t>01. LOREM IPSUL DOLOR</a:t>
            </a:r>
            <a:endParaRPr b="0" lang="en-US" sz="10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533520" y="2108160"/>
            <a:ext cx="2743200" cy="81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Lorem ipsum dolor sit amet, consectetur lorem ipsum dolor  Lorem ipsum dolor sit 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33520" y="3225600"/>
            <a:ext cx="2217600" cy="37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70c0"/>
                </a:solidFill>
                <a:latin typeface="方正兰亭粗黑_GBK"/>
              </a:rPr>
              <a:t>02. LOREM IPSUL DOLOR</a:t>
            </a:r>
            <a:endParaRPr b="0" lang="en-US" sz="10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3530520"/>
            <a:ext cx="2743200" cy="81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Lorem ipsum dolor sit amet, consectetur lorem ipsum dolor  Lorem ipsum dolor si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33520" y="4648320"/>
            <a:ext cx="2217600" cy="37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70c0"/>
                </a:solidFill>
                <a:latin typeface="方正兰亭粗黑_GBK"/>
              </a:rPr>
              <a:t>03. LOREM IPSUL DOLOR</a:t>
            </a:r>
            <a:endParaRPr b="0" lang="en-US" sz="10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4952880"/>
            <a:ext cx="2743200" cy="81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Lorem ipsum dolor sit amet, consectetur lorem ipsum dolor  Lorem ipsum dolor si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6T17:46:00Z</dcterms:created>
  <dc:creator>哎呀小小草</dc:creator>
  <dc:description>https://800sucai.taobao.com</dc:description>
  <cp:keywords>https://800sucai.taobao.com</cp:keywords>
  <dc:language>en-US</dc:language>
  <cp:lastModifiedBy>Administrator</cp:lastModifiedBy>
  <dcterms:modified xsi:type="dcterms:W3CDTF">2016-09-09T03:22:09Z</dcterms:modified>
  <cp:revision>199</cp:revision>
  <dc:subject>哎呀小小草</dc:subject>
  <dc:title>哎呀小小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