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20C-0B75-4442-8F44-D36EC93C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A54-DCB7-41FC-892E-F066FE66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3C4-C642-4238-A052-CEE695CF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DA4-F79E-41A2-B17D-71AD56D4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A97-7E83-4D88-80E2-62761ADA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385-1ABE-4721-92F8-121FE2EA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6F2-EA6E-4DE9-A60B-19ADB7A5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420-9C5E-4C00-B4FC-C987FEA1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3BD-B0FA-4015-8B60-32D34BF2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F69-1DBC-4C9D-9B5A-34A7532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290-BBB4-45E0-BA16-0068CC59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EC4-AA47-46CE-8AB5-FE8A5E12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E07F-9F93-4D5A-B7B0-A7D6F4A92A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/>
              <a:ahLst/>
              <a:rect l="l" t="t" r="r" b="b"/>
              <a:pathLst>
                <a:path w="1931538" h="1931076">
                  <a:moveTo>
                    <a:pt x="1257264" y="1886046"/>
                  </a:moveTo>
                  <a:cubicBezTo>
                    <a:pt x="859077" y="2012079"/>
                    <a:pt x="424973" y="1867926"/>
                    <a:pt x="181336" y="1528763"/>
                  </a:cubicBezTo>
                  <a:cubicBezTo>
                    <a:pt x="-62385" y="1189482"/>
                    <a:pt x="-60245" y="731988"/>
                    <a:pt x="186640" y="395001"/>
                  </a:cubicBezTo>
                  <a:cubicBezTo>
                    <a:pt x="433438" y="58132"/>
                    <a:pt x="868871" y="-81955"/>
                    <a:pt x="1265861" y="47795"/>
                  </a:cubicBezTo>
                  <a:cubicBezTo>
                    <a:pt x="1662937" y="177573"/>
                    <a:pt x="1931538" y="547882"/>
                    <a:pt x="1931538" y="965538"/>
                  </a:cubicBezTo>
                  <a:lnTo>
                    <a:pt x="1846783" y="965538"/>
                  </a:lnTo>
                  <a:cubicBezTo>
                    <a:pt x="1846783" y="584542"/>
                    <a:pt x="1601752" y="246737"/>
                    <a:pt x="1239519" y="128353"/>
                  </a:cubicBezTo>
                  <a:cubicBezTo>
                    <a:pt x="877373" y="9997"/>
                    <a:pt x="480160" y="137784"/>
                    <a:pt x="255021" y="445076"/>
                  </a:cubicBezTo>
                  <a:cubicBezTo>
                    <a:pt x="29795" y="752485"/>
                    <a:pt x="27843" y="1169829"/>
                    <a:pt x="250183" y="1479331"/>
                  </a:cubicBezTo>
                  <a:cubicBezTo>
                    <a:pt x="472438" y="1788715"/>
                    <a:pt x="868439" y="1920211"/>
                    <a:pt x="1231677" y="1805245"/>
                  </a:cubicBezTo>
                  <a:lnTo>
                    <a:pt x="1257264" y="188604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7520"/>
            <a:ext cx="89373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4:10:4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2Z</dcterms:modified>
  <cp:revision>20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