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2380-EFF9-4BEB-8B2E-D83227B7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5978-0B6F-4EB2-BCBB-973482BD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C4A-2D60-47FD-91D6-4E4C6BFF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314C-AF16-4285-AB88-8636F2CC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9818-1BC9-41DD-AD40-196A0253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6FC-B8CE-49C1-BD3D-C1A10537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3CE6-CD64-49D8-8D49-6D2DD8BE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1182-E2F4-478C-83B1-826688F9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24F8-DB38-45E4-B5DE-81E2CAB3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7209-D8DB-404A-BC77-62D765CA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578-D151-43F9-9519-2A4C2D64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B21C-064B-47B8-ABF6-0D3A60A8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7F79-2885-48FC-9E23-76478215F50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DA70-3E9C-49E1-A9B0-8CC0203A73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58"/>
          <p:cNvSpPr/>
          <p:nvPr/>
        </p:nvSpPr>
        <p:spPr>
          <a:xfrm>
            <a:off x="3524400" y="6167520"/>
            <a:ext cx="1284120" cy="67788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1"/>
          <p:cNvSpPr/>
          <p:nvPr/>
        </p:nvSpPr>
        <p:spPr>
          <a:xfrm flipV="1">
            <a:off x="3571920" y="1851120"/>
            <a:ext cx="8634240" cy="434664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六边形 54"/>
          <p:cNvSpPr/>
          <p:nvPr/>
        </p:nvSpPr>
        <p:spPr>
          <a:xfrm rot="5400000">
            <a:off x="1301400" y="1694880"/>
            <a:ext cx="4510080" cy="388800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56"/>
          <p:cNvSpPr/>
          <p:nvPr/>
        </p:nvSpPr>
        <p:spPr>
          <a:xfrm>
            <a:off x="5753160" y="0"/>
            <a:ext cx="3240" cy="50641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57"/>
          <p:cNvSpPr/>
          <p:nvPr/>
        </p:nvSpPr>
        <p:spPr>
          <a:xfrm>
            <a:off x="1378080" y="-3240"/>
            <a:ext cx="2193840" cy="10987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59"/>
          <p:cNvSpPr/>
          <p:nvPr/>
        </p:nvSpPr>
        <p:spPr>
          <a:xfrm>
            <a:off x="1373040" y="4662360"/>
            <a:ext cx="1800" cy="219564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60"/>
          <p:cNvSpPr/>
          <p:nvPr/>
        </p:nvSpPr>
        <p:spPr>
          <a:xfrm flipV="1">
            <a:off x="7200" y="2000880"/>
            <a:ext cx="1739880" cy="8431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62"/>
          <p:cNvSpPr/>
          <p:nvPr/>
        </p:nvSpPr>
        <p:spPr>
          <a:xfrm rot="19970400">
            <a:off x="5455800" y="2287800"/>
            <a:ext cx="703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姚体"/>
                <a:ea typeface="方正姚体"/>
              </a:rPr>
              <a:t>ANNUAL   REP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3"/>
          <p:cNvSpPr/>
          <p:nvPr/>
        </p:nvSpPr>
        <p:spPr>
          <a:xfrm>
            <a:off x="2133360" y="2424240"/>
            <a:ext cx="29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84d7a"/>
                </a:solidFill>
                <a:latin typeface="Impact"/>
                <a:ea typeface="微软雅黑"/>
              </a:rPr>
              <a:t>20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4"/>
          <p:cNvSpPr/>
          <p:nvPr/>
        </p:nvSpPr>
        <p:spPr>
          <a:xfrm>
            <a:off x="1821240" y="4354560"/>
            <a:ext cx="35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owerPoint 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六边形 55"/>
          <p:cNvSpPr/>
          <p:nvPr/>
        </p:nvSpPr>
        <p:spPr>
          <a:xfrm rot="5400000">
            <a:off x="1052640" y="1479960"/>
            <a:ext cx="5010120" cy="4319640"/>
          </a:xfrm>
          <a:prstGeom prst="hexagon">
            <a:avLst>
              <a:gd name="adj" fmla="val 24996"/>
              <a:gd name="vf" fmla="val 115470"/>
            </a:avLst>
          </a:pr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4"/>
          <p:cNvSpPr/>
          <p:nvPr/>
        </p:nvSpPr>
        <p:spPr>
          <a:xfrm>
            <a:off x="247032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5"/>
          <p:cNvSpPr/>
          <p:nvPr/>
        </p:nvSpPr>
        <p:spPr>
          <a:xfrm>
            <a:off x="421020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6"/>
          <p:cNvSpPr/>
          <p:nvPr/>
        </p:nvSpPr>
        <p:spPr>
          <a:xfrm>
            <a:off x="587700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7"/>
          <p:cNvSpPr/>
          <p:nvPr/>
        </p:nvSpPr>
        <p:spPr>
          <a:xfrm>
            <a:off x="761688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9"/>
          <p:cNvSpPr/>
          <p:nvPr/>
        </p:nvSpPr>
        <p:spPr>
          <a:xfrm>
            <a:off x="419364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0"/>
          <p:cNvSpPr/>
          <p:nvPr/>
        </p:nvSpPr>
        <p:spPr>
          <a:xfrm>
            <a:off x="783360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1"/>
          <p:cNvSpPr/>
          <p:nvPr/>
        </p:nvSpPr>
        <p:spPr>
          <a:xfrm>
            <a:off x="5888880" y="31273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2"/>
          <p:cNvSpPr/>
          <p:nvPr/>
        </p:nvSpPr>
        <p:spPr>
          <a:xfrm>
            <a:off x="253944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16"/>
          <p:cNvGrpSpPr/>
          <p:nvPr/>
        </p:nvGrpSpPr>
        <p:grpSpPr>
          <a:xfrm>
            <a:off x="3303720" y="2401920"/>
            <a:ext cx="409320" cy="404640"/>
            <a:chOff x="3303720" y="2401920"/>
            <a:chExt cx="409320" cy="404640"/>
          </a:xfrm>
        </p:grpSpPr>
        <p:sp>
          <p:nvSpPr>
            <p:cNvPr id="213" name="Freeform 136"/>
            <p:cNvSpPr/>
            <p:nvPr/>
          </p:nvSpPr>
          <p:spPr>
            <a:xfrm>
              <a:off x="3303720" y="2628720"/>
              <a:ext cx="409320" cy="1778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7"/>
            <p:cNvSpPr/>
            <p:nvPr/>
          </p:nvSpPr>
          <p:spPr>
            <a:xfrm>
              <a:off x="3303720" y="2401920"/>
              <a:ext cx="409320" cy="23508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9"/>
          <p:cNvGrpSpPr/>
          <p:nvPr/>
        </p:nvGrpSpPr>
        <p:grpSpPr>
          <a:xfrm>
            <a:off x="8499600" y="2448000"/>
            <a:ext cx="422280" cy="403200"/>
            <a:chOff x="8499600" y="2448000"/>
            <a:chExt cx="422280" cy="403200"/>
          </a:xfrm>
        </p:grpSpPr>
        <p:sp>
          <p:nvSpPr>
            <p:cNvPr id="216" name="Freeform 25"/>
            <p:cNvSpPr/>
            <p:nvPr/>
          </p:nvSpPr>
          <p:spPr>
            <a:xfrm>
              <a:off x="8654400" y="2737800"/>
              <a:ext cx="113400" cy="11340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21"/>
            <p:cNvSpPr/>
            <p:nvPr/>
          </p:nvSpPr>
          <p:spPr>
            <a:xfrm>
              <a:off x="8499600" y="2448000"/>
              <a:ext cx="422280" cy="3070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22"/>
          <p:cNvGrpSpPr/>
          <p:nvPr/>
        </p:nvGrpSpPr>
        <p:grpSpPr>
          <a:xfrm>
            <a:off x="6656400" y="2444760"/>
            <a:ext cx="593640" cy="450720"/>
            <a:chOff x="6656400" y="2444760"/>
            <a:chExt cx="593640" cy="450720"/>
          </a:xfrm>
        </p:grpSpPr>
        <p:sp>
          <p:nvSpPr>
            <p:cNvPr id="219" name="Freeform 20"/>
            <p:cNvSpPr/>
            <p:nvPr/>
          </p:nvSpPr>
          <p:spPr>
            <a:xfrm>
              <a:off x="6656400" y="2504880"/>
              <a:ext cx="393480" cy="3906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7017120" y="2444760"/>
              <a:ext cx="232920" cy="23256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25"/>
          <p:cNvGrpSpPr/>
          <p:nvPr/>
        </p:nvGrpSpPr>
        <p:grpSpPr>
          <a:xfrm>
            <a:off x="5013360" y="2401920"/>
            <a:ext cx="366840" cy="468360"/>
            <a:chOff x="5013360" y="2401920"/>
            <a:chExt cx="366840" cy="468360"/>
          </a:xfrm>
        </p:grpSpPr>
        <p:sp>
          <p:nvSpPr>
            <p:cNvPr id="222" name="Freeform 32"/>
            <p:cNvSpPr/>
            <p:nvPr/>
          </p:nvSpPr>
          <p:spPr>
            <a:xfrm>
              <a:off x="5149800" y="2401920"/>
              <a:ext cx="92880" cy="4683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3"/>
            <p:cNvSpPr/>
            <p:nvPr/>
          </p:nvSpPr>
          <p:spPr>
            <a:xfrm>
              <a:off x="5013360" y="2687760"/>
              <a:ext cx="91800" cy="18252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4"/>
            <p:cNvSpPr/>
            <p:nvPr/>
          </p:nvSpPr>
          <p:spPr>
            <a:xfrm>
              <a:off x="5287320" y="2552400"/>
              <a:ext cx="92880" cy="31788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文本框 29"/>
          <p:cNvSpPr/>
          <p:nvPr/>
        </p:nvSpPr>
        <p:spPr>
          <a:xfrm>
            <a:off x="1688040" y="4765680"/>
            <a:ext cx="16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c0c0c"/>
                </a:solidFill>
                <a:latin typeface="Impact"/>
              </a:rPr>
              <a:t>85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0"/>
          <p:cNvSpPr/>
          <p:nvPr/>
        </p:nvSpPr>
        <p:spPr>
          <a:xfrm>
            <a:off x="3259440" y="4602240"/>
            <a:ext cx="781128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you to the 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4"/>
          <p:cNvSpPr/>
          <p:nvPr/>
        </p:nvSpPr>
        <p:spPr>
          <a:xfrm>
            <a:off x="1641600" y="1974960"/>
            <a:ext cx="5452920" cy="353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7135920" y="1974960"/>
            <a:ext cx="1749240" cy="174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6"/>
          <p:cNvSpPr/>
          <p:nvPr/>
        </p:nvSpPr>
        <p:spPr>
          <a:xfrm>
            <a:off x="8926560" y="1974960"/>
            <a:ext cx="1749240" cy="174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7"/>
          <p:cNvSpPr/>
          <p:nvPr/>
        </p:nvSpPr>
        <p:spPr>
          <a:xfrm>
            <a:off x="7135920" y="3763800"/>
            <a:ext cx="1749240" cy="1749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8"/>
          <p:cNvSpPr/>
          <p:nvPr/>
        </p:nvSpPr>
        <p:spPr>
          <a:xfrm>
            <a:off x="8926560" y="3763800"/>
            <a:ext cx="1749240" cy="1749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9"/>
          <p:cNvSpPr/>
          <p:nvPr/>
        </p:nvSpPr>
        <p:spPr>
          <a:xfrm>
            <a:off x="7098480" y="292896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6"/>
          <p:cNvSpPr/>
          <p:nvPr/>
        </p:nvSpPr>
        <p:spPr>
          <a:xfrm>
            <a:off x="7095600" y="471960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0"/>
          <p:cNvSpPr/>
          <p:nvPr/>
        </p:nvSpPr>
        <p:spPr>
          <a:xfrm>
            <a:off x="8873280" y="29401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8881560" y="471636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6"/>
          <p:cNvGrpSpPr/>
          <p:nvPr/>
        </p:nvGrpSpPr>
        <p:grpSpPr>
          <a:xfrm>
            <a:off x="7792920" y="4048200"/>
            <a:ext cx="438120" cy="434880"/>
            <a:chOff x="7792920" y="4048200"/>
            <a:chExt cx="438120" cy="434880"/>
          </a:xfrm>
        </p:grpSpPr>
        <p:sp>
          <p:nvSpPr>
            <p:cNvPr id="239" name="Freeform 136"/>
            <p:cNvSpPr/>
            <p:nvPr/>
          </p:nvSpPr>
          <p:spPr>
            <a:xfrm>
              <a:off x="7792920" y="4291920"/>
              <a:ext cx="438120" cy="1911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37"/>
            <p:cNvSpPr/>
            <p:nvPr/>
          </p:nvSpPr>
          <p:spPr>
            <a:xfrm>
              <a:off x="7792920" y="4048200"/>
              <a:ext cx="438120" cy="2527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29"/>
          <p:cNvGrpSpPr/>
          <p:nvPr/>
        </p:nvGrpSpPr>
        <p:grpSpPr>
          <a:xfrm>
            <a:off x="9556920" y="2289240"/>
            <a:ext cx="452160" cy="431640"/>
            <a:chOff x="9556920" y="2289240"/>
            <a:chExt cx="452160" cy="431640"/>
          </a:xfrm>
        </p:grpSpPr>
        <p:sp>
          <p:nvSpPr>
            <p:cNvPr id="242" name="Freeform 25"/>
            <p:cNvSpPr/>
            <p:nvPr/>
          </p:nvSpPr>
          <p:spPr>
            <a:xfrm>
              <a:off x="9722520" y="2599560"/>
              <a:ext cx="121320" cy="12132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31"/>
            <p:cNvSpPr/>
            <p:nvPr/>
          </p:nvSpPr>
          <p:spPr>
            <a:xfrm>
              <a:off x="9556920" y="2289240"/>
              <a:ext cx="452160" cy="3286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32"/>
          <p:cNvGrpSpPr/>
          <p:nvPr/>
        </p:nvGrpSpPr>
        <p:grpSpPr>
          <a:xfrm>
            <a:off x="7750080" y="2214720"/>
            <a:ext cx="635040" cy="484200"/>
            <a:chOff x="7750080" y="2214720"/>
            <a:chExt cx="635040" cy="484200"/>
          </a:xfrm>
        </p:grpSpPr>
        <p:sp>
          <p:nvSpPr>
            <p:cNvPr id="245" name="Freeform 20"/>
            <p:cNvSpPr/>
            <p:nvPr/>
          </p:nvSpPr>
          <p:spPr>
            <a:xfrm>
              <a:off x="7750080" y="2279520"/>
              <a:ext cx="421200" cy="41940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>
              <a:off x="8136000" y="2214720"/>
              <a:ext cx="249120" cy="24984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35"/>
          <p:cNvGrpSpPr/>
          <p:nvPr/>
        </p:nvGrpSpPr>
        <p:grpSpPr>
          <a:xfrm>
            <a:off x="9586800" y="3983040"/>
            <a:ext cx="392400" cy="501480"/>
            <a:chOff x="9586800" y="3983040"/>
            <a:chExt cx="392400" cy="501480"/>
          </a:xfrm>
        </p:grpSpPr>
        <p:sp>
          <p:nvSpPr>
            <p:cNvPr id="248" name="Freeform 32"/>
            <p:cNvSpPr/>
            <p:nvPr/>
          </p:nvSpPr>
          <p:spPr>
            <a:xfrm>
              <a:off x="9732600" y="3983040"/>
              <a:ext cx="99360" cy="50148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3"/>
            <p:cNvSpPr/>
            <p:nvPr/>
          </p:nvSpPr>
          <p:spPr>
            <a:xfrm>
              <a:off x="9586800" y="4289040"/>
              <a:ext cx="98280" cy="19548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4"/>
            <p:cNvSpPr/>
            <p:nvPr/>
          </p:nvSpPr>
          <p:spPr>
            <a:xfrm>
              <a:off x="9879840" y="4144320"/>
              <a:ext cx="99360" cy="3402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4"/>
          <p:cNvSpPr/>
          <p:nvPr/>
        </p:nvSpPr>
        <p:spPr>
          <a:xfrm>
            <a:off x="3924360" y="2408400"/>
            <a:ext cx="1898640" cy="2554200"/>
          </a:xfrm>
          <a:custGeom>
            <a:avLst/>
            <a:gdLst/>
            <a:ahLst/>
            <a:rect l="l" t="t" r="r" b="b"/>
            <a:pathLst>
              <a:path w="2309323" h="3107284">
                <a:moveTo>
                  <a:pt x="1333781" y="0"/>
                </a:moveTo>
                <a:lnTo>
                  <a:pt x="1338028" y="108367"/>
                </a:lnTo>
                <a:cubicBezTo>
                  <a:pt x="1351666" y="281403"/>
                  <a:pt x="1385571" y="446719"/>
                  <a:pt x="1436636" y="600312"/>
                </a:cubicBezTo>
                <a:lnTo>
                  <a:pt x="1495575" y="746602"/>
                </a:lnTo>
                <a:lnTo>
                  <a:pt x="1899119" y="686068"/>
                </a:lnTo>
                <a:lnTo>
                  <a:pt x="1634102" y="1014607"/>
                </a:lnTo>
                <a:lnTo>
                  <a:pt x="1638203" y="1021918"/>
                </a:lnTo>
                <a:cubicBezTo>
                  <a:pt x="1802759" y="1274205"/>
                  <a:pt x="2023527" y="1463586"/>
                  <a:pt x="2275653" y="1558036"/>
                </a:cubicBezTo>
                <a:lnTo>
                  <a:pt x="2309323" y="1568473"/>
                </a:lnTo>
                <a:lnTo>
                  <a:pt x="2265694" y="1582928"/>
                </a:lnTo>
                <a:cubicBezTo>
                  <a:pt x="1784665" y="1775710"/>
                  <a:pt x="1425266" y="2324207"/>
                  <a:pt x="1372821" y="2989629"/>
                </a:cubicBezTo>
                <a:lnTo>
                  <a:pt x="1368210" y="3107284"/>
                </a:lnTo>
                <a:lnTo>
                  <a:pt x="1164986" y="3024034"/>
                </a:lnTo>
                <a:cubicBezTo>
                  <a:pt x="462117" y="2703843"/>
                  <a:pt x="0" y="2161606"/>
                  <a:pt x="0" y="1546590"/>
                </a:cubicBezTo>
                <a:cubicBezTo>
                  <a:pt x="0" y="931574"/>
                  <a:pt x="462117" y="389337"/>
                  <a:pt x="1164986" y="69147"/>
                </a:cubicBezTo>
                <a:lnTo>
                  <a:pt x="1333781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5"/>
          <p:cNvSpPr/>
          <p:nvPr/>
        </p:nvSpPr>
        <p:spPr>
          <a:xfrm>
            <a:off x="5141880" y="2201760"/>
            <a:ext cx="1908360" cy="1731960"/>
          </a:xfrm>
          <a:custGeom>
            <a:avLst/>
            <a:gdLst/>
            <a:ahLst/>
            <a:rect l="l" t="t" r="r" b="b"/>
            <a:pathLst>
              <a:path w="2320998" h="2107137">
                <a:moveTo>
                  <a:pt x="1160500" y="0"/>
                </a:moveTo>
                <a:cubicBezTo>
                  <a:pt x="1525332" y="0"/>
                  <a:pt x="1872895" y="50421"/>
                  <a:pt x="2189021" y="141603"/>
                </a:cubicBezTo>
                <a:lnTo>
                  <a:pt x="2318397" y="184103"/>
                </a:lnTo>
                <a:lnTo>
                  <a:pt x="2320998" y="250486"/>
                </a:lnTo>
                <a:cubicBezTo>
                  <a:pt x="2320998" y="973100"/>
                  <a:pt x="1923200" y="1575995"/>
                  <a:pt x="1394380" y="1715429"/>
                </a:cubicBezTo>
                <a:lnTo>
                  <a:pt x="1306388" y="1732732"/>
                </a:lnTo>
                <a:lnTo>
                  <a:pt x="1160499" y="2107137"/>
                </a:lnTo>
                <a:lnTo>
                  <a:pt x="1014610" y="1732732"/>
                </a:lnTo>
                <a:lnTo>
                  <a:pt x="926618" y="1715429"/>
                </a:lnTo>
                <a:cubicBezTo>
                  <a:pt x="699981" y="1655672"/>
                  <a:pt x="497410" y="1510789"/>
                  <a:pt x="339903" y="1307839"/>
                </a:cubicBezTo>
                <a:lnTo>
                  <a:pt x="270102" y="1208880"/>
                </a:lnTo>
                <a:lnTo>
                  <a:pt x="542789" y="870833"/>
                </a:lnTo>
                <a:lnTo>
                  <a:pt x="128737" y="932943"/>
                </a:lnTo>
                <a:lnTo>
                  <a:pt x="91198" y="832533"/>
                </a:lnTo>
                <a:cubicBezTo>
                  <a:pt x="32473" y="653635"/>
                  <a:pt x="0" y="456947"/>
                  <a:pt x="0" y="250486"/>
                </a:cubicBezTo>
                <a:lnTo>
                  <a:pt x="2602" y="184104"/>
                </a:lnTo>
                <a:lnTo>
                  <a:pt x="131980" y="141603"/>
                </a:lnTo>
                <a:cubicBezTo>
                  <a:pt x="448106" y="50421"/>
                  <a:pt x="795668" y="0"/>
                  <a:pt x="1160500" y="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6"/>
          <p:cNvSpPr/>
          <p:nvPr/>
        </p:nvSpPr>
        <p:spPr>
          <a:xfrm>
            <a:off x="5157720" y="3753000"/>
            <a:ext cx="1955880" cy="1411200"/>
          </a:xfrm>
          <a:custGeom>
            <a:avLst/>
            <a:gdLst/>
            <a:ahLst/>
            <a:rect l="l" t="t" r="r" b="b"/>
            <a:pathLst>
              <a:path w="2379354" h="1717440">
                <a:moveTo>
                  <a:pt x="1284624" y="0"/>
                </a:moveTo>
                <a:lnTo>
                  <a:pt x="1394380" y="21584"/>
                </a:lnTo>
                <a:cubicBezTo>
                  <a:pt x="1625739" y="82586"/>
                  <a:pt x="1832019" y="232298"/>
                  <a:pt x="1990881" y="441934"/>
                </a:cubicBezTo>
                <a:lnTo>
                  <a:pt x="2000524" y="455770"/>
                </a:lnTo>
                <a:lnTo>
                  <a:pt x="2379354" y="398943"/>
                </a:lnTo>
                <a:lnTo>
                  <a:pt x="2141326" y="694024"/>
                </a:lnTo>
                <a:lnTo>
                  <a:pt x="2167246" y="742219"/>
                </a:lnTo>
                <a:cubicBezTo>
                  <a:pt x="2265058" y="961402"/>
                  <a:pt x="2320998" y="1215546"/>
                  <a:pt x="2320998" y="1486526"/>
                </a:cubicBezTo>
                <a:lnTo>
                  <a:pt x="2319429" y="1526564"/>
                </a:lnTo>
                <a:lnTo>
                  <a:pt x="2169436" y="1575838"/>
                </a:lnTo>
                <a:cubicBezTo>
                  <a:pt x="1853310" y="1667019"/>
                  <a:pt x="1505747" y="1717440"/>
                  <a:pt x="1140915" y="1717440"/>
                </a:cubicBezTo>
                <a:cubicBezTo>
                  <a:pt x="776083" y="1717440"/>
                  <a:pt x="428521" y="1667019"/>
                  <a:pt x="112395" y="1575838"/>
                </a:cubicBezTo>
                <a:lnTo>
                  <a:pt x="2080" y="1539599"/>
                </a:lnTo>
                <a:lnTo>
                  <a:pt x="0" y="1486526"/>
                </a:lnTo>
                <a:cubicBezTo>
                  <a:pt x="0" y="763913"/>
                  <a:pt x="397798" y="161017"/>
                  <a:pt x="926618" y="21584"/>
                </a:cubicBezTo>
                <a:lnTo>
                  <a:pt x="999992" y="7155"/>
                </a:lnTo>
                <a:lnTo>
                  <a:pt x="1140914" y="368813"/>
                </a:lnTo>
                <a:lnTo>
                  <a:pt x="1284624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7"/>
          <p:cNvSpPr/>
          <p:nvPr/>
        </p:nvSpPr>
        <p:spPr>
          <a:xfrm>
            <a:off x="6372360" y="2408400"/>
            <a:ext cx="1895400" cy="3492360"/>
          </a:xfrm>
          <a:custGeom>
            <a:avLst/>
            <a:gdLst/>
            <a:ahLst/>
            <a:rect l="l" t="t" r="r" b="b"/>
            <a:pathLst>
              <a:path w="2305159" h="4248639">
                <a:moveTo>
                  <a:pt x="971378" y="0"/>
                </a:moveTo>
                <a:lnTo>
                  <a:pt x="1140174" y="69147"/>
                </a:lnTo>
                <a:cubicBezTo>
                  <a:pt x="1843042" y="389337"/>
                  <a:pt x="2305159" y="931574"/>
                  <a:pt x="2305159" y="1546590"/>
                </a:cubicBezTo>
                <a:cubicBezTo>
                  <a:pt x="2305159" y="1892537"/>
                  <a:pt x="2158943" y="2215455"/>
                  <a:pt x="1905908" y="2488780"/>
                </a:cubicBezTo>
                <a:lnTo>
                  <a:pt x="1875299" y="2519731"/>
                </a:lnTo>
                <a:lnTo>
                  <a:pt x="2055324" y="4248639"/>
                </a:lnTo>
                <a:lnTo>
                  <a:pt x="1310805" y="2935833"/>
                </a:lnTo>
                <a:lnTo>
                  <a:pt x="1140174" y="3024034"/>
                </a:lnTo>
                <a:lnTo>
                  <a:pt x="944880" y="3104035"/>
                </a:lnTo>
                <a:lnTo>
                  <a:pt x="940397" y="2989629"/>
                </a:lnTo>
                <a:cubicBezTo>
                  <a:pt x="920730" y="2740096"/>
                  <a:pt x="857898" y="2507005"/>
                  <a:pt x="761673" y="2302950"/>
                </a:cubicBezTo>
                <a:lnTo>
                  <a:pt x="760213" y="2300304"/>
                </a:lnTo>
                <a:lnTo>
                  <a:pt x="1025901" y="1970933"/>
                </a:lnTo>
                <a:lnTo>
                  <a:pt x="599788" y="2034852"/>
                </a:lnTo>
                <a:lnTo>
                  <a:pt x="527596" y="1937283"/>
                </a:lnTo>
                <a:cubicBezTo>
                  <a:pt x="391191" y="1777537"/>
                  <a:pt x="227910" y="1655221"/>
                  <a:pt x="47523" y="1582928"/>
                </a:cubicBezTo>
                <a:lnTo>
                  <a:pt x="0" y="1567183"/>
                </a:lnTo>
                <a:lnTo>
                  <a:pt x="29506" y="1558036"/>
                </a:lnTo>
                <a:cubicBezTo>
                  <a:pt x="533759" y="1369135"/>
                  <a:pt x="912579" y="800512"/>
                  <a:pt x="967131" y="108367"/>
                </a:cubicBezTo>
                <a:lnTo>
                  <a:pt x="971378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8"/>
          <p:cNvGrpSpPr/>
          <p:nvPr/>
        </p:nvGrpSpPr>
        <p:grpSpPr>
          <a:xfrm>
            <a:off x="4386240" y="3529080"/>
            <a:ext cx="533520" cy="404640"/>
            <a:chOff x="4386240" y="3529080"/>
            <a:chExt cx="533520" cy="404640"/>
          </a:xfrm>
        </p:grpSpPr>
        <p:sp>
          <p:nvSpPr>
            <p:cNvPr id="258" name="Freeform 20"/>
            <p:cNvSpPr/>
            <p:nvPr/>
          </p:nvSpPr>
          <p:spPr>
            <a:xfrm>
              <a:off x="4386240" y="3583080"/>
              <a:ext cx="353880" cy="3506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"/>
            <p:cNvSpPr/>
            <p:nvPr/>
          </p:nvSpPr>
          <p:spPr>
            <a:xfrm>
              <a:off x="4710600" y="3529080"/>
              <a:ext cx="209160" cy="2088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11"/>
          <p:cNvGrpSpPr/>
          <p:nvPr/>
        </p:nvGrpSpPr>
        <p:grpSpPr>
          <a:xfrm>
            <a:off x="5921280" y="2647800"/>
            <a:ext cx="428760" cy="411480"/>
            <a:chOff x="5921280" y="2647800"/>
            <a:chExt cx="428760" cy="411480"/>
          </a:xfrm>
        </p:grpSpPr>
        <p:sp>
          <p:nvSpPr>
            <p:cNvPr id="261" name="Freeform 25"/>
            <p:cNvSpPr/>
            <p:nvPr/>
          </p:nvSpPr>
          <p:spPr>
            <a:xfrm>
              <a:off x="6078240" y="2943720"/>
              <a:ext cx="115200" cy="1155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任意多边形 16"/>
            <p:cNvSpPr/>
            <p:nvPr/>
          </p:nvSpPr>
          <p:spPr>
            <a:xfrm>
              <a:off x="5921280" y="2647800"/>
              <a:ext cx="428760" cy="3132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17"/>
          <p:cNvGrpSpPr/>
          <p:nvPr/>
        </p:nvGrpSpPr>
        <p:grpSpPr>
          <a:xfrm>
            <a:off x="5864400" y="4352760"/>
            <a:ext cx="377640" cy="482760"/>
            <a:chOff x="5864400" y="4352760"/>
            <a:chExt cx="377640" cy="482760"/>
          </a:xfrm>
        </p:grpSpPr>
        <p:sp>
          <p:nvSpPr>
            <p:cNvPr id="264" name="Freeform 32"/>
            <p:cNvSpPr/>
            <p:nvPr/>
          </p:nvSpPr>
          <p:spPr>
            <a:xfrm>
              <a:off x="6004800" y="4352760"/>
              <a:ext cx="95760" cy="48276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3"/>
            <p:cNvSpPr/>
            <p:nvPr/>
          </p:nvSpPr>
          <p:spPr>
            <a:xfrm>
              <a:off x="5864400" y="4647240"/>
              <a:ext cx="94680" cy="18828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4"/>
            <p:cNvSpPr/>
            <p:nvPr/>
          </p:nvSpPr>
          <p:spPr>
            <a:xfrm>
              <a:off x="6146280" y="4507920"/>
              <a:ext cx="95760" cy="32760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1"/>
          <p:cNvGrpSpPr/>
          <p:nvPr/>
        </p:nvGrpSpPr>
        <p:grpSpPr>
          <a:xfrm>
            <a:off x="7450200" y="3349800"/>
            <a:ext cx="417600" cy="466560"/>
            <a:chOff x="7450200" y="3349800"/>
            <a:chExt cx="417600" cy="466560"/>
          </a:xfrm>
        </p:grpSpPr>
        <p:sp>
          <p:nvSpPr>
            <p:cNvPr id="268" name="Freeform 108"/>
            <p:cNvSpPr/>
            <p:nvPr/>
          </p:nvSpPr>
          <p:spPr>
            <a:xfrm>
              <a:off x="7521840" y="3522960"/>
              <a:ext cx="59040" cy="597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9"/>
            <p:cNvSpPr/>
            <p:nvPr/>
          </p:nvSpPr>
          <p:spPr>
            <a:xfrm>
              <a:off x="7654680" y="3484440"/>
              <a:ext cx="50400" cy="500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10"/>
            <p:cNvSpPr/>
            <p:nvPr/>
          </p:nvSpPr>
          <p:spPr>
            <a:xfrm>
              <a:off x="7535520" y="3537720"/>
              <a:ext cx="31680" cy="316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11"/>
            <p:cNvSpPr/>
            <p:nvPr/>
          </p:nvSpPr>
          <p:spPr>
            <a:xfrm>
              <a:off x="7629480" y="3459240"/>
              <a:ext cx="100800" cy="100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12"/>
            <p:cNvSpPr/>
            <p:nvPr/>
          </p:nvSpPr>
          <p:spPr>
            <a:xfrm>
              <a:off x="7450200" y="3349800"/>
              <a:ext cx="417600" cy="4665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文本框 27"/>
          <p:cNvSpPr/>
          <p:nvPr/>
        </p:nvSpPr>
        <p:spPr>
          <a:xfrm>
            <a:off x="1125000" y="1965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8"/>
          <p:cNvSpPr/>
          <p:nvPr/>
        </p:nvSpPr>
        <p:spPr>
          <a:xfrm>
            <a:off x="1125000" y="47293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9"/>
          <p:cNvSpPr/>
          <p:nvPr/>
        </p:nvSpPr>
        <p:spPr>
          <a:xfrm>
            <a:off x="8338680" y="1965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0"/>
          <p:cNvSpPr/>
          <p:nvPr/>
        </p:nvSpPr>
        <p:spPr>
          <a:xfrm>
            <a:off x="8338680" y="47293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8"/>
          <p:cNvSpPr/>
          <p:nvPr/>
        </p:nvSpPr>
        <p:spPr>
          <a:xfrm>
            <a:off x="360504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25"/>
          <p:cNvGrpSpPr/>
          <p:nvPr/>
        </p:nvGrpSpPr>
        <p:grpSpPr>
          <a:xfrm>
            <a:off x="1262160" y="1679400"/>
            <a:ext cx="4960800" cy="4205520"/>
            <a:chOff x="1262160" y="1679400"/>
            <a:chExt cx="4960800" cy="4205520"/>
          </a:xfrm>
        </p:grpSpPr>
        <p:pic>
          <p:nvPicPr>
            <p:cNvPr id="287" name="图片 26" descr=""/>
            <p:cNvPicPr/>
            <p:nvPr/>
          </p:nvPicPr>
          <p:blipFill>
            <a:blip r:embed="rId1"/>
            <a:stretch/>
          </p:blipFill>
          <p:spPr>
            <a:xfrm>
              <a:off x="1262160" y="1679400"/>
              <a:ext cx="4946400" cy="420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图片 27" descr=""/>
            <p:cNvPicPr/>
            <p:nvPr/>
          </p:nvPicPr>
          <p:blipFill>
            <a:blip r:embed="rId2"/>
            <a:stretch/>
          </p:blipFill>
          <p:spPr>
            <a:xfrm>
              <a:off x="1276560" y="1679400"/>
              <a:ext cx="4946400" cy="42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矩形 28"/>
            <p:cNvSpPr/>
            <p:nvPr/>
          </p:nvSpPr>
          <p:spPr>
            <a:xfrm>
              <a:off x="1758240" y="2167200"/>
              <a:ext cx="3974400" cy="26049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椭圆 29"/>
          <p:cNvSpPr/>
          <p:nvPr/>
        </p:nvSpPr>
        <p:spPr>
          <a:xfrm>
            <a:off x="4361040" y="1752480"/>
            <a:ext cx="2539800" cy="3449880"/>
          </a:xfrm>
          <a:prstGeom prst="ellipse">
            <a:avLst/>
          </a:prstGeom>
          <a:noFill/>
          <a:ln w="223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31"/>
          <p:cNvSpPr/>
          <p:nvPr/>
        </p:nvSpPr>
        <p:spPr>
          <a:xfrm>
            <a:off x="6858000" y="2171880"/>
            <a:ext cx="4016520" cy="6858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2"/>
          <p:cNvSpPr/>
          <p:nvPr/>
        </p:nvSpPr>
        <p:spPr>
          <a:xfrm>
            <a:off x="6289560" y="2120760"/>
            <a:ext cx="800280" cy="79848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43"/>
          <p:cNvGrpSpPr/>
          <p:nvPr/>
        </p:nvGrpSpPr>
        <p:grpSpPr>
          <a:xfrm>
            <a:off x="6540480" y="2319480"/>
            <a:ext cx="331920" cy="371160"/>
            <a:chOff x="6540480" y="2319480"/>
            <a:chExt cx="331920" cy="371160"/>
          </a:xfrm>
        </p:grpSpPr>
        <p:sp>
          <p:nvSpPr>
            <p:cNvPr id="294" name="Freeform 108"/>
            <p:cNvSpPr/>
            <p:nvPr/>
          </p:nvSpPr>
          <p:spPr>
            <a:xfrm>
              <a:off x="6597360" y="2457360"/>
              <a:ext cx="46800" cy="47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9"/>
            <p:cNvSpPr/>
            <p:nvPr/>
          </p:nvSpPr>
          <p:spPr>
            <a:xfrm>
              <a:off x="6702840" y="2426400"/>
              <a:ext cx="39960" cy="39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0"/>
            <p:cNvSpPr/>
            <p:nvPr/>
          </p:nvSpPr>
          <p:spPr>
            <a:xfrm>
              <a:off x="6608160" y="2468880"/>
              <a:ext cx="25200" cy="252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11"/>
            <p:cNvSpPr/>
            <p:nvPr/>
          </p:nvSpPr>
          <p:spPr>
            <a:xfrm>
              <a:off x="6683040" y="2406240"/>
              <a:ext cx="79920" cy="799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12"/>
            <p:cNvSpPr/>
            <p:nvPr/>
          </p:nvSpPr>
          <p:spPr>
            <a:xfrm>
              <a:off x="6540480" y="2319480"/>
              <a:ext cx="331920" cy="3711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44"/>
          <p:cNvSpPr/>
          <p:nvPr/>
        </p:nvSpPr>
        <p:spPr>
          <a:xfrm>
            <a:off x="7147800" y="225900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51"/>
          <p:cNvSpPr/>
          <p:nvPr/>
        </p:nvSpPr>
        <p:spPr>
          <a:xfrm>
            <a:off x="6858000" y="3171960"/>
            <a:ext cx="4016520" cy="6858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2"/>
          <p:cNvSpPr/>
          <p:nvPr/>
        </p:nvSpPr>
        <p:spPr>
          <a:xfrm>
            <a:off x="6497640" y="3086280"/>
            <a:ext cx="799920" cy="79992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53"/>
          <p:cNvGrpSpPr/>
          <p:nvPr/>
        </p:nvGrpSpPr>
        <p:grpSpPr>
          <a:xfrm>
            <a:off x="6772320" y="3306600"/>
            <a:ext cx="315720" cy="341640"/>
            <a:chOff x="6772320" y="3306600"/>
            <a:chExt cx="315720" cy="341640"/>
          </a:xfrm>
        </p:grpSpPr>
        <p:sp>
          <p:nvSpPr>
            <p:cNvPr id="303" name="Freeform 154"/>
            <p:cNvSpPr/>
            <p:nvPr/>
          </p:nvSpPr>
          <p:spPr>
            <a:xfrm>
              <a:off x="6867720" y="3596760"/>
              <a:ext cx="34200" cy="31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5"/>
            <p:cNvSpPr/>
            <p:nvPr/>
          </p:nvSpPr>
          <p:spPr>
            <a:xfrm>
              <a:off x="6881040" y="3592440"/>
              <a:ext cx="6120" cy="2196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6"/>
            <p:cNvSpPr/>
            <p:nvPr/>
          </p:nvSpPr>
          <p:spPr>
            <a:xfrm>
              <a:off x="6798600" y="3361680"/>
              <a:ext cx="176400" cy="17748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7"/>
            <p:cNvSpPr/>
            <p:nvPr/>
          </p:nvSpPr>
          <p:spPr>
            <a:xfrm>
              <a:off x="6772320" y="3306600"/>
              <a:ext cx="228960" cy="3416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58"/>
            <p:cNvSpPr/>
            <p:nvPr/>
          </p:nvSpPr>
          <p:spPr>
            <a:xfrm>
              <a:off x="6959160" y="3444480"/>
              <a:ext cx="128880" cy="1296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文本框 54"/>
          <p:cNvSpPr/>
          <p:nvPr/>
        </p:nvSpPr>
        <p:spPr>
          <a:xfrm>
            <a:off x="7420680" y="327168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61"/>
          <p:cNvSpPr/>
          <p:nvPr/>
        </p:nvSpPr>
        <p:spPr>
          <a:xfrm>
            <a:off x="6858000" y="4159080"/>
            <a:ext cx="4016520" cy="68760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62"/>
          <p:cNvSpPr/>
          <p:nvPr/>
        </p:nvSpPr>
        <p:spPr>
          <a:xfrm>
            <a:off x="6289560" y="4083120"/>
            <a:ext cx="800280" cy="79992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63"/>
          <p:cNvGrpSpPr/>
          <p:nvPr/>
        </p:nvGrpSpPr>
        <p:grpSpPr>
          <a:xfrm>
            <a:off x="6534000" y="4305240"/>
            <a:ext cx="304920" cy="301680"/>
            <a:chOff x="6534000" y="4305240"/>
            <a:chExt cx="304920" cy="301680"/>
          </a:xfrm>
        </p:grpSpPr>
        <p:sp>
          <p:nvSpPr>
            <p:cNvPr id="312" name="Freeform 136"/>
            <p:cNvSpPr/>
            <p:nvPr/>
          </p:nvSpPr>
          <p:spPr>
            <a:xfrm>
              <a:off x="6534000" y="4474440"/>
              <a:ext cx="304920" cy="13248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37"/>
            <p:cNvSpPr/>
            <p:nvPr/>
          </p:nvSpPr>
          <p:spPr>
            <a:xfrm>
              <a:off x="6534000" y="4305240"/>
              <a:ext cx="304920" cy="1753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文本框 64"/>
          <p:cNvSpPr/>
          <p:nvPr/>
        </p:nvSpPr>
        <p:spPr>
          <a:xfrm>
            <a:off x="7203240" y="425448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4"/>
          <p:cNvSpPr/>
          <p:nvPr/>
        </p:nvSpPr>
        <p:spPr>
          <a:xfrm>
            <a:off x="7081920" y="880920"/>
            <a:ext cx="4792680" cy="3457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5"/>
          <p:cNvSpPr/>
          <p:nvPr/>
        </p:nvSpPr>
        <p:spPr>
          <a:xfrm>
            <a:off x="7081920" y="4338720"/>
            <a:ext cx="4792680" cy="2111400"/>
          </a:xfrm>
          <a:prstGeom prst="rect">
            <a:avLst/>
          </a:prstGeom>
          <a:solidFill>
            <a:srgbClr val="284d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6"/>
          <p:cNvSpPr/>
          <p:nvPr/>
        </p:nvSpPr>
        <p:spPr>
          <a:xfrm>
            <a:off x="7485120" y="5022720"/>
            <a:ext cx="743040" cy="74304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7"/>
          <p:cNvGrpSpPr/>
          <p:nvPr/>
        </p:nvGrpSpPr>
        <p:grpSpPr>
          <a:xfrm>
            <a:off x="7674120" y="5259240"/>
            <a:ext cx="363240" cy="347760"/>
            <a:chOff x="7674120" y="5259240"/>
            <a:chExt cx="363240" cy="347760"/>
          </a:xfrm>
        </p:grpSpPr>
        <p:sp>
          <p:nvSpPr>
            <p:cNvPr id="321" name="Freeform 25"/>
            <p:cNvSpPr/>
            <p:nvPr/>
          </p:nvSpPr>
          <p:spPr>
            <a:xfrm>
              <a:off x="7807320" y="5509440"/>
              <a:ext cx="97560" cy="9756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9"/>
            <p:cNvSpPr/>
            <p:nvPr/>
          </p:nvSpPr>
          <p:spPr>
            <a:xfrm>
              <a:off x="7674120" y="5259240"/>
              <a:ext cx="363240" cy="2646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文本框 10"/>
          <p:cNvSpPr/>
          <p:nvPr/>
        </p:nvSpPr>
        <p:spPr>
          <a:xfrm>
            <a:off x="8166600" y="4371840"/>
            <a:ext cx="376812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  Click here to add   yo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1"/>
          <p:cNvSpPr/>
          <p:nvPr/>
        </p:nvSpPr>
        <p:spPr>
          <a:xfrm>
            <a:off x="874800" y="3559320"/>
            <a:ext cx="47116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2"/>
          <p:cNvSpPr/>
          <p:nvPr/>
        </p:nvSpPr>
        <p:spPr>
          <a:xfrm>
            <a:off x="1150200" y="1803240"/>
            <a:ext cx="501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</a:t>
            </a:r>
            <a:r>
              <a:rPr b="1" lang="en-US" sz="4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o ad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738"/>
                </a:solidFill>
                <a:latin typeface="方正姚体"/>
                <a:ea typeface="方正姚体"/>
              </a:rPr>
              <a:t>you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4"/>
          <p:cNvGrpSpPr/>
          <p:nvPr/>
        </p:nvGrpSpPr>
        <p:grpSpPr>
          <a:xfrm>
            <a:off x="1079640" y="1987560"/>
            <a:ext cx="3598560" cy="2560680"/>
            <a:chOff x="1079640" y="1987560"/>
            <a:chExt cx="3598560" cy="2560680"/>
          </a:xfrm>
        </p:grpSpPr>
        <p:sp>
          <p:nvSpPr>
            <p:cNvPr id="329" name="椭圆 5"/>
            <p:cNvSpPr/>
            <p:nvPr/>
          </p:nvSpPr>
          <p:spPr>
            <a:xfrm>
              <a:off x="1079640" y="1987560"/>
              <a:ext cx="2560680" cy="2560680"/>
            </a:xfrm>
            <a:prstGeom prst="ellips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等腰三角形 6"/>
            <p:cNvSpPr/>
            <p:nvPr/>
          </p:nvSpPr>
          <p:spPr>
            <a:xfrm flipH="1" rot="5400000">
              <a:off x="3897000" y="2724480"/>
              <a:ext cx="393840" cy="116856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5500800" y="2682720"/>
            <a:ext cx="1184040" cy="1171800"/>
            <a:chOff x="5500800" y="2682720"/>
            <a:chExt cx="1184040" cy="1171800"/>
          </a:xfrm>
        </p:grpSpPr>
        <p:sp>
          <p:nvSpPr>
            <p:cNvPr id="332" name="Freeform 136"/>
            <p:cNvSpPr/>
            <p:nvPr/>
          </p:nvSpPr>
          <p:spPr>
            <a:xfrm>
              <a:off x="5500800" y="3339360"/>
              <a:ext cx="1184040" cy="51516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7"/>
            <p:cNvSpPr/>
            <p:nvPr/>
          </p:nvSpPr>
          <p:spPr>
            <a:xfrm>
              <a:off x="5500800" y="2682720"/>
              <a:ext cx="1184040" cy="68112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10"/>
          <p:cNvGrpSpPr/>
          <p:nvPr/>
        </p:nvGrpSpPr>
        <p:grpSpPr>
          <a:xfrm>
            <a:off x="7546680" y="1987560"/>
            <a:ext cx="3598920" cy="2560680"/>
            <a:chOff x="7546680" y="1987560"/>
            <a:chExt cx="3598920" cy="2560680"/>
          </a:xfrm>
        </p:grpSpPr>
        <p:sp>
          <p:nvSpPr>
            <p:cNvPr id="335" name="椭圆 11"/>
            <p:cNvSpPr/>
            <p:nvPr/>
          </p:nvSpPr>
          <p:spPr>
            <a:xfrm flipH="1">
              <a:off x="8584560" y="1987560"/>
              <a:ext cx="2561040" cy="2560680"/>
            </a:xfrm>
            <a:prstGeom prst="ellips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等腰三角形 12"/>
            <p:cNvSpPr/>
            <p:nvPr/>
          </p:nvSpPr>
          <p:spPr>
            <a:xfrm rot="16200000">
              <a:off x="7934040" y="2724480"/>
              <a:ext cx="393840" cy="116856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文本框 16"/>
          <p:cNvSpPr/>
          <p:nvPr/>
        </p:nvSpPr>
        <p:spPr>
          <a:xfrm>
            <a:off x="1107720" y="2665440"/>
            <a:ext cx="25628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7"/>
          <p:cNvSpPr/>
          <p:nvPr/>
        </p:nvSpPr>
        <p:spPr>
          <a:xfrm>
            <a:off x="8678520" y="2654280"/>
            <a:ext cx="25628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18"/>
          <p:cNvSpPr/>
          <p:nvPr/>
        </p:nvSpPr>
        <p:spPr>
          <a:xfrm>
            <a:off x="2619000" y="5126040"/>
            <a:ext cx="69458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平行四边形 35"/>
          <p:cNvSpPr/>
          <p:nvPr/>
        </p:nvSpPr>
        <p:spPr>
          <a:xfrm flipH="1" flipV="1" rot="5400000">
            <a:off x="4691160" y="2154240"/>
            <a:ext cx="1234800" cy="930240"/>
          </a:xfrm>
          <a:prstGeom prst="parallelogram">
            <a:avLst>
              <a:gd name="adj" fmla="val 25036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平行四边形 36"/>
          <p:cNvSpPr/>
          <p:nvPr/>
        </p:nvSpPr>
        <p:spPr>
          <a:xfrm flipH="1" flipV="1" rot="5400000">
            <a:off x="4691880" y="3482280"/>
            <a:ext cx="1233360" cy="930240"/>
          </a:xfrm>
          <a:prstGeom prst="parallelogram">
            <a:avLst>
              <a:gd name="adj" fmla="val 25007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平行四边形 37"/>
          <p:cNvSpPr/>
          <p:nvPr/>
        </p:nvSpPr>
        <p:spPr>
          <a:xfrm flipH="1" flipV="1" rot="5400000">
            <a:off x="4691880" y="4809240"/>
            <a:ext cx="1233360" cy="930240"/>
          </a:xfrm>
          <a:prstGeom prst="parallelogram">
            <a:avLst>
              <a:gd name="adj" fmla="val 25007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平行四边形 38"/>
          <p:cNvSpPr/>
          <p:nvPr/>
        </p:nvSpPr>
        <p:spPr>
          <a:xfrm flipV="1" rot="16200000">
            <a:off x="6237360" y="215424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平行四边形 39"/>
          <p:cNvSpPr/>
          <p:nvPr/>
        </p:nvSpPr>
        <p:spPr>
          <a:xfrm flipV="1" rot="16200000">
            <a:off x="6237360" y="348300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平行四边形 40"/>
          <p:cNvSpPr/>
          <p:nvPr/>
        </p:nvSpPr>
        <p:spPr>
          <a:xfrm flipV="1" rot="16200000">
            <a:off x="6237360" y="481032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41"/>
          <p:cNvGrpSpPr/>
          <p:nvPr/>
        </p:nvGrpSpPr>
        <p:grpSpPr>
          <a:xfrm>
            <a:off x="6692760" y="3738600"/>
            <a:ext cx="425520" cy="480960"/>
            <a:chOff x="6692760" y="3738600"/>
            <a:chExt cx="425520" cy="480960"/>
          </a:xfrm>
        </p:grpSpPr>
        <p:sp>
          <p:nvSpPr>
            <p:cNvPr id="349" name="Freeform 148"/>
            <p:cNvSpPr/>
            <p:nvPr/>
          </p:nvSpPr>
          <p:spPr>
            <a:xfrm>
              <a:off x="6750360" y="3738600"/>
              <a:ext cx="367920" cy="47808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49"/>
            <p:cNvSpPr/>
            <p:nvPr/>
          </p:nvSpPr>
          <p:spPr>
            <a:xfrm>
              <a:off x="6692760" y="3980880"/>
              <a:ext cx="242640" cy="23868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50"/>
            <p:cNvSpPr/>
            <p:nvPr/>
          </p:nvSpPr>
          <p:spPr>
            <a:xfrm>
              <a:off x="6794280" y="4080960"/>
              <a:ext cx="38880" cy="3888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5"/>
          <p:cNvGrpSpPr/>
          <p:nvPr/>
        </p:nvGrpSpPr>
        <p:grpSpPr>
          <a:xfrm>
            <a:off x="6640560" y="2362320"/>
            <a:ext cx="493560" cy="517320"/>
            <a:chOff x="6640560" y="2362320"/>
            <a:chExt cx="493560" cy="517320"/>
          </a:xfrm>
        </p:grpSpPr>
        <p:sp>
          <p:nvSpPr>
            <p:cNvPr id="353" name="Freeform 11"/>
            <p:cNvSpPr/>
            <p:nvPr/>
          </p:nvSpPr>
          <p:spPr>
            <a:xfrm>
              <a:off x="6785640" y="2634840"/>
              <a:ext cx="98280" cy="9720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"/>
            <p:cNvSpPr/>
            <p:nvPr/>
          </p:nvSpPr>
          <p:spPr>
            <a:xfrm>
              <a:off x="6640560" y="2489760"/>
              <a:ext cx="389880" cy="38988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"/>
            <p:cNvSpPr/>
            <p:nvPr/>
          </p:nvSpPr>
          <p:spPr>
            <a:xfrm>
              <a:off x="6834240" y="2607840"/>
              <a:ext cx="73440" cy="7560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4"/>
            <p:cNvSpPr/>
            <p:nvPr/>
          </p:nvSpPr>
          <p:spPr>
            <a:xfrm>
              <a:off x="6881040" y="2460600"/>
              <a:ext cx="159480" cy="168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5"/>
            <p:cNvSpPr/>
            <p:nvPr/>
          </p:nvSpPr>
          <p:spPr>
            <a:xfrm>
              <a:off x="7013880" y="2423520"/>
              <a:ext cx="63000" cy="6624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6"/>
            <p:cNvSpPr/>
            <p:nvPr/>
          </p:nvSpPr>
          <p:spPr>
            <a:xfrm>
              <a:off x="7040880" y="2392200"/>
              <a:ext cx="66240" cy="684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7"/>
            <p:cNvSpPr/>
            <p:nvPr/>
          </p:nvSpPr>
          <p:spPr>
            <a:xfrm>
              <a:off x="6711840" y="2563560"/>
              <a:ext cx="244800" cy="24264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8"/>
            <p:cNvSpPr/>
            <p:nvPr/>
          </p:nvSpPr>
          <p:spPr>
            <a:xfrm>
              <a:off x="7070040" y="2362320"/>
              <a:ext cx="64080" cy="6624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54"/>
          <p:cNvGrpSpPr/>
          <p:nvPr/>
        </p:nvGrpSpPr>
        <p:grpSpPr>
          <a:xfrm>
            <a:off x="5124600" y="3782880"/>
            <a:ext cx="406080" cy="455760"/>
            <a:chOff x="5124600" y="3782880"/>
            <a:chExt cx="406080" cy="455760"/>
          </a:xfrm>
        </p:grpSpPr>
        <p:sp>
          <p:nvSpPr>
            <p:cNvPr id="362" name="Freeform 108"/>
            <p:cNvSpPr/>
            <p:nvPr/>
          </p:nvSpPr>
          <p:spPr>
            <a:xfrm>
              <a:off x="5194080" y="3952080"/>
              <a:ext cx="57240" cy="583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09"/>
            <p:cNvSpPr/>
            <p:nvPr/>
          </p:nvSpPr>
          <p:spPr>
            <a:xfrm>
              <a:off x="5323320" y="3914280"/>
              <a:ext cx="48960" cy="48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10"/>
            <p:cNvSpPr/>
            <p:nvPr/>
          </p:nvSpPr>
          <p:spPr>
            <a:xfrm>
              <a:off x="5207400" y="3966120"/>
              <a:ext cx="30960" cy="30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11"/>
            <p:cNvSpPr/>
            <p:nvPr/>
          </p:nvSpPr>
          <p:spPr>
            <a:xfrm>
              <a:off x="5298840" y="3889800"/>
              <a:ext cx="97920" cy="982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2"/>
            <p:cNvSpPr/>
            <p:nvPr/>
          </p:nvSpPr>
          <p:spPr>
            <a:xfrm>
              <a:off x="5124600" y="3782880"/>
              <a:ext cx="406080" cy="4557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60"/>
          <p:cNvGrpSpPr/>
          <p:nvPr/>
        </p:nvGrpSpPr>
        <p:grpSpPr>
          <a:xfrm>
            <a:off x="6696000" y="5092560"/>
            <a:ext cx="374760" cy="368280"/>
            <a:chOff x="6696000" y="5092560"/>
            <a:chExt cx="374760" cy="368280"/>
          </a:xfrm>
        </p:grpSpPr>
        <p:sp>
          <p:nvSpPr>
            <p:cNvPr id="368" name="Freeform 136"/>
            <p:cNvSpPr/>
            <p:nvPr/>
          </p:nvSpPr>
          <p:spPr>
            <a:xfrm>
              <a:off x="6696000" y="5298840"/>
              <a:ext cx="374760" cy="1620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37"/>
            <p:cNvSpPr/>
            <p:nvPr/>
          </p:nvSpPr>
          <p:spPr>
            <a:xfrm>
              <a:off x="6696000" y="5092560"/>
              <a:ext cx="374760" cy="2142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63"/>
          <p:cNvGrpSpPr/>
          <p:nvPr/>
        </p:nvGrpSpPr>
        <p:grpSpPr>
          <a:xfrm>
            <a:off x="5103720" y="2422440"/>
            <a:ext cx="389160" cy="419040"/>
            <a:chOff x="5103720" y="2422440"/>
            <a:chExt cx="389160" cy="419040"/>
          </a:xfrm>
        </p:grpSpPr>
        <p:sp>
          <p:nvSpPr>
            <p:cNvPr id="371" name="Freeform 154"/>
            <p:cNvSpPr/>
            <p:nvPr/>
          </p:nvSpPr>
          <p:spPr>
            <a:xfrm>
              <a:off x="5221440" y="2778480"/>
              <a:ext cx="42120" cy="388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55"/>
            <p:cNvSpPr/>
            <p:nvPr/>
          </p:nvSpPr>
          <p:spPr>
            <a:xfrm>
              <a:off x="5237640" y="2773080"/>
              <a:ext cx="7560" cy="2700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56"/>
            <p:cNvSpPr/>
            <p:nvPr/>
          </p:nvSpPr>
          <p:spPr>
            <a:xfrm>
              <a:off x="5136480" y="2490120"/>
              <a:ext cx="217440" cy="2178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7"/>
            <p:cNvSpPr/>
            <p:nvPr/>
          </p:nvSpPr>
          <p:spPr>
            <a:xfrm>
              <a:off x="5103720" y="2422440"/>
              <a:ext cx="282240" cy="41904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8"/>
            <p:cNvSpPr/>
            <p:nvPr/>
          </p:nvSpPr>
          <p:spPr>
            <a:xfrm>
              <a:off x="5333760" y="2591640"/>
              <a:ext cx="159120" cy="1591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69"/>
          <p:cNvGrpSpPr/>
          <p:nvPr/>
        </p:nvGrpSpPr>
        <p:grpSpPr>
          <a:xfrm>
            <a:off x="5089680" y="5062680"/>
            <a:ext cx="444240" cy="428400"/>
            <a:chOff x="5089680" y="5062680"/>
            <a:chExt cx="444240" cy="428400"/>
          </a:xfrm>
        </p:grpSpPr>
        <p:sp>
          <p:nvSpPr>
            <p:cNvPr id="377" name="Oval 131"/>
            <p:cNvSpPr/>
            <p:nvPr/>
          </p:nvSpPr>
          <p:spPr>
            <a:xfrm>
              <a:off x="5211720" y="5062680"/>
              <a:ext cx="199800" cy="20304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4"/>
            <p:cNvSpPr/>
            <p:nvPr/>
          </p:nvSpPr>
          <p:spPr>
            <a:xfrm>
              <a:off x="5089680" y="5297400"/>
              <a:ext cx="444240" cy="19368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72"/>
          <p:cNvSpPr/>
          <p:nvPr/>
        </p:nvSpPr>
        <p:spPr>
          <a:xfrm>
            <a:off x="1823400" y="21859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73"/>
          <p:cNvSpPr/>
          <p:nvPr/>
        </p:nvSpPr>
        <p:spPr>
          <a:xfrm>
            <a:off x="1826640" y="3441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74"/>
          <p:cNvSpPr/>
          <p:nvPr/>
        </p:nvSpPr>
        <p:spPr>
          <a:xfrm>
            <a:off x="1826640" y="48038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76"/>
          <p:cNvSpPr/>
          <p:nvPr/>
        </p:nvSpPr>
        <p:spPr>
          <a:xfrm>
            <a:off x="7567920" y="21859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77"/>
          <p:cNvSpPr/>
          <p:nvPr/>
        </p:nvSpPr>
        <p:spPr>
          <a:xfrm>
            <a:off x="7571160" y="3441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78"/>
          <p:cNvSpPr/>
          <p:nvPr/>
        </p:nvSpPr>
        <p:spPr>
          <a:xfrm>
            <a:off x="7571160" y="48038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28"/>
          <p:cNvSpPr/>
          <p:nvPr/>
        </p:nvSpPr>
        <p:spPr>
          <a:xfrm>
            <a:off x="360504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4"/>
          <p:cNvSpPr/>
          <p:nvPr/>
        </p:nvSpPr>
        <p:spPr>
          <a:xfrm>
            <a:off x="110484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5"/>
          <p:cNvSpPr/>
          <p:nvPr/>
        </p:nvSpPr>
        <p:spPr>
          <a:xfrm>
            <a:off x="1104840" y="2570040"/>
            <a:ext cx="2238480" cy="1924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6"/>
          <p:cNvGrpSpPr/>
          <p:nvPr/>
        </p:nvGrpSpPr>
        <p:grpSpPr>
          <a:xfrm>
            <a:off x="1104840" y="4494240"/>
            <a:ext cx="2238480" cy="388440"/>
            <a:chOff x="1104840" y="4494240"/>
            <a:chExt cx="2238480" cy="388440"/>
          </a:xfrm>
        </p:grpSpPr>
        <p:sp>
          <p:nvSpPr>
            <p:cNvPr id="397" name="矩形 7"/>
            <p:cNvSpPr/>
            <p:nvPr/>
          </p:nvSpPr>
          <p:spPr>
            <a:xfrm>
              <a:off x="110484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等腰三角形 8"/>
            <p:cNvSpPr/>
            <p:nvPr/>
          </p:nvSpPr>
          <p:spPr>
            <a:xfrm flipV="1">
              <a:off x="189252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矩形 9"/>
          <p:cNvSpPr/>
          <p:nvPr/>
        </p:nvSpPr>
        <p:spPr>
          <a:xfrm>
            <a:off x="368604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0"/>
          <p:cNvSpPr/>
          <p:nvPr/>
        </p:nvSpPr>
        <p:spPr>
          <a:xfrm>
            <a:off x="3686040" y="2570040"/>
            <a:ext cx="2238480" cy="1924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组合 11"/>
          <p:cNvGrpSpPr/>
          <p:nvPr/>
        </p:nvGrpSpPr>
        <p:grpSpPr>
          <a:xfrm>
            <a:off x="3686040" y="4494240"/>
            <a:ext cx="2238480" cy="388440"/>
            <a:chOff x="3686040" y="4494240"/>
            <a:chExt cx="2238480" cy="388440"/>
          </a:xfrm>
        </p:grpSpPr>
        <p:sp>
          <p:nvSpPr>
            <p:cNvPr id="402" name="矩形 12"/>
            <p:cNvSpPr/>
            <p:nvPr/>
          </p:nvSpPr>
          <p:spPr>
            <a:xfrm>
              <a:off x="368604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等腰三角形 16"/>
            <p:cNvSpPr/>
            <p:nvPr/>
          </p:nvSpPr>
          <p:spPr>
            <a:xfrm flipV="1">
              <a:off x="447372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矩形 17"/>
          <p:cNvSpPr/>
          <p:nvPr/>
        </p:nvSpPr>
        <p:spPr>
          <a:xfrm>
            <a:off x="626580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8"/>
          <p:cNvSpPr/>
          <p:nvPr/>
        </p:nvSpPr>
        <p:spPr>
          <a:xfrm>
            <a:off x="6265800" y="2570040"/>
            <a:ext cx="2238480" cy="1924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19"/>
          <p:cNvGrpSpPr/>
          <p:nvPr/>
        </p:nvGrpSpPr>
        <p:grpSpPr>
          <a:xfrm>
            <a:off x="6265800" y="4494240"/>
            <a:ext cx="2238480" cy="388440"/>
            <a:chOff x="6265800" y="4494240"/>
            <a:chExt cx="2238480" cy="388440"/>
          </a:xfrm>
        </p:grpSpPr>
        <p:sp>
          <p:nvSpPr>
            <p:cNvPr id="407" name="矩形 20"/>
            <p:cNvSpPr/>
            <p:nvPr/>
          </p:nvSpPr>
          <p:spPr>
            <a:xfrm>
              <a:off x="626580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等腰三角形 21"/>
            <p:cNvSpPr/>
            <p:nvPr/>
          </p:nvSpPr>
          <p:spPr>
            <a:xfrm flipV="1">
              <a:off x="705348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矩形 22"/>
          <p:cNvSpPr/>
          <p:nvPr/>
        </p:nvSpPr>
        <p:spPr>
          <a:xfrm>
            <a:off x="884700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3"/>
          <p:cNvSpPr/>
          <p:nvPr/>
        </p:nvSpPr>
        <p:spPr>
          <a:xfrm>
            <a:off x="8847000" y="2570040"/>
            <a:ext cx="2238480" cy="1924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24"/>
          <p:cNvGrpSpPr/>
          <p:nvPr/>
        </p:nvGrpSpPr>
        <p:grpSpPr>
          <a:xfrm>
            <a:off x="8847000" y="4494240"/>
            <a:ext cx="2238480" cy="388440"/>
            <a:chOff x="8847000" y="4494240"/>
            <a:chExt cx="2238480" cy="388440"/>
          </a:xfrm>
        </p:grpSpPr>
        <p:sp>
          <p:nvSpPr>
            <p:cNvPr id="412" name="矩形 25"/>
            <p:cNvSpPr/>
            <p:nvPr/>
          </p:nvSpPr>
          <p:spPr>
            <a:xfrm>
              <a:off x="884700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26"/>
            <p:cNvSpPr/>
            <p:nvPr/>
          </p:nvSpPr>
          <p:spPr>
            <a:xfrm flipV="1">
              <a:off x="963468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文本框 27"/>
          <p:cNvSpPr/>
          <p:nvPr/>
        </p:nvSpPr>
        <p:spPr>
          <a:xfrm>
            <a:off x="122652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8"/>
          <p:cNvSpPr/>
          <p:nvPr/>
        </p:nvSpPr>
        <p:spPr>
          <a:xfrm>
            <a:off x="380736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9"/>
          <p:cNvSpPr/>
          <p:nvPr/>
        </p:nvSpPr>
        <p:spPr>
          <a:xfrm>
            <a:off x="6387480" y="197964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30"/>
          <p:cNvSpPr/>
          <p:nvPr/>
        </p:nvSpPr>
        <p:spPr>
          <a:xfrm>
            <a:off x="896832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31"/>
          <p:cNvSpPr/>
          <p:nvPr/>
        </p:nvSpPr>
        <p:spPr>
          <a:xfrm>
            <a:off x="93888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32"/>
          <p:cNvSpPr/>
          <p:nvPr/>
        </p:nvSpPr>
        <p:spPr>
          <a:xfrm>
            <a:off x="351936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33"/>
          <p:cNvSpPr/>
          <p:nvPr/>
        </p:nvSpPr>
        <p:spPr>
          <a:xfrm>
            <a:off x="609984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34"/>
          <p:cNvSpPr/>
          <p:nvPr/>
        </p:nvSpPr>
        <p:spPr>
          <a:xfrm>
            <a:off x="868032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4"/>
          <p:cNvSpPr/>
          <p:nvPr/>
        </p:nvSpPr>
        <p:spPr>
          <a:xfrm>
            <a:off x="717480" y="932040"/>
            <a:ext cx="10761840" cy="551808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1706400" y="1654200"/>
            <a:ext cx="2765520" cy="2670120"/>
          </a:xfrm>
          <a:custGeom>
            <a:avLst/>
            <a:gdLst/>
            <a:ahLst/>
            <a:rect l="l" t="t" r="r" b="b"/>
            <a:pathLst>
              <a:path w="116" h="112">
                <a:moveTo>
                  <a:pt x="95" y="29"/>
                </a:moveTo>
                <a:lnTo>
                  <a:pt x="52" y="72"/>
                </a:lnTo>
                <a:lnTo>
                  <a:pt x="67" y="86"/>
                </a:lnTo>
                <a:lnTo>
                  <a:pt x="116" y="36"/>
                </a:lnTo>
                <a:lnTo>
                  <a:pt x="102" y="21"/>
                </a:lnTo>
                <a:lnTo>
                  <a:pt x="95" y="29"/>
                </a:lnTo>
                <a:close/>
                <a:moveTo>
                  <a:pt x="50" y="79"/>
                </a:moveTo>
                <a:lnTo>
                  <a:pt x="50" y="88"/>
                </a:lnTo>
                <a:lnTo>
                  <a:pt x="59" y="88"/>
                </a:lnTo>
                <a:lnTo>
                  <a:pt x="50" y="79"/>
                </a:lnTo>
                <a:close/>
                <a:moveTo>
                  <a:pt x="17" y="67"/>
                </a:moveTo>
                <a:lnTo>
                  <a:pt x="17" y="74"/>
                </a:lnTo>
                <a:lnTo>
                  <a:pt x="45" y="74"/>
                </a:lnTo>
                <a:lnTo>
                  <a:pt x="45" y="72"/>
                </a:lnTo>
                <a:lnTo>
                  <a:pt x="50" y="67"/>
                </a:lnTo>
                <a:lnTo>
                  <a:pt x="17" y="67"/>
                </a:lnTo>
                <a:close/>
                <a:moveTo>
                  <a:pt x="81" y="36"/>
                </a:moveTo>
                <a:lnTo>
                  <a:pt x="17" y="36"/>
                </a:lnTo>
                <a:lnTo>
                  <a:pt x="17" y="45"/>
                </a:lnTo>
                <a:lnTo>
                  <a:pt x="74" y="45"/>
                </a:lnTo>
                <a:lnTo>
                  <a:pt x="81" y="36"/>
                </a:lnTo>
                <a:close/>
                <a:moveTo>
                  <a:pt x="17" y="60"/>
                </a:moveTo>
                <a:lnTo>
                  <a:pt x="57" y="60"/>
                </a:lnTo>
                <a:lnTo>
                  <a:pt x="67" y="50"/>
                </a:lnTo>
                <a:lnTo>
                  <a:pt x="17" y="50"/>
                </a:lnTo>
                <a:lnTo>
                  <a:pt x="17" y="60"/>
                </a:lnTo>
                <a:close/>
                <a:moveTo>
                  <a:pt x="88" y="103"/>
                </a:moveTo>
                <a:lnTo>
                  <a:pt x="10" y="103"/>
                </a:lnTo>
                <a:lnTo>
                  <a:pt x="10" y="24"/>
                </a:lnTo>
                <a:lnTo>
                  <a:pt x="24" y="24"/>
                </a:lnTo>
                <a:lnTo>
                  <a:pt x="24" y="9"/>
                </a:lnTo>
                <a:lnTo>
                  <a:pt x="88" y="9"/>
                </a:lnTo>
                <a:lnTo>
                  <a:pt x="88" y="31"/>
                </a:lnTo>
                <a:lnTo>
                  <a:pt x="95" y="21"/>
                </a:lnTo>
                <a:lnTo>
                  <a:pt x="95" y="0"/>
                </a:lnTo>
                <a:lnTo>
                  <a:pt x="22" y="0"/>
                </a:lnTo>
                <a:lnTo>
                  <a:pt x="0" y="21"/>
                </a:lnTo>
                <a:lnTo>
                  <a:pt x="0" y="112"/>
                </a:lnTo>
                <a:lnTo>
                  <a:pt x="95" y="112"/>
                </a:lnTo>
                <a:lnTo>
                  <a:pt x="95" y="62"/>
                </a:lnTo>
                <a:lnTo>
                  <a:pt x="88" y="72"/>
                </a:lnTo>
                <a:lnTo>
                  <a:pt x="88" y="103"/>
                </a:lnTo>
                <a:close/>
                <a:moveTo>
                  <a:pt x="17" y="88"/>
                </a:moveTo>
                <a:lnTo>
                  <a:pt x="45" y="88"/>
                </a:lnTo>
                <a:lnTo>
                  <a:pt x="45" y="81"/>
                </a:lnTo>
                <a:lnTo>
                  <a:pt x="17" y="81"/>
                </a:lnTo>
                <a:lnTo>
                  <a:pt x="17" y="88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6"/>
          <p:cNvSpPr/>
          <p:nvPr/>
        </p:nvSpPr>
        <p:spPr>
          <a:xfrm>
            <a:off x="1191600" y="4886280"/>
            <a:ext cx="34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ON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4"/>
          <p:cNvSpPr/>
          <p:nvPr/>
        </p:nvSpPr>
        <p:spPr>
          <a:xfrm>
            <a:off x="1303200" y="4680000"/>
            <a:ext cx="3240360" cy="0"/>
          </a:xfrm>
          <a:prstGeom prst="line">
            <a:avLst/>
          </a:prstGeom>
          <a:ln w="2232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42"/>
          <p:cNvSpPr/>
          <p:nvPr/>
        </p:nvSpPr>
        <p:spPr>
          <a:xfrm flipH="1">
            <a:off x="6058080" y="204624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44"/>
          <p:cNvSpPr/>
          <p:nvPr/>
        </p:nvSpPr>
        <p:spPr>
          <a:xfrm flipH="1">
            <a:off x="6325560" y="204624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46"/>
          <p:cNvSpPr/>
          <p:nvPr/>
        </p:nvSpPr>
        <p:spPr>
          <a:xfrm flipH="1">
            <a:off x="6058080" y="303372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8"/>
          <p:cNvSpPr/>
          <p:nvPr/>
        </p:nvSpPr>
        <p:spPr>
          <a:xfrm flipH="1">
            <a:off x="6325560" y="303372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50"/>
          <p:cNvSpPr/>
          <p:nvPr/>
        </p:nvSpPr>
        <p:spPr>
          <a:xfrm flipH="1">
            <a:off x="6058080" y="409716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52"/>
          <p:cNvSpPr/>
          <p:nvPr/>
        </p:nvSpPr>
        <p:spPr>
          <a:xfrm flipH="1">
            <a:off x="6325560" y="409716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54"/>
          <p:cNvSpPr/>
          <p:nvPr/>
        </p:nvSpPr>
        <p:spPr>
          <a:xfrm flipH="1">
            <a:off x="6058080" y="5192640"/>
            <a:ext cx="5349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56"/>
          <p:cNvSpPr/>
          <p:nvPr/>
        </p:nvSpPr>
        <p:spPr>
          <a:xfrm flipH="1">
            <a:off x="6325560" y="5192640"/>
            <a:ext cx="533160" cy="344520"/>
          </a:xfrm>
          <a:custGeom>
            <a:avLst/>
            <a:gdLst/>
            <a:ahLst/>
            <a:rect l="l" t="t" r="r" b="b"/>
            <a:pathLst>
              <a:path w="892894" h="560440">
                <a:moveTo>
                  <a:pt x="540889" y="0"/>
                </a:moveTo>
                <a:lnTo>
                  <a:pt x="892894" y="0"/>
                </a:lnTo>
                <a:lnTo>
                  <a:pt x="352004" y="560440"/>
                </a:lnTo>
                <a:lnTo>
                  <a:pt x="0" y="560440"/>
                </a:lnTo>
                <a:lnTo>
                  <a:pt x="540889" y="0"/>
                </a:lnTo>
                <a:close/>
              </a:path>
            </a:pathLst>
          </a:cu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8"/>
          <p:cNvSpPr/>
          <p:nvPr/>
        </p:nvSpPr>
        <p:spPr>
          <a:xfrm>
            <a:off x="7577280" y="196200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ABOUT    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9"/>
          <p:cNvSpPr/>
          <p:nvPr/>
        </p:nvSpPr>
        <p:spPr>
          <a:xfrm>
            <a:off x="7242120" y="29592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60"/>
          <p:cNvSpPr/>
          <p:nvPr/>
        </p:nvSpPr>
        <p:spPr>
          <a:xfrm>
            <a:off x="7495560" y="401328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1"/>
          <p:cNvSpPr/>
          <p:nvPr/>
        </p:nvSpPr>
        <p:spPr>
          <a:xfrm>
            <a:off x="7694280" y="513396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73"/>
          <p:cNvSpPr/>
          <p:nvPr/>
        </p:nvSpPr>
        <p:spPr>
          <a:xfrm>
            <a:off x="3132000" y="2386080"/>
            <a:ext cx="1722600" cy="1722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74"/>
          <p:cNvSpPr/>
          <p:nvPr/>
        </p:nvSpPr>
        <p:spPr>
          <a:xfrm>
            <a:off x="4521240" y="2386080"/>
            <a:ext cx="1724040" cy="1722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75"/>
          <p:cNvSpPr/>
          <p:nvPr/>
        </p:nvSpPr>
        <p:spPr>
          <a:xfrm>
            <a:off x="5894280" y="2386080"/>
            <a:ext cx="1722600" cy="1722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 76"/>
          <p:cNvSpPr/>
          <p:nvPr/>
        </p:nvSpPr>
        <p:spPr>
          <a:xfrm>
            <a:off x="7283520" y="2386080"/>
            <a:ext cx="1724040" cy="1722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77"/>
          <p:cNvSpPr/>
          <p:nvPr/>
        </p:nvSpPr>
        <p:spPr>
          <a:xfrm>
            <a:off x="2727360" y="3087720"/>
            <a:ext cx="317520" cy="3175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椭圆 78"/>
          <p:cNvSpPr/>
          <p:nvPr/>
        </p:nvSpPr>
        <p:spPr>
          <a:xfrm>
            <a:off x="2428920" y="3139920"/>
            <a:ext cx="210960" cy="2113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椭圆 79"/>
          <p:cNvSpPr/>
          <p:nvPr/>
        </p:nvSpPr>
        <p:spPr>
          <a:xfrm>
            <a:off x="2193840" y="3171960"/>
            <a:ext cx="146160" cy="14760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椭圆 80"/>
          <p:cNvSpPr/>
          <p:nvPr/>
        </p:nvSpPr>
        <p:spPr>
          <a:xfrm flipH="1">
            <a:off x="9131400" y="3139920"/>
            <a:ext cx="317520" cy="31752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81"/>
          <p:cNvSpPr/>
          <p:nvPr/>
        </p:nvSpPr>
        <p:spPr>
          <a:xfrm flipH="1">
            <a:off x="9533880" y="3192480"/>
            <a:ext cx="212760" cy="21096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椭圆 82"/>
          <p:cNvSpPr/>
          <p:nvPr/>
        </p:nvSpPr>
        <p:spPr>
          <a:xfrm flipH="1">
            <a:off x="9834480" y="3225960"/>
            <a:ext cx="147600" cy="145800"/>
          </a:xfrm>
          <a:prstGeom prst="ellips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3"/>
          <p:cNvSpPr/>
          <p:nvPr/>
        </p:nvSpPr>
        <p:spPr>
          <a:xfrm>
            <a:off x="708120" y="4714920"/>
            <a:ext cx="107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方正姚体"/>
                <a:ea typeface="方正姚体"/>
              </a:rPr>
              <a:t>                                                      </a:t>
            </a:r>
            <a:r>
              <a:rPr b="1" lang="en-US" sz="3600" spc="-1" strike="noStrike">
                <a:solidFill>
                  <a:srgbClr val="284d7a"/>
                </a:solidFill>
                <a:latin typeface="方正姚体"/>
                <a:ea typeface="方正姚体"/>
              </a:rPr>
              <a:t>ABOUT 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616"/>
                </a:solidFill>
                <a:latin typeface="方正姚体"/>
                <a:ea typeface="方正姚体"/>
              </a:rPr>
              <a:t>Click here to add  you to the  center of the  narrative thought  Click here to add  you to the  cent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616"/>
                </a:solidFill>
                <a:latin typeface="方正姚体"/>
                <a:ea typeface="方正姚体"/>
              </a:rPr>
              <a:t>Of  the  narrative thought  Click here to add  you to the  center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4"/>
          <p:cNvSpPr/>
          <p:nvPr/>
        </p:nvSpPr>
        <p:spPr>
          <a:xfrm>
            <a:off x="150192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5"/>
          <p:cNvSpPr/>
          <p:nvPr/>
        </p:nvSpPr>
        <p:spPr>
          <a:xfrm>
            <a:off x="462744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6"/>
          <p:cNvSpPr/>
          <p:nvPr/>
        </p:nvSpPr>
        <p:spPr>
          <a:xfrm>
            <a:off x="775332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7"/>
          <p:cNvSpPr/>
          <p:nvPr/>
        </p:nvSpPr>
        <p:spPr>
          <a:xfrm>
            <a:off x="2406600" y="2746440"/>
            <a:ext cx="78159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8"/>
          <p:cNvSpPr/>
          <p:nvPr/>
        </p:nvSpPr>
        <p:spPr>
          <a:xfrm>
            <a:off x="1856160" y="4844880"/>
            <a:ext cx="19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9"/>
          <p:cNvSpPr/>
          <p:nvPr/>
        </p:nvSpPr>
        <p:spPr>
          <a:xfrm>
            <a:off x="5030640" y="49006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0"/>
          <p:cNvSpPr/>
          <p:nvPr/>
        </p:nvSpPr>
        <p:spPr>
          <a:xfrm>
            <a:off x="8233560" y="49132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11"/>
          <p:cNvGrpSpPr/>
          <p:nvPr/>
        </p:nvGrpSpPr>
        <p:grpSpPr>
          <a:xfrm>
            <a:off x="5726160" y="1562040"/>
            <a:ext cx="811080" cy="779400"/>
            <a:chOff x="5726160" y="1562040"/>
            <a:chExt cx="811080" cy="779400"/>
          </a:xfrm>
        </p:grpSpPr>
        <p:sp>
          <p:nvSpPr>
            <p:cNvPr id="445" name="Oval 131"/>
            <p:cNvSpPr/>
            <p:nvPr/>
          </p:nvSpPr>
          <p:spPr>
            <a:xfrm>
              <a:off x="5949000" y="1562040"/>
              <a:ext cx="365040" cy="369360"/>
            </a:xfrm>
            <a:prstGeom prst="ellips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4"/>
            <p:cNvSpPr/>
            <p:nvPr/>
          </p:nvSpPr>
          <p:spPr>
            <a:xfrm>
              <a:off x="5726160" y="1989000"/>
              <a:ext cx="811080" cy="352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17"/>
          <p:cNvGrpSpPr/>
          <p:nvPr/>
        </p:nvGrpSpPr>
        <p:grpSpPr>
          <a:xfrm>
            <a:off x="2809800" y="4289400"/>
            <a:ext cx="390600" cy="438120"/>
            <a:chOff x="2809800" y="4289400"/>
            <a:chExt cx="390600" cy="438120"/>
          </a:xfrm>
        </p:grpSpPr>
        <p:sp>
          <p:nvSpPr>
            <p:cNvPr id="448" name="Freeform 108"/>
            <p:cNvSpPr/>
            <p:nvPr/>
          </p:nvSpPr>
          <p:spPr>
            <a:xfrm>
              <a:off x="2876760" y="4452120"/>
              <a:ext cx="55080" cy="561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9"/>
            <p:cNvSpPr/>
            <p:nvPr/>
          </p:nvSpPr>
          <p:spPr>
            <a:xfrm>
              <a:off x="3000960" y="4415760"/>
              <a:ext cx="47160" cy="471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0"/>
            <p:cNvSpPr/>
            <p:nvPr/>
          </p:nvSpPr>
          <p:spPr>
            <a:xfrm>
              <a:off x="2889360" y="4465800"/>
              <a:ext cx="29880" cy="298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11"/>
            <p:cNvSpPr/>
            <p:nvPr/>
          </p:nvSpPr>
          <p:spPr>
            <a:xfrm>
              <a:off x="2977560" y="4392000"/>
              <a:ext cx="94320" cy="943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12"/>
            <p:cNvSpPr/>
            <p:nvPr/>
          </p:nvSpPr>
          <p:spPr>
            <a:xfrm>
              <a:off x="2809800" y="4289400"/>
              <a:ext cx="390600" cy="43812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组合 23"/>
          <p:cNvGrpSpPr/>
          <p:nvPr/>
        </p:nvGrpSpPr>
        <p:grpSpPr>
          <a:xfrm>
            <a:off x="9144000" y="4307040"/>
            <a:ext cx="374760" cy="403200"/>
            <a:chOff x="9144000" y="4307040"/>
            <a:chExt cx="374760" cy="403200"/>
          </a:xfrm>
        </p:grpSpPr>
        <p:sp>
          <p:nvSpPr>
            <p:cNvPr id="454" name="Freeform 154"/>
            <p:cNvSpPr/>
            <p:nvPr/>
          </p:nvSpPr>
          <p:spPr>
            <a:xfrm>
              <a:off x="9257400" y="4649400"/>
              <a:ext cx="40320" cy="374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9273240" y="4644360"/>
              <a:ext cx="720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9175320" y="4372200"/>
              <a:ext cx="209520" cy="2095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9144000" y="4307040"/>
              <a:ext cx="271800" cy="403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9365760" y="4469760"/>
              <a:ext cx="153000" cy="1530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29"/>
          <p:cNvGrpSpPr/>
          <p:nvPr/>
        </p:nvGrpSpPr>
        <p:grpSpPr>
          <a:xfrm>
            <a:off x="5918040" y="4338720"/>
            <a:ext cx="360360" cy="355680"/>
            <a:chOff x="5918040" y="4338720"/>
            <a:chExt cx="360360" cy="355680"/>
          </a:xfrm>
        </p:grpSpPr>
        <p:sp>
          <p:nvSpPr>
            <p:cNvPr id="460" name="Freeform 136"/>
            <p:cNvSpPr/>
            <p:nvPr/>
          </p:nvSpPr>
          <p:spPr>
            <a:xfrm>
              <a:off x="5918040" y="4538160"/>
              <a:ext cx="360360" cy="15624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7"/>
            <p:cNvSpPr/>
            <p:nvPr/>
          </p:nvSpPr>
          <p:spPr>
            <a:xfrm>
              <a:off x="5918040" y="4338720"/>
              <a:ext cx="360360" cy="2066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"/>
          <p:cNvSpPr/>
          <p:nvPr/>
        </p:nvSpPr>
        <p:spPr>
          <a:xfrm rot="2700000">
            <a:off x="7720200" y="2153880"/>
            <a:ext cx="1322280" cy="132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5"/>
          <p:cNvSpPr/>
          <p:nvPr/>
        </p:nvSpPr>
        <p:spPr>
          <a:xfrm rot="2700000">
            <a:off x="8654040" y="3086640"/>
            <a:ext cx="1320840" cy="1322640"/>
          </a:xfrm>
          <a:prstGeom prst="rect">
            <a:avLst/>
          </a:prstGeom>
          <a:solidFill>
            <a:srgbClr val="284d7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6"/>
          <p:cNvSpPr/>
          <p:nvPr/>
        </p:nvSpPr>
        <p:spPr>
          <a:xfrm rot="2700000">
            <a:off x="9586800" y="4019040"/>
            <a:ext cx="132264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7"/>
          <p:cNvSpPr/>
          <p:nvPr/>
        </p:nvSpPr>
        <p:spPr>
          <a:xfrm rot="2700000">
            <a:off x="5852520" y="2156040"/>
            <a:ext cx="1322640" cy="1322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8"/>
          <p:cNvSpPr/>
          <p:nvPr/>
        </p:nvSpPr>
        <p:spPr>
          <a:xfrm rot="2700000">
            <a:off x="6789960" y="3092040"/>
            <a:ext cx="132228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9"/>
          <p:cNvSpPr/>
          <p:nvPr/>
        </p:nvSpPr>
        <p:spPr>
          <a:xfrm rot="2700000">
            <a:off x="7719840" y="4022280"/>
            <a:ext cx="1322640" cy="1322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0"/>
          <p:cNvSpPr/>
          <p:nvPr/>
        </p:nvSpPr>
        <p:spPr>
          <a:xfrm rot="2700000">
            <a:off x="3965760" y="2138040"/>
            <a:ext cx="1322280" cy="1322640"/>
          </a:xfrm>
          <a:prstGeom prst="rect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1"/>
          <p:cNvSpPr/>
          <p:nvPr/>
        </p:nvSpPr>
        <p:spPr>
          <a:xfrm rot="2700000">
            <a:off x="4882320" y="3110400"/>
            <a:ext cx="1431720" cy="1322640"/>
          </a:xfrm>
          <a:prstGeom prst="rect">
            <a:avLst/>
          </a:prstGeom>
          <a:solidFill>
            <a:srgbClr val="284d7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2"/>
          <p:cNvSpPr/>
          <p:nvPr/>
        </p:nvSpPr>
        <p:spPr>
          <a:xfrm rot="2700000">
            <a:off x="5843160" y="4014360"/>
            <a:ext cx="1320840" cy="1320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16"/>
          <p:cNvGrpSpPr/>
          <p:nvPr/>
        </p:nvGrpSpPr>
        <p:grpSpPr>
          <a:xfrm>
            <a:off x="4368960" y="2467080"/>
            <a:ext cx="576000" cy="604800"/>
            <a:chOff x="4368960" y="2467080"/>
            <a:chExt cx="576000" cy="604800"/>
          </a:xfrm>
        </p:grpSpPr>
        <p:sp>
          <p:nvSpPr>
            <p:cNvPr id="474" name="Freeform 11"/>
            <p:cNvSpPr/>
            <p:nvPr/>
          </p:nvSpPr>
          <p:spPr>
            <a:xfrm>
              <a:off x="4538160" y="2785680"/>
              <a:ext cx="114840" cy="1137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4368960" y="2616120"/>
              <a:ext cx="455040" cy="4557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4595040" y="2754360"/>
              <a:ext cx="85680" cy="8820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4649760" y="2582280"/>
              <a:ext cx="186120" cy="1976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4804560" y="2538360"/>
              <a:ext cx="73800" cy="7740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4836240" y="2502000"/>
              <a:ext cx="77400" cy="7992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7"/>
            <p:cNvSpPr/>
            <p:nvPr/>
          </p:nvSpPr>
          <p:spPr>
            <a:xfrm>
              <a:off x="4452480" y="2702160"/>
              <a:ext cx="285480" cy="28368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8"/>
            <p:cNvSpPr/>
            <p:nvPr/>
          </p:nvSpPr>
          <p:spPr>
            <a:xfrm>
              <a:off x="4870080" y="2467080"/>
              <a:ext cx="74880" cy="774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组合 25"/>
          <p:cNvGrpSpPr/>
          <p:nvPr/>
        </p:nvGrpSpPr>
        <p:grpSpPr>
          <a:xfrm>
            <a:off x="7223040" y="3492360"/>
            <a:ext cx="457200" cy="511200"/>
            <a:chOff x="7223040" y="3492360"/>
            <a:chExt cx="457200" cy="511200"/>
          </a:xfrm>
        </p:grpSpPr>
        <p:sp>
          <p:nvSpPr>
            <p:cNvPr id="483" name="Freeform 108"/>
            <p:cNvSpPr/>
            <p:nvPr/>
          </p:nvSpPr>
          <p:spPr>
            <a:xfrm>
              <a:off x="7301520" y="3682080"/>
              <a:ext cx="64440" cy="65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09"/>
            <p:cNvSpPr/>
            <p:nvPr/>
          </p:nvSpPr>
          <p:spPr>
            <a:xfrm>
              <a:off x="7446960" y="3639600"/>
              <a:ext cx="55080" cy="550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10"/>
            <p:cNvSpPr/>
            <p:nvPr/>
          </p:nvSpPr>
          <p:spPr>
            <a:xfrm>
              <a:off x="7316280" y="3697920"/>
              <a:ext cx="34920" cy="349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11"/>
            <p:cNvSpPr/>
            <p:nvPr/>
          </p:nvSpPr>
          <p:spPr>
            <a:xfrm>
              <a:off x="7419240" y="3612240"/>
              <a:ext cx="110160" cy="1101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12"/>
            <p:cNvSpPr/>
            <p:nvPr/>
          </p:nvSpPr>
          <p:spPr>
            <a:xfrm>
              <a:off x="7223040" y="3492360"/>
              <a:ext cx="457200" cy="51120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1"/>
          <p:cNvGrpSpPr/>
          <p:nvPr/>
        </p:nvGrpSpPr>
        <p:grpSpPr>
          <a:xfrm>
            <a:off x="10058400" y="4421160"/>
            <a:ext cx="452520" cy="511200"/>
            <a:chOff x="10058400" y="4421160"/>
            <a:chExt cx="452520" cy="511200"/>
          </a:xfrm>
        </p:grpSpPr>
        <p:sp>
          <p:nvSpPr>
            <p:cNvPr id="489" name="Freeform 148"/>
            <p:cNvSpPr/>
            <p:nvPr/>
          </p:nvSpPr>
          <p:spPr>
            <a:xfrm>
              <a:off x="10119600" y="4421160"/>
              <a:ext cx="391320" cy="50832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49"/>
            <p:cNvSpPr/>
            <p:nvPr/>
          </p:nvSpPr>
          <p:spPr>
            <a:xfrm>
              <a:off x="10058400" y="4678920"/>
              <a:ext cx="258120" cy="253440"/>
            </a:xfrm>
            <a:custGeom>
              <a:avLst/>
              <a:gdLst/>
              <a:ahLst/>
              <a:rect l="l" t="t" r="r" b="b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50"/>
            <p:cNvSpPr/>
            <p:nvPr/>
          </p:nvSpPr>
          <p:spPr>
            <a:xfrm>
              <a:off x="10166400" y="4784760"/>
              <a:ext cx="41400" cy="4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矩形 35"/>
          <p:cNvSpPr/>
          <p:nvPr/>
        </p:nvSpPr>
        <p:spPr>
          <a:xfrm>
            <a:off x="644040" y="3195720"/>
            <a:ext cx="369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</a:t>
            </a: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</a:t>
            </a: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36"/>
          <p:cNvSpPr/>
          <p:nvPr/>
        </p:nvSpPr>
        <p:spPr>
          <a:xfrm>
            <a:off x="607320" y="4438800"/>
            <a:ext cx="3763800" cy="29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六边形 54"/>
          <p:cNvSpPr/>
          <p:nvPr/>
        </p:nvSpPr>
        <p:spPr>
          <a:xfrm rot="5400000">
            <a:off x="3855600" y="1855440"/>
            <a:ext cx="4508280" cy="3886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63"/>
          <p:cNvSpPr/>
          <p:nvPr/>
        </p:nvSpPr>
        <p:spPr>
          <a:xfrm>
            <a:off x="5238360" y="426420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84d7a"/>
                </a:solidFill>
                <a:latin typeface="Impact"/>
                <a:ea typeface="微软雅黑"/>
              </a:rPr>
              <a:t>20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64"/>
          <p:cNvSpPr/>
          <p:nvPr/>
        </p:nvSpPr>
        <p:spPr>
          <a:xfrm>
            <a:off x="4077360" y="2970360"/>
            <a:ext cx="412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d7a"/>
                </a:solidFill>
                <a:latin typeface="方正姚体"/>
                <a:ea typeface="方正姚体"/>
              </a:rPr>
              <a:t>THANK  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六边形 55"/>
          <p:cNvSpPr/>
          <p:nvPr/>
        </p:nvSpPr>
        <p:spPr>
          <a:xfrm rot="5400000">
            <a:off x="3608280" y="1639800"/>
            <a:ext cx="5010120" cy="4317840"/>
          </a:xfrm>
          <a:prstGeom prst="hexagon">
            <a:avLst>
              <a:gd name="adj" fmla="val 25006"/>
              <a:gd name="vf" fmla="val 115470"/>
            </a:avLst>
          </a:pr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8"/>
          <p:cNvSpPr/>
          <p:nvPr/>
        </p:nvSpPr>
        <p:spPr>
          <a:xfrm>
            <a:off x="349560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六边形 16"/>
          <p:cNvSpPr/>
          <p:nvPr/>
        </p:nvSpPr>
        <p:spPr>
          <a:xfrm>
            <a:off x="1797120" y="2657520"/>
            <a:ext cx="2089080" cy="1800360"/>
          </a:xfrm>
          <a:prstGeom prst="hexagon">
            <a:avLst>
              <a:gd name="adj" fmla="val 25001"/>
              <a:gd name="vf" fmla="val 11547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六边形 17"/>
          <p:cNvSpPr/>
          <p:nvPr/>
        </p:nvSpPr>
        <p:spPr>
          <a:xfrm>
            <a:off x="3446640" y="3540240"/>
            <a:ext cx="2087280" cy="1800000"/>
          </a:xfrm>
          <a:prstGeom prst="hexagon">
            <a:avLst>
              <a:gd name="adj" fmla="val 24985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六边形 18"/>
          <p:cNvSpPr/>
          <p:nvPr/>
        </p:nvSpPr>
        <p:spPr>
          <a:xfrm>
            <a:off x="3446640" y="1763640"/>
            <a:ext cx="2087280" cy="1800360"/>
          </a:xfrm>
          <a:prstGeom prst="hexagon">
            <a:avLst>
              <a:gd name="adj" fmla="val 24980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六边形 19"/>
          <p:cNvSpPr/>
          <p:nvPr/>
        </p:nvSpPr>
        <p:spPr>
          <a:xfrm>
            <a:off x="5095800" y="2658960"/>
            <a:ext cx="2089080" cy="1800360"/>
          </a:xfrm>
          <a:prstGeom prst="hexagon">
            <a:avLst>
              <a:gd name="adj" fmla="val 25001"/>
              <a:gd name="vf" fmla="val 11547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六边形 20"/>
          <p:cNvSpPr/>
          <p:nvPr/>
        </p:nvSpPr>
        <p:spPr>
          <a:xfrm>
            <a:off x="6740640" y="3540240"/>
            <a:ext cx="2089080" cy="1800000"/>
          </a:xfrm>
          <a:prstGeom prst="hexagon">
            <a:avLst>
              <a:gd name="adj" fmla="val 25007"/>
              <a:gd name="vf" fmla="val 115470"/>
            </a:avLst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六边形 21"/>
          <p:cNvSpPr/>
          <p:nvPr/>
        </p:nvSpPr>
        <p:spPr>
          <a:xfrm>
            <a:off x="8389800" y="2647800"/>
            <a:ext cx="2089440" cy="1800360"/>
          </a:xfrm>
          <a:prstGeom prst="hexagon">
            <a:avLst>
              <a:gd name="adj" fmla="val 25006"/>
              <a:gd name="vf" fmla="val 11547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2"/>
          <p:cNvSpPr/>
          <p:nvPr/>
        </p:nvSpPr>
        <p:spPr>
          <a:xfrm>
            <a:off x="3412800" y="43815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3"/>
          <p:cNvSpPr/>
          <p:nvPr/>
        </p:nvSpPr>
        <p:spPr>
          <a:xfrm>
            <a:off x="3458160" y="265572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4"/>
          <p:cNvSpPr/>
          <p:nvPr/>
        </p:nvSpPr>
        <p:spPr>
          <a:xfrm>
            <a:off x="6733080" y="43815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32"/>
          <p:cNvGrpSpPr/>
          <p:nvPr/>
        </p:nvGrpSpPr>
        <p:grpSpPr>
          <a:xfrm>
            <a:off x="7575480" y="3862440"/>
            <a:ext cx="419040" cy="401760"/>
            <a:chOff x="7575480" y="3862440"/>
            <a:chExt cx="419040" cy="401760"/>
          </a:xfrm>
        </p:grpSpPr>
        <p:sp>
          <p:nvSpPr>
            <p:cNvPr id="87" name="Freeform 25"/>
            <p:cNvSpPr/>
            <p:nvPr/>
          </p:nvSpPr>
          <p:spPr>
            <a:xfrm>
              <a:off x="7729200" y="4151160"/>
              <a:ext cx="112680" cy="11304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34"/>
            <p:cNvSpPr/>
            <p:nvPr/>
          </p:nvSpPr>
          <p:spPr>
            <a:xfrm>
              <a:off x="7575480" y="3862440"/>
              <a:ext cx="419040" cy="30600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35"/>
          <p:cNvGrpSpPr/>
          <p:nvPr/>
        </p:nvGrpSpPr>
        <p:grpSpPr>
          <a:xfrm>
            <a:off x="4254480" y="1996920"/>
            <a:ext cx="368280" cy="471600"/>
            <a:chOff x="4254480" y="1996920"/>
            <a:chExt cx="368280" cy="471600"/>
          </a:xfrm>
        </p:grpSpPr>
        <p:sp>
          <p:nvSpPr>
            <p:cNvPr id="90" name="Freeform 32"/>
            <p:cNvSpPr/>
            <p:nvPr/>
          </p:nvSpPr>
          <p:spPr>
            <a:xfrm>
              <a:off x="4391280" y="1996920"/>
              <a:ext cx="93240" cy="47160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3"/>
            <p:cNvSpPr/>
            <p:nvPr/>
          </p:nvSpPr>
          <p:spPr>
            <a:xfrm>
              <a:off x="4254480" y="2284560"/>
              <a:ext cx="92160" cy="18396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4"/>
            <p:cNvSpPr/>
            <p:nvPr/>
          </p:nvSpPr>
          <p:spPr>
            <a:xfrm>
              <a:off x="4529520" y="2148480"/>
              <a:ext cx="93240" cy="32004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9"/>
          <p:cNvGrpSpPr/>
          <p:nvPr/>
        </p:nvGrpSpPr>
        <p:grpSpPr>
          <a:xfrm>
            <a:off x="4270320" y="3762360"/>
            <a:ext cx="436680" cy="420840"/>
            <a:chOff x="4270320" y="3762360"/>
            <a:chExt cx="436680" cy="420840"/>
          </a:xfrm>
        </p:grpSpPr>
        <p:sp>
          <p:nvSpPr>
            <p:cNvPr id="94" name="Oval 131"/>
            <p:cNvSpPr/>
            <p:nvPr/>
          </p:nvSpPr>
          <p:spPr>
            <a:xfrm>
              <a:off x="4390200" y="3762360"/>
              <a:ext cx="196560" cy="199440"/>
            </a:xfrm>
            <a:prstGeom prst="ellipse">
              <a:avLst/>
            </a:pr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34"/>
            <p:cNvSpPr/>
            <p:nvPr/>
          </p:nvSpPr>
          <p:spPr>
            <a:xfrm>
              <a:off x="4270320" y="3992760"/>
              <a:ext cx="436680" cy="1904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35" y="87"/>
                  </a:moveTo>
                  <a:cubicBezTo>
                    <a:pt x="35" y="72"/>
                    <a:pt x="35" y="72"/>
                    <a:pt x="35" y="72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155" y="87"/>
                    <a:pt x="155" y="87"/>
                    <a:pt x="155" y="87"/>
                  </a:cubicBezTo>
                  <a:cubicBezTo>
                    <a:pt x="155" y="72"/>
                    <a:pt x="155" y="72"/>
                    <a:pt x="155" y="72"/>
                  </a:cubicBezTo>
                  <a:cubicBezTo>
                    <a:pt x="166" y="72"/>
                    <a:pt x="166" y="72"/>
                    <a:pt x="166" y="72"/>
                  </a:cubicBezTo>
                  <a:cubicBezTo>
                    <a:pt x="166" y="87"/>
                    <a:pt x="166" y="87"/>
                    <a:pt x="166" y="87"/>
                  </a:cubicBezTo>
                  <a:cubicBezTo>
                    <a:pt x="199" y="87"/>
                    <a:pt x="199" y="87"/>
                    <a:pt x="199" y="87"/>
                  </a:cubicBezTo>
                  <a:cubicBezTo>
                    <a:pt x="199" y="47"/>
                    <a:pt x="200" y="43"/>
                    <a:pt x="200" y="43"/>
                  </a:cubicBezTo>
                  <a:cubicBezTo>
                    <a:pt x="200" y="19"/>
                    <a:pt x="180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40" y="0"/>
                    <a:pt x="140" y="0"/>
                    <a:pt x="140" y="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4" y="0"/>
                    <a:pt x="44" y="0"/>
                  </a:cubicBezTo>
                  <a:cubicBezTo>
                    <a:pt x="20" y="0"/>
                    <a:pt x="1" y="19"/>
                    <a:pt x="1" y="43"/>
                  </a:cubicBezTo>
                  <a:cubicBezTo>
                    <a:pt x="1" y="43"/>
                    <a:pt x="0" y="47"/>
                    <a:pt x="0" y="87"/>
                  </a:cubicBezTo>
                  <a:lnTo>
                    <a:pt x="35" y="87"/>
                  </a:lnTo>
                  <a:close/>
                </a:path>
              </a:pathLst>
            </a:cu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4"/>
          <p:cNvSpPr/>
          <p:nvPr/>
        </p:nvSpPr>
        <p:spPr>
          <a:xfrm>
            <a:off x="3570120" y="4454640"/>
            <a:ext cx="1249560" cy="1995480"/>
          </a:xfrm>
          <a:custGeom>
            <a:avLst/>
            <a:gdLst/>
            <a:ahLst/>
            <a:rect l="l" t="t" r="r" b="b"/>
            <a:pathLst>
              <a:path w="1482739" h="2368485">
                <a:moveTo>
                  <a:pt x="618292" y="0"/>
                </a:moveTo>
                <a:lnTo>
                  <a:pt x="1482739" y="684778"/>
                </a:lnTo>
                <a:lnTo>
                  <a:pt x="1388693" y="821331"/>
                </a:lnTo>
                <a:cubicBezTo>
                  <a:pt x="1208281" y="1110339"/>
                  <a:pt x="1104029" y="1451787"/>
                  <a:pt x="1104029" y="1817583"/>
                </a:cubicBezTo>
                <a:cubicBezTo>
                  <a:pt x="1104029" y="1947644"/>
                  <a:pt x="1117209" y="2074627"/>
                  <a:pt x="1142305" y="2197269"/>
                </a:cubicBezTo>
                <a:lnTo>
                  <a:pt x="1186329" y="2368485"/>
                </a:lnTo>
                <a:lnTo>
                  <a:pt x="52879" y="2368485"/>
                </a:lnTo>
                <a:lnTo>
                  <a:pt x="15427" y="2123089"/>
                </a:lnTo>
                <a:cubicBezTo>
                  <a:pt x="5226" y="2022641"/>
                  <a:pt x="0" y="1920723"/>
                  <a:pt x="0" y="1817583"/>
                </a:cubicBezTo>
                <a:cubicBezTo>
                  <a:pt x="0" y="1218087"/>
                  <a:pt x="176550" y="659826"/>
                  <a:pt x="480494" y="191958"/>
                </a:cubicBezTo>
                <a:lnTo>
                  <a:pt x="618292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5"/>
          <p:cNvSpPr/>
          <p:nvPr/>
        </p:nvSpPr>
        <p:spPr>
          <a:xfrm>
            <a:off x="4156200" y="3470400"/>
            <a:ext cx="1879560" cy="1481040"/>
          </a:xfrm>
          <a:custGeom>
            <a:avLst/>
            <a:gdLst/>
            <a:ahLst/>
            <a:rect l="l" t="t" r="r" b="b"/>
            <a:pathLst>
              <a:path w="2229750" h="1759042">
                <a:moveTo>
                  <a:pt x="2229750" y="0"/>
                </a:moveTo>
                <a:lnTo>
                  <a:pt x="2229750" y="1105606"/>
                </a:lnTo>
                <a:lnTo>
                  <a:pt x="2099663" y="1112175"/>
                </a:lnTo>
                <a:cubicBezTo>
                  <a:pt x="1624662" y="1160414"/>
                  <a:pt x="1201825" y="1385111"/>
                  <a:pt x="897739" y="1719680"/>
                </a:cubicBezTo>
                <a:lnTo>
                  <a:pt x="865058" y="1759042"/>
                </a:lnTo>
                <a:lnTo>
                  <a:pt x="0" y="1073780"/>
                </a:lnTo>
                <a:lnTo>
                  <a:pt x="129369" y="924877"/>
                </a:lnTo>
                <a:cubicBezTo>
                  <a:pt x="640582" y="388685"/>
                  <a:pt x="1349142" y="42321"/>
                  <a:pt x="2138526" y="2307"/>
                </a:cubicBezTo>
                <a:lnTo>
                  <a:pt x="222975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6"/>
          <p:cNvSpPr/>
          <p:nvPr/>
        </p:nvSpPr>
        <p:spPr>
          <a:xfrm>
            <a:off x="7356600" y="4452840"/>
            <a:ext cx="1249200" cy="1997280"/>
          </a:xfrm>
          <a:custGeom>
            <a:avLst/>
            <a:gdLst/>
            <a:ahLst/>
            <a:rect l="l" t="t" r="r" b="b"/>
            <a:pathLst>
              <a:path w="1483619" h="2369744">
                <a:moveTo>
                  <a:pt x="864424" y="0"/>
                </a:moveTo>
                <a:lnTo>
                  <a:pt x="1003126" y="193217"/>
                </a:lnTo>
                <a:cubicBezTo>
                  <a:pt x="1307069" y="661085"/>
                  <a:pt x="1483619" y="1219346"/>
                  <a:pt x="1483619" y="1818842"/>
                </a:cubicBezTo>
                <a:cubicBezTo>
                  <a:pt x="1483619" y="1921982"/>
                  <a:pt x="1478393" y="2023900"/>
                  <a:pt x="1468192" y="2124348"/>
                </a:cubicBezTo>
                <a:lnTo>
                  <a:pt x="1430740" y="2369744"/>
                </a:lnTo>
                <a:lnTo>
                  <a:pt x="297290" y="2369744"/>
                </a:lnTo>
                <a:lnTo>
                  <a:pt x="341315" y="2198528"/>
                </a:lnTo>
                <a:cubicBezTo>
                  <a:pt x="366411" y="2075886"/>
                  <a:pt x="379590" y="1948903"/>
                  <a:pt x="379590" y="1818842"/>
                </a:cubicBezTo>
                <a:cubicBezTo>
                  <a:pt x="379590" y="1453046"/>
                  <a:pt x="275339" y="1111598"/>
                  <a:pt x="94927" y="822590"/>
                </a:cubicBezTo>
                <a:lnTo>
                  <a:pt x="0" y="684759"/>
                </a:lnTo>
                <a:lnTo>
                  <a:pt x="864424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6138720" y="3470400"/>
            <a:ext cx="1879920" cy="1481040"/>
          </a:xfrm>
          <a:custGeom>
            <a:avLst/>
            <a:gdLst/>
            <a:ahLst/>
            <a:rect l="l" t="t" r="r" b="b"/>
            <a:pathLst>
              <a:path w="2231226" h="1757913">
                <a:moveTo>
                  <a:pt x="0" y="0"/>
                </a:moveTo>
                <a:lnTo>
                  <a:pt x="93716" y="2370"/>
                </a:lnTo>
                <a:cubicBezTo>
                  <a:pt x="883101" y="42384"/>
                  <a:pt x="1591661" y="388748"/>
                  <a:pt x="2102874" y="924940"/>
                </a:cubicBezTo>
                <a:lnTo>
                  <a:pt x="2231226" y="1072673"/>
                </a:lnTo>
                <a:lnTo>
                  <a:pt x="1366195" y="1757913"/>
                </a:lnTo>
                <a:lnTo>
                  <a:pt x="1334504" y="1719743"/>
                </a:lnTo>
                <a:cubicBezTo>
                  <a:pt x="1030417" y="1385174"/>
                  <a:pt x="607581" y="1160477"/>
                  <a:pt x="132579" y="1112238"/>
                </a:cubicBezTo>
                <a:lnTo>
                  <a:pt x="0" y="110554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8"/>
          <p:cNvSpPr/>
          <p:nvPr/>
        </p:nvSpPr>
        <p:spPr>
          <a:xfrm>
            <a:off x="4354560" y="4241880"/>
            <a:ext cx="3465360" cy="2208240"/>
          </a:xfrm>
          <a:custGeom>
            <a:avLst/>
            <a:gdLst/>
            <a:ahLst/>
            <a:rect l="l" t="t" r="r" b="b"/>
            <a:pathLst>
              <a:path w="4113070" h="2620420">
                <a:moveTo>
                  <a:pt x="2056535" y="0"/>
                </a:moveTo>
                <a:cubicBezTo>
                  <a:pt x="3192328" y="0"/>
                  <a:pt x="4113070" y="920742"/>
                  <a:pt x="4113070" y="2056535"/>
                </a:cubicBezTo>
                <a:cubicBezTo>
                  <a:pt x="4113070" y="2198509"/>
                  <a:pt x="4098684" y="2337123"/>
                  <a:pt x="4071289" y="2470999"/>
                </a:cubicBezTo>
                <a:lnTo>
                  <a:pt x="4032869" y="2620420"/>
                </a:lnTo>
                <a:lnTo>
                  <a:pt x="80202" y="2620420"/>
                </a:lnTo>
                <a:lnTo>
                  <a:pt x="41782" y="2470999"/>
                </a:lnTo>
                <a:cubicBezTo>
                  <a:pt x="14387" y="2337123"/>
                  <a:pt x="0" y="2198509"/>
                  <a:pt x="0" y="2056535"/>
                </a:cubicBezTo>
                <a:cubicBezTo>
                  <a:pt x="0" y="920742"/>
                  <a:pt x="920742" y="0"/>
                  <a:pt x="2056535" y="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9"/>
          <p:cNvSpPr/>
          <p:nvPr/>
        </p:nvSpPr>
        <p:spPr>
          <a:xfrm rot="1320000">
            <a:off x="6372000" y="4057200"/>
            <a:ext cx="250560" cy="2152800"/>
          </a:xfrm>
          <a:custGeom>
            <a:avLst/>
            <a:gdLst/>
            <a:ahLst/>
            <a:rect l="l" t="t" r="r" b="b"/>
            <a:pathLst>
              <a:path w="324000" h="2776241">
                <a:moveTo>
                  <a:pt x="162000" y="0"/>
                </a:moveTo>
                <a:lnTo>
                  <a:pt x="324000" y="2612570"/>
                </a:lnTo>
                <a:lnTo>
                  <a:pt x="323663" y="2612570"/>
                </a:lnTo>
                <a:lnTo>
                  <a:pt x="324000" y="2614241"/>
                </a:lnTo>
                <a:cubicBezTo>
                  <a:pt x="324000" y="2703711"/>
                  <a:pt x="251470" y="2776241"/>
                  <a:pt x="162000" y="2776241"/>
                </a:cubicBezTo>
                <a:cubicBezTo>
                  <a:pt x="72530" y="2776241"/>
                  <a:pt x="0" y="2703711"/>
                  <a:pt x="0" y="2614241"/>
                </a:cubicBezTo>
                <a:lnTo>
                  <a:pt x="338" y="2612570"/>
                </a:lnTo>
                <a:lnTo>
                  <a:pt x="0" y="2612570"/>
                </a:lnTo>
                <a:lnTo>
                  <a:pt x="16200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"/>
          <p:cNvSpPr/>
          <p:nvPr/>
        </p:nvSpPr>
        <p:spPr>
          <a:xfrm rot="18322200">
            <a:off x="3810600" y="516924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1"/>
          <p:cNvSpPr/>
          <p:nvPr/>
        </p:nvSpPr>
        <p:spPr>
          <a:xfrm rot="21388800">
            <a:off x="4839840" y="40510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2"/>
          <p:cNvSpPr/>
          <p:nvPr/>
        </p:nvSpPr>
        <p:spPr>
          <a:xfrm rot="2968800">
            <a:off x="6344640" y="412776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6"/>
          <p:cNvSpPr/>
          <p:nvPr/>
        </p:nvSpPr>
        <p:spPr>
          <a:xfrm rot="5930400">
            <a:off x="7222320" y="546012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7"/>
          <p:cNvGrpSpPr/>
          <p:nvPr/>
        </p:nvGrpSpPr>
        <p:grpSpPr>
          <a:xfrm>
            <a:off x="1771560" y="4646520"/>
            <a:ext cx="571680" cy="600120"/>
            <a:chOff x="1771560" y="4646520"/>
            <a:chExt cx="571680" cy="600120"/>
          </a:xfrm>
        </p:grpSpPr>
        <p:sp>
          <p:nvSpPr>
            <p:cNvPr id="109" name="Freeform 11"/>
            <p:cNvSpPr/>
            <p:nvPr/>
          </p:nvSpPr>
          <p:spPr>
            <a:xfrm>
              <a:off x="1939680" y="4962960"/>
              <a:ext cx="114120" cy="1130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1"/>
                  </a:moveTo>
                  <a:cubicBezTo>
                    <a:pt x="23" y="1"/>
                    <a:pt x="21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1"/>
                    <a:pt x="9" y="40"/>
                    <a:pt x="20" y="40"/>
                  </a:cubicBezTo>
                  <a:cubicBezTo>
                    <a:pt x="31" y="40"/>
                    <a:pt x="40" y="31"/>
                    <a:pt x="40" y="20"/>
                  </a:cubicBezTo>
                  <a:cubicBezTo>
                    <a:pt x="40" y="18"/>
                    <a:pt x="40" y="17"/>
                    <a:pt x="39" y="15"/>
                  </a:cubicBezTo>
                  <a:cubicBezTo>
                    <a:pt x="15" y="26"/>
                    <a:pt x="15" y="26"/>
                    <a:pt x="15" y="26"/>
                  </a:cubicBezTo>
                  <a:lnTo>
                    <a:pt x="24" y="1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2"/>
            <p:cNvSpPr/>
            <p:nvPr/>
          </p:nvSpPr>
          <p:spPr>
            <a:xfrm>
              <a:off x="1771560" y="4794480"/>
              <a:ext cx="451800" cy="4521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1" y="41"/>
                  </a:moveTo>
                  <a:cubicBezTo>
                    <a:pt x="139" y="52"/>
                    <a:pt x="144" y="65"/>
                    <a:pt x="144" y="79"/>
                  </a:cubicBezTo>
                  <a:cubicBezTo>
                    <a:pt x="144" y="115"/>
                    <a:pt x="115" y="144"/>
                    <a:pt x="79" y="144"/>
                  </a:cubicBezTo>
                  <a:cubicBezTo>
                    <a:pt x="44" y="144"/>
                    <a:pt x="15" y="115"/>
                    <a:pt x="15" y="79"/>
                  </a:cubicBezTo>
                  <a:cubicBezTo>
                    <a:pt x="15" y="44"/>
                    <a:pt x="44" y="15"/>
                    <a:pt x="79" y="15"/>
                  </a:cubicBezTo>
                  <a:cubicBezTo>
                    <a:pt x="91" y="15"/>
                    <a:pt x="103" y="18"/>
                    <a:pt x="112" y="24"/>
                  </a:cubicBezTo>
                  <a:cubicBezTo>
                    <a:pt x="122" y="13"/>
                    <a:pt x="122" y="13"/>
                    <a:pt x="122" y="13"/>
                  </a:cubicBezTo>
                  <a:cubicBezTo>
                    <a:pt x="110" y="5"/>
                    <a:pt x="95" y="0"/>
                    <a:pt x="79" y="0"/>
                  </a:cubicBezTo>
                  <a:cubicBezTo>
                    <a:pt x="35" y="0"/>
                    <a:pt x="0" y="35"/>
                    <a:pt x="0" y="79"/>
                  </a:cubicBezTo>
                  <a:cubicBezTo>
                    <a:pt x="0" y="123"/>
                    <a:pt x="35" y="159"/>
                    <a:pt x="79" y="159"/>
                  </a:cubicBezTo>
                  <a:cubicBezTo>
                    <a:pt x="123" y="159"/>
                    <a:pt x="159" y="123"/>
                    <a:pt x="159" y="79"/>
                  </a:cubicBezTo>
                  <a:cubicBezTo>
                    <a:pt x="159" y="61"/>
                    <a:pt x="152" y="43"/>
                    <a:pt x="141" y="30"/>
                  </a:cubicBezTo>
                  <a:lnTo>
                    <a:pt x="131" y="41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3"/>
            <p:cNvSpPr/>
            <p:nvPr/>
          </p:nvSpPr>
          <p:spPr>
            <a:xfrm>
              <a:off x="1996200" y="4931640"/>
              <a:ext cx="85320" cy="878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30"/>
                  </a:moveTo>
                  <a:lnTo>
                    <a:pt x="38" y="0"/>
                  </a:lnTo>
                  <a:lnTo>
                    <a:pt x="19" y="19"/>
                  </a:lnTo>
                  <a:lnTo>
                    <a:pt x="0" y="73"/>
                  </a:lnTo>
                  <a:lnTo>
                    <a:pt x="55" y="49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4"/>
            <p:cNvSpPr/>
            <p:nvPr/>
          </p:nvSpPr>
          <p:spPr>
            <a:xfrm>
              <a:off x="2050200" y="4760640"/>
              <a:ext cx="185040" cy="195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121" y="0"/>
                  </a:moveTo>
                  <a:lnTo>
                    <a:pt x="0" y="132"/>
                  </a:lnTo>
                  <a:lnTo>
                    <a:pt x="33" y="163"/>
                  </a:lnTo>
                  <a:lnTo>
                    <a:pt x="154" y="31"/>
                  </a:lnTo>
                  <a:lnTo>
                    <a:pt x="121" y="3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5"/>
            <p:cNvSpPr/>
            <p:nvPr/>
          </p:nvSpPr>
          <p:spPr>
            <a:xfrm>
              <a:off x="2203920" y="4717440"/>
              <a:ext cx="73080" cy="7668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14" y="48"/>
                  </a:moveTo>
                  <a:lnTo>
                    <a:pt x="14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1" y="55"/>
                  </a:lnTo>
                  <a:lnTo>
                    <a:pt x="50" y="43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6"/>
            <p:cNvSpPr/>
            <p:nvPr/>
          </p:nvSpPr>
          <p:spPr>
            <a:xfrm>
              <a:off x="2235240" y="4681080"/>
              <a:ext cx="76680" cy="792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14" y="49"/>
                  </a:moveTo>
                  <a:lnTo>
                    <a:pt x="14" y="11"/>
                  </a:lnTo>
                  <a:lnTo>
                    <a:pt x="2" y="0"/>
                  </a:lnTo>
                  <a:lnTo>
                    <a:pt x="0" y="66"/>
                  </a:lnTo>
                  <a:lnTo>
                    <a:pt x="64" y="56"/>
                  </a:lnTo>
                  <a:lnTo>
                    <a:pt x="50" y="44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7"/>
            <p:cNvSpPr/>
            <p:nvPr/>
          </p:nvSpPr>
          <p:spPr>
            <a:xfrm>
              <a:off x="1854360" y="4879800"/>
              <a:ext cx="283320" cy="2815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0"/>
                  </a:moveTo>
                  <a:cubicBezTo>
                    <a:pt x="23" y="0"/>
                    <a:pt x="0" y="22"/>
                    <a:pt x="0" y="49"/>
                  </a:cubicBezTo>
                  <a:cubicBezTo>
                    <a:pt x="0" y="77"/>
                    <a:pt x="23" y="99"/>
                    <a:pt x="50" y="99"/>
                  </a:cubicBezTo>
                  <a:cubicBezTo>
                    <a:pt x="78" y="99"/>
                    <a:pt x="100" y="77"/>
                    <a:pt x="100" y="49"/>
                  </a:cubicBezTo>
                  <a:cubicBezTo>
                    <a:pt x="100" y="39"/>
                    <a:pt x="97" y="30"/>
                    <a:pt x="92" y="22"/>
                  </a:cubicBezTo>
                  <a:cubicBezTo>
                    <a:pt x="83" y="32"/>
                    <a:pt x="83" y="32"/>
                    <a:pt x="83" y="32"/>
                  </a:cubicBezTo>
                  <a:cubicBezTo>
                    <a:pt x="81" y="34"/>
                    <a:pt x="81" y="34"/>
                    <a:pt x="81" y="34"/>
                  </a:cubicBezTo>
                  <a:cubicBezTo>
                    <a:pt x="84" y="39"/>
                    <a:pt x="85" y="44"/>
                    <a:pt x="85" y="49"/>
                  </a:cubicBezTo>
                  <a:cubicBezTo>
                    <a:pt x="85" y="69"/>
                    <a:pt x="69" y="84"/>
                    <a:pt x="50" y="84"/>
                  </a:cubicBezTo>
                  <a:cubicBezTo>
                    <a:pt x="31" y="84"/>
                    <a:pt x="15" y="69"/>
                    <a:pt x="15" y="49"/>
                  </a:cubicBezTo>
                  <a:cubicBezTo>
                    <a:pt x="15" y="30"/>
                    <a:pt x="31" y="15"/>
                    <a:pt x="50" y="15"/>
                  </a:cubicBezTo>
                  <a:cubicBezTo>
                    <a:pt x="54" y="15"/>
                    <a:pt x="59" y="15"/>
                    <a:pt x="62" y="17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8" y="0"/>
                    <a:pt x="50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2269080" y="4646520"/>
              <a:ext cx="74160" cy="7668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50" y="43"/>
                  </a:moveTo>
                  <a:lnTo>
                    <a:pt x="15" y="47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0" y="64"/>
                  </a:lnTo>
                  <a:lnTo>
                    <a:pt x="62" y="55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26"/>
          <p:cNvGrpSpPr/>
          <p:nvPr/>
        </p:nvGrpSpPr>
        <p:grpSpPr>
          <a:xfrm>
            <a:off x="2838600" y="2584440"/>
            <a:ext cx="452160" cy="507960"/>
            <a:chOff x="2838600" y="2584440"/>
            <a:chExt cx="452160" cy="507960"/>
          </a:xfrm>
        </p:grpSpPr>
        <p:sp>
          <p:nvSpPr>
            <p:cNvPr id="118" name="Freeform 108"/>
            <p:cNvSpPr/>
            <p:nvPr/>
          </p:nvSpPr>
          <p:spPr>
            <a:xfrm>
              <a:off x="2916000" y="2773080"/>
              <a:ext cx="63720" cy="651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9"/>
            <p:cNvSpPr/>
            <p:nvPr/>
          </p:nvSpPr>
          <p:spPr>
            <a:xfrm>
              <a:off x="3060000" y="2730960"/>
              <a:ext cx="54360" cy="547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0"/>
            <p:cNvSpPr/>
            <p:nvPr/>
          </p:nvSpPr>
          <p:spPr>
            <a:xfrm>
              <a:off x="2930760" y="2788920"/>
              <a:ext cx="34560" cy="345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1"/>
            <p:cNvSpPr/>
            <p:nvPr/>
          </p:nvSpPr>
          <p:spPr>
            <a:xfrm>
              <a:off x="3032640" y="2703600"/>
              <a:ext cx="109080" cy="109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12"/>
            <p:cNvSpPr/>
            <p:nvPr/>
          </p:nvSpPr>
          <p:spPr>
            <a:xfrm>
              <a:off x="2838600" y="2584440"/>
              <a:ext cx="452160" cy="5079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32"/>
          <p:cNvGrpSpPr/>
          <p:nvPr/>
        </p:nvGrpSpPr>
        <p:grpSpPr>
          <a:xfrm>
            <a:off x="9896400" y="4775040"/>
            <a:ext cx="432000" cy="427320"/>
            <a:chOff x="9896400" y="4775040"/>
            <a:chExt cx="432000" cy="427320"/>
          </a:xfrm>
        </p:grpSpPr>
        <p:sp>
          <p:nvSpPr>
            <p:cNvPr id="124" name="Freeform 136"/>
            <p:cNvSpPr/>
            <p:nvPr/>
          </p:nvSpPr>
          <p:spPr>
            <a:xfrm>
              <a:off x="9896400" y="5014440"/>
              <a:ext cx="432000" cy="18792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37"/>
            <p:cNvSpPr/>
            <p:nvPr/>
          </p:nvSpPr>
          <p:spPr>
            <a:xfrm>
              <a:off x="9896400" y="4775040"/>
              <a:ext cx="432000" cy="24840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5"/>
          <p:cNvGrpSpPr/>
          <p:nvPr/>
        </p:nvGrpSpPr>
        <p:grpSpPr>
          <a:xfrm>
            <a:off x="9131400" y="2614680"/>
            <a:ext cx="450720" cy="484200"/>
            <a:chOff x="9131400" y="2614680"/>
            <a:chExt cx="450720" cy="484200"/>
          </a:xfrm>
        </p:grpSpPr>
        <p:sp>
          <p:nvSpPr>
            <p:cNvPr id="127" name="Freeform 154"/>
            <p:cNvSpPr/>
            <p:nvPr/>
          </p:nvSpPr>
          <p:spPr>
            <a:xfrm>
              <a:off x="9267840" y="3025800"/>
              <a:ext cx="48600" cy="4500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55"/>
            <p:cNvSpPr/>
            <p:nvPr/>
          </p:nvSpPr>
          <p:spPr>
            <a:xfrm>
              <a:off x="9286560" y="3019680"/>
              <a:ext cx="9000" cy="3132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56"/>
            <p:cNvSpPr/>
            <p:nvPr/>
          </p:nvSpPr>
          <p:spPr>
            <a:xfrm>
              <a:off x="9169200" y="2693160"/>
              <a:ext cx="252000" cy="2516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7"/>
            <p:cNvSpPr/>
            <p:nvPr/>
          </p:nvSpPr>
          <p:spPr>
            <a:xfrm>
              <a:off x="9131400" y="2614680"/>
              <a:ext cx="326880" cy="48420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58"/>
            <p:cNvSpPr/>
            <p:nvPr/>
          </p:nvSpPr>
          <p:spPr>
            <a:xfrm>
              <a:off x="9397800" y="2810160"/>
              <a:ext cx="184320" cy="1839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41"/>
          <p:cNvSpPr/>
          <p:nvPr/>
        </p:nvSpPr>
        <p:spPr>
          <a:xfrm>
            <a:off x="1534320" y="3033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2"/>
          <p:cNvSpPr/>
          <p:nvPr/>
        </p:nvSpPr>
        <p:spPr>
          <a:xfrm>
            <a:off x="623880" y="5130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3"/>
          <p:cNvSpPr/>
          <p:nvPr/>
        </p:nvSpPr>
        <p:spPr>
          <a:xfrm>
            <a:off x="7777080" y="30211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4"/>
          <p:cNvSpPr/>
          <p:nvPr/>
        </p:nvSpPr>
        <p:spPr>
          <a:xfrm>
            <a:off x="8680320" y="5130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25"/>
          <p:cNvSpPr/>
          <p:nvPr/>
        </p:nvSpPr>
        <p:spPr>
          <a:xfrm>
            <a:off x="5587920" y="2795760"/>
            <a:ext cx="987480" cy="361152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26"/>
          <p:cNvSpPr/>
          <p:nvPr/>
        </p:nvSpPr>
        <p:spPr>
          <a:xfrm rot="1698000">
            <a:off x="6451200" y="3502080"/>
            <a:ext cx="841320" cy="308124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37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27"/>
          <p:cNvSpPr/>
          <p:nvPr/>
        </p:nvSpPr>
        <p:spPr>
          <a:xfrm rot="3406200">
            <a:off x="6751440" y="4916520"/>
            <a:ext cx="546120" cy="199368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28"/>
          <p:cNvSpPr/>
          <p:nvPr/>
        </p:nvSpPr>
        <p:spPr>
          <a:xfrm flipH="1" rot="19902000">
            <a:off x="4888440" y="3517920"/>
            <a:ext cx="841320" cy="308124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37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29"/>
          <p:cNvSpPr/>
          <p:nvPr/>
        </p:nvSpPr>
        <p:spPr>
          <a:xfrm flipH="1" rot="18193800">
            <a:off x="4883400" y="4932000"/>
            <a:ext cx="544680" cy="1995120"/>
          </a:xfrm>
          <a:custGeom>
            <a:avLst/>
            <a:gdLst/>
            <a:ahLst/>
            <a:rect l="l" t="t" r="r" b="b"/>
            <a:pathLst>
              <a:path w="822954" h="3014221">
                <a:moveTo>
                  <a:pt x="411477" y="0"/>
                </a:moveTo>
                <a:lnTo>
                  <a:pt x="822954" y="466659"/>
                </a:lnTo>
                <a:lnTo>
                  <a:pt x="635753" y="466659"/>
                </a:lnTo>
                <a:lnTo>
                  <a:pt x="411477" y="3014221"/>
                </a:lnTo>
                <a:lnTo>
                  <a:pt x="187201" y="466659"/>
                </a:lnTo>
                <a:lnTo>
                  <a:pt x="0" y="466659"/>
                </a:lnTo>
                <a:lnTo>
                  <a:pt x="411477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0"/>
          <p:cNvSpPr/>
          <p:nvPr/>
        </p:nvSpPr>
        <p:spPr>
          <a:xfrm>
            <a:off x="4566600" y="19591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7782840" y="3486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2"/>
          <p:cNvSpPr/>
          <p:nvPr/>
        </p:nvSpPr>
        <p:spPr>
          <a:xfrm>
            <a:off x="8003520" y="51404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3"/>
          <p:cNvSpPr/>
          <p:nvPr/>
        </p:nvSpPr>
        <p:spPr>
          <a:xfrm>
            <a:off x="1360080" y="51404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4"/>
          <p:cNvSpPr/>
          <p:nvPr/>
        </p:nvSpPr>
        <p:spPr>
          <a:xfrm>
            <a:off x="1487880" y="3494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 rot="7200000">
            <a:off x="3949200" y="1842480"/>
            <a:ext cx="4354560" cy="3878280"/>
          </a:xfrm>
          <a:prstGeom prst="pie">
            <a:avLst/>
          </a:pr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22f35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"/>
          <p:cNvSpPr/>
          <p:nvPr/>
        </p:nvSpPr>
        <p:spPr>
          <a:xfrm>
            <a:off x="4397400" y="2236680"/>
            <a:ext cx="3463920" cy="308448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6"/>
          <p:cNvSpPr/>
          <p:nvPr/>
        </p:nvSpPr>
        <p:spPr>
          <a:xfrm>
            <a:off x="1847880" y="2019240"/>
            <a:ext cx="196704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20"/>
          <p:cNvGrpSpPr/>
          <p:nvPr/>
        </p:nvGrpSpPr>
        <p:grpSpPr>
          <a:xfrm>
            <a:off x="2687760" y="2151000"/>
            <a:ext cx="334800" cy="331920"/>
            <a:chOff x="2687760" y="2151000"/>
            <a:chExt cx="334800" cy="331920"/>
          </a:xfrm>
        </p:grpSpPr>
        <p:sp>
          <p:nvSpPr>
            <p:cNvPr id="154" name="Freeform 136"/>
            <p:cNvSpPr/>
            <p:nvPr/>
          </p:nvSpPr>
          <p:spPr>
            <a:xfrm>
              <a:off x="2687760" y="2337120"/>
              <a:ext cx="334800" cy="145800"/>
            </a:xfrm>
            <a:custGeom>
              <a:avLst/>
              <a:gdLst/>
              <a:ahLst/>
              <a:rect l="l" t="t" r="r" b="b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37"/>
            <p:cNvSpPr/>
            <p:nvPr/>
          </p:nvSpPr>
          <p:spPr>
            <a:xfrm>
              <a:off x="2687760" y="2151000"/>
              <a:ext cx="334800" cy="19296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任意多边形 30"/>
          <p:cNvSpPr/>
          <p:nvPr/>
        </p:nvSpPr>
        <p:spPr>
          <a:xfrm flipH="1">
            <a:off x="8429040" y="2019240"/>
            <a:ext cx="196668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3"/>
          <p:cNvGrpSpPr/>
          <p:nvPr/>
        </p:nvGrpSpPr>
        <p:grpSpPr>
          <a:xfrm>
            <a:off x="9256680" y="2171880"/>
            <a:ext cx="344520" cy="330120"/>
            <a:chOff x="9256680" y="2171880"/>
            <a:chExt cx="344520" cy="330120"/>
          </a:xfrm>
        </p:grpSpPr>
        <p:sp>
          <p:nvSpPr>
            <p:cNvPr id="158" name="Freeform 25"/>
            <p:cNvSpPr/>
            <p:nvPr/>
          </p:nvSpPr>
          <p:spPr>
            <a:xfrm>
              <a:off x="9383040" y="2409120"/>
              <a:ext cx="92520" cy="92880"/>
            </a:xfrm>
            <a:custGeom>
              <a:avLst/>
              <a:gdLst/>
              <a:ahLst/>
              <a:rect l="l" t="t" r="r" b="b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25"/>
            <p:cNvSpPr/>
            <p:nvPr/>
          </p:nvSpPr>
          <p:spPr>
            <a:xfrm>
              <a:off x="9256680" y="2171880"/>
              <a:ext cx="344520" cy="251280"/>
            </a:xfrm>
            <a:custGeom>
              <a:avLst/>
              <a:gdLst/>
              <a:ahLst/>
              <a:rect l="l" t="t" r="r" b="b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任意多边形 31"/>
          <p:cNvSpPr/>
          <p:nvPr/>
        </p:nvSpPr>
        <p:spPr>
          <a:xfrm flipV="1">
            <a:off x="1847880" y="4871880"/>
            <a:ext cx="196704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32"/>
          <p:cNvSpPr/>
          <p:nvPr/>
        </p:nvSpPr>
        <p:spPr>
          <a:xfrm flipH="1" flipV="1">
            <a:off x="8429040" y="4871880"/>
            <a:ext cx="1966680" cy="635040"/>
          </a:xfrm>
          <a:custGeom>
            <a:avLst/>
            <a:gdLst/>
            <a:ahLst/>
            <a:rect l="l" t="t" r="r" b="b"/>
            <a:pathLst>
              <a:path w="3234520" h="1741792">
                <a:moveTo>
                  <a:pt x="3234520" y="0"/>
                </a:moveTo>
                <a:lnTo>
                  <a:pt x="1009935" y="0"/>
                </a:lnTo>
                <a:cubicBezTo>
                  <a:pt x="791571" y="4549"/>
                  <a:pt x="614149" y="90985"/>
                  <a:pt x="518615" y="300251"/>
                </a:cubicBezTo>
                <a:lnTo>
                  <a:pt x="0" y="1733266"/>
                </a:lnTo>
                <a:lnTo>
                  <a:pt x="2279176" y="1733266"/>
                </a:lnTo>
                <a:cubicBezTo>
                  <a:pt x="2538484" y="1760561"/>
                  <a:pt x="2606723" y="1733266"/>
                  <a:pt x="2729553" y="1487606"/>
                </a:cubicBezTo>
                <a:lnTo>
                  <a:pt x="3234520" y="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7"/>
          <p:cNvGrpSpPr/>
          <p:nvPr/>
        </p:nvGrpSpPr>
        <p:grpSpPr>
          <a:xfrm>
            <a:off x="2598840" y="4994280"/>
            <a:ext cx="515880" cy="392040"/>
            <a:chOff x="2598840" y="4994280"/>
            <a:chExt cx="515880" cy="392040"/>
          </a:xfrm>
        </p:grpSpPr>
        <p:sp>
          <p:nvSpPr>
            <p:cNvPr id="163" name="Freeform 20"/>
            <p:cNvSpPr/>
            <p:nvPr/>
          </p:nvSpPr>
          <p:spPr>
            <a:xfrm>
              <a:off x="2598840" y="5046480"/>
              <a:ext cx="342000" cy="33984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2912400" y="4994280"/>
              <a:ext cx="202320" cy="20232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6"/>
          <p:cNvGrpSpPr/>
          <p:nvPr/>
        </p:nvGrpSpPr>
        <p:grpSpPr>
          <a:xfrm>
            <a:off x="9213840" y="4971960"/>
            <a:ext cx="299880" cy="382680"/>
            <a:chOff x="9213840" y="4971960"/>
            <a:chExt cx="299880" cy="382680"/>
          </a:xfrm>
        </p:grpSpPr>
        <p:sp>
          <p:nvSpPr>
            <p:cNvPr id="166" name="Freeform 32"/>
            <p:cNvSpPr/>
            <p:nvPr/>
          </p:nvSpPr>
          <p:spPr>
            <a:xfrm>
              <a:off x="9325440" y="4971960"/>
              <a:ext cx="75960" cy="382680"/>
            </a:xfrm>
            <a:custGeom>
              <a:avLst/>
              <a:gdLst/>
              <a:ahLst/>
              <a:rect l="l" t="t" r="r" b="b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9213840" y="5205600"/>
              <a:ext cx="75240" cy="149040"/>
            </a:xfrm>
            <a:custGeom>
              <a:avLst/>
              <a:gdLst/>
              <a:ahLst/>
              <a:rect l="l" t="t" r="r" b="b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9437760" y="5095080"/>
              <a:ext cx="75960" cy="25956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文本框 33"/>
          <p:cNvSpPr/>
          <p:nvPr/>
        </p:nvSpPr>
        <p:spPr>
          <a:xfrm>
            <a:off x="1043280" y="2784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4"/>
          <p:cNvSpPr/>
          <p:nvPr/>
        </p:nvSpPr>
        <p:spPr>
          <a:xfrm>
            <a:off x="1043280" y="4035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5"/>
          <p:cNvSpPr/>
          <p:nvPr/>
        </p:nvSpPr>
        <p:spPr>
          <a:xfrm>
            <a:off x="8310960" y="27939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6"/>
          <p:cNvSpPr/>
          <p:nvPr/>
        </p:nvSpPr>
        <p:spPr>
          <a:xfrm>
            <a:off x="8310960" y="40435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任意多边形 25"/>
          <p:cNvSpPr/>
          <p:nvPr/>
        </p:nvSpPr>
        <p:spPr>
          <a:xfrm rot="10800000">
            <a:off x="1782360" y="0"/>
            <a:ext cx="3583080" cy="1990800"/>
          </a:xfrm>
          <a:custGeom>
            <a:avLst/>
            <a:gdLst/>
            <a:ahLst/>
            <a:rect l="l" t="t" r="r" b="b"/>
            <a:pathLst>
              <a:path w="3582460" h="1991022">
                <a:moveTo>
                  <a:pt x="3327242" y="1991022"/>
                </a:moveTo>
                <a:lnTo>
                  <a:pt x="255219" y="1991022"/>
                </a:lnTo>
                <a:lnTo>
                  <a:pt x="0" y="1544164"/>
                </a:lnTo>
                <a:lnTo>
                  <a:pt x="881934" y="0"/>
                </a:lnTo>
                <a:lnTo>
                  <a:pt x="2700526" y="0"/>
                </a:lnTo>
                <a:lnTo>
                  <a:pt x="3582460" y="1544164"/>
                </a:lnTo>
                <a:lnTo>
                  <a:pt x="3327242" y="1991022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任意多边形 26"/>
          <p:cNvSpPr/>
          <p:nvPr/>
        </p:nvSpPr>
        <p:spPr>
          <a:xfrm rot="10800000">
            <a:off x="0" y="1990440"/>
            <a:ext cx="2484360" cy="3089160"/>
          </a:xfrm>
          <a:custGeom>
            <a:avLst/>
            <a:gdLst/>
            <a:ahLst/>
            <a:rect l="l" t="t" r="r" b="b"/>
            <a:pathLst>
              <a:path w="2483870" h="3088328">
                <a:moveTo>
                  <a:pt x="2483870" y="3088328"/>
                </a:moveTo>
                <a:lnTo>
                  <a:pt x="881934" y="3088328"/>
                </a:lnTo>
                <a:lnTo>
                  <a:pt x="0" y="1544164"/>
                </a:lnTo>
                <a:lnTo>
                  <a:pt x="881934" y="0"/>
                </a:lnTo>
                <a:lnTo>
                  <a:pt x="2483870" y="0"/>
                </a:lnTo>
                <a:lnTo>
                  <a:pt x="2483870" y="308832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27"/>
          <p:cNvSpPr/>
          <p:nvPr/>
        </p:nvSpPr>
        <p:spPr>
          <a:xfrm rot="10800000">
            <a:off x="2065320" y="4154400"/>
            <a:ext cx="4710240" cy="2703600"/>
          </a:xfrm>
          <a:custGeom>
            <a:avLst/>
            <a:gdLst/>
            <a:ahLst/>
            <a:rect l="l" t="t" r="r" b="b"/>
            <a:pathLst>
              <a:path w="4711161" h="2702918">
                <a:moveTo>
                  <a:pt x="3551362" y="2702918"/>
                </a:moveTo>
                <a:lnTo>
                  <a:pt x="1159799" y="2702918"/>
                </a:lnTo>
                <a:lnTo>
                  <a:pt x="0" y="672245"/>
                </a:lnTo>
                <a:lnTo>
                  <a:pt x="383946" y="0"/>
                </a:lnTo>
                <a:lnTo>
                  <a:pt x="4327215" y="0"/>
                </a:lnTo>
                <a:lnTo>
                  <a:pt x="4711161" y="672245"/>
                </a:lnTo>
                <a:lnTo>
                  <a:pt x="3551362" y="2702918"/>
                </a:lnTo>
                <a:close/>
              </a:path>
            </a:pathLst>
          </a:cu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8"/>
          <p:cNvSpPr/>
          <p:nvPr/>
        </p:nvSpPr>
        <p:spPr>
          <a:xfrm>
            <a:off x="358452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42"/>
          <p:cNvSpPr/>
          <p:nvPr/>
        </p:nvSpPr>
        <p:spPr>
          <a:xfrm flipH="1">
            <a:off x="7138800" y="3503520"/>
            <a:ext cx="360036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2437"/>
            </a:gs>
            <a:gs pos="50000">
              <a:srgbClr val="284d7a"/>
            </a:gs>
            <a:gs pos="100000">
              <a:srgbClr val="0f24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e3e7e5"/>
              </a:gs>
              <a:gs pos="100000">
                <a:srgbClr val="e3e7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燕尾形 4"/>
          <p:cNvSpPr/>
          <p:nvPr/>
        </p:nvSpPr>
        <p:spPr>
          <a:xfrm rot="5400000">
            <a:off x="2114280" y="37036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燕尾形 5"/>
          <p:cNvSpPr/>
          <p:nvPr/>
        </p:nvSpPr>
        <p:spPr>
          <a:xfrm rot="5400000">
            <a:off x="202896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7"/>
          <p:cNvSpPr/>
          <p:nvPr/>
        </p:nvSpPr>
        <p:spPr>
          <a:xfrm rot="16200000">
            <a:off x="1368360" y="1983960"/>
            <a:ext cx="1963800" cy="152892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17"/>
          <p:cNvSpPr/>
          <p:nvPr/>
        </p:nvSpPr>
        <p:spPr>
          <a:xfrm rot="16200000">
            <a:off x="3846240" y="1973160"/>
            <a:ext cx="1962000" cy="153036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22"/>
          <p:cNvSpPr/>
          <p:nvPr/>
        </p:nvSpPr>
        <p:spPr>
          <a:xfrm rot="16200000">
            <a:off x="6323400" y="1997640"/>
            <a:ext cx="1965600" cy="152892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30"/>
          <p:cNvSpPr/>
          <p:nvPr/>
        </p:nvSpPr>
        <p:spPr>
          <a:xfrm rot="16200000">
            <a:off x="8837640" y="1973160"/>
            <a:ext cx="1962000" cy="1530360"/>
          </a:xfrm>
          <a:custGeom>
            <a:avLst/>
            <a:gdLst/>
            <a:ahLst/>
            <a:rect l="l" t="t" r="r" b="b"/>
            <a:pathLst>
              <a:path w="1964209" h="1529279">
                <a:moveTo>
                  <a:pt x="1964209" y="764640"/>
                </a:moveTo>
                <a:cubicBezTo>
                  <a:pt x="1964209" y="1186938"/>
                  <a:pt x="1621868" y="1529279"/>
                  <a:pt x="1199570" y="1529279"/>
                </a:cubicBezTo>
                <a:lnTo>
                  <a:pt x="1179474" y="1527254"/>
                </a:lnTo>
                <a:lnTo>
                  <a:pt x="1179474" y="1529278"/>
                </a:lnTo>
                <a:lnTo>
                  <a:pt x="0" y="1529278"/>
                </a:lnTo>
                <a:lnTo>
                  <a:pt x="0" y="1186242"/>
                </a:lnTo>
                <a:lnTo>
                  <a:pt x="1163084" y="1186242"/>
                </a:lnTo>
                <a:lnTo>
                  <a:pt x="1163084" y="1185126"/>
                </a:lnTo>
                <a:lnTo>
                  <a:pt x="1174164" y="1186243"/>
                </a:lnTo>
                <a:cubicBezTo>
                  <a:pt x="1407009" y="1186243"/>
                  <a:pt x="1595768" y="997484"/>
                  <a:pt x="1595768" y="764639"/>
                </a:cubicBezTo>
                <a:cubicBezTo>
                  <a:pt x="1595768" y="531793"/>
                  <a:pt x="1407009" y="343035"/>
                  <a:pt x="1174164" y="343035"/>
                </a:cubicBezTo>
                <a:lnTo>
                  <a:pt x="1163084" y="344152"/>
                </a:lnTo>
                <a:lnTo>
                  <a:pt x="1163084" y="343035"/>
                </a:lnTo>
                <a:lnTo>
                  <a:pt x="0" y="343035"/>
                </a:lnTo>
                <a:lnTo>
                  <a:pt x="0" y="0"/>
                </a:lnTo>
                <a:lnTo>
                  <a:pt x="1179474" y="0"/>
                </a:lnTo>
                <a:lnTo>
                  <a:pt x="1179474" y="2027"/>
                </a:lnTo>
                <a:lnTo>
                  <a:pt x="1199570" y="0"/>
                </a:lnTo>
                <a:cubicBezTo>
                  <a:pt x="1621868" y="0"/>
                  <a:pt x="1964209" y="342341"/>
                  <a:pt x="1964209" y="764640"/>
                </a:cubicBez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6"/>
          <p:cNvSpPr/>
          <p:nvPr/>
        </p:nvSpPr>
        <p:spPr>
          <a:xfrm>
            <a:off x="150984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燕尾形 37"/>
          <p:cNvSpPr/>
          <p:nvPr/>
        </p:nvSpPr>
        <p:spPr>
          <a:xfrm rot="5400000">
            <a:off x="4611600" y="37033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燕尾形 38"/>
          <p:cNvSpPr/>
          <p:nvPr/>
        </p:nvSpPr>
        <p:spPr>
          <a:xfrm rot="5400000">
            <a:off x="452772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9"/>
          <p:cNvSpPr/>
          <p:nvPr/>
        </p:nvSpPr>
        <p:spPr>
          <a:xfrm>
            <a:off x="400824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燕尾形 40"/>
          <p:cNvSpPr/>
          <p:nvPr/>
        </p:nvSpPr>
        <p:spPr>
          <a:xfrm rot="5400000">
            <a:off x="7075440" y="37033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燕尾形 41"/>
          <p:cNvSpPr/>
          <p:nvPr/>
        </p:nvSpPr>
        <p:spPr>
          <a:xfrm rot="5400000">
            <a:off x="6990840" y="3946320"/>
            <a:ext cx="644400" cy="755640"/>
          </a:xfrm>
          <a:custGeom>
            <a:avLst/>
            <a:gdLst>
              <a:gd name="textAreaLeft" fmla="*/ 0 w 644400"/>
              <a:gd name="textAreaRight" fmla="*/ 644760 w 64440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2"/>
          <p:cNvSpPr/>
          <p:nvPr/>
        </p:nvSpPr>
        <p:spPr>
          <a:xfrm>
            <a:off x="647136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燕尾形 43"/>
          <p:cNvSpPr/>
          <p:nvPr/>
        </p:nvSpPr>
        <p:spPr>
          <a:xfrm rot="5400000">
            <a:off x="9599400" y="37036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燕尾形 44"/>
          <p:cNvSpPr/>
          <p:nvPr/>
        </p:nvSpPr>
        <p:spPr>
          <a:xfrm rot="5400000">
            <a:off x="9515880" y="394560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f2437"/>
              </a:gs>
              <a:gs pos="50000">
                <a:srgbClr val="284d7a"/>
              </a:gs>
              <a:gs pos="100000">
                <a:srgbClr val="0f243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45"/>
          <p:cNvSpPr/>
          <p:nvPr/>
        </p:nvSpPr>
        <p:spPr>
          <a:xfrm>
            <a:off x="899568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46"/>
          <p:cNvSpPr/>
          <p:nvPr/>
        </p:nvSpPr>
        <p:spPr>
          <a:xfrm>
            <a:off x="1998720" y="2441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47"/>
          <p:cNvSpPr/>
          <p:nvPr/>
        </p:nvSpPr>
        <p:spPr>
          <a:xfrm>
            <a:off x="4491000" y="2441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48"/>
          <p:cNvSpPr/>
          <p:nvPr/>
        </p:nvSpPr>
        <p:spPr>
          <a:xfrm>
            <a:off x="6980400" y="2448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9"/>
          <p:cNvSpPr/>
          <p:nvPr/>
        </p:nvSpPr>
        <p:spPr>
          <a:xfrm>
            <a:off x="9478440" y="2448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6:06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1:10Z</dcterms:modified>
  <cp:revision>73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