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5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13.wmf" ContentType="image/x-wmf"/>
  <Override PartName="/ppt/media/image41.wmf" ContentType="image/x-wmf"/>
  <Override PartName="/ppt/media/image38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5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33.wmf" ContentType="image/x-wmf"/>
  <Override PartName="/ppt/media/image3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555B-E014-437B-BB0B-A33A0F3CB5F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AA2D-BAE7-427B-8CDB-80F0A8F83E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02E9-0103-42A5-B930-F76552FF67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97E-1749-4205-8D0C-AE24B645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BE9-C699-4965-A6AC-9A157919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528-E49B-4199-B451-BE83A1FC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EF6-0447-4C2D-84A6-1B0A9C11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450-F705-4DEA-956C-2C192AD0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9D2-E10B-47EF-A9B5-120A5018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976-9662-48A5-9063-0D53E8CC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66D-83BB-46BE-859E-8501A203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171-A8B9-48E6-BF11-FD1B42EB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0AF-C2FA-467F-8458-9EEECE77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ECA-7E37-455F-B872-522A6C0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0E9-2E18-4C8F-990F-4DB05E00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B75C-07DA-4FDC-A5BF-37E0D1CEF9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20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7"/>
          <p:cNvGrpSpPr/>
          <p:nvPr/>
        </p:nvGrpSpPr>
        <p:grpSpPr>
          <a:xfrm>
            <a:off x="3546360" y="743040"/>
            <a:ext cx="4943520" cy="5068800"/>
            <a:chOff x="3546360" y="743040"/>
            <a:chExt cx="4943520" cy="5068800"/>
          </a:xfrm>
        </p:grpSpPr>
        <p:pic>
          <p:nvPicPr>
            <p:cNvPr id="49" name="图片 4" descr=""/>
            <p:cNvPicPr/>
            <p:nvPr/>
          </p:nvPicPr>
          <p:blipFill>
            <a:blip r:embed="rId1"/>
            <a:stretch/>
          </p:blipFill>
          <p:spPr>
            <a:xfrm>
              <a:off x="7176600" y="3894120"/>
              <a:ext cx="52128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图片 1" descr=""/>
            <p:cNvPicPr/>
            <p:nvPr/>
          </p:nvPicPr>
          <p:blipFill>
            <a:blip r:embed="rId2"/>
            <a:stretch/>
          </p:blipFill>
          <p:spPr>
            <a:xfrm>
              <a:off x="4605120" y="1690920"/>
              <a:ext cx="2938680" cy="18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2" descr=""/>
            <p:cNvPicPr/>
            <p:nvPr/>
          </p:nvPicPr>
          <p:blipFill>
            <a:blip r:embed="rId3"/>
            <a:stretch/>
          </p:blipFill>
          <p:spPr>
            <a:xfrm>
              <a:off x="3546360" y="743040"/>
              <a:ext cx="4943520" cy="50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3" descr=""/>
            <p:cNvPicPr/>
            <p:nvPr/>
          </p:nvPicPr>
          <p:blipFill>
            <a:blip r:embed="rId4"/>
            <a:stretch/>
          </p:blipFill>
          <p:spPr>
            <a:xfrm>
              <a:off x="7283880" y="2483640"/>
              <a:ext cx="520200" cy="158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图片 5" descr=""/>
          <p:cNvPicPr/>
          <p:nvPr/>
        </p:nvPicPr>
        <p:blipFill>
          <a:blip r:embed="rId5"/>
          <a:stretch/>
        </p:blipFill>
        <p:spPr>
          <a:xfrm>
            <a:off x="3987720" y="3517920"/>
            <a:ext cx="69552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8" descr=""/>
          <p:cNvPicPr/>
          <p:nvPr/>
        </p:nvPicPr>
        <p:blipFill>
          <a:blip r:embed="rId6"/>
          <a:stretch/>
        </p:blipFill>
        <p:spPr>
          <a:xfrm>
            <a:off x="3565440" y="4330800"/>
            <a:ext cx="873360" cy="6681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" descr=""/>
          <p:cNvPicPr/>
          <p:nvPr/>
        </p:nvPicPr>
        <p:blipFill>
          <a:blip r:embed="rId7"/>
          <a:stretch/>
        </p:blipFill>
        <p:spPr>
          <a:xfrm>
            <a:off x="5445000" y="716040"/>
            <a:ext cx="1857600" cy="814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2" descr=""/>
          <p:cNvPicPr/>
          <p:nvPr/>
        </p:nvPicPr>
        <p:blipFill>
          <a:blip r:embed="rId8"/>
          <a:stretch/>
        </p:blipFill>
        <p:spPr>
          <a:xfrm>
            <a:off x="7672320" y="973080"/>
            <a:ext cx="1281240" cy="15508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3" descr=""/>
          <p:cNvPicPr/>
          <p:nvPr/>
        </p:nvPicPr>
        <p:blipFill>
          <a:blip r:embed="rId9"/>
          <a:stretch/>
        </p:blipFill>
        <p:spPr>
          <a:xfrm>
            <a:off x="7981920" y="2813040"/>
            <a:ext cx="1174680" cy="11224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4" descr=""/>
          <p:cNvPicPr/>
          <p:nvPr/>
        </p:nvPicPr>
        <p:blipFill>
          <a:blip r:embed="rId10"/>
          <a:stretch/>
        </p:blipFill>
        <p:spPr>
          <a:xfrm>
            <a:off x="5521320" y="3894120"/>
            <a:ext cx="1511280" cy="1130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6" descr=""/>
          <p:cNvPicPr/>
          <p:nvPr/>
        </p:nvPicPr>
        <p:blipFill>
          <a:blip r:embed="rId11"/>
          <a:stretch/>
        </p:blipFill>
        <p:spPr>
          <a:xfrm>
            <a:off x="6824520" y="700200"/>
            <a:ext cx="927360" cy="285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144360" y="225252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BUSINESS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1"/>
          <p:cNvSpPr/>
          <p:nvPr/>
        </p:nvSpPr>
        <p:spPr>
          <a:xfrm>
            <a:off x="576360" y="1058760"/>
            <a:ext cx="3485880" cy="1247760"/>
          </a:xfrm>
          <a:custGeom>
            <a:avLst/>
            <a:gdLst/>
            <a:ahLst/>
            <a:rect l="l" t="t" r="r" b="b"/>
            <a:pathLst>
              <a:path w="3485702" h="1246621">
                <a:moveTo>
                  <a:pt x="1308645" y="390272"/>
                </a:moveTo>
                <a:cubicBezTo>
                  <a:pt x="1344559" y="390272"/>
                  <a:pt x="1371495" y="408501"/>
                  <a:pt x="1389452" y="444959"/>
                </a:cubicBezTo>
                <a:cubicBezTo>
                  <a:pt x="1407409" y="481417"/>
                  <a:pt x="1416387" y="552611"/>
                  <a:pt x="1416387" y="658539"/>
                </a:cubicBezTo>
                <a:cubicBezTo>
                  <a:pt x="1416387" y="730730"/>
                  <a:pt x="1412488" y="783876"/>
                  <a:pt x="1404688" y="817976"/>
                </a:cubicBezTo>
                <a:cubicBezTo>
                  <a:pt x="1396888" y="852076"/>
                  <a:pt x="1384736" y="877016"/>
                  <a:pt x="1368230" y="892797"/>
                </a:cubicBezTo>
                <a:cubicBezTo>
                  <a:pt x="1351724" y="908577"/>
                  <a:pt x="1332225" y="916467"/>
                  <a:pt x="1309733" y="916467"/>
                </a:cubicBezTo>
                <a:cubicBezTo>
                  <a:pt x="1275633" y="916467"/>
                  <a:pt x="1249604" y="897876"/>
                  <a:pt x="1231647" y="860692"/>
                </a:cubicBezTo>
                <a:cubicBezTo>
                  <a:pt x="1213690" y="823508"/>
                  <a:pt x="1204712" y="754129"/>
                  <a:pt x="1204712" y="652553"/>
                </a:cubicBezTo>
                <a:cubicBezTo>
                  <a:pt x="1204712" y="552066"/>
                  <a:pt x="1212874" y="483231"/>
                  <a:pt x="1229199" y="446047"/>
                </a:cubicBezTo>
                <a:cubicBezTo>
                  <a:pt x="1245523" y="408864"/>
                  <a:pt x="1272005" y="390272"/>
                  <a:pt x="1308645" y="390272"/>
                </a:cubicBezTo>
                <a:close/>
                <a:moveTo>
                  <a:pt x="2770109" y="256410"/>
                </a:moveTo>
                <a:lnTo>
                  <a:pt x="2699914" y="685203"/>
                </a:lnTo>
                <a:lnTo>
                  <a:pt x="2888735" y="712410"/>
                </a:lnTo>
                <a:cubicBezTo>
                  <a:pt x="2906510" y="692458"/>
                  <a:pt x="2922835" y="678673"/>
                  <a:pt x="2937708" y="671055"/>
                </a:cubicBezTo>
                <a:cubicBezTo>
                  <a:pt x="2957661" y="660534"/>
                  <a:pt x="2978338" y="655274"/>
                  <a:pt x="2999742" y="655274"/>
                </a:cubicBezTo>
                <a:cubicBezTo>
                  <a:pt x="3033479" y="655274"/>
                  <a:pt x="3060505" y="666339"/>
                  <a:pt x="3080821" y="688467"/>
                </a:cubicBezTo>
                <a:cubicBezTo>
                  <a:pt x="3101136" y="710596"/>
                  <a:pt x="3111293" y="745422"/>
                  <a:pt x="3111293" y="792945"/>
                </a:cubicBezTo>
                <a:cubicBezTo>
                  <a:pt x="3111293" y="839379"/>
                  <a:pt x="3101226" y="874296"/>
                  <a:pt x="3081093" y="897694"/>
                </a:cubicBezTo>
                <a:cubicBezTo>
                  <a:pt x="3060959" y="921093"/>
                  <a:pt x="3035474" y="932792"/>
                  <a:pt x="3004639" y="932792"/>
                </a:cubicBezTo>
                <a:cubicBezTo>
                  <a:pt x="2977069" y="932792"/>
                  <a:pt x="2953307" y="923451"/>
                  <a:pt x="2933355" y="904768"/>
                </a:cubicBezTo>
                <a:cubicBezTo>
                  <a:pt x="2913403" y="886086"/>
                  <a:pt x="2900706" y="858787"/>
                  <a:pt x="2895264" y="822873"/>
                </a:cubicBezTo>
                <a:lnTo>
                  <a:pt x="2671073" y="847360"/>
                </a:lnTo>
                <a:cubicBezTo>
                  <a:pt x="2681956" y="884725"/>
                  <a:pt x="2695560" y="915923"/>
                  <a:pt x="2711885" y="940954"/>
                </a:cubicBezTo>
                <a:cubicBezTo>
                  <a:pt x="2728209" y="965985"/>
                  <a:pt x="2749522" y="988386"/>
                  <a:pt x="2775823" y="1008157"/>
                </a:cubicBezTo>
                <a:cubicBezTo>
                  <a:pt x="2802124" y="1027928"/>
                  <a:pt x="2834047" y="1042802"/>
                  <a:pt x="2871594" y="1052778"/>
                </a:cubicBezTo>
                <a:cubicBezTo>
                  <a:pt x="2909140" y="1062754"/>
                  <a:pt x="2954214" y="1067742"/>
                  <a:pt x="3006816" y="1067742"/>
                </a:cubicBezTo>
                <a:cubicBezTo>
                  <a:pt x="3080095" y="1067742"/>
                  <a:pt x="3140224" y="1055227"/>
                  <a:pt x="3187202" y="1030195"/>
                </a:cubicBezTo>
                <a:cubicBezTo>
                  <a:pt x="3234181" y="1005164"/>
                  <a:pt x="3270458" y="968888"/>
                  <a:pt x="3296033" y="921365"/>
                </a:cubicBezTo>
                <a:cubicBezTo>
                  <a:pt x="3321608" y="873842"/>
                  <a:pt x="3334396" y="824324"/>
                  <a:pt x="3334396" y="772811"/>
                </a:cubicBezTo>
                <a:cubicBezTo>
                  <a:pt x="3334396" y="699532"/>
                  <a:pt x="3309546" y="638768"/>
                  <a:pt x="3259847" y="590520"/>
                </a:cubicBezTo>
                <a:cubicBezTo>
                  <a:pt x="3210147" y="542272"/>
                  <a:pt x="3145393" y="518148"/>
                  <a:pt x="3065584" y="518148"/>
                </a:cubicBezTo>
                <a:cubicBezTo>
                  <a:pt x="3042004" y="518148"/>
                  <a:pt x="3018152" y="521050"/>
                  <a:pt x="2994028" y="526854"/>
                </a:cubicBezTo>
                <a:cubicBezTo>
                  <a:pt x="2969904" y="532658"/>
                  <a:pt x="2945508" y="541365"/>
                  <a:pt x="2920840" y="552973"/>
                </a:cubicBezTo>
                <a:lnTo>
                  <a:pt x="2939885" y="433260"/>
                </a:lnTo>
                <a:lnTo>
                  <a:pt x="3296305" y="433260"/>
                </a:lnTo>
                <a:lnTo>
                  <a:pt x="3296305" y="256410"/>
                </a:lnTo>
                <a:lnTo>
                  <a:pt x="2770109" y="256410"/>
                </a:lnTo>
                <a:close/>
                <a:moveTo>
                  <a:pt x="2151473" y="242806"/>
                </a:moveTo>
                <a:cubicBezTo>
                  <a:pt x="2127893" y="292868"/>
                  <a:pt x="2095244" y="334949"/>
                  <a:pt x="2053525" y="369050"/>
                </a:cubicBezTo>
                <a:cubicBezTo>
                  <a:pt x="2011807" y="403150"/>
                  <a:pt x="1953220" y="432353"/>
                  <a:pt x="1877764" y="456658"/>
                </a:cubicBezTo>
                <a:lnTo>
                  <a:pt x="1877764" y="638405"/>
                </a:lnTo>
                <a:cubicBezTo>
                  <a:pt x="1928914" y="622806"/>
                  <a:pt x="1971449" y="606482"/>
                  <a:pt x="2005368" y="589432"/>
                </a:cubicBezTo>
                <a:cubicBezTo>
                  <a:pt x="2039286" y="572381"/>
                  <a:pt x="2074384" y="550071"/>
                  <a:pt x="2110661" y="522501"/>
                </a:cubicBezTo>
                <a:lnTo>
                  <a:pt x="2110661" y="1054138"/>
                </a:lnTo>
                <a:lnTo>
                  <a:pt x="2334852" y="1054138"/>
                </a:lnTo>
                <a:lnTo>
                  <a:pt x="2334852" y="242806"/>
                </a:lnTo>
                <a:lnTo>
                  <a:pt x="2151473" y="242806"/>
                </a:lnTo>
                <a:close/>
                <a:moveTo>
                  <a:pt x="1316263" y="242806"/>
                </a:moveTo>
                <a:cubicBezTo>
                  <a:pt x="1204530" y="242806"/>
                  <a:pt x="1121366" y="273097"/>
                  <a:pt x="1066769" y="333680"/>
                </a:cubicBezTo>
                <a:cubicBezTo>
                  <a:pt x="1012172" y="394262"/>
                  <a:pt x="984874" y="500372"/>
                  <a:pt x="984874" y="652009"/>
                </a:cubicBezTo>
                <a:cubicBezTo>
                  <a:pt x="984874" y="713680"/>
                  <a:pt x="990225" y="770000"/>
                  <a:pt x="1000926" y="820969"/>
                </a:cubicBezTo>
                <a:cubicBezTo>
                  <a:pt x="1011628" y="871938"/>
                  <a:pt x="1026592" y="912114"/>
                  <a:pt x="1045819" y="941498"/>
                </a:cubicBezTo>
                <a:cubicBezTo>
                  <a:pt x="1072301" y="982854"/>
                  <a:pt x="1106220" y="1014234"/>
                  <a:pt x="1147576" y="1035637"/>
                </a:cubicBezTo>
                <a:cubicBezTo>
                  <a:pt x="1188931" y="1057040"/>
                  <a:pt x="1243165" y="1067742"/>
                  <a:pt x="1310277" y="1067742"/>
                </a:cubicBezTo>
                <a:cubicBezTo>
                  <a:pt x="1429991" y="1067742"/>
                  <a:pt x="1514335" y="1034186"/>
                  <a:pt x="1563309" y="967074"/>
                </a:cubicBezTo>
                <a:cubicBezTo>
                  <a:pt x="1612282" y="899961"/>
                  <a:pt x="1636769" y="794033"/>
                  <a:pt x="1636769" y="649288"/>
                </a:cubicBezTo>
                <a:cubicBezTo>
                  <a:pt x="1636769" y="584716"/>
                  <a:pt x="1629332" y="522682"/>
                  <a:pt x="1614459" y="463188"/>
                </a:cubicBezTo>
                <a:cubicBezTo>
                  <a:pt x="1606841" y="431990"/>
                  <a:pt x="1596774" y="404692"/>
                  <a:pt x="1584258" y="381293"/>
                </a:cubicBezTo>
                <a:cubicBezTo>
                  <a:pt x="1571743" y="357895"/>
                  <a:pt x="1554602" y="335584"/>
                  <a:pt x="1532836" y="314362"/>
                </a:cubicBezTo>
                <a:cubicBezTo>
                  <a:pt x="1511070" y="293140"/>
                  <a:pt x="1482955" y="275909"/>
                  <a:pt x="1448492" y="262668"/>
                </a:cubicBezTo>
                <a:cubicBezTo>
                  <a:pt x="1414029" y="249427"/>
                  <a:pt x="1369953" y="242806"/>
                  <a:pt x="1316263" y="242806"/>
                </a:cubicBezTo>
                <a:close/>
                <a:moveTo>
                  <a:pt x="458743" y="242806"/>
                </a:moveTo>
                <a:cubicBezTo>
                  <a:pt x="384013" y="242806"/>
                  <a:pt x="325517" y="252147"/>
                  <a:pt x="283254" y="270830"/>
                </a:cubicBezTo>
                <a:cubicBezTo>
                  <a:pt x="240991" y="289513"/>
                  <a:pt x="208252" y="316358"/>
                  <a:pt x="185034" y="351365"/>
                </a:cubicBezTo>
                <a:cubicBezTo>
                  <a:pt x="161817" y="386372"/>
                  <a:pt x="145855" y="435074"/>
                  <a:pt x="137149" y="497470"/>
                </a:cubicBezTo>
                <a:lnTo>
                  <a:pt x="359163" y="515427"/>
                </a:lnTo>
                <a:cubicBezTo>
                  <a:pt x="365330" y="470444"/>
                  <a:pt x="377392" y="439064"/>
                  <a:pt x="395349" y="421288"/>
                </a:cubicBezTo>
                <a:cubicBezTo>
                  <a:pt x="413307" y="403513"/>
                  <a:pt x="436433" y="394625"/>
                  <a:pt x="464729" y="394625"/>
                </a:cubicBezTo>
                <a:cubicBezTo>
                  <a:pt x="491937" y="394625"/>
                  <a:pt x="514519" y="403241"/>
                  <a:pt x="532476" y="420472"/>
                </a:cubicBezTo>
                <a:cubicBezTo>
                  <a:pt x="550433" y="437704"/>
                  <a:pt x="559412" y="458472"/>
                  <a:pt x="559412" y="482778"/>
                </a:cubicBezTo>
                <a:cubicBezTo>
                  <a:pt x="559412" y="505269"/>
                  <a:pt x="550342" y="529031"/>
                  <a:pt x="532204" y="554062"/>
                </a:cubicBezTo>
                <a:cubicBezTo>
                  <a:pt x="514065" y="579093"/>
                  <a:pt x="472529" y="615732"/>
                  <a:pt x="407593" y="663981"/>
                </a:cubicBezTo>
                <a:cubicBezTo>
                  <a:pt x="301302" y="742701"/>
                  <a:pt x="228839" y="810992"/>
                  <a:pt x="190204" y="868854"/>
                </a:cubicBezTo>
                <a:cubicBezTo>
                  <a:pt x="151569" y="926716"/>
                  <a:pt x="128443" y="988477"/>
                  <a:pt x="120824" y="1054138"/>
                </a:cubicBezTo>
                <a:lnTo>
                  <a:pt x="785779" y="1054138"/>
                </a:lnTo>
                <a:lnTo>
                  <a:pt x="785779" y="873479"/>
                </a:lnTo>
                <a:lnTo>
                  <a:pt x="439698" y="873479"/>
                </a:lnTo>
                <a:cubicBezTo>
                  <a:pt x="460013" y="853527"/>
                  <a:pt x="477698" y="837384"/>
                  <a:pt x="492753" y="825050"/>
                </a:cubicBezTo>
                <a:cubicBezTo>
                  <a:pt x="507808" y="812716"/>
                  <a:pt x="537646" y="791131"/>
                  <a:pt x="582266" y="760296"/>
                </a:cubicBezTo>
                <a:cubicBezTo>
                  <a:pt x="657359" y="707331"/>
                  <a:pt x="709144" y="658720"/>
                  <a:pt x="737622" y="614463"/>
                </a:cubicBezTo>
                <a:cubicBezTo>
                  <a:pt x="766099" y="570205"/>
                  <a:pt x="780338" y="523770"/>
                  <a:pt x="780338" y="475159"/>
                </a:cubicBezTo>
                <a:cubicBezTo>
                  <a:pt x="780338" y="429451"/>
                  <a:pt x="767913" y="388186"/>
                  <a:pt x="743063" y="351365"/>
                </a:cubicBezTo>
                <a:cubicBezTo>
                  <a:pt x="718214" y="314544"/>
                  <a:pt x="684113" y="287245"/>
                  <a:pt x="640762" y="269470"/>
                </a:cubicBezTo>
                <a:cubicBezTo>
                  <a:pt x="597412" y="251694"/>
                  <a:pt x="536739" y="242806"/>
                  <a:pt x="458743" y="242806"/>
                </a:cubicBezTo>
                <a:close/>
                <a:moveTo>
                  <a:pt x="207774" y="0"/>
                </a:moveTo>
                <a:lnTo>
                  <a:pt x="3277928" y="0"/>
                </a:lnTo>
                <a:cubicBezTo>
                  <a:pt x="3392678" y="0"/>
                  <a:pt x="3485702" y="93024"/>
                  <a:pt x="3485702" y="207774"/>
                </a:cubicBezTo>
                <a:lnTo>
                  <a:pt x="3485702" y="1038847"/>
                </a:lnTo>
                <a:cubicBezTo>
                  <a:pt x="3485702" y="1153597"/>
                  <a:pt x="3392678" y="1246621"/>
                  <a:pt x="3277928" y="1246621"/>
                </a:cubicBezTo>
                <a:lnTo>
                  <a:pt x="207774" y="1246621"/>
                </a:lnTo>
                <a:cubicBezTo>
                  <a:pt x="93024" y="1246621"/>
                  <a:pt x="0" y="1153597"/>
                  <a:pt x="0" y="1038847"/>
                </a:cubicBezTo>
                <a:lnTo>
                  <a:pt x="0" y="207774"/>
                </a:lnTo>
                <a:cubicBezTo>
                  <a:pt x="0" y="93024"/>
                  <a:pt x="93024" y="0"/>
                  <a:pt x="2077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144360" y="287172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23" descr=""/>
          <p:cNvPicPr/>
          <p:nvPr/>
        </p:nvPicPr>
        <p:blipFill>
          <a:blip r:embed="rId12"/>
          <a:stretch/>
        </p:blipFill>
        <p:spPr>
          <a:xfrm>
            <a:off x="1236600" y="3927600"/>
            <a:ext cx="800280" cy="977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4" descr=""/>
          <p:cNvPicPr/>
          <p:nvPr/>
        </p:nvPicPr>
        <p:blipFill>
          <a:blip r:embed="rId13"/>
          <a:stretch/>
        </p:blipFill>
        <p:spPr>
          <a:xfrm>
            <a:off x="2643120" y="4381560"/>
            <a:ext cx="325440" cy="4921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5" descr=""/>
          <p:cNvPicPr/>
          <p:nvPr/>
        </p:nvPicPr>
        <p:blipFill>
          <a:blip r:embed="rId14"/>
          <a:stretch/>
        </p:blipFill>
        <p:spPr>
          <a:xfrm>
            <a:off x="2050920" y="4494240"/>
            <a:ext cx="412920" cy="4366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6" descr=""/>
          <p:cNvPicPr/>
          <p:nvPr/>
        </p:nvPicPr>
        <p:blipFill>
          <a:blip r:embed="rId15"/>
          <a:stretch/>
        </p:blipFill>
        <p:spPr>
          <a:xfrm>
            <a:off x="2335320" y="3800520"/>
            <a:ext cx="565200" cy="6159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7" descr=""/>
          <p:cNvPicPr/>
          <p:nvPr/>
        </p:nvPicPr>
        <p:blipFill>
          <a:blip r:embed="rId16"/>
          <a:stretch/>
        </p:blipFill>
        <p:spPr>
          <a:xfrm>
            <a:off x="2874960" y="3970440"/>
            <a:ext cx="824040" cy="25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1"/>
          <p:cNvSpPr/>
          <p:nvPr/>
        </p:nvSpPr>
        <p:spPr>
          <a:xfrm>
            <a:off x="785880" y="1355760"/>
            <a:ext cx="735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组合 2"/>
          <p:cNvGrpSpPr/>
          <p:nvPr/>
        </p:nvGrpSpPr>
        <p:grpSpPr>
          <a:xfrm>
            <a:off x="714240" y="2184480"/>
            <a:ext cx="1643040" cy="2386800"/>
            <a:chOff x="714240" y="2184480"/>
            <a:chExt cx="1643040" cy="2386800"/>
          </a:xfrm>
        </p:grpSpPr>
        <p:grpSp>
          <p:nvGrpSpPr>
            <p:cNvPr id="429" name="矩形 3"/>
            <p:cNvGrpSpPr/>
            <p:nvPr/>
          </p:nvGrpSpPr>
          <p:grpSpPr>
            <a:xfrm>
              <a:off x="714240" y="2184480"/>
              <a:ext cx="1643040" cy="2071080"/>
              <a:chOff x="714240" y="2184480"/>
              <a:chExt cx="1643040" cy="2071080"/>
            </a:xfrm>
          </p:grpSpPr>
          <p:pic>
            <p:nvPicPr>
              <p:cNvPr id="430" name="矩形 3" descr=""/>
              <p:cNvPicPr/>
              <p:nvPr/>
            </p:nvPicPr>
            <p:blipFill>
              <a:blip r:embed="rId1"/>
              <a:stretch/>
            </p:blipFill>
            <p:spPr>
              <a:xfrm>
                <a:off x="714240" y="2184480"/>
                <a:ext cx="1643040" cy="207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715320" y="2186280"/>
                <a:ext cx="1640520" cy="20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矩形 4"/>
            <p:cNvSpPr/>
            <p:nvPr/>
          </p:nvSpPr>
          <p:spPr>
            <a:xfrm>
              <a:off x="715320" y="4256640"/>
              <a:ext cx="1640520" cy="28548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5"/>
            <p:cNvSpPr/>
            <p:nvPr/>
          </p:nvSpPr>
          <p:spPr>
            <a:xfrm>
              <a:off x="722880" y="4233960"/>
              <a:ext cx="15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6"/>
          <p:cNvGrpSpPr/>
          <p:nvPr/>
        </p:nvGrpSpPr>
        <p:grpSpPr>
          <a:xfrm>
            <a:off x="2714760" y="2184480"/>
            <a:ext cx="1643040" cy="2357280"/>
            <a:chOff x="2714760" y="2184480"/>
            <a:chExt cx="1643040" cy="2357280"/>
          </a:xfrm>
        </p:grpSpPr>
        <p:sp>
          <p:nvSpPr>
            <p:cNvPr id="435" name="矩形 7"/>
            <p:cNvSpPr/>
            <p:nvPr/>
          </p:nvSpPr>
          <p:spPr>
            <a:xfrm>
              <a:off x="2714760" y="2184480"/>
              <a:ext cx="1643040" cy="2071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8"/>
            <p:cNvSpPr/>
            <p:nvPr/>
          </p:nvSpPr>
          <p:spPr>
            <a:xfrm>
              <a:off x="2714760" y="4256280"/>
              <a:ext cx="1643040" cy="28548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9"/>
          <p:cNvGrpSpPr/>
          <p:nvPr/>
        </p:nvGrpSpPr>
        <p:grpSpPr>
          <a:xfrm>
            <a:off x="4714920" y="2184480"/>
            <a:ext cx="1643040" cy="2357280"/>
            <a:chOff x="4714920" y="2184480"/>
            <a:chExt cx="1643040" cy="2357280"/>
          </a:xfrm>
        </p:grpSpPr>
        <p:grpSp>
          <p:nvGrpSpPr>
            <p:cNvPr id="438" name="矩形 10"/>
            <p:cNvGrpSpPr/>
            <p:nvPr/>
          </p:nvGrpSpPr>
          <p:grpSpPr>
            <a:xfrm>
              <a:off x="4714920" y="2184480"/>
              <a:ext cx="1643040" cy="2070720"/>
              <a:chOff x="4714920" y="2184480"/>
              <a:chExt cx="1643040" cy="2070720"/>
            </a:xfrm>
          </p:grpSpPr>
          <p:pic>
            <p:nvPicPr>
              <p:cNvPr id="439" name="矩形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714920" y="2184480"/>
                <a:ext cx="1643040" cy="207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4717440" y="2186280"/>
                <a:ext cx="1640520" cy="20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1" name="矩形 11"/>
            <p:cNvSpPr/>
            <p:nvPr/>
          </p:nvSpPr>
          <p:spPr>
            <a:xfrm>
              <a:off x="4717440" y="4256280"/>
              <a:ext cx="1640520" cy="285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组合 12"/>
          <p:cNvGrpSpPr/>
          <p:nvPr/>
        </p:nvGrpSpPr>
        <p:grpSpPr>
          <a:xfrm>
            <a:off x="6715080" y="2184480"/>
            <a:ext cx="1643040" cy="2357280"/>
            <a:chOff x="6715080" y="2184480"/>
            <a:chExt cx="1643040" cy="2357280"/>
          </a:xfrm>
        </p:grpSpPr>
        <p:sp>
          <p:nvSpPr>
            <p:cNvPr id="443" name="矩形 13"/>
            <p:cNvSpPr/>
            <p:nvPr/>
          </p:nvSpPr>
          <p:spPr>
            <a:xfrm>
              <a:off x="6715080" y="2184480"/>
              <a:ext cx="1643040" cy="2071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4"/>
            <p:cNvSpPr/>
            <p:nvPr/>
          </p:nvSpPr>
          <p:spPr>
            <a:xfrm>
              <a:off x="6715080" y="4256280"/>
              <a:ext cx="1643040" cy="285480"/>
            </a:xfrm>
            <a:prstGeom prst="rect">
              <a:avLst/>
            </a:prstGeom>
            <a:solidFill>
              <a:srgbClr val="5aa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TextBox 15"/>
          <p:cNvSpPr/>
          <p:nvPr/>
        </p:nvSpPr>
        <p:spPr>
          <a:xfrm>
            <a:off x="3357720" y="1028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16"/>
          <p:cNvSpPr/>
          <p:nvPr/>
        </p:nvSpPr>
        <p:spPr>
          <a:xfrm>
            <a:off x="2795040" y="420228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7"/>
          <p:cNvSpPr/>
          <p:nvPr/>
        </p:nvSpPr>
        <p:spPr>
          <a:xfrm>
            <a:off x="4817520" y="420228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8"/>
          <p:cNvSpPr/>
          <p:nvPr/>
        </p:nvSpPr>
        <p:spPr>
          <a:xfrm>
            <a:off x="6746400" y="420228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组合 30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450" name="燕尾形 31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燕尾形 32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燕尾形 33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燕尾形 3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矩形 35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任意多边形 11"/>
          <p:cNvSpPr/>
          <p:nvPr/>
        </p:nvSpPr>
        <p:spPr>
          <a:xfrm>
            <a:off x="1042920" y="1492200"/>
            <a:ext cx="93672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1" y="414347"/>
                  <a:pt x="359231" y="457805"/>
                </a:cubicBezTo>
                <a:cubicBezTo>
                  <a:pt x="359231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3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3" y="355374"/>
                  <a:pt x="299998" y="347747"/>
                  <a:pt x="315030" y="347747"/>
                </a:cubicBezTo>
                <a:close/>
                <a:moveTo>
                  <a:pt x="617820" y="287248"/>
                </a:moveTo>
                <a:cubicBezTo>
                  <a:pt x="608147" y="307786"/>
                  <a:pt x="594752" y="325050"/>
                  <a:pt x="577637" y="339040"/>
                </a:cubicBezTo>
                <a:cubicBezTo>
                  <a:pt x="560522" y="353030"/>
                  <a:pt x="536486" y="365011"/>
                  <a:pt x="505530" y="374982"/>
                </a:cubicBezTo>
                <a:lnTo>
                  <a:pt x="505530" y="449545"/>
                </a:lnTo>
                <a:cubicBezTo>
                  <a:pt x="526514" y="443145"/>
                  <a:pt x="543964" y="436448"/>
                  <a:pt x="557880" y="429453"/>
                </a:cubicBezTo>
                <a:cubicBezTo>
                  <a:pt x="571795" y="422458"/>
                  <a:pt x="586194" y="413305"/>
                  <a:pt x="601077" y="401994"/>
                </a:cubicBezTo>
                <a:lnTo>
                  <a:pt x="601077" y="620102"/>
                </a:lnTo>
                <a:lnTo>
                  <a:pt x="693053" y="620102"/>
                </a:lnTo>
                <a:lnTo>
                  <a:pt x="693053" y="287248"/>
                </a:lnTo>
                <a:lnTo>
                  <a:pt x="617820" y="287248"/>
                </a:ln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8" y="324529"/>
                </a:cubicBezTo>
                <a:cubicBezTo>
                  <a:pt x="193400" y="349384"/>
                  <a:pt x="182200" y="392916"/>
                  <a:pt x="182200" y="455126"/>
                </a:cubicBezTo>
                <a:cubicBezTo>
                  <a:pt x="182200" y="480427"/>
                  <a:pt x="184396" y="503533"/>
                  <a:pt x="188786" y="524443"/>
                </a:cubicBezTo>
                <a:cubicBezTo>
                  <a:pt x="193176" y="545353"/>
                  <a:pt x="199316" y="561836"/>
                  <a:pt x="207204" y="573891"/>
                </a:cubicBezTo>
                <a:cubicBezTo>
                  <a:pt x="218068" y="590857"/>
                  <a:pt x="231983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1" y="300829"/>
                  <a:pt x="372403" y="295396"/>
                </a:cubicBezTo>
                <a:cubicBezTo>
                  <a:pt x="358264" y="289964"/>
                  <a:pt x="340181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任意多边形 12"/>
          <p:cNvSpPr/>
          <p:nvPr/>
        </p:nvSpPr>
        <p:spPr>
          <a:xfrm>
            <a:off x="3059280" y="1492200"/>
            <a:ext cx="93636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2" y="414347"/>
                  <a:pt x="359232" y="457805"/>
                </a:cubicBezTo>
                <a:cubicBezTo>
                  <a:pt x="359232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3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3" y="355374"/>
                  <a:pt x="299998" y="347747"/>
                  <a:pt x="315030" y="347747"/>
                </a:cubicBezTo>
                <a:close/>
                <a:moveTo>
                  <a:pt x="618937" y="287248"/>
                </a:moveTo>
                <a:cubicBezTo>
                  <a:pt x="588278" y="287248"/>
                  <a:pt x="564279" y="291080"/>
                  <a:pt x="546941" y="298745"/>
                </a:cubicBezTo>
                <a:cubicBezTo>
                  <a:pt x="529603" y="306410"/>
                  <a:pt x="516171" y="317423"/>
                  <a:pt x="506646" y="331785"/>
                </a:cubicBezTo>
                <a:cubicBezTo>
                  <a:pt x="497121" y="346147"/>
                  <a:pt x="490572" y="366127"/>
                  <a:pt x="487000" y="391725"/>
                </a:cubicBezTo>
                <a:lnTo>
                  <a:pt x="578083" y="399092"/>
                </a:lnTo>
                <a:cubicBezTo>
                  <a:pt x="580613" y="380638"/>
                  <a:pt x="585562" y="367764"/>
                  <a:pt x="592929" y="360471"/>
                </a:cubicBezTo>
                <a:cubicBezTo>
                  <a:pt x="600296" y="353179"/>
                  <a:pt x="609784" y="349533"/>
                  <a:pt x="621392" y="349533"/>
                </a:cubicBezTo>
                <a:cubicBezTo>
                  <a:pt x="632554" y="349533"/>
                  <a:pt x="641819" y="353067"/>
                  <a:pt x="649186" y="360137"/>
                </a:cubicBezTo>
                <a:cubicBezTo>
                  <a:pt x="656553" y="367206"/>
                  <a:pt x="660236" y="375726"/>
                  <a:pt x="660236" y="385698"/>
                </a:cubicBezTo>
                <a:cubicBezTo>
                  <a:pt x="660236" y="394925"/>
                  <a:pt x="656516" y="404673"/>
                  <a:pt x="649074" y="414943"/>
                </a:cubicBezTo>
                <a:cubicBezTo>
                  <a:pt x="641633" y="425212"/>
                  <a:pt x="624592" y="440243"/>
                  <a:pt x="597952" y="460037"/>
                </a:cubicBezTo>
                <a:cubicBezTo>
                  <a:pt x="554345" y="492333"/>
                  <a:pt x="524617" y="520350"/>
                  <a:pt x="508767" y="544088"/>
                </a:cubicBezTo>
                <a:cubicBezTo>
                  <a:pt x="492916" y="567826"/>
                  <a:pt x="483429" y="593164"/>
                  <a:pt x="480303" y="620102"/>
                </a:cubicBezTo>
                <a:lnTo>
                  <a:pt x="753105" y="620102"/>
                </a:lnTo>
                <a:lnTo>
                  <a:pt x="753105" y="545986"/>
                </a:lnTo>
                <a:lnTo>
                  <a:pt x="611123" y="545986"/>
                </a:lnTo>
                <a:cubicBezTo>
                  <a:pt x="619458" y="537800"/>
                  <a:pt x="626713" y="531177"/>
                  <a:pt x="632889" y="526117"/>
                </a:cubicBezTo>
                <a:cubicBezTo>
                  <a:pt x="639066" y="521057"/>
                  <a:pt x="651307" y="512202"/>
                  <a:pt x="669613" y="499551"/>
                </a:cubicBezTo>
                <a:cubicBezTo>
                  <a:pt x="700420" y="477822"/>
                  <a:pt x="721665" y="457879"/>
                  <a:pt x="733348" y="439722"/>
                </a:cubicBezTo>
                <a:cubicBezTo>
                  <a:pt x="745031" y="421565"/>
                  <a:pt x="750873" y="402515"/>
                  <a:pt x="750873" y="382572"/>
                </a:cubicBezTo>
                <a:cubicBezTo>
                  <a:pt x="750873" y="363820"/>
                  <a:pt x="745775" y="346891"/>
                  <a:pt x="735581" y="331785"/>
                </a:cubicBezTo>
                <a:cubicBezTo>
                  <a:pt x="725386" y="316679"/>
                  <a:pt x="711396" y="305479"/>
                  <a:pt x="693611" y="298187"/>
                </a:cubicBezTo>
                <a:cubicBezTo>
                  <a:pt x="675826" y="290894"/>
                  <a:pt x="650935" y="287248"/>
                  <a:pt x="618937" y="287248"/>
                </a:cubicBez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8" y="324529"/>
                </a:cubicBezTo>
                <a:cubicBezTo>
                  <a:pt x="193400" y="349384"/>
                  <a:pt x="182200" y="392916"/>
                  <a:pt x="182200" y="455126"/>
                </a:cubicBezTo>
                <a:cubicBezTo>
                  <a:pt x="182200" y="480427"/>
                  <a:pt x="184396" y="503533"/>
                  <a:pt x="188786" y="524443"/>
                </a:cubicBezTo>
                <a:cubicBezTo>
                  <a:pt x="193177" y="545353"/>
                  <a:pt x="199316" y="561836"/>
                  <a:pt x="207204" y="573891"/>
                </a:cubicBezTo>
                <a:cubicBezTo>
                  <a:pt x="218068" y="590857"/>
                  <a:pt x="231983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2" y="300829"/>
                  <a:pt x="372403" y="295396"/>
                </a:cubicBezTo>
                <a:cubicBezTo>
                  <a:pt x="358264" y="289964"/>
                  <a:pt x="340182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任意多边形 13"/>
          <p:cNvSpPr/>
          <p:nvPr/>
        </p:nvSpPr>
        <p:spPr>
          <a:xfrm>
            <a:off x="5076720" y="1492200"/>
            <a:ext cx="93528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2" y="414347"/>
                  <a:pt x="359232" y="457805"/>
                </a:cubicBezTo>
                <a:cubicBezTo>
                  <a:pt x="359232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4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4" y="355374"/>
                  <a:pt x="299998" y="347747"/>
                  <a:pt x="315030" y="347747"/>
                </a:cubicBezTo>
                <a:close/>
                <a:moveTo>
                  <a:pt x="616704" y="287248"/>
                </a:moveTo>
                <a:cubicBezTo>
                  <a:pt x="579497" y="287248"/>
                  <a:pt x="550736" y="294541"/>
                  <a:pt x="530421" y="309126"/>
                </a:cubicBezTo>
                <a:cubicBezTo>
                  <a:pt x="510106" y="323711"/>
                  <a:pt x="496377" y="344696"/>
                  <a:pt x="489233" y="372080"/>
                </a:cubicBezTo>
                <a:lnTo>
                  <a:pt x="575181" y="387484"/>
                </a:lnTo>
                <a:cubicBezTo>
                  <a:pt x="577562" y="371261"/>
                  <a:pt x="582102" y="359913"/>
                  <a:pt x="588799" y="353439"/>
                </a:cubicBezTo>
                <a:cubicBezTo>
                  <a:pt x="595496" y="346965"/>
                  <a:pt x="604203" y="343728"/>
                  <a:pt x="614918" y="343728"/>
                </a:cubicBezTo>
                <a:cubicBezTo>
                  <a:pt x="625336" y="343728"/>
                  <a:pt x="633522" y="346705"/>
                  <a:pt x="639475" y="352658"/>
                </a:cubicBezTo>
                <a:cubicBezTo>
                  <a:pt x="645428" y="358611"/>
                  <a:pt x="648405" y="366573"/>
                  <a:pt x="648405" y="376545"/>
                </a:cubicBezTo>
                <a:cubicBezTo>
                  <a:pt x="648405" y="386963"/>
                  <a:pt x="644423" y="395967"/>
                  <a:pt x="636461" y="403557"/>
                </a:cubicBezTo>
                <a:cubicBezTo>
                  <a:pt x="628499" y="411147"/>
                  <a:pt x="618565" y="414943"/>
                  <a:pt x="606658" y="414943"/>
                </a:cubicBezTo>
                <a:cubicBezTo>
                  <a:pt x="603831" y="414943"/>
                  <a:pt x="599887" y="414570"/>
                  <a:pt x="594827" y="413826"/>
                </a:cubicBezTo>
                <a:lnTo>
                  <a:pt x="590138" y="478790"/>
                </a:lnTo>
                <a:cubicBezTo>
                  <a:pt x="602640" y="475218"/>
                  <a:pt x="612463" y="473432"/>
                  <a:pt x="619606" y="473432"/>
                </a:cubicBezTo>
                <a:cubicBezTo>
                  <a:pt x="633001" y="473432"/>
                  <a:pt x="643605" y="477599"/>
                  <a:pt x="651418" y="485934"/>
                </a:cubicBezTo>
                <a:cubicBezTo>
                  <a:pt x="659232" y="494268"/>
                  <a:pt x="663139" y="506025"/>
                  <a:pt x="663139" y="521206"/>
                </a:cubicBezTo>
                <a:cubicBezTo>
                  <a:pt x="663139" y="536089"/>
                  <a:pt x="659083" y="547995"/>
                  <a:pt x="650972" y="556925"/>
                </a:cubicBezTo>
                <a:cubicBezTo>
                  <a:pt x="642861" y="565854"/>
                  <a:pt x="632703" y="570319"/>
                  <a:pt x="620499" y="570319"/>
                </a:cubicBezTo>
                <a:cubicBezTo>
                  <a:pt x="608891" y="570319"/>
                  <a:pt x="599329" y="566784"/>
                  <a:pt x="591813" y="559715"/>
                </a:cubicBezTo>
                <a:cubicBezTo>
                  <a:pt x="584297" y="552646"/>
                  <a:pt x="578753" y="539958"/>
                  <a:pt x="575181" y="521652"/>
                </a:cubicBezTo>
                <a:lnTo>
                  <a:pt x="484322" y="533707"/>
                </a:lnTo>
                <a:cubicBezTo>
                  <a:pt x="490275" y="554097"/>
                  <a:pt x="498795" y="571026"/>
                  <a:pt x="509883" y="584495"/>
                </a:cubicBezTo>
                <a:cubicBezTo>
                  <a:pt x="520971" y="597964"/>
                  <a:pt x="535109" y="608196"/>
                  <a:pt x="552299" y="615191"/>
                </a:cubicBezTo>
                <a:cubicBezTo>
                  <a:pt x="569489" y="622186"/>
                  <a:pt x="592966" y="625683"/>
                  <a:pt x="622732" y="625683"/>
                </a:cubicBezTo>
                <a:cubicBezTo>
                  <a:pt x="653242" y="625683"/>
                  <a:pt x="677873" y="620958"/>
                  <a:pt x="696625" y="611507"/>
                </a:cubicBezTo>
                <a:cubicBezTo>
                  <a:pt x="715377" y="602057"/>
                  <a:pt x="729739" y="588588"/>
                  <a:pt x="739711" y="571100"/>
                </a:cubicBezTo>
                <a:cubicBezTo>
                  <a:pt x="749682" y="553613"/>
                  <a:pt x="754668" y="535345"/>
                  <a:pt x="754668" y="516295"/>
                </a:cubicBezTo>
                <a:cubicBezTo>
                  <a:pt x="754668" y="501114"/>
                  <a:pt x="751654" y="488054"/>
                  <a:pt x="745627" y="477116"/>
                </a:cubicBezTo>
                <a:cubicBezTo>
                  <a:pt x="739599" y="466177"/>
                  <a:pt x="731153" y="457359"/>
                  <a:pt x="720289" y="450661"/>
                </a:cubicBezTo>
                <a:cubicBezTo>
                  <a:pt x="713591" y="446494"/>
                  <a:pt x="703918" y="442848"/>
                  <a:pt x="691267" y="439722"/>
                </a:cubicBezTo>
                <a:cubicBezTo>
                  <a:pt x="706894" y="431090"/>
                  <a:pt x="718577" y="421044"/>
                  <a:pt x="726316" y="409585"/>
                </a:cubicBezTo>
                <a:cubicBezTo>
                  <a:pt x="734055" y="398125"/>
                  <a:pt x="737925" y="385326"/>
                  <a:pt x="737925" y="371187"/>
                </a:cubicBezTo>
                <a:cubicBezTo>
                  <a:pt x="737925" y="347077"/>
                  <a:pt x="728400" y="327059"/>
                  <a:pt x="709350" y="311135"/>
                </a:cubicBezTo>
                <a:cubicBezTo>
                  <a:pt x="690300" y="295210"/>
                  <a:pt x="659418" y="287248"/>
                  <a:pt x="616704" y="287248"/>
                </a:cubicBez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9" y="324529"/>
                </a:cubicBezTo>
                <a:cubicBezTo>
                  <a:pt x="193400" y="349384"/>
                  <a:pt x="182201" y="392916"/>
                  <a:pt x="182201" y="455126"/>
                </a:cubicBezTo>
                <a:cubicBezTo>
                  <a:pt x="182201" y="480427"/>
                  <a:pt x="184396" y="503533"/>
                  <a:pt x="188786" y="524443"/>
                </a:cubicBezTo>
                <a:cubicBezTo>
                  <a:pt x="193177" y="545353"/>
                  <a:pt x="199316" y="561836"/>
                  <a:pt x="207204" y="573891"/>
                </a:cubicBezTo>
                <a:cubicBezTo>
                  <a:pt x="218068" y="590857"/>
                  <a:pt x="231984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2" y="300829"/>
                  <a:pt x="372403" y="295396"/>
                </a:cubicBezTo>
                <a:cubicBezTo>
                  <a:pt x="358264" y="289964"/>
                  <a:pt x="340182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任意多边形 14"/>
          <p:cNvSpPr/>
          <p:nvPr/>
        </p:nvSpPr>
        <p:spPr>
          <a:xfrm>
            <a:off x="7093080" y="1492200"/>
            <a:ext cx="93492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643270" y="385394"/>
                </a:moveTo>
                <a:lnTo>
                  <a:pt x="643270" y="488389"/>
                </a:lnTo>
                <a:lnTo>
                  <a:pt x="555745" y="488389"/>
                </a:lnTo>
                <a:lnTo>
                  <a:pt x="643270" y="385394"/>
                </a:lnTo>
                <a:close/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2" y="414347"/>
                  <a:pt x="359232" y="457805"/>
                </a:cubicBezTo>
                <a:cubicBezTo>
                  <a:pt x="359232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4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4" y="355374"/>
                  <a:pt x="299998" y="347747"/>
                  <a:pt x="315030" y="347747"/>
                </a:cubicBezTo>
                <a:close/>
                <a:moveTo>
                  <a:pt x="643270" y="287248"/>
                </a:moveTo>
                <a:lnTo>
                  <a:pt x="477624" y="484148"/>
                </a:lnTo>
                <a:lnTo>
                  <a:pt x="477624" y="558934"/>
                </a:lnTo>
                <a:lnTo>
                  <a:pt x="643270" y="558934"/>
                </a:lnTo>
                <a:lnTo>
                  <a:pt x="643270" y="620102"/>
                </a:lnTo>
                <a:lnTo>
                  <a:pt x="722521" y="620102"/>
                </a:lnTo>
                <a:lnTo>
                  <a:pt x="722521" y="558934"/>
                </a:lnTo>
                <a:lnTo>
                  <a:pt x="763598" y="558934"/>
                </a:lnTo>
                <a:lnTo>
                  <a:pt x="763598" y="488389"/>
                </a:lnTo>
                <a:lnTo>
                  <a:pt x="722521" y="488389"/>
                </a:lnTo>
                <a:lnTo>
                  <a:pt x="722521" y="287248"/>
                </a:lnTo>
                <a:lnTo>
                  <a:pt x="643270" y="287248"/>
                </a:ln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9" y="324529"/>
                </a:cubicBezTo>
                <a:cubicBezTo>
                  <a:pt x="193400" y="349384"/>
                  <a:pt x="182201" y="392916"/>
                  <a:pt x="182201" y="455126"/>
                </a:cubicBezTo>
                <a:cubicBezTo>
                  <a:pt x="182201" y="480427"/>
                  <a:pt x="184396" y="503533"/>
                  <a:pt x="188786" y="524443"/>
                </a:cubicBezTo>
                <a:cubicBezTo>
                  <a:pt x="193177" y="545353"/>
                  <a:pt x="199316" y="561836"/>
                  <a:pt x="207204" y="573891"/>
                </a:cubicBezTo>
                <a:cubicBezTo>
                  <a:pt x="218068" y="590857"/>
                  <a:pt x="231984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2" y="300829"/>
                  <a:pt x="372403" y="295396"/>
                </a:cubicBezTo>
                <a:cubicBezTo>
                  <a:pt x="358264" y="289964"/>
                  <a:pt x="340182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组合 19"/>
          <p:cNvGrpSpPr/>
          <p:nvPr/>
        </p:nvGrpSpPr>
        <p:grpSpPr>
          <a:xfrm>
            <a:off x="2195640" y="1887480"/>
            <a:ext cx="647640" cy="108000"/>
            <a:chOff x="2195640" y="1887480"/>
            <a:chExt cx="647640" cy="108000"/>
          </a:xfrm>
        </p:grpSpPr>
        <p:sp>
          <p:nvSpPr>
            <p:cNvPr id="460" name="直接连接符 16"/>
            <p:cNvSpPr/>
            <p:nvPr/>
          </p:nvSpPr>
          <p:spPr>
            <a:xfrm>
              <a:off x="2195640" y="1959120"/>
              <a:ext cx="647640" cy="0"/>
            </a:xfrm>
            <a:prstGeom prst="line">
              <a:avLst/>
            </a:prstGeom>
            <a:ln w="12600">
              <a:solidFill>
                <a:srgbClr val="ffffff">
                  <a:alpha val="4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椭圆 18"/>
            <p:cNvSpPr/>
            <p:nvPr/>
          </p:nvSpPr>
          <p:spPr>
            <a:xfrm>
              <a:off x="2482920" y="18874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22"/>
          <p:cNvGrpSpPr/>
          <p:nvPr/>
        </p:nvGrpSpPr>
        <p:grpSpPr>
          <a:xfrm>
            <a:off x="4211640" y="1887480"/>
            <a:ext cx="647640" cy="108000"/>
            <a:chOff x="4211640" y="1887480"/>
            <a:chExt cx="647640" cy="108000"/>
          </a:xfrm>
        </p:grpSpPr>
        <p:sp>
          <p:nvSpPr>
            <p:cNvPr id="463" name="直接连接符 23"/>
            <p:cNvSpPr/>
            <p:nvPr/>
          </p:nvSpPr>
          <p:spPr>
            <a:xfrm>
              <a:off x="4211640" y="1959120"/>
              <a:ext cx="647640" cy="0"/>
            </a:xfrm>
            <a:prstGeom prst="line">
              <a:avLst/>
            </a:prstGeom>
            <a:ln w="12600">
              <a:solidFill>
                <a:srgbClr val="ffffff">
                  <a:alpha val="4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椭圆 24"/>
            <p:cNvSpPr/>
            <p:nvPr/>
          </p:nvSpPr>
          <p:spPr>
            <a:xfrm>
              <a:off x="4498920" y="18874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5" name="组合 25"/>
          <p:cNvGrpSpPr/>
          <p:nvPr/>
        </p:nvGrpSpPr>
        <p:grpSpPr>
          <a:xfrm>
            <a:off x="6300720" y="1887480"/>
            <a:ext cx="647640" cy="108000"/>
            <a:chOff x="6300720" y="1887480"/>
            <a:chExt cx="647640" cy="108000"/>
          </a:xfrm>
        </p:grpSpPr>
        <p:sp>
          <p:nvSpPr>
            <p:cNvPr id="466" name="直接连接符 26"/>
            <p:cNvSpPr/>
            <p:nvPr/>
          </p:nvSpPr>
          <p:spPr>
            <a:xfrm>
              <a:off x="6300720" y="1959120"/>
              <a:ext cx="647640" cy="0"/>
            </a:xfrm>
            <a:prstGeom prst="line">
              <a:avLst/>
            </a:prstGeom>
            <a:ln w="12600">
              <a:solidFill>
                <a:srgbClr val="ffffff">
                  <a:alpha val="4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椭圆 27"/>
            <p:cNvSpPr/>
            <p:nvPr/>
          </p:nvSpPr>
          <p:spPr>
            <a:xfrm>
              <a:off x="6588000" y="18874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0"/>
          <p:cNvGrpSpPr/>
          <p:nvPr/>
        </p:nvGrpSpPr>
        <p:grpSpPr>
          <a:xfrm>
            <a:off x="982800" y="2766960"/>
            <a:ext cx="1051560" cy="358560"/>
            <a:chOff x="982800" y="2766960"/>
            <a:chExt cx="1051560" cy="358560"/>
          </a:xfrm>
        </p:grpSpPr>
        <p:sp>
          <p:nvSpPr>
            <p:cNvPr id="469" name="矩形 29"/>
            <p:cNvSpPr/>
            <p:nvPr/>
          </p:nvSpPr>
          <p:spPr>
            <a:xfrm>
              <a:off x="982800" y="2766960"/>
              <a:ext cx="996840" cy="33840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矩形 28"/>
            <p:cNvSpPr/>
            <p:nvPr/>
          </p:nvSpPr>
          <p:spPr>
            <a:xfrm>
              <a:off x="989640" y="278820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" name="矩形 31"/>
          <p:cNvSpPr/>
          <p:nvPr/>
        </p:nvSpPr>
        <p:spPr>
          <a:xfrm>
            <a:off x="654120" y="3292560"/>
            <a:ext cx="186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32"/>
          <p:cNvGrpSpPr/>
          <p:nvPr/>
        </p:nvGrpSpPr>
        <p:grpSpPr>
          <a:xfrm>
            <a:off x="3035160" y="2787480"/>
            <a:ext cx="1050840" cy="358560"/>
            <a:chOff x="3035160" y="2787480"/>
            <a:chExt cx="1050840" cy="358560"/>
          </a:xfrm>
        </p:grpSpPr>
        <p:sp>
          <p:nvSpPr>
            <p:cNvPr id="473" name="矩形 34"/>
            <p:cNvSpPr/>
            <p:nvPr/>
          </p:nvSpPr>
          <p:spPr>
            <a:xfrm>
              <a:off x="3035160" y="2787480"/>
              <a:ext cx="997200" cy="338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33"/>
            <p:cNvSpPr/>
            <p:nvPr/>
          </p:nvSpPr>
          <p:spPr>
            <a:xfrm>
              <a:off x="3041280" y="280872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矩形 35"/>
          <p:cNvSpPr/>
          <p:nvPr/>
        </p:nvSpPr>
        <p:spPr>
          <a:xfrm>
            <a:off x="2706840" y="3313080"/>
            <a:ext cx="186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组合 36"/>
          <p:cNvGrpSpPr/>
          <p:nvPr/>
        </p:nvGrpSpPr>
        <p:grpSpPr>
          <a:xfrm>
            <a:off x="5051520" y="2787480"/>
            <a:ext cx="1050840" cy="358560"/>
            <a:chOff x="5051520" y="2787480"/>
            <a:chExt cx="1050840" cy="358560"/>
          </a:xfrm>
        </p:grpSpPr>
        <p:sp>
          <p:nvSpPr>
            <p:cNvPr id="477" name="矩形 38"/>
            <p:cNvSpPr/>
            <p:nvPr/>
          </p:nvSpPr>
          <p:spPr>
            <a:xfrm>
              <a:off x="5051520" y="2787480"/>
              <a:ext cx="997200" cy="33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37"/>
            <p:cNvSpPr/>
            <p:nvPr/>
          </p:nvSpPr>
          <p:spPr>
            <a:xfrm>
              <a:off x="5057640" y="280872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矩形 39"/>
          <p:cNvSpPr/>
          <p:nvPr/>
        </p:nvSpPr>
        <p:spPr>
          <a:xfrm>
            <a:off x="4722840" y="3313080"/>
            <a:ext cx="186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40"/>
          <p:cNvGrpSpPr/>
          <p:nvPr/>
        </p:nvGrpSpPr>
        <p:grpSpPr>
          <a:xfrm>
            <a:off x="7067520" y="2787480"/>
            <a:ext cx="1050840" cy="358560"/>
            <a:chOff x="7067520" y="2787480"/>
            <a:chExt cx="1050840" cy="358560"/>
          </a:xfrm>
        </p:grpSpPr>
        <p:sp>
          <p:nvSpPr>
            <p:cNvPr id="481" name="矩形 42"/>
            <p:cNvSpPr/>
            <p:nvPr/>
          </p:nvSpPr>
          <p:spPr>
            <a:xfrm>
              <a:off x="7067520" y="2787480"/>
              <a:ext cx="997200" cy="338400"/>
            </a:xfrm>
            <a:prstGeom prst="rect">
              <a:avLst/>
            </a:prstGeom>
            <a:solidFill>
              <a:srgbClr val="5aa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41"/>
            <p:cNvSpPr/>
            <p:nvPr/>
          </p:nvSpPr>
          <p:spPr>
            <a:xfrm>
              <a:off x="7073640" y="280872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3" name="矩形 43"/>
          <p:cNvSpPr/>
          <p:nvPr/>
        </p:nvSpPr>
        <p:spPr>
          <a:xfrm>
            <a:off x="6738840" y="3313080"/>
            <a:ext cx="186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组合 35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485" name="燕尾形 36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燕尾形 37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燕尾形 39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燕尾形 40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41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六边形 3"/>
          <p:cNvSpPr/>
          <p:nvPr/>
        </p:nvSpPr>
        <p:spPr>
          <a:xfrm rot="16200000">
            <a:off x="3681360" y="1135080"/>
            <a:ext cx="1357200" cy="12142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六边形 4"/>
          <p:cNvSpPr/>
          <p:nvPr/>
        </p:nvSpPr>
        <p:spPr>
          <a:xfrm rot="16200000">
            <a:off x="3038400" y="2232000"/>
            <a:ext cx="1357200" cy="12142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六边形 5"/>
          <p:cNvSpPr/>
          <p:nvPr/>
        </p:nvSpPr>
        <p:spPr>
          <a:xfrm rot="16200000">
            <a:off x="4324320" y="2232000"/>
            <a:ext cx="1357200" cy="12142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直接连接符 7"/>
          <p:cNvSpPr/>
          <p:nvPr/>
        </p:nvSpPr>
        <p:spPr>
          <a:xfrm flipV="1">
            <a:off x="4681440" y="946080"/>
            <a:ext cx="571680" cy="285840"/>
          </a:xfrm>
          <a:prstGeom prst="line">
            <a:avLst/>
          </a:prstGeom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直接连接符 10"/>
          <p:cNvSpPr/>
          <p:nvPr/>
        </p:nvSpPr>
        <p:spPr>
          <a:xfrm>
            <a:off x="5253120" y="946080"/>
            <a:ext cx="2643120" cy="1800"/>
          </a:xfrm>
          <a:prstGeom prst="line">
            <a:avLst/>
          </a:prstGeom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矩形 13"/>
          <p:cNvSpPr/>
          <p:nvPr/>
        </p:nvSpPr>
        <p:spPr>
          <a:xfrm>
            <a:off x="7253280" y="946080"/>
            <a:ext cx="642960" cy="7164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直接连接符 14"/>
          <p:cNvSpPr/>
          <p:nvPr/>
        </p:nvSpPr>
        <p:spPr>
          <a:xfrm>
            <a:off x="5467320" y="3303720"/>
            <a:ext cx="642960" cy="357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直接连接符 16"/>
          <p:cNvSpPr/>
          <p:nvPr/>
        </p:nvSpPr>
        <p:spPr>
          <a:xfrm>
            <a:off x="6110280" y="3660840"/>
            <a:ext cx="232236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19"/>
          <p:cNvSpPr/>
          <p:nvPr/>
        </p:nvSpPr>
        <p:spPr>
          <a:xfrm>
            <a:off x="7824960" y="3660840"/>
            <a:ext cx="642600" cy="71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直接连接符 21"/>
          <p:cNvSpPr/>
          <p:nvPr/>
        </p:nvSpPr>
        <p:spPr>
          <a:xfrm flipV="1">
            <a:off x="2752560" y="3303360"/>
            <a:ext cx="571680" cy="28548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直接连接符 22"/>
          <p:cNvSpPr/>
          <p:nvPr/>
        </p:nvSpPr>
        <p:spPr>
          <a:xfrm>
            <a:off x="520560" y="3587760"/>
            <a:ext cx="2232000" cy="144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23"/>
          <p:cNvSpPr/>
          <p:nvPr/>
        </p:nvSpPr>
        <p:spPr>
          <a:xfrm>
            <a:off x="466560" y="3589200"/>
            <a:ext cx="642960" cy="7164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14"/>
          <p:cNvSpPr/>
          <p:nvPr/>
        </p:nvSpPr>
        <p:spPr>
          <a:xfrm>
            <a:off x="6253200" y="10890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14"/>
          <p:cNvSpPr/>
          <p:nvPr/>
        </p:nvSpPr>
        <p:spPr>
          <a:xfrm>
            <a:off x="6824520" y="38037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395280" y="3147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30"/>
          <p:cNvSpPr/>
          <p:nvPr/>
        </p:nvSpPr>
        <p:spPr>
          <a:xfrm>
            <a:off x="5396040" y="1374840"/>
            <a:ext cx="257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31"/>
          <p:cNvSpPr/>
          <p:nvPr/>
        </p:nvSpPr>
        <p:spPr>
          <a:xfrm>
            <a:off x="5538960" y="4086360"/>
            <a:ext cx="300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32"/>
          <p:cNvSpPr/>
          <p:nvPr/>
        </p:nvSpPr>
        <p:spPr>
          <a:xfrm>
            <a:off x="395280" y="254484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13"/>
          <p:cNvSpPr/>
          <p:nvPr/>
        </p:nvSpPr>
        <p:spPr>
          <a:xfrm>
            <a:off x="3467160" y="12636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13"/>
          <p:cNvSpPr/>
          <p:nvPr/>
        </p:nvSpPr>
        <p:spPr>
          <a:xfrm>
            <a:off x="2824200" y="24145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13"/>
          <p:cNvSpPr/>
          <p:nvPr/>
        </p:nvSpPr>
        <p:spPr>
          <a:xfrm>
            <a:off x="4121280" y="24145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接连接符 37"/>
          <p:cNvSpPr/>
          <p:nvPr/>
        </p:nvSpPr>
        <p:spPr>
          <a:xfrm>
            <a:off x="3970440" y="1724040"/>
            <a:ext cx="857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39"/>
          <p:cNvSpPr/>
          <p:nvPr/>
        </p:nvSpPr>
        <p:spPr>
          <a:xfrm>
            <a:off x="3322800" y="2874960"/>
            <a:ext cx="857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接连接符 40"/>
          <p:cNvSpPr/>
          <p:nvPr/>
        </p:nvSpPr>
        <p:spPr>
          <a:xfrm>
            <a:off x="4610160" y="2874960"/>
            <a:ext cx="857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图片 1" descr=""/>
          <p:cNvPicPr/>
          <p:nvPr/>
        </p:nvPicPr>
        <p:blipFill>
          <a:blip r:embed="rId1"/>
          <a:stretch/>
        </p:blipFill>
        <p:spPr>
          <a:xfrm>
            <a:off x="4129200" y="1773360"/>
            <a:ext cx="463320" cy="44748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2" descr=""/>
          <p:cNvPicPr/>
          <p:nvPr/>
        </p:nvPicPr>
        <p:blipFill>
          <a:blip r:embed="rId2"/>
          <a:stretch/>
        </p:blipFill>
        <p:spPr>
          <a:xfrm>
            <a:off x="4521240" y="2925720"/>
            <a:ext cx="965160" cy="3380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8" descr=""/>
          <p:cNvPicPr/>
          <p:nvPr/>
        </p:nvPicPr>
        <p:blipFill>
          <a:blip r:embed="rId3"/>
          <a:stretch/>
        </p:blipFill>
        <p:spPr>
          <a:xfrm>
            <a:off x="3541680" y="2901960"/>
            <a:ext cx="496800" cy="496800"/>
          </a:xfrm>
          <a:prstGeom prst="rect">
            <a:avLst/>
          </a:prstGeom>
          <a:ln w="0">
            <a:noFill/>
          </a:ln>
        </p:spPr>
      </p:pic>
      <p:grpSp>
        <p:nvGrpSpPr>
          <p:cNvPr id="517" name="组合 3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518" name="燕尾形 41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燕尾形 42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燕尾形 43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燕尾形 4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47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3"/>
          <p:cNvSpPr/>
          <p:nvPr/>
        </p:nvSpPr>
        <p:spPr>
          <a:xfrm>
            <a:off x="1116000" y="1839960"/>
            <a:ext cx="185724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4680000" y="184932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矩形 2"/>
          <p:cNvGrpSpPr/>
          <p:nvPr/>
        </p:nvGrpSpPr>
        <p:grpSpPr>
          <a:xfrm>
            <a:off x="3736800" y="1109520"/>
            <a:ext cx="4834080" cy="1925640"/>
            <a:chOff x="3736800" y="1109520"/>
            <a:chExt cx="4834080" cy="1925640"/>
          </a:xfrm>
        </p:grpSpPr>
        <p:pic>
          <p:nvPicPr>
            <p:cNvPr id="532" name="矩形 2" descr=""/>
            <p:cNvPicPr/>
            <p:nvPr/>
          </p:nvPicPr>
          <p:blipFill>
            <a:blip r:embed="rId1"/>
            <a:stretch/>
          </p:blipFill>
          <p:spPr>
            <a:xfrm>
              <a:off x="3739320" y="1110600"/>
              <a:ext cx="48294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3736800" y="1109520"/>
              <a:ext cx="4834080" cy="19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矩形 6"/>
          <p:cNvSpPr/>
          <p:nvPr/>
        </p:nvSpPr>
        <p:spPr>
          <a:xfrm>
            <a:off x="392040" y="32259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7"/>
          <p:cNvSpPr/>
          <p:nvPr/>
        </p:nvSpPr>
        <p:spPr>
          <a:xfrm>
            <a:off x="357120" y="3508200"/>
            <a:ext cx="828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8"/>
          <p:cNvSpPr/>
          <p:nvPr/>
        </p:nvSpPr>
        <p:spPr>
          <a:xfrm>
            <a:off x="357120" y="4044960"/>
            <a:ext cx="828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A designer can use default text to simulate what text would look like. If it is not real text. A designer can use default text to simulate what text would look l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6" descr=""/>
          <p:cNvPicPr/>
          <p:nvPr/>
        </p:nvPicPr>
        <p:blipFill>
          <a:blip r:embed="rId2"/>
          <a:stretch/>
        </p:blipFill>
        <p:spPr>
          <a:xfrm>
            <a:off x="611280" y="984240"/>
            <a:ext cx="1465200" cy="19670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17" descr=""/>
          <p:cNvPicPr/>
          <p:nvPr/>
        </p:nvPicPr>
        <p:blipFill>
          <a:blip r:embed="rId3"/>
          <a:stretch/>
        </p:blipFill>
        <p:spPr>
          <a:xfrm>
            <a:off x="1692360" y="719280"/>
            <a:ext cx="1942920" cy="2103120"/>
          </a:xfrm>
          <a:prstGeom prst="rect">
            <a:avLst/>
          </a:prstGeom>
          <a:ln w="0">
            <a:noFill/>
          </a:ln>
        </p:spPr>
      </p:pic>
      <p:grpSp>
        <p:nvGrpSpPr>
          <p:cNvPr id="539" name="组合 1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540" name="燕尾形 19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燕尾形 20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燕尾形 21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燕尾形 22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23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六边形 1"/>
          <p:cNvSpPr/>
          <p:nvPr/>
        </p:nvSpPr>
        <p:spPr>
          <a:xfrm flipV="1" rot="10800000">
            <a:off x="1493640" y="2326320"/>
            <a:ext cx="1593720" cy="1439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六边形 2"/>
          <p:cNvSpPr/>
          <p:nvPr/>
        </p:nvSpPr>
        <p:spPr>
          <a:xfrm flipV="1" rot="10800000">
            <a:off x="3105000" y="1441440"/>
            <a:ext cx="1090800" cy="93672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六边形 3"/>
          <p:cNvSpPr/>
          <p:nvPr/>
        </p:nvSpPr>
        <p:spPr>
          <a:xfrm flipV="1" rot="10800000">
            <a:off x="450720" y="1909800"/>
            <a:ext cx="609840" cy="54144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4"/>
          <p:cNvSpPr/>
          <p:nvPr/>
        </p:nvSpPr>
        <p:spPr>
          <a:xfrm>
            <a:off x="1801800" y="3789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5"/>
          <p:cNvSpPr/>
          <p:nvPr/>
        </p:nvSpPr>
        <p:spPr>
          <a:xfrm>
            <a:off x="3259080" y="2327400"/>
            <a:ext cx="97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6"/>
          <p:cNvSpPr/>
          <p:nvPr/>
        </p:nvSpPr>
        <p:spPr>
          <a:xfrm>
            <a:off x="395280" y="24400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直接连接符 8"/>
          <p:cNvSpPr/>
          <p:nvPr/>
        </p:nvSpPr>
        <p:spPr>
          <a:xfrm flipH="1">
            <a:off x="2866680" y="2239920"/>
            <a:ext cx="392040" cy="39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接连接符 12"/>
          <p:cNvSpPr/>
          <p:nvPr/>
        </p:nvSpPr>
        <p:spPr>
          <a:xfrm>
            <a:off x="995400" y="2289240"/>
            <a:ext cx="581040" cy="54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3259080" y="16588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1760400" y="2657520"/>
            <a:ext cx="13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88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19"/>
          <p:cNvSpPr/>
          <p:nvPr/>
        </p:nvSpPr>
        <p:spPr>
          <a:xfrm>
            <a:off x="450720" y="20098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2</a:t>
            </a: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组合 20"/>
          <p:cNvGrpSpPr/>
          <p:nvPr/>
        </p:nvGrpSpPr>
        <p:grpSpPr>
          <a:xfrm>
            <a:off x="4611600" y="1200240"/>
            <a:ext cx="3921120" cy="2904840"/>
            <a:chOff x="4611600" y="1200240"/>
            <a:chExt cx="3921120" cy="2904840"/>
          </a:xfrm>
        </p:grpSpPr>
        <p:grpSp>
          <p:nvGrpSpPr>
            <p:cNvPr id="557" name="组合 21"/>
            <p:cNvGrpSpPr/>
            <p:nvPr/>
          </p:nvGrpSpPr>
          <p:grpSpPr>
            <a:xfrm>
              <a:off x="4611600" y="1200240"/>
              <a:ext cx="3921120" cy="2900160"/>
              <a:chOff x="4611600" y="1200240"/>
              <a:chExt cx="3921120" cy="2900160"/>
            </a:xfrm>
          </p:grpSpPr>
          <p:grpSp>
            <p:nvGrpSpPr>
              <p:cNvPr id="558" name="组合 16"/>
              <p:cNvGrpSpPr/>
              <p:nvPr/>
            </p:nvGrpSpPr>
            <p:grpSpPr>
              <a:xfrm>
                <a:off x="4660200" y="1200240"/>
                <a:ext cx="3852360" cy="951840"/>
                <a:chOff x="4660200" y="1200240"/>
                <a:chExt cx="3852360" cy="951840"/>
              </a:xfrm>
            </p:grpSpPr>
            <p:sp>
              <p:nvSpPr>
                <p:cNvPr id="559" name="TextBox 35"/>
                <p:cNvSpPr/>
                <p:nvPr/>
              </p:nvSpPr>
              <p:spPr>
                <a:xfrm>
                  <a:off x="4660200" y="1510560"/>
                  <a:ext cx="38523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alibri"/>
                    </a:rPr>
                    <a:t>A designer can use default text to simulate what text would look like. If it is not real text. A designer can use default text to simulate what text would look like.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文本框 7"/>
                <p:cNvSpPr/>
                <p:nvPr/>
              </p:nvSpPr>
              <p:spPr>
                <a:xfrm>
                  <a:off x="4679640" y="1200240"/>
                  <a:ext cx="2091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cccc"/>
                      </a:solidFill>
                      <a:latin typeface="Calibri"/>
                    </a:rPr>
                    <a:t>1.ADD TITLE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组合 8"/>
              <p:cNvGrpSpPr/>
              <p:nvPr/>
            </p:nvGrpSpPr>
            <p:grpSpPr>
              <a:xfrm>
                <a:off x="4640400" y="2178360"/>
                <a:ext cx="3892320" cy="926280"/>
                <a:chOff x="4640400" y="2178360"/>
                <a:chExt cx="3892320" cy="926280"/>
              </a:xfrm>
            </p:grpSpPr>
            <p:sp>
              <p:nvSpPr>
                <p:cNvPr id="562" name="TextBox 35"/>
                <p:cNvSpPr/>
                <p:nvPr/>
              </p:nvSpPr>
              <p:spPr>
                <a:xfrm>
                  <a:off x="4640400" y="2508480"/>
                  <a:ext cx="389232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Calibri"/>
                    </a:rPr>
                    <a:t>A designer can use default text to simulate what text would look like. If it is not real text. A designer can use default text to simulate what text would look like.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文本框 10"/>
                <p:cNvSpPr/>
                <p:nvPr/>
              </p:nvSpPr>
              <p:spPr>
                <a:xfrm>
                  <a:off x="4680000" y="2178360"/>
                  <a:ext cx="2091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66"/>
                      </a:solidFill>
                      <a:latin typeface="Calibri"/>
                    </a:rPr>
                    <a:t>2.ADD TITLE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4" name="文本框 13"/>
              <p:cNvSpPr/>
              <p:nvPr/>
            </p:nvSpPr>
            <p:spPr>
              <a:xfrm>
                <a:off x="4611600" y="3802680"/>
                <a:ext cx="210852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5" name="文本框 22"/>
            <p:cNvSpPr/>
            <p:nvPr/>
          </p:nvSpPr>
          <p:spPr>
            <a:xfrm>
              <a:off x="4640400" y="3188520"/>
              <a:ext cx="20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66"/>
                  </a:solidFill>
                  <a:latin typeface="Calibri"/>
                </a:rPr>
                <a:t>3.ADD TITLE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TextBox 35"/>
            <p:cNvSpPr/>
            <p:nvPr/>
          </p:nvSpPr>
          <p:spPr>
            <a:xfrm>
              <a:off x="4625640" y="3508920"/>
              <a:ext cx="3892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 A designer can use default text to simulate what text would look like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7" name="组合 41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568" name="燕尾形 42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燕尾形 43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燕尾形 44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燕尾形 45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4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直接连接符 159"/>
          <p:cNvSpPr/>
          <p:nvPr/>
        </p:nvSpPr>
        <p:spPr>
          <a:xfrm>
            <a:off x="1157400" y="38131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接连接符 160"/>
          <p:cNvSpPr/>
          <p:nvPr/>
        </p:nvSpPr>
        <p:spPr>
          <a:xfrm>
            <a:off x="1157400" y="351936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直接连接符 161"/>
          <p:cNvSpPr/>
          <p:nvPr/>
        </p:nvSpPr>
        <p:spPr>
          <a:xfrm>
            <a:off x="1157400" y="3228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接连接符 162"/>
          <p:cNvSpPr/>
          <p:nvPr/>
        </p:nvSpPr>
        <p:spPr>
          <a:xfrm>
            <a:off x="1157400" y="29383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接连接符 163"/>
          <p:cNvSpPr/>
          <p:nvPr/>
        </p:nvSpPr>
        <p:spPr>
          <a:xfrm>
            <a:off x="1157400" y="2646360"/>
            <a:ext cx="3092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直接连接符 164"/>
          <p:cNvSpPr/>
          <p:nvPr/>
        </p:nvSpPr>
        <p:spPr>
          <a:xfrm>
            <a:off x="1157400" y="2355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91"/>
          <p:cNvSpPr/>
          <p:nvPr/>
        </p:nvSpPr>
        <p:spPr>
          <a:xfrm>
            <a:off x="1351080" y="3143160"/>
            <a:ext cx="2801880" cy="965160"/>
          </a:xfrm>
          <a:custGeom>
            <a:avLst/>
            <a:gdLst/>
            <a:ahLst/>
            <a:rect l="l" t="t" r="r" b="b"/>
            <a:pathLst>
              <a:path w="978" h="224">
                <a:moveTo>
                  <a:pt x="978" y="222"/>
                </a:moveTo>
                <a:lnTo>
                  <a:pt x="978" y="128"/>
                </a:lnTo>
                <a:lnTo>
                  <a:pt x="856" y="64"/>
                </a:lnTo>
                <a:lnTo>
                  <a:pt x="735" y="97"/>
                </a:lnTo>
                <a:lnTo>
                  <a:pt x="607" y="0"/>
                </a:lnTo>
                <a:lnTo>
                  <a:pt x="489" y="191"/>
                </a:lnTo>
                <a:lnTo>
                  <a:pt x="366" y="158"/>
                </a:lnTo>
                <a:lnTo>
                  <a:pt x="244" y="191"/>
                </a:lnTo>
                <a:lnTo>
                  <a:pt x="123" y="64"/>
                </a:lnTo>
                <a:lnTo>
                  <a:pt x="0" y="128"/>
                </a:lnTo>
                <a:lnTo>
                  <a:pt x="0" y="224"/>
                </a:lnTo>
                <a:lnTo>
                  <a:pt x="978" y="222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51"/>
          <p:cNvSpPr/>
          <p:nvPr/>
        </p:nvSpPr>
        <p:spPr>
          <a:xfrm>
            <a:off x="903240" y="396396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52"/>
          <p:cNvSpPr/>
          <p:nvPr/>
        </p:nvSpPr>
        <p:spPr>
          <a:xfrm>
            <a:off x="813960" y="33796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53"/>
          <p:cNvSpPr/>
          <p:nvPr/>
        </p:nvSpPr>
        <p:spPr>
          <a:xfrm>
            <a:off x="833040" y="30862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54"/>
          <p:cNvSpPr/>
          <p:nvPr/>
        </p:nvSpPr>
        <p:spPr>
          <a:xfrm>
            <a:off x="833040" y="27957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55"/>
          <p:cNvSpPr/>
          <p:nvPr/>
        </p:nvSpPr>
        <p:spPr>
          <a:xfrm>
            <a:off x="833040" y="2503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56"/>
          <p:cNvSpPr/>
          <p:nvPr/>
        </p:nvSpPr>
        <p:spPr>
          <a:xfrm>
            <a:off x="833040" y="22114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接连接符 158"/>
          <p:cNvSpPr/>
          <p:nvPr/>
        </p:nvSpPr>
        <p:spPr>
          <a:xfrm>
            <a:off x="1157400" y="410364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65"/>
          <p:cNvSpPr/>
          <p:nvPr/>
        </p:nvSpPr>
        <p:spPr>
          <a:xfrm>
            <a:off x="833040" y="3672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66"/>
          <p:cNvSpPr/>
          <p:nvPr/>
        </p:nvSpPr>
        <p:spPr>
          <a:xfrm>
            <a:off x="1887840" y="421164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接连接符 167"/>
          <p:cNvSpPr/>
          <p:nvPr/>
        </p:nvSpPr>
        <p:spPr>
          <a:xfrm>
            <a:off x="5051520" y="38131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直接连接符 168"/>
          <p:cNvSpPr/>
          <p:nvPr/>
        </p:nvSpPr>
        <p:spPr>
          <a:xfrm>
            <a:off x="5051520" y="351936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169"/>
          <p:cNvSpPr/>
          <p:nvPr/>
        </p:nvSpPr>
        <p:spPr>
          <a:xfrm>
            <a:off x="5051520" y="3228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接连接符 170"/>
          <p:cNvSpPr/>
          <p:nvPr/>
        </p:nvSpPr>
        <p:spPr>
          <a:xfrm>
            <a:off x="5051520" y="29383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直接连接符 171"/>
          <p:cNvSpPr/>
          <p:nvPr/>
        </p:nvSpPr>
        <p:spPr>
          <a:xfrm>
            <a:off x="5051520" y="2646360"/>
            <a:ext cx="3092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接连接符 172"/>
          <p:cNvSpPr/>
          <p:nvPr/>
        </p:nvSpPr>
        <p:spPr>
          <a:xfrm>
            <a:off x="5051520" y="2355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36"/>
          <p:cNvSpPr/>
          <p:nvPr/>
        </p:nvSpPr>
        <p:spPr>
          <a:xfrm>
            <a:off x="5184720" y="2502000"/>
            <a:ext cx="2803680" cy="1611360"/>
          </a:xfrm>
          <a:custGeom>
            <a:avLst/>
            <a:gdLst/>
            <a:ahLst/>
            <a:rect l="l" t="t" r="r" b="b"/>
            <a:pathLst>
              <a:path w="978" h="374">
                <a:moveTo>
                  <a:pt x="0" y="371"/>
                </a:moveTo>
                <a:lnTo>
                  <a:pt x="0" y="213"/>
                </a:lnTo>
                <a:lnTo>
                  <a:pt x="123" y="104"/>
                </a:lnTo>
                <a:lnTo>
                  <a:pt x="243" y="161"/>
                </a:lnTo>
                <a:lnTo>
                  <a:pt x="371" y="0"/>
                </a:lnTo>
                <a:lnTo>
                  <a:pt x="489" y="319"/>
                </a:lnTo>
                <a:lnTo>
                  <a:pt x="612" y="265"/>
                </a:lnTo>
                <a:lnTo>
                  <a:pt x="735" y="319"/>
                </a:lnTo>
                <a:lnTo>
                  <a:pt x="858" y="107"/>
                </a:lnTo>
                <a:lnTo>
                  <a:pt x="978" y="211"/>
                </a:lnTo>
                <a:lnTo>
                  <a:pt x="978" y="374"/>
                </a:lnTo>
                <a:lnTo>
                  <a:pt x="0" y="371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174"/>
          <p:cNvSpPr/>
          <p:nvPr/>
        </p:nvSpPr>
        <p:spPr>
          <a:xfrm>
            <a:off x="4797360" y="396396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75"/>
          <p:cNvSpPr/>
          <p:nvPr/>
        </p:nvSpPr>
        <p:spPr>
          <a:xfrm>
            <a:off x="4727160" y="33782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76"/>
          <p:cNvSpPr/>
          <p:nvPr/>
        </p:nvSpPr>
        <p:spPr>
          <a:xfrm>
            <a:off x="4727160" y="30862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77"/>
          <p:cNvSpPr/>
          <p:nvPr/>
        </p:nvSpPr>
        <p:spPr>
          <a:xfrm>
            <a:off x="4727160" y="27957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78"/>
          <p:cNvSpPr/>
          <p:nvPr/>
        </p:nvSpPr>
        <p:spPr>
          <a:xfrm>
            <a:off x="4727160" y="2503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79"/>
          <p:cNvSpPr/>
          <p:nvPr/>
        </p:nvSpPr>
        <p:spPr>
          <a:xfrm>
            <a:off x="4727160" y="22114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直接连接符 180"/>
          <p:cNvSpPr/>
          <p:nvPr/>
        </p:nvSpPr>
        <p:spPr>
          <a:xfrm>
            <a:off x="5051520" y="410364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181"/>
          <p:cNvSpPr/>
          <p:nvPr/>
        </p:nvSpPr>
        <p:spPr>
          <a:xfrm>
            <a:off x="4727160" y="3672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68"/>
          <p:cNvSpPr/>
          <p:nvPr/>
        </p:nvSpPr>
        <p:spPr>
          <a:xfrm>
            <a:off x="785880" y="1500120"/>
            <a:ext cx="735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69"/>
          <p:cNvSpPr/>
          <p:nvPr/>
        </p:nvSpPr>
        <p:spPr>
          <a:xfrm>
            <a:off x="3500280" y="112068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66"/>
          <p:cNvSpPr/>
          <p:nvPr/>
        </p:nvSpPr>
        <p:spPr>
          <a:xfrm>
            <a:off x="5796000" y="421164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72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08" name="燕尾形 74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燕尾形 75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燕尾形 79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燕尾形 80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矩形 81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组合 23"/>
          <p:cNvGrpSpPr/>
          <p:nvPr/>
        </p:nvGrpSpPr>
        <p:grpSpPr>
          <a:xfrm>
            <a:off x="785880" y="1357200"/>
            <a:ext cx="1260360" cy="1260720"/>
            <a:chOff x="785880" y="1357200"/>
            <a:chExt cx="1260360" cy="1260720"/>
          </a:xfrm>
        </p:grpSpPr>
        <p:sp>
          <p:nvSpPr>
            <p:cNvPr id="614" name="流程图: 联系 16"/>
            <p:cNvSpPr/>
            <p:nvPr/>
          </p:nvSpPr>
          <p:spPr>
            <a:xfrm>
              <a:off x="785880" y="135720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流程图: 联系 16"/>
            <p:cNvSpPr/>
            <p:nvPr/>
          </p:nvSpPr>
          <p:spPr>
            <a:xfrm>
              <a:off x="785880" y="135720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TextBox 43"/>
            <p:cNvSpPr/>
            <p:nvPr/>
          </p:nvSpPr>
          <p:spPr>
            <a:xfrm>
              <a:off x="1120320" y="1729440"/>
              <a:ext cx="8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7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文本框 14"/>
          <p:cNvSpPr/>
          <p:nvPr/>
        </p:nvSpPr>
        <p:spPr>
          <a:xfrm>
            <a:off x="2381400" y="150012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35"/>
          <p:cNvSpPr/>
          <p:nvPr/>
        </p:nvSpPr>
        <p:spPr>
          <a:xfrm>
            <a:off x="2166840" y="178596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组合 22"/>
          <p:cNvGrpSpPr/>
          <p:nvPr/>
        </p:nvGrpSpPr>
        <p:grpSpPr>
          <a:xfrm>
            <a:off x="4714920" y="1357200"/>
            <a:ext cx="1260360" cy="1260720"/>
            <a:chOff x="4714920" y="1357200"/>
            <a:chExt cx="1260360" cy="1260720"/>
          </a:xfrm>
        </p:grpSpPr>
        <p:sp>
          <p:nvSpPr>
            <p:cNvPr id="620" name="流程图: 联系 16"/>
            <p:cNvSpPr/>
            <p:nvPr/>
          </p:nvSpPr>
          <p:spPr>
            <a:xfrm>
              <a:off x="4714920" y="135720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流程图: 联系 16"/>
            <p:cNvSpPr/>
            <p:nvPr/>
          </p:nvSpPr>
          <p:spPr>
            <a:xfrm>
              <a:off x="4726800" y="1357200"/>
              <a:ext cx="1248480" cy="1260720"/>
            </a:xfrm>
            <a:custGeom>
              <a:avLst/>
              <a:gdLst/>
              <a:ahLst/>
              <a:rect l="l" t="t" r="r" b="b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TextBox 19"/>
            <p:cNvSpPr/>
            <p:nvPr/>
          </p:nvSpPr>
          <p:spPr>
            <a:xfrm>
              <a:off x="5072040" y="1752840"/>
              <a:ext cx="7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66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3" name="组合 24"/>
          <p:cNvGrpSpPr/>
          <p:nvPr/>
        </p:nvGrpSpPr>
        <p:grpSpPr>
          <a:xfrm>
            <a:off x="785880" y="3000240"/>
            <a:ext cx="1260360" cy="1260720"/>
            <a:chOff x="785880" y="3000240"/>
            <a:chExt cx="1260360" cy="1260720"/>
          </a:xfrm>
        </p:grpSpPr>
        <p:sp>
          <p:nvSpPr>
            <p:cNvPr id="624" name="流程图: 联系 16"/>
            <p:cNvSpPr/>
            <p:nvPr/>
          </p:nvSpPr>
          <p:spPr>
            <a:xfrm>
              <a:off x="785880" y="300024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流程图: 联系 16"/>
            <p:cNvSpPr/>
            <p:nvPr/>
          </p:nvSpPr>
          <p:spPr>
            <a:xfrm>
              <a:off x="785880" y="300024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46"/>
            <p:cNvSpPr/>
            <p:nvPr/>
          </p:nvSpPr>
          <p:spPr>
            <a:xfrm>
              <a:off x="1122840" y="3429000"/>
              <a:ext cx="8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80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组合 24"/>
          <p:cNvGrpSpPr/>
          <p:nvPr/>
        </p:nvGrpSpPr>
        <p:grpSpPr>
          <a:xfrm>
            <a:off x="4786200" y="3000240"/>
            <a:ext cx="1260720" cy="1260720"/>
            <a:chOff x="4786200" y="3000240"/>
            <a:chExt cx="1260720" cy="1260720"/>
          </a:xfrm>
        </p:grpSpPr>
        <p:sp>
          <p:nvSpPr>
            <p:cNvPr id="628" name="流程图: 联系 16"/>
            <p:cNvSpPr/>
            <p:nvPr/>
          </p:nvSpPr>
          <p:spPr>
            <a:xfrm>
              <a:off x="4786200" y="3000240"/>
              <a:ext cx="126072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流程图: 联系 16"/>
            <p:cNvSpPr/>
            <p:nvPr/>
          </p:nvSpPr>
          <p:spPr>
            <a:xfrm>
              <a:off x="4786200" y="3000240"/>
              <a:ext cx="126072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5aa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TextBox 46"/>
            <p:cNvSpPr/>
            <p:nvPr/>
          </p:nvSpPr>
          <p:spPr>
            <a:xfrm>
              <a:off x="5143680" y="3429000"/>
              <a:ext cx="87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9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文本框 14"/>
          <p:cNvSpPr/>
          <p:nvPr/>
        </p:nvSpPr>
        <p:spPr>
          <a:xfrm>
            <a:off x="6286680" y="150012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35"/>
          <p:cNvSpPr/>
          <p:nvPr/>
        </p:nvSpPr>
        <p:spPr>
          <a:xfrm>
            <a:off x="6072120" y="178596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14"/>
          <p:cNvSpPr/>
          <p:nvPr/>
        </p:nvSpPr>
        <p:spPr>
          <a:xfrm>
            <a:off x="2357280" y="314316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5"/>
          <p:cNvSpPr/>
          <p:nvPr/>
        </p:nvSpPr>
        <p:spPr>
          <a:xfrm>
            <a:off x="2143080" y="34290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14"/>
          <p:cNvSpPr/>
          <p:nvPr/>
        </p:nvSpPr>
        <p:spPr>
          <a:xfrm>
            <a:off x="6357960" y="314316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35"/>
          <p:cNvSpPr/>
          <p:nvPr/>
        </p:nvSpPr>
        <p:spPr>
          <a:xfrm>
            <a:off x="6143760" y="34290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30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38" name="燕尾形 31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燕尾形 32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燕尾形 33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燕尾形 3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矩形 35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3"/>
          <p:cNvSpPr/>
          <p:nvPr/>
        </p:nvSpPr>
        <p:spPr>
          <a:xfrm>
            <a:off x="1114560" y="1859040"/>
            <a:ext cx="185724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4680000" y="18194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21"/>
          <p:cNvSpPr/>
          <p:nvPr/>
        </p:nvSpPr>
        <p:spPr>
          <a:xfrm>
            <a:off x="1593720" y="826920"/>
            <a:ext cx="311400" cy="32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72"/>
          <p:cNvSpPr/>
          <p:nvPr/>
        </p:nvSpPr>
        <p:spPr>
          <a:xfrm>
            <a:off x="3639960" y="1579680"/>
            <a:ext cx="736920" cy="707760"/>
          </a:xfrm>
          <a:prstGeom prst="ellipse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73"/>
          <p:cNvSpPr/>
          <p:nvPr/>
        </p:nvSpPr>
        <p:spPr>
          <a:xfrm>
            <a:off x="5027760" y="1579680"/>
            <a:ext cx="736560" cy="707760"/>
          </a:xfrm>
          <a:prstGeom prst="ellipse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椭圆 74"/>
          <p:cNvSpPr/>
          <p:nvPr/>
        </p:nvSpPr>
        <p:spPr>
          <a:xfrm>
            <a:off x="6470640" y="1569960"/>
            <a:ext cx="736560" cy="70812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75"/>
          <p:cNvSpPr/>
          <p:nvPr/>
        </p:nvSpPr>
        <p:spPr>
          <a:xfrm>
            <a:off x="7893000" y="1569960"/>
            <a:ext cx="736560" cy="708120"/>
          </a:xfrm>
          <a:prstGeom prst="ellipse">
            <a:avLst/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图片 38" descr=""/>
          <p:cNvPicPr/>
          <p:nvPr/>
        </p:nvPicPr>
        <p:blipFill>
          <a:blip r:embed="rId1"/>
          <a:stretch/>
        </p:blipFill>
        <p:spPr>
          <a:xfrm>
            <a:off x="3738600" y="1682640"/>
            <a:ext cx="509400" cy="505080"/>
          </a:xfrm>
          <a:prstGeom prst="rect">
            <a:avLst/>
          </a:prstGeom>
          <a:ln w="0">
            <a:noFill/>
          </a:ln>
        </p:spPr>
      </p:pic>
      <p:pic>
        <p:nvPicPr>
          <p:cNvPr id="657" name="图片 39" descr=""/>
          <p:cNvPicPr/>
          <p:nvPr/>
        </p:nvPicPr>
        <p:blipFill>
          <a:blip r:embed="rId2"/>
          <a:stretch/>
        </p:blipFill>
        <p:spPr>
          <a:xfrm>
            <a:off x="5114880" y="1658880"/>
            <a:ext cx="557280" cy="550800"/>
          </a:xfrm>
          <a:prstGeom prst="rect">
            <a:avLst/>
          </a:prstGeom>
          <a:ln w="0">
            <a:noFill/>
          </a:ln>
        </p:spPr>
      </p:pic>
      <p:pic>
        <p:nvPicPr>
          <p:cNvPr id="658" name="图片 40" descr=""/>
          <p:cNvPicPr/>
          <p:nvPr/>
        </p:nvPicPr>
        <p:blipFill>
          <a:blip r:embed="rId3"/>
          <a:stretch/>
        </p:blipFill>
        <p:spPr>
          <a:xfrm>
            <a:off x="6397560" y="1500120"/>
            <a:ext cx="849240" cy="843120"/>
          </a:xfrm>
          <a:prstGeom prst="rect">
            <a:avLst/>
          </a:prstGeom>
          <a:ln w="0">
            <a:noFill/>
          </a:ln>
        </p:spPr>
      </p:pic>
      <p:pic>
        <p:nvPicPr>
          <p:cNvPr id="659" name="图片 41" descr=""/>
          <p:cNvPicPr/>
          <p:nvPr/>
        </p:nvPicPr>
        <p:blipFill>
          <a:blip r:embed="rId4"/>
          <a:stretch/>
        </p:blipFill>
        <p:spPr>
          <a:xfrm>
            <a:off x="7961400" y="1623960"/>
            <a:ext cx="590400" cy="585720"/>
          </a:xfrm>
          <a:prstGeom prst="rect">
            <a:avLst/>
          </a:prstGeom>
          <a:ln w="0">
            <a:noFill/>
          </a:ln>
        </p:spPr>
      </p:pic>
      <p:sp>
        <p:nvSpPr>
          <p:cNvPr id="660" name="矩形 16"/>
          <p:cNvSpPr/>
          <p:nvPr/>
        </p:nvSpPr>
        <p:spPr>
          <a:xfrm>
            <a:off x="3494160" y="3032280"/>
            <a:ext cx="523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 A designer can use default text to simulate what text would look like. If it is not real text. A designer can use default text to simulate what text would look like. If it is not real text. 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7" descr=""/>
          <p:cNvPicPr/>
          <p:nvPr/>
        </p:nvPicPr>
        <p:blipFill>
          <a:blip r:embed="rId5"/>
          <a:stretch/>
        </p:blipFill>
        <p:spPr>
          <a:xfrm>
            <a:off x="108000" y="1071720"/>
            <a:ext cx="3411360" cy="3371760"/>
          </a:xfrm>
          <a:prstGeom prst="rect">
            <a:avLst/>
          </a:prstGeom>
          <a:ln w="0">
            <a:noFill/>
          </a:ln>
        </p:spPr>
      </p:pic>
      <p:sp>
        <p:nvSpPr>
          <p:cNvPr id="662" name="文本框 14"/>
          <p:cNvSpPr/>
          <p:nvPr/>
        </p:nvSpPr>
        <p:spPr>
          <a:xfrm>
            <a:off x="3565440" y="25178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"/>
          <p:cNvSpPr/>
          <p:nvPr/>
        </p:nvSpPr>
        <p:spPr>
          <a:xfrm>
            <a:off x="5394600" y="2579760"/>
            <a:ext cx="25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 HERE ADD TITLE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合 19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65" name="燕尾形 20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燕尾形 21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燕尾形 22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燕尾形 23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矩形 24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31"/>
          <p:cNvSpPr/>
          <p:nvPr/>
        </p:nvSpPr>
        <p:spPr>
          <a:xfrm>
            <a:off x="4716360" y="1500120"/>
            <a:ext cx="576360" cy="50328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8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0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025" y="159331"/>
                </a:moveTo>
                <a:cubicBezTo>
                  <a:pt x="341583" y="170883"/>
                  <a:pt x="334049" y="180594"/>
                  <a:pt x="324421" y="188464"/>
                </a:cubicBezTo>
                <a:cubicBezTo>
                  <a:pt x="314794" y="196333"/>
                  <a:pt x="301274" y="203072"/>
                  <a:pt x="283861" y="208681"/>
                </a:cubicBezTo>
                <a:lnTo>
                  <a:pt x="283861" y="250623"/>
                </a:lnTo>
                <a:cubicBezTo>
                  <a:pt x="295665" y="247023"/>
                  <a:pt x="305481" y="243256"/>
                  <a:pt x="313308" y="239321"/>
                </a:cubicBezTo>
                <a:cubicBezTo>
                  <a:pt x="321135" y="235386"/>
                  <a:pt x="329235" y="230238"/>
                  <a:pt x="337606" y="223876"/>
                </a:cubicBezTo>
                <a:lnTo>
                  <a:pt x="337606" y="346561"/>
                </a:lnTo>
                <a:lnTo>
                  <a:pt x="389343" y="346561"/>
                </a:lnTo>
                <a:lnTo>
                  <a:pt x="389343" y="159331"/>
                </a:lnTo>
                <a:lnTo>
                  <a:pt x="347025" y="159331"/>
                </a:ln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1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89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8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16"/>
          <p:cNvSpPr/>
          <p:nvPr/>
        </p:nvSpPr>
        <p:spPr>
          <a:xfrm>
            <a:off x="5364000" y="14320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7"/>
          <p:cNvSpPr/>
          <p:nvPr/>
        </p:nvSpPr>
        <p:spPr>
          <a:xfrm>
            <a:off x="5364000" y="164448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4716360" y="217980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652" y="159331"/>
                </a:moveTo>
                <a:cubicBezTo>
                  <a:pt x="330407" y="159331"/>
                  <a:pt x="316908" y="161486"/>
                  <a:pt x="307155" y="165798"/>
                </a:cubicBezTo>
                <a:cubicBezTo>
                  <a:pt x="297402" y="170109"/>
                  <a:pt x="289847" y="176304"/>
                  <a:pt x="284489" y="184383"/>
                </a:cubicBezTo>
                <a:cubicBezTo>
                  <a:pt x="279131" y="192461"/>
                  <a:pt x="275448" y="203700"/>
                  <a:pt x="273438" y="218099"/>
                </a:cubicBezTo>
                <a:lnTo>
                  <a:pt x="324672" y="222243"/>
                </a:lnTo>
                <a:cubicBezTo>
                  <a:pt x="326096" y="211862"/>
                  <a:pt x="328879" y="204621"/>
                  <a:pt x="333023" y="200519"/>
                </a:cubicBezTo>
                <a:cubicBezTo>
                  <a:pt x="337167" y="196417"/>
                  <a:pt x="342504" y="194366"/>
                  <a:pt x="349034" y="194366"/>
                </a:cubicBezTo>
                <a:cubicBezTo>
                  <a:pt x="355312" y="194366"/>
                  <a:pt x="360524" y="196354"/>
                  <a:pt x="364668" y="200331"/>
                </a:cubicBezTo>
                <a:cubicBezTo>
                  <a:pt x="368812" y="204307"/>
                  <a:pt x="370884" y="209100"/>
                  <a:pt x="370884" y="214709"/>
                </a:cubicBezTo>
                <a:cubicBezTo>
                  <a:pt x="370884" y="219899"/>
                  <a:pt x="368791" y="225382"/>
                  <a:pt x="364605" y="231159"/>
                </a:cubicBezTo>
                <a:cubicBezTo>
                  <a:pt x="360419" y="236935"/>
                  <a:pt x="350834" y="245391"/>
                  <a:pt x="335848" y="256525"/>
                </a:cubicBezTo>
                <a:cubicBezTo>
                  <a:pt x="311320" y="274691"/>
                  <a:pt x="294598" y="290451"/>
                  <a:pt x="285682" y="303803"/>
                </a:cubicBezTo>
                <a:cubicBezTo>
                  <a:pt x="276766" y="317156"/>
                  <a:pt x="271429" y="331409"/>
                  <a:pt x="269671" y="346561"/>
                </a:cubicBezTo>
                <a:lnTo>
                  <a:pt x="423122" y="346561"/>
                </a:lnTo>
                <a:lnTo>
                  <a:pt x="423122" y="304871"/>
                </a:lnTo>
                <a:lnTo>
                  <a:pt x="343257" y="304871"/>
                </a:lnTo>
                <a:cubicBezTo>
                  <a:pt x="347945" y="300266"/>
                  <a:pt x="352027" y="296541"/>
                  <a:pt x="355501" y="293695"/>
                </a:cubicBezTo>
                <a:cubicBezTo>
                  <a:pt x="358975" y="290848"/>
                  <a:pt x="365861" y="285867"/>
                  <a:pt x="376158" y="278751"/>
                </a:cubicBezTo>
                <a:cubicBezTo>
                  <a:pt x="393487" y="266529"/>
                  <a:pt x="405437" y="255311"/>
                  <a:pt x="412009" y="245098"/>
                </a:cubicBezTo>
                <a:cubicBezTo>
                  <a:pt x="418581" y="234884"/>
                  <a:pt x="421866" y="224169"/>
                  <a:pt x="421866" y="212951"/>
                </a:cubicBezTo>
                <a:cubicBezTo>
                  <a:pt x="421866" y="202402"/>
                  <a:pt x="418999" y="192880"/>
                  <a:pt x="413265" y="184383"/>
                </a:cubicBezTo>
                <a:cubicBezTo>
                  <a:pt x="407530" y="175886"/>
                  <a:pt x="399661" y="169586"/>
                  <a:pt x="389657" y="165484"/>
                </a:cubicBezTo>
                <a:cubicBezTo>
                  <a:pt x="379653" y="161382"/>
                  <a:pt x="365651" y="159331"/>
                  <a:pt x="347652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20"/>
          <p:cNvSpPr/>
          <p:nvPr/>
        </p:nvSpPr>
        <p:spPr>
          <a:xfrm>
            <a:off x="5364000" y="21114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21"/>
          <p:cNvSpPr/>
          <p:nvPr/>
        </p:nvSpPr>
        <p:spPr>
          <a:xfrm>
            <a:off x="5364000" y="232416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3"/>
          <p:cNvSpPr/>
          <p:nvPr/>
        </p:nvSpPr>
        <p:spPr>
          <a:xfrm>
            <a:off x="4716360" y="286380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6397" y="159331"/>
                </a:moveTo>
                <a:cubicBezTo>
                  <a:pt x="325468" y="159331"/>
                  <a:pt x="309290" y="163433"/>
                  <a:pt x="297862" y="171637"/>
                </a:cubicBezTo>
                <a:cubicBezTo>
                  <a:pt x="286435" y="179841"/>
                  <a:pt x="278712" y="191645"/>
                  <a:pt x="274694" y="207049"/>
                </a:cubicBezTo>
                <a:lnTo>
                  <a:pt x="323040" y="215713"/>
                </a:lnTo>
                <a:cubicBezTo>
                  <a:pt x="324379" y="206588"/>
                  <a:pt x="326933" y="200205"/>
                  <a:pt x="330700" y="196563"/>
                </a:cubicBezTo>
                <a:cubicBezTo>
                  <a:pt x="334467" y="192922"/>
                  <a:pt x="339365" y="191101"/>
                  <a:pt x="345392" y="191101"/>
                </a:cubicBezTo>
                <a:cubicBezTo>
                  <a:pt x="351252" y="191101"/>
                  <a:pt x="355857" y="192775"/>
                  <a:pt x="359205" y="196124"/>
                </a:cubicBezTo>
                <a:cubicBezTo>
                  <a:pt x="362554" y="199472"/>
                  <a:pt x="364228" y="203951"/>
                  <a:pt x="364228" y="209560"/>
                </a:cubicBezTo>
                <a:cubicBezTo>
                  <a:pt x="364228" y="215420"/>
                  <a:pt x="361989" y="220485"/>
                  <a:pt x="357510" y="224755"/>
                </a:cubicBezTo>
                <a:cubicBezTo>
                  <a:pt x="353031" y="229024"/>
                  <a:pt x="347443" y="231159"/>
                  <a:pt x="340746" y="231159"/>
                </a:cubicBezTo>
                <a:cubicBezTo>
                  <a:pt x="339155" y="231159"/>
                  <a:pt x="336937" y="230950"/>
                  <a:pt x="334090" y="230531"/>
                </a:cubicBezTo>
                <a:lnTo>
                  <a:pt x="331453" y="267073"/>
                </a:lnTo>
                <a:cubicBezTo>
                  <a:pt x="338486" y="265064"/>
                  <a:pt x="344011" y="264059"/>
                  <a:pt x="348029" y="264059"/>
                </a:cubicBezTo>
                <a:cubicBezTo>
                  <a:pt x="355564" y="264059"/>
                  <a:pt x="361528" y="266403"/>
                  <a:pt x="365923" y="271091"/>
                </a:cubicBezTo>
                <a:cubicBezTo>
                  <a:pt x="370318" y="275779"/>
                  <a:pt x="372516" y="282393"/>
                  <a:pt x="372516" y="290932"/>
                </a:cubicBezTo>
                <a:cubicBezTo>
                  <a:pt x="372516" y="299304"/>
                  <a:pt x="370235" y="306001"/>
                  <a:pt x="365672" y="311024"/>
                </a:cubicBezTo>
                <a:cubicBezTo>
                  <a:pt x="361110" y="316047"/>
                  <a:pt x="355396" y="318558"/>
                  <a:pt x="348531" y="318558"/>
                </a:cubicBezTo>
                <a:cubicBezTo>
                  <a:pt x="342002" y="318558"/>
                  <a:pt x="336623" y="316570"/>
                  <a:pt x="332395" y="312593"/>
                </a:cubicBezTo>
                <a:cubicBezTo>
                  <a:pt x="328168" y="308617"/>
                  <a:pt x="325049" y="301480"/>
                  <a:pt x="323040" y="291183"/>
                </a:cubicBezTo>
                <a:lnTo>
                  <a:pt x="271931" y="297964"/>
                </a:lnTo>
                <a:cubicBezTo>
                  <a:pt x="275280" y="309433"/>
                  <a:pt x="280073" y="318956"/>
                  <a:pt x="286310" y="326532"/>
                </a:cubicBezTo>
                <a:cubicBezTo>
                  <a:pt x="292546" y="334108"/>
                  <a:pt x="300499" y="339864"/>
                  <a:pt x="310169" y="343799"/>
                </a:cubicBezTo>
                <a:cubicBezTo>
                  <a:pt x="319838" y="347733"/>
                  <a:pt x="333044" y="349700"/>
                  <a:pt x="349787" y="349700"/>
                </a:cubicBezTo>
                <a:cubicBezTo>
                  <a:pt x="366949" y="349700"/>
                  <a:pt x="380804" y="347042"/>
                  <a:pt x="391352" y="341727"/>
                </a:cubicBezTo>
                <a:cubicBezTo>
                  <a:pt x="401900" y="336411"/>
                  <a:pt x="409979" y="328834"/>
                  <a:pt x="415588" y="318998"/>
                </a:cubicBezTo>
                <a:cubicBezTo>
                  <a:pt x="421197" y="309161"/>
                  <a:pt x="424001" y="298885"/>
                  <a:pt x="424001" y="288169"/>
                </a:cubicBezTo>
                <a:cubicBezTo>
                  <a:pt x="424001" y="279630"/>
                  <a:pt x="422306" y="272284"/>
                  <a:pt x="418915" y="266131"/>
                </a:cubicBezTo>
                <a:cubicBezTo>
                  <a:pt x="415525" y="259978"/>
                  <a:pt x="410774" y="255018"/>
                  <a:pt x="404663" y="251251"/>
                </a:cubicBezTo>
                <a:cubicBezTo>
                  <a:pt x="400896" y="248907"/>
                  <a:pt x="395454" y="246856"/>
                  <a:pt x="388338" y="245098"/>
                </a:cubicBezTo>
                <a:cubicBezTo>
                  <a:pt x="397128" y="240242"/>
                  <a:pt x="403700" y="234591"/>
                  <a:pt x="408053" y="228145"/>
                </a:cubicBezTo>
                <a:cubicBezTo>
                  <a:pt x="412407" y="221699"/>
                  <a:pt x="414583" y="214499"/>
                  <a:pt x="414583" y="206546"/>
                </a:cubicBezTo>
                <a:cubicBezTo>
                  <a:pt x="414583" y="192984"/>
                  <a:pt x="409225" y="181725"/>
                  <a:pt x="398510" y="172767"/>
                </a:cubicBezTo>
                <a:cubicBezTo>
                  <a:pt x="387794" y="163809"/>
                  <a:pt x="370423" y="159331"/>
                  <a:pt x="346397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24"/>
          <p:cNvSpPr/>
          <p:nvPr/>
        </p:nvSpPr>
        <p:spPr>
          <a:xfrm>
            <a:off x="5364000" y="27957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5"/>
          <p:cNvSpPr/>
          <p:nvPr/>
        </p:nvSpPr>
        <p:spPr>
          <a:xfrm>
            <a:off x="5364000" y="300816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5"/>
          <p:cNvSpPr/>
          <p:nvPr/>
        </p:nvSpPr>
        <p:spPr>
          <a:xfrm>
            <a:off x="4716360" y="3511440"/>
            <a:ext cx="576360" cy="50508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361340" y="214538"/>
                </a:moveTo>
                <a:lnTo>
                  <a:pt x="361340" y="272473"/>
                </a:lnTo>
                <a:lnTo>
                  <a:pt x="312107" y="272473"/>
                </a:lnTo>
                <a:lnTo>
                  <a:pt x="361340" y="214538"/>
                </a:lnTo>
                <a:close/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61340" y="159331"/>
                </a:moveTo>
                <a:lnTo>
                  <a:pt x="268164" y="270087"/>
                </a:lnTo>
                <a:lnTo>
                  <a:pt x="268164" y="312154"/>
                </a:lnTo>
                <a:lnTo>
                  <a:pt x="361340" y="312154"/>
                </a:lnTo>
                <a:lnTo>
                  <a:pt x="361340" y="346561"/>
                </a:lnTo>
                <a:lnTo>
                  <a:pt x="405919" y="346561"/>
                </a:lnTo>
                <a:lnTo>
                  <a:pt x="405919" y="312154"/>
                </a:lnTo>
                <a:lnTo>
                  <a:pt x="429024" y="312154"/>
                </a:lnTo>
                <a:lnTo>
                  <a:pt x="429024" y="272473"/>
                </a:lnTo>
                <a:lnTo>
                  <a:pt x="405919" y="272473"/>
                </a:lnTo>
                <a:lnTo>
                  <a:pt x="405919" y="159331"/>
                </a:lnTo>
                <a:lnTo>
                  <a:pt x="361340" y="159331"/>
                </a:ln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28"/>
          <p:cNvSpPr/>
          <p:nvPr/>
        </p:nvSpPr>
        <p:spPr>
          <a:xfrm>
            <a:off x="5364000" y="34448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29"/>
          <p:cNvSpPr/>
          <p:nvPr/>
        </p:nvSpPr>
        <p:spPr>
          <a:xfrm>
            <a:off x="5364000" y="365616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84360" y="1328760"/>
            <a:ext cx="3671640" cy="279072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23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82" name="燕尾形 26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燕尾形 27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燕尾形 30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燕尾形 3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3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六边形 3"/>
          <p:cNvSpPr/>
          <p:nvPr/>
        </p:nvSpPr>
        <p:spPr>
          <a:xfrm rot="16200000">
            <a:off x="2965320" y="2063880"/>
            <a:ext cx="943200" cy="831600"/>
          </a:xfrm>
          <a:prstGeom prst="hexagon">
            <a:avLst>
              <a:gd name="adj" fmla="val 25015"/>
              <a:gd name="vf" fmla="val 11547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六边形 2"/>
          <p:cNvSpPr/>
          <p:nvPr/>
        </p:nvSpPr>
        <p:spPr>
          <a:xfrm rot="16200000">
            <a:off x="3896280" y="1775520"/>
            <a:ext cx="1295280" cy="117324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六边形 4"/>
          <p:cNvSpPr/>
          <p:nvPr/>
        </p:nvSpPr>
        <p:spPr>
          <a:xfrm rot="16200000">
            <a:off x="5214600" y="2063520"/>
            <a:ext cx="943200" cy="83196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六边形 5"/>
          <p:cNvSpPr/>
          <p:nvPr/>
        </p:nvSpPr>
        <p:spPr>
          <a:xfrm rot="16200000">
            <a:off x="3489120" y="2971440"/>
            <a:ext cx="941400" cy="83016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六边形 6"/>
          <p:cNvSpPr/>
          <p:nvPr/>
        </p:nvSpPr>
        <p:spPr>
          <a:xfrm rot="16200000">
            <a:off x="4727520" y="2971440"/>
            <a:ext cx="941400" cy="83052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1"/>
          <p:cNvSpPr/>
          <p:nvPr/>
        </p:nvSpPr>
        <p:spPr>
          <a:xfrm>
            <a:off x="6213600" y="2319480"/>
            <a:ext cx="2751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12"/>
          <p:cNvSpPr/>
          <p:nvPr/>
        </p:nvSpPr>
        <p:spPr>
          <a:xfrm>
            <a:off x="5821200" y="3156120"/>
            <a:ext cx="2783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13"/>
          <p:cNvSpPr/>
          <p:nvPr/>
        </p:nvSpPr>
        <p:spPr>
          <a:xfrm>
            <a:off x="820800" y="3208320"/>
            <a:ext cx="2714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14"/>
          <p:cNvSpPr/>
          <p:nvPr/>
        </p:nvSpPr>
        <p:spPr>
          <a:xfrm>
            <a:off x="320760" y="2319480"/>
            <a:ext cx="2714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20"/>
          <p:cNvSpPr/>
          <p:nvPr/>
        </p:nvSpPr>
        <p:spPr>
          <a:xfrm>
            <a:off x="4006800" y="2496960"/>
            <a:ext cx="11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直接连接符 22"/>
          <p:cNvSpPr/>
          <p:nvPr/>
        </p:nvSpPr>
        <p:spPr>
          <a:xfrm>
            <a:off x="4086360" y="2475000"/>
            <a:ext cx="91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图片 23" descr=""/>
          <p:cNvPicPr/>
          <p:nvPr/>
        </p:nvPicPr>
        <p:blipFill>
          <a:blip r:embed="rId1"/>
          <a:stretch/>
        </p:blipFill>
        <p:spPr>
          <a:xfrm>
            <a:off x="3168720" y="2184480"/>
            <a:ext cx="601560" cy="58104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24" descr=""/>
          <p:cNvPicPr/>
          <p:nvPr/>
        </p:nvPicPr>
        <p:blipFill>
          <a:blip r:embed="rId2"/>
          <a:stretch/>
        </p:blipFill>
        <p:spPr>
          <a:xfrm>
            <a:off x="3578400" y="3298680"/>
            <a:ext cx="772920" cy="270000"/>
          </a:xfrm>
          <a:prstGeom prst="rect">
            <a:avLst/>
          </a:prstGeom>
          <a:ln w="0">
            <a:noFill/>
          </a:ln>
        </p:spPr>
      </p:pic>
      <p:pic>
        <p:nvPicPr>
          <p:cNvPr id="683" name="图片 25" descr=""/>
          <p:cNvPicPr/>
          <p:nvPr/>
        </p:nvPicPr>
        <p:blipFill>
          <a:blip r:embed="rId3"/>
          <a:stretch/>
        </p:blipFill>
        <p:spPr>
          <a:xfrm>
            <a:off x="5411880" y="21844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1" descr=""/>
          <p:cNvPicPr/>
          <p:nvPr/>
        </p:nvPicPr>
        <p:blipFill>
          <a:blip r:embed="rId4"/>
          <a:stretch/>
        </p:blipFill>
        <p:spPr>
          <a:xfrm>
            <a:off x="4981680" y="3122640"/>
            <a:ext cx="438120" cy="552600"/>
          </a:xfrm>
          <a:prstGeom prst="rect">
            <a:avLst/>
          </a:prstGeom>
          <a:ln w="0">
            <a:noFill/>
          </a:ln>
        </p:spPr>
      </p:pic>
      <p:pic>
        <p:nvPicPr>
          <p:cNvPr id="685" name="图片 7" descr=""/>
          <p:cNvPicPr/>
          <p:nvPr/>
        </p:nvPicPr>
        <p:blipFill>
          <a:blip r:embed="rId5"/>
          <a:stretch/>
        </p:blipFill>
        <p:spPr>
          <a:xfrm>
            <a:off x="4272120" y="1957320"/>
            <a:ext cx="574560" cy="476280"/>
          </a:xfrm>
          <a:prstGeom prst="rect">
            <a:avLst/>
          </a:prstGeom>
          <a:ln w="0">
            <a:noFill/>
          </a:ln>
        </p:spPr>
      </p:pic>
      <p:grpSp>
        <p:nvGrpSpPr>
          <p:cNvPr id="686" name="组合 27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87" name="燕尾形 30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燕尾形 31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燕尾形 32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燕尾形 33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矩形 34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矩形 16"/>
          <p:cNvSpPr/>
          <p:nvPr/>
        </p:nvSpPr>
        <p:spPr>
          <a:xfrm>
            <a:off x="1177920" y="1406520"/>
            <a:ext cx="31622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组合 54"/>
          <p:cNvGrpSpPr/>
          <p:nvPr/>
        </p:nvGrpSpPr>
        <p:grpSpPr>
          <a:xfrm>
            <a:off x="4340160" y="2190600"/>
            <a:ext cx="2462400" cy="1989360"/>
            <a:chOff x="4340160" y="2190600"/>
            <a:chExt cx="2462400" cy="1989360"/>
          </a:xfrm>
        </p:grpSpPr>
        <p:sp>
          <p:nvSpPr>
            <p:cNvPr id="694" name="Oval 6"/>
            <p:cNvSpPr/>
            <p:nvPr/>
          </p:nvSpPr>
          <p:spPr>
            <a:xfrm>
              <a:off x="4970520" y="4026240"/>
              <a:ext cx="1244520" cy="153720"/>
            </a:xfrm>
            <a:prstGeom prst="ellips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7"/>
            <p:cNvSpPr/>
            <p:nvPr/>
          </p:nvSpPr>
          <p:spPr>
            <a:xfrm>
              <a:off x="4340160" y="2746080"/>
              <a:ext cx="193680" cy="129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43" h="96">
                  <a:moveTo>
                    <a:pt x="18" y="0"/>
                  </a:moveTo>
                  <a:lnTo>
                    <a:pt x="0" y="48"/>
                  </a:lnTo>
                  <a:lnTo>
                    <a:pt x="125" y="96"/>
                  </a:lnTo>
                  <a:lnTo>
                    <a:pt x="143" y="4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8"/>
            <p:cNvSpPr/>
            <p:nvPr/>
          </p:nvSpPr>
          <p:spPr>
            <a:xfrm>
              <a:off x="4628880" y="2263320"/>
              <a:ext cx="185760" cy="169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37" h="125">
                  <a:moveTo>
                    <a:pt x="33" y="0"/>
                  </a:moveTo>
                  <a:lnTo>
                    <a:pt x="0" y="40"/>
                  </a:lnTo>
                  <a:lnTo>
                    <a:pt x="104" y="125"/>
                  </a:lnTo>
                  <a:lnTo>
                    <a:pt x="137" y="8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9"/>
            <p:cNvSpPr/>
            <p:nvPr/>
          </p:nvSpPr>
          <p:spPr>
            <a:xfrm>
              <a:off x="6608880" y="2830320"/>
              <a:ext cx="193680" cy="1252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3" h="92">
                  <a:moveTo>
                    <a:pt x="127" y="0"/>
                  </a:moveTo>
                  <a:lnTo>
                    <a:pt x="0" y="43"/>
                  </a:lnTo>
                  <a:lnTo>
                    <a:pt x="16" y="92"/>
                  </a:lnTo>
                  <a:lnTo>
                    <a:pt x="143" y="4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0"/>
            <p:cNvSpPr/>
            <p:nvPr/>
          </p:nvSpPr>
          <p:spPr>
            <a:xfrm>
              <a:off x="6616800" y="2207880"/>
              <a:ext cx="177480" cy="1778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1" h="131">
                  <a:moveTo>
                    <a:pt x="94" y="0"/>
                  </a:moveTo>
                  <a:lnTo>
                    <a:pt x="0" y="94"/>
                  </a:lnTo>
                  <a:lnTo>
                    <a:pt x="36" y="131"/>
                  </a:lnTo>
                  <a:lnTo>
                    <a:pt x="131" y="37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1"/>
            <p:cNvSpPr/>
            <p:nvPr/>
          </p:nvSpPr>
          <p:spPr>
            <a:xfrm>
              <a:off x="5251320" y="4040280"/>
              <a:ext cx="245880" cy="824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82" h="61">
                  <a:moveTo>
                    <a:pt x="174" y="3"/>
                  </a:moveTo>
                  <a:lnTo>
                    <a:pt x="103" y="0"/>
                  </a:lnTo>
                  <a:lnTo>
                    <a:pt x="11" y="20"/>
                  </a:lnTo>
                  <a:lnTo>
                    <a:pt x="0" y="61"/>
                  </a:lnTo>
                  <a:lnTo>
                    <a:pt x="109" y="54"/>
                  </a:lnTo>
                  <a:lnTo>
                    <a:pt x="138" y="34"/>
                  </a:lnTo>
                  <a:lnTo>
                    <a:pt x="138" y="52"/>
                  </a:lnTo>
                  <a:lnTo>
                    <a:pt x="182" y="49"/>
                  </a:lnTo>
                  <a:lnTo>
                    <a:pt x="174" y="3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2"/>
            <p:cNvSpPr/>
            <p:nvPr/>
          </p:nvSpPr>
          <p:spPr>
            <a:xfrm>
              <a:off x="5746680" y="4043520"/>
              <a:ext cx="245880" cy="79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82" h="59">
                  <a:moveTo>
                    <a:pt x="182" y="47"/>
                  </a:moveTo>
                  <a:lnTo>
                    <a:pt x="166" y="8"/>
                  </a:lnTo>
                  <a:lnTo>
                    <a:pt x="70" y="0"/>
                  </a:lnTo>
                  <a:lnTo>
                    <a:pt x="1" y="13"/>
                  </a:lnTo>
                  <a:lnTo>
                    <a:pt x="0" y="59"/>
                  </a:lnTo>
                  <a:lnTo>
                    <a:pt x="44" y="56"/>
                  </a:lnTo>
                  <a:lnTo>
                    <a:pt x="42" y="39"/>
                  </a:lnTo>
                  <a:lnTo>
                    <a:pt x="73" y="55"/>
                  </a:lnTo>
                  <a:lnTo>
                    <a:pt x="182" y="47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3"/>
            <p:cNvSpPr/>
            <p:nvPr/>
          </p:nvSpPr>
          <p:spPr>
            <a:xfrm>
              <a:off x="5156280" y="2765160"/>
              <a:ext cx="898560" cy="4986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1110" h="616">
                  <a:moveTo>
                    <a:pt x="995" y="0"/>
                  </a:moveTo>
                  <a:cubicBezTo>
                    <a:pt x="234" y="69"/>
                    <a:pt x="234" y="69"/>
                    <a:pt x="234" y="69"/>
                  </a:cubicBezTo>
                  <a:cubicBezTo>
                    <a:pt x="209" y="278"/>
                    <a:pt x="209" y="278"/>
                    <a:pt x="209" y="278"/>
                  </a:cubicBezTo>
                  <a:cubicBezTo>
                    <a:pt x="186" y="235"/>
                    <a:pt x="141" y="210"/>
                    <a:pt x="95" y="219"/>
                  </a:cubicBezTo>
                  <a:cubicBezTo>
                    <a:pt x="37" y="230"/>
                    <a:pt x="0" y="291"/>
                    <a:pt x="12" y="356"/>
                  </a:cubicBezTo>
                  <a:cubicBezTo>
                    <a:pt x="24" y="421"/>
                    <a:pt x="81" y="465"/>
                    <a:pt x="139" y="454"/>
                  </a:cubicBezTo>
                  <a:cubicBezTo>
                    <a:pt x="140" y="454"/>
                    <a:pt x="141" y="454"/>
                    <a:pt x="142" y="453"/>
                  </a:cubicBezTo>
                  <a:cubicBezTo>
                    <a:pt x="147" y="577"/>
                    <a:pt x="147" y="577"/>
                    <a:pt x="147" y="577"/>
                  </a:cubicBezTo>
                  <a:cubicBezTo>
                    <a:pt x="922" y="615"/>
                    <a:pt x="922" y="615"/>
                    <a:pt x="922" y="615"/>
                  </a:cubicBezTo>
                  <a:cubicBezTo>
                    <a:pt x="922" y="616"/>
                    <a:pt x="922" y="616"/>
                    <a:pt x="922" y="616"/>
                  </a:cubicBezTo>
                  <a:cubicBezTo>
                    <a:pt x="961" y="561"/>
                    <a:pt x="1061" y="419"/>
                    <a:pt x="1077" y="355"/>
                  </a:cubicBezTo>
                  <a:cubicBezTo>
                    <a:pt x="1110" y="221"/>
                    <a:pt x="1073" y="100"/>
                    <a:pt x="995" y="0"/>
                  </a:cubicBezTo>
                  <a:close/>
                </a:path>
              </a:pathLst>
            </a:custGeom>
            <a:solidFill>
              <a:srgbClr val="fc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4"/>
            <p:cNvSpPr/>
            <p:nvPr/>
          </p:nvSpPr>
          <p:spPr>
            <a:xfrm>
              <a:off x="5818320" y="3262320"/>
              <a:ext cx="457200" cy="407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337" h="301">
                  <a:moveTo>
                    <a:pt x="311" y="145"/>
                  </a:moveTo>
                  <a:lnTo>
                    <a:pt x="152" y="197"/>
                  </a:lnTo>
                  <a:lnTo>
                    <a:pt x="62" y="0"/>
                  </a:lnTo>
                  <a:lnTo>
                    <a:pt x="0" y="26"/>
                  </a:lnTo>
                  <a:lnTo>
                    <a:pt x="106" y="301"/>
                  </a:lnTo>
                  <a:lnTo>
                    <a:pt x="337" y="225"/>
                  </a:lnTo>
                  <a:lnTo>
                    <a:pt x="311" y="145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5"/>
            <p:cNvSpPr/>
            <p:nvPr/>
          </p:nvSpPr>
          <p:spPr>
            <a:xfrm>
              <a:off x="5275080" y="3232080"/>
              <a:ext cx="627120" cy="59688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62" h="440">
                  <a:moveTo>
                    <a:pt x="462" y="23"/>
                  </a:moveTo>
                  <a:lnTo>
                    <a:pt x="0" y="0"/>
                  </a:lnTo>
                  <a:lnTo>
                    <a:pt x="0" y="440"/>
                  </a:lnTo>
                  <a:lnTo>
                    <a:pt x="462" y="440"/>
                  </a:lnTo>
                  <a:lnTo>
                    <a:pt x="46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Oval 16"/>
            <p:cNvSpPr/>
            <p:nvPr/>
          </p:nvSpPr>
          <p:spPr>
            <a:xfrm>
              <a:off x="5948640" y="2895480"/>
              <a:ext cx="128520" cy="12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Oval 17"/>
            <p:cNvSpPr/>
            <p:nvPr/>
          </p:nvSpPr>
          <p:spPr>
            <a:xfrm>
              <a:off x="5978520" y="2925720"/>
              <a:ext cx="68040" cy="6984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Oval 18"/>
            <p:cNvSpPr/>
            <p:nvPr/>
          </p:nvSpPr>
          <p:spPr>
            <a:xfrm>
              <a:off x="5487840" y="2930400"/>
              <a:ext cx="128520" cy="12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Oval 19"/>
            <p:cNvSpPr/>
            <p:nvPr/>
          </p:nvSpPr>
          <p:spPr>
            <a:xfrm>
              <a:off x="5516640" y="2960640"/>
              <a:ext cx="71280" cy="6984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20"/>
            <p:cNvSpPr/>
            <p:nvPr/>
          </p:nvSpPr>
          <p:spPr>
            <a:xfrm>
              <a:off x="5748480" y="3257640"/>
              <a:ext cx="102960" cy="4921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77" h="363">
                  <a:moveTo>
                    <a:pt x="52" y="70"/>
                  </a:moveTo>
                  <a:lnTo>
                    <a:pt x="75" y="42"/>
                  </a:lnTo>
                  <a:lnTo>
                    <a:pt x="39" y="0"/>
                  </a:lnTo>
                  <a:lnTo>
                    <a:pt x="0" y="45"/>
                  </a:lnTo>
                  <a:lnTo>
                    <a:pt x="26" y="72"/>
                  </a:lnTo>
                  <a:lnTo>
                    <a:pt x="0" y="294"/>
                  </a:lnTo>
                  <a:lnTo>
                    <a:pt x="39" y="363"/>
                  </a:lnTo>
                  <a:lnTo>
                    <a:pt x="77" y="286"/>
                  </a:lnTo>
                  <a:lnTo>
                    <a:pt x="52" y="7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21"/>
            <p:cNvSpPr/>
            <p:nvPr/>
          </p:nvSpPr>
          <p:spPr>
            <a:xfrm>
              <a:off x="5275080" y="3232080"/>
              <a:ext cx="627120" cy="59688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62" h="440">
                  <a:moveTo>
                    <a:pt x="0" y="0"/>
                  </a:moveTo>
                  <a:lnTo>
                    <a:pt x="232" y="12"/>
                  </a:lnTo>
                  <a:lnTo>
                    <a:pt x="401" y="219"/>
                  </a:lnTo>
                  <a:lnTo>
                    <a:pt x="462" y="101"/>
                  </a:lnTo>
                  <a:lnTo>
                    <a:pt x="462" y="440"/>
                  </a:lnTo>
                  <a:lnTo>
                    <a:pt x="0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2"/>
            <p:cNvSpPr/>
            <p:nvPr/>
          </p:nvSpPr>
          <p:spPr>
            <a:xfrm>
              <a:off x="5380200" y="3829320"/>
              <a:ext cx="131760" cy="2156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97" h="159">
                  <a:moveTo>
                    <a:pt x="34" y="0"/>
                  </a:moveTo>
                  <a:lnTo>
                    <a:pt x="0" y="156"/>
                  </a:lnTo>
                  <a:lnTo>
                    <a:pt x="82" y="159"/>
                  </a:lnTo>
                  <a:lnTo>
                    <a:pt x="9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3"/>
            <p:cNvSpPr/>
            <p:nvPr/>
          </p:nvSpPr>
          <p:spPr>
            <a:xfrm>
              <a:off x="5743800" y="3829320"/>
              <a:ext cx="98280" cy="233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73" h="173">
                  <a:moveTo>
                    <a:pt x="59" y="0"/>
                  </a:moveTo>
                  <a:lnTo>
                    <a:pt x="0" y="0"/>
                  </a:lnTo>
                  <a:lnTo>
                    <a:pt x="0" y="173"/>
                  </a:lnTo>
                  <a:lnTo>
                    <a:pt x="73" y="1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4"/>
            <p:cNvSpPr/>
            <p:nvPr/>
          </p:nvSpPr>
          <p:spPr>
            <a:xfrm>
              <a:off x="5437080" y="2820960"/>
              <a:ext cx="158760" cy="102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17" h="77">
                  <a:moveTo>
                    <a:pt x="104" y="0"/>
                  </a:moveTo>
                  <a:lnTo>
                    <a:pt x="0" y="52"/>
                  </a:lnTo>
                  <a:lnTo>
                    <a:pt x="13" y="77"/>
                  </a:lnTo>
                  <a:lnTo>
                    <a:pt x="117" y="2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5"/>
            <p:cNvSpPr/>
            <p:nvPr/>
          </p:nvSpPr>
          <p:spPr>
            <a:xfrm>
              <a:off x="4851360" y="3232080"/>
              <a:ext cx="487440" cy="39528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359" h="292">
                  <a:moveTo>
                    <a:pt x="313" y="0"/>
                  </a:moveTo>
                  <a:lnTo>
                    <a:pt x="187" y="194"/>
                  </a:lnTo>
                  <a:lnTo>
                    <a:pt x="21" y="178"/>
                  </a:lnTo>
                  <a:lnTo>
                    <a:pt x="0" y="265"/>
                  </a:lnTo>
                  <a:lnTo>
                    <a:pt x="219" y="292"/>
                  </a:lnTo>
                  <a:lnTo>
                    <a:pt x="359" y="6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6"/>
            <p:cNvSpPr/>
            <p:nvPr/>
          </p:nvSpPr>
          <p:spPr>
            <a:xfrm>
              <a:off x="6245280" y="3402000"/>
              <a:ext cx="226800" cy="1443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7" h="106">
                  <a:moveTo>
                    <a:pt x="164" y="20"/>
                  </a:moveTo>
                  <a:lnTo>
                    <a:pt x="126" y="34"/>
                  </a:lnTo>
                  <a:lnTo>
                    <a:pt x="69" y="35"/>
                  </a:lnTo>
                  <a:lnTo>
                    <a:pt x="88" y="18"/>
                  </a:lnTo>
                  <a:lnTo>
                    <a:pt x="68" y="0"/>
                  </a:lnTo>
                  <a:lnTo>
                    <a:pt x="24" y="46"/>
                  </a:lnTo>
                  <a:lnTo>
                    <a:pt x="0" y="54"/>
                  </a:lnTo>
                  <a:lnTo>
                    <a:pt x="16" y="106"/>
                  </a:lnTo>
                  <a:lnTo>
                    <a:pt x="38" y="102"/>
                  </a:lnTo>
                  <a:lnTo>
                    <a:pt x="53" y="99"/>
                  </a:lnTo>
                  <a:lnTo>
                    <a:pt x="101" y="91"/>
                  </a:lnTo>
                  <a:lnTo>
                    <a:pt x="167" y="39"/>
                  </a:lnTo>
                  <a:lnTo>
                    <a:pt x="164" y="20"/>
                  </a:lnTo>
                  <a:close/>
                </a:path>
              </a:pathLst>
            </a:custGeom>
            <a:solidFill>
              <a:srgbClr val="fc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27"/>
            <p:cNvSpPr/>
            <p:nvPr/>
          </p:nvSpPr>
          <p:spPr>
            <a:xfrm>
              <a:off x="4644720" y="3422520"/>
              <a:ext cx="230040" cy="1396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0" h="103">
                  <a:moveTo>
                    <a:pt x="144" y="44"/>
                  </a:moveTo>
                  <a:lnTo>
                    <a:pt x="96" y="0"/>
                  </a:lnTo>
                  <a:lnTo>
                    <a:pt x="78" y="19"/>
                  </a:lnTo>
                  <a:lnTo>
                    <a:pt x="97" y="35"/>
                  </a:lnTo>
                  <a:lnTo>
                    <a:pt x="41" y="37"/>
                  </a:lnTo>
                  <a:lnTo>
                    <a:pt x="2" y="25"/>
                  </a:lnTo>
                  <a:lnTo>
                    <a:pt x="0" y="45"/>
                  </a:lnTo>
                  <a:lnTo>
                    <a:pt x="69" y="93"/>
                  </a:lnTo>
                  <a:lnTo>
                    <a:pt x="118" y="98"/>
                  </a:lnTo>
                  <a:lnTo>
                    <a:pt x="133" y="100"/>
                  </a:lnTo>
                  <a:lnTo>
                    <a:pt x="158" y="103"/>
                  </a:lnTo>
                  <a:lnTo>
                    <a:pt x="170" y="50"/>
                  </a:lnTo>
                  <a:lnTo>
                    <a:pt x="144" y="44"/>
                  </a:lnTo>
                  <a:close/>
                </a:path>
              </a:pathLst>
            </a:custGeom>
            <a:solidFill>
              <a:srgbClr val="fc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28"/>
            <p:cNvSpPr/>
            <p:nvPr/>
          </p:nvSpPr>
          <p:spPr>
            <a:xfrm>
              <a:off x="4827600" y="3473640"/>
              <a:ext cx="52200" cy="104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9" h="77">
                  <a:moveTo>
                    <a:pt x="19" y="0"/>
                  </a:moveTo>
                  <a:lnTo>
                    <a:pt x="0" y="74"/>
                  </a:lnTo>
                  <a:lnTo>
                    <a:pt x="21" y="77"/>
                  </a:lnTo>
                  <a:lnTo>
                    <a:pt x="3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29"/>
            <p:cNvSpPr/>
            <p:nvPr/>
          </p:nvSpPr>
          <p:spPr>
            <a:xfrm>
              <a:off x="6240600" y="3454560"/>
              <a:ext cx="58680" cy="107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3" h="80">
                  <a:moveTo>
                    <a:pt x="20" y="0"/>
                  </a:moveTo>
                  <a:lnTo>
                    <a:pt x="0" y="8"/>
                  </a:lnTo>
                  <a:lnTo>
                    <a:pt x="24" y="80"/>
                  </a:lnTo>
                  <a:lnTo>
                    <a:pt x="43" y="7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Oval 30"/>
            <p:cNvSpPr/>
            <p:nvPr/>
          </p:nvSpPr>
          <p:spPr>
            <a:xfrm>
              <a:off x="5781600" y="3568680"/>
              <a:ext cx="36360" cy="3636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Oval 31"/>
            <p:cNvSpPr/>
            <p:nvPr/>
          </p:nvSpPr>
          <p:spPr>
            <a:xfrm>
              <a:off x="5780160" y="3683160"/>
              <a:ext cx="34920" cy="3636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2"/>
            <p:cNvSpPr/>
            <p:nvPr/>
          </p:nvSpPr>
          <p:spPr>
            <a:xfrm>
              <a:off x="5346720" y="2765160"/>
              <a:ext cx="636480" cy="5544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88" h="69">
                  <a:moveTo>
                    <a:pt x="774" y="18"/>
                  </a:moveTo>
                  <a:cubicBezTo>
                    <a:pt x="771" y="14"/>
                    <a:pt x="761" y="0"/>
                    <a:pt x="761" y="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788" y="38"/>
                    <a:pt x="788" y="38"/>
                    <a:pt x="788" y="38"/>
                  </a:cubicBezTo>
                  <a:cubicBezTo>
                    <a:pt x="788" y="38"/>
                    <a:pt x="778" y="23"/>
                    <a:pt x="774" y="18"/>
                  </a:cubicBezTo>
                  <a:close/>
                </a:path>
              </a:pathLst>
            </a:custGeom>
            <a:solidFill>
              <a:srgbClr val="edc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3"/>
            <p:cNvSpPr/>
            <p:nvPr/>
          </p:nvSpPr>
          <p:spPr>
            <a:xfrm>
              <a:off x="4957560" y="2190600"/>
              <a:ext cx="1582920" cy="1041480"/>
            </a:xfrm>
            <a:custGeom>
              <a:avLst/>
              <a:gdLst>
                <a:gd name="textAreaLeft" fmla="*/ 0 w 1582920"/>
                <a:gd name="textAreaRight" fmla="*/ 1583280 w 1582920"/>
                <a:gd name="textAreaTop" fmla="*/ 0 h 1041480"/>
                <a:gd name="textAreaBottom" fmla="*/ 1041840 h 1041480"/>
              </a:gdLst>
              <a:ahLst/>
              <a:rect l="textAreaLeft" t="textAreaTop" r="textAreaRight" b="textAreaBottom"/>
              <a:pathLst>
                <a:path w="1957" h="1286">
                  <a:moveTo>
                    <a:pt x="416" y="0"/>
                  </a:moveTo>
                  <a:cubicBezTo>
                    <a:pt x="229" y="528"/>
                    <a:pt x="229" y="528"/>
                    <a:pt x="229" y="528"/>
                  </a:cubicBezTo>
                  <a:cubicBezTo>
                    <a:pt x="0" y="747"/>
                    <a:pt x="0" y="747"/>
                    <a:pt x="0" y="747"/>
                  </a:cubicBezTo>
                  <a:cubicBezTo>
                    <a:pt x="393" y="1286"/>
                    <a:pt x="393" y="1286"/>
                    <a:pt x="393" y="1286"/>
                  </a:cubicBezTo>
                  <a:cubicBezTo>
                    <a:pt x="388" y="1162"/>
                    <a:pt x="388" y="1162"/>
                    <a:pt x="388" y="1162"/>
                  </a:cubicBezTo>
                  <a:cubicBezTo>
                    <a:pt x="387" y="1163"/>
                    <a:pt x="386" y="1163"/>
                    <a:pt x="385" y="1163"/>
                  </a:cubicBezTo>
                  <a:cubicBezTo>
                    <a:pt x="327" y="1174"/>
                    <a:pt x="270" y="1130"/>
                    <a:pt x="258" y="1065"/>
                  </a:cubicBezTo>
                  <a:cubicBezTo>
                    <a:pt x="246" y="1000"/>
                    <a:pt x="283" y="939"/>
                    <a:pt x="341" y="928"/>
                  </a:cubicBezTo>
                  <a:cubicBezTo>
                    <a:pt x="387" y="919"/>
                    <a:pt x="432" y="944"/>
                    <a:pt x="455" y="987"/>
                  </a:cubicBezTo>
                  <a:cubicBezTo>
                    <a:pt x="480" y="778"/>
                    <a:pt x="480" y="778"/>
                    <a:pt x="480" y="778"/>
                  </a:cubicBezTo>
                  <a:cubicBezTo>
                    <a:pt x="1241" y="709"/>
                    <a:pt x="1241" y="709"/>
                    <a:pt x="1241" y="709"/>
                  </a:cubicBezTo>
                  <a:cubicBezTo>
                    <a:pt x="1241" y="709"/>
                    <a:pt x="1241" y="709"/>
                    <a:pt x="1241" y="709"/>
                  </a:cubicBezTo>
                  <a:cubicBezTo>
                    <a:pt x="1241" y="709"/>
                    <a:pt x="1241" y="709"/>
                    <a:pt x="1241" y="709"/>
                  </a:cubicBezTo>
                  <a:cubicBezTo>
                    <a:pt x="1957" y="424"/>
                    <a:pt x="1957" y="424"/>
                    <a:pt x="1957" y="424"/>
                  </a:cubicBezTo>
                  <a:lnTo>
                    <a:pt x="416" y="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4"/>
            <p:cNvSpPr/>
            <p:nvPr/>
          </p:nvSpPr>
          <p:spPr>
            <a:xfrm>
              <a:off x="5948640" y="2795400"/>
              <a:ext cx="160200" cy="982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8" h="72">
                  <a:moveTo>
                    <a:pt x="12" y="0"/>
                  </a:moveTo>
                  <a:lnTo>
                    <a:pt x="0" y="26"/>
                  </a:lnTo>
                  <a:lnTo>
                    <a:pt x="107" y="72"/>
                  </a:lnTo>
                  <a:lnTo>
                    <a:pt x="118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35"/>
            <p:cNvSpPr/>
            <p:nvPr/>
          </p:nvSpPr>
          <p:spPr>
            <a:xfrm>
              <a:off x="5346720" y="2533320"/>
              <a:ext cx="1193760" cy="28728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881" h="211">
                  <a:moveTo>
                    <a:pt x="0" y="211"/>
                  </a:moveTo>
                  <a:lnTo>
                    <a:pt x="454" y="170"/>
                  </a:lnTo>
                  <a:lnTo>
                    <a:pt x="881" y="0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4c2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36"/>
            <p:cNvSpPr/>
            <p:nvPr/>
          </p:nvSpPr>
          <p:spPr>
            <a:xfrm>
              <a:off x="5643720" y="3068640"/>
              <a:ext cx="271440" cy="131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37" h="162">
                  <a:moveTo>
                    <a:pt x="332" y="52"/>
                  </a:moveTo>
                  <a:cubicBezTo>
                    <a:pt x="326" y="21"/>
                    <a:pt x="296" y="0"/>
                    <a:pt x="265" y="5"/>
                  </a:cubicBezTo>
                  <a:cubicBezTo>
                    <a:pt x="53" y="42"/>
                    <a:pt x="53" y="42"/>
                    <a:pt x="53" y="42"/>
                  </a:cubicBezTo>
                  <a:cubicBezTo>
                    <a:pt x="21" y="47"/>
                    <a:pt x="0" y="78"/>
                    <a:pt x="6" y="109"/>
                  </a:cubicBezTo>
                  <a:cubicBezTo>
                    <a:pt x="11" y="141"/>
                    <a:pt x="41" y="162"/>
                    <a:pt x="73" y="156"/>
                  </a:cubicBezTo>
                  <a:cubicBezTo>
                    <a:pt x="285" y="119"/>
                    <a:pt x="285" y="119"/>
                    <a:pt x="285" y="119"/>
                  </a:cubicBezTo>
                  <a:cubicBezTo>
                    <a:pt x="316" y="114"/>
                    <a:pt x="337" y="84"/>
                    <a:pt x="332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37"/>
            <p:cNvSpPr/>
            <p:nvPr/>
          </p:nvSpPr>
          <p:spPr>
            <a:xfrm>
              <a:off x="5388120" y="4040280"/>
              <a:ext cx="101520" cy="205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5" h="15">
                  <a:moveTo>
                    <a:pt x="73" y="3"/>
                  </a:moveTo>
                  <a:lnTo>
                    <a:pt x="0" y="0"/>
                  </a:lnTo>
                  <a:lnTo>
                    <a:pt x="75" y="15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38"/>
            <p:cNvSpPr/>
            <p:nvPr/>
          </p:nvSpPr>
          <p:spPr>
            <a:xfrm>
              <a:off x="5748480" y="4043520"/>
              <a:ext cx="93600" cy="31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0" h="24">
                  <a:moveTo>
                    <a:pt x="0" y="15"/>
                  </a:moveTo>
                  <a:lnTo>
                    <a:pt x="0" y="24"/>
                  </a:lnTo>
                  <a:lnTo>
                    <a:pt x="7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39"/>
            <p:cNvSpPr/>
            <p:nvPr/>
          </p:nvSpPr>
          <p:spPr>
            <a:xfrm>
              <a:off x="5419800" y="3829320"/>
              <a:ext cx="91800" cy="29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8" h="23">
                  <a:moveTo>
                    <a:pt x="0" y="23"/>
                  </a:moveTo>
                  <a:lnTo>
                    <a:pt x="67" y="15"/>
                  </a:lnTo>
                  <a:lnTo>
                    <a:pt x="68" y="0"/>
                  </a:lnTo>
                  <a:lnTo>
                    <a:pt x="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40"/>
            <p:cNvSpPr/>
            <p:nvPr/>
          </p:nvSpPr>
          <p:spPr>
            <a:xfrm>
              <a:off x="5743800" y="3829320"/>
              <a:ext cx="82440" cy="28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1" h="22">
                  <a:moveTo>
                    <a:pt x="59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61" y="1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41"/>
            <p:cNvSpPr/>
            <p:nvPr/>
          </p:nvSpPr>
          <p:spPr>
            <a:xfrm>
              <a:off x="5275080" y="3317760"/>
              <a:ext cx="63360" cy="325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46" h="240">
                  <a:moveTo>
                    <a:pt x="0" y="75"/>
                  </a:moveTo>
                  <a:lnTo>
                    <a:pt x="0" y="240"/>
                  </a:lnTo>
                  <a:lnTo>
                    <a:pt x="46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42"/>
            <p:cNvSpPr/>
            <p:nvPr/>
          </p:nvSpPr>
          <p:spPr>
            <a:xfrm>
              <a:off x="5902560" y="3262320"/>
              <a:ext cx="58680" cy="407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44" h="301">
                  <a:moveTo>
                    <a:pt x="0" y="0"/>
                  </a:moveTo>
                  <a:lnTo>
                    <a:pt x="0" y="187"/>
                  </a:lnTo>
                  <a:lnTo>
                    <a:pt x="44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53"/>
          <p:cNvGrpSpPr/>
          <p:nvPr/>
        </p:nvGrpSpPr>
        <p:grpSpPr>
          <a:xfrm>
            <a:off x="7061040" y="971640"/>
            <a:ext cx="1451160" cy="3181320"/>
            <a:chOff x="7061040" y="971640"/>
            <a:chExt cx="1451160" cy="3181320"/>
          </a:xfrm>
        </p:grpSpPr>
        <p:sp>
          <p:nvSpPr>
            <p:cNvPr id="732" name="Oval 43"/>
            <p:cNvSpPr/>
            <p:nvPr/>
          </p:nvSpPr>
          <p:spPr>
            <a:xfrm>
              <a:off x="7230960" y="4016520"/>
              <a:ext cx="1111320" cy="136440"/>
            </a:xfrm>
            <a:prstGeom prst="ellips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44"/>
            <p:cNvSpPr/>
            <p:nvPr/>
          </p:nvSpPr>
          <p:spPr>
            <a:xfrm>
              <a:off x="7061040" y="971640"/>
              <a:ext cx="1451160" cy="311652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3116520"/>
                <a:gd name="textAreaBottom" fmla="*/ 3116880 h 3116520"/>
              </a:gdLst>
              <a:ahLst/>
              <a:rect l="textAreaLeft" t="textAreaTop" r="textAreaRight" b="textAreaBottom"/>
              <a:pathLst>
                <a:path w="935" h="2008">
                  <a:moveTo>
                    <a:pt x="762" y="1496"/>
                  </a:moveTo>
                  <a:lnTo>
                    <a:pt x="571" y="1472"/>
                  </a:lnTo>
                  <a:lnTo>
                    <a:pt x="571" y="1296"/>
                  </a:lnTo>
                  <a:lnTo>
                    <a:pt x="623" y="1295"/>
                  </a:lnTo>
                  <a:lnTo>
                    <a:pt x="652" y="1045"/>
                  </a:lnTo>
                  <a:lnTo>
                    <a:pt x="571" y="1054"/>
                  </a:lnTo>
                  <a:lnTo>
                    <a:pt x="571" y="870"/>
                  </a:lnTo>
                  <a:lnTo>
                    <a:pt x="799" y="736"/>
                  </a:lnTo>
                  <a:lnTo>
                    <a:pt x="845" y="851"/>
                  </a:lnTo>
                  <a:lnTo>
                    <a:pt x="935" y="561"/>
                  </a:lnTo>
                  <a:lnTo>
                    <a:pt x="688" y="434"/>
                  </a:lnTo>
                  <a:lnTo>
                    <a:pt x="733" y="557"/>
                  </a:lnTo>
                  <a:lnTo>
                    <a:pt x="571" y="629"/>
                  </a:lnTo>
                  <a:lnTo>
                    <a:pt x="571" y="459"/>
                  </a:lnTo>
                  <a:lnTo>
                    <a:pt x="616" y="475"/>
                  </a:lnTo>
                  <a:lnTo>
                    <a:pt x="722" y="234"/>
                  </a:lnTo>
                  <a:lnTo>
                    <a:pt x="265" y="128"/>
                  </a:lnTo>
                  <a:lnTo>
                    <a:pt x="316" y="0"/>
                  </a:lnTo>
                  <a:lnTo>
                    <a:pt x="21" y="164"/>
                  </a:lnTo>
                  <a:lnTo>
                    <a:pt x="122" y="455"/>
                  </a:lnTo>
                  <a:lnTo>
                    <a:pt x="181" y="322"/>
                  </a:lnTo>
                  <a:lnTo>
                    <a:pt x="463" y="421"/>
                  </a:lnTo>
                  <a:lnTo>
                    <a:pt x="463" y="678"/>
                  </a:lnTo>
                  <a:lnTo>
                    <a:pt x="353" y="728"/>
                  </a:lnTo>
                  <a:lnTo>
                    <a:pt x="434" y="951"/>
                  </a:lnTo>
                  <a:lnTo>
                    <a:pt x="463" y="933"/>
                  </a:lnTo>
                  <a:lnTo>
                    <a:pt x="463" y="1066"/>
                  </a:lnTo>
                  <a:lnTo>
                    <a:pt x="191" y="1096"/>
                  </a:lnTo>
                  <a:lnTo>
                    <a:pt x="164" y="953"/>
                  </a:lnTo>
                  <a:lnTo>
                    <a:pt x="0" y="1215"/>
                  </a:lnTo>
                  <a:lnTo>
                    <a:pt x="250" y="1442"/>
                  </a:lnTo>
                  <a:lnTo>
                    <a:pt x="230" y="1305"/>
                  </a:lnTo>
                  <a:lnTo>
                    <a:pt x="463" y="1299"/>
                  </a:lnTo>
                  <a:lnTo>
                    <a:pt x="463" y="1458"/>
                  </a:lnTo>
                  <a:lnTo>
                    <a:pt x="388" y="1449"/>
                  </a:lnTo>
                  <a:lnTo>
                    <a:pt x="408" y="1653"/>
                  </a:lnTo>
                  <a:lnTo>
                    <a:pt x="463" y="1655"/>
                  </a:lnTo>
                  <a:lnTo>
                    <a:pt x="463" y="2008"/>
                  </a:lnTo>
                  <a:lnTo>
                    <a:pt x="571" y="2008"/>
                  </a:lnTo>
                  <a:lnTo>
                    <a:pt x="571" y="1659"/>
                  </a:lnTo>
                  <a:lnTo>
                    <a:pt x="728" y="1665"/>
                  </a:lnTo>
                  <a:lnTo>
                    <a:pt x="709" y="1776"/>
                  </a:lnTo>
                  <a:lnTo>
                    <a:pt x="916" y="1594"/>
                  </a:lnTo>
                  <a:lnTo>
                    <a:pt x="785" y="1379"/>
                  </a:lnTo>
                  <a:lnTo>
                    <a:pt x="762" y="14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45"/>
            <p:cNvSpPr/>
            <p:nvPr/>
          </p:nvSpPr>
          <p:spPr>
            <a:xfrm>
              <a:off x="7780320" y="1625400"/>
              <a:ext cx="166680" cy="82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8" h="54">
                  <a:moveTo>
                    <a:pt x="0" y="0"/>
                  </a:moveTo>
                  <a:lnTo>
                    <a:pt x="0" y="54"/>
                  </a:lnTo>
                  <a:lnTo>
                    <a:pt x="10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46"/>
            <p:cNvSpPr/>
            <p:nvPr/>
          </p:nvSpPr>
          <p:spPr>
            <a:xfrm>
              <a:off x="7780320" y="2320920"/>
              <a:ext cx="166680" cy="1062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8" h="68">
                  <a:moveTo>
                    <a:pt x="0" y="68"/>
                  </a:moveTo>
                  <a:lnTo>
                    <a:pt x="108" y="49"/>
                  </a:lnTo>
                  <a:lnTo>
                    <a:pt x="108" y="0"/>
                  </a:lnTo>
                  <a:lnTo>
                    <a:pt x="0" y="6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47"/>
            <p:cNvSpPr/>
            <p:nvPr/>
          </p:nvSpPr>
          <p:spPr>
            <a:xfrm>
              <a:off x="7780320" y="2982960"/>
              <a:ext cx="166680" cy="72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8" h="47">
                  <a:moveTo>
                    <a:pt x="0" y="47"/>
                  </a:moveTo>
                  <a:lnTo>
                    <a:pt x="108" y="23"/>
                  </a:lnTo>
                  <a:lnTo>
                    <a:pt x="108" y="0"/>
                  </a:lnTo>
                  <a:lnTo>
                    <a:pt x="0" y="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48"/>
            <p:cNvSpPr/>
            <p:nvPr/>
          </p:nvSpPr>
          <p:spPr>
            <a:xfrm>
              <a:off x="7780320" y="3540240"/>
              <a:ext cx="166680" cy="82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8" h="53">
                  <a:moveTo>
                    <a:pt x="0" y="53"/>
                  </a:moveTo>
                  <a:lnTo>
                    <a:pt x="108" y="29"/>
                  </a:lnTo>
                  <a:lnTo>
                    <a:pt x="108" y="4"/>
                  </a:lnTo>
                  <a:lnTo>
                    <a:pt x="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8" name="矩形 16"/>
          <p:cNvSpPr/>
          <p:nvPr/>
        </p:nvSpPr>
        <p:spPr>
          <a:xfrm>
            <a:off x="1144440" y="2476440"/>
            <a:ext cx="3162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矩形 16"/>
          <p:cNvSpPr/>
          <p:nvPr/>
        </p:nvSpPr>
        <p:spPr>
          <a:xfrm>
            <a:off x="1144440" y="3594240"/>
            <a:ext cx="3162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任意多边形 64"/>
          <p:cNvSpPr/>
          <p:nvPr/>
        </p:nvSpPr>
        <p:spPr>
          <a:xfrm>
            <a:off x="449280" y="145584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8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0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025" y="159331"/>
                </a:moveTo>
                <a:cubicBezTo>
                  <a:pt x="341583" y="170883"/>
                  <a:pt x="334049" y="180594"/>
                  <a:pt x="324421" y="188464"/>
                </a:cubicBezTo>
                <a:cubicBezTo>
                  <a:pt x="314794" y="196333"/>
                  <a:pt x="301274" y="203072"/>
                  <a:pt x="283861" y="208681"/>
                </a:cubicBezTo>
                <a:lnTo>
                  <a:pt x="283861" y="250623"/>
                </a:lnTo>
                <a:cubicBezTo>
                  <a:pt x="295665" y="247023"/>
                  <a:pt x="305481" y="243256"/>
                  <a:pt x="313308" y="239321"/>
                </a:cubicBezTo>
                <a:cubicBezTo>
                  <a:pt x="321135" y="235386"/>
                  <a:pt x="329235" y="230238"/>
                  <a:pt x="337606" y="223876"/>
                </a:cubicBezTo>
                <a:lnTo>
                  <a:pt x="337606" y="346561"/>
                </a:lnTo>
                <a:lnTo>
                  <a:pt x="389343" y="346561"/>
                </a:lnTo>
                <a:lnTo>
                  <a:pt x="389343" y="159331"/>
                </a:lnTo>
                <a:lnTo>
                  <a:pt x="347025" y="159331"/>
                </a:ln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1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89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8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65"/>
          <p:cNvSpPr/>
          <p:nvPr/>
        </p:nvSpPr>
        <p:spPr>
          <a:xfrm>
            <a:off x="449280" y="257184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652" y="159331"/>
                </a:moveTo>
                <a:cubicBezTo>
                  <a:pt x="330407" y="159331"/>
                  <a:pt x="316908" y="161486"/>
                  <a:pt x="307155" y="165798"/>
                </a:cubicBezTo>
                <a:cubicBezTo>
                  <a:pt x="297402" y="170109"/>
                  <a:pt x="289847" y="176304"/>
                  <a:pt x="284489" y="184383"/>
                </a:cubicBezTo>
                <a:cubicBezTo>
                  <a:pt x="279131" y="192461"/>
                  <a:pt x="275448" y="203700"/>
                  <a:pt x="273438" y="218099"/>
                </a:cubicBezTo>
                <a:lnTo>
                  <a:pt x="324672" y="222243"/>
                </a:lnTo>
                <a:cubicBezTo>
                  <a:pt x="326096" y="211862"/>
                  <a:pt x="328879" y="204621"/>
                  <a:pt x="333023" y="200519"/>
                </a:cubicBezTo>
                <a:cubicBezTo>
                  <a:pt x="337167" y="196417"/>
                  <a:pt x="342504" y="194366"/>
                  <a:pt x="349034" y="194366"/>
                </a:cubicBezTo>
                <a:cubicBezTo>
                  <a:pt x="355312" y="194366"/>
                  <a:pt x="360524" y="196354"/>
                  <a:pt x="364668" y="200331"/>
                </a:cubicBezTo>
                <a:cubicBezTo>
                  <a:pt x="368812" y="204307"/>
                  <a:pt x="370884" y="209100"/>
                  <a:pt x="370884" y="214709"/>
                </a:cubicBezTo>
                <a:cubicBezTo>
                  <a:pt x="370884" y="219899"/>
                  <a:pt x="368791" y="225382"/>
                  <a:pt x="364605" y="231159"/>
                </a:cubicBezTo>
                <a:cubicBezTo>
                  <a:pt x="360419" y="236935"/>
                  <a:pt x="350834" y="245391"/>
                  <a:pt x="335848" y="256525"/>
                </a:cubicBezTo>
                <a:cubicBezTo>
                  <a:pt x="311320" y="274691"/>
                  <a:pt x="294598" y="290451"/>
                  <a:pt x="285682" y="303803"/>
                </a:cubicBezTo>
                <a:cubicBezTo>
                  <a:pt x="276766" y="317156"/>
                  <a:pt x="271429" y="331409"/>
                  <a:pt x="269671" y="346561"/>
                </a:cubicBezTo>
                <a:lnTo>
                  <a:pt x="423122" y="346561"/>
                </a:lnTo>
                <a:lnTo>
                  <a:pt x="423122" y="304871"/>
                </a:lnTo>
                <a:lnTo>
                  <a:pt x="343257" y="304871"/>
                </a:lnTo>
                <a:cubicBezTo>
                  <a:pt x="347945" y="300266"/>
                  <a:pt x="352027" y="296541"/>
                  <a:pt x="355501" y="293695"/>
                </a:cubicBezTo>
                <a:cubicBezTo>
                  <a:pt x="358975" y="290848"/>
                  <a:pt x="365861" y="285867"/>
                  <a:pt x="376158" y="278751"/>
                </a:cubicBezTo>
                <a:cubicBezTo>
                  <a:pt x="393487" y="266529"/>
                  <a:pt x="405437" y="255311"/>
                  <a:pt x="412009" y="245098"/>
                </a:cubicBezTo>
                <a:cubicBezTo>
                  <a:pt x="418581" y="234884"/>
                  <a:pt x="421866" y="224169"/>
                  <a:pt x="421866" y="212951"/>
                </a:cubicBezTo>
                <a:cubicBezTo>
                  <a:pt x="421866" y="202402"/>
                  <a:pt x="418999" y="192880"/>
                  <a:pt x="413265" y="184383"/>
                </a:cubicBezTo>
                <a:cubicBezTo>
                  <a:pt x="407530" y="175886"/>
                  <a:pt x="399661" y="169586"/>
                  <a:pt x="389657" y="165484"/>
                </a:cubicBezTo>
                <a:cubicBezTo>
                  <a:pt x="379653" y="161382"/>
                  <a:pt x="365651" y="159331"/>
                  <a:pt x="347652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66"/>
          <p:cNvSpPr/>
          <p:nvPr/>
        </p:nvSpPr>
        <p:spPr>
          <a:xfrm>
            <a:off x="468360" y="3651120"/>
            <a:ext cx="574560" cy="50508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6397" y="159331"/>
                </a:moveTo>
                <a:cubicBezTo>
                  <a:pt x="325468" y="159331"/>
                  <a:pt x="309290" y="163433"/>
                  <a:pt x="297862" y="171637"/>
                </a:cubicBezTo>
                <a:cubicBezTo>
                  <a:pt x="286435" y="179841"/>
                  <a:pt x="278712" y="191645"/>
                  <a:pt x="274694" y="207049"/>
                </a:cubicBezTo>
                <a:lnTo>
                  <a:pt x="323040" y="215713"/>
                </a:lnTo>
                <a:cubicBezTo>
                  <a:pt x="324379" y="206588"/>
                  <a:pt x="326933" y="200205"/>
                  <a:pt x="330700" y="196563"/>
                </a:cubicBezTo>
                <a:cubicBezTo>
                  <a:pt x="334467" y="192922"/>
                  <a:pt x="339365" y="191101"/>
                  <a:pt x="345392" y="191101"/>
                </a:cubicBezTo>
                <a:cubicBezTo>
                  <a:pt x="351252" y="191101"/>
                  <a:pt x="355857" y="192775"/>
                  <a:pt x="359205" y="196124"/>
                </a:cubicBezTo>
                <a:cubicBezTo>
                  <a:pt x="362554" y="199472"/>
                  <a:pt x="364228" y="203951"/>
                  <a:pt x="364228" y="209560"/>
                </a:cubicBezTo>
                <a:cubicBezTo>
                  <a:pt x="364228" y="215420"/>
                  <a:pt x="361989" y="220485"/>
                  <a:pt x="357510" y="224755"/>
                </a:cubicBezTo>
                <a:cubicBezTo>
                  <a:pt x="353031" y="229024"/>
                  <a:pt x="347443" y="231159"/>
                  <a:pt x="340746" y="231159"/>
                </a:cubicBezTo>
                <a:cubicBezTo>
                  <a:pt x="339155" y="231159"/>
                  <a:pt x="336937" y="230950"/>
                  <a:pt x="334090" y="230531"/>
                </a:cubicBezTo>
                <a:lnTo>
                  <a:pt x="331453" y="267073"/>
                </a:lnTo>
                <a:cubicBezTo>
                  <a:pt x="338486" y="265064"/>
                  <a:pt x="344011" y="264059"/>
                  <a:pt x="348029" y="264059"/>
                </a:cubicBezTo>
                <a:cubicBezTo>
                  <a:pt x="355564" y="264059"/>
                  <a:pt x="361528" y="266403"/>
                  <a:pt x="365923" y="271091"/>
                </a:cubicBezTo>
                <a:cubicBezTo>
                  <a:pt x="370318" y="275779"/>
                  <a:pt x="372516" y="282393"/>
                  <a:pt x="372516" y="290932"/>
                </a:cubicBezTo>
                <a:cubicBezTo>
                  <a:pt x="372516" y="299304"/>
                  <a:pt x="370235" y="306001"/>
                  <a:pt x="365672" y="311024"/>
                </a:cubicBezTo>
                <a:cubicBezTo>
                  <a:pt x="361110" y="316047"/>
                  <a:pt x="355396" y="318558"/>
                  <a:pt x="348531" y="318558"/>
                </a:cubicBezTo>
                <a:cubicBezTo>
                  <a:pt x="342002" y="318558"/>
                  <a:pt x="336623" y="316570"/>
                  <a:pt x="332395" y="312593"/>
                </a:cubicBezTo>
                <a:cubicBezTo>
                  <a:pt x="328168" y="308617"/>
                  <a:pt x="325049" y="301480"/>
                  <a:pt x="323040" y="291183"/>
                </a:cubicBezTo>
                <a:lnTo>
                  <a:pt x="271931" y="297964"/>
                </a:lnTo>
                <a:cubicBezTo>
                  <a:pt x="275280" y="309433"/>
                  <a:pt x="280073" y="318956"/>
                  <a:pt x="286310" y="326532"/>
                </a:cubicBezTo>
                <a:cubicBezTo>
                  <a:pt x="292546" y="334108"/>
                  <a:pt x="300499" y="339864"/>
                  <a:pt x="310169" y="343799"/>
                </a:cubicBezTo>
                <a:cubicBezTo>
                  <a:pt x="319838" y="347733"/>
                  <a:pt x="333044" y="349700"/>
                  <a:pt x="349787" y="349700"/>
                </a:cubicBezTo>
                <a:cubicBezTo>
                  <a:pt x="366949" y="349700"/>
                  <a:pt x="380804" y="347042"/>
                  <a:pt x="391352" y="341727"/>
                </a:cubicBezTo>
                <a:cubicBezTo>
                  <a:pt x="401900" y="336411"/>
                  <a:pt x="409979" y="328834"/>
                  <a:pt x="415588" y="318998"/>
                </a:cubicBezTo>
                <a:cubicBezTo>
                  <a:pt x="421197" y="309161"/>
                  <a:pt x="424001" y="298885"/>
                  <a:pt x="424001" y="288169"/>
                </a:cubicBezTo>
                <a:cubicBezTo>
                  <a:pt x="424001" y="279630"/>
                  <a:pt x="422306" y="272284"/>
                  <a:pt x="418915" y="266131"/>
                </a:cubicBezTo>
                <a:cubicBezTo>
                  <a:pt x="415525" y="259978"/>
                  <a:pt x="410774" y="255018"/>
                  <a:pt x="404663" y="251251"/>
                </a:cubicBezTo>
                <a:cubicBezTo>
                  <a:pt x="400896" y="248907"/>
                  <a:pt x="395454" y="246856"/>
                  <a:pt x="388338" y="245098"/>
                </a:cubicBezTo>
                <a:cubicBezTo>
                  <a:pt x="397128" y="240242"/>
                  <a:pt x="403700" y="234591"/>
                  <a:pt x="408053" y="228145"/>
                </a:cubicBezTo>
                <a:cubicBezTo>
                  <a:pt x="412407" y="221699"/>
                  <a:pt x="414583" y="214499"/>
                  <a:pt x="414583" y="206546"/>
                </a:cubicBezTo>
                <a:cubicBezTo>
                  <a:pt x="414583" y="192984"/>
                  <a:pt x="409225" y="181725"/>
                  <a:pt x="398510" y="172767"/>
                </a:cubicBezTo>
                <a:cubicBezTo>
                  <a:pt x="387794" y="163809"/>
                  <a:pt x="370423" y="159331"/>
                  <a:pt x="346397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67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744" name="燕尾形 68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燕尾形 69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燕尾形 70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燕尾形 71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72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组合 54"/>
          <p:cNvGrpSpPr/>
          <p:nvPr/>
        </p:nvGrpSpPr>
        <p:grpSpPr>
          <a:xfrm>
            <a:off x="460440" y="3179880"/>
            <a:ext cx="1857240" cy="1173240"/>
            <a:chOff x="460440" y="3179880"/>
            <a:chExt cx="1857240" cy="1173240"/>
          </a:xfrm>
        </p:grpSpPr>
        <p:sp>
          <p:nvSpPr>
            <p:cNvPr id="750" name="矩形 45"/>
            <p:cNvSpPr/>
            <p:nvPr/>
          </p:nvSpPr>
          <p:spPr>
            <a:xfrm>
              <a:off x="535320" y="317988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cc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矩形 1"/>
            <p:cNvSpPr/>
            <p:nvPr/>
          </p:nvSpPr>
          <p:spPr>
            <a:xfrm>
              <a:off x="460440" y="3529080"/>
              <a:ext cx="18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2" name="组合 57"/>
          <p:cNvGrpSpPr/>
          <p:nvPr/>
        </p:nvGrpSpPr>
        <p:grpSpPr>
          <a:xfrm>
            <a:off x="6746760" y="3191040"/>
            <a:ext cx="1857600" cy="1173600"/>
            <a:chOff x="6746760" y="3191040"/>
            <a:chExt cx="1857600" cy="1173600"/>
          </a:xfrm>
        </p:grpSpPr>
        <p:sp>
          <p:nvSpPr>
            <p:cNvPr id="753" name="矩形 58"/>
            <p:cNvSpPr/>
            <p:nvPr/>
          </p:nvSpPr>
          <p:spPr>
            <a:xfrm>
              <a:off x="6821640" y="319104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aa64f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矩形 1"/>
            <p:cNvSpPr/>
            <p:nvPr/>
          </p:nvSpPr>
          <p:spPr>
            <a:xfrm>
              <a:off x="6746760" y="3540600"/>
              <a:ext cx="1857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组合 60"/>
          <p:cNvGrpSpPr/>
          <p:nvPr/>
        </p:nvGrpSpPr>
        <p:grpSpPr>
          <a:xfrm>
            <a:off x="4746600" y="3191040"/>
            <a:ext cx="1857240" cy="1173600"/>
            <a:chOff x="4746600" y="3191040"/>
            <a:chExt cx="1857240" cy="1173600"/>
          </a:xfrm>
        </p:grpSpPr>
        <p:sp>
          <p:nvSpPr>
            <p:cNvPr id="756" name="矩形 61"/>
            <p:cNvSpPr/>
            <p:nvPr/>
          </p:nvSpPr>
          <p:spPr>
            <a:xfrm>
              <a:off x="4821480" y="319104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矩形 1"/>
            <p:cNvSpPr/>
            <p:nvPr/>
          </p:nvSpPr>
          <p:spPr>
            <a:xfrm>
              <a:off x="4746600" y="3540600"/>
              <a:ext cx="18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63"/>
          <p:cNvGrpSpPr/>
          <p:nvPr/>
        </p:nvGrpSpPr>
        <p:grpSpPr>
          <a:xfrm>
            <a:off x="2603520" y="3191040"/>
            <a:ext cx="1857240" cy="1173600"/>
            <a:chOff x="2603520" y="3191040"/>
            <a:chExt cx="1857240" cy="1173600"/>
          </a:xfrm>
        </p:grpSpPr>
        <p:sp>
          <p:nvSpPr>
            <p:cNvPr id="759" name="矩形 64"/>
            <p:cNvSpPr/>
            <p:nvPr/>
          </p:nvSpPr>
          <p:spPr>
            <a:xfrm>
              <a:off x="2678400" y="319104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66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矩形 1"/>
            <p:cNvSpPr/>
            <p:nvPr/>
          </p:nvSpPr>
          <p:spPr>
            <a:xfrm>
              <a:off x="2603520" y="3540600"/>
              <a:ext cx="18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1" name="图片 35" descr=""/>
          <p:cNvPicPr/>
          <p:nvPr/>
        </p:nvPicPr>
        <p:blipFill>
          <a:blip r:embed="rId1"/>
          <a:stretch/>
        </p:blipFill>
        <p:spPr>
          <a:xfrm>
            <a:off x="787320" y="1285920"/>
            <a:ext cx="1225800" cy="17240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36" descr=""/>
          <p:cNvPicPr/>
          <p:nvPr/>
        </p:nvPicPr>
        <p:blipFill>
          <a:blip r:embed="rId2"/>
          <a:stretch/>
        </p:blipFill>
        <p:spPr>
          <a:xfrm>
            <a:off x="2916360" y="1285920"/>
            <a:ext cx="1225440" cy="172404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37" descr=""/>
          <p:cNvPicPr/>
          <p:nvPr/>
        </p:nvPicPr>
        <p:blipFill>
          <a:blip r:embed="rId3"/>
          <a:stretch/>
        </p:blipFill>
        <p:spPr>
          <a:xfrm>
            <a:off x="4834080" y="1646280"/>
            <a:ext cx="1620720" cy="115236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38" descr=""/>
          <p:cNvPicPr/>
          <p:nvPr/>
        </p:nvPicPr>
        <p:blipFill>
          <a:blip r:embed="rId4"/>
          <a:stretch/>
        </p:blipFill>
        <p:spPr>
          <a:xfrm>
            <a:off x="7020000" y="1295280"/>
            <a:ext cx="1224000" cy="1720800"/>
          </a:xfrm>
          <a:prstGeom prst="rect">
            <a:avLst/>
          </a:prstGeom>
          <a:ln w="0">
            <a:noFill/>
          </a:ln>
        </p:spPr>
      </p:pic>
      <p:grpSp>
        <p:nvGrpSpPr>
          <p:cNvPr id="765" name="组合 39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766" name="燕尾形 40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燕尾形 41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燕尾形 42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燕尾形 43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矩形 44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组合 6"/>
          <p:cNvGrpSpPr/>
          <p:nvPr/>
        </p:nvGrpSpPr>
        <p:grpSpPr>
          <a:xfrm>
            <a:off x="3056040" y="406440"/>
            <a:ext cx="3028680" cy="1973160"/>
            <a:chOff x="3056040" y="406440"/>
            <a:chExt cx="3028680" cy="1973160"/>
          </a:xfrm>
        </p:grpSpPr>
        <p:sp>
          <p:nvSpPr>
            <p:cNvPr id="772" name="TextBox 6"/>
            <p:cNvSpPr/>
            <p:nvPr/>
          </p:nvSpPr>
          <p:spPr>
            <a:xfrm>
              <a:off x="3056040" y="1363680"/>
              <a:ext cx="302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HANK YOU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任意多边形 21"/>
            <p:cNvSpPr/>
            <p:nvPr/>
          </p:nvSpPr>
          <p:spPr>
            <a:xfrm>
              <a:off x="3144600" y="406440"/>
              <a:ext cx="2719440" cy="1009440"/>
            </a:xfrm>
            <a:custGeom>
              <a:avLst/>
              <a:gdLst/>
              <a:ahLst/>
              <a:rect l="l" t="t" r="r" b="b"/>
              <a:pathLst>
                <a:path w="3485702" h="1246621">
                  <a:moveTo>
                    <a:pt x="1308645" y="390272"/>
                  </a:moveTo>
                  <a:cubicBezTo>
                    <a:pt x="1344559" y="390272"/>
                    <a:pt x="1371495" y="408501"/>
                    <a:pt x="1389452" y="444959"/>
                  </a:cubicBezTo>
                  <a:cubicBezTo>
                    <a:pt x="1407409" y="481417"/>
                    <a:pt x="1416387" y="552611"/>
                    <a:pt x="1416387" y="658539"/>
                  </a:cubicBezTo>
                  <a:cubicBezTo>
                    <a:pt x="1416387" y="730730"/>
                    <a:pt x="1412488" y="783876"/>
                    <a:pt x="1404688" y="817976"/>
                  </a:cubicBezTo>
                  <a:cubicBezTo>
                    <a:pt x="1396888" y="852076"/>
                    <a:pt x="1384736" y="877016"/>
                    <a:pt x="1368230" y="892797"/>
                  </a:cubicBezTo>
                  <a:cubicBezTo>
                    <a:pt x="1351724" y="908577"/>
                    <a:pt x="1332225" y="916467"/>
                    <a:pt x="1309733" y="916467"/>
                  </a:cubicBezTo>
                  <a:cubicBezTo>
                    <a:pt x="1275633" y="916467"/>
                    <a:pt x="1249604" y="897876"/>
                    <a:pt x="1231647" y="860692"/>
                  </a:cubicBezTo>
                  <a:cubicBezTo>
                    <a:pt x="1213690" y="823508"/>
                    <a:pt x="1204712" y="754129"/>
                    <a:pt x="1204712" y="652553"/>
                  </a:cubicBezTo>
                  <a:cubicBezTo>
                    <a:pt x="1204712" y="552066"/>
                    <a:pt x="1212874" y="483231"/>
                    <a:pt x="1229199" y="446047"/>
                  </a:cubicBezTo>
                  <a:cubicBezTo>
                    <a:pt x="1245523" y="408864"/>
                    <a:pt x="1272005" y="390272"/>
                    <a:pt x="1308645" y="390272"/>
                  </a:cubicBezTo>
                  <a:close/>
                  <a:moveTo>
                    <a:pt x="2770109" y="256410"/>
                  </a:moveTo>
                  <a:lnTo>
                    <a:pt x="2699914" y="685203"/>
                  </a:lnTo>
                  <a:lnTo>
                    <a:pt x="2888735" y="712410"/>
                  </a:lnTo>
                  <a:cubicBezTo>
                    <a:pt x="2906510" y="692458"/>
                    <a:pt x="2922835" y="678673"/>
                    <a:pt x="2937708" y="671055"/>
                  </a:cubicBezTo>
                  <a:cubicBezTo>
                    <a:pt x="2957661" y="660534"/>
                    <a:pt x="2978338" y="655274"/>
                    <a:pt x="2999742" y="655274"/>
                  </a:cubicBezTo>
                  <a:cubicBezTo>
                    <a:pt x="3033479" y="655274"/>
                    <a:pt x="3060505" y="666339"/>
                    <a:pt x="3080821" y="688467"/>
                  </a:cubicBezTo>
                  <a:cubicBezTo>
                    <a:pt x="3101136" y="710596"/>
                    <a:pt x="3111293" y="745422"/>
                    <a:pt x="3111293" y="792945"/>
                  </a:cubicBezTo>
                  <a:cubicBezTo>
                    <a:pt x="3111293" y="839379"/>
                    <a:pt x="3101226" y="874296"/>
                    <a:pt x="3081093" y="897694"/>
                  </a:cubicBezTo>
                  <a:cubicBezTo>
                    <a:pt x="3060959" y="921093"/>
                    <a:pt x="3035474" y="932792"/>
                    <a:pt x="3004639" y="932792"/>
                  </a:cubicBezTo>
                  <a:cubicBezTo>
                    <a:pt x="2977069" y="932792"/>
                    <a:pt x="2953307" y="923451"/>
                    <a:pt x="2933355" y="904768"/>
                  </a:cubicBezTo>
                  <a:cubicBezTo>
                    <a:pt x="2913403" y="886086"/>
                    <a:pt x="2900706" y="858787"/>
                    <a:pt x="2895264" y="822873"/>
                  </a:cubicBezTo>
                  <a:lnTo>
                    <a:pt x="2671073" y="847360"/>
                  </a:lnTo>
                  <a:cubicBezTo>
                    <a:pt x="2681956" y="884725"/>
                    <a:pt x="2695560" y="915923"/>
                    <a:pt x="2711885" y="940954"/>
                  </a:cubicBezTo>
                  <a:cubicBezTo>
                    <a:pt x="2728209" y="965985"/>
                    <a:pt x="2749522" y="988386"/>
                    <a:pt x="2775823" y="1008157"/>
                  </a:cubicBezTo>
                  <a:cubicBezTo>
                    <a:pt x="2802124" y="1027928"/>
                    <a:pt x="2834047" y="1042802"/>
                    <a:pt x="2871594" y="1052778"/>
                  </a:cubicBezTo>
                  <a:cubicBezTo>
                    <a:pt x="2909140" y="1062754"/>
                    <a:pt x="2954214" y="1067742"/>
                    <a:pt x="3006816" y="1067742"/>
                  </a:cubicBezTo>
                  <a:cubicBezTo>
                    <a:pt x="3080095" y="1067742"/>
                    <a:pt x="3140224" y="1055227"/>
                    <a:pt x="3187202" y="1030195"/>
                  </a:cubicBezTo>
                  <a:cubicBezTo>
                    <a:pt x="3234181" y="1005164"/>
                    <a:pt x="3270458" y="968888"/>
                    <a:pt x="3296033" y="921365"/>
                  </a:cubicBezTo>
                  <a:cubicBezTo>
                    <a:pt x="3321608" y="873842"/>
                    <a:pt x="3334396" y="824324"/>
                    <a:pt x="3334396" y="772811"/>
                  </a:cubicBezTo>
                  <a:cubicBezTo>
                    <a:pt x="3334396" y="699532"/>
                    <a:pt x="3309546" y="638768"/>
                    <a:pt x="3259847" y="590520"/>
                  </a:cubicBezTo>
                  <a:cubicBezTo>
                    <a:pt x="3210147" y="542272"/>
                    <a:pt x="3145393" y="518148"/>
                    <a:pt x="3065584" y="518148"/>
                  </a:cubicBezTo>
                  <a:cubicBezTo>
                    <a:pt x="3042004" y="518148"/>
                    <a:pt x="3018152" y="521050"/>
                    <a:pt x="2994028" y="526854"/>
                  </a:cubicBezTo>
                  <a:cubicBezTo>
                    <a:pt x="2969904" y="532658"/>
                    <a:pt x="2945508" y="541365"/>
                    <a:pt x="2920840" y="552973"/>
                  </a:cubicBezTo>
                  <a:lnTo>
                    <a:pt x="2939885" y="433260"/>
                  </a:lnTo>
                  <a:lnTo>
                    <a:pt x="3296305" y="433260"/>
                  </a:lnTo>
                  <a:lnTo>
                    <a:pt x="3296305" y="256410"/>
                  </a:lnTo>
                  <a:lnTo>
                    <a:pt x="2770109" y="256410"/>
                  </a:lnTo>
                  <a:close/>
                  <a:moveTo>
                    <a:pt x="2151473" y="242806"/>
                  </a:moveTo>
                  <a:cubicBezTo>
                    <a:pt x="2127893" y="292868"/>
                    <a:pt x="2095244" y="334949"/>
                    <a:pt x="2053525" y="369050"/>
                  </a:cubicBezTo>
                  <a:cubicBezTo>
                    <a:pt x="2011807" y="403150"/>
                    <a:pt x="1953220" y="432353"/>
                    <a:pt x="1877764" y="456658"/>
                  </a:cubicBezTo>
                  <a:lnTo>
                    <a:pt x="1877764" y="638405"/>
                  </a:lnTo>
                  <a:cubicBezTo>
                    <a:pt x="1928914" y="622806"/>
                    <a:pt x="1971449" y="606482"/>
                    <a:pt x="2005368" y="589432"/>
                  </a:cubicBezTo>
                  <a:cubicBezTo>
                    <a:pt x="2039286" y="572381"/>
                    <a:pt x="2074384" y="550071"/>
                    <a:pt x="2110661" y="522501"/>
                  </a:cubicBezTo>
                  <a:lnTo>
                    <a:pt x="2110661" y="1054138"/>
                  </a:lnTo>
                  <a:lnTo>
                    <a:pt x="2334852" y="1054138"/>
                  </a:lnTo>
                  <a:lnTo>
                    <a:pt x="2334852" y="242806"/>
                  </a:lnTo>
                  <a:lnTo>
                    <a:pt x="2151473" y="242806"/>
                  </a:lnTo>
                  <a:close/>
                  <a:moveTo>
                    <a:pt x="1316263" y="242806"/>
                  </a:moveTo>
                  <a:cubicBezTo>
                    <a:pt x="1204530" y="242806"/>
                    <a:pt x="1121366" y="273097"/>
                    <a:pt x="1066769" y="333680"/>
                  </a:cubicBezTo>
                  <a:cubicBezTo>
                    <a:pt x="1012172" y="394262"/>
                    <a:pt x="984874" y="500372"/>
                    <a:pt x="984874" y="652009"/>
                  </a:cubicBezTo>
                  <a:cubicBezTo>
                    <a:pt x="984874" y="713680"/>
                    <a:pt x="990225" y="770000"/>
                    <a:pt x="1000926" y="820969"/>
                  </a:cubicBezTo>
                  <a:cubicBezTo>
                    <a:pt x="1011628" y="871938"/>
                    <a:pt x="1026592" y="912114"/>
                    <a:pt x="1045819" y="941498"/>
                  </a:cubicBezTo>
                  <a:cubicBezTo>
                    <a:pt x="1072301" y="982854"/>
                    <a:pt x="1106220" y="1014234"/>
                    <a:pt x="1147576" y="1035637"/>
                  </a:cubicBezTo>
                  <a:cubicBezTo>
                    <a:pt x="1188931" y="1057040"/>
                    <a:pt x="1243165" y="1067742"/>
                    <a:pt x="1310277" y="1067742"/>
                  </a:cubicBezTo>
                  <a:cubicBezTo>
                    <a:pt x="1429991" y="1067742"/>
                    <a:pt x="1514335" y="1034186"/>
                    <a:pt x="1563309" y="967074"/>
                  </a:cubicBezTo>
                  <a:cubicBezTo>
                    <a:pt x="1612282" y="899961"/>
                    <a:pt x="1636769" y="794033"/>
                    <a:pt x="1636769" y="649288"/>
                  </a:cubicBezTo>
                  <a:cubicBezTo>
                    <a:pt x="1636769" y="584716"/>
                    <a:pt x="1629332" y="522682"/>
                    <a:pt x="1614459" y="463188"/>
                  </a:cubicBezTo>
                  <a:cubicBezTo>
                    <a:pt x="1606841" y="431990"/>
                    <a:pt x="1596774" y="404692"/>
                    <a:pt x="1584258" y="381293"/>
                  </a:cubicBezTo>
                  <a:cubicBezTo>
                    <a:pt x="1571743" y="357895"/>
                    <a:pt x="1554602" y="335584"/>
                    <a:pt x="1532836" y="314362"/>
                  </a:cubicBezTo>
                  <a:cubicBezTo>
                    <a:pt x="1511070" y="293140"/>
                    <a:pt x="1482955" y="275909"/>
                    <a:pt x="1448492" y="262668"/>
                  </a:cubicBezTo>
                  <a:cubicBezTo>
                    <a:pt x="1414029" y="249427"/>
                    <a:pt x="1369953" y="242806"/>
                    <a:pt x="1316263" y="242806"/>
                  </a:cubicBezTo>
                  <a:close/>
                  <a:moveTo>
                    <a:pt x="458743" y="242806"/>
                  </a:moveTo>
                  <a:cubicBezTo>
                    <a:pt x="384013" y="242806"/>
                    <a:pt x="325517" y="252147"/>
                    <a:pt x="283254" y="270830"/>
                  </a:cubicBezTo>
                  <a:cubicBezTo>
                    <a:pt x="240991" y="289513"/>
                    <a:pt x="208252" y="316358"/>
                    <a:pt x="185034" y="351365"/>
                  </a:cubicBezTo>
                  <a:cubicBezTo>
                    <a:pt x="161817" y="386372"/>
                    <a:pt x="145855" y="435074"/>
                    <a:pt x="137149" y="497470"/>
                  </a:cubicBezTo>
                  <a:lnTo>
                    <a:pt x="359163" y="515427"/>
                  </a:lnTo>
                  <a:cubicBezTo>
                    <a:pt x="365330" y="470444"/>
                    <a:pt x="377392" y="439064"/>
                    <a:pt x="395349" y="421288"/>
                  </a:cubicBezTo>
                  <a:cubicBezTo>
                    <a:pt x="413307" y="403513"/>
                    <a:pt x="436433" y="394625"/>
                    <a:pt x="464729" y="394625"/>
                  </a:cubicBezTo>
                  <a:cubicBezTo>
                    <a:pt x="491937" y="394625"/>
                    <a:pt x="514519" y="403241"/>
                    <a:pt x="532476" y="420472"/>
                  </a:cubicBezTo>
                  <a:cubicBezTo>
                    <a:pt x="550433" y="437704"/>
                    <a:pt x="559412" y="458472"/>
                    <a:pt x="559412" y="482778"/>
                  </a:cubicBezTo>
                  <a:cubicBezTo>
                    <a:pt x="559412" y="505269"/>
                    <a:pt x="550342" y="529031"/>
                    <a:pt x="532204" y="554062"/>
                  </a:cubicBezTo>
                  <a:cubicBezTo>
                    <a:pt x="514065" y="579093"/>
                    <a:pt x="472529" y="615732"/>
                    <a:pt x="407593" y="663981"/>
                  </a:cubicBezTo>
                  <a:cubicBezTo>
                    <a:pt x="301302" y="742701"/>
                    <a:pt x="228839" y="810992"/>
                    <a:pt x="190204" y="868854"/>
                  </a:cubicBezTo>
                  <a:cubicBezTo>
                    <a:pt x="151569" y="926716"/>
                    <a:pt x="128443" y="988477"/>
                    <a:pt x="120824" y="1054138"/>
                  </a:cubicBezTo>
                  <a:lnTo>
                    <a:pt x="785779" y="1054138"/>
                  </a:lnTo>
                  <a:lnTo>
                    <a:pt x="785779" y="873479"/>
                  </a:lnTo>
                  <a:lnTo>
                    <a:pt x="439698" y="873479"/>
                  </a:lnTo>
                  <a:cubicBezTo>
                    <a:pt x="460013" y="853527"/>
                    <a:pt x="477698" y="837384"/>
                    <a:pt x="492753" y="825050"/>
                  </a:cubicBezTo>
                  <a:cubicBezTo>
                    <a:pt x="507808" y="812716"/>
                    <a:pt x="537646" y="791131"/>
                    <a:pt x="582266" y="760296"/>
                  </a:cubicBezTo>
                  <a:cubicBezTo>
                    <a:pt x="657359" y="707331"/>
                    <a:pt x="709144" y="658720"/>
                    <a:pt x="737622" y="614463"/>
                  </a:cubicBezTo>
                  <a:cubicBezTo>
                    <a:pt x="766099" y="570205"/>
                    <a:pt x="780338" y="523770"/>
                    <a:pt x="780338" y="475159"/>
                  </a:cubicBezTo>
                  <a:cubicBezTo>
                    <a:pt x="780338" y="429451"/>
                    <a:pt x="767913" y="388186"/>
                    <a:pt x="743063" y="351365"/>
                  </a:cubicBezTo>
                  <a:cubicBezTo>
                    <a:pt x="718214" y="314544"/>
                    <a:pt x="684113" y="287245"/>
                    <a:pt x="640762" y="269470"/>
                  </a:cubicBezTo>
                  <a:cubicBezTo>
                    <a:pt x="597412" y="251694"/>
                    <a:pt x="536739" y="242806"/>
                    <a:pt x="458743" y="242806"/>
                  </a:cubicBezTo>
                  <a:close/>
                  <a:moveTo>
                    <a:pt x="207774" y="0"/>
                  </a:moveTo>
                  <a:lnTo>
                    <a:pt x="3277928" y="0"/>
                  </a:lnTo>
                  <a:cubicBezTo>
                    <a:pt x="3392678" y="0"/>
                    <a:pt x="3485702" y="93024"/>
                    <a:pt x="3485702" y="207774"/>
                  </a:cubicBezTo>
                  <a:lnTo>
                    <a:pt x="3485702" y="1038847"/>
                  </a:lnTo>
                  <a:cubicBezTo>
                    <a:pt x="3485702" y="1153597"/>
                    <a:pt x="3392678" y="1246621"/>
                    <a:pt x="3277928" y="1246621"/>
                  </a:cubicBezTo>
                  <a:lnTo>
                    <a:pt x="207774" y="1246621"/>
                  </a:lnTo>
                  <a:cubicBezTo>
                    <a:pt x="93024" y="1246621"/>
                    <a:pt x="0" y="1153597"/>
                    <a:pt x="0" y="1038847"/>
                  </a:cubicBezTo>
                  <a:lnTo>
                    <a:pt x="0" y="207774"/>
                  </a:lnTo>
                  <a:cubicBezTo>
                    <a:pt x="0" y="93024"/>
                    <a:pt x="93024" y="0"/>
                    <a:pt x="20777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矩形 8"/>
            <p:cNvSpPr/>
            <p:nvPr/>
          </p:nvSpPr>
          <p:spPr>
            <a:xfrm>
              <a:off x="3060720" y="1981080"/>
              <a:ext cx="2909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组合 7"/>
          <p:cNvGrpSpPr/>
          <p:nvPr/>
        </p:nvGrpSpPr>
        <p:grpSpPr>
          <a:xfrm>
            <a:off x="2556000" y="1851120"/>
            <a:ext cx="3905280" cy="3801960"/>
            <a:chOff x="2556000" y="1851120"/>
            <a:chExt cx="3905280" cy="3801960"/>
          </a:xfrm>
        </p:grpSpPr>
        <p:pic>
          <p:nvPicPr>
            <p:cNvPr id="776" name="图片 4" descr=""/>
            <p:cNvPicPr/>
            <p:nvPr/>
          </p:nvPicPr>
          <p:blipFill>
            <a:blip r:embed="rId1"/>
            <a:stretch/>
          </p:blipFill>
          <p:spPr>
            <a:xfrm>
              <a:off x="5423760" y="4214520"/>
              <a:ext cx="411840" cy="35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图片 1" descr=""/>
            <p:cNvPicPr/>
            <p:nvPr/>
          </p:nvPicPr>
          <p:blipFill>
            <a:blip r:embed="rId2"/>
            <a:stretch/>
          </p:blipFill>
          <p:spPr>
            <a:xfrm>
              <a:off x="3392280" y="2562120"/>
              <a:ext cx="2321640" cy="14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图片 2" descr=""/>
            <p:cNvPicPr/>
            <p:nvPr/>
          </p:nvPicPr>
          <p:blipFill>
            <a:blip r:embed="rId3"/>
            <a:stretch/>
          </p:blipFill>
          <p:spPr>
            <a:xfrm>
              <a:off x="2556000" y="1851120"/>
              <a:ext cx="3905280" cy="38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图片 3" descr=""/>
            <p:cNvPicPr/>
            <p:nvPr/>
          </p:nvPicPr>
          <p:blipFill>
            <a:blip r:embed="rId4"/>
            <a:stretch/>
          </p:blipFill>
          <p:spPr>
            <a:xfrm>
              <a:off x="5508720" y="3156840"/>
              <a:ext cx="410760" cy="11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0" name="图片 5" descr=""/>
          <p:cNvPicPr/>
          <p:nvPr/>
        </p:nvPicPr>
        <p:blipFill>
          <a:blip r:embed="rId5"/>
          <a:stretch/>
        </p:blipFill>
        <p:spPr>
          <a:xfrm>
            <a:off x="2784600" y="4037040"/>
            <a:ext cx="527040" cy="49212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8" descr=""/>
          <p:cNvPicPr/>
          <p:nvPr/>
        </p:nvPicPr>
        <p:blipFill>
          <a:blip r:embed="rId6"/>
          <a:stretch/>
        </p:blipFill>
        <p:spPr>
          <a:xfrm>
            <a:off x="2465280" y="4610160"/>
            <a:ext cx="660600" cy="47160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10" descr=""/>
          <p:cNvPicPr/>
          <p:nvPr/>
        </p:nvPicPr>
        <p:blipFill>
          <a:blip r:embed="rId7"/>
          <a:stretch/>
        </p:blipFill>
        <p:spPr>
          <a:xfrm>
            <a:off x="6961320" y="3129120"/>
            <a:ext cx="1109520" cy="45216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12" descr=""/>
          <p:cNvPicPr/>
          <p:nvPr/>
        </p:nvPicPr>
        <p:blipFill>
          <a:blip r:embed="rId8"/>
          <a:stretch/>
        </p:blipFill>
        <p:spPr>
          <a:xfrm>
            <a:off x="6881760" y="3970440"/>
            <a:ext cx="657360" cy="73980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13" descr=""/>
          <p:cNvPicPr/>
          <p:nvPr/>
        </p:nvPicPr>
        <p:blipFill>
          <a:blip r:embed="rId9"/>
          <a:stretch/>
        </p:blipFill>
        <p:spPr>
          <a:xfrm>
            <a:off x="5997600" y="4302000"/>
            <a:ext cx="647640" cy="66204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14" descr=""/>
          <p:cNvPicPr/>
          <p:nvPr/>
        </p:nvPicPr>
        <p:blipFill>
          <a:blip r:embed="rId10"/>
          <a:stretch/>
        </p:blipFill>
        <p:spPr>
          <a:xfrm>
            <a:off x="4095720" y="4302000"/>
            <a:ext cx="1144440" cy="79704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16" descr=""/>
          <p:cNvPicPr/>
          <p:nvPr/>
        </p:nvPicPr>
        <p:blipFill>
          <a:blip r:embed="rId11"/>
          <a:stretch/>
        </p:blipFill>
        <p:spPr>
          <a:xfrm>
            <a:off x="5802480" y="2886120"/>
            <a:ext cx="701640" cy="20160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23" descr=""/>
          <p:cNvPicPr/>
          <p:nvPr/>
        </p:nvPicPr>
        <p:blipFill>
          <a:blip r:embed="rId12"/>
          <a:stretch/>
        </p:blipFill>
        <p:spPr>
          <a:xfrm>
            <a:off x="1400040" y="3838680"/>
            <a:ext cx="608040" cy="69048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24" descr=""/>
          <p:cNvPicPr/>
          <p:nvPr/>
        </p:nvPicPr>
        <p:blipFill>
          <a:blip r:embed="rId13"/>
          <a:stretch/>
        </p:blipFill>
        <p:spPr>
          <a:xfrm>
            <a:off x="2943360" y="3479760"/>
            <a:ext cx="245880" cy="345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5" descr=""/>
          <p:cNvPicPr/>
          <p:nvPr/>
        </p:nvPicPr>
        <p:blipFill>
          <a:blip r:embed="rId14"/>
          <a:stretch/>
        </p:blipFill>
        <p:spPr>
          <a:xfrm>
            <a:off x="1941480" y="473220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6" descr=""/>
          <p:cNvPicPr/>
          <p:nvPr/>
        </p:nvPicPr>
        <p:blipFill>
          <a:blip r:embed="rId15"/>
          <a:stretch/>
        </p:blipFill>
        <p:spPr>
          <a:xfrm>
            <a:off x="2211480" y="3954600"/>
            <a:ext cx="426960" cy="4348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27" descr=""/>
          <p:cNvPicPr/>
          <p:nvPr/>
        </p:nvPicPr>
        <p:blipFill>
          <a:blip r:embed="rId16"/>
          <a:stretch/>
        </p:blipFill>
        <p:spPr>
          <a:xfrm>
            <a:off x="1332000" y="4632480"/>
            <a:ext cx="623880" cy="17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214280" y="1814400"/>
            <a:ext cx="185760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680000" y="18381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7"/>
          <p:cNvGrpSpPr/>
          <p:nvPr/>
        </p:nvGrpSpPr>
        <p:grpSpPr>
          <a:xfrm>
            <a:off x="4317840" y="1297080"/>
            <a:ext cx="4357800" cy="3290760"/>
            <a:chOff x="4317840" y="1297080"/>
            <a:chExt cx="4357800" cy="3290760"/>
          </a:xfrm>
        </p:grpSpPr>
        <p:grpSp>
          <p:nvGrpSpPr>
            <p:cNvPr id="96" name="组合 5"/>
            <p:cNvGrpSpPr/>
            <p:nvPr/>
          </p:nvGrpSpPr>
          <p:grpSpPr>
            <a:xfrm>
              <a:off x="4383720" y="1872000"/>
              <a:ext cx="4291920" cy="989640"/>
              <a:chOff x="4383720" y="1872000"/>
              <a:chExt cx="4291920" cy="989640"/>
            </a:xfrm>
          </p:grpSpPr>
          <p:sp>
            <p:nvSpPr>
              <p:cNvPr id="97" name="TextBox 35"/>
              <p:cNvSpPr/>
              <p:nvPr/>
            </p:nvSpPr>
            <p:spPr>
              <a:xfrm>
                <a:off x="4383720" y="2220120"/>
                <a:ext cx="4291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A designer can use default text to simulate what text would look like. If it is not real text. A designer can use default text to simulate what text would look like.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文本框 7"/>
              <p:cNvSpPr/>
              <p:nvPr/>
            </p:nvSpPr>
            <p:spPr>
              <a:xfrm>
                <a:off x="4394160" y="1872000"/>
                <a:ext cx="232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1.ADD TITLE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8"/>
            <p:cNvGrpSpPr/>
            <p:nvPr/>
          </p:nvGrpSpPr>
          <p:grpSpPr>
            <a:xfrm>
              <a:off x="4381560" y="3083040"/>
              <a:ext cx="4294080" cy="1070280"/>
              <a:chOff x="4381560" y="3083040"/>
              <a:chExt cx="4294080" cy="1070280"/>
            </a:xfrm>
          </p:grpSpPr>
          <p:sp>
            <p:nvSpPr>
              <p:cNvPr id="100" name="TextBox 35"/>
              <p:cNvSpPr/>
              <p:nvPr/>
            </p:nvSpPr>
            <p:spPr>
              <a:xfrm>
                <a:off x="4383360" y="3511800"/>
                <a:ext cx="4292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A designer can use default text to simulate what text would look like. If it is not real text. A designer can use default text to simulate what text would look like.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文本框 10"/>
              <p:cNvSpPr/>
              <p:nvPr/>
            </p:nvSpPr>
            <p:spPr>
              <a:xfrm>
                <a:off x="4381560" y="3083040"/>
                <a:ext cx="232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2.ADD TITLE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文本框 13"/>
            <p:cNvSpPr/>
            <p:nvPr/>
          </p:nvSpPr>
          <p:spPr>
            <a:xfrm>
              <a:off x="4317840" y="4308840"/>
              <a:ext cx="23493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文本框 14"/>
            <p:cNvSpPr/>
            <p:nvPr/>
          </p:nvSpPr>
          <p:spPr>
            <a:xfrm>
              <a:off x="4394160" y="1297080"/>
              <a:ext cx="332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接连接符 12"/>
            <p:cNvSpPr/>
            <p:nvPr/>
          </p:nvSpPr>
          <p:spPr>
            <a:xfrm>
              <a:off x="4470120" y="1728720"/>
              <a:ext cx="4205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1"/>
          <p:cNvGrpSpPr/>
          <p:nvPr/>
        </p:nvGrpSpPr>
        <p:grpSpPr>
          <a:xfrm>
            <a:off x="428760" y="1181160"/>
            <a:ext cx="3671640" cy="3190680"/>
            <a:chOff x="428760" y="1181160"/>
            <a:chExt cx="3671640" cy="3190680"/>
          </a:xfrm>
        </p:grpSpPr>
        <p:pic>
          <p:nvPicPr>
            <p:cNvPr id="106" name="图片 8" descr=""/>
            <p:cNvPicPr/>
            <p:nvPr/>
          </p:nvPicPr>
          <p:blipFill>
            <a:blip r:embed="rId1"/>
            <a:stretch/>
          </p:blipFill>
          <p:spPr>
            <a:xfrm flipH="1">
              <a:off x="1353960" y="2679480"/>
              <a:ext cx="55872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9" descr=""/>
            <p:cNvPicPr/>
            <p:nvPr/>
          </p:nvPicPr>
          <p:blipFill>
            <a:blip r:embed="rId2"/>
            <a:stretch/>
          </p:blipFill>
          <p:spPr>
            <a:xfrm>
              <a:off x="2510280" y="2660040"/>
              <a:ext cx="5907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Oval 6"/>
            <p:cNvSpPr/>
            <p:nvPr/>
          </p:nvSpPr>
          <p:spPr>
            <a:xfrm>
              <a:off x="1602720" y="3908160"/>
              <a:ext cx="1323000" cy="326880"/>
            </a:xfrm>
            <a:prstGeom prst="ellipse">
              <a:avLst/>
            </a:prstGeom>
            <a:solidFill>
              <a:srgbClr val="ca0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11" descr=""/>
            <p:cNvPicPr/>
            <p:nvPr/>
          </p:nvPicPr>
          <p:blipFill>
            <a:blip r:embed="rId3"/>
            <a:stretch/>
          </p:blipFill>
          <p:spPr>
            <a:xfrm>
              <a:off x="3049560" y="2909160"/>
              <a:ext cx="1050840" cy="14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12" descr=""/>
            <p:cNvPicPr/>
            <p:nvPr/>
          </p:nvPicPr>
          <p:blipFill>
            <a:blip r:embed="rId4"/>
            <a:stretch/>
          </p:blipFill>
          <p:spPr>
            <a:xfrm flipH="1">
              <a:off x="428760" y="2848320"/>
              <a:ext cx="1082160" cy="150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组合 13"/>
            <p:cNvGrpSpPr/>
            <p:nvPr/>
          </p:nvGrpSpPr>
          <p:grpSpPr>
            <a:xfrm>
              <a:off x="1433880" y="1679400"/>
              <a:ext cx="1606320" cy="2154960"/>
              <a:chOff x="1433880" y="1679400"/>
              <a:chExt cx="1606320" cy="2154960"/>
            </a:xfrm>
          </p:grpSpPr>
          <p:grpSp>
            <p:nvGrpSpPr>
              <p:cNvPr id="112" name="组合 14"/>
              <p:cNvGrpSpPr/>
              <p:nvPr/>
            </p:nvGrpSpPr>
            <p:grpSpPr>
              <a:xfrm>
                <a:off x="2147760" y="1679400"/>
                <a:ext cx="892440" cy="1150200"/>
                <a:chOff x="2147760" y="1679400"/>
                <a:chExt cx="892440" cy="1150200"/>
              </a:xfrm>
            </p:grpSpPr>
            <p:sp>
              <p:nvSpPr>
                <p:cNvPr id="113" name="Freeform 7"/>
                <p:cNvSpPr/>
                <p:nvPr/>
              </p:nvSpPr>
              <p:spPr>
                <a:xfrm>
                  <a:off x="2741400" y="1679400"/>
                  <a:ext cx="298800" cy="407520"/>
                </a:xfrm>
                <a:custGeom>
                  <a:avLst/>
                  <a:gdLst/>
                  <a:ahLst/>
                  <a:rect l="l" t="t" r="r" b="b"/>
                  <a:pathLst>
                    <a:path w="156" h="215">
                      <a:moveTo>
                        <a:pt x="0" y="185"/>
                      </a:moveTo>
                      <a:cubicBezTo>
                        <a:pt x="29" y="109"/>
                        <a:pt x="29" y="109"/>
                        <a:pt x="29" y="109"/>
                      </a:cubicBezTo>
                      <a:cubicBezTo>
                        <a:pt x="29" y="109"/>
                        <a:pt x="60" y="10"/>
                        <a:pt x="91" y="4"/>
                      </a:cubicBezTo>
                      <a:cubicBezTo>
                        <a:pt x="91" y="4"/>
                        <a:pt x="113" y="0"/>
                        <a:pt x="106" y="15"/>
                      </a:cubicBezTo>
                      <a:cubicBezTo>
                        <a:pt x="101" y="23"/>
                        <a:pt x="101" y="23"/>
                        <a:pt x="101" y="23"/>
                      </a:cubicBezTo>
                      <a:cubicBezTo>
                        <a:pt x="101" y="23"/>
                        <a:pt x="120" y="7"/>
                        <a:pt x="131" y="16"/>
                      </a:cubicBezTo>
                      <a:cubicBezTo>
                        <a:pt x="131" y="16"/>
                        <a:pt x="138" y="21"/>
                        <a:pt x="125" y="40"/>
                      </a:cubicBezTo>
                      <a:cubicBezTo>
                        <a:pt x="125" y="40"/>
                        <a:pt x="133" y="25"/>
                        <a:pt x="145" y="37"/>
                      </a:cubicBezTo>
                      <a:cubicBezTo>
                        <a:pt x="156" y="49"/>
                        <a:pt x="128" y="74"/>
                        <a:pt x="116" y="132"/>
                      </a:cubicBezTo>
                      <a:cubicBezTo>
                        <a:pt x="105" y="189"/>
                        <a:pt x="61" y="202"/>
                        <a:pt x="61" y="202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" name="Freeform 8"/>
                <p:cNvSpPr/>
                <p:nvPr/>
              </p:nvSpPr>
              <p:spPr>
                <a:xfrm>
                  <a:off x="2741400" y="1793520"/>
                  <a:ext cx="118080" cy="290520"/>
                </a:xfrm>
                <a:custGeom>
                  <a:avLst/>
                  <a:gdLst/>
                  <a:ahLst/>
                  <a:rect l="l" t="t" r="r" b="b"/>
                  <a:pathLst>
                    <a:path w="62" h="153">
                      <a:moveTo>
                        <a:pt x="7" y="115"/>
                      </a:moveTo>
                      <a:cubicBezTo>
                        <a:pt x="7" y="115"/>
                        <a:pt x="0" y="113"/>
                        <a:pt x="7" y="85"/>
                      </a:cubicBezTo>
                      <a:cubicBezTo>
                        <a:pt x="14" y="57"/>
                        <a:pt x="30" y="0"/>
                        <a:pt x="38" y="2"/>
                      </a:cubicBezTo>
                      <a:cubicBezTo>
                        <a:pt x="45" y="3"/>
                        <a:pt x="50" y="11"/>
                        <a:pt x="47" y="20"/>
                      </a:cubicBezTo>
                      <a:cubicBezTo>
                        <a:pt x="45" y="28"/>
                        <a:pt x="41" y="61"/>
                        <a:pt x="48" y="76"/>
                      </a:cubicBezTo>
                      <a:cubicBezTo>
                        <a:pt x="48" y="76"/>
                        <a:pt x="62" y="153"/>
                        <a:pt x="7" y="115"/>
                      </a:cubicBez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9"/>
                <p:cNvSpPr/>
                <p:nvPr/>
              </p:nvSpPr>
              <p:spPr>
                <a:xfrm>
                  <a:off x="2741400" y="1679400"/>
                  <a:ext cx="282600" cy="407520"/>
                </a:xfrm>
                <a:custGeom>
                  <a:avLst/>
                  <a:gdLst/>
                  <a:ahLst/>
                  <a:rect l="l" t="t" r="r" b="b"/>
                  <a:pathLst>
                    <a:path w="148" h="215">
                      <a:moveTo>
                        <a:pt x="147" y="47"/>
                      </a:moveTo>
                      <a:cubicBezTo>
                        <a:pt x="148" y="44"/>
                        <a:pt x="147" y="40"/>
                        <a:pt x="145" y="37"/>
                      </a:cubicBezTo>
                      <a:cubicBezTo>
                        <a:pt x="145" y="37"/>
                        <a:pt x="145" y="37"/>
                        <a:pt x="145" y="37"/>
                      </a:cubicBezTo>
                      <a:cubicBezTo>
                        <a:pt x="143" y="36"/>
                        <a:pt x="142" y="35"/>
                        <a:pt x="141" y="34"/>
                      </a:cubicBezTo>
                      <a:cubicBezTo>
                        <a:pt x="140" y="34"/>
                        <a:pt x="140" y="34"/>
                        <a:pt x="139" y="33"/>
                      </a:cubicBezTo>
                      <a:cubicBezTo>
                        <a:pt x="141" y="35"/>
                        <a:pt x="140" y="38"/>
                        <a:pt x="141" y="39"/>
                      </a:cubicBezTo>
                      <a:cubicBezTo>
                        <a:pt x="143" y="46"/>
                        <a:pt x="143" y="49"/>
                        <a:pt x="140" y="56"/>
                      </a:cubicBezTo>
                      <a:cubicBezTo>
                        <a:pt x="135" y="67"/>
                        <a:pt x="127" y="77"/>
                        <a:pt x="122" y="88"/>
                      </a:cubicBezTo>
                      <a:cubicBezTo>
                        <a:pt x="120" y="93"/>
                        <a:pt x="118" y="107"/>
                        <a:pt x="110" y="101"/>
                      </a:cubicBezTo>
                      <a:cubicBezTo>
                        <a:pt x="108" y="100"/>
                        <a:pt x="105" y="96"/>
                        <a:pt x="103" y="94"/>
                      </a:cubicBezTo>
                      <a:cubicBezTo>
                        <a:pt x="95" y="87"/>
                        <a:pt x="109" y="75"/>
                        <a:pt x="114" y="69"/>
                      </a:cubicBezTo>
                      <a:cubicBezTo>
                        <a:pt x="121" y="58"/>
                        <a:pt x="127" y="47"/>
                        <a:pt x="130" y="34"/>
                      </a:cubicBezTo>
                      <a:cubicBezTo>
                        <a:pt x="130" y="34"/>
                        <a:pt x="130" y="34"/>
                        <a:pt x="130" y="34"/>
                      </a:cubicBezTo>
                      <a:cubicBezTo>
                        <a:pt x="128" y="36"/>
                        <a:pt x="127" y="37"/>
                        <a:pt x="126" y="38"/>
                      </a:cubicBezTo>
                      <a:cubicBezTo>
                        <a:pt x="132" y="29"/>
                        <a:pt x="133" y="23"/>
                        <a:pt x="133" y="20"/>
                      </a:cubicBezTo>
                      <a:cubicBezTo>
                        <a:pt x="133" y="20"/>
                        <a:pt x="133" y="20"/>
                        <a:pt x="133" y="20"/>
                      </a:cubicBezTo>
                      <a:cubicBezTo>
                        <a:pt x="129" y="22"/>
                        <a:pt x="129" y="27"/>
                        <a:pt x="127" y="31"/>
                      </a:cubicBezTo>
                      <a:cubicBezTo>
                        <a:pt x="124" y="40"/>
                        <a:pt x="119" y="49"/>
                        <a:pt x="113" y="57"/>
                      </a:cubicBezTo>
                      <a:cubicBezTo>
                        <a:pt x="108" y="65"/>
                        <a:pt x="97" y="84"/>
                        <a:pt x="85" y="79"/>
                      </a:cubicBezTo>
                      <a:cubicBezTo>
                        <a:pt x="78" y="76"/>
                        <a:pt x="80" y="70"/>
                        <a:pt x="83" y="64"/>
                      </a:cubicBezTo>
                      <a:cubicBezTo>
                        <a:pt x="87" y="58"/>
                        <a:pt x="91" y="52"/>
                        <a:pt x="94" y="45"/>
                      </a:cubicBezTo>
                      <a:cubicBezTo>
                        <a:pt x="98" y="39"/>
                        <a:pt x="99" y="31"/>
                        <a:pt x="104" y="26"/>
                      </a:cubicBezTo>
                      <a:cubicBezTo>
                        <a:pt x="109" y="20"/>
                        <a:pt x="117" y="18"/>
                        <a:pt x="123" y="13"/>
                      </a:cubicBezTo>
                      <a:cubicBezTo>
                        <a:pt x="113" y="13"/>
                        <a:pt x="101" y="23"/>
                        <a:pt x="101" y="23"/>
                      </a:cubicBezTo>
                      <a:cubicBezTo>
                        <a:pt x="106" y="15"/>
                        <a:pt x="106" y="15"/>
                        <a:pt x="106" y="15"/>
                      </a:cubicBezTo>
                      <a:cubicBezTo>
                        <a:pt x="113" y="0"/>
                        <a:pt x="91" y="4"/>
                        <a:pt x="91" y="4"/>
                      </a:cubicBezTo>
                      <a:cubicBezTo>
                        <a:pt x="89" y="4"/>
                        <a:pt x="86" y="6"/>
                        <a:pt x="83" y="7"/>
                      </a:cubicBezTo>
                      <a:cubicBezTo>
                        <a:pt x="83" y="7"/>
                        <a:pt x="83" y="7"/>
                        <a:pt x="83" y="7"/>
                      </a:cubicBezTo>
                      <a:cubicBezTo>
                        <a:pt x="88" y="7"/>
                        <a:pt x="99" y="7"/>
                        <a:pt x="99" y="11"/>
                      </a:cubicBezTo>
                      <a:cubicBezTo>
                        <a:pt x="98" y="15"/>
                        <a:pt x="98" y="16"/>
                        <a:pt x="96" y="21"/>
                      </a:cubicBezTo>
                      <a:cubicBezTo>
                        <a:pt x="94" y="25"/>
                        <a:pt x="93" y="28"/>
                        <a:pt x="91" y="31"/>
                      </a:cubicBezTo>
                      <a:cubicBezTo>
                        <a:pt x="89" y="37"/>
                        <a:pt x="86" y="43"/>
                        <a:pt x="83" y="49"/>
                      </a:cubicBezTo>
                      <a:cubicBezTo>
                        <a:pt x="78" y="57"/>
                        <a:pt x="73" y="68"/>
                        <a:pt x="63" y="72"/>
                      </a:cubicBezTo>
                      <a:cubicBezTo>
                        <a:pt x="54" y="75"/>
                        <a:pt x="54" y="65"/>
                        <a:pt x="48" y="62"/>
                      </a:cubicBezTo>
                      <a:cubicBezTo>
                        <a:pt x="47" y="63"/>
                        <a:pt x="47" y="63"/>
                        <a:pt x="47" y="64"/>
                      </a:cubicBezTo>
                      <a:cubicBezTo>
                        <a:pt x="46" y="65"/>
                        <a:pt x="46" y="66"/>
                        <a:pt x="45" y="67"/>
                      </a:cubicBezTo>
                      <a:cubicBezTo>
                        <a:pt x="45" y="66"/>
                        <a:pt x="45" y="66"/>
                        <a:pt x="45" y="66"/>
                      </a:cubicBezTo>
                      <a:cubicBezTo>
                        <a:pt x="45" y="67"/>
                        <a:pt x="44" y="68"/>
                        <a:pt x="45" y="68"/>
                      </a:cubicBezTo>
                      <a:cubicBezTo>
                        <a:pt x="49" y="75"/>
                        <a:pt x="46" y="86"/>
                        <a:pt x="44" y="95"/>
                      </a:cubicBezTo>
                      <a:cubicBezTo>
                        <a:pt x="45" y="99"/>
                        <a:pt x="46" y="104"/>
                        <a:pt x="46" y="108"/>
                      </a:cubicBezTo>
                      <a:cubicBezTo>
                        <a:pt x="48" y="119"/>
                        <a:pt x="50" y="131"/>
                        <a:pt x="48" y="142"/>
                      </a:cubicBezTo>
                      <a:cubicBezTo>
                        <a:pt x="49" y="147"/>
                        <a:pt x="48" y="153"/>
                        <a:pt x="43" y="156"/>
                      </a:cubicBezTo>
                      <a:cubicBezTo>
                        <a:pt x="38" y="158"/>
                        <a:pt x="29" y="161"/>
                        <a:pt x="22" y="160"/>
                      </a:cubicBezTo>
                      <a:cubicBezTo>
                        <a:pt x="23" y="159"/>
                        <a:pt x="23" y="159"/>
                        <a:pt x="23" y="159"/>
                      </a:cubicBezTo>
                      <a:cubicBezTo>
                        <a:pt x="22" y="159"/>
                        <a:pt x="21" y="158"/>
                        <a:pt x="20" y="158"/>
                      </a:cubicBezTo>
                      <a:cubicBezTo>
                        <a:pt x="19" y="158"/>
                        <a:pt x="19" y="158"/>
                        <a:pt x="18" y="158"/>
                      </a:cubicBezTo>
                      <a:cubicBezTo>
                        <a:pt x="17" y="158"/>
                        <a:pt x="16" y="157"/>
                        <a:pt x="16" y="156"/>
                      </a:cubicBezTo>
                      <a:cubicBezTo>
                        <a:pt x="15" y="154"/>
                        <a:pt x="14" y="152"/>
                        <a:pt x="14" y="149"/>
                      </a:cubicBezTo>
                      <a:cubicBezTo>
                        <a:pt x="8" y="133"/>
                        <a:pt x="15" y="113"/>
                        <a:pt x="22" y="98"/>
                      </a:cubicBezTo>
                      <a:cubicBezTo>
                        <a:pt x="22" y="98"/>
                        <a:pt x="22" y="97"/>
                        <a:pt x="21" y="97"/>
                      </a:cubicBezTo>
                      <a:cubicBezTo>
                        <a:pt x="20" y="98"/>
                        <a:pt x="20" y="99"/>
                        <a:pt x="20" y="100"/>
                      </a:cubicBezTo>
                      <a:cubicBezTo>
                        <a:pt x="14" y="116"/>
                        <a:pt x="10" y="133"/>
                        <a:pt x="7" y="145"/>
                      </a:cubicBezTo>
                      <a:cubicBezTo>
                        <a:pt x="5" y="150"/>
                        <a:pt x="4" y="154"/>
                        <a:pt x="4" y="158"/>
                      </a:cubicBezTo>
                      <a:cubicBezTo>
                        <a:pt x="4" y="158"/>
                        <a:pt x="4" y="158"/>
                        <a:pt x="4" y="158"/>
                      </a:cubicBezTo>
                      <a:cubicBezTo>
                        <a:pt x="3" y="166"/>
                        <a:pt x="4" y="170"/>
                        <a:pt x="4" y="172"/>
                      </a:cubicBezTo>
                      <a:cubicBezTo>
                        <a:pt x="4" y="172"/>
                        <a:pt x="4" y="172"/>
                        <a:pt x="4" y="172"/>
                      </a:cubicBezTo>
                      <a:cubicBezTo>
                        <a:pt x="5" y="173"/>
                        <a:pt x="5" y="173"/>
                        <a:pt x="5" y="173"/>
                      </a:cubicBezTo>
                      <a:cubicBezTo>
                        <a:pt x="0" y="185"/>
                        <a:pt x="0" y="185"/>
                        <a:pt x="0" y="185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cubicBezTo>
                        <a:pt x="61" y="202"/>
                        <a:pt x="61" y="202"/>
                        <a:pt x="61" y="202"/>
                      </a:cubicBezTo>
                      <a:cubicBezTo>
                        <a:pt x="61" y="202"/>
                        <a:pt x="105" y="189"/>
                        <a:pt x="116" y="132"/>
                      </a:cubicBezTo>
                      <a:cubicBezTo>
                        <a:pt x="122" y="103"/>
                        <a:pt x="132" y="82"/>
                        <a:pt x="140" y="67"/>
                      </a:cubicBezTo>
                      <a:cubicBezTo>
                        <a:pt x="142" y="60"/>
                        <a:pt x="145" y="54"/>
                        <a:pt x="147" y="47"/>
                      </a:cubicBezTo>
                      <a:close/>
                      <a:moveTo>
                        <a:pt x="102" y="139"/>
                      </a:moveTo>
                      <a:cubicBezTo>
                        <a:pt x="101" y="145"/>
                        <a:pt x="99" y="151"/>
                        <a:pt x="97" y="157"/>
                      </a:cubicBezTo>
                      <a:cubicBezTo>
                        <a:pt x="96" y="161"/>
                        <a:pt x="95" y="167"/>
                        <a:pt x="92" y="171"/>
                      </a:cubicBezTo>
                      <a:cubicBezTo>
                        <a:pt x="78" y="191"/>
                        <a:pt x="52" y="178"/>
                        <a:pt x="55" y="155"/>
                      </a:cubicBezTo>
                      <a:cubicBezTo>
                        <a:pt x="55" y="152"/>
                        <a:pt x="56" y="150"/>
                        <a:pt x="58" y="148"/>
                      </a:cubicBezTo>
                      <a:cubicBezTo>
                        <a:pt x="55" y="139"/>
                        <a:pt x="53" y="130"/>
                        <a:pt x="52" y="121"/>
                      </a:cubicBezTo>
                      <a:cubicBezTo>
                        <a:pt x="50" y="112"/>
                        <a:pt x="48" y="101"/>
                        <a:pt x="55" y="94"/>
                      </a:cubicBezTo>
                      <a:cubicBezTo>
                        <a:pt x="60" y="88"/>
                        <a:pt x="69" y="88"/>
                        <a:pt x="75" y="92"/>
                      </a:cubicBezTo>
                      <a:cubicBezTo>
                        <a:pt x="81" y="95"/>
                        <a:pt x="82" y="103"/>
                        <a:pt x="87" y="107"/>
                      </a:cubicBezTo>
                      <a:cubicBezTo>
                        <a:pt x="90" y="109"/>
                        <a:pt x="94" y="109"/>
                        <a:pt x="97" y="111"/>
                      </a:cubicBezTo>
                      <a:cubicBezTo>
                        <a:pt x="104" y="118"/>
                        <a:pt x="102" y="131"/>
                        <a:pt x="102" y="139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10"/>
                <p:cNvSpPr/>
                <p:nvPr/>
              </p:nvSpPr>
              <p:spPr>
                <a:xfrm>
                  <a:off x="2147760" y="2020320"/>
                  <a:ext cx="705600" cy="793080"/>
                </a:xfrm>
                <a:custGeom>
                  <a:avLst/>
                  <a:gdLst/>
                  <a:ahLst/>
                  <a:rect l="l" t="t" r="r" b="b"/>
                  <a:pathLst>
                    <a:path w="368" h="417">
                      <a:moveTo>
                        <a:pt x="313" y="0"/>
                      </a:moveTo>
                      <a:cubicBezTo>
                        <a:pt x="80" y="324"/>
                        <a:pt x="80" y="324"/>
                        <a:pt x="80" y="324"/>
                      </a:cubicBezTo>
                      <a:cubicBezTo>
                        <a:pt x="80" y="324"/>
                        <a:pt x="58" y="356"/>
                        <a:pt x="0" y="356"/>
                      </a:cubicBezTo>
                      <a:cubicBezTo>
                        <a:pt x="1" y="358"/>
                        <a:pt x="2" y="360"/>
                        <a:pt x="2" y="363"/>
                      </a:cubicBezTo>
                      <a:cubicBezTo>
                        <a:pt x="16" y="360"/>
                        <a:pt x="30" y="360"/>
                        <a:pt x="44" y="362"/>
                      </a:cubicBezTo>
                      <a:cubicBezTo>
                        <a:pt x="44" y="362"/>
                        <a:pt x="44" y="362"/>
                        <a:pt x="44" y="362"/>
                      </a:cubicBezTo>
                      <a:cubicBezTo>
                        <a:pt x="50" y="359"/>
                        <a:pt x="57" y="357"/>
                        <a:pt x="64" y="356"/>
                      </a:cubicBezTo>
                      <a:cubicBezTo>
                        <a:pt x="90" y="355"/>
                        <a:pt x="108" y="371"/>
                        <a:pt x="116" y="393"/>
                      </a:cubicBezTo>
                      <a:cubicBezTo>
                        <a:pt x="118" y="398"/>
                        <a:pt x="118" y="403"/>
                        <a:pt x="119" y="408"/>
                      </a:cubicBezTo>
                      <a:cubicBezTo>
                        <a:pt x="119" y="408"/>
                        <a:pt x="119" y="408"/>
                        <a:pt x="119" y="408"/>
                      </a:cubicBezTo>
                      <a:cubicBezTo>
                        <a:pt x="120" y="410"/>
                        <a:pt x="120" y="415"/>
                        <a:pt x="122" y="417"/>
                      </a:cubicBezTo>
                      <a:cubicBezTo>
                        <a:pt x="122" y="391"/>
                        <a:pt x="140" y="363"/>
                        <a:pt x="150" y="348"/>
                      </a:cubicBezTo>
                      <a:cubicBezTo>
                        <a:pt x="161" y="331"/>
                        <a:pt x="323" y="157"/>
                        <a:pt x="363" y="42"/>
                      </a:cubicBezTo>
                      <a:cubicBezTo>
                        <a:pt x="363" y="42"/>
                        <a:pt x="368" y="32"/>
                        <a:pt x="313" y="0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11"/>
                <p:cNvSpPr/>
                <p:nvPr/>
              </p:nvSpPr>
              <p:spPr>
                <a:xfrm>
                  <a:off x="2147760" y="2075040"/>
                  <a:ext cx="699840" cy="754560"/>
                </a:xfrm>
                <a:custGeom>
                  <a:avLst/>
                  <a:gdLst/>
                  <a:ahLst/>
                  <a:rect l="l" t="t" r="r" b="b"/>
                  <a:pathLst>
                    <a:path w="365" h="397">
                      <a:moveTo>
                        <a:pt x="354" y="0"/>
                      </a:moveTo>
                      <a:cubicBezTo>
                        <a:pt x="322" y="62"/>
                        <a:pt x="292" y="131"/>
                        <a:pt x="244" y="185"/>
                      </a:cubicBezTo>
                      <a:cubicBezTo>
                        <a:pt x="228" y="203"/>
                        <a:pt x="211" y="220"/>
                        <a:pt x="194" y="237"/>
                      </a:cubicBezTo>
                      <a:cubicBezTo>
                        <a:pt x="185" y="246"/>
                        <a:pt x="177" y="255"/>
                        <a:pt x="169" y="263"/>
                      </a:cubicBezTo>
                      <a:cubicBezTo>
                        <a:pt x="162" y="271"/>
                        <a:pt x="157" y="280"/>
                        <a:pt x="148" y="287"/>
                      </a:cubicBezTo>
                      <a:cubicBezTo>
                        <a:pt x="140" y="295"/>
                        <a:pt x="124" y="277"/>
                        <a:pt x="113" y="280"/>
                      </a:cubicBezTo>
                      <a:cubicBezTo>
                        <a:pt x="100" y="284"/>
                        <a:pt x="88" y="287"/>
                        <a:pt x="74" y="290"/>
                      </a:cubicBezTo>
                      <a:cubicBezTo>
                        <a:pt x="63" y="293"/>
                        <a:pt x="52" y="314"/>
                        <a:pt x="42" y="319"/>
                      </a:cubicBezTo>
                      <a:cubicBezTo>
                        <a:pt x="42" y="320"/>
                        <a:pt x="43" y="320"/>
                        <a:pt x="43" y="321"/>
                      </a:cubicBezTo>
                      <a:cubicBezTo>
                        <a:pt x="29" y="323"/>
                        <a:pt x="15" y="325"/>
                        <a:pt x="0" y="327"/>
                      </a:cubicBezTo>
                      <a:cubicBezTo>
                        <a:pt x="1" y="329"/>
                        <a:pt x="2" y="331"/>
                        <a:pt x="2" y="334"/>
                      </a:cubicBezTo>
                      <a:cubicBezTo>
                        <a:pt x="16" y="331"/>
                        <a:pt x="30" y="331"/>
                        <a:pt x="44" y="333"/>
                      </a:cubicBezTo>
                      <a:cubicBezTo>
                        <a:pt x="44" y="333"/>
                        <a:pt x="44" y="333"/>
                        <a:pt x="44" y="333"/>
                      </a:cubicBezTo>
                      <a:cubicBezTo>
                        <a:pt x="50" y="330"/>
                        <a:pt x="57" y="328"/>
                        <a:pt x="64" y="327"/>
                      </a:cubicBezTo>
                      <a:cubicBezTo>
                        <a:pt x="74" y="327"/>
                        <a:pt x="83" y="329"/>
                        <a:pt x="91" y="334"/>
                      </a:cubicBezTo>
                      <a:cubicBezTo>
                        <a:pt x="94" y="335"/>
                        <a:pt x="96" y="337"/>
                        <a:pt x="98" y="339"/>
                      </a:cubicBezTo>
                      <a:cubicBezTo>
                        <a:pt x="106" y="345"/>
                        <a:pt x="112" y="354"/>
                        <a:pt x="116" y="364"/>
                      </a:cubicBezTo>
                      <a:cubicBezTo>
                        <a:pt x="118" y="369"/>
                        <a:pt x="118" y="374"/>
                        <a:pt x="119" y="379"/>
                      </a:cubicBezTo>
                      <a:cubicBezTo>
                        <a:pt x="119" y="379"/>
                        <a:pt x="118" y="378"/>
                        <a:pt x="118" y="378"/>
                      </a:cubicBezTo>
                      <a:cubicBezTo>
                        <a:pt x="119" y="380"/>
                        <a:pt x="119" y="395"/>
                        <a:pt x="120" y="397"/>
                      </a:cubicBezTo>
                      <a:cubicBezTo>
                        <a:pt x="121" y="391"/>
                        <a:pt x="126" y="355"/>
                        <a:pt x="150" y="319"/>
                      </a:cubicBezTo>
                      <a:cubicBezTo>
                        <a:pt x="161" y="302"/>
                        <a:pt x="323" y="128"/>
                        <a:pt x="363" y="13"/>
                      </a:cubicBezTo>
                      <a:cubicBezTo>
                        <a:pt x="363" y="13"/>
                        <a:pt x="365" y="9"/>
                        <a:pt x="354" y="0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12"/>
                <p:cNvSpPr/>
                <p:nvPr/>
              </p:nvSpPr>
              <p:spPr>
                <a:xfrm>
                  <a:off x="2730960" y="1999440"/>
                  <a:ext cx="134280" cy="126000"/>
                </a:xfrm>
                <a:custGeom>
                  <a:avLst/>
                  <a:gdLst/>
                  <a:ahLst/>
                  <a:rect l="l" t="t" r="r" b="b"/>
                  <a:pathLst>
                    <a:path w="70" h="66">
                      <a:moveTo>
                        <a:pt x="69" y="37"/>
                      </a:moveTo>
                      <a:cubicBezTo>
                        <a:pt x="67" y="34"/>
                        <a:pt x="63" y="30"/>
                        <a:pt x="58" y="27"/>
                      </a:cubicBezTo>
                      <a:cubicBezTo>
                        <a:pt x="41" y="17"/>
                        <a:pt x="25" y="2"/>
                        <a:pt x="14" y="0"/>
                      </a:cubicBezTo>
                      <a:cubicBezTo>
                        <a:pt x="14" y="0"/>
                        <a:pt x="14" y="1"/>
                        <a:pt x="13" y="1"/>
                      </a:cubicBezTo>
                      <a:cubicBezTo>
                        <a:pt x="10" y="9"/>
                        <a:pt x="8" y="17"/>
                        <a:pt x="3" y="24"/>
                      </a:cubicBezTo>
                      <a:cubicBezTo>
                        <a:pt x="2" y="26"/>
                        <a:pt x="1" y="28"/>
                        <a:pt x="0" y="30"/>
                      </a:cubicBezTo>
                      <a:cubicBezTo>
                        <a:pt x="11" y="35"/>
                        <a:pt x="39" y="50"/>
                        <a:pt x="48" y="66"/>
                      </a:cubicBezTo>
                      <a:cubicBezTo>
                        <a:pt x="50" y="63"/>
                        <a:pt x="56" y="53"/>
                        <a:pt x="59" y="50"/>
                      </a:cubicBezTo>
                      <a:cubicBezTo>
                        <a:pt x="61" y="48"/>
                        <a:pt x="63" y="45"/>
                        <a:pt x="65" y="42"/>
                      </a:cubicBezTo>
                      <a:cubicBezTo>
                        <a:pt x="66" y="41"/>
                        <a:pt x="70" y="34"/>
                        <a:pt x="68" y="39"/>
                      </a:cubicBezTo>
                      <a:cubicBezTo>
                        <a:pt x="68" y="38"/>
                        <a:pt x="69" y="38"/>
                        <a:pt x="69" y="37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13"/>
                <p:cNvSpPr/>
                <p:nvPr/>
              </p:nvSpPr>
              <p:spPr>
                <a:xfrm>
                  <a:off x="2718720" y="1963800"/>
                  <a:ext cx="155520" cy="147960"/>
                </a:xfrm>
                <a:custGeom>
                  <a:avLst/>
                  <a:gdLst/>
                  <a:ahLst/>
                  <a:rect l="l" t="t" r="r" b="b"/>
                  <a:pathLst>
                    <a:path w="81" h="78">
                      <a:moveTo>
                        <a:pt x="65" y="77"/>
                      </a:moveTo>
                      <a:cubicBezTo>
                        <a:pt x="65" y="77"/>
                        <a:pt x="69" y="78"/>
                        <a:pt x="74" y="71"/>
                      </a:cubicBezTo>
                      <a:cubicBezTo>
                        <a:pt x="77" y="66"/>
                        <a:pt x="81" y="55"/>
                        <a:pt x="78" y="52"/>
                      </a:cubicBezTo>
                      <a:cubicBezTo>
                        <a:pt x="76" y="49"/>
                        <a:pt x="72" y="43"/>
                        <a:pt x="64" y="38"/>
                      </a:cubicBezTo>
                      <a:cubicBezTo>
                        <a:pt x="41" y="24"/>
                        <a:pt x="18" y="0"/>
                        <a:pt x="10" y="15"/>
                      </a:cubicBezTo>
                      <a:cubicBezTo>
                        <a:pt x="2" y="30"/>
                        <a:pt x="0" y="38"/>
                        <a:pt x="0" y="38"/>
                      </a:cubicBezTo>
                      <a:cubicBezTo>
                        <a:pt x="0" y="38"/>
                        <a:pt x="50" y="57"/>
                        <a:pt x="65" y="77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" name="组合 15"/>
              <p:cNvGrpSpPr/>
              <p:nvPr/>
            </p:nvGrpSpPr>
            <p:grpSpPr>
              <a:xfrm>
                <a:off x="1433880" y="2680560"/>
                <a:ext cx="942840" cy="1153800"/>
                <a:chOff x="1433880" y="2680560"/>
                <a:chExt cx="942840" cy="1153800"/>
              </a:xfrm>
            </p:grpSpPr>
            <p:sp>
              <p:nvSpPr>
                <p:cNvPr id="121" name="Freeform 7"/>
                <p:cNvSpPr/>
                <p:nvPr/>
              </p:nvSpPr>
              <p:spPr>
                <a:xfrm rot="10954800">
                  <a:off x="1442520" y="3420000"/>
                  <a:ext cx="298800" cy="407520"/>
                </a:xfrm>
                <a:custGeom>
                  <a:avLst/>
                  <a:gdLst/>
                  <a:ahLst/>
                  <a:rect l="l" t="t" r="r" b="b"/>
                  <a:pathLst>
                    <a:path w="156" h="215">
                      <a:moveTo>
                        <a:pt x="0" y="185"/>
                      </a:moveTo>
                      <a:cubicBezTo>
                        <a:pt x="29" y="109"/>
                        <a:pt x="29" y="109"/>
                        <a:pt x="29" y="109"/>
                      </a:cubicBezTo>
                      <a:cubicBezTo>
                        <a:pt x="29" y="109"/>
                        <a:pt x="60" y="10"/>
                        <a:pt x="91" y="4"/>
                      </a:cubicBezTo>
                      <a:cubicBezTo>
                        <a:pt x="91" y="4"/>
                        <a:pt x="113" y="0"/>
                        <a:pt x="106" y="15"/>
                      </a:cubicBezTo>
                      <a:cubicBezTo>
                        <a:pt x="101" y="23"/>
                        <a:pt x="101" y="23"/>
                        <a:pt x="101" y="23"/>
                      </a:cubicBezTo>
                      <a:cubicBezTo>
                        <a:pt x="101" y="23"/>
                        <a:pt x="120" y="7"/>
                        <a:pt x="131" y="16"/>
                      </a:cubicBezTo>
                      <a:cubicBezTo>
                        <a:pt x="131" y="16"/>
                        <a:pt x="138" y="21"/>
                        <a:pt x="125" y="40"/>
                      </a:cubicBezTo>
                      <a:cubicBezTo>
                        <a:pt x="125" y="40"/>
                        <a:pt x="133" y="25"/>
                        <a:pt x="145" y="37"/>
                      </a:cubicBezTo>
                      <a:cubicBezTo>
                        <a:pt x="156" y="49"/>
                        <a:pt x="128" y="74"/>
                        <a:pt x="116" y="132"/>
                      </a:cubicBezTo>
                      <a:cubicBezTo>
                        <a:pt x="105" y="189"/>
                        <a:pt x="61" y="202"/>
                        <a:pt x="61" y="202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lnTo>
                        <a:pt x="0" y="18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Freeform 8"/>
                <p:cNvSpPr/>
                <p:nvPr/>
              </p:nvSpPr>
              <p:spPr>
                <a:xfrm rot="10954800">
                  <a:off x="1625760" y="3427200"/>
                  <a:ext cx="118080" cy="290520"/>
                </a:xfrm>
                <a:custGeom>
                  <a:avLst/>
                  <a:gdLst/>
                  <a:ahLst/>
                  <a:rect l="l" t="t" r="r" b="b"/>
                  <a:pathLst>
                    <a:path w="62" h="153">
                      <a:moveTo>
                        <a:pt x="7" y="115"/>
                      </a:moveTo>
                      <a:cubicBezTo>
                        <a:pt x="7" y="115"/>
                        <a:pt x="0" y="113"/>
                        <a:pt x="7" y="85"/>
                      </a:cubicBezTo>
                      <a:cubicBezTo>
                        <a:pt x="14" y="57"/>
                        <a:pt x="30" y="0"/>
                        <a:pt x="38" y="2"/>
                      </a:cubicBezTo>
                      <a:cubicBezTo>
                        <a:pt x="45" y="3"/>
                        <a:pt x="50" y="11"/>
                        <a:pt x="47" y="20"/>
                      </a:cubicBezTo>
                      <a:cubicBezTo>
                        <a:pt x="45" y="28"/>
                        <a:pt x="41" y="61"/>
                        <a:pt x="48" y="76"/>
                      </a:cubicBezTo>
                      <a:cubicBezTo>
                        <a:pt x="48" y="76"/>
                        <a:pt x="62" y="153"/>
                        <a:pt x="7" y="115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Freeform 9"/>
                <p:cNvSpPr/>
                <p:nvPr/>
              </p:nvSpPr>
              <p:spPr>
                <a:xfrm rot="10954800">
                  <a:off x="1458720" y="3420360"/>
                  <a:ext cx="282600" cy="407520"/>
                </a:xfrm>
                <a:custGeom>
                  <a:avLst/>
                  <a:gdLst/>
                  <a:ahLst/>
                  <a:rect l="l" t="t" r="r" b="b"/>
                  <a:pathLst>
                    <a:path w="148" h="215">
                      <a:moveTo>
                        <a:pt x="147" y="47"/>
                      </a:moveTo>
                      <a:cubicBezTo>
                        <a:pt x="148" y="44"/>
                        <a:pt x="147" y="40"/>
                        <a:pt x="145" y="37"/>
                      </a:cubicBezTo>
                      <a:cubicBezTo>
                        <a:pt x="145" y="37"/>
                        <a:pt x="145" y="37"/>
                        <a:pt x="145" y="37"/>
                      </a:cubicBezTo>
                      <a:cubicBezTo>
                        <a:pt x="143" y="36"/>
                        <a:pt x="142" y="35"/>
                        <a:pt x="141" y="34"/>
                      </a:cubicBezTo>
                      <a:cubicBezTo>
                        <a:pt x="140" y="34"/>
                        <a:pt x="140" y="34"/>
                        <a:pt x="139" y="33"/>
                      </a:cubicBezTo>
                      <a:cubicBezTo>
                        <a:pt x="141" y="35"/>
                        <a:pt x="140" y="38"/>
                        <a:pt x="141" y="39"/>
                      </a:cubicBezTo>
                      <a:cubicBezTo>
                        <a:pt x="143" y="46"/>
                        <a:pt x="143" y="49"/>
                        <a:pt x="140" y="56"/>
                      </a:cubicBezTo>
                      <a:cubicBezTo>
                        <a:pt x="135" y="67"/>
                        <a:pt x="127" y="77"/>
                        <a:pt x="122" y="88"/>
                      </a:cubicBezTo>
                      <a:cubicBezTo>
                        <a:pt x="120" y="93"/>
                        <a:pt x="118" y="107"/>
                        <a:pt x="110" y="101"/>
                      </a:cubicBezTo>
                      <a:cubicBezTo>
                        <a:pt x="108" y="100"/>
                        <a:pt x="105" y="96"/>
                        <a:pt x="103" y="94"/>
                      </a:cubicBezTo>
                      <a:cubicBezTo>
                        <a:pt x="95" y="87"/>
                        <a:pt x="109" y="75"/>
                        <a:pt x="114" y="69"/>
                      </a:cubicBezTo>
                      <a:cubicBezTo>
                        <a:pt x="121" y="58"/>
                        <a:pt x="127" y="47"/>
                        <a:pt x="130" y="34"/>
                      </a:cubicBezTo>
                      <a:cubicBezTo>
                        <a:pt x="130" y="34"/>
                        <a:pt x="130" y="34"/>
                        <a:pt x="130" y="34"/>
                      </a:cubicBezTo>
                      <a:cubicBezTo>
                        <a:pt x="128" y="36"/>
                        <a:pt x="127" y="37"/>
                        <a:pt x="126" y="38"/>
                      </a:cubicBezTo>
                      <a:cubicBezTo>
                        <a:pt x="132" y="29"/>
                        <a:pt x="133" y="23"/>
                        <a:pt x="133" y="20"/>
                      </a:cubicBezTo>
                      <a:cubicBezTo>
                        <a:pt x="133" y="20"/>
                        <a:pt x="133" y="20"/>
                        <a:pt x="133" y="20"/>
                      </a:cubicBezTo>
                      <a:cubicBezTo>
                        <a:pt x="129" y="22"/>
                        <a:pt x="129" y="27"/>
                        <a:pt x="127" y="31"/>
                      </a:cubicBezTo>
                      <a:cubicBezTo>
                        <a:pt x="124" y="40"/>
                        <a:pt x="119" y="49"/>
                        <a:pt x="113" y="57"/>
                      </a:cubicBezTo>
                      <a:cubicBezTo>
                        <a:pt x="108" y="65"/>
                        <a:pt x="97" y="84"/>
                        <a:pt x="85" y="79"/>
                      </a:cubicBezTo>
                      <a:cubicBezTo>
                        <a:pt x="78" y="76"/>
                        <a:pt x="80" y="70"/>
                        <a:pt x="83" y="64"/>
                      </a:cubicBezTo>
                      <a:cubicBezTo>
                        <a:pt x="87" y="58"/>
                        <a:pt x="91" y="52"/>
                        <a:pt x="94" y="45"/>
                      </a:cubicBezTo>
                      <a:cubicBezTo>
                        <a:pt x="98" y="39"/>
                        <a:pt x="99" y="31"/>
                        <a:pt x="104" y="26"/>
                      </a:cubicBezTo>
                      <a:cubicBezTo>
                        <a:pt x="109" y="20"/>
                        <a:pt x="117" y="18"/>
                        <a:pt x="123" y="13"/>
                      </a:cubicBezTo>
                      <a:cubicBezTo>
                        <a:pt x="113" y="13"/>
                        <a:pt x="101" y="23"/>
                        <a:pt x="101" y="23"/>
                      </a:cubicBezTo>
                      <a:cubicBezTo>
                        <a:pt x="106" y="15"/>
                        <a:pt x="106" y="15"/>
                        <a:pt x="106" y="15"/>
                      </a:cubicBezTo>
                      <a:cubicBezTo>
                        <a:pt x="113" y="0"/>
                        <a:pt x="91" y="4"/>
                        <a:pt x="91" y="4"/>
                      </a:cubicBezTo>
                      <a:cubicBezTo>
                        <a:pt x="89" y="4"/>
                        <a:pt x="86" y="6"/>
                        <a:pt x="83" y="7"/>
                      </a:cubicBezTo>
                      <a:cubicBezTo>
                        <a:pt x="83" y="7"/>
                        <a:pt x="83" y="7"/>
                        <a:pt x="83" y="7"/>
                      </a:cubicBezTo>
                      <a:cubicBezTo>
                        <a:pt x="88" y="7"/>
                        <a:pt x="99" y="7"/>
                        <a:pt x="99" y="11"/>
                      </a:cubicBezTo>
                      <a:cubicBezTo>
                        <a:pt x="98" y="15"/>
                        <a:pt x="98" y="16"/>
                        <a:pt x="96" y="21"/>
                      </a:cubicBezTo>
                      <a:cubicBezTo>
                        <a:pt x="94" y="25"/>
                        <a:pt x="93" y="28"/>
                        <a:pt x="91" y="31"/>
                      </a:cubicBezTo>
                      <a:cubicBezTo>
                        <a:pt x="89" y="37"/>
                        <a:pt x="86" y="43"/>
                        <a:pt x="83" y="49"/>
                      </a:cubicBezTo>
                      <a:cubicBezTo>
                        <a:pt x="78" y="57"/>
                        <a:pt x="73" y="68"/>
                        <a:pt x="63" y="72"/>
                      </a:cubicBezTo>
                      <a:cubicBezTo>
                        <a:pt x="54" y="75"/>
                        <a:pt x="54" y="65"/>
                        <a:pt x="48" y="62"/>
                      </a:cubicBezTo>
                      <a:cubicBezTo>
                        <a:pt x="47" y="63"/>
                        <a:pt x="47" y="63"/>
                        <a:pt x="47" y="64"/>
                      </a:cubicBezTo>
                      <a:cubicBezTo>
                        <a:pt x="46" y="65"/>
                        <a:pt x="46" y="66"/>
                        <a:pt x="45" y="67"/>
                      </a:cubicBezTo>
                      <a:cubicBezTo>
                        <a:pt x="45" y="66"/>
                        <a:pt x="45" y="66"/>
                        <a:pt x="45" y="66"/>
                      </a:cubicBezTo>
                      <a:cubicBezTo>
                        <a:pt x="45" y="67"/>
                        <a:pt x="44" y="68"/>
                        <a:pt x="45" y="68"/>
                      </a:cubicBezTo>
                      <a:cubicBezTo>
                        <a:pt x="49" y="75"/>
                        <a:pt x="46" y="86"/>
                        <a:pt x="44" y="95"/>
                      </a:cubicBezTo>
                      <a:cubicBezTo>
                        <a:pt x="45" y="99"/>
                        <a:pt x="46" y="104"/>
                        <a:pt x="46" y="108"/>
                      </a:cubicBezTo>
                      <a:cubicBezTo>
                        <a:pt x="48" y="119"/>
                        <a:pt x="50" y="131"/>
                        <a:pt x="48" y="142"/>
                      </a:cubicBezTo>
                      <a:cubicBezTo>
                        <a:pt x="49" y="147"/>
                        <a:pt x="48" y="153"/>
                        <a:pt x="43" y="156"/>
                      </a:cubicBezTo>
                      <a:cubicBezTo>
                        <a:pt x="38" y="158"/>
                        <a:pt x="29" y="161"/>
                        <a:pt x="22" y="160"/>
                      </a:cubicBezTo>
                      <a:cubicBezTo>
                        <a:pt x="23" y="159"/>
                        <a:pt x="23" y="159"/>
                        <a:pt x="23" y="159"/>
                      </a:cubicBezTo>
                      <a:cubicBezTo>
                        <a:pt x="22" y="159"/>
                        <a:pt x="21" y="158"/>
                        <a:pt x="20" y="158"/>
                      </a:cubicBezTo>
                      <a:cubicBezTo>
                        <a:pt x="19" y="158"/>
                        <a:pt x="19" y="158"/>
                        <a:pt x="18" y="158"/>
                      </a:cubicBezTo>
                      <a:cubicBezTo>
                        <a:pt x="17" y="158"/>
                        <a:pt x="16" y="157"/>
                        <a:pt x="16" y="156"/>
                      </a:cubicBezTo>
                      <a:cubicBezTo>
                        <a:pt x="15" y="154"/>
                        <a:pt x="14" y="152"/>
                        <a:pt x="14" y="149"/>
                      </a:cubicBezTo>
                      <a:cubicBezTo>
                        <a:pt x="8" y="133"/>
                        <a:pt x="15" y="113"/>
                        <a:pt x="22" y="98"/>
                      </a:cubicBezTo>
                      <a:cubicBezTo>
                        <a:pt x="22" y="98"/>
                        <a:pt x="22" y="97"/>
                        <a:pt x="21" y="97"/>
                      </a:cubicBezTo>
                      <a:cubicBezTo>
                        <a:pt x="20" y="98"/>
                        <a:pt x="20" y="99"/>
                        <a:pt x="20" y="100"/>
                      </a:cubicBezTo>
                      <a:cubicBezTo>
                        <a:pt x="14" y="116"/>
                        <a:pt x="10" y="133"/>
                        <a:pt x="7" y="145"/>
                      </a:cubicBezTo>
                      <a:cubicBezTo>
                        <a:pt x="5" y="150"/>
                        <a:pt x="4" y="154"/>
                        <a:pt x="4" y="158"/>
                      </a:cubicBezTo>
                      <a:cubicBezTo>
                        <a:pt x="4" y="158"/>
                        <a:pt x="4" y="158"/>
                        <a:pt x="4" y="158"/>
                      </a:cubicBezTo>
                      <a:cubicBezTo>
                        <a:pt x="3" y="166"/>
                        <a:pt x="4" y="170"/>
                        <a:pt x="4" y="172"/>
                      </a:cubicBezTo>
                      <a:cubicBezTo>
                        <a:pt x="4" y="172"/>
                        <a:pt x="4" y="172"/>
                        <a:pt x="4" y="172"/>
                      </a:cubicBezTo>
                      <a:cubicBezTo>
                        <a:pt x="5" y="173"/>
                        <a:pt x="5" y="173"/>
                        <a:pt x="5" y="173"/>
                      </a:cubicBezTo>
                      <a:cubicBezTo>
                        <a:pt x="0" y="185"/>
                        <a:pt x="0" y="185"/>
                        <a:pt x="0" y="185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cubicBezTo>
                        <a:pt x="61" y="202"/>
                        <a:pt x="61" y="202"/>
                        <a:pt x="61" y="202"/>
                      </a:cubicBezTo>
                      <a:cubicBezTo>
                        <a:pt x="61" y="202"/>
                        <a:pt x="105" y="189"/>
                        <a:pt x="116" y="132"/>
                      </a:cubicBezTo>
                      <a:cubicBezTo>
                        <a:pt x="122" y="103"/>
                        <a:pt x="132" y="82"/>
                        <a:pt x="140" y="67"/>
                      </a:cubicBezTo>
                      <a:cubicBezTo>
                        <a:pt x="142" y="60"/>
                        <a:pt x="145" y="54"/>
                        <a:pt x="147" y="47"/>
                      </a:cubicBezTo>
                      <a:close/>
                      <a:moveTo>
                        <a:pt x="102" y="139"/>
                      </a:moveTo>
                      <a:cubicBezTo>
                        <a:pt x="101" y="145"/>
                        <a:pt x="99" y="151"/>
                        <a:pt x="97" y="157"/>
                      </a:cubicBezTo>
                      <a:cubicBezTo>
                        <a:pt x="96" y="161"/>
                        <a:pt x="95" y="167"/>
                        <a:pt x="92" y="171"/>
                      </a:cubicBezTo>
                      <a:cubicBezTo>
                        <a:pt x="78" y="191"/>
                        <a:pt x="52" y="178"/>
                        <a:pt x="55" y="155"/>
                      </a:cubicBezTo>
                      <a:cubicBezTo>
                        <a:pt x="55" y="152"/>
                        <a:pt x="56" y="150"/>
                        <a:pt x="58" y="148"/>
                      </a:cubicBezTo>
                      <a:cubicBezTo>
                        <a:pt x="55" y="139"/>
                        <a:pt x="53" y="130"/>
                        <a:pt x="52" y="121"/>
                      </a:cubicBezTo>
                      <a:cubicBezTo>
                        <a:pt x="50" y="112"/>
                        <a:pt x="48" y="101"/>
                        <a:pt x="55" y="94"/>
                      </a:cubicBezTo>
                      <a:cubicBezTo>
                        <a:pt x="60" y="88"/>
                        <a:pt x="69" y="88"/>
                        <a:pt x="75" y="92"/>
                      </a:cubicBezTo>
                      <a:cubicBezTo>
                        <a:pt x="81" y="95"/>
                        <a:pt x="82" y="103"/>
                        <a:pt x="87" y="107"/>
                      </a:cubicBezTo>
                      <a:cubicBezTo>
                        <a:pt x="90" y="109"/>
                        <a:pt x="94" y="109"/>
                        <a:pt x="97" y="111"/>
                      </a:cubicBezTo>
                      <a:cubicBezTo>
                        <a:pt x="104" y="118"/>
                        <a:pt x="102" y="131"/>
                        <a:pt x="102" y="139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Freeform 10"/>
                <p:cNvSpPr/>
                <p:nvPr/>
              </p:nvSpPr>
              <p:spPr>
                <a:xfrm rot="10954800">
                  <a:off x="1652760" y="2711880"/>
                  <a:ext cx="705600" cy="793080"/>
                </a:xfrm>
                <a:custGeom>
                  <a:avLst/>
                  <a:gdLst/>
                  <a:ahLst/>
                  <a:rect l="l" t="t" r="r" b="b"/>
                  <a:pathLst>
                    <a:path w="368" h="417">
                      <a:moveTo>
                        <a:pt x="313" y="0"/>
                      </a:moveTo>
                      <a:cubicBezTo>
                        <a:pt x="80" y="324"/>
                        <a:pt x="80" y="324"/>
                        <a:pt x="80" y="324"/>
                      </a:cubicBezTo>
                      <a:cubicBezTo>
                        <a:pt x="80" y="324"/>
                        <a:pt x="58" y="356"/>
                        <a:pt x="0" y="356"/>
                      </a:cubicBezTo>
                      <a:cubicBezTo>
                        <a:pt x="1" y="358"/>
                        <a:pt x="2" y="360"/>
                        <a:pt x="2" y="363"/>
                      </a:cubicBezTo>
                      <a:cubicBezTo>
                        <a:pt x="16" y="360"/>
                        <a:pt x="30" y="360"/>
                        <a:pt x="44" y="362"/>
                      </a:cubicBezTo>
                      <a:cubicBezTo>
                        <a:pt x="44" y="362"/>
                        <a:pt x="44" y="362"/>
                        <a:pt x="44" y="362"/>
                      </a:cubicBezTo>
                      <a:cubicBezTo>
                        <a:pt x="50" y="359"/>
                        <a:pt x="57" y="357"/>
                        <a:pt x="64" y="356"/>
                      </a:cubicBezTo>
                      <a:cubicBezTo>
                        <a:pt x="90" y="355"/>
                        <a:pt x="108" y="371"/>
                        <a:pt x="116" y="393"/>
                      </a:cubicBezTo>
                      <a:cubicBezTo>
                        <a:pt x="118" y="398"/>
                        <a:pt x="118" y="403"/>
                        <a:pt x="119" y="408"/>
                      </a:cubicBezTo>
                      <a:cubicBezTo>
                        <a:pt x="119" y="408"/>
                        <a:pt x="119" y="408"/>
                        <a:pt x="119" y="408"/>
                      </a:cubicBezTo>
                      <a:cubicBezTo>
                        <a:pt x="120" y="410"/>
                        <a:pt x="120" y="415"/>
                        <a:pt x="122" y="417"/>
                      </a:cubicBezTo>
                      <a:cubicBezTo>
                        <a:pt x="122" y="391"/>
                        <a:pt x="140" y="363"/>
                        <a:pt x="150" y="348"/>
                      </a:cubicBezTo>
                      <a:cubicBezTo>
                        <a:pt x="161" y="331"/>
                        <a:pt x="323" y="157"/>
                        <a:pt x="363" y="42"/>
                      </a:cubicBezTo>
                      <a:cubicBezTo>
                        <a:pt x="363" y="42"/>
                        <a:pt x="368" y="32"/>
                        <a:pt x="313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Freeform 11"/>
                <p:cNvSpPr/>
                <p:nvPr/>
              </p:nvSpPr>
              <p:spPr>
                <a:xfrm rot="10954800">
                  <a:off x="1660320" y="2695680"/>
                  <a:ext cx="699840" cy="754560"/>
                </a:xfrm>
                <a:custGeom>
                  <a:avLst/>
                  <a:gdLst/>
                  <a:ahLst/>
                  <a:rect l="l" t="t" r="r" b="b"/>
                  <a:pathLst>
                    <a:path w="365" h="397">
                      <a:moveTo>
                        <a:pt x="354" y="0"/>
                      </a:moveTo>
                      <a:cubicBezTo>
                        <a:pt x="322" y="62"/>
                        <a:pt x="292" y="131"/>
                        <a:pt x="244" y="185"/>
                      </a:cubicBezTo>
                      <a:cubicBezTo>
                        <a:pt x="228" y="203"/>
                        <a:pt x="211" y="220"/>
                        <a:pt x="194" y="237"/>
                      </a:cubicBezTo>
                      <a:cubicBezTo>
                        <a:pt x="185" y="246"/>
                        <a:pt x="177" y="255"/>
                        <a:pt x="169" y="263"/>
                      </a:cubicBezTo>
                      <a:cubicBezTo>
                        <a:pt x="162" y="271"/>
                        <a:pt x="157" y="280"/>
                        <a:pt x="148" y="287"/>
                      </a:cubicBezTo>
                      <a:cubicBezTo>
                        <a:pt x="140" y="295"/>
                        <a:pt x="124" y="277"/>
                        <a:pt x="113" y="280"/>
                      </a:cubicBezTo>
                      <a:cubicBezTo>
                        <a:pt x="100" y="284"/>
                        <a:pt x="88" y="287"/>
                        <a:pt x="74" y="290"/>
                      </a:cubicBezTo>
                      <a:cubicBezTo>
                        <a:pt x="63" y="293"/>
                        <a:pt x="52" y="314"/>
                        <a:pt x="42" y="319"/>
                      </a:cubicBezTo>
                      <a:cubicBezTo>
                        <a:pt x="42" y="320"/>
                        <a:pt x="43" y="320"/>
                        <a:pt x="43" y="321"/>
                      </a:cubicBezTo>
                      <a:cubicBezTo>
                        <a:pt x="29" y="323"/>
                        <a:pt x="15" y="325"/>
                        <a:pt x="0" y="327"/>
                      </a:cubicBezTo>
                      <a:cubicBezTo>
                        <a:pt x="1" y="329"/>
                        <a:pt x="2" y="331"/>
                        <a:pt x="2" y="334"/>
                      </a:cubicBezTo>
                      <a:cubicBezTo>
                        <a:pt x="16" y="331"/>
                        <a:pt x="30" y="331"/>
                        <a:pt x="44" y="333"/>
                      </a:cubicBezTo>
                      <a:cubicBezTo>
                        <a:pt x="44" y="333"/>
                        <a:pt x="44" y="333"/>
                        <a:pt x="44" y="333"/>
                      </a:cubicBezTo>
                      <a:cubicBezTo>
                        <a:pt x="50" y="330"/>
                        <a:pt x="57" y="328"/>
                        <a:pt x="64" y="327"/>
                      </a:cubicBezTo>
                      <a:cubicBezTo>
                        <a:pt x="74" y="327"/>
                        <a:pt x="83" y="329"/>
                        <a:pt x="91" y="334"/>
                      </a:cubicBezTo>
                      <a:cubicBezTo>
                        <a:pt x="94" y="335"/>
                        <a:pt x="96" y="337"/>
                        <a:pt x="98" y="339"/>
                      </a:cubicBezTo>
                      <a:cubicBezTo>
                        <a:pt x="106" y="345"/>
                        <a:pt x="112" y="354"/>
                        <a:pt x="116" y="364"/>
                      </a:cubicBezTo>
                      <a:cubicBezTo>
                        <a:pt x="118" y="369"/>
                        <a:pt x="118" y="374"/>
                        <a:pt x="119" y="379"/>
                      </a:cubicBezTo>
                      <a:cubicBezTo>
                        <a:pt x="119" y="379"/>
                        <a:pt x="118" y="378"/>
                        <a:pt x="118" y="378"/>
                      </a:cubicBezTo>
                      <a:cubicBezTo>
                        <a:pt x="119" y="380"/>
                        <a:pt x="119" y="395"/>
                        <a:pt x="120" y="397"/>
                      </a:cubicBezTo>
                      <a:cubicBezTo>
                        <a:pt x="121" y="391"/>
                        <a:pt x="126" y="355"/>
                        <a:pt x="150" y="319"/>
                      </a:cubicBezTo>
                      <a:cubicBezTo>
                        <a:pt x="161" y="302"/>
                        <a:pt x="323" y="128"/>
                        <a:pt x="363" y="13"/>
                      </a:cubicBezTo>
                      <a:cubicBezTo>
                        <a:pt x="363" y="13"/>
                        <a:pt x="365" y="9"/>
                        <a:pt x="354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Freeform 12"/>
                <p:cNvSpPr/>
                <p:nvPr/>
              </p:nvSpPr>
              <p:spPr>
                <a:xfrm rot="10954800">
                  <a:off x="1625760" y="3385800"/>
                  <a:ext cx="134280" cy="126000"/>
                </a:xfrm>
                <a:custGeom>
                  <a:avLst/>
                  <a:gdLst/>
                  <a:ahLst/>
                  <a:rect l="l" t="t" r="r" b="b"/>
                  <a:pathLst>
                    <a:path w="70" h="66">
                      <a:moveTo>
                        <a:pt x="69" y="37"/>
                      </a:moveTo>
                      <a:cubicBezTo>
                        <a:pt x="67" y="34"/>
                        <a:pt x="63" y="30"/>
                        <a:pt x="58" y="27"/>
                      </a:cubicBezTo>
                      <a:cubicBezTo>
                        <a:pt x="41" y="17"/>
                        <a:pt x="25" y="2"/>
                        <a:pt x="14" y="0"/>
                      </a:cubicBezTo>
                      <a:cubicBezTo>
                        <a:pt x="14" y="0"/>
                        <a:pt x="14" y="1"/>
                        <a:pt x="13" y="1"/>
                      </a:cubicBezTo>
                      <a:cubicBezTo>
                        <a:pt x="10" y="9"/>
                        <a:pt x="8" y="17"/>
                        <a:pt x="3" y="24"/>
                      </a:cubicBezTo>
                      <a:cubicBezTo>
                        <a:pt x="2" y="26"/>
                        <a:pt x="1" y="28"/>
                        <a:pt x="0" y="30"/>
                      </a:cubicBezTo>
                      <a:cubicBezTo>
                        <a:pt x="11" y="35"/>
                        <a:pt x="39" y="50"/>
                        <a:pt x="48" y="66"/>
                      </a:cubicBezTo>
                      <a:cubicBezTo>
                        <a:pt x="50" y="63"/>
                        <a:pt x="56" y="53"/>
                        <a:pt x="59" y="50"/>
                      </a:cubicBezTo>
                      <a:cubicBezTo>
                        <a:pt x="61" y="48"/>
                        <a:pt x="63" y="45"/>
                        <a:pt x="65" y="42"/>
                      </a:cubicBezTo>
                      <a:cubicBezTo>
                        <a:pt x="66" y="41"/>
                        <a:pt x="70" y="34"/>
                        <a:pt x="68" y="39"/>
                      </a:cubicBezTo>
                      <a:cubicBezTo>
                        <a:pt x="68" y="38"/>
                        <a:pt x="69" y="38"/>
                        <a:pt x="69" y="37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Freeform 13"/>
                <p:cNvSpPr/>
                <p:nvPr/>
              </p:nvSpPr>
              <p:spPr>
                <a:xfrm rot="10954800">
                  <a:off x="1615320" y="3399840"/>
                  <a:ext cx="155520" cy="147960"/>
                </a:xfrm>
                <a:custGeom>
                  <a:avLst/>
                  <a:gdLst/>
                  <a:ahLst/>
                  <a:rect l="l" t="t" r="r" b="b"/>
                  <a:pathLst>
                    <a:path w="81" h="78">
                      <a:moveTo>
                        <a:pt x="65" y="77"/>
                      </a:moveTo>
                      <a:cubicBezTo>
                        <a:pt x="65" y="77"/>
                        <a:pt x="69" y="78"/>
                        <a:pt x="74" y="71"/>
                      </a:cubicBezTo>
                      <a:cubicBezTo>
                        <a:pt x="77" y="66"/>
                        <a:pt x="81" y="55"/>
                        <a:pt x="78" y="52"/>
                      </a:cubicBezTo>
                      <a:cubicBezTo>
                        <a:pt x="76" y="49"/>
                        <a:pt x="72" y="43"/>
                        <a:pt x="64" y="38"/>
                      </a:cubicBezTo>
                      <a:cubicBezTo>
                        <a:pt x="41" y="24"/>
                        <a:pt x="18" y="0"/>
                        <a:pt x="10" y="15"/>
                      </a:cubicBezTo>
                      <a:cubicBezTo>
                        <a:pt x="2" y="30"/>
                        <a:pt x="0" y="38"/>
                        <a:pt x="0" y="38"/>
                      </a:cubicBezTo>
                      <a:cubicBezTo>
                        <a:pt x="0" y="38"/>
                        <a:pt x="50" y="57"/>
                        <a:pt x="65" y="77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8" name="组合 30"/>
            <p:cNvGrpSpPr/>
            <p:nvPr/>
          </p:nvGrpSpPr>
          <p:grpSpPr>
            <a:xfrm>
              <a:off x="1475640" y="1181160"/>
              <a:ext cx="1324440" cy="2890440"/>
              <a:chOff x="1475640" y="1181160"/>
              <a:chExt cx="1324440" cy="2890440"/>
            </a:xfrm>
          </p:grpSpPr>
          <p:sp>
            <p:nvSpPr>
              <p:cNvPr id="129" name="Freeform 14"/>
              <p:cNvSpPr/>
              <p:nvPr/>
            </p:nvSpPr>
            <p:spPr>
              <a:xfrm>
                <a:off x="2036160" y="3201480"/>
                <a:ext cx="436320" cy="83016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11" y="0"/>
                    </a:moveTo>
                    <a:cubicBezTo>
                      <a:pt x="11" y="0"/>
                      <a:pt x="0" y="108"/>
                      <a:pt x="61" y="120"/>
                    </a:cubicBezTo>
                    <a:cubicBezTo>
                      <a:pt x="58" y="418"/>
                      <a:pt x="58" y="418"/>
                      <a:pt x="58" y="418"/>
                    </a:cubicBezTo>
                    <a:cubicBezTo>
                      <a:pt x="105" y="437"/>
                      <a:pt x="105" y="437"/>
                      <a:pt x="105" y="437"/>
                    </a:cubicBezTo>
                    <a:cubicBezTo>
                      <a:pt x="103" y="132"/>
                      <a:pt x="103" y="132"/>
                      <a:pt x="103" y="132"/>
                    </a:cubicBezTo>
                    <a:cubicBezTo>
                      <a:pt x="103" y="132"/>
                      <a:pt x="124" y="135"/>
                      <a:pt x="134" y="130"/>
                    </a:cubicBezTo>
                    <a:cubicBezTo>
                      <a:pt x="155" y="427"/>
                      <a:pt x="155" y="427"/>
                      <a:pt x="155" y="427"/>
                    </a:cubicBezTo>
                    <a:cubicBezTo>
                      <a:pt x="188" y="402"/>
                      <a:pt x="188" y="402"/>
                      <a:pt x="188" y="402"/>
                    </a:cubicBezTo>
                    <a:cubicBezTo>
                      <a:pt x="210" y="381"/>
                      <a:pt x="210" y="381"/>
                      <a:pt x="210" y="381"/>
                    </a:cubicBezTo>
                    <a:cubicBezTo>
                      <a:pt x="174" y="124"/>
                      <a:pt x="174" y="124"/>
                      <a:pt x="174" y="124"/>
                    </a:cubicBezTo>
                    <a:cubicBezTo>
                      <a:pt x="174" y="124"/>
                      <a:pt x="228" y="93"/>
                      <a:pt x="210" y="0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46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2063160" y="3204720"/>
                <a:ext cx="409680" cy="826920"/>
              </a:xfrm>
              <a:custGeom>
                <a:avLst/>
                <a:gdLst/>
                <a:ahLst/>
                <a:rect l="l" t="t" r="r" b="b"/>
                <a:pathLst>
                  <a:path w="214" h="436">
                    <a:moveTo>
                      <a:pt x="142" y="153"/>
                    </a:moveTo>
                    <a:cubicBezTo>
                      <a:pt x="142" y="140"/>
                      <a:pt x="151" y="133"/>
                      <a:pt x="161" y="131"/>
                    </a:cubicBezTo>
                    <a:cubicBezTo>
                      <a:pt x="160" y="123"/>
                      <a:pt x="160" y="123"/>
                      <a:pt x="160" y="123"/>
                    </a:cubicBezTo>
                    <a:cubicBezTo>
                      <a:pt x="160" y="123"/>
                      <a:pt x="214" y="93"/>
                      <a:pt x="196" y="0"/>
                    </a:cubicBezTo>
                    <a:cubicBezTo>
                      <a:pt x="196" y="2"/>
                      <a:pt x="196" y="3"/>
                      <a:pt x="196" y="5"/>
                    </a:cubicBezTo>
                    <a:cubicBezTo>
                      <a:pt x="196" y="63"/>
                      <a:pt x="147" y="110"/>
                      <a:pt x="90" y="110"/>
                    </a:cubicBezTo>
                    <a:cubicBezTo>
                      <a:pt x="58" y="109"/>
                      <a:pt x="29" y="94"/>
                      <a:pt x="9" y="71"/>
                    </a:cubicBezTo>
                    <a:cubicBezTo>
                      <a:pt x="6" y="68"/>
                      <a:pt x="3" y="65"/>
                      <a:pt x="0" y="62"/>
                    </a:cubicBezTo>
                    <a:cubicBezTo>
                      <a:pt x="6" y="88"/>
                      <a:pt x="19" y="113"/>
                      <a:pt x="47" y="119"/>
                    </a:cubicBezTo>
                    <a:cubicBezTo>
                      <a:pt x="47" y="128"/>
                      <a:pt x="47" y="128"/>
                      <a:pt x="47" y="128"/>
                    </a:cubicBezTo>
                    <a:cubicBezTo>
                      <a:pt x="56" y="129"/>
                      <a:pt x="65" y="135"/>
                      <a:pt x="65" y="147"/>
                    </a:cubicBezTo>
                    <a:cubicBezTo>
                      <a:pt x="66" y="149"/>
                      <a:pt x="67" y="152"/>
                      <a:pt x="67" y="155"/>
                    </a:cubicBezTo>
                    <a:cubicBezTo>
                      <a:pt x="68" y="158"/>
                      <a:pt x="69" y="161"/>
                      <a:pt x="69" y="165"/>
                    </a:cubicBezTo>
                    <a:cubicBezTo>
                      <a:pt x="68" y="252"/>
                      <a:pt x="68" y="339"/>
                      <a:pt x="68" y="427"/>
                    </a:cubicBezTo>
                    <a:cubicBezTo>
                      <a:pt x="91" y="436"/>
                      <a:pt x="91" y="436"/>
                      <a:pt x="91" y="436"/>
                    </a:cubicBezTo>
                    <a:cubicBezTo>
                      <a:pt x="89" y="131"/>
                      <a:pt x="89" y="131"/>
                      <a:pt x="89" y="131"/>
                    </a:cubicBezTo>
                    <a:cubicBezTo>
                      <a:pt x="89" y="131"/>
                      <a:pt x="110" y="134"/>
                      <a:pt x="120" y="129"/>
                    </a:cubicBezTo>
                    <a:cubicBezTo>
                      <a:pt x="141" y="426"/>
                      <a:pt x="141" y="426"/>
                      <a:pt x="141" y="426"/>
                    </a:cubicBezTo>
                    <a:cubicBezTo>
                      <a:pt x="169" y="404"/>
                      <a:pt x="169" y="404"/>
                      <a:pt x="169" y="404"/>
                    </a:cubicBezTo>
                    <a:cubicBezTo>
                      <a:pt x="168" y="401"/>
                      <a:pt x="167" y="398"/>
                      <a:pt x="167" y="394"/>
                    </a:cubicBezTo>
                    <a:cubicBezTo>
                      <a:pt x="162" y="313"/>
                      <a:pt x="138" y="235"/>
                      <a:pt x="142" y="153"/>
                    </a:cubicBezTo>
                    <a:close/>
                  </a:path>
                </a:pathLst>
              </a:custGeom>
              <a:solidFill>
                <a:srgbClr val="1b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2055600" y="3158640"/>
                <a:ext cx="385560" cy="108000"/>
              </a:xfrm>
              <a:custGeom>
                <a:avLst/>
                <a:gdLst/>
                <a:ahLst/>
                <a:rect l="l" t="t" r="r" b="b"/>
                <a:pathLst>
                  <a:path w="201" h="57">
                    <a:moveTo>
                      <a:pt x="1" y="19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34" y="28"/>
                      <a:pt x="68" y="30"/>
                    </a:cubicBezTo>
                    <a:cubicBezTo>
                      <a:pt x="81" y="30"/>
                      <a:pt x="88" y="56"/>
                      <a:pt x="102" y="56"/>
                    </a:cubicBezTo>
                    <a:cubicBezTo>
                      <a:pt x="117" y="57"/>
                      <a:pt x="119" y="30"/>
                      <a:pt x="132" y="30"/>
                    </a:cubicBezTo>
                    <a:cubicBezTo>
                      <a:pt x="156" y="28"/>
                      <a:pt x="190" y="33"/>
                      <a:pt x="201" y="28"/>
                    </a:cubicBezTo>
                    <a:cubicBezTo>
                      <a:pt x="200" y="18"/>
                      <a:pt x="200" y="18"/>
                      <a:pt x="200" y="18"/>
                    </a:cubicBezTo>
                    <a:cubicBezTo>
                      <a:pt x="200" y="18"/>
                      <a:pt x="87" y="0"/>
                      <a:pt x="1" y="19"/>
                    </a:cubicBezTo>
                    <a:close/>
                  </a:path>
                </a:pathLst>
              </a:custGeom>
              <a:solidFill>
                <a:srgbClr val="1b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1920960" y="2571480"/>
                <a:ext cx="153720" cy="548280"/>
              </a:xfrm>
              <a:custGeom>
                <a:avLst/>
                <a:gdLst/>
                <a:ahLst/>
                <a:rect l="l" t="t" r="r" b="b"/>
                <a:pathLst>
                  <a:path w="80" h="289">
                    <a:moveTo>
                      <a:pt x="80" y="32"/>
                    </a:moveTo>
                    <a:cubicBezTo>
                      <a:pt x="80" y="32"/>
                      <a:pt x="53" y="0"/>
                      <a:pt x="33" y="42"/>
                    </a:cubicBezTo>
                    <a:cubicBezTo>
                      <a:pt x="12" y="84"/>
                      <a:pt x="2" y="161"/>
                      <a:pt x="1" y="194"/>
                    </a:cubicBezTo>
                    <a:cubicBezTo>
                      <a:pt x="0" y="226"/>
                      <a:pt x="46" y="289"/>
                      <a:pt x="74" y="282"/>
                    </a:cubicBezTo>
                    <a:lnTo>
                      <a:pt x="80" y="32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1920960" y="2571480"/>
                <a:ext cx="153720" cy="548280"/>
              </a:xfrm>
              <a:custGeom>
                <a:avLst/>
                <a:gdLst/>
                <a:ahLst/>
                <a:rect l="l" t="t" r="r" b="b"/>
                <a:pathLst>
                  <a:path w="80" h="289">
                    <a:moveTo>
                      <a:pt x="33" y="42"/>
                    </a:moveTo>
                    <a:cubicBezTo>
                      <a:pt x="33" y="42"/>
                      <a:pt x="32" y="43"/>
                      <a:pt x="32" y="43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44" y="26"/>
                      <a:pt x="61" y="42"/>
                      <a:pt x="59" y="63"/>
                    </a:cubicBezTo>
                    <a:cubicBezTo>
                      <a:pt x="58" y="78"/>
                      <a:pt x="58" y="93"/>
                      <a:pt x="55" y="107"/>
                    </a:cubicBezTo>
                    <a:cubicBezTo>
                      <a:pt x="53" y="120"/>
                      <a:pt x="51" y="133"/>
                      <a:pt x="51" y="147"/>
                    </a:cubicBezTo>
                    <a:cubicBezTo>
                      <a:pt x="51" y="157"/>
                      <a:pt x="55" y="166"/>
                      <a:pt x="49" y="176"/>
                    </a:cubicBezTo>
                    <a:cubicBezTo>
                      <a:pt x="46" y="180"/>
                      <a:pt x="39" y="181"/>
                      <a:pt x="34" y="184"/>
                    </a:cubicBezTo>
                    <a:cubicBezTo>
                      <a:pt x="43" y="192"/>
                      <a:pt x="51" y="199"/>
                      <a:pt x="55" y="211"/>
                    </a:cubicBezTo>
                    <a:cubicBezTo>
                      <a:pt x="57" y="218"/>
                      <a:pt x="60" y="256"/>
                      <a:pt x="55" y="263"/>
                    </a:cubicBezTo>
                    <a:cubicBezTo>
                      <a:pt x="50" y="270"/>
                      <a:pt x="38" y="252"/>
                      <a:pt x="32" y="247"/>
                    </a:cubicBezTo>
                    <a:cubicBezTo>
                      <a:pt x="27" y="242"/>
                      <a:pt x="23" y="235"/>
                      <a:pt x="20" y="229"/>
                    </a:cubicBezTo>
                    <a:cubicBezTo>
                      <a:pt x="17" y="221"/>
                      <a:pt x="13" y="213"/>
                      <a:pt x="10" y="205"/>
                    </a:cubicBezTo>
                    <a:cubicBezTo>
                      <a:pt x="8" y="199"/>
                      <a:pt x="1" y="173"/>
                      <a:pt x="1" y="194"/>
                    </a:cubicBezTo>
                    <a:cubicBezTo>
                      <a:pt x="0" y="226"/>
                      <a:pt x="46" y="289"/>
                      <a:pt x="74" y="282"/>
                    </a:cubicBezTo>
                    <a:cubicBezTo>
                      <a:pt x="80" y="32"/>
                      <a:pt x="80" y="32"/>
                      <a:pt x="80" y="32"/>
                    </a:cubicBezTo>
                    <a:cubicBezTo>
                      <a:pt x="80" y="32"/>
                      <a:pt x="53" y="0"/>
                      <a:pt x="33" y="42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2012400" y="2601000"/>
                <a:ext cx="457200" cy="600120"/>
              </a:xfrm>
              <a:custGeom>
                <a:avLst/>
                <a:gdLst/>
                <a:ahLst/>
                <a:rect l="l" t="t" r="r" b="b"/>
                <a:pathLst>
                  <a:path w="238" h="316">
                    <a:moveTo>
                      <a:pt x="25" y="16"/>
                    </a:moveTo>
                    <a:cubicBezTo>
                      <a:pt x="25" y="16"/>
                      <a:pt x="59" y="0"/>
                      <a:pt x="179" y="4"/>
                    </a:cubicBezTo>
                    <a:cubicBezTo>
                      <a:pt x="179" y="4"/>
                      <a:pt x="194" y="8"/>
                      <a:pt x="198" y="26"/>
                    </a:cubicBezTo>
                    <a:cubicBezTo>
                      <a:pt x="201" y="37"/>
                      <a:pt x="206" y="131"/>
                      <a:pt x="226" y="220"/>
                    </a:cubicBezTo>
                    <a:cubicBezTo>
                      <a:pt x="238" y="276"/>
                      <a:pt x="222" y="316"/>
                      <a:pt x="222" y="316"/>
                    </a:cubicBezTo>
                    <a:cubicBezTo>
                      <a:pt x="23" y="316"/>
                      <a:pt x="23" y="316"/>
                      <a:pt x="23" y="316"/>
                    </a:cubicBezTo>
                    <a:cubicBezTo>
                      <a:pt x="23" y="316"/>
                      <a:pt x="0" y="47"/>
                      <a:pt x="25" y="16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2321640" y="2607120"/>
                <a:ext cx="129960" cy="456480"/>
              </a:xfrm>
              <a:custGeom>
                <a:avLst/>
                <a:gdLst/>
                <a:ahLst/>
                <a:rect l="l" t="t" r="r" b="b"/>
                <a:pathLst>
                  <a:path w="68" h="240">
                    <a:moveTo>
                      <a:pt x="65" y="217"/>
                    </a:moveTo>
                    <a:cubicBezTo>
                      <a:pt x="45" y="128"/>
                      <a:pt x="41" y="34"/>
                      <a:pt x="38" y="23"/>
                    </a:cubicBezTo>
                    <a:cubicBezTo>
                      <a:pt x="34" y="4"/>
                      <a:pt x="18" y="1"/>
                      <a:pt x="18" y="1"/>
                    </a:cubicBezTo>
                    <a:cubicBezTo>
                      <a:pt x="11" y="1"/>
                      <a:pt x="6" y="0"/>
                      <a:pt x="0" y="0"/>
                    </a:cubicBezTo>
                    <a:cubicBezTo>
                      <a:pt x="1" y="7"/>
                      <a:pt x="3" y="14"/>
                      <a:pt x="4" y="22"/>
                    </a:cubicBezTo>
                    <a:cubicBezTo>
                      <a:pt x="4" y="20"/>
                      <a:pt x="19" y="31"/>
                      <a:pt x="21" y="33"/>
                    </a:cubicBezTo>
                    <a:cubicBezTo>
                      <a:pt x="25" y="39"/>
                      <a:pt x="27" y="46"/>
                      <a:pt x="29" y="53"/>
                    </a:cubicBezTo>
                    <a:cubicBezTo>
                      <a:pt x="32" y="68"/>
                      <a:pt x="30" y="84"/>
                      <a:pt x="33" y="99"/>
                    </a:cubicBezTo>
                    <a:cubicBezTo>
                      <a:pt x="42" y="139"/>
                      <a:pt x="46" y="178"/>
                      <a:pt x="61" y="218"/>
                    </a:cubicBezTo>
                    <a:cubicBezTo>
                      <a:pt x="63" y="225"/>
                      <a:pt x="66" y="233"/>
                      <a:pt x="68" y="240"/>
                    </a:cubicBezTo>
                    <a:cubicBezTo>
                      <a:pt x="68" y="233"/>
                      <a:pt x="66" y="225"/>
                      <a:pt x="65" y="217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1849320" y="3864240"/>
                <a:ext cx="411120" cy="207360"/>
              </a:xfrm>
              <a:custGeom>
                <a:avLst/>
                <a:gdLst/>
                <a:ahLst/>
                <a:rect l="l" t="t" r="r" b="b"/>
                <a:pathLst>
                  <a:path w="214" h="109">
                    <a:moveTo>
                      <a:pt x="23" y="108"/>
                    </a:moveTo>
                    <a:cubicBezTo>
                      <a:pt x="23" y="108"/>
                      <a:pt x="161" y="109"/>
                      <a:pt x="206" y="95"/>
                    </a:cubicBezTo>
                    <a:cubicBezTo>
                      <a:pt x="206" y="95"/>
                      <a:pt x="214" y="5"/>
                      <a:pt x="107" y="2"/>
                    </a:cubicBezTo>
                    <a:cubicBezTo>
                      <a:pt x="0" y="0"/>
                      <a:pt x="4" y="101"/>
                      <a:pt x="23" y="108"/>
                    </a:cubicBezTo>
                    <a:close/>
                  </a:path>
                </a:pathLst>
              </a:custGeom>
              <a:solidFill>
                <a:srgbClr val="2a28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1880640" y="3867120"/>
                <a:ext cx="327240" cy="177840"/>
              </a:xfrm>
              <a:custGeom>
                <a:avLst/>
                <a:gdLst/>
                <a:ahLst/>
                <a:rect l="l" t="t" r="r" b="b"/>
                <a:pathLst>
                  <a:path w="171" h="94">
                    <a:moveTo>
                      <a:pt x="171" y="33"/>
                    </a:moveTo>
                    <a:cubicBezTo>
                      <a:pt x="157" y="16"/>
                      <a:pt x="132" y="2"/>
                      <a:pt x="91" y="1"/>
                    </a:cubicBezTo>
                    <a:cubicBezTo>
                      <a:pt x="35" y="0"/>
                      <a:pt x="10" y="27"/>
                      <a:pt x="0" y="54"/>
                    </a:cubicBezTo>
                    <a:cubicBezTo>
                      <a:pt x="31" y="94"/>
                      <a:pt x="157" y="87"/>
                      <a:pt x="171" y="33"/>
                    </a:cubicBezTo>
                    <a:close/>
                  </a:path>
                </a:pathLst>
              </a:custGeom>
              <a:solidFill>
                <a:srgbClr val="353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1954080" y="3907080"/>
                <a:ext cx="53640" cy="280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7"/>
                    </a:moveTo>
                    <a:cubicBezTo>
                      <a:pt x="28" y="12"/>
                      <a:pt x="22" y="15"/>
                      <a:pt x="14" y="15"/>
                    </a:cubicBezTo>
                    <a:cubicBezTo>
                      <a:pt x="6" y="15"/>
                      <a:pt x="0" y="11"/>
                      <a:pt x="0" y="7"/>
                    </a:cubicBezTo>
                    <a:cubicBezTo>
                      <a:pt x="0" y="3"/>
                      <a:pt x="7" y="0"/>
                      <a:pt x="14" y="0"/>
                    </a:cubicBezTo>
                    <a:cubicBezTo>
                      <a:pt x="22" y="0"/>
                      <a:pt x="28" y="3"/>
                      <a:pt x="28" y="7"/>
                    </a:cubicBezTo>
                    <a:close/>
                  </a:path>
                </a:pathLst>
              </a:custGeom>
              <a:solidFill>
                <a:srgbClr val="484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2309760" y="3864240"/>
                <a:ext cx="412560" cy="207360"/>
              </a:xfrm>
              <a:custGeom>
                <a:avLst/>
                <a:gdLst/>
                <a:ahLst/>
                <a:rect l="l" t="t" r="r" b="b"/>
                <a:pathLst>
                  <a:path w="215" h="109">
                    <a:moveTo>
                      <a:pt x="192" y="108"/>
                    </a:moveTo>
                    <a:cubicBezTo>
                      <a:pt x="192" y="108"/>
                      <a:pt x="53" y="109"/>
                      <a:pt x="9" y="95"/>
                    </a:cubicBezTo>
                    <a:cubicBezTo>
                      <a:pt x="9" y="95"/>
                      <a:pt x="0" y="5"/>
                      <a:pt x="107" y="2"/>
                    </a:cubicBezTo>
                    <a:cubicBezTo>
                      <a:pt x="215" y="0"/>
                      <a:pt x="211" y="101"/>
                      <a:pt x="192" y="108"/>
                    </a:cubicBezTo>
                    <a:close/>
                  </a:path>
                </a:pathLst>
              </a:custGeom>
              <a:solidFill>
                <a:srgbClr val="2a28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2363760" y="3867120"/>
                <a:ext cx="325800" cy="177840"/>
              </a:xfrm>
              <a:custGeom>
                <a:avLst/>
                <a:gdLst/>
                <a:ahLst/>
                <a:rect l="l" t="t" r="r" b="b"/>
                <a:pathLst>
                  <a:path w="170" h="94">
                    <a:moveTo>
                      <a:pt x="0" y="33"/>
                    </a:moveTo>
                    <a:cubicBezTo>
                      <a:pt x="14" y="16"/>
                      <a:pt x="38" y="2"/>
                      <a:pt x="79" y="1"/>
                    </a:cubicBezTo>
                    <a:cubicBezTo>
                      <a:pt x="135" y="0"/>
                      <a:pt x="161" y="27"/>
                      <a:pt x="170" y="54"/>
                    </a:cubicBezTo>
                    <a:cubicBezTo>
                      <a:pt x="140" y="94"/>
                      <a:pt x="13" y="87"/>
                      <a:pt x="0" y="33"/>
                    </a:cubicBezTo>
                    <a:close/>
                  </a:path>
                </a:pathLst>
              </a:custGeom>
              <a:solidFill>
                <a:srgbClr val="353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2563920" y="3907080"/>
                <a:ext cx="53640" cy="280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7"/>
                    </a:moveTo>
                    <a:cubicBezTo>
                      <a:pt x="0" y="12"/>
                      <a:pt x="6" y="15"/>
                      <a:pt x="14" y="15"/>
                    </a:cubicBezTo>
                    <a:cubicBezTo>
                      <a:pt x="22" y="15"/>
                      <a:pt x="28" y="11"/>
                      <a:pt x="28" y="7"/>
                    </a:cubicBezTo>
                    <a:cubicBezTo>
                      <a:pt x="28" y="3"/>
                      <a:pt x="22" y="0"/>
                      <a:pt x="14" y="0"/>
                    </a:cubicBezTo>
                    <a:cubicBezTo>
                      <a:pt x="6" y="0"/>
                      <a:pt x="0" y="3"/>
                      <a:pt x="0" y="7"/>
                    </a:cubicBezTo>
                    <a:close/>
                  </a:path>
                </a:pathLst>
              </a:custGeom>
              <a:solidFill>
                <a:srgbClr val="484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2045160" y="2518200"/>
                <a:ext cx="149400" cy="162720"/>
              </a:xfrm>
              <a:custGeom>
                <a:avLst/>
                <a:gdLst/>
                <a:ahLst/>
                <a:rect l="l" t="t" r="r" b="b"/>
                <a:pathLst>
                  <a:path w="78" h="86">
                    <a:moveTo>
                      <a:pt x="7" y="0"/>
                    </a:moveTo>
                    <a:cubicBezTo>
                      <a:pt x="7" y="0"/>
                      <a:pt x="0" y="51"/>
                      <a:pt x="4" y="60"/>
                    </a:cubicBezTo>
                    <a:cubicBezTo>
                      <a:pt x="7" y="70"/>
                      <a:pt x="17" y="79"/>
                      <a:pt x="30" y="81"/>
                    </a:cubicBezTo>
                    <a:cubicBezTo>
                      <a:pt x="64" y="86"/>
                      <a:pt x="76" y="71"/>
                      <a:pt x="76" y="71"/>
                    </a:cubicBezTo>
                    <a:cubicBezTo>
                      <a:pt x="78" y="54"/>
                      <a:pt x="78" y="54"/>
                      <a:pt x="78" y="54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2037600" y="2495880"/>
                <a:ext cx="153720" cy="162720"/>
              </a:xfrm>
              <a:custGeom>
                <a:avLst/>
                <a:gdLst/>
                <a:ahLst/>
                <a:rect l="l" t="t" r="r" b="b"/>
                <a:pathLst>
                  <a:path w="80" h="86">
                    <a:moveTo>
                      <a:pt x="7" y="0"/>
                    </a:moveTo>
                    <a:cubicBezTo>
                      <a:pt x="7" y="0"/>
                      <a:pt x="0" y="51"/>
                      <a:pt x="3" y="60"/>
                    </a:cubicBezTo>
                    <a:cubicBezTo>
                      <a:pt x="7" y="70"/>
                      <a:pt x="17" y="79"/>
                      <a:pt x="30" y="81"/>
                    </a:cubicBezTo>
                    <a:cubicBezTo>
                      <a:pt x="63" y="86"/>
                      <a:pt x="74" y="82"/>
                      <a:pt x="74" y="82"/>
                    </a:cubicBezTo>
                    <a:cubicBezTo>
                      <a:pt x="80" y="48"/>
                      <a:pt x="80" y="48"/>
                      <a:pt x="80" y="48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2248560" y="2525400"/>
                <a:ext cx="149400" cy="127440"/>
              </a:xfrm>
              <a:custGeom>
                <a:avLst/>
                <a:gdLst/>
                <a:ahLst/>
                <a:rect l="l" t="t" r="r" b="b"/>
                <a:pathLst>
                  <a:path w="78" h="67">
                    <a:moveTo>
                      <a:pt x="78" y="0"/>
                    </a:moveTo>
                    <a:cubicBezTo>
                      <a:pt x="78" y="0"/>
                      <a:pt x="75" y="42"/>
                      <a:pt x="72" y="46"/>
                    </a:cubicBezTo>
                    <a:cubicBezTo>
                      <a:pt x="69" y="51"/>
                      <a:pt x="66" y="65"/>
                      <a:pt x="0" y="67"/>
                    </a:cubicBezTo>
                    <a:cubicBezTo>
                      <a:pt x="13" y="15"/>
                      <a:pt x="13" y="15"/>
                      <a:pt x="13" y="15"/>
                    </a:cubicBez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2259000" y="2509200"/>
                <a:ext cx="149400" cy="126000"/>
              </a:xfrm>
              <a:custGeom>
                <a:avLst/>
                <a:gdLst/>
                <a:ahLst/>
                <a:rect l="l" t="t" r="r" b="b"/>
                <a:pathLst>
                  <a:path w="78" h="67">
                    <a:moveTo>
                      <a:pt x="78" y="0"/>
                    </a:moveTo>
                    <a:cubicBezTo>
                      <a:pt x="78" y="0"/>
                      <a:pt x="75" y="42"/>
                      <a:pt x="72" y="46"/>
                    </a:cubicBezTo>
                    <a:cubicBezTo>
                      <a:pt x="69" y="51"/>
                      <a:pt x="66" y="65"/>
                      <a:pt x="0" y="67"/>
                    </a:cubicBezTo>
                    <a:cubicBezTo>
                      <a:pt x="12" y="15"/>
                      <a:pt x="12" y="15"/>
                      <a:pt x="12" y="15"/>
                    </a:cubicBez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2043720" y="2500200"/>
                <a:ext cx="161280" cy="134640"/>
              </a:xfrm>
              <a:custGeom>
                <a:avLst/>
                <a:gdLst/>
                <a:ahLst/>
                <a:rect l="l" t="t" r="r" b="b"/>
                <a:pathLst>
                  <a:path w="84" h="71">
                    <a:moveTo>
                      <a:pt x="3" y="16"/>
                    </a:moveTo>
                    <a:cubicBezTo>
                      <a:pt x="2" y="14"/>
                      <a:pt x="1" y="12"/>
                      <a:pt x="1" y="11"/>
                    </a:cubicBezTo>
                    <a:cubicBezTo>
                      <a:pt x="0" y="6"/>
                      <a:pt x="0" y="0"/>
                      <a:pt x="7" y="1"/>
                    </a:cubicBezTo>
                    <a:cubicBezTo>
                      <a:pt x="12" y="2"/>
                      <a:pt x="17" y="7"/>
                      <a:pt x="21" y="10"/>
                    </a:cubicBezTo>
                    <a:cubicBezTo>
                      <a:pt x="31" y="15"/>
                      <a:pt x="40" y="21"/>
                      <a:pt x="49" y="28"/>
                    </a:cubicBezTo>
                    <a:cubicBezTo>
                      <a:pt x="57" y="34"/>
                      <a:pt x="67" y="39"/>
                      <a:pt x="74" y="46"/>
                    </a:cubicBezTo>
                    <a:cubicBezTo>
                      <a:pt x="76" y="48"/>
                      <a:pt x="84" y="68"/>
                      <a:pt x="74" y="70"/>
                    </a:cubicBezTo>
                    <a:cubicBezTo>
                      <a:pt x="63" y="71"/>
                      <a:pt x="67" y="57"/>
                      <a:pt x="59" y="52"/>
                    </a:cubicBezTo>
                    <a:cubicBezTo>
                      <a:pt x="54" y="50"/>
                      <a:pt x="51" y="48"/>
                      <a:pt x="46" y="45"/>
                    </a:cubicBezTo>
                    <a:cubicBezTo>
                      <a:pt x="42" y="41"/>
                      <a:pt x="36" y="40"/>
                      <a:pt x="31" y="36"/>
                    </a:cubicBezTo>
                    <a:cubicBezTo>
                      <a:pt x="24" y="31"/>
                      <a:pt x="17" y="26"/>
                      <a:pt x="10" y="22"/>
                    </a:cubicBezTo>
                    <a:cubicBezTo>
                      <a:pt x="7" y="20"/>
                      <a:pt x="4" y="18"/>
                      <a:pt x="3" y="16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2260440" y="252252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70" y="3"/>
                    </a:moveTo>
                    <a:cubicBezTo>
                      <a:pt x="62" y="2"/>
                      <a:pt x="54" y="8"/>
                      <a:pt x="48" y="11"/>
                    </a:cubicBezTo>
                    <a:cubicBezTo>
                      <a:pt x="40" y="15"/>
                      <a:pt x="33" y="16"/>
                      <a:pt x="25" y="18"/>
                    </a:cubicBezTo>
                    <a:cubicBezTo>
                      <a:pt x="15" y="20"/>
                      <a:pt x="8" y="28"/>
                      <a:pt x="4" y="36"/>
                    </a:cubicBezTo>
                    <a:cubicBezTo>
                      <a:pt x="3" y="40"/>
                      <a:pt x="2" y="44"/>
                      <a:pt x="0" y="47"/>
                    </a:cubicBezTo>
                    <a:cubicBezTo>
                      <a:pt x="9" y="45"/>
                      <a:pt x="17" y="38"/>
                      <a:pt x="24" y="33"/>
                    </a:cubicBezTo>
                    <a:cubicBezTo>
                      <a:pt x="36" y="25"/>
                      <a:pt x="49" y="19"/>
                      <a:pt x="62" y="19"/>
                    </a:cubicBezTo>
                    <a:cubicBezTo>
                      <a:pt x="69" y="18"/>
                      <a:pt x="80" y="14"/>
                      <a:pt x="80" y="5"/>
                    </a:cubicBezTo>
                    <a:cubicBezTo>
                      <a:pt x="80" y="0"/>
                      <a:pt x="75" y="4"/>
                      <a:pt x="70" y="3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2106360" y="2633760"/>
                <a:ext cx="257040" cy="567720"/>
              </a:xfrm>
              <a:custGeom>
                <a:avLst/>
                <a:gdLst/>
                <a:ahLst/>
                <a:rect l="l" t="t" r="r" b="b"/>
                <a:pathLst>
                  <a:path w="172" h="383">
                    <a:moveTo>
                      <a:pt x="49" y="0"/>
                    </a:moveTo>
                    <a:lnTo>
                      <a:pt x="0" y="281"/>
                    </a:lnTo>
                    <a:lnTo>
                      <a:pt x="59" y="383"/>
                    </a:lnTo>
                    <a:lnTo>
                      <a:pt x="127" y="383"/>
                    </a:lnTo>
                    <a:lnTo>
                      <a:pt x="172" y="296"/>
                    </a:lnTo>
                    <a:lnTo>
                      <a:pt x="102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2125800" y="2633760"/>
                <a:ext cx="221040" cy="606240"/>
              </a:xfrm>
              <a:custGeom>
                <a:avLst/>
                <a:gdLst/>
                <a:ahLst/>
                <a:rect l="l" t="t" r="r" b="b"/>
                <a:pathLst>
                  <a:path w="115" h="319">
                    <a:moveTo>
                      <a:pt x="34" y="2"/>
                    </a:moveTo>
                    <a:cubicBezTo>
                      <a:pt x="34" y="2"/>
                      <a:pt x="11" y="116"/>
                      <a:pt x="0" y="222"/>
                    </a:cubicBezTo>
                    <a:cubicBezTo>
                      <a:pt x="64" y="319"/>
                      <a:pt x="64" y="319"/>
                      <a:pt x="64" y="319"/>
                    </a:cubicBezTo>
                    <a:cubicBezTo>
                      <a:pt x="115" y="232"/>
                      <a:pt x="115" y="232"/>
                      <a:pt x="115" y="232"/>
                    </a:cubicBezTo>
                    <a:cubicBezTo>
                      <a:pt x="115" y="232"/>
                      <a:pt x="96" y="108"/>
                      <a:pt x="57" y="0"/>
                    </a:cubicBez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a83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2221560" y="2633760"/>
                <a:ext cx="125280" cy="606240"/>
              </a:xfrm>
              <a:custGeom>
                <a:avLst/>
                <a:gdLst/>
                <a:ahLst/>
                <a:rect l="l" t="t" r="r" b="b"/>
                <a:pathLst>
                  <a:path w="65" h="319">
                    <a:moveTo>
                      <a:pt x="7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4" y="319"/>
                      <a:pt x="14" y="319"/>
                      <a:pt x="14" y="319"/>
                    </a:cubicBezTo>
                    <a:cubicBezTo>
                      <a:pt x="65" y="232"/>
                      <a:pt x="65" y="232"/>
                      <a:pt x="65" y="232"/>
                    </a:cubicBezTo>
                    <a:cubicBezTo>
                      <a:pt x="65" y="232"/>
                      <a:pt x="46" y="108"/>
                      <a:pt x="7" y="0"/>
                    </a:cubicBezTo>
                    <a:close/>
                  </a:path>
                </a:pathLst>
              </a:custGeom>
              <a:solidFill>
                <a:srgbClr val="9b2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2158920" y="2681280"/>
                <a:ext cx="110520" cy="142200"/>
              </a:xfrm>
              <a:custGeom>
                <a:avLst/>
                <a:gdLst/>
                <a:ahLst/>
                <a:rect l="l" t="t" r="r" b="b"/>
                <a:pathLst>
                  <a:path w="58" h="75">
                    <a:moveTo>
                      <a:pt x="49" y="0"/>
                    </a:moveTo>
                    <a:cubicBezTo>
                      <a:pt x="49" y="0"/>
                      <a:pt x="49" y="0"/>
                      <a:pt x="49" y="0"/>
                    </a:cubicBezTo>
                    <a:cubicBezTo>
                      <a:pt x="49" y="0"/>
                      <a:pt x="40" y="19"/>
                      <a:pt x="5" y="42"/>
                    </a:cubicBezTo>
                    <a:cubicBezTo>
                      <a:pt x="3" y="52"/>
                      <a:pt x="1" y="63"/>
                      <a:pt x="0" y="75"/>
                    </a:cubicBezTo>
                    <a:cubicBezTo>
                      <a:pt x="0" y="75"/>
                      <a:pt x="0" y="75"/>
                      <a:pt x="0" y="75"/>
                    </a:cubicBezTo>
                    <a:cubicBezTo>
                      <a:pt x="0" y="75"/>
                      <a:pt x="40" y="62"/>
                      <a:pt x="58" y="30"/>
                    </a:cubicBezTo>
                    <a:cubicBezTo>
                      <a:pt x="55" y="20"/>
                      <a:pt x="52" y="10"/>
                      <a:pt x="49" y="0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2133360" y="2816280"/>
                <a:ext cx="173160" cy="168840"/>
              </a:xfrm>
              <a:custGeom>
                <a:avLst/>
                <a:gdLst/>
                <a:ahLst/>
                <a:rect l="l" t="t" r="r" b="b"/>
                <a:pathLst>
                  <a:path w="90" h="89">
                    <a:moveTo>
                      <a:pt x="90" y="33"/>
                    </a:moveTo>
                    <a:cubicBezTo>
                      <a:pt x="90" y="33"/>
                      <a:pt x="90" y="33"/>
                      <a:pt x="90" y="33"/>
                    </a:cubicBezTo>
                    <a:cubicBezTo>
                      <a:pt x="88" y="22"/>
                      <a:pt x="85" y="11"/>
                      <a:pt x="82" y="0"/>
                    </a:cubicBezTo>
                    <a:cubicBezTo>
                      <a:pt x="82" y="0"/>
                      <a:pt x="82" y="0"/>
                      <a:pt x="82" y="0"/>
                    </a:cubicBezTo>
                    <a:cubicBezTo>
                      <a:pt x="41" y="36"/>
                      <a:pt x="5" y="53"/>
                      <a:pt x="5" y="53"/>
                    </a:cubicBezTo>
                    <a:cubicBezTo>
                      <a:pt x="5" y="53"/>
                      <a:pt x="5" y="53"/>
                      <a:pt x="5" y="53"/>
                    </a:cubicBezTo>
                    <a:cubicBezTo>
                      <a:pt x="3" y="65"/>
                      <a:pt x="2" y="77"/>
                      <a:pt x="0" y="89"/>
                    </a:cubicBezTo>
                    <a:cubicBezTo>
                      <a:pt x="53" y="83"/>
                      <a:pt x="90" y="33"/>
                      <a:pt x="90" y="33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2163240" y="2958480"/>
                <a:ext cx="171720" cy="194040"/>
              </a:xfrm>
              <a:custGeom>
                <a:avLst/>
                <a:gdLst/>
                <a:ahLst/>
                <a:rect l="l" t="t" r="r" b="b"/>
                <a:pathLst>
                  <a:path w="90" h="102">
                    <a:moveTo>
                      <a:pt x="15" y="102"/>
                    </a:moveTo>
                    <a:cubicBezTo>
                      <a:pt x="54" y="86"/>
                      <a:pt x="90" y="29"/>
                      <a:pt x="90" y="29"/>
                    </a:cubicBezTo>
                    <a:cubicBezTo>
                      <a:pt x="90" y="29"/>
                      <a:pt x="90" y="29"/>
                      <a:pt x="90" y="29"/>
                    </a:cubicBezTo>
                    <a:cubicBezTo>
                      <a:pt x="89" y="20"/>
                      <a:pt x="87" y="11"/>
                      <a:pt x="85" y="0"/>
                    </a:cubicBezTo>
                    <a:cubicBezTo>
                      <a:pt x="85" y="0"/>
                      <a:pt x="85" y="0"/>
                      <a:pt x="85" y="0"/>
                    </a:cubicBezTo>
                    <a:cubicBezTo>
                      <a:pt x="54" y="47"/>
                      <a:pt x="0" y="80"/>
                      <a:pt x="0" y="81"/>
                    </a:cubicBezTo>
                    <a:lnTo>
                      <a:pt x="15" y="102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2170800" y="2580480"/>
                <a:ext cx="102960" cy="680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" y="3"/>
                    </a:moveTo>
                    <a:cubicBezTo>
                      <a:pt x="0" y="8"/>
                      <a:pt x="1" y="30"/>
                      <a:pt x="10" y="34"/>
                    </a:cubicBezTo>
                    <a:cubicBezTo>
                      <a:pt x="14" y="36"/>
                      <a:pt x="24" y="36"/>
                      <a:pt x="34" y="34"/>
                    </a:cubicBezTo>
                    <a:cubicBezTo>
                      <a:pt x="54" y="30"/>
                      <a:pt x="48" y="0"/>
                      <a:pt x="48" y="0"/>
                    </a:cubicBez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b2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1648800" y="1226880"/>
                <a:ext cx="976320" cy="1393200"/>
              </a:xfrm>
              <a:custGeom>
                <a:avLst/>
                <a:gdLst/>
                <a:ahLst/>
                <a:rect l="l" t="t" r="r" b="b"/>
                <a:pathLst>
                  <a:path w="509" h="734">
                    <a:moveTo>
                      <a:pt x="4" y="347"/>
                    </a:moveTo>
                    <a:cubicBezTo>
                      <a:pt x="4" y="347"/>
                      <a:pt x="0" y="536"/>
                      <a:pt x="11" y="595"/>
                    </a:cubicBezTo>
                    <a:cubicBezTo>
                      <a:pt x="21" y="654"/>
                      <a:pt x="32" y="660"/>
                      <a:pt x="65" y="669"/>
                    </a:cubicBezTo>
                    <a:cubicBezTo>
                      <a:pt x="99" y="677"/>
                      <a:pt x="209" y="682"/>
                      <a:pt x="224" y="692"/>
                    </a:cubicBezTo>
                    <a:cubicBezTo>
                      <a:pt x="240" y="702"/>
                      <a:pt x="273" y="734"/>
                      <a:pt x="296" y="731"/>
                    </a:cubicBezTo>
                    <a:cubicBezTo>
                      <a:pt x="319" y="728"/>
                      <a:pt x="330" y="706"/>
                      <a:pt x="344" y="703"/>
                    </a:cubicBezTo>
                    <a:cubicBezTo>
                      <a:pt x="358" y="699"/>
                      <a:pt x="439" y="684"/>
                      <a:pt x="457" y="678"/>
                    </a:cubicBezTo>
                    <a:cubicBezTo>
                      <a:pt x="475" y="672"/>
                      <a:pt x="488" y="656"/>
                      <a:pt x="490" y="614"/>
                    </a:cubicBezTo>
                    <a:cubicBezTo>
                      <a:pt x="493" y="572"/>
                      <a:pt x="509" y="401"/>
                      <a:pt x="493" y="319"/>
                    </a:cubicBezTo>
                    <a:cubicBezTo>
                      <a:pt x="477" y="236"/>
                      <a:pt x="467" y="168"/>
                      <a:pt x="416" y="135"/>
                    </a:cubicBezTo>
                    <a:cubicBezTo>
                      <a:pt x="400" y="119"/>
                      <a:pt x="11" y="0"/>
                      <a:pt x="4" y="347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2556360" y="1932480"/>
                <a:ext cx="203040" cy="282960"/>
              </a:xfrm>
              <a:custGeom>
                <a:avLst/>
                <a:gdLst/>
                <a:ahLst/>
                <a:rect l="l" t="t" r="r" b="b"/>
                <a:pathLst>
                  <a:path w="106" h="149">
                    <a:moveTo>
                      <a:pt x="12" y="149"/>
                    </a:moveTo>
                    <a:cubicBezTo>
                      <a:pt x="99" y="149"/>
                      <a:pt x="106" y="49"/>
                      <a:pt x="67" y="24"/>
                    </a:cubicBezTo>
                    <a:cubicBezTo>
                      <a:pt x="29" y="0"/>
                      <a:pt x="0" y="49"/>
                      <a:pt x="0" y="49"/>
                    </a:cubicBezTo>
                    <a:lnTo>
                      <a:pt x="12" y="149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1494720" y="1942920"/>
                <a:ext cx="203040" cy="250200"/>
              </a:xfrm>
              <a:custGeom>
                <a:avLst/>
                <a:gdLst/>
                <a:ahLst/>
                <a:rect l="l" t="t" r="r" b="b"/>
                <a:pathLst>
                  <a:path w="106" h="132">
                    <a:moveTo>
                      <a:pt x="92" y="127"/>
                    </a:moveTo>
                    <a:cubicBezTo>
                      <a:pt x="92" y="127"/>
                      <a:pt x="57" y="132"/>
                      <a:pt x="28" y="104"/>
                    </a:cubicBezTo>
                    <a:cubicBezTo>
                      <a:pt x="0" y="76"/>
                      <a:pt x="7" y="2"/>
                      <a:pt x="56" y="1"/>
                    </a:cubicBezTo>
                    <a:cubicBezTo>
                      <a:pt x="106" y="0"/>
                      <a:pt x="100" y="55"/>
                      <a:pt x="100" y="55"/>
                    </a:cubicBezTo>
                    <a:lnTo>
                      <a:pt x="92" y="127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1657800" y="1181160"/>
                <a:ext cx="932760" cy="1386000"/>
              </a:xfrm>
              <a:custGeom>
                <a:avLst/>
                <a:gdLst/>
                <a:ahLst/>
                <a:rect l="l" t="t" r="r" b="b"/>
                <a:pathLst>
                  <a:path w="486" h="730">
                    <a:moveTo>
                      <a:pt x="10" y="347"/>
                    </a:moveTo>
                    <a:cubicBezTo>
                      <a:pt x="10" y="347"/>
                      <a:pt x="0" y="458"/>
                      <a:pt x="3" y="536"/>
                    </a:cubicBezTo>
                    <a:cubicBezTo>
                      <a:pt x="4" y="560"/>
                      <a:pt x="6" y="589"/>
                      <a:pt x="8" y="603"/>
                    </a:cubicBezTo>
                    <a:cubicBezTo>
                      <a:pt x="18" y="662"/>
                      <a:pt x="36" y="660"/>
                      <a:pt x="69" y="669"/>
                    </a:cubicBezTo>
                    <a:cubicBezTo>
                      <a:pt x="78" y="671"/>
                      <a:pt x="151" y="683"/>
                      <a:pt x="198" y="701"/>
                    </a:cubicBezTo>
                    <a:cubicBezTo>
                      <a:pt x="229" y="712"/>
                      <a:pt x="252" y="728"/>
                      <a:pt x="285" y="729"/>
                    </a:cubicBezTo>
                    <a:cubicBezTo>
                      <a:pt x="311" y="730"/>
                      <a:pt x="310" y="716"/>
                      <a:pt x="333" y="710"/>
                    </a:cubicBezTo>
                    <a:cubicBezTo>
                      <a:pt x="391" y="695"/>
                      <a:pt x="438" y="679"/>
                      <a:pt x="444" y="677"/>
                    </a:cubicBezTo>
                    <a:cubicBezTo>
                      <a:pt x="461" y="671"/>
                      <a:pt x="474" y="655"/>
                      <a:pt x="476" y="613"/>
                    </a:cubicBezTo>
                    <a:cubicBezTo>
                      <a:pt x="479" y="571"/>
                      <a:pt x="486" y="400"/>
                      <a:pt x="471" y="317"/>
                    </a:cubicBezTo>
                    <a:cubicBezTo>
                      <a:pt x="456" y="235"/>
                      <a:pt x="455" y="167"/>
                      <a:pt x="406" y="134"/>
                    </a:cubicBezTo>
                    <a:cubicBezTo>
                      <a:pt x="391" y="118"/>
                      <a:pt x="18" y="0"/>
                      <a:pt x="10" y="347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1692360" y="1213560"/>
                <a:ext cx="820800" cy="554400"/>
              </a:xfrm>
              <a:custGeom>
                <a:avLst/>
                <a:gdLst/>
                <a:ahLst/>
                <a:rect l="l" t="t" r="r" b="b"/>
                <a:pathLst>
                  <a:path w="428" h="292">
                    <a:moveTo>
                      <a:pt x="124" y="291"/>
                    </a:moveTo>
                    <a:cubicBezTo>
                      <a:pt x="170" y="290"/>
                      <a:pt x="210" y="287"/>
                      <a:pt x="258" y="279"/>
                    </a:cubicBezTo>
                    <a:cubicBezTo>
                      <a:pt x="324" y="269"/>
                      <a:pt x="373" y="228"/>
                      <a:pt x="428" y="202"/>
                    </a:cubicBezTo>
                    <a:cubicBezTo>
                      <a:pt x="420" y="158"/>
                      <a:pt x="419" y="138"/>
                      <a:pt x="388" y="117"/>
                    </a:cubicBezTo>
                    <a:cubicBezTo>
                      <a:pt x="374" y="102"/>
                      <a:pt x="53" y="0"/>
                      <a:pt x="0" y="261"/>
                    </a:cubicBezTo>
                    <a:cubicBezTo>
                      <a:pt x="18" y="267"/>
                      <a:pt x="36" y="273"/>
                      <a:pt x="54" y="278"/>
                    </a:cubicBezTo>
                    <a:cubicBezTo>
                      <a:pt x="76" y="279"/>
                      <a:pt x="101" y="292"/>
                      <a:pt x="124" y="291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1562040" y="1520640"/>
                <a:ext cx="216720" cy="718920"/>
              </a:xfrm>
              <a:custGeom>
                <a:avLst/>
                <a:gdLst/>
                <a:ahLst/>
                <a:rect l="l" t="t" r="r" b="b"/>
                <a:pathLst>
                  <a:path w="113" h="378">
                    <a:moveTo>
                      <a:pt x="12" y="0"/>
                    </a:moveTo>
                    <a:cubicBezTo>
                      <a:pt x="12" y="0"/>
                      <a:pt x="0" y="165"/>
                      <a:pt x="7" y="226"/>
                    </a:cubicBezTo>
                    <a:cubicBezTo>
                      <a:pt x="7" y="226"/>
                      <a:pt x="59" y="207"/>
                      <a:pt x="66" y="271"/>
                    </a:cubicBezTo>
                    <a:cubicBezTo>
                      <a:pt x="73" y="337"/>
                      <a:pt x="76" y="371"/>
                      <a:pt x="76" y="371"/>
                    </a:cubicBezTo>
                    <a:cubicBezTo>
                      <a:pt x="76" y="371"/>
                      <a:pt x="77" y="377"/>
                      <a:pt x="94" y="378"/>
                    </a:cubicBezTo>
                    <a:cubicBezTo>
                      <a:pt x="110" y="378"/>
                      <a:pt x="111" y="371"/>
                      <a:pt x="111" y="371"/>
                    </a:cubicBezTo>
                    <a:cubicBezTo>
                      <a:pt x="113" y="36"/>
                      <a:pt x="113" y="36"/>
                      <a:pt x="113" y="36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1571040" y="1896840"/>
                <a:ext cx="98640" cy="7992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1" y="42"/>
                    </a:moveTo>
                    <a:cubicBezTo>
                      <a:pt x="51" y="42"/>
                      <a:pt x="51" y="41"/>
                      <a:pt x="51" y="41"/>
                    </a:cubicBezTo>
                    <a:cubicBezTo>
                      <a:pt x="51" y="40"/>
                      <a:pt x="51" y="39"/>
                      <a:pt x="51" y="39"/>
                    </a:cubicBezTo>
                    <a:cubicBezTo>
                      <a:pt x="48" y="25"/>
                      <a:pt x="42" y="12"/>
                      <a:pt x="34" y="0"/>
                    </a:cubicBezTo>
                    <a:cubicBezTo>
                      <a:pt x="23" y="0"/>
                      <a:pt x="11" y="1"/>
                      <a:pt x="0" y="1"/>
                    </a:cubicBezTo>
                    <a:cubicBezTo>
                      <a:pt x="1" y="11"/>
                      <a:pt x="1" y="20"/>
                      <a:pt x="2" y="28"/>
                    </a:cubicBezTo>
                    <a:cubicBezTo>
                      <a:pt x="2" y="28"/>
                      <a:pt x="34" y="16"/>
                      <a:pt x="51" y="42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1577160" y="1550160"/>
                <a:ext cx="204840" cy="17172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1" y="0"/>
                    </a:move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52" y="90"/>
                      <a:pt x="105" y="91"/>
                    </a:cubicBezTo>
                    <a:cubicBezTo>
                      <a:pt x="107" y="48"/>
                      <a:pt x="107" y="48"/>
                      <a:pt x="107" y="48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1475640" y="1203120"/>
                <a:ext cx="1324440" cy="1062720"/>
              </a:xfrm>
              <a:custGeom>
                <a:avLst/>
                <a:gdLst/>
                <a:ahLst/>
                <a:rect l="l" t="t" r="r" b="b"/>
                <a:pathLst>
                  <a:path w="690" h="559">
                    <a:moveTo>
                      <a:pt x="140" y="10"/>
                    </a:moveTo>
                    <a:cubicBezTo>
                      <a:pt x="140" y="10"/>
                      <a:pt x="155" y="81"/>
                      <a:pt x="246" y="70"/>
                    </a:cubicBezTo>
                    <a:cubicBezTo>
                      <a:pt x="336" y="59"/>
                      <a:pt x="367" y="0"/>
                      <a:pt x="440" y="4"/>
                    </a:cubicBezTo>
                    <a:cubicBezTo>
                      <a:pt x="513" y="8"/>
                      <a:pt x="565" y="57"/>
                      <a:pt x="565" y="104"/>
                    </a:cubicBezTo>
                    <a:cubicBezTo>
                      <a:pt x="565" y="104"/>
                      <a:pt x="646" y="79"/>
                      <a:pt x="674" y="155"/>
                    </a:cubicBezTo>
                    <a:cubicBezTo>
                      <a:pt x="690" y="201"/>
                      <a:pt x="662" y="277"/>
                      <a:pt x="630" y="408"/>
                    </a:cubicBezTo>
                    <a:cubicBezTo>
                      <a:pt x="630" y="409"/>
                      <a:pt x="605" y="388"/>
                      <a:pt x="575" y="418"/>
                    </a:cubicBezTo>
                    <a:cubicBezTo>
                      <a:pt x="558" y="435"/>
                      <a:pt x="566" y="550"/>
                      <a:pt x="566" y="550"/>
                    </a:cubicBezTo>
                    <a:cubicBezTo>
                      <a:pt x="566" y="550"/>
                      <a:pt x="562" y="559"/>
                      <a:pt x="542" y="559"/>
                    </a:cubicBezTo>
                    <a:cubicBezTo>
                      <a:pt x="523" y="559"/>
                      <a:pt x="522" y="550"/>
                      <a:pt x="522" y="550"/>
                    </a:cubicBezTo>
                    <a:cubicBezTo>
                      <a:pt x="522" y="550"/>
                      <a:pt x="522" y="415"/>
                      <a:pt x="524" y="303"/>
                    </a:cubicBezTo>
                    <a:cubicBezTo>
                      <a:pt x="526" y="257"/>
                      <a:pt x="514" y="222"/>
                      <a:pt x="507" y="208"/>
                    </a:cubicBezTo>
                    <a:cubicBezTo>
                      <a:pt x="507" y="208"/>
                      <a:pt x="368" y="308"/>
                      <a:pt x="197" y="270"/>
                    </a:cubicBezTo>
                    <a:cubicBezTo>
                      <a:pt x="26" y="232"/>
                      <a:pt x="10" y="125"/>
                      <a:pt x="0" y="48"/>
                    </a:cubicBezTo>
                    <a:cubicBezTo>
                      <a:pt x="0" y="48"/>
                      <a:pt x="27" y="72"/>
                      <a:pt x="68" y="87"/>
                    </a:cubicBezTo>
                    <a:cubicBezTo>
                      <a:pt x="68" y="87"/>
                      <a:pt x="54" y="38"/>
                      <a:pt x="84" y="13"/>
                    </a:cubicBezTo>
                    <a:cubicBezTo>
                      <a:pt x="84" y="13"/>
                      <a:pt x="90" y="49"/>
                      <a:pt x="114" y="64"/>
                    </a:cubicBezTo>
                    <a:cubicBezTo>
                      <a:pt x="114" y="64"/>
                      <a:pt x="102" y="35"/>
                      <a:pt x="140" y="10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2562480" y="1901520"/>
                <a:ext cx="143280" cy="117000"/>
              </a:xfrm>
              <a:custGeom>
                <a:avLst/>
                <a:gdLst/>
                <a:ahLst/>
                <a:rect l="l" t="t" r="r" b="b"/>
                <a:pathLst>
                  <a:path w="75" h="62">
                    <a:moveTo>
                      <a:pt x="30" y="7"/>
                    </a:moveTo>
                    <a:cubicBezTo>
                      <a:pt x="12" y="32"/>
                      <a:pt x="0" y="59"/>
                      <a:pt x="3" y="62"/>
                    </a:cubicBezTo>
                    <a:cubicBezTo>
                      <a:pt x="3" y="62"/>
                      <a:pt x="4" y="62"/>
                      <a:pt x="4" y="62"/>
                    </a:cubicBezTo>
                    <a:cubicBezTo>
                      <a:pt x="5" y="57"/>
                      <a:pt x="7" y="53"/>
                      <a:pt x="9" y="51"/>
                    </a:cubicBezTo>
                    <a:cubicBezTo>
                      <a:pt x="39" y="21"/>
                      <a:pt x="64" y="42"/>
                      <a:pt x="64" y="41"/>
                    </a:cubicBezTo>
                    <a:cubicBezTo>
                      <a:pt x="65" y="38"/>
                      <a:pt x="66" y="34"/>
                      <a:pt x="67" y="30"/>
                    </a:cubicBezTo>
                    <a:cubicBezTo>
                      <a:pt x="68" y="28"/>
                      <a:pt x="68" y="27"/>
                      <a:pt x="68" y="25"/>
                    </a:cubicBezTo>
                    <a:cubicBezTo>
                      <a:pt x="69" y="23"/>
                      <a:pt x="69" y="21"/>
                      <a:pt x="70" y="19"/>
                    </a:cubicBezTo>
                    <a:cubicBezTo>
                      <a:pt x="71" y="17"/>
                      <a:pt x="71" y="14"/>
                      <a:pt x="72" y="12"/>
                    </a:cubicBezTo>
                    <a:cubicBezTo>
                      <a:pt x="72" y="11"/>
                      <a:pt x="72" y="10"/>
                      <a:pt x="72" y="10"/>
                    </a:cubicBezTo>
                    <a:cubicBezTo>
                      <a:pt x="73" y="6"/>
                      <a:pt x="74" y="3"/>
                      <a:pt x="75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60" y="1"/>
                      <a:pt x="45" y="3"/>
                      <a:pt x="30" y="7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1768680" y="1763640"/>
                <a:ext cx="128520" cy="1274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28"/>
                    </a:moveTo>
                    <a:cubicBezTo>
                      <a:pt x="67" y="28"/>
                      <a:pt x="55" y="0"/>
                      <a:pt x="33" y="3"/>
                    </a:cubicBezTo>
                    <a:cubicBezTo>
                      <a:pt x="11" y="6"/>
                      <a:pt x="1" y="41"/>
                      <a:pt x="1" y="41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29" y="24"/>
                      <a:pt x="67" y="28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2333880" y="1790280"/>
                <a:ext cx="125280" cy="12888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20" y="0"/>
                    </a:moveTo>
                    <a:cubicBezTo>
                      <a:pt x="20" y="0"/>
                      <a:pt x="0" y="18"/>
                      <a:pt x="1" y="36"/>
                    </a:cubicBezTo>
                    <a:cubicBezTo>
                      <a:pt x="1" y="36"/>
                      <a:pt x="33" y="33"/>
                      <a:pt x="49" y="68"/>
                    </a:cubicBezTo>
                    <a:cubicBezTo>
                      <a:pt x="49" y="68"/>
                      <a:pt x="66" y="61"/>
                      <a:pt x="63" y="48"/>
                    </a:cubicBezTo>
                    <a:cubicBezTo>
                      <a:pt x="60" y="35"/>
                      <a:pt x="46" y="1"/>
                      <a:pt x="20" y="0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1825200" y="1929600"/>
                <a:ext cx="134280" cy="13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9" y="37"/>
                    </a:moveTo>
                    <a:cubicBezTo>
                      <a:pt x="68" y="55"/>
                      <a:pt x="52" y="70"/>
                      <a:pt x="33" y="69"/>
                    </a:cubicBezTo>
                    <a:cubicBezTo>
                      <a:pt x="15" y="68"/>
                      <a:pt x="0" y="52"/>
                      <a:pt x="1" y="33"/>
                    </a:cubicBezTo>
                    <a:cubicBezTo>
                      <a:pt x="2" y="14"/>
                      <a:pt x="18" y="0"/>
                      <a:pt x="37" y="1"/>
                    </a:cubicBezTo>
                    <a:cubicBezTo>
                      <a:pt x="56" y="2"/>
                      <a:pt x="70" y="18"/>
                      <a:pt x="69" y="37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1865880" y="1938600"/>
                <a:ext cx="71640" cy="5760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35" y="21"/>
                    </a:moveTo>
                    <a:cubicBezTo>
                      <a:pt x="32" y="28"/>
                      <a:pt x="23" y="30"/>
                      <a:pt x="14" y="26"/>
                    </a:cubicBezTo>
                    <a:cubicBezTo>
                      <a:pt x="5" y="22"/>
                      <a:pt x="0" y="14"/>
                      <a:pt x="3" y="8"/>
                    </a:cubicBezTo>
                    <a:cubicBezTo>
                      <a:pt x="6" y="2"/>
                      <a:pt x="15" y="0"/>
                      <a:pt x="24" y="3"/>
                    </a:cubicBezTo>
                    <a:cubicBezTo>
                      <a:pt x="33" y="7"/>
                      <a:pt x="38" y="15"/>
                      <a:pt x="35" y="21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2291760" y="1929600"/>
                <a:ext cx="132840" cy="13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9" y="37"/>
                    </a:moveTo>
                    <a:cubicBezTo>
                      <a:pt x="68" y="55"/>
                      <a:pt x="52" y="70"/>
                      <a:pt x="33" y="69"/>
                    </a:cubicBezTo>
                    <a:cubicBezTo>
                      <a:pt x="14" y="68"/>
                      <a:pt x="0" y="52"/>
                      <a:pt x="1" y="33"/>
                    </a:cubicBezTo>
                    <a:cubicBezTo>
                      <a:pt x="2" y="14"/>
                      <a:pt x="18" y="0"/>
                      <a:pt x="37" y="1"/>
                    </a:cubicBezTo>
                    <a:cubicBezTo>
                      <a:pt x="56" y="2"/>
                      <a:pt x="70" y="18"/>
                      <a:pt x="69" y="37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2332080" y="1938600"/>
                <a:ext cx="70200" cy="5760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1"/>
                    </a:moveTo>
                    <a:cubicBezTo>
                      <a:pt x="32" y="28"/>
                      <a:pt x="23" y="30"/>
                      <a:pt x="14" y="26"/>
                    </a:cubicBezTo>
                    <a:cubicBezTo>
                      <a:pt x="5" y="22"/>
                      <a:pt x="0" y="14"/>
                      <a:pt x="3" y="8"/>
                    </a:cubicBezTo>
                    <a:cubicBezTo>
                      <a:pt x="5" y="2"/>
                      <a:pt x="15" y="0"/>
                      <a:pt x="24" y="3"/>
                    </a:cubicBezTo>
                    <a:cubicBezTo>
                      <a:pt x="32" y="7"/>
                      <a:pt x="37" y="15"/>
                      <a:pt x="35" y="21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1961280" y="2022840"/>
                <a:ext cx="354240" cy="394200"/>
              </a:xfrm>
              <a:custGeom>
                <a:avLst/>
                <a:gdLst/>
                <a:ahLst/>
                <a:rect l="l" t="t" r="r" b="b"/>
                <a:pathLst>
                  <a:path w="185" h="208">
                    <a:moveTo>
                      <a:pt x="49" y="22"/>
                    </a:moveTo>
                    <a:cubicBezTo>
                      <a:pt x="49" y="22"/>
                      <a:pt x="0" y="126"/>
                      <a:pt x="46" y="167"/>
                    </a:cubicBezTo>
                    <a:cubicBezTo>
                      <a:pt x="93" y="208"/>
                      <a:pt x="155" y="186"/>
                      <a:pt x="166" y="157"/>
                    </a:cubicBezTo>
                    <a:cubicBezTo>
                      <a:pt x="185" y="107"/>
                      <a:pt x="142" y="90"/>
                      <a:pt x="135" y="20"/>
                    </a:cubicBezTo>
                    <a:cubicBezTo>
                      <a:pt x="135" y="20"/>
                      <a:pt x="122" y="2"/>
                      <a:pt x="95" y="1"/>
                    </a:cubicBezTo>
                    <a:cubicBezTo>
                      <a:pt x="68" y="0"/>
                      <a:pt x="49" y="22"/>
                      <a:pt x="49" y="22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1977840" y="2017080"/>
                <a:ext cx="316800" cy="348120"/>
              </a:xfrm>
              <a:custGeom>
                <a:avLst/>
                <a:gdLst/>
                <a:ahLst/>
                <a:rect l="l" t="t" r="r" b="b"/>
                <a:pathLst>
                  <a:path w="165" h="184">
                    <a:moveTo>
                      <a:pt x="44" y="21"/>
                    </a:moveTo>
                    <a:cubicBezTo>
                      <a:pt x="44" y="21"/>
                      <a:pt x="0" y="109"/>
                      <a:pt x="42" y="146"/>
                    </a:cubicBezTo>
                    <a:cubicBezTo>
                      <a:pt x="83" y="184"/>
                      <a:pt x="139" y="164"/>
                      <a:pt x="148" y="137"/>
                    </a:cubicBezTo>
                    <a:cubicBezTo>
                      <a:pt x="165" y="91"/>
                      <a:pt x="128" y="80"/>
                      <a:pt x="122" y="16"/>
                    </a:cubicBezTo>
                    <a:cubicBezTo>
                      <a:pt x="122" y="16"/>
                      <a:pt x="109" y="2"/>
                      <a:pt x="85" y="1"/>
                    </a:cubicBezTo>
                    <a:cubicBezTo>
                      <a:pt x="61" y="0"/>
                      <a:pt x="44" y="21"/>
                      <a:pt x="44" y="21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1974960" y="2347560"/>
                <a:ext cx="429120" cy="231120"/>
              </a:xfrm>
              <a:custGeom>
                <a:avLst/>
                <a:gdLst/>
                <a:ahLst/>
                <a:rect l="l" t="t" r="r" b="b"/>
                <a:pathLst>
                  <a:path w="224" h="122">
                    <a:moveTo>
                      <a:pt x="0" y="52"/>
                    </a:moveTo>
                    <a:cubicBezTo>
                      <a:pt x="0" y="52"/>
                      <a:pt x="136" y="111"/>
                      <a:pt x="217" y="1"/>
                    </a:cubicBezTo>
                    <a:cubicBezTo>
                      <a:pt x="217" y="1"/>
                      <a:pt x="220" y="0"/>
                      <a:pt x="222" y="2"/>
                    </a:cubicBezTo>
                    <a:cubicBezTo>
                      <a:pt x="224" y="3"/>
                      <a:pt x="223" y="5"/>
                      <a:pt x="223" y="5"/>
                    </a:cubicBezTo>
                    <a:cubicBezTo>
                      <a:pt x="223" y="5"/>
                      <a:pt x="145" y="122"/>
                      <a:pt x="0" y="52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2356200" y="227952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" y="19"/>
                    </a:moveTo>
                    <a:cubicBezTo>
                      <a:pt x="1" y="19"/>
                      <a:pt x="25" y="7"/>
                      <a:pt x="32" y="33"/>
                    </a:cubicBezTo>
                    <a:cubicBezTo>
                      <a:pt x="32" y="33"/>
                      <a:pt x="34" y="36"/>
                      <a:pt x="38" y="36"/>
                    </a:cubicBezTo>
                    <a:cubicBezTo>
                      <a:pt x="42" y="36"/>
                      <a:pt x="42" y="33"/>
                      <a:pt x="42" y="33"/>
                    </a:cubicBezTo>
                    <a:cubicBezTo>
                      <a:pt x="42" y="33"/>
                      <a:pt x="38" y="0"/>
                      <a:pt x="4" y="14"/>
                    </a:cubicBezTo>
                    <a:cubicBezTo>
                      <a:pt x="3" y="15"/>
                      <a:pt x="2" y="15"/>
                      <a:pt x="1" y="16"/>
                    </a:cubicBezTo>
                    <a:cubicBezTo>
                      <a:pt x="0" y="17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2580480" y="2070360"/>
                <a:ext cx="168840" cy="145080"/>
              </a:xfrm>
              <a:custGeom>
                <a:avLst/>
                <a:gdLst/>
                <a:ahLst/>
                <a:rect l="l" t="t" r="r" b="b"/>
                <a:pathLst>
                  <a:path w="88" h="77">
                    <a:moveTo>
                      <a:pt x="10" y="77"/>
                    </a:moveTo>
                    <a:cubicBezTo>
                      <a:pt x="0" y="71"/>
                      <a:pt x="0" y="71"/>
                      <a:pt x="0" y="71"/>
                    </a:cubicBezTo>
                    <a:cubicBezTo>
                      <a:pt x="0" y="71"/>
                      <a:pt x="71" y="48"/>
                      <a:pt x="72" y="0"/>
                    </a:cubicBezTo>
                    <a:cubicBezTo>
                      <a:pt x="72" y="0"/>
                      <a:pt x="88" y="53"/>
                      <a:pt x="10" y="77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1541160" y="198000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55" y="79"/>
                    </a:moveTo>
                    <a:cubicBezTo>
                      <a:pt x="55" y="79"/>
                      <a:pt x="67" y="0"/>
                      <a:pt x="25" y="15"/>
                    </a:cubicBezTo>
                    <a:cubicBezTo>
                      <a:pt x="0" y="24"/>
                      <a:pt x="4" y="50"/>
                      <a:pt x="20" y="65"/>
                    </a:cubicBezTo>
                    <a:cubicBezTo>
                      <a:pt x="30" y="75"/>
                      <a:pt x="44" y="81"/>
                      <a:pt x="55" y="7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1542600" y="2017080"/>
                <a:ext cx="107640" cy="1170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4" y="59"/>
                    </a:moveTo>
                    <a:cubicBezTo>
                      <a:pt x="56" y="39"/>
                      <a:pt x="56" y="39"/>
                      <a:pt x="56" y="39"/>
                    </a:cubicBezTo>
                    <a:cubicBezTo>
                      <a:pt x="56" y="39"/>
                      <a:pt x="0" y="0"/>
                      <a:pt x="9" y="31"/>
                    </a:cubicBezTo>
                    <a:cubicBezTo>
                      <a:pt x="18" y="62"/>
                      <a:pt x="54" y="59"/>
                      <a:pt x="54" y="59"/>
                    </a:cubicBezTo>
                    <a:close/>
                  </a:path>
                </a:pathLst>
              </a:custGeom>
              <a:solidFill>
                <a:srgbClr val="e5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1784880" y="2054160"/>
                <a:ext cx="37080" cy="1620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20" y="5"/>
                    </a:moveTo>
                    <a:cubicBezTo>
                      <a:pt x="19" y="7"/>
                      <a:pt x="18" y="8"/>
                      <a:pt x="1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1" y="7"/>
                      <a:pt x="0" y="6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8" y="1"/>
                      <a:pt x="20" y="3"/>
                      <a:pt x="20" y="5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2444400" y="2064600"/>
                <a:ext cx="32760" cy="100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4"/>
                    </a:moveTo>
                    <a:cubicBezTo>
                      <a:pt x="16" y="5"/>
                      <a:pt x="15" y="6"/>
                      <a:pt x="14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2"/>
                      <a:pt x="16" y="4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2139480" y="2512080"/>
                <a:ext cx="92520" cy="30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8" y="10"/>
                    </a:moveTo>
                    <a:cubicBezTo>
                      <a:pt x="48" y="14"/>
                      <a:pt x="37" y="16"/>
                      <a:pt x="24" y="16"/>
                    </a:cubicBezTo>
                    <a:cubicBezTo>
                      <a:pt x="10" y="15"/>
                      <a:pt x="0" y="11"/>
                      <a:pt x="0" y="7"/>
                    </a:cubicBezTo>
                    <a:cubicBezTo>
                      <a:pt x="0" y="3"/>
                      <a:pt x="11" y="0"/>
                      <a:pt x="24" y="1"/>
                    </a:cubicBezTo>
                    <a:cubicBezTo>
                      <a:pt x="38" y="1"/>
                      <a:pt x="48" y="5"/>
                      <a:pt x="48" y="10"/>
                    </a:cubicBezTo>
                    <a:close/>
                  </a:path>
                </a:pathLst>
              </a:custGeom>
              <a:solidFill>
                <a:srgbClr val="ffe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2519280" y="1431360"/>
                <a:ext cx="213480" cy="324360"/>
              </a:xfrm>
              <a:custGeom>
                <a:avLst/>
                <a:gdLst/>
                <a:ahLst/>
                <a:rect l="l" t="t" r="r" b="b"/>
                <a:pathLst>
                  <a:path w="111" h="171">
                    <a:moveTo>
                      <a:pt x="0" y="90"/>
                    </a:moveTo>
                    <a:cubicBezTo>
                      <a:pt x="17" y="106"/>
                      <a:pt x="18" y="132"/>
                      <a:pt x="18" y="154"/>
                    </a:cubicBezTo>
                    <a:cubicBezTo>
                      <a:pt x="18" y="160"/>
                      <a:pt x="18" y="165"/>
                      <a:pt x="18" y="171"/>
                    </a:cubicBezTo>
                    <a:cubicBezTo>
                      <a:pt x="42" y="155"/>
                      <a:pt x="103" y="94"/>
                      <a:pt x="108" y="69"/>
                    </a:cubicBezTo>
                    <a:cubicBezTo>
                      <a:pt x="111" y="55"/>
                      <a:pt x="103" y="43"/>
                      <a:pt x="99" y="30"/>
                    </a:cubicBezTo>
                    <a:cubicBezTo>
                      <a:pt x="96" y="20"/>
                      <a:pt x="74" y="0"/>
                      <a:pt x="42" y="20"/>
                    </a:cubicBezTo>
                    <a:cubicBezTo>
                      <a:pt x="36" y="33"/>
                      <a:pt x="33" y="46"/>
                      <a:pt x="27" y="59"/>
                    </a:cubicBezTo>
                    <a:cubicBezTo>
                      <a:pt x="24" y="65"/>
                      <a:pt x="21" y="71"/>
                      <a:pt x="17" y="76"/>
                    </a:cubicBezTo>
                    <a:cubicBezTo>
                      <a:pt x="12" y="82"/>
                      <a:pt x="5" y="85"/>
                      <a:pt x="0" y="90"/>
                    </a:cubicBezTo>
                    <a:close/>
                  </a:path>
                </a:pathLst>
              </a:custGeom>
              <a:solidFill>
                <a:srgbClr val="513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2411640" y="1412280"/>
                <a:ext cx="147960" cy="17928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77" y="5"/>
                    </a:moveTo>
                    <a:cubicBezTo>
                      <a:pt x="60" y="0"/>
                      <a:pt x="17" y="83"/>
                      <a:pt x="0" y="94"/>
                    </a:cubicBezTo>
                    <a:cubicBezTo>
                      <a:pt x="35" y="87"/>
                      <a:pt x="70" y="41"/>
                      <a:pt x="76" y="8"/>
                    </a:cubicBez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2157120" y="1244880"/>
                <a:ext cx="304920" cy="7236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0" y="37"/>
                    </a:moveTo>
                    <a:cubicBezTo>
                      <a:pt x="21" y="28"/>
                      <a:pt x="39" y="12"/>
                      <a:pt x="61" y="4"/>
                    </a:cubicBezTo>
                    <a:cubicBezTo>
                      <a:pt x="68" y="2"/>
                      <a:pt x="74" y="1"/>
                      <a:pt x="81" y="1"/>
                    </a:cubicBezTo>
                    <a:cubicBezTo>
                      <a:pt x="100" y="0"/>
                      <a:pt x="116" y="3"/>
                      <a:pt x="132" y="13"/>
                    </a:cubicBezTo>
                    <a:cubicBezTo>
                      <a:pt x="141" y="18"/>
                      <a:pt x="155" y="27"/>
                      <a:pt x="159" y="36"/>
                    </a:cubicBezTo>
                    <a:cubicBezTo>
                      <a:pt x="158" y="35"/>
                      <a:pt x="130" y="35"/>
                      <a:pt x="127" y="35"/>
                    </a:cubicBezTo>
                    <a:cubicBezTo>
                      <a:pt x="116" y="34"/>
                      <a:pt x="106" y="33"/>
                      <a:pt x="95" y="31"/>
                    </a:cubicBezTo>
                    <a:cubicBezTo>
                      <a:pt x="75" y="29"/>
                      <a:pt x="54" y="27"/>
                      <a:pt x="33" y="30"/>
                    </a:cubicBezTo>
                    <a:cubicBezTo>
                      <a:pt x="22" y="31"/>
                      <a:pt x="11" y="38"/>
                      <a:pt x="0" y="37"/>
                    </a:cubicBezTo>
                    <a:close/>
                  </a:path>
                </a:pathLst>
              </a:custGeom>
              <a:solidFill>
                <a:srgbClr val="513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1608480" y="1308600"/>
                <a:ext cx="131400" cy="161280"/>
              </a:xfrm>
              <a:custGeom>
                <a:avLst/>
                <a:gdLst/>
                <a:ahLst/>
                <a:rect l="l" t="t" r="r" b="b"/>
                <a:pathLst>
                  <a:path w="69" h="85">
                    <a:moveTo>
                      <a:pt x="1" y="0"/>
                    </a:moveTo>
                    <a:cubicBezTo>
                      <a:pt x="0" y="7"/>
                      <a:pt x="3" y="15"/>
                      <a:pt x="4" y="21"/>
                    </a:cubicBezTo>
                    <a:cubicBezTo>
                      <a:pt x="6" y="28"/>
                      <a:pt x="9" y="35"/>
                      <a:pt x="13" y="41"/>
                    </a:cubicBezTo>
                    <a:cubicBezTo>
                      <a:pt x="19" y="52"/>
                      <a:pt x="27" y="62"/>
                      <a:pt x="38" y="68"/>
                    </a:cubicBezTo>
                    <a:cubicBezTo>
                      <a:pt x="47" y="74"/>
                      <a:pt x="58" y="84"/>
                      <a:pt x="69" y="85"/>
                    </a:cubicBezTo>
                    <a:cubicBezTo>
                      <a:pt x="44" y="73"/>
                      <a:pt x="28" y="55"/>
                      <a:pt x="16" y="30"/>
                    </a:cubicBezTo>
                    <a:cubicBezTo>
                      <a:pt x="13" y="25"/>
                      <a:pt x="12" y="19"/>
                      <a:pt x="10" y="14"/>
                    </a:cubicBezTo>
                    <a:cubicBezTo>
                      <a:pt x="8" y="10"/>
                      <a:pt x="6" y="3"/>
                      <a:pt x="1" y="0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1710360" y="1301040"/>
                <a:ext cx="116280" cy="12132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1" y="57"/>
                    </a:moveTo>
                    <a:cubicBezTo>
                      <a:pt x="40" y="50"/>
                      <a:pt x="27" y="39"/>
                      <a:pt x="20" y="28"/>
                    </a:cubicBezTo>
                    <a:cubicBezTo>
                      <a:pt x="14" y="17"/>
                      <a:pt x="9" y="9"/>
                      <a:pt x="0" y="0"/>
                    </a:cubicBezTo>
                    <a:cubicBezTo>
                      <a:pt x="2" y="12"/>
                      <a:pt x="8" y="30"/>
                      <a:pt x="15" y="39"/>
                    </a:cubicBezTo>
                    <a:cubicBezTo>
                      <a:pt x="24" y="52"/>
                      <a:pt x="45" y="61"/>
                      <a:pt x="61" y="64"/>
                    </a:cubicBezTo>
                    <a:cubicBezTo>
                      <a:pt x="61" y="63"/>
                      <a:pt x="60" y="63"/>
                      <a:pt x="60" y="63"/>
                    </a:cubicBezTo>
                    <a:cubicBezTo>
                      <a:pt x="57" y="62"/>
                      <a:pt x="54" y="60"/>
                      <a:pt x="51" y="57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Oval 71"/>
              <p:cNvSpPr/>
              <p:nvPr/>
            </p:nvSpPr>
            <p:spPr>
              <a:xfrm>
                <a:off x="2133360" y="2279520"/>
                <a:ext cx="52200" cy="20520"/>
              </a:xfrm>
              <a:prstGeom prst="ellipse">
                <a:avLst/>
              </a:pr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2570040" y="200376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12" y="79"/>
                    </a:moveTo>
                    <a:cubicBezTo>
                      <a:pt x="12" y="79"/>
                      <a:pt x="0" y="0"/>
                      <a:pt x="41" y="15"/>
                    </a:cubicBezTo>
                    <a:cubicBezTo>
                      <a:pt x="67" y="24"/>
                      <a:pt x="62" y="50"/>
                      <a:pt x="47" y="65"/>
                    </a:cubicBezTo>
                    <a:cubicBezTo>
                      <a:pt x="37" y="75"/>
                      <a:pt x="22" y="81"/>
                      <a:pt x="12" y="7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2588040" y="2039400"/>
                <a:ext cx="107640" cy="11844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" y="59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0" y="39"/>
                      <a:pt x="56" y="0"/>
                      <a:pt x="47" y="31"/>
                    </a:cubicBezTo>
                    <a:cubicBezTo>
                      <a:pt x="38" y="62"/>
                      <a:pt x="2" y="59"/>
                      <a:pt x="2" y="59"/>
                    </a:cubicBezTo>
                    <a:close/>
                  </a:path>
                </a:pathLst>
              </a:custGeom>
              <a:solidFill>
                <a:srgbClr val="e5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2300760" y="2733120"/>
                <a:ext cx="73080" cy="102240"/>
              </a:xfrm>
              <a:custGeom>
                <a:avLst/>
                <a:gdLst/>
                <a:ahLst/>
                <a:rect l="l" t="t" r="r" b="b"/>
                <a:pathLst>
                  <a:path w="49" h="69">
                    <a:moveTo>
                      <a:pt x="0" y="5"/>
                    </a:moveTo>
                    <a:lnTo>
                      <a:pt x="46" y="0"/>
                    </a:lnTo>
                    <a:lnTo>
                      <a:pt x="49" y="50"/>
                    </a:lnTo>
                    <a:lnTo>
                      <a:pt x="35" y="69"/>
                    </a:lnTo>
                    <a:lnTo>
                      <a:pt x="12" y="5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2306880" y="2733120"/>
                <a:ext cx="62640" cy="90360"/>
              </a:xfrm>
              <a:custGeom>
                <a:avLst/>
                <a:gdLst/>
                <a:ahLst/>
                <a:rect l="l" t="t" r="r" b="b"/>
                <a:pathLst>
                  <a:path w="42" h="61">
                    <a:moveTo>
                      <a:pt x="0" y="6"/>
                    </a:moveTo>
                    <a:lnTo>
                      <a:pt x="42" y="0"/>
                    </a:lnTo>
                    <a:lnTo>
                      <a:pt x="42" y="47"/>
                    </a:lnTo>
                    <a:lnTo>
                      <a:pt x="31" y="61"/>
                    </a:lnTo>
                    <a:lnTo>
                      <a:pt x="9" y="5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2308320" y="2734560"/>
                <a:ext cx="59760" cy="82800"/>
              </a:xfrm>
              <a:custGeom>
                <a:avLst/>
                <a:gdLst/>
                <a:ahLst/>
                <a:rect l="l" t="t" r="r" b="b"/>
                <a:pathLst>
                  <a:path w="40" h="56">
                    <a:moveTo>
                      <a:pt x="0" y="6"/>
                    </a:moveTo>
                    <a:lnTo>
                      <a:pt x="40" y="0"/>
                    </a:lnTo>
                    <a:lnTo>
                      <a:pt x="40" y="44"/>
                    </a:lnTo>
                    <a:lnTo>
                      <a:pt x="28" y="56"/>
                    </a:lnTo>
                    <a:lnTo>
                      <a:pt x="9" y="5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2" name="组合 94"/>
            <p:cNvGrpSpPr/>
            <p:nvPr/>
          </p:nvGrpSpPr>
          <p:grpSpPr>
            <a:xfrm>
              <a:off x="1442520" y="1185480"/>
              <a:ext cx="1606680" cy="2890440"/>
              <a:chOff x="1442520" y="1185480"/>
              <a:chExt cx="1606680" cy="2890440"/>
            </a:xfrm>
          </p:grpSpPr>
          <p:grpSp>
            <p:nvGrpSpPr>
              <p:cNvPr id="193" name="组合 95"/>
              <p:cNvGrpSpPr/>
              <p:nvPr/>
            </p:nvGrpSpPr>
            <p:grpSpPr>
              <a:xfrm>
                <a:off x="1442520" y="1683720"/>
                <a:ext cx="1606680" cy="2155680"/>
                <a:chOff x="1442520" y="1683720"/>
                <a:chExt cx="1606680" cy="2155680"/>
              </a:xfrm>
            </p:grpSpPr>
            <p:grpSp>
              <p:nvGrpSpPr>
                <p:cNvPr id="194" name="组合 160"/>
                <p:cNvGrpSpPr/>
                <p:nvPr/>
              </p:nvGrpSpPr>
              <p:grpSpPr>
                <a:xfrm>
                  <a:off x="2156760" y="1683720"/>
                  <a:ext cx="892440" cy="1150560"/>
                  <a:chOff x="2156760" y="1683720"/>
                  <a:chExt cx="892440" cy="1150560"/>
                </a:xfrm>
              </p:grpSpPr>
              <p:sp>
                <p:nvSpPr>
                  <p:cNvPr id="195" name="Freeform 7"/>
                  <p:cNvSpPr/>
                  <p:nvPr/>
                </p:nvSpPr>
                <p:spPr>
                  <a:xfrm>
                    <a:off x="2750400" y="1683720"/>
                    <a:ext cx="2988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15">
                        <a:moveTo>
                          <a:pt x="0" y="185"/>
                        </a:moveTo>
                        <a:cubicBezTo>
                          <a:pt x="29" y="109"/>
                          <a:pt x="29" y="109"/>
                          <a:pt x="29" y="109"/>
                        </a:cubicBezTo>
                        <a:cubicBezTo>
                          <a:pt x="29" y="109"/>
                          <a:pt x="60" y="10"/>
                          <a:pt x="91" y="4"/>
                        </a:cubicBezTo>
                        <a:cubicBezTo>
                          <a:pt x="91" y="4"/>
                          <a:pt x="113" y="0"/>
                          <a:pt x="106" y="15"/>
                        </a:cubicBezTo>
                        <a:cubicBezTo>
                          <a:pt x="101" y="23"/>
                          <a:pt x="101" y="23"/>
                          <a:pt x="101" y="23"/>
                        </a:cubicBezTo>
                        <a:cubicBezTo>
                          <a:pt x="101" y="23"/>
                          <a:pt x="120" y="7"/>
                          <a:pt x="131" y="16"/>
                        </a:cubicBezTo>
                        <a:cubicBezTo>
                          <a:pt x="131" y="16"/>
                          <a:pt x="138" y="21"/>
                          <a:pt x="125" y="40"/>
                        </a:cubicBezTo>
                        <a:cubicBezTo>
                          <a:pt x="125" y="40"/>
                          <a:pt x="133" y="25"/>
                          <a:pt x="145" y="37"/>
                        </a:cubicBezTo>
                        <a:cubicBezTo>
                          <a:pt x="156" y="49"/>
                          <a:pt x="128" y="74"/>
                          <a:pt x="116" y="132"/>
                        </a:cubicBezTo>
                        <a:cubicBezTo>
                          <a:pt x="105" y="189"/>
                          <a:pt x="61" y="202"/>
                          <a:pt x="61" y="202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lnTo>
                          <a:pt x="0" y="185"/>
                        </a:lnTo>
                        <a:close/>
                      </a:path>
                    </a:pathLst>
                  </a:custGeom>
                  <a:solidFill>
                    <a:srgbClr val="f9da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8"/>
                  <p:cNvSpPr/>
                  <p:nvPr/>
                </p:nvSpPr>
                <p:spPr>
                  <a:xfrm>
                    <a:off x="2750400" y="1797840"/>
                    <a:ext cx="11808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53">
                        <a:moveTo>
                          <a:pt x="7" y="115"/>
                        </a:moveTo>
                        <a:cubicBezTo>
                          <a:pt x="7" y="115"/>
                          <a:pt x="0" y="113"/>
                          <a:pt x="7" y="85"/>
                        </a:cubicBezTo>
                        <a:cubicBezTo>
                          <a:pt x="14" y="57"/>
                          <a:pt x="30" y="0"/>
                          <a:pt x="38" y="2"/>
                        </a:cubicBezTo>
                        <a:cubicBezTo>
                          <a:pt x="45" y="3"/>
                          <a:pt x="50" y="11"/>
                          <a:pt x="47" y="20"/>
                        </a:cubicBezTo>
                        <a:cubicBezTo>
                          <a:pt x="45" y="28"/>
                          <a:pt x="41" y="61"/>
                          <a:pt x="48" y="76"/>
                        </a:cubicBezTo>
                        <a:cubicBezTo>
                          <a:pt x="48" y="76"/>
                          <a:pt x="62" y="153"/>
                          <a:pt x="7" y="115"/>
                        </a:cubicBezTo>
                        <a:close/>
                      </a:path>
                    </a:pathLst>
                  </a:custGeom>
                  <a:solidFill>
                    <a:srgbClr val="f9da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9"/>
                  <p:cNvSpPr/>
                  <p:nvPr/>
                </p:nvSpPr>
                <p:spPr>
                  <a:xfrm>
                    <a:off x="2750400" y="1683720"/>
                    <a:ext cx="2826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215">
                        <a:moveTo>
                          <a:pt x="147" y="47"/>
                        </a:moveTo>
                        <a:cubicBezTo>
                          <a:pt x="148" y="44"/>
                          <a:pt x="147" y="40"/>
                          <a:pt x="145" y="37"/>
                        </a:cubicBezTo>
                        <a:cubicBezTo>
                          <a:pt x="145" y="37"/>
                          <a:pt x="145" y="37"/>
                          <a:pt x="145" y="37"/>
                        </a:cubicBezTo>
                        <a:cubicBezTo>
                          <a:pt x="143" y="36"/>
                          <a:pt x="142" y="35"/>
                          <a:pt x="141" y="34"/>
                        </a:cubicBezTo>
                        <a:cubicBezTo>
                          <a:pt x="140" y="34"/>
                          <a:pt x="140" y="34"/>
                          <a:pt x="139" y="33"/>
                        </a:cubicBezTo>
                        <a:cubicBezTo>
                          <a:pt x="141" y="35"/>
                          <a:pt x="140" y="38"/>
                          <a:pt x="141" y="39"/>
                        </a:cubicBezTo>
                        <a:cubicBezTo>
                          <a:pt x="143" y="46"/>
                          <a:pt x="143" y="49"/>
                          <a:pt x="140" y="56"/>
                        </a:cubicBezTo>
                        <a:cubicBezTo>
                          <a:pt x="135" y="67"/>
                          <a:pt x="127" y="77"/>
                          <a:pt x="122" y="88"/>
                        </a:cubicBezTo>
                        <a:cubicBezTo>
                          <a:pt x="120" y="93"/>
                          <a:pt x="118" y="107"/>
                          <a:pt x="110" y="101"/>
                        </a:cubicBezTo>
                        <a:cubicBezTo>
                          <a:pt x="108" y="100"/>
                          <a:pt x="105" y="96"/>
                          <a:pt x="103" y="94"/>
                        </a:cubicBezTo>
                        <a:cubicBezTo>
                          <a:pt x="95" y="87"/>
                          <a:pt x="109" y="75"/>
                          <a:pt x="114" y="69"/>
                        </a:cubicBezTo>
                        <a:cubicBezTo>
                          <a:pt x="121" y="58"/>
                          <a:pt x="127" y="47"/>
                          <a:pt x="130" y="34"/>
                        </a:cubicBezTo>
                        <a:cubicBezTo>
                          <a:pt x="130" y="34"/>
                          <a:pt x="130" y="34"/>
                          <a:pt x="130" y="34"/>
                        </a:cubicBezTo>
                        <a:cubicBezTo>
                          <a:pt x="128" y="36"/>
                          <a:pt x="127" y="37"/>
                          <a:pt x="126" y="38"/>
                        </a:cubicBezTo>
                        <a:cubicBezTo>
                          <a:pt x="132" y="29"/>
                          <a:pt x="133" y="23"/>
                          <a:pt x="133" y="20"/>
                        </a:cubicBezTo>
                        <a:cubicBezTo>
                          <a:pt x="133" y="20"/>
                          <a:pt x="133" y="20"/>
                          <a:pt x="133" y="20"/>
                        </a:cubicBezTo>
                        <a:cubicBezTo>
                          <a:pt x="129" y="22"/>
                          <a:pt x="129" y="27"/>
                          <a:pt x="127" y="31"/>
                        </a:cubicBezTo>
                        <a:cubicBezTo>
                          <a:pt x="124" y="40"/>
                          <a:pt x="119" y="49"/>
                          <a:pt x="113" y="57"/>
                        </a:cubicBezTo>
                        <a:cubicBezTo>
                          <a:pt x="108" y="65"/>
                          <a:pt x="97" y="84"/>
                          <a:pt x="85" y="79"/>
                        </a:cubicBezTo>
                        <a:cubicBezTo>
                          <a:pt x="78" y="76"/>
                          <a:pt x="80" y="70"/>
                          <a:pt x="83" y="64"/>
                        </a:cubicBezTo>
                        <a:cubicBezTo>
                          <a:pt x="87" y="58"/>
                          <a:pt x="91" y="52"/>
                          <a:pt x="94" y="45"/>
                        </a:cubicBezTo>
                        <a:cubicBezTo>
                          <a:pt x="98" y="39"/>
                          <a:pt x="99" y="31"/>
                          <a:pt x="104" y="26"/>
                        </a:cubicBezTo>
                        <a:cubicBezTo>
                          <a:pt x="109" y="20"/>
                          <a:pt x="117" y="18"/>
                          <a:pt x="123" y="13"/>
                        </a:cubicBezTo>
                        <a:cubicBezTo>
                          <a:pt x="113" y="13"/>
                          <a:pt x="101" y="23"/>
                          <a:pt x="101" y="23"/>
                        </a:cubicBezTo>
                        <a:cubicBezTo>
                          <a:pt x="106" y="15"/>
                          <a:pt x="106" y="15"/>
                          <a:pt x="106" y="15"/>
                        </a:cubicBezTo>
                        <a:cubicBezTo>
                          <a:pt x="113" y="0"/>
                          <a:pt x="91" y="4"/>
                          <a:pt x="91" y="4"/>
                        </a:cubicBezTo>
                        <a:cubicBezTo>
                          <a:pt x="89" y="4"/>
                          <a:pt x="86" y="6"/>
                          <a:pt x="83" y="7"/>
                        </a:cubicBezTo>
                        <a:cubicBezTo>
                          <a:pt x="83" y="7"/>
                          <a:pt x="83" y="7"/>
                          <a:pt x="83" y="7"/>
                        </a:cubicBezTo>
                        <a:cubicBezTo>
                          <a:pt x="88" y="7"/>
                          <a:pt x="99" y="7"/>
                          <a:pt x="99" y="11"/>
                        </a:cubicBezTo>
                        <a:cubicBezTo>
                          <a:pt x="98" y="15"/>
                          <a:pt x="98" y="16"/>
                          <a:pt x="96" y="21"/>
                        </a:cubicBezTo>
                        <a:cubicBezTo>
                          <a:pt x="94" y="25"/>
                          <a:pt x="93" y="28"/>
                          <a:pt x="91" y="31"/>
                        </a:cubicBezTo>
                        <a:cubicBezTo>
                          <a:pt x="89" y="37"/>
                          <a:pt x="86" y="43"/>
                          <a:pt x="83" y="49"/>
                        </a:cubicBezTo>
                        <a:cubicBezTo>
                          <a:pt x="78" y="57"/>
                          <a:pt x="73" y="68"/>
                          <a:pt x="63" y="72"/>
                        </a:cubicBezTo>
                        <a:cubicBezTo>
                          <a:pt x="54" y="75"/>
                          <a:pt x="54" y="65"/>
                          <a:pt x="48" y="62"/>
                        </a:cubicBezTo>
                        <a:cubicBezTo>
                          <a:pt x="47" y="63"/>
                          <a:pt x="47" y="63"/>
                          <a:pt x="47" y="64"/>
                        </a:cubicBezTo>
                        <a:cubicBezTo>
                          <a:pt x="46" y="65"/>
                          <a:pt x="46" y="66"/>
                          <a:pt x="45" y="67"/>
                        </a:cubicBezTo>
                        <a:cubicBezTo>
                          <a:pt x="45" y="66"/>
                          <a:pt x="45" y="66"/>
                          <a:pt x="45" y="66"/>
                        </a:cubicBezTo>
                        <a:cubicBezTo>
                          <a:pt x="45" y="67"/>
                          <a:pt x="44" y="68"/>
                          <a:pt x="45" y="68"/>
                        </a:cubicBezTo>
                        <a:cubicBezTo>
                          <a:pt x="49" y="75"/>
                          <a:pt x="46" y="86"/>
                          <a:pt x="44" y="95"/>
                        </a:cubicBezTo>
                        <a:cubicBezTo>
                          <a:pt x="45" y="99"/>
                          <a:pt x="46" y="104"/>
                          <a:pt x="46" y="108"/>
                        </a:cubicBezTo>
                        <a:cubicBezTo>
                          <a:pt x="48" y="119"/>
                          <a:pt x="50" y="131"/>
                          <a:pt x="48" y="142"/>
                        </a:cubicBezTo>
                        <a:cubicBezTo>
                          <a:pt x="49" y="147"/>
                          <a:pt x="48" y="153"/>
                          <a:pt x="43" y="156"/>
                        </a:cubicBezTo>
                        <a:cubicBezTo>
                          <a:pt x="38" y="158"/>
                          <a:pt x="29" y="161"/>
                          <a:pt x="22" y="160"/>
                        </a:cubicBezTo>
                        <a:cubicBezTo>
                          <a:pt x="23" y="159"/>
                          <a:pt x="23" y="159"/>
                          <a:pt x="23" y="159"/>
                        </a:cubicBezTo>
                        <a:cubicBezTo>
                          <a:pt x="22" y="159"/>
                          <a:pt x="21" y="158"/>
                          <a:pt x="20" y="158"/>
                        </a:cubicBezTo>
                        <a:cubicBezTo>
                          <a:pt x="19" y="158"/>
                          <a:pt x="19" y="158"/>
                          <a:pt x="18" y="158"/>
                        </a:cubicBezTo>
                        <a:cubicBezTo>
                          <a:pt x="17" y="158"/>
                          <a:pt x="16" y="157"/>
                          <a:pt x="16" y="156"/>
                        </a:cubicBezTo>
                        <a:cubicBezTo>
                          <a:pt x="15" y="154"/>
                          <a:pt x="14" y="152"/>
                          <a:pt x="14" y="149"/>
                        </a:cubicBezTo>
                        <a:cubicBezTo>
                          <a:pt x="8" y="133"/>
                          <a:pt x="15" y="113"/>
                          <a:pt x="22" y="98"/>
                        </a:cubicBezTo>
                        <a:cubicBezTo>
                          <a:pt x="22" y="98"/>
                          <a:pt x="22" y="97"/>
                          <a:pt x="21" y="97"/>
                        </a:cubicBezTo>
                        <a:cubicBezTo>
                          <a:pt x="20" y="98"/>
                          <a:pt x="20" y="99"/>
                          <a:pt x="20" y="100"/>
                        </a:cubicBezTo>
                        <a:cubicBezTo>
                          <a:pt x="14" y="116"/>
                          <a:pt x="10" y="133"/>
                          <a:pt x="7" y="145"/>
                        </a:cubicBezTo>
                        <a:cubicBezTo>
                          <a:pt x="5" y="150"/>
                          <a:pt x="4" y="154"/>
                          <a:pt x="4" y="158"/>
                        </a:cubicBezTo>
                        <a:cubicBezTo>
                          <a:pt x="4" y="158"/>
                          <a:pt x="4" y="158"/>
                          <a:pt x="4" y="158"/>
                        </a:cubicBezTo>
                        <a:cubicBezTo>
                          <a:pt x="3" y="166"/>
                          <a:pt x="4" y="170"/>
                          <a:pt x="4" y="172"/>
                        </a:cubicBezTo>
                        <a:cubicBezTo>
                          <a:pt x="4" y="172"/>
                          <a:pt x="4" y="172"/>
                          <a:pt x="4" y="172"/>
                        </a:cubicBezTo>
                        <a:cubicBezTo>
                          <a:pt x="5" y="173"/>
                          <a:pt x="5" y="173"/>
                          <a:pt x="5" y="173"/>
                        </a:cubicBezTo>
                        <a:cubicBezTo>
                          <a:pt x="0" y="185"/>
                          <a:pt x="0" y="185"/>
                          <a:pt x="0" y="185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cubicBezTo>
                          <a:pt x="61" y="202"/>
                          <a:pt x="61" y="202"/>
                          <a:pt x="61" y="202"/>
                        </a:cubicBezTo>
                        <a:cubicBezTo>
                          <a:pt x="61" y="202"/>
                          <a:pt x="105" y="189"/>
                          <a:pt x="116" y="132"/>
                        </a:cubicBezTo>
                        <a:cubicBezTo>
                          <a:pt x="122" y="103"/>
                          <a:pt x="132" y="82"/>
                          <a:pt x="140" y="67"/>
                        </a:cubicBezTo>
                        <a:cubicBezTo>
                          <a:pt x="142" y="60"/>
                          <a:pt x="145" y="54"/>
                          <a:pt x="147" y="47"/>
                        </a:cubicBezTo>
                        <a:close/>
                        <a:moveTo>
                          <a:pt x="102" y="139"/>
                        </a:moveTo>
                        <a:cubicBezTo>
                          <a:pt x="101" y="145"/>
                          <a:pt x="99" y="151"/>
                          <a:pt x="97" y="157"/>
                        </a:cubicBezTo>
                        <a:cubicBezTo>
                          <a:pt x="96" y="161"/>
                          <a:pt x="95" y="167"/>
                          <a:pt x="92" y="171"/>
                        </a:cubicBezTo>
                        <a:cubicBezTo>
                          <a:pt x="78" y="191"/>
                          <a:pt x="52" y="178"/>
                          <a:pt x="55" y="155"/>
                        </a:cubicBezTo>
                        <a:cubicBezTo>
                          <a:pt x="55" y="152"/>
                          <a:pt x="56" y="150"/>
                          <a:pt x="58" y="148"/>
                        </a:cubicBezTo>
                        <a:cubicBezTo>
                          <a:pt x="55" y="139"/>
                          <a:pt x="53" y="130"/>
                          <a:pt x="52" y="121"/>
                        </a:cubicBezTo>
                        <a:cubicBezTo>
                          <a:pt x="50" y="112"/>
                          <a:pt x="48" y="101"/>
                          <a:pt x="55" y="94"/>
                        </a:cubicBezTo>
                        <a:cubicBezTo>
                          <a:pt x="60" y="88"/>
                          <a:pt x="69" y="88"/>
                          <a:pt x="75" y="92"/>
                        </a:cubicBezTo>
                        <a:cubicBezTo>
                          <a:pt x="81" y="95"/>
                          <a:pt x="82" y="103"/>
                          <a:pt x="87" y="107"/>
                        </a:cubicBezTo>
                        <a:cubicBezTo>
                          <a:pt x="90" y="109"/>
                          <a:pt x="94" y="109"/>
                          <a:pt x="97" y="111"/>
                        </a:cubicBezTo>
                        <a:cubicBezTo>
                          <a:pt x="104" y="118"/>
                          <a:pt x="102" y="131"/>
                          <a:pt x="102" y="139"/>
                        </a:cubicBezTo>
                        <a:close/>
                      </a:path>
                    </a:pathLst>
                  </a:custGeom>
                  <a:solidFill>
                    <a:srgbClr val="f7ce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10"/>
                  <p:cNvSpPr/>
                  <p:nvPr/>
                </p:nvSpPr>
                <p:spPr>
                  <a:xfrm>
                    <a:off x="2156760" y="2024640"/>
                    <a:ext cx="705600" cy="79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417">
                        <a:moveTo>
                          <a:pt x="313" y="0"/>
                        </a:moveTo>
                        <a:cubicBezTo>
                          <a:pt x="80" y="324"/>
                          <a:pt x="80" y="324"/>
                          <a:pt x="80" y="324"/>
                        </a:cubicBezTo>
                        <a:cubicBezTo>
                          <a:pt x="80" y="324"/>
                          <a:pt x="58" y="356"/>
                          <a:pt x="0" y="356"/>
                        </a:cubicBezTo>
                        <a:cubicBezTo>
                          <a:pt x="1" y="358"/>
                          <a:pt x="2" y="360"/>
                          <a:pt x="2" y="363"/>
                        </a:cubicBezTo>
                        <a:cubicBezTo>
                          <a:pt x="16" y="360"/>
                          <a:pt x="30" y="360"/>
                          <a:pt x="44" y="362"/>
                        </a:cubicBezTo>
                        <a:cubicBezTo>
                          <a:pt x="44" y="362"/>
                          <a:pt x="44" y="362"/>
                          <a:pt x="44" y="362"/>
                        </a:cubicBezTo>
                        <a:cubicBezTo>
                          <a:pt x="50" y="359"/>
                          <a:pt x="57" y="357"/>
                          <a:pt x="64" y="356"/>
                        </a:cubicBezTo>
                        <a:cubicBezTo>
                          <a:pt x="90" y="355"/>
                          <a:pt x="108" y="371"/>
                          <a:pt x="116" y="393"/>
                        </a:cubicBezTo>
                        <a:cubicBezTo>
                          <a:pt x="118" y="398"/>
                          <a:pt x="118" y="403"/>
                          <a:pt x="119" y="408"/>
                        </a:cubicBezTo>
                        <a:cubicBezTo>
                          <a:pt x="119" y="408"/>
                          <a:pt x="119" y="408"/>
                          <a:pt x="119" y="408"/>
                        </a:cubicBezTo>
                        <a:cubicBezTo>
                          <a:pt x="120" y="410"/>
                          <a:pt x="120" y="415"/>
                          <a:pt x="122" y="417"/>
                        </a:cubicBezTo>
                        <a:cubicBezTo>
                          <a:pt x="122" y="391"/>
                          <a:pt x="140" y="363"/>
                          <a:pt x="150" y="348"/>
                        </a:cubicBezTo>
                        <a:cubicBezTo>
                          <a:pt x="161" y="331"/>
                          <a:pt x="323" y="157"/>
                          <a:pt x="363" y="42"/>
                        </a:cubicBezTo>
                        <a:cubicBezTo>
                          <a:pt x="363" y="42"/>
                          <a:pt x="368" y="32"/>
                          <a:pt x="313" y="0"/>
                        </a:cubicBezTo>
                        <a:close/>
                      </a:path>
                    </a:pathLst>
                  </a:custGeom>
                  <a:solidFill>
                    <a:srgbClr val="f9f7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Freeform 11"/>
                  <p:cNvSpPr/>
                  <p:nvPr/>
                </p:nvSpPr>
                <p:spPr>
                  <a:xfrm>
                    <a:off x="2156760" y="2079360"/>
                    <a:ext cx="699840" cy="75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97">
                        <a:moveTo>
                          <a:pt x="354" y="0"/>
                        </a:moveTo>
                        <a:cubicBezTo>
                          <a:pt x="322" y="62"/>
                          <a:pt x="292" y="131"/>
                          <a:pt x="244" y="185"/>
                        </a:cubicBezTo>
                        <a:cubicBezTo>
                          <a:pt x="228" y="203"/>
                          <a:pt x="211" y="220"/>
                          <a:pt x="194" y="237"/>
                        </a:cubicBezTo>
                        <a:cubicBezTo>
                          <a:pt x="185" y="246"/>
                          <a:pt x="177" y="255"/>
                          <a:pt x="169" y="263"/>
                        </a:cubicBezTo>
                        <a:cubicBezTo>
                          <a:pt x="162" y="271"/>
                          <a:pt x="157" y="280"/>
                          <a:pt x="148" y="287"/>
                        </a:cubicBezTo>
                        <a:cubicBezTo>
                          <a:pt x="140" y="295"/>
                          <a:pt x="124" y="277"/>
                          <a:pt x="113" y="280"/>
                        </a:cubicBezTo>
                        <a:cubicBezTo>
                          <a:pt x="100" y="284"/>
                          <a:pt x="88" y="287"/>
                          <a:pt x="74" y="290"/>
                        </a:cubicBezTo>
                        <a:cubicBezTo>
                          <a:pt x="63" y="293"/>
                          <a:pt x="52" y="314"/>
                          <a:pt x="42" y="319"/>
                        </a:cubicBezTo>
                        <a:cubicBezTo>
                          <a:pt x="42" y="320"/>
                          <a:pt x="43" y="320"/>
                          <a:pt x="43" y="321"/>
                        </a:cubicBezTo>
                        <a:cubicBezTo>
                          <a:pt x="29" y="323"/>
                          <a:pt x="15" y="325"/>
                          <a:pt x="0" y="327"/>
                        </a:cubicBezTo>
                        <a:cubicBezTo>
                          <a:pt x="1" y="329"/>
                          <a:pt x="2" y="331"/>
                          <a:pt x="2" y="334"/>
                        </a:cubicBezTo>
                        <a:cubicBezTo>
                          <a:pt x="16" y="331"/>
                          <a:pt x="30" y="331"/>
                          <a:pt x="44" y="333"/>
                        </a:cubicBezTo>
                        <a:cubicBezTo>
                          <a:pt x="44" y="333"/>
                          <a:pt x="44" y="333"/>
                          <a:pt x="44" y="333"/>
                        </a:cubicBezTo>
                        <a:cubicBezTo>
                          <a:pt x="50" y="330"/>
                          <a:pt x="57" y="328"/>
                          <a:pt x="64" y="327"/>
                        </a:cubicBezTo>
                        <a:cubicBezTo>
                          <a:pt x="74" y="327"/>
                          <a:pt x="83" y="329"/>
                          <a:pt x="91" y="334"/>
                        </a:cubicBezTo>
                        <a:cubicBezTo>
                          <a:pt x="94" y="335"/>
                          <a:pt x="96" y="337"/>
                          <a:pt x="98" y="339"/>
                        </a:cubicBezTo>
                        <a:cubicBezTo>
                          <a:pt x="106" y="345"/>
                          <a:pt x="112" y="354"/>
                          <a:pt x="116" y="364"/>
                        </a:cubicBezTo>
                        <a:cubicBezTo>
                          <a:pt x="118" y="369"/>
                          <a:pt x="118" y="374"/>
                          <a:pt x="119" y="379"/>
                        </a:cubicBezTo>
                        <a:cubicBezTo>
                          <a:pt x="119" y="379"/>
                          <a:pt x="118" y="378"/>
                          <a:pt x="118" y="378"/>
                        </a:cubicBezTo>
                        <a:cubicBezTo>
                          <a:pt x="119" y="380"/>
                          <a:pt x="119" y="395"/>
                          <a:pt x="120" y="397"/>
                        </a:cubicBezTo>
                        <a:cubicBezTo>
                          <a:pt x="121" y="391"/>
                          <a:pt x="126" y="355"/>
                          <a:pt x="150" y="319"/>
                        </a:cubicBezTo>
                        <a:cubicBezTo>
                          <a:pt x="161" y="302"/>
                          <a:pt x="323" y="128"/>
                          <a:pt x="363" y="13"/>
                        </a:cubicBezTo>
                        <a:cubicBezTo>
                          <a:pt x="363" y="13"/>
                          <a:pt x="365" y="9"/>
                          <a:pt x="354" y="0"/>
                        </a:cubicBezTo>
                        <a:close/>
                      </a:path>
                    </a:pathLst>
                  </a:custGeom>
                  <a:solidFill>
                    <a:srgbClr val="ddda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Freeform 12"/>
                  <p:cNvSpPr/>
                  <p:nvPr/>
                </p:nvSpPr>
                <p:spPr>
                  <a:xfrm>
                    <a:off x="2739960" y="2003760"/>
                    <a:ext cx="1342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66">
                        <a:moveTo>
                          <a:pt x="69" y="37"/>
                        </a:moveTo>
                        <a:cubicBezTo>
                          <a:pt x="67" y="34"/>
                          <a:pt x="63" y="30"/>
                          <a:pt x="58" y="27"/>
                        </a:cubicBezTo>
                        <a:cubicBezTo>
                          <a:pt x="41" y="17"/>
                          <a:pt x="25" y="2"/>
                          <a:pt x="14" y="0"/>
                        </a:cubicBezTo>
                        <a:cubicBezTo>
                          <a:pt x="14" y="0"/>
                          <a:pt x="14" y="1"/>
                          <a:pt x="13" y="1"/>
                        </a:cubicBezTo>
                        <a:cubicBezTo>
                          <a:pt x="10" y="9"/>
                          <a:pt x="8" y="17"/>
                          <a:pt x="3" y="24"/>
                        </a:cubicBezTo>
                        <a:cubicBezTo>
                          <a:pt x="2" y="26"/>
                          <a:pt x="1" y="28"/>
                          <a:pt x="0" y="30"/>
                        </a:cubicBezTo>
                        <a:cubicBezTo>
                          <a:pt x="11" y="35"/>
                          <a:pt x="39" y="50"/>
                          <a:pt x="48" y="66"/>
                        </a:cubicBezTo>
                        <a:cubicBezTo>
                          <a:pt x="50" y="63"/>
                          <a:pt x="56" y="53"/>
                          <a:pt x="59" y="50"/>
                        </a:cubicBezTo>
                        <a:cubicBezTo>
                          <a:pt x="61" y="48"/>
                          <a:pt x="63" y="45"/>
                          <a:pt x="65" y="42"/>
                        </a:cubicBezTo>
                        <a:cubicBezTo>
                          <a:pt x="66" y="41"/>
                          <a:pt x="70" y="34"/>
                          <a:pt x="68" y="39"/>
                        </a:cubicBezTo>
                        <a:cubicBezTo>
                          <a:pt x="68" y="38"/>
                          <a:pt x="69" y="38"/>
                          <a:pt x="69" y="37"/>
                        </a:cubicBezTo>
                        <a:close/>
                      </a:path>
                    </a:pathLst>
                  </a:custGeom>
                  <a:solidFill>
                    <a:srgbClr val="ddda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Freeform 13"/>
                  <p:cNvSpPr/>
                  <p:nvPr/>
                </p:nvSpPr>
                <p:spPr>
                  <a:xfrm>
                    <a:off x="2727720" y="1968480"/>
                    <a:ext cx="15552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8">
                        <a:moveTo>
                          <a:pt x="65" y="77"/>
                        </a:moveTo>
                        <a:cubicBezTo>
                          <a:pt x="65" y="77"/>
                          <a:pt x="69" y="78"/>
                          <a:pt x="74" y="71"/>
                        </a:cubicBezTo>
                        <a:cubicBezTo>
                          <a:pt x="77" y="66"/>
                          <a:pt x="81" y="55"/>
                          <a:pt x="78" y="52"/>
                        </a:cubicBezTo>
                        <a:cubicBezTo>
                          <a:pt x="76" y="49"/>
                          <a:pt x="72" y="43"/>
                          <a:pt x="64" y="38"/>
                        </a:cubicBezTo>
                        <a:cubicBezTo>
                          <a:pt x="41" y="24"/>
                          <a:pt x="18" y="0"/>
                          <a:pt x="10" y="15"/>
                        </a:cubicBezTo>
                        <a:cubicBezTo>
                          <a:pt x="2" y="30"/>
                          <a:pt x="0" y="38"/>
                          <a:pt x="0" y="38"/>
                        </a:cubicBezTo>
                        <a:cubicBezTo>
                          <a:pt x="0" y="38"/>
                          <a:pt x="50" y="57"/>
                          <a:pt x="65" y="77"/>
                        </a:cubicBezTo>
                        <a:close/>
                      </a:path>
                    </a:pathLst>
                  </a:custGeom>
                  <a:solidFill>
                    <a:srgbClr val="f9f7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2" name="组合 161"/>
                <p:cNvGrpSpPr/>
                <p:nvPr/>
              </p:nvGrpSpPr>
              <p:grpSpPr>
                <a:xfrm>
                  <a:off x="1442520" y="2685240"/>
                  <a:ext cx="943200" cy="1154160"/>
                  <a:chOff x="1442520" y="2685240"/>
                  <a:chExt cx="943200" cy="1154160"/>
                </a:xfrm>
              </p:grpSpPr>
              <p:sp>
                <p:nvSpPr>
                  <p:cNvPr id="203" name="Freeform 7"/>
                  <p:cNvSpPr/>
                  <p:nvPr/>
                </p:nvSpPr>
                <p:spPr>
                  <a:xfrm rot="10954800">
                    <a:off x="1451160" y="3425040"/>
                    <a:ext cx="2988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15">
                        <a:moveTo>
                          <a:pt x="0" y="185"/>
                        </a:moveTo>
                        <a:cubicBezTo>
                          <a:pt x="29" y="109"/>
                          <a:pt x="29" y="109"/>
                          <a:pt x="29" y="109"/>
                        </a:cubicBezTo>
                        <a:cubicBezTo>
                          <a:pt x="29" y="109"/>
                          <a:pt x="60" y="10"/>
                          <a:pt x="91" y="4"/>
                        </a:cubicBezTo>
                        <a:cubicBezTo>
                          <a:pt x="91" y="4"/>
                          <a:pt x="113" y="0"/>
                          <a:pt x="106" y="15"/>
                        </a:cubicBezTo>
                        <a:cubicBezTo>
                          <a:pt x="101" y="23"/>
                          <a:pt x="101" y="23"/>
                          <a:pt x="101" y="23"/>
                        </a:cubicBezTo>
                        <a:cubicBezTo>
                          <a:pt x="101" y="23"/>
                          <a:pt x="120" y="7"/>
                          <a:pt x="131" y="16"/>
                        </a:cubicBezTo>
                        <a:cubicBezTo>
                          <a:pt x="131" y="16"/>
                          <a:pt x="138" y="21"/>
                          <a:pt x="125" y="40"/>
                        </a:cubicBezTo>
                        <a:cubicBezTo>
                          <a:pt x="125" y="40"/>
                          <a:pt x="133" y="25"/>
                          <a:pt x="145" y="37"/>
                        </a:cubicBezTo>
                        <a:cubicBezTo>
                          <a:pt x="156" y="49"/>
                          <a:pt x="128" y="74"/>
                          <a:pt x="116" y="132"/>
                        </a:cubicBezTo>
                        <a:cubicBezTo>
                          <a:pt x="105" y="189"/>
                          <a:pt x="61" y="202"/>
                          <a:pt x="61" y="202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lnTo>
                          <a:pt x="0" y="185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Freeform 8"/>
                  <p:cNvSpPr/>
                  <p:nvPr/>
                </p:nvSpPr>
                <p:spPr>
                  <a:xfrm rot="10954800">
                    <a:off x="1634760" y="3432240"/>
                    <a:ext cx="11808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53">
                        <a:moveTo>
                          <a:pt x="7" y="115"/>
                        </a:moveTo>
                        <a:cubicBezTo>
                          <a:pt x="7" y="115"/>
                          <a:pt x="0" y="113"/>
                          <a:pt x="7" y="85"/>
                        </a:cubicBezTo>
                        <a:cubicBezTo>
                          <a:pt x="14" y="57"/>
                          <a:pt x="30" y="0"/>
                          <a:pt x="38" y="2"/>
                        </a:cubicBezTo>
                        <a:cubicBezTo>
                          <a:pt x="45" y="3"/>
                          <a:pt x="50" y="11"/>
                          <a:pt x="47" y="20"/>
                        </a:cubicBezTo>
                        <a:cubicBezTo>
                          <a:pt x="45" y="28"/>
                          <a:pt x="41" y="61"/>
                          <a:pt x="48" y="76"/>
                        </a:cubicBezTo>
                        <a:cubicBezTo>
                          <a:pt x="48" y="76"/>
                          <a:pt x="62" y="153"/>
                          <a:pt x="7" y="115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" name="Freeform 9"/>
                  <p:cNvSpPr/>
                  <p:nvPr/>
                </p:nvSpPr>
                <p:spPr>
                  <a:xfrm rot="10954800">
                    <a:off x="1467360" y="3425400"/>
                    <a:ext cx="2826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215">
                        <a:moveTo>
                          <a:pt x="147" y="47"/>
                        </a:moveTo>
                        <a:cubicBezTo>
                          <a:pt x="148" y="44"/>
                          <a:pt x="147" y="40"/>
                          <a:pt x="145" y="37"/>
                        </a:cubicBezTo>
                        <a:cubicBezTo>
                          <a:pt x="145" y="37"/>
                          <a:pt x="145" y="37"/>
                          <a:pt x="145" y="37"/>
                        </a:cubicBezTo>
                        <a:cubicBezTo>
                          <a:pt x="143" y="36"/>
                          <a:pt x="142" y="35"/>
                          <a:pt x="141" y="34"/>
                        </a:cubicBezTo>
                        <a:cubicBezTo>
                          <a:pt x="140" y="34"/>
                          <a:pt x="140" y="34"/>
                          <a:pt x="139" y="33"/>
                        </a:cubicBezTo>
                        <a:cubicBezTo>
                          <a:pt x="141" y="35"/>
                          <a:pt x="140" y="38"/>
                          <a:pt x="141" y="39"/>
                        </a:cubicBezTo>
                        <a:cubicBezTo>
                          <a:pt x="143" y="46"/>
                          <a:pt x="143" y="49"/>
                          <a:pt x="140" y="56"/>
                        </a:cubicBezTo>
                        <a:cubicBezTo>
                          <a:pt x="135" y="67"/>
                          <a:pt x="127" y="77"/>
                          <a:pt x="122" y="88"/>
                        </a:cubicBezTo>
                        <a:cubicBezTo>
                          <a:pt x="120" y="93"/>
                          <a:pt x="118" y="107"/>
                          <a:pt x="110" y="101"/>
                        </a:cubicBezTo>
                        <a:cubicBezTo>
                          <a:pt x="108" y="100"/>
                          <a:pt x="105" y="96"/>
                          <a:pt x="103" y="94"/>
                        </a:cubicBezTo>
                        <a:cubicBezTo>
                          <a:pt x="95" y="87"/>
                          <a:pt x="109" y="75"/>
                          <a:pt x="114" y="69"/>
                        </a:cubicBezTo>
                        <a:cubicBezTo>
                          <a:pt x="121" y="58"/>
                          <a:pt x="127" y="47"/>
                          <a:pt x="130" y="34"/>
                        </a:cubicBezTo>
                        <a:cubicBezTo>
                          <a:pt x="130" y="34"/>
                          <a:pt x="130" y="34"/>
                          <a:pt x="130" y="34"/>
                        </a:cubicBezTo>
                        <a:cubicBezTo>
                          <a:pt x="128" y="36"/>
                          <a:pt x="127" y="37"/>
                          <a:pt x="126" y="38"/>
                        </a:cubicBezTo>
                        <a:cubicBezTo>
                          <a:pt x="132" y="29"/>
                          <a:pt x="133" y="23"/>
                          <a:pt x="133" y="20"/>
                        </a:cubicBezTo>
                        <a:cubicBezTo>
                          <a:pt x="133" y="20"/>
                          <a:pt x="133" y="20"/>
                          <a:pt x="133" y="20"/>
                        </a:cubicBezTo>
                        <a:cubicBezTo>
                          <a:pt x="129" y="22"/>
                          <a:pt x="129" y="27"/>
                          <a:pt x="127" y="31"/>
                        </a:cubicBezTo>
                        <a:cubicBezTo>
                          <a:pt x="124" y="40"/>
                          <a:pt x="119" y="49"/>
                          <a:pt x="113" y="57"/>
                        </a:cubicBezTo>
                        <a:cubicBezTo>
                          <a:pt x="108" y="65"/>
                          <a:pt x="97" y="84"/>
                          <a:pt x="85" y="79"/>
                        </a:cubicBezTo>
                        <a:cubicBezTo>
                          <a:pt x="78" y="76"/>
                          <a:pt x="80" y="70"/>
                          <a:pt x="83" y="64"/>
                        </a:cubicBezTo>
                        <a:cubicBezTo>
                          <a:pt x="87" y="58"/>
                          <a:pt x="91" y="52"/>
                          <a:pt x="94" y="45"/>
                        </a:cubicBezTo>
                        <a:cubicBezTo>
                          <a:pt x="98" y="39"/>
                          <a:pt x="99" y="31"/>
                          <a:pt x="104" y="26"/>
                        </a:cubicBezTo>
                        <a:cubicBezTo>
                          <a:pt x="109" y="20"/>
                          <a:pt x="117" y="18"/>
                          <a:pt x="123" y="13"/>
                        </a:cubicBezTo>
                        <a:cubicBezTo>
                          <a:pt x="113" y="13"/>
                          <a:pt x="101" y="23"/>
                          <a:pt x="101" y="23"/>
                        </a:cubicBezTo>
                        <a:cubicBezTo>
                          <a:pt x="106" y="15"/>
                          <a:pt x="106" y="15"/>
                          <a:pt x="106" y="15"/>
                        </a:cubicBezTo>
                        <a:cubicBezTo>
                          <a:pt x="113" y="0"/>
                          <a:pt x="91" y="4"/>
                          <a:pt x="91" y="4"/>
                        </a:cubicBezTo>
                        <a:cubicBezTo>
                          <a:pt x="89" y="4"/>
                          <a:pt x="86" y="6"/>
                          <a:pt x="83" y="7"/>
                        </a:cubicBezTo>
                        <a:cubicBezTo>
                          <a:pt x="83" y="7"/>
                          <a:pt x="83" y="7"/>
                          <a:pt x="83" y="7"/>
                        </a:cubicBezTo>
                        <a:cubicBezTo>
                          <a:pt x="88" y="7"/>
                          <a:pt x="99" y="7"/>
                          <a:pt x="99" y="11"/>
                        </a:cubicBezTo>
                        <a:cubicBezTo>
                          <a:pt x="98" y="15"/>
                          <a:pt x="98" y="16"/>
                          <a:pt x="96" y="21"/>
                        </a:cubicBezTo>
                        <a:cubicBezTo>
                          <a:pt x="94" y="25"/>
                          <a:pt x="93" y="28"/>
                          <a:pt x="91" y="31"/>
                        </a:cubicBezTo>
                        <a:cubicBezTo>
                          <a:pt x="89" y="37"/>
                          <a:pt x="86" y="43"/>
                          <a:pt x="83" y="49"/>
                        </a:cubicBezTo>
                        <a:cubicBezTo>
                          <a:pt x="78" y="57"/>
                          <a:pt x="73" y="68"/>
                          <a:pt x="63" y="72"/>
                        </a:cubicBezTo>
                        <a:cubicBezTo>
                          <a:pt x="54" y="75"/>
                          <a:pt x="54" y="65"/>
                          <a:pt x="48" y="62"/>
                        </a:cubicBezTo>
                        <a:cubicBezTo>
                          <a:pt x="47" y="63"/>
                          <a:pt x="47" y="63"/>
                          <a:pt x="47" y="64"/>
                        </a:cubicBezTo>
                        <a:cubicBezTo>
                          <a:pt x="46" y="65"/>
                          <a:pt x="46" y="66"/>
                          <a:pt x="45" y="67"/>
                        </a:cubicBezTo>
                        <a:cubicBezTo>
                          <a:pt x="45" y="66"/>
                          <a:pt x="45" y="66"/>
                          <a:pt x="45" y="66"/>
                        </a:cubicBezTo>
                        <a:cubicBezTo>
                          <a:pt x="45" y="67"/>
                          <a:pt x="44" y="68"/>
                          <a:pt x="45" y="68"/>
                        </a:cubicBezTo>
                        <a:cubicBezTo>
                          <a:pt x="49" y="75"/>
                          <a:pt x="46" y="86"/>
                          <a:pt x="44" y="95"/>
                        </a:cubicBezTo>
                        <a:cubicBezTo>
                          <a:pt x="45" y="99"/>
                          <a:pt x="46" y="104"/>
                          <a:pt x="46" y="108"/>
                        </a:cubicBezTo>
                        <a:cubicBezTo>
                          <a:pt x="48" y="119"/>
                          <a:pt x="50" y="131"/>
                          <a:pt x="48" y="142"/>
                        </a:cubicBezTo>
                        <a:cubicBezTo>
                          <a:pt x="49" y="147"/>
                          <a:pt x="48" y="153"/>
                          <a:pt x="43" y="156"/>
                        </a:cubicBezTo>
                        <a:cubicBezTo>
                          <a:pt x="38" y="158"/>
                          <a:pt x="29" y="161"/>
                          <a:pt x="22" y="160"/>
                        </a:cubicBezTo>
                        <a:cubicBezTo>
                          <a:pt x="23" y="159"/>
                          <a:pt x="23" y="159"/>
                          <a:pt x="23" y="159"/>
                        </a:cubicBezTo>
                        <a:cubicBezTo>
                          <a:pt x="22" y="159"/>
                          <a:pt x="21" y="158"/>
                          <a:pt x="20" y="158"/>
                        </a:cubicBezTo>
                        <a:cubicBezTo>
                          <a:pt x="19" y="158"/>
                          <a:pt x="19" y="158"/>
                          <a:pt x="18" y="158"/>
                        </a:cubicBezTo>
                        <a:cubicBezTo>
                          <a:pt x="17" y="158"/>
                          <a:pt x="16" y="157"/>
                          <a:pt x="16" y="156"/>
                        </a:cubicBezTo>
                        <a:cubicBezTo>
                          <a:pt x="15" y="154"/>
                          <a:pt x="14" y="152"/>
                          <a:pt x="14" y="149"/>
                        </a:cubicBezTo>
                        <a:cubicBezTo>
                          <a:pt x="8" y="133"/>
                          <a:pt x="15" y="113"/>
                          <a:pt x="22" y="98"/>
                        </a:cubicBezTo>
                        <a:cubicBezTo>
                          <a:pt x="22" y="98"/>
                          <a:pt x="22" y="97"/>
                          <a:pt x="21" y="97"/>
                        </a:cubicBezTo>
                        <a:cubicBezTo>
                          <a:pt x="20" y="98"/>
                          <a:pt x="20" y="99"/>
                          <a:pt x="20" y="100"/>
                        </a:cubicBezTo>
                        <a:cubicBezTo>
                          <a:pt x="14" y="116"/>
                          <a:pt x="10" y="133"/>
                          <a:pt x="7" y="145"/>
                        </a:cubicBezTo>
                        <a:cubicBezTo>
                          <a:pt x="5" y="150"/>
                          <a:pt x="4" y="154"/>
                          <a:pt x="4" y="158"/>
                        </a:cubicBezTo>
                        <a:cubicBezTo>
                          <a:pt x="4" y="158"/>
                          <a:pt x="4" y="158"/>
                          <a:pt x="4" y="158"/>
                        </a:cubicBezTo>
                        <a:cubicBezTo>
                          <a:pt x="3" y="166"/>
                          <a:pt x="4" y="170"/>
                          <a:pt x="4" y="172"/>
                        </a:cubicBezTo>
                        <a:cubicBezTo>
                          <a:pt x="4" y="172"/>
                          <a:pt x="4" y="172"/>
                          <a:pt x="4" y="172"/>
                        </a:cubicBezTo>
                        <a:cubicBezTo>
                          <a:pt x="5" y="173"/>
                          <a:pt x="5" y="173"/>
                          <a:pt x="5" y="173"/>
                        </a:cubicBezTo>
                        <a:cubicBezTo>
                          <a:pt x="0" y="185"/>
                          <a:pt x="0" y="185"/>
                          <a:pt x="0" y="185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cubicBezTo>
                          <a:pt x="61" y="202"/>
                          <a:pt x="61" y="202"/>
                          <a:pt x="61" y="202"/>
                        </a:cubicBezTo>
                        <a:cubicBezTo>
                          <a:pt x="61" y="202"/>
                          <a:pt x="105" y="189"/>
                          <a:pt x="116" y="132"/>
                        </a:cubicBezTo>
                        <a:cubicBezTo>
                          <a:pt x="122" y="103"/>
                          <a:pt x="132" y="82"/>
                          <a:pt x="140" y="67"/>
                        </a:cubicBezTo>
                        <a:cubicBezTo>
                          <a:pt x="142" y="60"/>
                          <a:pt x="145" y="54"/>
                          <a:pt x="147" y="47"/>
                        </a:cubicBezTo>
                        <a:close/>
                        <a:moveTo>
                          <a:pt x="102" y="139"/>
                        </a:moveTo>
                        <a:cubicBezTo>
                          <a:pt x="101" y="145"/>
                          <a:pt x="99" y="151"/>
                          <a:pt x="97" y="157"/>
                        </a:cubicBezTo>
                        <a:cubicBezTo>
                          <a:pt x="96" y="161"/>
                          <a:pt x="95" y="167"/>
                          <a:pt x="92" y="171"/>
                        </a:cubicBezTo>
                        <a:cubicBezTo>
                          <a:pt x="78" y="191"/>
                          <a:pt x="52" y="178"/>
                          <a:pt x="55" y="155"/>
                        </a:cubicBezTo>
                        <a:cubicBezTo>
                          <a:pt x="55" y="152"/>
                          <a:pt x="56" y="150"/>
                          <a:pt x="58" y="148"/>
                        </a:cubicBezTo>
                        <a:cubicBezTo>
                          <a:pt x="55" y="139"/>
                          <a:pt x="53" y="130"/>
                          <a:pt x="52" y="121"/>
                        </a:cubicBezTo>
                        <a:cubicBezTo>
                          <a:pt x="50" y="112"/>
                          <a:pt x="48" y="101"/>
                          <a:pt x="55" y="94"/>
                        </a:cubicBezTo>
                        <a:cubicBezTo>
                          <a:pt x="60" y="88"/>
                          <a:pt x="69" y="88"/>
                          <a:pt x="75" y="92"/>
                        </a:cubicBezTo>
                        <a:cubicBezTo>
                          <a:pt x="81" y="95"/>
                          <a:pt x="82" y="103"/>
                          <a:pt x="87" y="107"/>
                        </a:cubicBezTo>
                        <a:cubicBezTo>
                          <a:pt x="90" y="109"/>
                          <a:pt x="94" y="109"/>
                          <a:pt x="97" y="111"/>
                        </a:cubicBezTo>
                        <a:cubicBezTo>
                          <a:pt x="104" y="118"/>
                          <a:pt x="102" y="131"/>
                          <a:pt x="102" y="139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10"/>
                  <p:cNvSpPr/>
                  <p:nvPr/>
                </p:nvSpPr>
                <p:spPr>
                  <a:xfrm rot="10954800">
                    <a:off x="1661760" y="2716560"/>
                    <a:ext cx="705600" cy="79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417">
                        <a:moveTo>
                          <a:pt x="313" y="0"/>
                        </a:moveTo>
                        <a:cubicBezTo>
                          <a:pt x="80" y="324"/>
                          <a:pt x="80" y="324"/>
                          <a:pt x="80" y="324"/>
                        </a:cubicBezTo>
                        <a:cubicBezTo>
                          <a:pt x="80" y="324"/>
                          <a:pt x="58" y="356"/>
                          <a:pt x="0" y="356"/>
                        </a:cubicBezTo>
                        <a:cubicBezTo>
                          <a:pt x="1" y="358"/>
                          <a:pt x="2" y="360"/>
                          <a:pt x="2" y="363"/>
                        </a:cubicBezTo>
                        <a:cubicBezTo>
                          <a:pt x="16" y="360"/>
                          <a:pt x="30" y="360"/>
                          <a:pt x="44" y="362"/>
                        </a:cubicBezTo>
                        <a:cubicBezTo>
                          <a:pt x="44" y="362"/>
                          <a:pt x="44" y="362"/>
                          <a:pt x="44" y="362"/>
                        </a:cubicBezTo>
                        <a:cubicBezTo>
                          <a:pt x="50" y="359"/>
                          <a:pt x="57" y="357"/>
                          <a:pt x="64" y="356"/>
                        </a:cubicBezTo>
                        <a:cubicBezTo>
                          <a:pt x="90" y="355"/>
                          <a:pt x="108" y="371"/>
                          <a:pt x="116" y="393"/>
                        </a:cubicBezTo>
                        <a:cubicBezTo>
                          <a:pt x="118" y="398"/>
                          <a:pt x="118" y="403"/>
                          <a:pt x="119" y="408"/>
                        </a:cubicBezTo>
                        <a:cubicBezTo>
                          <a:pt x="119" y="408"/>
                          <a:pt x="119" y="408"/>
                          <a:pt x="119" y="408"/>
                        </a:cubicBezTo>
                        <a:cubicBezTo>
                          <a:pt x="120" y="410"/>
                          <a:pt x="120" y="415"/>
                          <a:pt x="122" y="417"/>
                        </a:cubicBezTo>
                        <a:cubicBezTo>
                          <a:pt x="122" y="391"/>
                          <a:pt x="140" y="363"/>
                          <a:pt x="150" y="348"/>
                        </a:cubicBezTo>
                        <a:cubicBezTo>
                          <a:pt x="161" y="331"/>
                          <a:pt x="323" y="157"/>
                          <a:pt x="363" y="42"/>
                        </a:cubicBezTo>
                        <a:cubicBezTo>
                          <a:pt x="363" y="42"/>
                          <a:pt x="368" y="32"/>
                          <a:pt x="313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7" name="Freeform 11"/>
                  <p:cNvSpPr/>
                  <p:nvPr/>
                </p:nvSpPr>
                <p:spPr>
                  <a:xfrm rot="10954800">
                    <a:off x="1669320" y="2700360"/>
                    <a:ext cx="699840" cy="75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97">
                        <a:moveTo>
                          <a:pt x="354" y="0"/>
                        </a:moveTo>
                        <a:cubicBezTo>
                          <a:pt x="322" y="62"/>
                          <a:pt x="292" y="131"/>
                          <a:pt x="244" y="185"/>
                        </a:cubicBezTo>
                        <a:cubicBezTo>
                          <a:pt x="228" y="203"/>
                          <a:pt x="211" y="220"/>
                          <a:pt x="194" y="237"/>
                        </a:cubicBezTo>
                        <a:cubicBezTo>
                          <a:pt x="185" y="246"/>
                          <a:pt x="177" y="255"/>
                          <a:pt x="169" y="263"/>
                        </a:cubicBezTo>
                        <a:cubicBezTo>
                          <a:pt x="162" y="271"/>
                          <a:pt x="157" y="280"/>
                          <a:pt x="148" y="287"/>
                        </a:cubicBezTo>
                        <a:cubicBezTo>
                          <a:pt x="140" y="295"/>
                          <a:pt x="124" y="277"/>
                          <a:pt x="113" y="280"/>
                        </a:cubicBezTo>
                        <a:cubicBezTo>
                          <a:pt x="100" y="284"/>
                          <a:pt x="88" y="287"/>
                          <a:pt x="74" y="290"/>
                        </a:cubicBezTo>
                        <a:cubicBezTo>
                          <a:pt x="63" y="293"/>
                          <a:pt x="52" y="314"/>
                          <a:pt x="42" y="319"/>
                        </a:cubicBezTo>
                        <a:cubicBezTo>
                          <a:pt x="42" y="320"/>
                          <a:pt x="43" y="320"/>
                          <a:pt x="43" y="321"/>
                        </a:cubicBezTo>
                        <a:cubicBezTo>
                          <a:pt x="29" y="323"/>
                          <a:pt x="15" y="325"/>
                          <a:pt x="0" y="327"/>
                        </a:cubicBezTo>
                        <a:cubicBezTo>
                          <a:pt x="1" y="329"/>
                          <a:pt x="2" y="331"/>
                          <a:pt x="2" y="334"/>
                        </a:cubicBezTo>
                        <a:cubicBezTo>
                          <a:pt x="16" y="331"/>
                          <a:pt x="30" y="331"/>
                          <a:pt x="44" y="333"/>
                        </a:cubicBezTo>
                        <a:cubicBezTo>
                          <a:pt x="44" y="333"/>
                          <a:pt x="44" y="333"/>
                          <a:pt x="44" y="333"/>
                        </a:cubicBezTo>
                        <a:cubicBezTo>
                          <a:pt x="50" y="330"/>
                          <a:pt x="57" y="328"/>
                          <a:pt x="64" y="327"/>
                        </a:cubicBezTo>
                        <a:cubicBezTo>
                          <a:pt x="74" y="327"/>
                          <a:pt x="83" y="329"/>
                          <a:pt x="91" y="334"/>
                        </a:cubicBezTo>
                        <a:cubicBezTo>
                          <a:pt x="94" y="335"/>
                          <a:pt x="96" y="337"/>
                          <a:pt x="98" y="339"/>
                        </a:cubicBezTo>
                        <a:cubicBezTo>
                          <a:pt x="106" y="345"/>
                          <a:pt x="112" y="354"/>
                          <a:pt x="116" y="364"/>
                        </a:cubicBezTo>
                        <a:cubicBezTo>
                          <a:pt x="118" y="369"/>
                          <a:pt x="118" y="374"/>
                          <a:pt x="119" y="379"/>
                        </a:cubicBezTo>
                        <a:cubicBezTo>
                          <a:pt x="119" y="379"/>
                          <a:pt x="118" y="378"/>
                          <a:pt x="118" y="378"/>
                        </a:cubicBezTo>
                        <a:cubicBezTo>
                          <a:pt x="119" y="380"/>
                          <a:pt x="119" y="395"/>
                          <a:pt x="120" y="397"/>
                        </a:cubicBezTo>
                        <a:cubicBezTo>
                          <a:pt x="121" y="391"/>
                          <a:pt x="126" y="355"/>
                          <a:pt x="150" y="319"/>
                        </a:cubicBezTo>
                        <a:cubicBezTo>
                          <a:pt x="161" y="302"/>
                          <a:pt x="323" y="128"/>
                          <a:pt x="363" y="13"/>
                        </a:cubicBezTo>
                        <a:cubicBezTo>
                          <a:pt x="363" y="13"/>
                          <a:pt x="365" y="9"/>
                          <a:pt x="354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8" name="Freeform 12"/>
                  <p:cNvSpPr/>
                  <p:nvPr/>
                </p:nvSpPr>
                <p:spPr>
                  <a:xfrm rot="10954800">
                    <a:off x="1634400" y="3390840"/>
                    <a:ext cx="1342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66">
                        <a:moveTo>
                          <a:pt x="69" y="37"/>
                        </a:moveTo>
                        <a:cubicBezTo>
                          <a:pt x="67" y="34"/>
                          <a:pt x="63" y="30"/>
                          <a:pt x="58" y="27"/>
                        </a:cubicBezTo>
                        <a:cubicBezTo>
                          <a:pt x="41" y="17"/>
                          <a:pt x="25" y="2"/>
                          <a:pt x="14" y="0"/>
                        </a:cubicBezTo>
                        <a:cubicBezTo>
                          <a:pt x="14" y="0"/>
                          <a:pt x="14" y="1"/>
                          <a:pt x="13" y="1"/>
                        </a:cubicBezTo>
                        <a:cubicBezTo>
                          <a:pt x="10" y="9"/>
                          <a:pt x="8" y="17"/>
                          <a:pt x="3" y="24"/>
                        </a:cubicBezTo>
                        <a:cubicBezTo>
                          <a:pt x="2" y="26"/>
                          <a:pt x="1" y="28"/>
                          <a:pt x="0" y="30"/>
                        </a:cubicBezTo>
                        <a:cubicBezTo>
                          <a:pt x="11" y="35"/>
                          <a:pt x="39" y="50"/>
                          <a:pt x="48" y="66"/>
                        </a:cubicBezTo>
                        <a:cubicBezTo>
                          <a:pt x="50" y="63"/>
                          <a:pt x="56" y="53"/>
                          <a:pt x="59" y="50"/>
                        </a:cubicBezTo>
                        <a:cubicBezTo>
                          <a:pt x="61" y="48"/>
                          <a:pt x="63" y="45"/>
                          <a:pt x="65" y="42"/>
                        </a:cubicBezTo>
                        <a:cubicBezTo>
                          <a:pt x="66" y="41"/>
                          <a:pt x="70" y="34"/>
                          <a:pt x="68" y="39"/>
                        </a:cubicBezTo>
                        <a:cubicBezTo>
                          <a:pt x="68" y="38"/>
                          <a:pt x="69" y="38"/>
                          <a:pt x="69" y="37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" name="Freeform 13"/>
                  <p:cNvSpPr/>
                  <p:nvPr/>
                </p:nvSpPr>
                <p:spPr>
                  <a:xfrm rot="10954800">
                    <a:off x="1624320" y="3404520"/>
                    <a:ext cx="15552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8">
                        <a:moveTo>
                          <a:pt x="65" y="77"/>
                        </a:moveTo>
                        <a:cubicBezTo>
                          <a:pt x="65" y="77"/>
                          <a:pt x="69" y="78"/>
                          <a:pt x="74" y="71"/>
                        </a:cubicBezTo>
                        <a:cubicBezTo>
                          <a:pt x="77" y="66"/>
                          <a:pt x="81" y="55"/>
                          <a:pt x="78" y="52"/>
                        </a:cubicBezTo>
                        <a:cubicBezTo>
                          <a:pt x="76" y="49"/>
                          <a:pt x="72" y="43"/>
                          <a:pt x="64" y="38"/>
                        </a:cubicBezTo>
                        <a:cubicBezTo>
                          <a:pt x="41" y="24"/>
                          <a:pt x="18" y="0"/>
                          <a:pt x="10" y="15"/>
                        </a:cubicBezTo>
                        <a:cubicBezTo>
                          <a:pt x="2" y="30"/>
                          <a:pt x="0" y="38"/>
                          <a:pt x="0" y="38"/>
                        </a:cubicBezTo>
                        <a:cubicBezTo>
                          <a:pt x="0" y="38"/>
                          <a:pt x="50" y="57"/>
                          <a:pt x="65" y="77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0" name="组合 96"/>
              <p:cNvGrpSpPr/>
              <p:nvPr/>
            </p:nvGrpSpPr>
            <p:grpSpPr>
              <a:xfrm>
                <a:off x="1484280" y="1185480"/>
                <a:ext cx="1324440" cy="2890440"/>
                <a:chOff x="1484280" y="1185480"/>
                <a:chExt cx="1324440" cy="2890440"/>
              </a:xfrm>
            </p:grpSpPr>
            <p:sp>
              <p:nvSpPr>
                <p:cNvPr id="211" name="Freeform 14"/>
                <p:cNvSpPr/>
                <p:nvPr/>
              </p:nvSpPr>
              <p:spPr>
                <a:xfrm>
                  <a:off x="2044800" y="3205800"/>
                  <a:ext cx="436320" cy="830160"/>
                </a:xfrm>
                <a:custGeom>
                  <a:avLst/>
                  <a:gdLst/>
                  <a:ahLst/>
                  <a:rect l="l" t="t" r="r" b="b"/>
                  <a:pathLst>
                    <a:path w="228" h="437">
                      <a:moveTo>
                        <a:pt x="11" y="0"/>
                      </a:moveTo>
                      <a:cubicBezTo>
                        <a:pt x="11" y="0"/>
                        <a:pt x="0" y="108"/>
                        <a:pt x="61" y="120"/>
                      </a:cubicBezTo>
                      <a:cubicBezTo>
                        <a:pt x="58" y="418"/>
                        <a:pt x="58" y="418"/>
                        <a:pt x="58" y="418"/>
                      </a:cubicBezTo>
                      <a:cubicBezTo>
                        <a:pt x="105" y="437"/>
                        <a:pt x="105" y="437"/>
                        <a:pt x="105" y="437"/>
                      </a:cubicBezTo>
                      <a:cubicBezTo>
                        <a:pt x="103" y="132"/>
                        <a:pt x="103" y="132"/>
                        <a:pt x="103" y="132"/>
                      </a:cubicBezTo>
                      <a:cubicBezTo>
                        <a:pt x="103" y="132"/>
                        <a:pt x="124" y="135"/>
                        <a:pt x="134" y="130"/>
                      </a:cubicBezTo>
                      <a:cubicBezTo>
                        <a:pt x="155" y="427"/>
                        <a:pt x="155" y="427"/>
                        <a:pt x="155" y="427"/>
                      </a:cubicBezTo>
                      <a:cubicBezTo>
                        <a:pt x="188" y="402"/>
                        <a:pt x="188" y="402"/>
                        <a:pt x="188" y="402"/>
                      </a:cubicBezTo>
                      <a:cubicBezTo>
                        <a:pt x="210" y="381"/>
                        <a:pt x="210" y="381"/>
                        <a:pt x="210" y="381"/>
                      </a:cubicBezTo>
                      <a:cubicBezTo>
                        <a:pt x="174" y="124"/>
                        <a:pt x="174" y="124"/>
                        <a:pt x="174" y="124"/>
                      </a:cubicBezTo>
                      <a:cubicBezTo>
                        <a:pt x="174" y="124"/>
                        <a:pt x="228" y="93"/>
                        <a:pt x="210" y="0"/>
                      </a:cubicBez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1f46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" name="Freeform 15">
                  <a:hlinkClick r:id="rId5"/>
                </p:cNvPr>
                <p:cNvSpPr/>
                <p:nvPr/>
              </p:nvSpPr>
              <p:spPr>
                <a:xfrm>
                  <a:off x="2071800" y="3209040"/>
                  <a:ext cx="409680" cy="826920"/>
                </a:xfrm>
                <a:custGeom>
                  <a:avLst/>
                  <a:gdLst/>
                  <a:ahLst/>
                  <a:rect l="l" t="t" r="r" b="b"/>
                  <a:pathLst>
                    <a:path w="214" h="436">
                      <a:moveTo>
                        <a:pt x="142" y="153"/>
                      </a:moveTo>
                      <a:cubicBezTo>
                        <a:pt x="142" y="140"/>
                        <a:pt x="151" y="133"/>
                        <a:pt x="161" y="131"/>
                      </a:cubicBezTo>
                      <a:cubicBezTo>
                        <a:pt x="160" y="123"/>
                        <a:pt x="160" y="123"/>
                        <a:pt x="160" y="123"/>
                      </a:cubicBezTo>
                      <a:cubicBezTo>
                        <a:pt x="160" y="123"/>
                        <a:pt x="214" y="93"/>
                        <a:pt x="196" y="0"/>
                      </a:cubicBezTo>
                      <a:cubicBezTo>
                        <a:pt x="196" y="2"/>
                        <a:pt x="196" y="3"/>
                        <a:pt x="196" y="5"/>
                      </a:cubicBezTo>
                      <a:cubicBezTo>
                        <a:pt x="196" y="63"/>
                        <a:pt x="147" y="110"/>
                        <a:pt x="90" y="110"/>
                      </a:cubicBezTo>
                      <a:cubicBezTo>
                        <a:pt x="58" y="109"/>
                        <a:pt x="29" y="94"/>
                        <a:pt x="9" y="71"/>
                      </a:cubicBezTo>
                      <a:cubicBezTo>
                        <a:pt x="6" y="68"/>
                        <a:pt x="3" y="65"/>
                        <a:pt x="0" y="62"/>
                      </a:cubicBezTo>
                      <a:cubicBezTo>
                        <a:pt x="6" y="88"/>
                        <a:pt x="19" y="113"/>
                        <a:pt x="47" y="119"/>
                      </a:cubicBezTo>
                      <a:cubicBezTo>
                        <a:pt x="47" y="128"/>
                        <a:pt x="47" y="128"/>
                        <a:pt x="47" y="128"/>
                      </a:cubicBezTo>
                      <a:cubicBezTo>
                        <a:pt x="56" y="129"/>
                        <a:pt x="65" y="135"/>
                        <a:pt x="65" y="147"/>
                      </a:cubicBezTo>
                      <a:cubicBezTo>
                        <a:pt x="66" y="149"/>
                        <a:pt x="67" y="152"/>
                        <a:pt x="67" y="155"/>
                      </a:cubicBezTo>
                      <a:cubicBezTo>
                        <a:pt x="68" y="158"/>
                        <a:pt x="69" y="161"/>
                        <a:pt x="69" y="165"/>
                      </a:cubicBezTo>
                      <a:cubicBezTo>
                        <a:pt x="68" y="252"/>
                        <a:pt x="68" y="339"/>
                        <a:pt x="68" y="427"/>
                      </a:cubicBezTo>
                      <a:cubicBezTo>
                        <a:pt x="91" y="436"/>
                        <a:pt x="91" y="436"/>
                        <a:pt x="91" y="436"/>
                      </a:cubicBezTo>
                      <a:cubicBezTo>
                        <a:pt x="89" y="131"/>
                        <a:pt x="89" y="131"/>
                        <a:pt x="89" y="131"/>
                      </a:cubicBezTo>
                      <a:cubicBezTo>
                        <a:pt x="89" y="131"/>
                        <a:pt x="110" y="134"/>
                        <a:pt x="120" y="129"/>
                      </a:cubicBezTo>
                      <a:cubicBezTo>
                        <a:pt x="141" y="426"/>
                        <a:pt x="141" y="426"/>
                        <a:pt x="141" y="426"/>
                      </a:cubicBezTo>
                      <a:cubicBezTo>
                        <a:pt x="169" y="404"/>
                        <a:pt x="169" y="404"/>
                        <a:pt x="169" y="404"/>
                      </a:cubicBezTo>
                      <a:cubicBezTo>
                        <a:pt x="168" y="401"/>
                        <a:pt x="167" y="398"/>
                        <a:pt x="167" y="394"/>
                      </a:cubicBezTo>
                      <a:cubicBezTo>
                        <a:pt x="162" y="313"/>
                        <a:pt x="138" y="235"/>
                        <a:pt x="142" y="153"/>
                      </a:cubicBezTo>
                      <a:close/>
                    </a:path>
                  </a:pathLst>
                </a:custGeom>
                <a:solidFill>
                  <a:srgbClr val="1b32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Freeform 16"/>
                <p:cNvSpPr/>
                <p:nvPr/>
              </p:nvSpPr>
              <p:spPr>
                <a:xfrm>
                  <a:off x="2064240" y="3162960"/>
                  <a:ext cx="385560" cy="108000"/>
                </a:xfrm>
                <a:custGeom>
                  <a:avLst/>
                  <a:gdLst/>
                  <a:ahLst/>
                  <a:rect l="l" t="t" r="r" b="b"/>
                  <a:pathLst>
                    <a:path w="201" h="57">
                      <a:moveTo>
                        <a:pt x="1" y="19"/>
                      </a:moveTo>
                      <a:cubicBezTo>
                        <a:pt x="0" y="31"/>
                        <a:pt x="0" y="31"/>
                        <a:pt x="0" y="31"/>
                      </a:cubicBezTo>
                      <a:cubicBezTo>
                        <a:pt x="0" y="31"/>
                        <a:pt x="34" y="28"/>
                        <a:pt x="68" y="30"/>
                      </a:cubicBezTo>
                      <a:cubicBezTo>
                        <a:pt x="81" y="30"/>
                        <a:pt x="88" y="56"/>
                        <a:pt x="102" y="56"/>
                      </a:cubicBezTo>
                      <a:cubicBezTo>
                        <a:pt x="117" y="57"/>
                        <a:pt x="119" y="30"/>
                        <a:pt x="132" y="30"/>
                      </a:cubicBezTo>
                      <a:cubicBezTo>
                        <a:pt x="156" y="28"/>
                        <a:pt x="190" y="33"/>
                        <a:pt x="201" y="28"/>
                      </a:cubicBezTo>
                      <a:cubicBezTo>
                        <a:pt x="200" y="18"/>
                        <a:pt x="200" y="18"/>
                        <a:pt x="200" y="18"/>
                      </a:cubicBezTo>
                      <a:cubicBezTo>
                        <a:pt x="200" y="18"/>
                        <a:pt x="87" y="0"/>
                        <a:pt x="1" y="19"/>
                      </a:cubicBezTo>
                      <a:close/>
                    </a:path>
                  </a:pathLst>
                </a:custGeom>
                <a:solidFill>
                  <a:srgbClr val="1b32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Freeform 17"/>
                <p:cNvSpPr/>
                <p:nvPr/>
              </p:nvSpPr>
              <p:spPr>
                <a:xfrm>
                  <a:off x="1929600" y="2575800"/>
                  <a:ext cx="153720" cy="548280"/>
                </a:xfrm>
                <a:custGeom>
                  <a:avLst/>
                  <a:gdLst/>
                  <a:ahLst/>
                  <a:rect l="l" t="t" r="r" b="b"/>
                  <a:pathLst>
                    <a:path w="80" h="289">
                      <a:moveTo>
                        <a:pt x="80" y="32"/>
                      </a:moveTo>
                      <a:cubicBezTo>
                        <a:pt x="80" y="32"/>
                        <a:pt x="53" y="0"/>
                        <a:pt x="33" y="42"/>
                      </a:cubicBezTo>
                      <a:cubicBezTo>
                        <a:pt x="12" y="84"/>
                        <a:pt x="2" y="161"/>
                        <a:pt x="1" y="194"/>
                      </a:cubicBezTo>
                      <a:cubicBezTo>
                        <a:pt x="0" y="226"/>
                        <a:pt x="46" y="289"/>
                        <a:pt x="74" y="282"/>
                      </a:cubicBezTo>
                      <a:lnTo>
                        <a:pt x="80" y="32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" name="Freeform 18"/>
                <p:cNvSpPr/>
                <p:nvPr/>
              </p:nvSpPr>
              <p:spPr>
                <a:xfrm>
                  <a:off x="1929600" y="2575800"/>
                  <a:ext cx="153720" cy="548280"/>
                </a:xfrm>
                <a:custGeom>
                  <a:avLst/>
                  <a:gdLst/>
                  <a:ahLst/>
                  <a:rect l="l" t="t" r="r" b="b"/>
                  <a:pathLst>
                    <a:path w="80" h="289">
                      <a:moveTo>
                        <a:pt x="33" y="42"/>
                      </a:moveTo>
                      <a:cubicBezTo>
                        <a:pt x="33" y="42"/>
                        <a:pt x="32" y="43"/>
                        <a:pt x="32" y="43"/>
                      </a:cubicBezTo>
                      <a:cubicBezTo>
                        <a:pt x="33" y="43"/>
                        <a:pt x="33" y="43"/>
                        <a:pt x="33" y="43"/>
                      </a:cubicBezTo>
                      <a:cubicBezTo>
                        <a:pt x="44" y="26"/>
                        <a:pt x="61" y="42"/>
                        <a:pt x="59" y="63"/>
                      </a:cubicBezTo>
                      <a:cubicBezTo>
                        <a:pt x="58" y="78"/>
                        <a:pt x="58" y="93"/>
                        <a:pt x="55" y="107"/>
                      </a:cubicBezTo>
                      <a:cubicBezTo>
                        <a:pt x="53" y="120"/>
                        <a:pt x="51" y="133"/>
                        <a:pt x="51" y="147"/>
                      </a:cubicBezTo>
                      <a:cubicBezTo>
                        <a:pt x="51" y="157"/>
                        <a:pt x="55" y="166"/>
                        <a:pt x="49" y="176"/>
                      </a:cubicBezTo>
                      <a:cubicBezTo>
                        <a:pt x="46" y="180"/>
                        <a:pt x="39" y="181"/>
                        <a:pt x="34" y="184"/>
                      </a:cubicBezTo>
                      <a:cubicBezTo>
                        <a:pt x="43" y="192"/>
                        <a:pt x="51" y="199"/>
                        <a:pt x="55" y="211"/>
                      </a:cubicBezTo>
                      <a:cubicBezTo>
                        <a:pt x="57" y="218"/>
                        <a:pt x="60" y="256"/>
                        <a:pt x="55" y="263"/>
                      </a:cubicBezTo>
                      <a:cubicBezTo>
                        <a:pt x="50" y="270"/>
                        <a:pt x="38" y="252"/>
                        <a:pt x="32" y="247"/>
                      </a:cubicBezTo>
                      <a:cubicBezTo>
                        <a:pt x="27" y="242"/>
                        <a:pt x="23" y="235"/>
                        <a:pt x="20" y="229"/>
                      </a:cubicBezTo>
                      <a:cubicBezTo>
                        <a:pt x="17" y="221"/>
                        <a:pt x="13" y="213"/>
                        <a:pt x="10" y="205"/>
                      </a:cubicBezTo>
                      <a:cubicBezTo>
                        <a:pt x="8" y="199"/>
                        <a:pt x="1" y="173"/>
                        <a:pt x="1" y="194"/>
                      </a:cubicBezTo>
                      <a:cubicBezTo>
                        <a:pt x="0" y="226"/>
                        <a:pt x="46" y="289"/>
                        <a:pt x="74" y="282"/>
                      </a:cubicBezTo>
                      <a:cubicBezTo>
                        <a:pt x="80" y="32"/>
                        <a:pt x="80" y="32"/>
                        <a:pt x="80" y="32"/>
                      </a:cubicBezTo>
                      <a:cubicBezTo>
                        <a:pt x="80" y="32"/>
                        <a:pt x="53" y="0"/>
                        <a:pt x="33" y="42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" name="Freeform 19"/>
                <p:cNvSpPr/>
                <p:nvPr/>
              </p:nvSpPr>
              <p:spPr>
                <a:xfrm>
                  <a:off x="2021040" y="2605320"/>
                  <a:ext cx="457200" cy="600120"/>
                </a:xfrm>
                <a:custGeom>
                  <a:avLst/>
                  <a:gdLst/>
                  <a:ahLst/>
                  <a:rect l="l" t="t" r="r" b="b"/>
                  <a:pathLst>
                    <a:path w="238" h="316">
                      <a:moveTo>
                        <a:pt x="25" y="16"/>
                      </a:moveTo>
                      <a:cubicBezTo>
                        <a:pt x="25" y="16"/>
                        <a:pt x="59" y="0"/>
                        <a:pt x="179" y="4"/>
                      </a:cubicBezTo>
                      <a:cubicBezTo>
                        <a:pt x="179" y="4"/>
                        <a:pt x="194" y="8"/>
                        <a:pt x="198" y="26"/>
                      </a:cubicBezTo>
                      <a:cubicBezTo>
                        <a:pt x="201" y="37"/>
                        <a:pt x="206" y="131"/>
                        <a:pt x="226" y="220"/>
                      </a:cubicBezTo>
                      <a:cubicBezTo>
                        <a:pt x="238" y="276"/>
                        <a:pt x="222" y="316"/>
                        <a:pt x="222" y="316"/>
                      </a:cubicBezTo>
                      <a:cubicBezTo>
                        <a:pt x="23" y="316"/>
                        <a:pt x="23" y="316"/>
                        <a:pt x="23" y="316"/>
                      </a:cubicBezTo>
                      <a:cubicBezTo>
                        <a:pt x="23" y="316"/>
                        <a:pt x="0" y="47"/>
                        <a:pt x="25" y="16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Freeform 20"/>
                <p:cNvSpPr/>
                <p:nvPr/>
              </p:nvSpPr>
              <p:spPr>
                <a:xfrm>
                  <a:off x="2330280" y="2611440"/>
                  <a:ext cx="129960" cy="456480"/>
                </a:xfrm>
                <a:custGeom>
                  <a:avLst/>
                  <a:gdLst/>
                  <a:ahLst/>
                  <a:rect l="l" t="t" r="r" b="b"/>
                  <a:pathLst>
                    <a:path w="68" h="240">
                      <a:moveTo>
                        <a:pt x="65" y="217"/>
                      </a:moveTo>
                      <a:cubicBezTo>
                        <a:pt x="45" y="128"/>
                        <a:pt x="41" y="34"/>
                        <a:pt x="38" y="23"/>
                      </a:cubicBezTo>
                      <a:cubicBezTo>
                        <a:pt x="34" y="4"/>
                        <a:pt x="18" y="1"/>
                        <a:pt x="18" y="1"/>
                      </a:cubicBezTo>
                      <a:cubicBezTo>
                        <a:pt x="11" y="1"/>
                        <a:pt x="6" y="0"/>
                        <a:pt x="0" y="0"/>
                      </a:cubicBezTo>
                      <a:cubicBezTo>
                        <a:pt x="1" y="7"/>
                        <a:pt x="3" y="14"/>
                        <a:pt x="4" y="22"/>
                      </a:cubicBezTo>
                      <a:cubicBezTo>
                        <a:pt x="4" y="20"/>
                        <a:pt x="19" y="31"/>
                        <a:pt x="21" y="33"/>
                      </a:cubicBezTo>
                      <a:cubicBezTo>
                        <a:pt x="25" y="39"/>
                        <a:pt x="27" y="46"/>
                        <a:pt x="29" y="53"/>
                      </a:cubicBezTo>
                      <a:cubicBezTo>
                        <a:pt x="32" y="68"/>
                        <a:pt x="30" y="84"/>
                        <a:pt x="33" y="99"/>
                      </a:cubicBezTo>
                      <a:cubicBezTo>
                        <a:pt x="42" y="139"/>
                        <a:pt x="46" y="178"/>
                        <a:pt x="61" y="218"/>
                      </a:cubicBezTo>
                      <a:cubicBezTo>
                        <a:pt x="63" y="225"/>
                        <a:pt x="66" y="233"/>
                        <a:pt x="68" y="240"/>
                      </a:cubicBezTo>
                      <a:cubicBezTo>
                        <a:pt x="68" y="233"/>
                        <a:pt x="66" y="225"/>
                        <a:pt x="65" y="217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Freeform 21"/>
                <p:cNvSpPr/>
                <p:nvPr/>
              </p:nvSpPr>
              <p:spPr>
                <a:xfrm>
                  <a:off x="1857960" y="3868560"/>
                  <a:ext cx="411120" cy="207360"/>
                </a:xfrm>
                <a:custGeom>
                  <a:avLst/>
                  <a:gdLst/>
                  <a:ahLst/>
                  <a:rect l="l" t="t" r="r" b="b"/>
                  <a:pathLst>
                    <a:path w="214" h="109">
                      <a:moveTo>
                        <a:pt x="23" y="108"/>
                      </a:moveTo>
                      <a:cubicBezTo>
                        <a:pt x="23" y="108"/>
                        <a:pt x="161" y="109"/>
                        <a:pt x="206" y="95"/>
                      </a:cubicBezTo>
                      <a:cubicBezTo>
                        <a:pt x="206" y="95"/>
                        <a:pt x="214" y="5"/>
                        <a:pt x="107" y="2"/>
                      </a:cubicBezTo>
                      <a:cubicBezTo>
                        <a:pt x="0" y="0"/>
                        <a:pt x="4" y="101"/>
                        <a:pt x="23" y="108"/>
                      </a:cubicBezTo>
                      <a:close/>
                    </a:path>
                  </a:pathLst>
                </a:custGeom>
                <a:solidFill>
                  <a:srgbClr val="2a28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" name="Freeform 22"/>
                <p:cNvSpPr/>
                <p:nvPr/>
              </p:nvSpPr>
              <p:spPr>
                <a:xfrm>
                  <a:off x="1889280" y="3871440"/>
                  <a:ext cx="327240" cy="177840"/>
                </a:xfrm>
                <a:custGeom>
                  <a:avLst/>
                  <a:gdLst/>
                  <a:ahLst/>
                  <a:rect l="l" t="t" r="r" b="b"/>
                  <a:pathLst>
                    <a:path w="171" h="94">
                      <a:moveTo>
                        <a:pt x="171" y="33"/>
                      </a:moveTo>
                      <a:cubicBezTo>
                        <a:pt x="157" y="16"/>
                        <a:pt x="132" y="2"/>
                        <a:pt x="91" y="1"/>
                      </a:cubicBezTo>
                      <a:cubicBezTo>
                        <a:pt x="35" y="0"/>
                        <a:pt x="10" y="27"/>
                        <a:pt x="0" y="54"/>
                      </a:cubicBezTo>
                      <a:cubicBezTo>
                        <a:pt x="31" y="94"/>
                        <a:pt x="157" y="87"/>
                        <a:pt x="171" y="33"/>
                      </a:cubicBezTo>
                      <a:close/>
                    </a:path>
                  </a:pathLst>
                </a:custGeom>
                <a:solidFill>
                  <a:srgbClr val="353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" name="Freeform 23"/>
                <p:cNvSpPr/>
                <p:nvPr/>
              </p:nvSpPr>
              <p:spPr>
                <a:xfrm>
                  <a:off x="1962720" y="3911400"/>
                  <a:ext cx="53640" cy="2808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8" y="7"/>
                      </a:moveTo>
                      <a:cubicBezTo>
                        <a:pt x="28" y="12"/>
                        <a:pt x="22" y="15"/>
                        <a:pt x="14" y="15"/>
                      </a:cubicBezTo>
                      <a:cubicBezTo>
                        <a:pt x="6" y="15"/>
                        <a:pt x="0" y="11"/>
                        <a:pt x="0" y="7"/>
                      </a:cubicBezTo>
                      <a:cubicBezTo>
                        <a:pt x="0" y="3"/>
                        <a:pt x="7" y="0"/>
                        <a:pt x="14" y="0"/>
                      </a:cubicBezTo>
                      <a:cubicBezTo>
                        <a:pt x="22" y="0"/>
                        <a:pt x="28" y="3"/>
                        <a:pt x="28" y="7"/>
                      </a:cubicBezTo>
                      <a:close/>
                    </a:path>
                  </a:pathLst>
                </a:custGeom>
                <a:solidFill>
                  <a:srgbClr val="4848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" name="Freeform 24"/>
                <p:cNvSpPr/>
                <p:nvPr/>
              </p:nvSpPr>
              <p:spPr>
                <a:xfrm>
                  <a:off x="2318400" y="3868560"/>
                  <a:ext cx="412560" cy="207360"/>
                </a:xfrm>
                <a:custGeom>
                  <a:avLst/>
                  <a:gdLst/>
                  <a:ahLst/>
                  <a:rect l="l" t="t" r="r" b="b"/>
                  <a:pathLst>
                    <a:path w="215" h="109">
                      <a:moveTo>
                        <a:pt x="192" y="108"/>
                      </a:moveTo>
                      <a:cubicBezTo>
                        <a:pt x="192" y="108"/>
                        <a:pt x="53" y="109"/>
                        <a:pt x="9" y="95"/>
                      </a:cubicBezTo>
                      <a:cubicBezTo>
                        <a:pt x="9" y="95"/>
                        <a:pt x="0" y="5"/>
                        <a:pt x="107" y="2"/>
                      </a:cubicBezTo>
                      <a:cubicBezTo>
                        <a:pt x="215" y="0"/>
                        <a:pt x="211" y="101"/>
                        <a:pt x="192" y="108"/>
                      </a:cubicBezTo>
                      <a:close/>
                    </a:path>
                  </a:pathLst>
                </a:custGeom>
                <a:solidFill>
                  <a:srgbClr val="2a28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" name="Freeform 25"/>
                <p:cNvSpPr/>
                <p:nvPr/>
              </p:nvSpPr>
              <p:spPr>
                <a:xfrm>
                  <a:off x="2372400" y="3871440"/>
                  <a:ext cx="325800" cy="177840"/>
                </a:xfrm>
                <a:custGeom>
                  <a:avLst/>
                  <a:gdLst/>
                  <a:ahLst/>
                  <a:rect l="l" t="t" r="r" b="b"/>
                  <a:pathLst>
                    <a:path w="170" h="94">
                      <a:moveTo>
                        <a:pt x="0" y="33"/>
                      </a:moveTo>
                      <a:cubicBezTo>
                        <a:pt x="14" y="16"/>
                        <a:pt x="38" y="2"/>
                        <a:pt x="79" y="1"/>
                      </a:cubicBezTo>
                      <a:cubicBezTo>
                        <a:pt x="135" y="0"/>
                        <a:pt x="161" y="27"/>
                        <a:pt x="170" y="54"/>
                      </a:cubicBezTo>
                      <a:cubicBezTo>
                        <a:pt x="140" y="94"/>
                        <a:pt x="13" y="87"/>
                        <a:pt x="0" y="33"/>
                      </a:cubicBezTo>
                      <a:close/>
                    </a:path>
                  </a:pathLst>
                </a:custGeom>
                <a:solidFill>
                  <a:srgbClr val="353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Freeform 26"/>
                <p:cNvSpPr/>
                <p:nvPr/>
              </p:nvSpPr>
              <p:spPr>
                <a:xfrm>
                  <a:off x="2572560" y="3911400"/>
                  <a:ext cx="53640" cy="2808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0" y="7"/>
                      </a:moveTo>
                      <a:cubicBezTo>
                        <a:pt x="0" y="12"/>
                        <a:pt x="6" y="15"/>
                        <a:pt x="14" y="15"/>
                      </a:cubicBezTo>
                      <a:cubicBezTo>
                        <a:pt x="22" y="15"/>
                        <a:pt x="28" y="11"/>
                        <a:pt x="28" y="7"/>
                      </a:cubicBezTo>
                      <a:cubicBezTo>
                        <a:pt x="28" y="3"/>
                        <a:pt x="22" y="0"/>
                        <a:pt x="14" y="0"/>
                      </a:cubicBezTo>
                      <a:cubicBezTo>
                        <a:pt x="6" y="0"/>
                        <a:pt x="0" y="3"/>
                        <a:pt x="0" y="7"/>
                      </a:cubicBezTo>
                      <a:close/>
                    </a:path>
                  </a:pathLst>
                </a:custGeom>
                <a:solidFill>
                  <a:srgbClr val="4848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" name="Freeform 27"/>
                <p:cNvSpPr/>
                <p:nvPr/>
              </p:nvSpPr>
              <p:spPr>
                <a:xfrm>
                  <a:off x="2053800" y="2522520"/>
                  <a:ext cx="149400" cy="162720"/>
                </a:xfrm>
                <a:custGeom>
                  <a:avLst/>
                  <a:gdLst/>
                  <a:ahLst/>
                  <a:rect l="l" t="t" r="r" b="b"/>
                  <a:pathLst>
                    <a:path w="78" h="86">
                      <a:moveTo>
                        <a:pt x="7" y="0"/>
                      </a:moveTo>
                      <a:cubicBezTo>
                        <a:pt x="7" y="0"/>
                        <a:pt x="0" y="51"/>
                        <a:pt x="4" y="60"/>
                      </a:cubicBezTo>
                      <a:cubicBezTo>
                        <a:pt x="7" y="70"/>
                        <a:pt x="17" y="79"/>
                        <a:pt x="30" y="81"/>
                      </a:cubicBezTo>
                      <a:cubicBezTo>
                        <a:pt x="64" y="86"/>
                        <a:pt x="76" y="71"/>
                        <a:pt x="76" y="71"/>
                      </a:cubicBezTo>
                      <a:cubicBezTo>
                        <a:pt x="78" y="54"/>
                        <a:pt x="78" y="54"/>
                        <a:pt x="78" y="54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Freeform 28"/>
                <p:cNvSpPr/>
                <p:nvPr/>
              </p:nvSpPr>
              <p:spPr>
                <a:xfrm>
                  <a:off x="2046240" y="2500200"/>
                  <a:ext cx="153720" cy="162720"/>
                </a:xfrm>
                <a:custGeom>
                  <a:avLst/>
                  <a:gdLst/>
                  <a:ahLst/>
                  <a:rect l="l" t="t" r="r" b="b"/>
                  <a:pathLst>
                    <a:path w="80" h="86">
                      <a:moveTo>
                        <a:pt x="7" y="0"/>
                      </a:moveTo>
                      <a:cubicBezTo>
                        <a:pt x="7" y="0"/>
                        <a:pt x="0" y="51"/>
                        <a:pt x="3" y="60"/>
                      </a:cubicBezTo>
                      <a:cubicBezTo>
                        <a:pt x="7" y="70"/>
                        <a:pt x="17" y="79"/>
                        <a:pt x="30" y="81"/>
                      </a:cubicBezTo>
                      <a:cubicBezTo>
                        <a:pt x="63" y="86"/>
                        <a:pt x="74" y="82"/>
                        <a:pt x="74" y="82"/>
                      </a:cubicBezTo>
                      <a:cubicBezTo>
                        <a:pt x="80" y="48"/>
                        <a:pt x="80" y="48"/>
                        <a:pt x="80" y="48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" name="Freeform 29"/>
                <p:cNvSpPr/>
                <p:nvPr/>
              </p:nvSpPr>
              <p:spPr>
                <a:xfrm>
                  <a:off x="2257200" y="2529720"/>
                  <a:ext cx="149400" cy="127440"/>
                </a:xfrm>
                <a:custGeom>
                  <a:avLst/>
                  <a:gdLst/>
                  <a:ahLst/>
                  <a:rect l="l" t="t" r="r" b="b"/>
                  <a:pathLst>
                    <a:path w="78" h="67">
                      <a:moveTo>
                        <a:pt x="78" y="0"/>
                      </a:moveTo>
                      <a:cubicBezTo>
                        <a:pt x="78" y="0"/>
                        <a:pt x="75" y="42"/>
                        <a:pt x="72" y="46"/>
                      </a:cubicBezTo>
                      <a:cubicBezTo>
                        <a:pt x="69" y="51"/>
                        <a:pt x="66" y="65"/>
                        <a:pt x="0" y="67"/>
                      </a:cubicBezTo>
                      <a:cubicBezTo>
                        <a:pt x="13" y="15"/>
                        <a:pt x="13" y="15"/>
                        <a:pt x="13" y="15"/>
                      </a:cubicBez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" name="Freeform 30"/>
                <p:cNvSpPr/>
                <p:nvPr/>
              </p:nvSpPr>
              <p:spPr>
                <a:xfrm>
                  <a:off x="2267640" y="2513520"/>
                  <a:ext cx="149400" cy="126000"/>
                </a:xfrm>
                <a:custGeom>
                  <a:avLst/>
                  <a:gdLst/>
                  <a:ahLst/>
                  <a:rect l="l" t="t" r="r" b="b"/>
                  <a:pathLst>
                    <a:path w="78" h="67">
                      <a:moveTo>
                        <a:pt x="78" y="0"/>
                      </a:moveTo>
                      <a:cubicBezTo>
                        <a:pt x="78" y="0"/>
                        <a:pt x="75" y="42"/>
                        <a:pt x="72" y="46"/>
                      </a:cubicBezTo>
                      <a:cubicBezTo>
                        <a:pt x="69" y="51"/>
                        <a:pt x="66" y="65"/>
                        <a:pt x="0" y="67"/>
                      </a:cubicBezTo>
                      <a:cubicBezTo>
                        <a:pt x="12" y="15"/>
                        <a:pt x="12" y="15"/>
                        <a:pt x="12" y="15"/>
                      </a:cubicBez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" name="Freeform 31"/>
                <p:cNvSpPr/>
                <p:nvPr/>
              </p:nvSpPr>
              <p:spPr>
                <a:xfrm>
                  <a:off x="2052360" y="2504520"/>
                  <a:ext cx="161280" cy="134640"/>
                </a:xfrm>
                <a:custGeom>
                  <a:avLst/>
                  <a:gdLst/>
                  <a:ahLst/>
                  <a:rect l="l" t="t" r="r" b="b"/>
                  <a:pathLst>
                    <a:path w="84" h="71">
                      <a:moveTo>
                        <a:pt x="3" y="16"/>
                      </a:moveTo>
                      <a:cubicBezTo>
                        <a:pt x="2" y="14"/>
                        <a:pt x="1" y="12"/>
                        <a:pt x="1" y="11"/>
                      </a:cubicBezTo>
                      <a:cubicBezTo>
                        <a:pt x="0" y="6"/>
                        <a:pt x="0" y="0"/>
                        <a:pt x="7" y="1"/>
                      </a:cubicBezTo>
                      <a:cubicBezTo>
                        <a:pt x="12" y="2"/>
                        <a:pt x="17" y="7"/>
                        <a:pt x="21" y="10"/>
                      </a:cubicBezTo>
                      <a:cubicBezTo>
                        <a:pt x="31" y="15"/>
                        <a:pt x="40" y="21"/>
                        <a:pt x="49" y="28"/>
                      </a:cubicBezTo>
                      <a:cubicBezTo>
                        <a:pt x="57" y="34"/>
                        <a:pt x="67" y="39"/>
                        <a:pt x="74" y="46"/>
                      </a:cubicBezTo>
                      <a:cubicBezTo>
                        <a:pt x="76" y="48"/>
                        <a:pt x="84" y="68"/>
                        <a:pt x="74" y="70"/>
                      </a:cubicBezTo>
                      <a:cubicBezTo>
                        <a:pt x="63" y="71"/>
                        <a:pt x="67" y="57"/>
                        <a:pt x="59" y="52"/>
                      </a:cubicBezTo>
                      <a:cubicBezTo>
                        <a:pt x="54" y="50"/>
                        <a:pt x="51" y="48"/>
                        <a:pt x="46" y="45"/>
                      </a:cubicBezTo>
                      <a:cubicBezTo>
                        <a:pt x="42" y="41"/>
                        <a:pt x="36" y="40"/>
                        <a:pt x="31" y="36"/>
                      </a:cubicBezTo>
                      <a:cubicBezTo>
                        <a:pt x="24" y="31"/>
                        <a:pt x="17" y="26"/>
                        <a:pt x="10" y="22"/>
                      </a:cubicBezTo>
                      <a:cubicBezTo>
                        <a:pt x="7" y="20"/>
                        <a:pt x="4" y="18"/>
                        <a:pt x="3" y="16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Freeform 32"/>
                <p:cNvSpPr/>
                <p:nvPr/>
              </p:nvSpPr>
              <p:spPr>
                <a:xfrm>
                  <a:off x="2269080" y="2526840"/>
                  <a:ext cx="153720" cy="88920"/>
                </a:xfrm>
                <a:custGeom>
                  <a:avLst/>
                  <a:gdLst/>
                  <a:ahLst/>
                  <a:rect l="l" t="t" r="r" b="b"/>
                  <a:pathLst>
                    <a:path w="80" h="47">
                      <a:moveTo>
                        <a:pt x="70" y="3"/>
                      </a:moveTo>
                      <a:cubicBezTo>
                        <a:pt x="62" y="2"/>
                        <a:pt x="54" y="8"/>
                        <a:pt x="48" y="11"/>
                      </a:cubicBezTo>
                      <a:cubicBezTo>
                        <a:pt x="40" y="15"/>
                        <a:pt x="33" y="16"/>
                        <a:pt x="25" y="18"/>
                      </a:cubicBezTo>
                      <a:cubicBezTo>
                        <a:pt x="15" y="20"/>
                        <a:pt x="8" y="28"/>
                        <a:pt x="4" y="36"/>
                      </a:cubicBezTo>
                      <a:cubicBezTo>
                        <a:pt x="3" y="40"/>
                        <a:pt x="2" y="44"/>
                        <a:pt x="0" y="47"/>
                      </a:cubicBezTo>
                      <a:cubicBezTo>
                        <a:pt x="9" y="45"/>
                        <a:pt x="17" y="38"/>
                        <a:pt x="24" y="33"/>
                      </a:cubicBezTo>
                      <a:cubicBezTo>
                        <a:pt x="36" y="25"/>
                        <a:pt x="49" y="19"/>
                        <a:pt x="62" y="19"/>
                      </a:cubicBezTo>
                      <a:cubicBezTo>
                        <a:pt x="69" y="18"/>
                        <a:pt x="80" y="14"/>
                        <a:pt x="80" y="5"/>
                      </a:cubicBezTo>
                      <a:cubicBezTo>
                        <a:pt x="80" y="0"/>
                        <a:pt x="75" y="4"/>
                        <a:pt x="70" y="3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Freeform 33"/>
                <p:cNvSpPr/>
                <p:nvPr/>
              </p:nvSpPr>
              <p:spPr>
                <a:xfrm>
                  <a:off x="2115000" y="2638080"/>
                  <a:ext cx="257040" cy="567720"/>
                </a:xfrm>
                <a:custGeom>
                  <a:avLst/>
                  <a:gdLst/>
                  <a:ahLst/>
                  <a:rect l="l" t="t" r="r" b="b"/>
                  <a:pathLst>
                    <a:path w="172" h="383">
                      <a:moveTo>
                        <a:pt x="49" y="0"/>
                      </a:moveTo>
                      <a:lnTo>
                        <a:pt x="0" y="281"/>
                      </a:lnTo>
                      <a:lnTo>
                        <a:pt x="59" y="383"/>
                      </a:lnTo>
                      <a:lnTo>
                        <a:pt x="127" y="383"/>
                      </a:lnTo>
                      <a:lnTo>
                        <a:pt x="172" y="296"/>
                      </a:lnTo>
                      <a:lnTo>
                        <a:pt x="102" y="0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" name="Freeform 34"/>
                <p:cNvSpPr/>
                <p:nvPr/>
              </p:nvSpPr>
              <p:spPr>
                <a:xfrm>
                  <a:off x="2134440" y="2638080"/>
                  <a:ext cx="221040" cy="606240"/>
                </a:xfrm>
                <a:custGeom>
                  <a:avLst/>
                  <a:gdLst/>
                  <a:ahLst/>
                  <a:rect l="l" t="t" r="r" b="b"/>
                  <a:pathLst>
                    <a:path w="115" h="319">
                      <a:moveTo>
                        <a:pt x="34" y="2"/>
                      </a:moveTo>
                      <a:cubicBezTo>
                        <a:pt x="34" y="2"/>
                        <a:pt x="11" y="116"/>
                        <a:pt x="0" y="222"/>
                      </a:cubicBezTo>
                      <a:cubicBezTo>
                        <a:pt x="64" y="319"/>
                        <a:pt x="64" y="319"/>
                        <a:pt x="64" y="319"/>
                      </a:cubicBezTo>
                      <a:cubicBezTo>
                        <a:pt x="115" y="232"/>
                        <a:pt x="115" y="232"/>
                        <a:pt x="115" y="232"/>
                      </a:cubicBezTo>
                      <a:cubicBezTo>
                        <a:pt x="115" y="232"/>
                        <a:pt x="96" y="108"/>
                        <a:pt x="57" y="0"/>
                      </a:cubicBezTo>
                      <a:lnTo>
                        <a:pt x="34" y="2"/>
                      </a:lnTo>
                      <a:close/>
                    </a:path>
                  </a:pathLst>
                </a:custGeom>
                <a:solidFill>
                  <a:srgbClr val="a832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Freeform 35"/>
                <p:cNvSpPr/>
                <p:nvPr/>
              </p:nvSpPr>
              <p:spPr>
                <a:xfrm>
                  <a:off x="2230200" y="2638080"/>
                  <a:ext cx="125280" cy="606240"/>
                </a:xfrm>
                <a:custGeom>
                  <a:avLst/>
                  <a:gdLst/>
                  <a:ahLst/>
                  <a:rect l="l" t="t" r="r" b="b"/>
                  <a:pathLst>
                    <a:path w="65" h="319">
                      <a:moveTo>
                        <a:pt x="7" y="0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4" y="319"/>
                        <a:pt x="14" y="319"/>
                        <a:pt x="14" y="319"/>
                      </a:cubicBezTo>
                      <a:cubicBezTo>
                        <a:pt x="65" y="232"/>
                        <a:pt x="65" y="232"/>
                        <a:pt x="65" y="232"/>
                      </a:cubicBezTo>
                      <a:cubicBezTo>
                        <a:pt x="65" y="232"/>
                        <a:pt x="46" y="108"/>
                        <a:pt x="7" y="0"/>
                      </a:cubicBezTo>
                      <a:close/>
                    </a:path>
                  </a:pathLst>
                </a:custGeom>
                <a:solidFill>
                  <a:srgbClr val="9b27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" name="Freeform 36"/>
                <p:cNvSpPr/>
                <p:nvPr/>
              </p:nvSpPr>
              <p:spPr>
                <a:xfrm>
                  <a:off x="2167560" y="2685600"/>
                  <a:ext cx="110520" cy="142200"/>
                </a:xfrm>
                <a:custGeom>
                  <a:avLst/>
                  <a:gdLst/>
                  <a:ahLst/>
                  <a:rect l="l" t="t" r="r" b="b"/>
                  <a:pathLst>
                    <a:path w="58" h="75">
                      <a:moveTo>
                        <a:pt x="49" y="0"/>
                      </a:moveTo>
                      <a:cubicBezTo>
                        <a:pt x="49" y="0"/>
                        <a:pt x="49" y="0"/>
                        <a:pt x="49" y="0"/>
                      </a:cubicBezTo>
                      <a:cubicBezTo>
                        <a:pt x="49" y="0"/>
                        <a:pt x="40" y="19"/>
                        <a:pt x="5" y="42"/>
                      </a:cubicBezTo>
                      <a:cubicBezTo>
                        <a:pt x="3" y="52"/>
                        <a:pt x="1" y="63"/>
                        <a:pt x="0" y="75"/>
                      </a:cubicBezTo>
                      <a:cubicBezTo>
                        <a:pt x="0" y="75"/>
                        <a:pt x="0" y="75"/>
                        <a:pt x="0" y="75"/>
                      </a:cubicBezTo>
                      <a:cubicBezTo>
                        <a:pt x="0" y="75"/>
                        <a:pt x="40" y="62"/>
                        <a:pt x="58" y="30"/>
                      </a:cubicBezTo>
                      <a:cubicBezTo>
                        <a:pt x="55" y="20"/>
                        <a:pt x="52" y="10"/>
                        <a:pt x="49" y="0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" name="Freeform 37"/>
                <p:cNvSpPr/>
                <p:nvPr/>
              </p:nvSpPr>
              <p:spPr>
                <a:xfrm>
                  <a:off x="2142000" y="2820600"/>
                  <a:ext cx="173160" cy="168840"/>
                </a:xfrm>
                <a:custGeom>
                  <a:avLst/>
                  <a:gdLst/>
                  <a:ahLst/>
                  <a:rect l="l" t="t" r="r" b="b"/>
                  <a:pathLst>
                    <a:path w="90" h="89">
                      <a:moveTo>
                        <a:pt x="90" y="33"/>
                      </a:moveTo>
                      <a:cubicBezTo>
                        <a:pt x="90" y="33"/>
                        <a:pt x="90" y="33"/>
                        <a:pt x="90" y="33"/>
                      </a:cubicBezTo>
                      <a:cubicBezTo>
                        <a:pt x="88" y="22"/>
                        <a:pt x="85" y="11"/>
                        <a:pt x="82" y="0"/>
                      </a:cubicBezTo>
                      <a:cubicBezTo>
                        <a:pt x="82" y="0"/>
                        <a:pt x="82" y="0"/>
                        <a:pt x="82" y="0"/>
                      </a:cubicBezTo>
                      <a:cubicBezTo>
                        <a:pt x="41" y="36"/>
                        <a:pt x="5" y="53"/>
                        <a:pt x="5" y="53"/>
                      </a:cubicBezTo>
                      <a:cubicBezTo>
                        <a:pt x="5" y="53"/>
                        <a:pt x="5" y="53"/>
                        <a:pt x="5" y="53"/>
                      </a:cubicBezTo>
                      <a:cubicBezTo>
                        <a:pt x="3" y="65"/>
                        <a:pt x="2" y="77"/>
                        <a:pt x="0" y="89"/>
                      </a:cubicBezTo>
                      <a:cubicBezTo>
                        <a:pt x="53" y="83"/>
                        <a:pt x="90" y="33"/>
                        <a:pt x="90" y="33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Freeform 38"/>
                <p:cNvSpPr/>
                <p:nvPr/>
              </p:nvSpPr>
              <p:spPr>
                <a:xfrm>
                  <a:off x="2171880" y="2962800"/>
                  <a:ext cx="171720" cy="194040"/>
                </a:xfrm>
                <a:custGeom>
                  <a:avLst/>
                  <a:gdLst/>
                  <a:ahLst/>
                  <a:rect l="l" t="t" r="r" b="b"/>
                  <a:pathLst>
                    <a:path w="90" h="102">
                      <a:moveTo>
                        <a:pt x="15" y="102"/>
                      </a:moveTo>
                      <a:cubicBezTo>
                        <a:pt x="54" y="86"/>
                        <a:pt x="90" y="29"/>
                        <a:pt x="90" y="29"/>
                      </a:cubicBezTo>
                      <a:cubicBezTo>
                        <a:pt x="90" y="29"/>
                        <a:pt x="90" y="29"/>
                        <a:pt x="90" y="29"/>
                      </a:cubicBezTo>
                      <a:cubicBezTo>
                        <a:pt x="89" y="20"/>
                        <a:pt x="87" y="11"/>
                        <a:pt x="85" y="0"/>
                      </a:cubicBezTo>
                      <a:cubicBezTo>
                        <a:pt x="85" y="0"/>
                        <a:pt x="85" y="0"/>
                        <a:pt x="85" y="0"/>
                      </a:cubicBezTo>
                      <a:cubicBezTo>
                        <a:pt x="54" y="47"/>
                        <a:pt x="0" y="80"/>
                        <a:pt x="0" y="81"/>
                      </a:cubicBezTo>
                      <a:lnTo>
                        <a:pt x="15" y="102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Freeform 39"/>
                <p:cNvSpPr/>
                <p:nvPr/>
              </p:nvSpPr>
              <p:spPr>
                <a:xfrm>
                  <a:off x="2179440" y="2584800"/>
                  <a:ext cx="102960" cy="68040"/>
                </a:xfrm>
                <a:custGeom>
                  <a:avLst/>
                  <a:gdLst/>
                  <a:ahLst/>
                  <a:rect l="l" t="t" r="r" b="b"/>
                  <a:pathLst>
                    <a:path w="54" h="36">
                      <a:moveTo>
                        <a:pt x="1" y="3"/>
                      </a:moveTo>
                      <a:cubicBezTo>
                        <a:pt x="0" y="8"/>
                        <a:pt x="1" y="30"/>
                        <a:pt x="10" y="34"/>
                      </a:cubicBezTo>
                      <a:cubicBezTo>
                        <a:pt x="14" y="36"/>
                        <a:pt x="24" y="36"/>
                        <a:pt x="34" y="34"/>
                      </a:cubicBezTo>
                      <a:cubicBezTo>
                        <a:pt x="54" y="30"/>
                        <a:pt x="48" y="0"/>
                        <a:pt x="48" y="0"/>
                      </a:cubicBez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9b27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Freeform 40"/>
                <p:cNvSpPr/>
                <p:nvPr/>
              </p:nvSpPr>
              <p:spPr>
                <a:xfrm>
                  <a:off x="1657440" y="1231200"/>
                  <a:ext cx="976320" cy="1393200"/>
                </a:xfrm>
                <a:custGeom>
                  <a:avLst/>
                  <a:gdLst/>
                  <a:ahLst/>
                  <a:rect l="l" t="t" r="r" b="b"/>
                  <a:pathLst>
                    <a:path w="509" h="734">
                      <a:moveTo>
                        <a:pt x="4" y="347"/>
                      </a:moveTo>
                      <a:cubicBezTo>
                        <a:pt x="4" y="347"/>
                        <a:pt x="0" y="536"/>
                        <a:pt x="11" y="595"/>
                      </a:cubicBezTo>
                      <a:cubicBezTo>
                        <a:pt x="21" y="654"/>
                        <a:pt x="32" y="660"/>
                        <a:pt x="65" y="669"/>
                      </a:cubicBezTo>
                      <a:cubicBezTo>
                        <a:pt x="99" y="677"/>
                        <a:pt x="209" y="682"/>
                        <a:pt x="224" y="692"/>
                      </a:cubicBezTo>
                      <a:cubicBezTo>
                        <a:pt x="240" y="702"/>
                        <a:pt x="273" y="734"/>
                        <a:pt x="296" y="731"/>
                      </a:cubicBezTo>
                      <a:cubicBezTo>
                        <a:pt x="319" y="728"/>
                        <a:pt x="330" y="706"/>
                        <a:pt x="344" y="703"/>
                      </a:cubicBezTo>
                      <a:cubicBezTo>
                        <a:pt x="358" y="699"/>
                        <a:pt x="439" y="684"/>
                        <a:pt x="457" y="678"/>
                      </a:cubicBezTo>
                      <a:cubicBezTo>
                        <a:pt x="475" y="672"/>
                        <a:pt x="488" y="656"/>
                        <a:pt x="490" y="614"/>
                      </a:cubicBezTo>
                      <a:cubicBezTo>
                        <a:pt x="493" y="572"/>
                        <a:pt x="509" y="401"/>
                        <a:pt x="493" y="319"/>
                      </a:cubicBezTo>
                      <a:cubicBezTo>
                        <a:pt x="477" y="236"/>
                        <a:pt x="467" y="168"/>
                        <a:pt x="416" y="135"/>
                      </a:cubicBezTo>
                      <a:cubicBezTo>
                        <a:pt x="400" y="119"/>
                        <a:pt x="11" y="0"/>
                        <a:pt x="4" y="347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Freeform 41"/>
                <p:cNvSpPr/>
                <p:nvPr/>
              </p:nvSpPr>
              <p:spPr>
                <a:xfrm>
                  <a:off x="2565000" y="1936800"/>
                  <a:ext cx="203040" cy="282960"/>
                </a:xfrm>
                <a:custGeom>
                  <a:avLst/>
                  <a:gdLst/>
                  <a:ahLst/>
                  <a:rect l="l" t="t" r="r" b="b"/>
                  <a:pathLst>
                    <a:path w="106" h="149">
                      <a:moveTo>
                        <a:pt x="12" y="149"/>
                      </a:moveTo>
                      <a:cubicBezTo>
                        <a:pt x="99" y="149"/>
                        <a:pt x="106" y="49"/>
                        <a:pt x="67" y="24"/>
                      </a:cubicBezTo>
                      <a:cubicBezTo>
                        <a:pt x="29" y="0"/>
                        <a:pt x="0" y="49"/>
                        <a:pt x="0" y="49"/>
                      </a:cubicBezTo>
                      <a:lnTo>
                        <a:pt x="12" y="149"/>
                      </a:ln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Freeform 42"/>
                <p:cNvSpPr/>
                <p:nvPr/>
              </p:nvSpPr>
              <p:spPr>
                <a:xfrm>
                  <a:off x="1503360" y="1947240"/>
                  <a:ext cx="203040" cy="250200"/>
                </a:xfrm>
                <a:custGeom>
                  <a:avLst/>
                  <a:gdLst/>
                  <a:ahLst/>
                  <a:rect l="l" t="t" r="r" b="b"/>
                  <a:pathLst>
                    <a:path w="106" h="132">
                      <a:moveTo>
                        <a:pt x="92" y="127"/>
                      </a:moveTo>
                      <a:cubicBezTo>
                        <a:pt x="92" y="127"/>
                        <a:pt x="57" y="132"/>
                        <a:pt x="28" y="104"/>
                      </a:cubicBezTo>
                      <a:cubicBezTo>
                        <a:pt x="0" y="76"/>
                        <a:pt x="7" y="2"/>
                        <a:pt x="56" y="1"/>
                      </a:cubicBezTo>
                      <a:cubicBezTo>
                        <a:pt x="106" y="0"/>
                        <a:pt x="100" y="55"/>
                        <a:pt x="100" y="55"/>
                      </a:cubicBezTo>
                      <a:lnTo>
                        <a:pt x="92" y="127"/>
                      </a:ln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" name="Freeform 43"/>
                <p:cNvSpPr/>
                <p:nvPr/>
              </p:nvSpPr>
              <p:spPr>
                <a:xfrm>
                  <a:off x="1666440" y="1185480"/>
                  <a:ext cx="932760" cy="1386000"/>
                </a:xfrm>
                <a:custGeom>
                  <a:avLst/>
                  <a:gdLst/>
                  <a:ahLst/>
                  <a:rect l="l" t="t" r="r" b="b"/>
                  <a:pathLst>
                    <a:path w="486" h="730">
                      <a:moveTo>
                        <a:pt x="10" y="347"/>
                      </a:moveTo>
                      <a:cubicBezTo>
                        <a:pt x="10" y="347"/>
                        <a:pt x="0" y="458"/>
                        <a:pt x="3" y="536"/>
                      </a:cubicBezTo>
                      <a:cubicBezTo>
                        <a:pt x="4" y="560"/>
                        <a:pt x="6" y="589"/>
                        <a:pt x="8" y="603"/>
                      </a:cubicBezTo>
                      <a:cubicBezTo>
                        <a:pt x="18" y="662"/>
                        <a:pt x="36" y="660"/>
                        <a:pt x="69" y="669"/>
                      </a:cubicBezTo>
                      <a:cubicBezTo>
                        <a:pt x="78" y="671"/>
                        <a:pt x="151" y="683"/>
                        <a:pt x="198" y="701"/>
                      </a:cubicBezTo>
                      <a:cubicBezTo>
                        <a:pt x="229" y="712"/>
                        <a:pt x="252" y="728"/>
                        <a:pt x="285" y="729"/>
                      </a:cubicBezTo>
                      <a:cubicBezTo>
                        <a:pt x="311" y="730"/>
                        <a:pt x="310" y="716"/>
                        <a:pt x="333" y="710"/>
                      </a:cubicBezTo>
                      <a:cubicBezTo>
                        <a:pt x="391" y="695"/>
                        <a:pt x="438" y="679"/>
                        <a:pt x="444" y="677"/>
                      </a:cubicBezTo>
                      <a:cubicBezTo>
                        <a:pt x="461" y="671"/>
                        <a:pt x="474" y="655"/>
                        <a:pt x="476" y="613"/>
                      </a:cubicBezTo>
                      <a:cubicBezTo>
                        <a:pt x="479" y="571"/>
                        <a:pt x="486" y="400"/>
                        <a:pt x="471" y="317"/>
                      </a:cubicBezTo>
                      <a:cubicBezTo>
                        <a:pt x="456" y="235"/>
                        <a:pt x="455" y="167"/>
                        <a:pt x="406" y="134"/>
                      </a:cubicBezTo>
                      <a:cubicBezTo>
                        <a:pt x="391" y="118"/>
                        <a:pt x="18" y="0"/>
                        <a:pt x="10" y="347"/>
                      </a:cubicBez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Freeform 44"/>
                <p:cNvSpPr/>
                <p:nvPr/>
              </p:nvSpPr>
              <p:spPr>
                <a:xfrm>
                  <a:off x="1701000" y="1217880"/>
                  <a:ext cx="820800" cy="554400"/>
                </a:xfrm>
                <a:custGeom>
                  <a:avLst/>
                  <a:gdLst/>
                  <a:ahLst/>
                  <a:rect l="l" t="t" r="r" b="b"/>
                  <a:pathLst>
                    <a:path w="428" h="292">
                      <a:moveTo>
                        <a:pt x="124" y="291"/>
                      </a:moveTo>
                      <a:cubicBezTo>
                        <a:pt x="170" y="290"/>
                        <a:pt x="210" y="287"/>
                        <a:pt x="258" y="279"/>
                      </a:cubicBezTo>
                      <a:cubicBezTo>
                        <a:pt x="324" y="269"/>
                        <a:pt x="373" y="228"/>
                        <a:pt x="428" y="202"/>
                      </a:cubicBezTo>
                      <a:cubicBezTo>
                        <a:pt x="420" y="158"/>
                        <a:pt x="419" y="138"/>
                        <a:pt x="388" y="117"/>
                      </a:cubicBezTo>
                      <a:cubicBezTo>
                        <a:pt x="374" y="102"/>
                        <a:pt x="53" y="0"/>
                        <a:pt x="0" y="261"/>
                      </a:cubicBezTo>
                      <a:cubicBezTo>
                        <a:pt x="18" y="267"/>
                        <a:pt x="36" y="273"/>
                        <a:pt x="54" y="278"/>
                      </a:cubicBezTo>
                      <a:cubicBezTo>
                        <a:pt x="76" y="279"/>
                        <a:pt x="101" y="292"/>
                        <a:pt x="124" y="291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Freeform 45"/>
                <p:cNvSpPr/>
                <p:nvPr/>
              </p:nvSpPr>
              <p:spPr>
                <a:xfrm>
                  <a:off x="1570680" y="1524960"/>
                  <a:ext cx="216720" cy="718920"/>
                </a:xfrm>
                <a:custGeom>
                  <a:avLst/>
                  <a:gdLst/>
                  <a:ahLst/>
                  <a:rect l="l" t="t" r="r" b="b"/>
                  <a:pathLst>
                    <a:path w="113" h="378">
                      <a:moveTo>
                        <a:pt x="12" y="0"/>
                      </a:moveTo>
                      <a:cubicBezTo>
                        <a:pt x="12" y="0"/>
                        <a:pt x="0" y="165"/>
                        <a:pt x="7" y="226"/>
                      </a:cubicBezTo>
                      <a:cubicBezTo>
                        <a:pt x="7" y="226"/>
                        <a:pt x="59" y="207"/>
                        <a:pt x="66" y="271"/>
                      </a:cubicBezTo>
                      <a:cubicBezTo>
                        <a:pt x="73" y="337"/>
                        <a:pt x="76" y="371"/>
                        <a:pt x="76" y="371"/>
                      </a:cubicBezTo>
                      <a:cubicBezTo>
                        <a:pt x="76" y="371"/>
                        <a:pt x="77" y="377"/>
                        <a:pt x="94" y="378"/>
                      </a:cubicBezTo>
                      <a:cubicBezTo>
                        <a:pt x="110" y="378"/>
                        <a:pt x="111" y="371"/>
                        <a:pt x="111" y="371"/>
                      </a:cubicBezTo>
                      <a:cubicBezTo>
                        <a:pt x="113" y="36"/>
                        <a:pt x="113" y="36"/>
                        <a:pt x="113" y="36"/>
                      </a:cubicBez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" name="Freeform 46"/>
                <p:cNvSpPr/>
                <p:nvPr/>
              </p:nvSpPr>
              <p:spPr>
                <a:xfrm>
                  <a:off x="1579680" y="1901160"/>
                  <a:ext cx="98640" cy="79920"/>
                </a:xfrm>
                <a:custGeom>
                  <a:avLst/>
                  <a:gdLst/>
                  <a:ahLst/>
                  <a:rect l="l" t="t" r="r" b="b"/>
                  <a:pathLst>
                    <a:path w="51" h="42">
                      <a:moveTo>
                        <a:pt x="51" y="42"/>
                      </a:moveTo>
                      <a:cubicBezTo>
                        <a:pt x="51" y="42"/>
                        <a:pt x="51" y="41"/>
                        <a:pt x="51" y="41"/>
                      </a:cubicBezTo>
                      <a:cubicBezTo>
                        <a:pt x="51" y="40"/>
                        <a:pt x="51" y="39"/>
                        <a:pt x="51" y="39"/>
                      </a:cubicBezTo>
                      <a:cubicBezTo>
                        <a:pt x="48" y="25"/>
                        <a:pt x="42" y="12"/>
                        <a:pt x="34" y="0"/>
                      </a:cubicBezTo>
                      <a:cubicBezTo>
                        <a:pt x="23" y="0"/>
                        <a:pt x="11" y="1"/>
                        <a:pt x="0" y="1"/>
                      </a:cubicBezTo>
                      <a:cubicBezTo>
                        <a:pt x="1" y="11"/>
                        <a:pt x="1" y="20"/>
                        <a:pt x="2" y="28"/>
                      </a:cubicBezTo>
                      <a:cubicBezTo>
                        <a:pt x="2" y="28"/>
                        <a:pt x="34" y="16"/>
                        <a:pt x="51" y="42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Freeform 47"/>
                <p:cNvSpPr/>
                <p:nvPr/>
              </p:nvSpPr>
              <p:spPr>
                <a:xfrm>
                  <a:off x="1585800" y="1554480"/>
                  <a:ext cx="204840" cy="171720"/>
                </a:xfrm>
                <a:custGeom>
                  <a:avLst/>
                  <a:gdLst/>
                  <a:ahLst/>
                  <a:rect l="l" t="t" r="r" b="b"/>
                  <a:pathLst>
                    <a:path w="107" h="91">
                      <a:moveTo>
                        <a:pt x="1" y="0"/>
                      </a:moveTo>
                      <a:cubicBezTo>
                        <a:pt x="0" y="49"/>
                        <a:pt x="0" y="49"/>
                        <a:pt x="0" y="49"/>
                      </a:cubicBezTo>
                      <a:cubicBezTo>
                        <a:pt x="0" y="49"/>
                        <a:pt x="52" y="90"/>
                        <a:pt x="105" y="91"/>
                      </a:cubicBezTo>
                      <a:cubicBezTo>
                        <a:pt x="107" y="48"/>
                        <a:pt x="107" y="48"/>
                        <a:pt x="107" y="48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Freeform 48"/>
                <p:cNvSpPr/>
                <p:nvPr/>
              </p:nvSpPr>
              <p:spPr>
                <a:xfrm>
                  <a:off x="1484280" y="1207440"/>
                  <a:ext cx="1324440" cy="1062720"/>
                </a:xfrm>
                <a:custGeom>
                  <a:avLst/>
                  <a:gdLst/>
                  <a:ahLst/>
                  <a:rect l="l" t="t" r="r" b="b"/>
                  <a:pathLst>
                    <a:path w="690" h="559">
                      <a:moveTo>
                        <a:pt x="140" y="10"/>
                      </a:moveTo>
                      <a:cubicBezTo>
                        <a:pt x="140" y="10"/>
                        <a:pt x="155" y="81"/>
                        <a:pt x="246" y="70"/>
                      </a:cubicBezTo>
                      <a:cubicBezTo>
                        <a:pt x="336" y="59"/>
                        <a:pt x="367" y="0"/>
                        <a:pt x="440" y="4"/>
                      </a:cubicBezTo>
                      <a:cubicBezTo>
                        <a:pt x="513" y="8"/>
                        <a:pt x="565" y="57"/>
                        <a:pt x="565" y="104"/>
                      </a:cubicBezTo>
                      <a:cubicBezTo>
                        <a:pt x="565" y="104"/>
                        <a:pt x="646" y="79"/>
                        <a:pt x="674" y="155"/>
                      </a:cubicBezTo>
                      <a:cubicBezTo>
                        <a:pt x="690" y="201"/>
                        <a:pt x="662" y="277"/>
                        <a:pt x="630" y="408"/>
                      </a:cubicBezTo>
                      <a:cubicBezTo>
                        <a:pt x="630" y="409"/>
                        <a:pt x="605" y="388"/>
                        <a:pt x="575" y="418"/>
                      </a:cubicBezTo>
                      <a:cubicBezTo>
                        <a:pt x="558" y="435"/>
                        <a:pt x="566" y="550"/>
                        <a:pt x="566" y="550"/>
                      </a:cubicBezTo>
                      <a:cubicBezTo>
                        <a:pt x="566" y="550"/>
                        <a:pt x="562" y="559"/>
                        <a:pt x="542" y="559"/>
                      </a:cubicBezTo>
                      <a:cubicBezTo>
                        <a:pt x="523" y="559"/>
                        <a:pt x="522" y="550"/>
                        <a:pt x="522" y="550"/>
                      </a:cubicBezTo>
                      <a:cubicBezTo>
                        <a:pt x="522" y="550"/>
                        <a:pt x="522" y="415"/>
                        <a:pt x="524" y="303"/>
                      </a:cubicBezTo>
                      <a:cubicBezTo>
                        <a:pt x="526" y="257"/>
                        <a:pt x="514" y="222"/>
                        <a:pt x="507" y="208"/>
                      </a:cubicBezTo>
                      <a:cubicBezTo>
                        <a:pt x="507" y="208"/>
                        <a:pt x="368" y="308"/>
                        <a:pt x="197" y="270"/>
                      </a:cubicBezTo>
                      <a:cubicBezTo>
                        <a:pt x="26" y="232"/>
                        <a:pt x="10" y="125"/>
                        <a:pt x="0" y="48"/>
                      </a:cubicBezTo>
                      <a:cubicBezTo>
                        <a:pt x="0" y="48"/>
                        <a:pt x="27" y="72"/>
                        <a:pt x="68" y="87"/>
                      </a:cubicBezTo>
                      <a:cubicBezTo>
                        <a:pt x="68" y="87"/>
                        <a:pt x="54" y="38"/>
                        <a:pt x="84" y="13"/>
                      </a:cubicBezTo>
                      <a:cubicBezTo>
                        <a:pt x="84" y="13"/>
                        <a:pt x="90" y="49"/>
                        <a:pt x="114" y="64"/>
                      </a:cubicBezTo>
                      <a:cubicBezTo>
                        <a:pt x="114" y="64"/>
                        <a:pt x="102" y="35"/>
                        <a:pt x="140" y="10"/>
                      </a:cubicBez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Freeform 49"/>
                <p:cNvSpPr/>
                <p:nvPr/>
              </p:nvSpPr>
              <p:spPr>
                <a:xfrm>
                  <a:off x="2571120" y="1905840"/>
                  <a:ext cx="143280" cy="117000"/>
                </a:xfrm>
                <a:custGeom>
                  <a:avLst/>
                  <a:gdLst/>
                  <a:ahLst/>
                  <a:rect l="l" t="t" r="r" b="b"/>
                  <a:pathLst>
                    <a:path w="75" h="62">
                      <a:moveTo>
                        <a:pt x="30" y="7"/>
                      </a:moveTo>
                      <a:cubicBezTo>
                        <a:pt x="12" y="32"/>
                        <a:pt x="0" y="59"/>
                        <a:pt x="3" y="62"/>
                      </a:cubicBezTo>
                      <a:cubicBezTo>
                        <a:pt x="3" y="62"/>
                        <a:pt x="4" y="62"/>
                        <a:pt x="4" y="62"/>
                      </a:cubicBezTo>
                      <a:cubicBezTo>
                        <a:pt x="5" y="57"/>
                        <a:pt x="7" y="53"/>
                        <a:pt x="9" y="51"/>
                      </a:cubicBezTo>
                      <a:cubicBezTo>
                        <a:pt x="39" y="21"/>
                        <a:pt x="64" y="42"/>
                        <a:pt x="64" y="41"/>
                      </a:cubicBezTo>
                      <a:cubicBezTo>
                        <a:pt x="65" y="38"/>
                        <a:pt x="66" y="34"/>
                        <a:pt x="67" y="30"/>
                      </a:cubicBezTo>
                      <a:cubicBezTo>
                        <a:pt x="68" y="28"/>
                        <a:pt x="68" y="27"/>
                        <a:pt x="68" y="25"/>
                      </a:cubicBezTo>
                      <a:cubicBezTo>
                        <a:pt x="69" y="23"/>
                        <a:pt x="69" y="21"/>
                        <a:pt x="70" y="19"/>
                      </a:cubicBezTo>
                      <a:cubicBezTo>
                        <a:pt x="71" y="17"/>
                        <a:pt x="71" y="14"/>
                        <a:pt x="72" y="12"/>
                      </a:cubicBezTo>
                      <a:cubicBezTo>
                        <a:pt x="72" y="11"/>
                        <a:pt x="72" y="10"/>
                        <a:pt x="72" y="10"/>
                      </a:cubicBezTo>
                      <a:cubicBezTo>
                        <a:pt x="73" y="6"/>
                        <a:pt x="74" y="3"/>
                        <a:pt x="75" y="0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60" y="1"/>
                        <a:pt x="45" y="3"/>
                        <a:pt x="30" y="7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Freeform 50"/>
                <p:cNvSpPr/>
                <p:nvPr/>
              </p:nvSpPr>
              <p:spPr>
                <a:xfrm>
                  <a:off x="1777320" y="1767960"/>
                  <a:ext cx="128520" cy="127440"/>
                </a:xfrm>
                <a:custGeom>
                  <a:avLst/>
                  <a:gdLst/>
                  <a:ahLst/>
                  <a:rect l="l" t="t" r="r" b="b"/>
                  <a:pathLst>
                    <a:path w="67" h="67">
                      <a:moveTo>
                        <a:pt x="67" y="28"/>
                      </a:moveTo>
                      <a:cubicBezTo>
                        <a:pt x="67" y="28"/>
                        <a:pt x="55" y="0"/>
                        <a:pt x="33" y="3"/>
                      </a:cubicBezTo>
                      <a:cubicBezTo>
                        <a:pt x="11" y="6"/>
                        <a:pt x="1" y="41"/>
                        <a:pt x="1" y="41"/>
                      </a:cubicBezTo>
                      <a:cubicBezTo>
                        <a:pt x="0" y="67"/>
                        <a:pt x="0" y="67"/>
                        <a:pt x="0" y="67"/>
                      </a:cubicBezTo>
                      <a:cubicBezTo>
                        <a:pt x="0" y="67"/>
                        <a:pt x="29" y="24"/>
                        <a:pt x="67" y="28"/>
                      </a:cubicBez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Freeform 51"/>
                <p:cNvSpPr/>
                <p:nvPr/>
              </p:nvSpPr>
              <p:spPr>
                <a:xfrm>
                  <a:off x="2342520" y="1794600"/>
                  <a:ext cx="125280" cy="12888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20" y="0"/>
                      </a:moveTo>
                      <a:cubicBezTo>
                        <a:pt x="20" y="0"/>
                        <a:pt x="0" y="18"/>
                        <a:pt x="1" y="36"/>
                      </a:cubicBezTo>
                      <a:cubicBezTo>
                        <a:pt x="1" y="36"/>
                        <a:pt x="33" y="33"/>
                        <a:pt x="49" y="68"/>
                      </a:cubicBezTo>
                      <a:cubicBezTo>
                        <a:pt x="49" y="68"/>
                        <a:pt x="66" y="61"/>
                        <a:pt x="63" y="48"/>
                      </a:cubicBezTo>
                      <a:cubicBezTo>
                        <a:pt x="60" y="35"/>
                        <a:pt x="46" y="1"/>
                        <a:pt x="20" y="0"/>
                      </a:cubicBez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Freeform 52"/>
                <p:cNvSpPr/>
                <p:nvPr/>
              </p:nvSpPr>
              <p:spPr>
                <a:xfrm>
                  <a:off x="1833840" y="1933920"/>
                  <a:ext cx="134280" cy="1317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69" y="37"/>
                      </a:moveTo>
                      <a:cubicBezTo>
                        <a:pt x="68" y="55"/>
                        <a:pt x="52" y="70"/>
                        <a:pt x="33" y="69"/>
                      </a:cubicBezTo>
                      <a:cubicBezTo>
                        <a:pt x="15" y="68"/>
                        <a:pt x="0" y="52"/>
                        <a:pt x="1" y="33"/>
                      </a:cubicBezTo>
                      <a:cubicBezTo>
                        <a:pt x="2" y="14"/>
                        <a:pt x="18" y="0"/>
                        <a:pt x="37" y="1"/>
                      </a:cubicBezTo>
                      <a:cubicBezTo>
                        <a:pt x="56" y="2"/>
                        <a:pt x="70" y="18"/>
                        <a:pt x="69" y="37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" name="Freeform 53"/>
                <p:cNvSpPr/>
                <p:nvPr/>
              </p:nvSpPr>
              <p:spPr>
                <a:xfrm>
                  <a:off x="1874520" y="1942920"/>
                  <a:ext cx="71640" cy="57600"/>
                </a:xfrm>
                <a:custGeom>
                  <a:avLst/>
                  <a:gdLst/>
                  <a:ahLst/>
                  <a:rect l="l" t="t" r="r" b="b"/>
                  <a:pathLst>
                    <a:path w="38" h="30">
                      <a:moveTo>
                        <a:pt x="35" y="21"/>
                      </a:moveTo>
                      <a:cubicBezTo>
                        <a:pt x="32" y="28"/>
                        <a:pt x="23" y="30"/>
                        <a:pt x="14" y="26"/>
                      </a:cubicBezTo>
                      <a:cubicBezTo>
                        <a:pt x="5" y="22"/>
                        <a:pt x="0" y="14"/>
                        <a:pt x="3" y="8"/>
                      </a:cubicBezTo>
                      <a:cubicBezTo>
                        <a:pt x="6" y="2"/>
                        <a:pt x="15" y="0"/>
                        <a:pt x="24" y="3"/>
                      </a:cubicBezTo>
                      <a:cubicBezTo>
                        <a:pt x="33" y="7"/>
                        <a:pt x="38" y="15"/>
                        <a:pt x="35" y="21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Freeform 54"/>
                <p:cNvSpPr/>
                <p:nvPr/>
              </p:nvSpPr>
              <p:spPr>
                <a:xfrm>
                  <a:off x="2300400" y="1933920"/>
                  <a:ext cx="132840" cy="1317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69" y="37"/>
                      </a:moveTo>
                      <a:cubicBezTo>
                        <a:pt x="68" y="55"/>
                        <a:pt x="52" y="70"/>
                        <a:pt x="33" y="69"/>
                      </a:cubicBezTo>
                      <a:cubicBezTo>
                        <a:pt x="14" y="68"/>
                        <a:pt x="0" y="52"/>
                        <a:pt x="1" y="33"/>
                      </a:cubicBezTo>
                      <a:cubicBezTo>
                        <a:pt x="2" y="14"/>
                        <a:pt x="18" y="0"/>
                        <a:pt x="37" y="1"/>
                      </a:cubicBezTo>
                      <a:cubicBezTo>
                        <a:pt x="56" y="2"/>
                        <a:pt x="70" y="18"/>
                        <a:pt x="69" y="37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" name="Freeform 55"/>
                <p:cNvSpPr/>
                <p:nvPr/>
              </p:nvSpPr>
              <p:spPr>
                <a:xfrm>
                  <a:off x="2340720" y="1942920"/>
                  <a:ext cx="70200" cy="5760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35" y="21"/>
                      </a:moveTo>
                      <a:cubicBezTo>
                        <a:pt x="32" y="28"/>
                        <a:pt x="23" y="30"/>
                        <a:pt x="14" y="26"/>
                      </a:cubicBezTo>
                      <a:cubicBezTo>
                        <a:pt x="5" y="22"/>
                        <a:pt x="0" y="14"/>
                        <a:pt x="3" y="8"/>
                      </a:cubicBezTo>
                      <a:cubicBezTo>
                        <a:pt x="5" y="2"/>
                        <a:pt x="15" y="0"/>
                        <a:pt x="24" y="3"/>
                      </a:cubicBezTo>
                      <a:cubicBezTo>
                        <a:pt x="32" y="7"/>
                        <a:pt x="37" y="15"/>
                        <a:pt x="35" y="21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" name="Freeform 56"/>
                <p:cNvSpPr/>
                <p:nvPr/>
              </p:nvSpPr>
              <p:spPr>
                <a:xfrm>
                  <a:off x="1969920" y="2027160"/>
                  <a:ext cx="354240" cy="394200"/>
                </a:xfrm>
                <a:custGeom>
                  <a:avLst/>
                  <a:gdLst/>
                  <a:ahLst/>
                  <a:rect l="l" t="t" r="r" b="b"/>
                  <a:pathLst>
                    <a:path w="185" h="208">
                      <a:moveTo>
                        <a:pt x="49" y="22"/>
                      </a:moveTo>
                      <a:cubicBezTo>
                        <a:pt x="49" y="22"/>
                        <a:pt x="0" y="126"/>
                        <a:pt x="46" y="167"/>
                      </a:cubicBezTo>
                      <a:cubicBezTo>
                        <a:pt x="93" y="208"/>
                        <a:pt x="155" y="186"/>
                        <a:pt x="166" y="157"/>
                      </a:cubicBezTo>
                      <a:cubicBezTo>
                        <a:pt x="185" y="107"/>
                        <a:pt x="142" y="90"/>
                        <a:pt x="135" y="20"/>
                      </a:cubicBezTo>
                      <a:cubicBezTo>
                        <a:pt x="135" y="20"/>
                        <a:pt x="122" y="2"/>
                        <a:pt x="95" y="1"/>
                      </a:cubicBezTo>
                      <a:cubicBezTo>
                        <a:pt x="68" y="0"/>
                        <a:pt x="49" y="22"/>
                        <a:pt x="49" y="22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Freeform 57"/>
                <p:cNvSpPr/>
                <p:nvPr/>
              </p:nvSpPr>
              <p:spPr>
                <a:xfrm>
                  <a:off x="1986480" y="2021400"/>
                  <a:ext cx="316800" cy="348120"/>
                </a:xfrm>
                <a:custGeom>
                  <a:avLst/>
                  <a:gdLst/>
                  <a:ahLst/>
                  <a:rect l="l" t="t" r="r" b="b"/>
                  <a:pathLst>
                    <a:path w="165" h="184">
                      <a:moveTo>
                        <a:pt x="44" y="21"/>
                      </a:moveTo>
                      <a:cubicBezTo>
                        <a:pt x="44" y="21"/>
                        <a:pt x="0" y="109"/>
                        <a:pt x="42" y="146"/>
                      </a:cubicBezTo>
                      <a:cubicBezTo>
                        <a:pt x="83" y="184"/>
                        <a:pt x="139" y="164"/>
                        <a:pt x="148" y="137"/>
                      </a:cubicBezTo>
                      <a:cubicBezTo>
                        <a:pt x="165" y="91"/>
                        <a:pt x="128" y="80"/>
                        <a:pt x="122" y="16"/>
                      </a:cubicBezTo>
                      <a:cubicBezTo>
                        <a:pt x="122" y="16"/>
                        <a:pt x="109" y="2"/>
                        <a:pt x="85" y="1"/>
                      </a:cubicBezTo>
                      <a:cubicBezTo>
                        <a:pt x="61" y="0"/>
                        <a:pt x="44" y="21"/>
                        <a:pt x="44" y="21"/>
                      </a:cubicBez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Freeform 58"/>
                <p:cNvSpPr/>
                <p:nvPr/>
              </p:nvSpPr>
              <p:spPr>
                <a:xfrm>
                  <a:off x="1983600" y="2351880"/>
                  <a:ext cx="429120" cy="231120"/>
                </a:xfrm>
                <a:custGeom>
                  <a:avLst/>
                  <a:gdLst/>
                  <a:ahLst/>
                  <a:rect l="l" t="t" r="r" b="b"/>
                  <a:pathLst>
                    <a:path w="224" h="122">
                      <a:moveTo>
                        <a:pt x="0" y="52"/>
                      </a:moveTo>
                      <a:cubicBezTo>
                        <a:pt x="0" y="52"/>
                        <a:pt x="136" y="111"/>
                        <a:pt x="217" y="1"/>
                      </a:cubicBezTo>
                      <a:cubicBezTo>
                        <a:pt x="217" y="1"/>
                        <a:pt x="220" y="0"/>
                        <a:pt x="222" y="2"/>
                      </a:cubicBezTo>
                      <a:cubicBezTo>
                        <a:pt x="224" y="3"/>
                        <a:pt x="223" y="5"/>
                        <a:pt x="223" y="5"/>
                      </a:cubicBezTo>
                      <a:cubicBezTo>
                        <a:pt x="223" y="5"/>
                        <a:pt x="145" y="122"/>
                        <a:pt x="0" y="52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Freeform 59"/>
                <p:cNvSpPr/>
                <p:nvPr/>
              </p:nvSpPr>
              <p:spPr>
                <a:xfrm>
                  <a:off x="2364840" y="2283840"/>
                  <a:ext cx="80640" cy="68040"/>
                </a:xfrm>
                <a:custGeom>
                  <a:avLst/>
                  <a:gdLst/>
                  <a:ahLst/>
                  <a:rect l="l" t="t" r="r" b="b"/>
                  <a:pathLst>
                    <a:path w="42" h="36">
                      <a:moveTo>
                        <a:pt x="1" y="19"/>
                      </a:moveTo>
                      <a:cubicBezTo>
                        <a:pt x="1" y="19"/>
                        <a:pt x="25" y="7"/>
                        <a:pt x="32" y="33"/>
                      </a:cubicBezTo>
                      <a:cubicBezTo>
                        <a:pt x="32" y="33"/>
                        <a:pt x="34" y="36"/>
                        <a:pt x="38" y="36"/>
                      </a:cubicBezTo>
                      <a:cubicBezTo>
                        <a:pt x="42" y="36"/>
                        <a:pt x="42" y="33"/>
                        <a:pt x="42" y="33"/>
                      </a:cubicBezTo>
                      <a:cubicBezTo>
                        <a:pt x="42" y="33"/>
                        <a:pt x="38" y="0"/>
                        <a:pt x="4" y="14"/>
                      </a:cubicBezTo>
                      <a:cubicBezTo>
                        <a:pt x="3" y="15"/>
                        <a:pt x="2" y="15"/>
                        <a:pt x="1" y="16"/>
                      </a:cubicBezTo>
                      <a:cubicBezTo>
                        <a:pt x="0" y="17"/>
                        <a:pt x="1" y="19"/>
                        <a:pt x="1" y="19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" name="Freeform 60"/>
                <p:cNvSpPr/>
                <p:nvPr/>
              </p:nvSpPr>
              <p:spPr>
                <a:xfrm>
                  <a:off x="2589120" y="2074680"/>
                  <a:ext cx="168840" cy="145080"/>
                </a:xfrm>
                <a:custGeom>
                  <a:avLst/>
                  <a:gdLst/>
                  <a:ahLst/>
                  <a:rect l="l" t="t" r="r" b="b"/>
                  <a:pathLst>
                    <a:path w="88" h="77">
                      <a:moveTo>
                        <a:pt x="10" y="77"/>
                      </a:moveTo>
                      <a:cubicBezTo>
                        <a:pt x="0" y="71"/>
                        <a:pt x="0" y="71"/>
                        <a:pt x="0" y="71"/>
                      </a:cubicBezTo>
                      <a:cubicBezTo>
                        <a:pt x="0" y="71"/>
                        <a:pt x="71" y="48"/>
                        <a:pt x="72" y="0"/>
                      </a:cubicBezTo>
                      <a:cubicBezTo>
                        <a:pt x="72" y="0"/>
                        <a:pt x="88" y="53"/>
                        <a:pt x="10" y="77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Freeform 61"/>
                <p:cNvSpPr/>
                <p:nvPr/>
              </p:nvSpPr>
              <p:spPr>
                <a:xfrm>
                  <a:off x="1549800" y="1984320"/>
                  <a:ext cx="128520" cy="154080"/>
                </a:xfrm>
                <a:custGeom>
                  <a:avLst/>
                  <a:gdLst/>
                  <a:ahLst/>
                  <a:rect l="l" t="t" r="r" b="b"/>
                  <a:pathLst>
                    <a:path w="67" h="81">
                      <a:moveTo>
                        <a:pt x="55" y="79"/>
                      </a:moveTo>
                      <a:cubicBezTo>
                        <a:pt x="55" y="79"/>
                        <a:pt x="67" y="0"/>
                        <a:pt x="25" y="15"/>
                      </a:cubicBezTo>
                      <a:cubicBezTo>
                        <a:pt x="0" y="24"/>
                        <a:pt x="4" y="50"/>
                        <a:pt x="20" y="65"/>
                      </a:cubicBezTo>
                      <a:cubicBezTo>
                        <a:pt x="30" y="75"/>
                        <a:pt x="44" y="81"/>
                        <a:pt x="55" y="79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Freeform 62"/>
                <p:cNvSpPr/>
                <p:nvPr/>
              </p:nvSpPr>
              <p:spPr>
                <a:xfrm>
                  <a:off x="1551240" y="2021400"/>
                  <a:ext cx="107640" cy="117000"/>
                </a:xfrm>
                <a:custGeom>
                  <a:avLst/>
                  <a:gdLst/>
                  <a:ahLst/>
                  <a:rect l="l" t="t" r="r" b="b"/>
                  <a:pathLst>
                    <a:path w="56" h="62">
                      <a:moveTo>
                        <a:pt x="54" y="59"/>
                      </a:moveTo>
                      <a:cubicBezTo>
                        <a:pt x="56" y="39"/>
                        <a:pt x="56" y="39"/>
                        <a:pt x="56" y="39"/>
                      </a:cubicBezTo>
                      <a:cubicBezTo>
                        <a:pt x="56" y="39"/>
                        <a:pt x="0" y="0"/>
                        <a:pt x="9" y="31"/>
                      </a:cubicBezTo>
                      <a:cubicBezTo>
                        <a:pt x="18" y="62"/>
                        <a:pt x="54" y="59"/>
                        <a:pt x="54" y="59"/>
                      </a:cubicBezTo>
                      <a:close/>
                    </a:path>
                  </a:pathLst>
                </a:custGeom>
                <a:solidFill>
                  <a:srgbClr val="e5b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Freeform 63"/>
                <p:cNvSpPr/>
                <p:nvPr/>
              </p:nvSpPr>
              <p:spPr>
                <a:xfrm>
                  <a:off x="1793520" y="2058480"/>
                  <a:ext cx="37080" cy="16200"/>
                </a:xfrm>
                <a:custGeom>
                  <a:avLst/>
                  <a:gdLst/>
                  <a:ahLst/>
                  <a:rect l="l" t="t" r="r" b="b"/>
                  <a:pathLst>
                    <a:path w="20" h="8">
                      <a:moveTo>
                        <a:pt x="20" y="5"/>
                      </a:moveTo>
                      <a:cubicBezTo>
                        <a:pt x="19" y="7"/>
                        <a:pt x="18" y="8"/>
                        <a:pt x="16" y="8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1" y="7"/>
                        <a:pt x="0" y="6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8" y="1"/>
                        <a:pt x="20" y="3"/>
                        <a:pt x="20" y="5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" name="Freeform 64"/>
                <p:cNvSpPr/>
                <p:nvPr/>
              </p:nvSpPr>
              <p:spPr>
                <a:xfrm>
                  <a:off x="2453040" y="2068920"/>
                  <a:ext cx="32760" cy="10080"/>
                </a:xfrm>
                <a:custGeom>
                  <a:avLst/>
                  <a:gdLst/>
                  <a:ahLst/>
                  <a:rect l="l" t="t" r="r" b="b"/>
                  <a:pathLst>
                    <a:path w="17" h="6">
                      <a:moveTo>
                        <a:pt x="16" y="4"/>
                      </a:moveTo>
                      <a:cubicBezTo>
                        <a:pt x="16" y="5"/>
                        <a:pt x="15" y="6"/>
                        <a:pt x="14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1" y="6"/>
                        <a:pt x="0" y="4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5" y="0"/>
                        <a:pt x="17" y="2"/>
                        <a:pt x="16" y="4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Freeform 65"/>
                <p:cNvSpPr/>
                <p:nvPr/>
              </p:nvSpPr>
              <p:spPr>
                <a:xfrm>
                  <a:off x="2148120" y="2516400"/>
                  <a:ext cx="92520" cy="3096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48" y="10"/>
                      </a:moveTo>
                      <a:cubicBezTo>
                        <a:pt x="48" y="14"/>
                        <a:pt x="37" y="16"/>
                        <a:pt x="24" y="16"/>
                      </a:cubicBezTo>
                      <a:cubicBezTo>
                        <a:pt x="10" y="15"/>
                        <a:pt x="0" y="11"/>
                        <a:pt x="0" y="7"/>
                      </a:cubicBezTo>
                      <a:cubicBezTo>
                        <a:pt x="0" y="3"/>
                        <a:pt x="11" y="0"/>
                        <a:pt x="24" y="1"/>
                      </a:cubicBezTo>
                      <a:cubicBezTo>
                        <a:pt x="38" y="1"/>
                        <a:pt x="48" y="5"/>
                        <a:pt x="48" y="10"/>
                      </a:cubicBezTo>
                      <a:close/>
                    </a:path>
                  </a:pathLst>
                </a:custGeom>
                <a:solidFill>
                  <a:srgbClr val="ffe9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Freeform 66"/>
                <p:cNvSpPr/>
                <p:nvPr/>
              </p:nvSpPr>
              <p:spPr>
                <a:xfrm>
                  <a:off x="2527920" y="1435680"/>
                  <a:ext cx="213480" cy="324360"/>
                </a:xfrm>
                <a:custGeom>
                  <a:avLst/>
                  <a:gdLst/>
                  <a:ahLst/>
                  <a:rect l="l" t="t" r="r" b="b"/>
                  <a:pathLst>
                    <a:path w="111" h="171">
                      <a:moveTo>
                        <a:pt x="0" y="90"/>
                      </a:moveTo>
                      <a:cubicBezTo>
                        <a:pt x="17" y="106"/>
                        <a:pt x="18" y="132"/>
                        <a:pt x="18" y="154"/>
                      </a:cubicBezTo>
                      <a:cubicBezTo>
                        <a:pt x="18" y="160"/>
                        <a:pt x="18" y="165"/>
                        <a:pt x="18" y="171"/>
                      </a:cubicBezTo>
                      <a:cubicBezTo>
                        <a:pt x="42" y="155"/>
                        <a:pt x="103" y="94"/>
                        <a:pt x="108" y="69"/>
                      </a:cubicBezTo>
                      <a:cubicBezTo>
                        <a:pt x="111" y="55"/>
                        <a:pt x="103" y="43"/>
                        <a:pt x="99" y="30"/>
                      </a:cubicBezTo>
                      <a:cubicBezTo>
                        <a:pt x="96" y="20"/>
                        <a:pt x="74" y="0"/>
                        <a:pt x="42" y="20"/>
                      </a:cubicBezTo>
                      <a:cubicBezTo>
                        <a:pt x="36" y="33"/>
                        <a:pt x="33" y="46"/>
                        <a:pt x="27" y="59"/>
                      </a:cubicBezTo>
                      <a:cubicBezTo>
                        <a:pt x="24" y="65"/>
                        <a:pt x="21" y="71"/>
                        <a:pt x="17" y="76"/>
                      </a:cubicBezTo>
                      <a:cubicBezTo>
                        <a:pt x="12" y="82"/>
                        <a:pt x="5" y="85"/>
                        <a:pt x="0" y="90"/>
                      </a:cubicBezTo>
                      <a:close/>
                    </a:path>
                  </a:pathLst>
                </a:custGeom>
                <a:solidFill>
                  <a:srgbClr val="5139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Freeform 67"/>
                <p:cNvSpPr/>
                <p:nvPr/>
              </p:nvSpPr>
              <p:spPr>
                <a:xfrm>
                  <a:off x="2420280" y="1416600"/>
                  <a:ext cx="147960" cy="179280"/>
                </a:xfrm>
                <a:custGeom>
                  <a:avLst/>
                  <a:gdLst/>
                  <a:ahLst/>
                  <a:rect l="l" t="t" r="r" b="b"/>
                  <a:pathLst>
                    <a:path w="77" h="94">
                      <a:moveTo>
                        <a:pt x="77" y="5"/>
                      </a:moveTo>
                      <a:cubicBezTo>
                        <a:pt x="60" y="0"/>
                        <a:pt x="17" y="83"/>
                        <a:pt x="0" y="94"/>
                      </a:cubicBezTo>
                      <a:cubicBezTo>
                        <a:pt x="35" y="87"/>
                        <a:pt x="70" y="41"/>
                        <a:pt x="76" y="8"/>
                      </a:cubicBezTo>
                      <a:lnTo>
                        <a:pt x="77" y="5"/>
                      </a:ln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" name="Freeform 68"/>
                <p:cNvSpPr/>
                <p:nvPr/>
              </p:nvSpPr>
              <p:spPr>
                <a:xfrm>
                  <a:off x="2165760" y="1249200"/>
                  <a:ext cx="304920" cy="72360"/>
                </a:xfrm>
                <a:custGeom>
                  <a:avLst/>
                  <a:gdLst/>
                  <a:ahLst/>
                  <a:rect l="l" t="t" r="r" b="b"/>
                  <a:pathLst>
                    <a:path w="159" h="38">
                      <a:moveTo>
                        <a:pt x="0" y="37"/>
                      </a:moveTo>
                      <a:cubicBezTo>
                        <a:pt x="21" y="28"/>
                        <a:pt x="39" y="12"/>
                        <a:pt x="61" y="4"/>
                      </a:cubicBezTo>
                      <a:cubicBezTo>
                        <a:pt x="68" y="2"/>
                        <a:pt x="74" y="1"/>
                        <a:pt x="81" y="1"/>
                      </a:cubicBezTo>
                      <a:cubicBezTo>
                        <a:pt x="100" y="0"/>
                        <a:pt x="116" y="3"/>
                        <a:pt x="132" y="13"/>
                      </a:cubicBezTo>
                      <a:cubicBezTo>
                        <a:pt x="141" y="18"/>
                        <a:pt x="155" y="27"/>
                        <a:pt x="159" y="36"/>
                      </a:cubicBezTo>
                      <a:cubicBezTo>
                        <a:pt x="158" y="35"/>
                        <a:pt x="130" y="35"/>
                        <a:pt x="127" y="35"/>
                      </a:cubicBezTo>
                      <a:cubicBezTo>
                        <a:pt x="116" y="34"/>
                        <a:pt x="106" y="33"/>
                        <a:pt x="95" y="31"/>
                      </a:cubicBezTo>
                      <a:cubicBezTo>
                        <a:pt x="75" y="29"/>
                        <a:pt x="54" y="27"/>
                        <a:pt x="33" y="30"/>
                      </a:cubicBezTo>
                      <a:cubicBezTo>
                        <a:pt x="22" y="31"/>
                        <a:pt x="11" y="38"/>
                        <a:pt x="0" y="37"/>
                      </a:cubicBezTo>
                      <a:close/>
                    </a:path>
                  </a:pathLst>
                </a:custGeom>
                <a:solidFill>
                  <a:srgbClr val="5139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Freeform 69"/>
                <p:cNvSpPr/>
                <p:nvPr/>
              </p:nvSpPr>
              <p:spPr>
                <a:xfrm>
                  <a:off x="1617120" y="1312920"/>
                  <a:ext cx="131400" cy="161280"/>
                </a:xfrm>
                <a:custGeom>
                  <a:avLst/>
                  <a:gdLst/>
                  <a:ahLst/>
                  <a:rect l="l" t="t" r="r" b="b"/>
                  <a:pathLst>
                    <a:path w="69" h="85">
                      <a:moveTo>
                        <a:pt x="1" y="0"/>
                      </a:moveTo>
                      <a:cubicBezTo>
                        <a:pt x="0" y="7"/>
                        <a:pt x="3" y="15"/>
                        <a:pt x="4" y="21"/>
                      </a:cubicBezTo>
                      <a:cubicBezTo>
                        <a:pt x="6" y="28"/>
                        <a:pt x="9" y="35"/>
                        <a:pt x="13" y="41"/>
                      </a:cubicBezTo>
                      <a:cubicBezTo>
                        <a:pt x="19" y="52"/>
                        <a:pt x="27" y="62"/>
                        <a:pt x="38" y="68"/>
                      </a:cubicBezTo>
                      <a:cubicBezTo>
                        <a:pt x="47" y="74"/>
                        <a:pt x="58" y="84"/>
                        <a:pt x="69" y="85"/>
                      </a:cubicBezTo>
                      <a:cubicBezTo>
                        <a:pt x="44" y="73"/>
                        <a:pt x="28" y="55"/>
                        <a:pt x="16" y="30"/>
                      </a:cubicBezTo>
                      <a:cubicBezTo>
                        <a:pt x="13" y="25"/>
                        <a:pt x="12" y="19"/>
                        <a:pt x="10" y="14"/>
                      </a:cubicBezTo>
                      <a:cubicBezTo>
                        <a:pt x="8" y="10"/>
                        <a:pt x="6" y="3"/>
                        <a:pt x="1" y="0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Freeform 70"/>
                <p:cNvSpPr/>
                <p:nvPr/>
              </p:nvSpPr>
              <p:spPr>
                <a:xfrm>
                  <a:off x="1719000" y="1305360"/>
                  <a:ext cx="116280" cy="121320"/>
                </a:xfrm>
                <a:custGeom>
                  <a:avLst/>
                  <a:gdLst/>
                  <a:ahLst/>
                  <a:rect l="l" t="t" r="r" b="b"/>
                  <a:pathLst>
                    <a:path w="61" h="64">
                      <a:moveTo>
                        <a:pt x="51" y="57"/>
                      </a:moveTo>
                      <a:cubicBezTo>
                        <a:pt x="40" y="50"/>
                        <a:pt x="27" y="39"/>
                        <a:pt x="20" y="28"/>
                      </a:cubicBezTo>
                      <a:cubicBezTo>
                        <a:pt x="14" y="17"/>
                        <a:pt x="9" y="9"/>
                        <a:pt x="0" y="0"/>
                      </a:cubicBezTo>
                      <a:cubicBezTo>
                        <a:pt x="2" y="12"/>
                        <a:pt x="8" y="30"/>
                        <a:pt x="15" y="39"/>
                      </a:cubicBezTo>
                      <a:cubicBezTo>
                        <a:pt x="24" y="52"/>
                        <a:pt x="45" y="61"/>
                        <a:pt x="61" y="64"/>
                      </a:cubicBezTo>
                      <a:cubicBezTo>
                        <a:pt x="61" y="63"/>
                        <a:pt x="60" y="63"/>
                        <a:pt x="60" y="63"/>
                      </a:cubicBezTo>
                      <a:cubicBezTo>
                        <a:pt x="57" y="62"/>
                        <a:pt x="54" y="60"/>
                        <a:pt x="51" y="57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Oval 71"/>
                <p:cNvSpPr/>
                <p:nvPr/>
              </p:nvSpPr>
              <p:spPr>
                <a:xfrm>
                  <a:off x="2142000" y="2283840"/>
                  <a:ext cx="52200" cy="20520"/>
                </a:xfrm>
                <a:prstGeom prst="ellipse">
                  <a:avLst/>
                </a:pr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" name="Freeform 72"/>
                <p:cNvSpPr/>
                <p:nvPr/>
              </p:nvSpPr>
              <p:spPr>
                <a:xfrm>
                  <a:off x="2578680" y="2008080"/>
                  <a:ext cx="128520" cy="154080"/>
                </a:xfrm>
                <a:custGeom>
                  <a:avLst/>
                  <a:gdLst/>
                  <a:ahLst/>
                  <a:rect l="l" t="t" r="r" b="b"/>
                  <a:pathLst>
                    <a:path w="67" h="81">
                      <a:moveTo>
                        <a:pt x="12" y="79"/>
                      </a:moveTo>
                      <a:cubicBezTo>
                        <a:pt x="12" y="79"/>
                        <a:pt x="0" y="0"/>
                        <a:pt x="41" y="15"/>
                      </a:cubicBezTo>
                      <a:cubicBezTo>
                        <a:pt x="67" y="24"/>
                        <a:pt x="62" y="50"/>
                        <a:pt x="47" y="65"/>
                      </a:cubicBezTo>
                      <a:cubicBezTo>
                        <a:pt x="37" y="75"/>
                        <a:pt x="22" y="81"/>
                        <a:pt x="12" y="79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Freeform 73"/>
                <p:cNvSpPr/>
                <p:nvPr/>
              </p:nvSpPr>
              <p:spPr>
                <a:xfrm>
                  <a:off x="2596680" y="2043720"/>
                  <a:ext cx="107640" cy="118440"/>
                </a:xfrm>
                <a:custGeom>
                  <a:avLst/>
                  <a:gdLst/>
                  <a:ahLst/>
                  <a:rect l="l" t="t" r="r" b="b"/>
                  <a:pathLst>
                    <a:path w="56" h="62">
                      <a:moveTo>
                        <a:pt x="2" y="59"/>
                      </a:moveTo>
                      <a:cubicBezTo>
                        <a:pt x="0" y="39"/>
                        <a:pt x="0" y="39"/>
                        <a:pt x="0" y="39"/>
                      </a:cubicBezTo>
                      <a:cubicBezTo>
                        <a:pt x="0" y="39"/>
                        <a:pt x="56" y="0"/>
                        <a:pt x="47" y="31"/>
                      </a:cubicBezTo>
                      <a:cubicBezTo>
                        <a:pt x="38" y="62"/>
                        <a:pt x="2" y="59"/>
                        <a:pt x="2" y="59"/>
                      </a:cubicBezTo>
                      <a:close/>
                    </a:path>
                  </a:pathLst>
                </a:custGeom>
                <a:solidFill>
                  <a:srgbClr val="e5b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Freeform 74"/>
                <p:cNvSpPr/>
                <p:nvPr/>
              </p:nvSpPr>
              <p:spPr>
                <a:xfrm>
                  <a:off x="2309400" y="2737440"/>
                  <a:ext cx="73080" cy="102240"/>
                </a:xfrm>
                <a:custGeom>
                  <a:avLst/>
                  <a:gdLst/>
                  <a:ahLst/>
                  <a:rect l="l" t="t" r="r" b="b"/>
                  <a:pathLst>
                    <a:path w="49" h="69">
                      <a:moveTo>
                        <a:pt x="0" y="5"/>
                      </a:moveTo>
                      <a:lnTo>
                        <a:pt x="46" y="0"/>
                      </a:lnTo>
                      <a:lnTo>
                        <a:pt x="49" y="50"/>
                      </a:lnTo>
                      <a:lnTo>
                        <a:pt x="35" y="69"/>
                      </a:lnTo>
                      <a:lnTo>
                        <a:pt x="12" y="5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" name="Freeform 75"/>
                <p:cNvSpPr/>
                <p:nvPr/>
              </p:nvSpPr>
              <p:spPr>
                <a:xfrm>
                  <a:off x="2315520" y="2737440"/>
                  <a:ext cx="62640" cy="90360"/>
                </a:xfrm>
                <a:custGeom>
                  <a:avLst/>
                  <a:gdLst/>
                  <a:ahLst/>
                  <a:rect l="l" t="t" r="r" b="b"/>
                  <a:pathLst>
                    <a:path w="42" h="61">
                      <a:moveTo>
                        <a:pt x="0" y="6"/>
                      </a:moveTo>
                      <a:lnTo>
                        <a:pt x="42" y="0"/>
                      </a:lnTo>
                      <a:lnTo>
                        <a:pt x="42" y="47"/>
                      </a:lnTo>
                      <a:lnTo>
                        <a:pt x="31" y="61"/>
                      </a:lnTo>
                      <a:lnTo>
                        <a:pt x="9" y="5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" name="Freeform 76"/>
                <p:cNvSpPr/>
                <p:nvPr/>
              </p:nvSpPr>
              <p:spPr>
                <a:xfrm>
                  <a:off x="2316960" y="2738880"/>
                  <a:ext cx="59760" cy="82800"/>
                </a:xfrm>
                <a:custGeom>
                  <a:avLst/>
                  <a:gdLst/>
                  <a:ahLst/>
                  <a:rect l="l" t="t" r="r" b="b"/>
                  <a:pathLst>
                    <a:path w="40" h="56">
                      <a:moveTo>
                        <a:pt x="0" y="6"/>
                      </a:moveTo>
                      <a:lnTo>
                        <a:pt x="40" y="0"/>
                      </a:lnTo>
                      <a:lnTo>
                        <a:pt x="40" y="44"/>
                      </a:lnTo>
                      <a:lnTo>
                        <a:pt x="28" y="56"/>
                      </a:lnTo>
                      <a:lnTo>
                        <a:pt x="9" y="5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74" name="组合 19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275" name="燕尾形 199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燕尾形 200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燕尾形 201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燕尾形 202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203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16"/>
          <p:cNvSpPr/>
          <p:nvPr/>
        </p:nvSpPr>
        <p:spPr>
          <a:xfrm>
            <a:off x="5715000" y="1630440"/>
            <a:ext cx="307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36"/>
          <p:cNvSpPr/>
          <p:nvPr/>
        </p:nvSpPr>
        <p:spPr>
          <a:xfrm>
            <a:off x="5745240" y="1346040"/>
            <a:ext cx="21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5643720" y="2681280"/>
            <a:ext cx="307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6"/>
          <p:cNvSpPr/>
          <p:nvPr/>
        </p:nvSpPr>
        <p:spPr>
          <a:xfrm>
            <a:off x="5643720" y="3753000"/>
            <a:ext cx="307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39"/>
          <p:cNvSpPr/>
          <p:nvPr/>
        </p:nvSpPr>
        <p:spPr>
          <a:xfrm>
            <a:off x="5680080" y="2340000"/>
            <a:ext cx="20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40"/>
          <p:cNvSpPr/>
          <p:nvPr/>
        </p:nvSpPr>
        <p:spPr>
          <a:xfrm>
            <a:off x="5643720" y="3417840"/>
            <a:ext cx="20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5"/>
          <p:cNvSpPr/>
          <p:nvPr/>
        </p:nvSpPr>
        <p:spPr>
          <a:xfrm>
            <a:off x="2179800" y="1258920"/>
            <a:ext cx="1780920" cy="1485720"/>
          </a:xfrm>
          <a:custGeom>
            <a:avLst/>
            <a:gdLst/>
            <a:ahLst/>
            <a:rect l="l" t="t" r="r" b="b"/>
            <a:pathLst>
              <a:path w="1883" h="1607">
                <a:moveTo>
                  <a:pt x="1845" y="171"/>
                </a:moveTo>
                <a:cubicBezTo>
                  <a:pt x="1838" y="147"/>
                  <a:pt x="1838" y="147"/>
                  <a:pt x="1838" y="147"/>
                </a:cubicBezTo>
                <a:cubicBezTo>
                  <a:pt x="1819" y="115"/>
                  <a:pt x="1819" y="115"/>
                  <a:pt x="1819" y="115"/>
                </a:cubicBezTo>
                <a:cubicBezTo>
                  <a:pt x="1803" y="106"/>
                  <a:pt x="1803" y="106"/>
                  <a:pt x="1803" y="106"/>
                </a:cubicBezTo>
                <a:cubicBezTo>
                  <a:pt x="1787" y="115"/>
                  <a:pt x="1787" y="115"/>
                  <a:pt x="1787" y="115"/>
                </a:cubicBezTo>
                <a:cubicBezTo>
                  <a:pt x="1778" y="134"/>
                  <a:pt x="1778" y="134"/>
                  <a:pt x="1778" y="134"/>
                </a:cubicBezTo>
                <a:cubicBezTo>
                  <a:pt x="1777" y="136"/>
                  <a:pt x="1777" y="136"/>
                  <a:pt x="1777" y="136"/>
                </a:cubicBezTo>
                <a:cubicBezTo>
                  <a:pt x="1775" y="136"/>
                  <a:pt x="1775" y="136"/>
                  <a:pt x="1775" y="136"/>
                </a:cubicBezTo>
                <a:cubicBezTo>
                  <a:pt x="1774" y="136"/>
                  <a:pt x="1774" y="136"/>
                  <a:pt x="1774" y="136"/>
                </a:cubicBezTo>
                <a:cubicBezTo>
                  <a:pt x="1744" y="141"/>
                  <a:pt x="1744" y="141"/>
                  <a:pt x="1744" y="141"/>
                </a:cubicBezTo>
                <a:cubicBezTo>
                  <a:pt x="1741" y="143"/>
                  <a:pt x="1738" y="144"/>
                  <a:pt x="1736" y="147"/>
                </a:cubicBezTo>
                <a:cubicBezTo>
                  <a:pt x="1729" y="155"/>
                  <a:pt x="1729" y="155"/>
                  <a:pt x="1729" y="155"/>
                </a:cubicBezTo>
                <a:cubicBezTo>
                  <a:pt x="1714" y="167"/>
                  <a:pt x="1714" y="167"/>
                  <a:pt x="1714" y="167"/>
                </a:cubicBezTo>
                <a:cubicBezTo>
                  <a:pt x="1709" y="170"/>
                  <a:pt x="1709" y="170"/>
                  <a:pt x="1709" y="170"/>
                </a:cubicBezTo>
                <a:cubicBezTo>
                  <a:pt x="1696" y="172"/>
                  <a:pt x="1696" y="172"/>
                  <a:pt x="1696" y="172"/>
                </a:cubicBezTo>
                <a:cubicBezTo>
                  <a:pt x="1689" y="171"/>
                  <a:pt x="1680" y="165"/>
                  <a:pt x="1667" y="156"/>
                </a:cubicBezTo>
                <a:cubicBezTo>
                  <a:pt x="1666" y="155"/>
                  <a:pt x="1666" y="155"/>
                  <a:pt x="1666" y="155"/>
                </a:cubicBezTo>
                <a:cubicBezTo>
                  <a:pt x="1645" y="134"/>
                  <a:pt x="1634" y="119"/>
                  <a:pt x="1634" y="110"/>
                </a:cubicBezTo>
                <a:cubicBezTo>
                  <a:pt x="1634" y="83"/>
                  <a:pt x="1634" y="83"/>
                  <a:pt x="1634" y="83"/>
                </a:cubicBezTo>
                <a:cubicBezTo>
                  <a:pt x="1634" y="82"/>
                  <a:pt x="1634" y="82"/>
                  <a:pt x="1634" y="82"/>
                </a:cubicBezTo>
                <a:cubicBezTo>
                  <a:pt x="1634" y="81"/>
                  <a:pt x="1634" y="81"/>
                  <a:pt x="1634" y="81"/>
                </a:cubicBezTo>
                <a:cubicBezTo>
                  <a:pt x="1638" y="76"/>
                  <a:pt x="1638" y="76"/>
                  <a:pt x="1638" y="76"/>
                </a:cubicBezTo>
                <a:cubicBezTo>
                  <a:pt x="1607" y="65"/>
                  <a:pt x="1607" y="65"/>
                  <a:pt x="1607" y="65"/>
                </a:cubicBezTo>
                <a:cubicBezTo>
                  <a:pt x="1606" y="76"/>
                  <a:pt x="1606" y="76"/>
                  <a:pt x="1606" y="76"/>
                </a:cubicBezTo>
                <a:cubicBezTo>
                  <a:pt x="1606" y="79"/>
                  <a:pt x="1603" y="83"/>
                  <a:pt x="1597" y="86"/>
                </a:cubicBezTo>
                <a:cubicBezTo>
                  <a:pt x="1587" y="90"/>
                  <a:pt x="1587" y="90"/>
                  <a:pt x="1587" y="90"/>
                </a:cubicBezTo>
                <a:cubicBezTo>
                  <a:pt x="1583" y="89"/>
                  <a:pt x="1583" y="89"/>
                  <a:pt x="1583" y="89"/>
                </a:cubicBezTo>
                <a:cubicBezTo>
                  <a:pt x="1583" y="88"/>
                  <a:pt x="1583" y="88"/>
                  <a:pt x="1583" y="88"/>
                </a:cubicBezTo>
                <a:cubicBezTo>
                  <a:pt x="1567" y="85"/>
                  <a:pt x="1567" y="85"/>
                  <a:pt x="1567" y="85"/>
                </a:cubicBezTo>
                <a:cubicBezTo>
                  <a:pt x="1570" y="97"/>
                  <a:pt x="1570" y="97"/>
                  <a:pt x="1570" y="97"/>
                </a:cubicBezTo>
                <a:cubicBezTo>
                  <a:pt x="1543" y="79"/>
                  <a:pt x="1543" y="79"/>
                  <a:pt x="1543" y="79"/>
                </a:cubicBezTo>
                <a:cubicBezTo>
                  <a:pt x="1541" y="79"/>
                  <a:pt x="1541" y="79"/>
                  <a:pt x="1541" y="79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36" y="66"/>
                  <a:pt x="1534" y="55"/>
                  <a:pt x="1534" y="42"/>
                </a:cubicBezTo>
                <a:cubicBezTo>
                  <a:pt x="1534" y="31"/>
                  <a:pt x="1535" y="25"/>
                  <a:pt x="1539" y="21"/>
                </a:cubicBezTo>
                <a:cubicBezTo>
                  <a:pt x="1546" y="9"/>
                  <a:pt x="1546" y="9"/>
                  <a:pt x="1546" y="9"/>
                </a:cubicBezTo>
                <a:cubicBezTo>
                  <a:pt x="1544" y="0"/>
                  <a:pt x="1544" y="0"/>
                  <a:pt x="1544" y="0"/>
                </a:cubicBezTo>
                <a:cubicBezTo>
                  <a:pt x="1516" y="4"/>
                  <a:pt x="1516" y="4"/>
                  <a:pt x="1516" y="4"/>
                </a:cubicBezTo>
                <a:cubicBezTo>
                  <a:pt x="1502" y="5"/>
                  <a:pt x="1493" y="13"/>
                  <a:pt x="1488" y="29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72" y="55"/>
                  <a:pt x="1472" y="55"/>
                  <a:pt x="1472" y="55"/>
                </a:cubicBezTo>
                <a:cubicBezTo>
                  <a:pt x="1488" y="53"/>
                  <a:pt x="1488" y="53"/>
                  <a:pt x="1488" y="53"/>
                </a:cubicBezTo>
                <a:cubicBezTo>
                  <a:pt x="1489" y="53"/>
                  <a:pt x="1489" y="53"/>
                  <a:pt x="1489" y="53"/>
                </a:cubicBezTo>
                <a:cubicBezTo>
                  <a:pt x="1490" y="52"/>
                  <a:pt x="1490" y="52"/>
                  <a:pt x="1490" y="52"/>
                </a:cubicBezTo>
                <a:cubicBezTo>
                  <a:pt x="1491" y="55"/>
                  <a:pt x="1491" y="55"/>
                  <a:pt x="1491" y="55"/>
                </a:cubicBezTo>
                <a:cubicBezTo>
                  <a:pt x="1503" y="60"/>
                  <a:pt x="1503" y="60"/>
                  <a:pt x="1503" y="60"/>
                </a:cubicBezTo>
                <a:cubicBezTo>
                  <a:pt x="1506" y="60"/>
                  <a:pt x="1506" y="60"/>
                  <a:pt x="1506" y="60"/>
                </a:cubicBezTo>
                <a:cubicBezTo>
                  <a:pt x="1508" y="61"/>
                  <a:pt x="1508" y="61"/>
                  <a:pt x="1508" y="61"/>
                </a:cubicBezTo>
                <a:cubicBezTo>
                  <a:pt x="1508" y="64"/>
                  <a:pt x="1508" y="64"/>
                  <a:pt x="1508" y="64"/>
                </a:cubicBezTo>
                <a:cubicBezTo>
                  <a:pt x="1510" y="86"/>
                  <a:pt x="1510" y="86"/>
                  <a:pt x="1510" y="86"/>
                </a:cubicBezTo>
                <a:cubicBezTo>
                  <a:pt x="1516" y="107"/>
                  <a:pt x="1516" y="107"/>
                  <a:pt x="1516" y="107"/>
                </a:cubicBezTo>
                <a:cubicBezTo>
                  <a:pt x="1516" y="108"/>
                  <a:pt x="1516" y="108"/>
                  <a:pt x="1516" y="108"/>
                </a:cubicBezTo>
                <a:cubicBezTo>
                  <a:pt x="1516" y="109"/>
                  <a:pt x="1516" y="109"/>
                  <a:pt x="1516" y="109"/>
                </a:cubicBezTo>
                <a:cubicBezTo>
                  <a:pt x="1516" y="110"/>
                  <a:pt x="1516" y="110"/>
                  <a:pt x="1516" y="110"/>
                </a:cubicBezTo>
                <a:cubicBezTo>
                  <a:pt x="1481" y="179"/>
                  <a:pt x="1481" y="179"/>
                  <a:pt x="1481" y="179"/>
                </a:cubicBezTo>
                <a:cubicBezTo>
                  <a:pt x="1475" y="189"/>
                  <a:pt x="1472" y="214"/>
                  <a:pt x="1470" y="252"/>
                </a:cubicBezTo>
                <a:cubicBezTo>
                  <a:pt x="1470" y="255"/>
                  <a:pt x="1470" y="255"/>
                  <a:pt x="1470" y="255"/>
                </a:cubicBezTo>
                <a:cubicBezTo>
                  <a:pt x="1456" y="281"/>
                  <a:pt x="1456" y="281"/>
                  <a:pt x="1456" y="281"/>
                </a:cubicBezTo>
                <a:cubicBezTo>
                  <a:pt x="1465" y="292"/>
                  <a:pt x="1465" y="292"/>
                  <a:pt x="1465" y="292"/>
                </a:cubicBezTo>
                <a:cubicBezTo>
                  <a:pt x="1465" y="294"/>
                  <a:pt x="1465" y="294"/>
                  <a:pt x="1465" y="294"/>
                </a:cubicBezTo>
                <a:cubicBezTo>
                  <a:pt x="1467" y="310"/>
                  <a:pt x="1465" y="319"/>
                  <a:pt x="1461" y="322"/>
                </a:cubicBezTo>
                <a:cubicBezTo>
                  <a:pt x="1458" y="323"/>
                  <a:pt x="1458" y="323"/>
                  <a:pt x="1458" y="323"/>
                </a:cubicBezTo>
                <a:cubicBezTo>
                  <a:pt x="1451" y="327"/>
                  <a:pt x="1426" y="352"/>
                  <a:pt x="1387" y="400"/>
                </a:cubicBezTo>
                <a:cubicBezTo>
                  <a:pt x="1384" y="403"/>
                  <a:pt x="1384" y="403"/>
                  <a:pt x="1384" y="403"/>
                </a:cubicBezTo>
                <a:cubicBezTo>
                  <a:pt x="1382" y="402"/>
                  <a:pt x="1382" y="402"/>
                  <a:pt x="1382" y="402"/>
                </a:cubicBezTo>
                <a:cubicBezTo>
                  <a:pt x="1379" y="400"/>
                  <a:pt x="1379" y="400"/>
                  <a:pt x="1379" y="400"/>
                </a:cubicBezTo>
                <a:cubicBezTo>
                  <a:pt x="1365" y="390"/>
                  <a:pt x="1353" y="382"/>
                  <a:pt x="1345" y="373"/>
                </a:cubicBezTo>
                <a:cubicBezTo>
                  <a:pt x="1339" y="369"/>
                  <a:pt x="1323" y="366"/>
                  <a:pt x="1297" y="366"/>
                </a:cubicBezTo>
                <a:cubicBezTo>
                  <a:pt x="1296" y="414"/>
                  <a:pt x="1296" y="414"/>
                  <a:pt x="1296" y="414"/>
                </a:cubicBezTo>
                <a:cubicBezTo>
                  <a:pt x="1295" y="415"/>
                  <a:pt x="1295" y="415"/>
                  <a:pt x="1295" y="415"/>
                </a:cubicBezTo>
                <a:cubicBezTo>
                  <a:pt x="1276" y="507"/>
                  <a:pt x="1276" y="507"/>
                  <a:pt x="1276" y="507"/>
                </a:cubicBezTo>
                <a:cubicBezTo>
                  <a:pt x="1271" y="519"/>
                  <a:pt x="1270" y="540"/>
                  <a:pt x="1270" y="572"/>
                </a:cubicBezTo>
                <a:cubicBezTo>
                  <a:pt x="1278" y="581"/>
                  <a:pt x="1278" y="581"/>
                  <a:pt x="1278" y="581"/>
                </a:cubicBezTo>
                <a:cubicBezTo>
                  <a:pt x="1284" y="569"/>
                  <a:pt x="1284" y="569"/>
                  <a:pt x="1284" y="569"/>
                </a:cubicBezTo>
                <a:cubicBezTo>
                  <a:pt x="1285" y="569"/>
                  <a:pt x="1285" y="569"/>
                  <a:pt x="1285" y="569"/>
                </a:cubicBezTo>
                <a:cubicBezTo>
                  <a:pt x="1286" y="566"/>
                  <a:pt x="1286" y="566"/>
                  <a:pt x="1286" y="566"/>
                </a:cubicBezTo>
                <a:cubicBezTo>
                  <a:pt x="1310" y="554"/>
                  <a:pt x="1310" y="554"/>
                  <a:pt x="1310" y="554"/>
                </a:cubicBezTo>
                <a:cubicBezTo>
                  <a:pt x="1378" y="564"/>
                  <a:pt x="1378" y="564"/>
                  <a:pt x="1378" y="564"/>
                </a:cubicBezTo>
                <a:cubicBezTo>
                  <a:pt x="1385" y="556"/>
                  <a:pt x="1385" y="556"/>
                  <a:pt x="1385" y="556"/>
                </a:cubicBezTo>
                <a:cubicBezTo>
                  <a:pt x="1395" y="539"/>
                  <a:pt x="1395" y="539"/>
                  <a:pt x="1395" y="539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8" y="537"/>
                  <a:pt x="1398" y="537"/>
                  <a:pt x="1398" y="537"/>
                </a:cubicBezTo>
                <a:cubicBezTo>
                  <a:pt x="1424" y="532"/>
                  <a:pt x="1424" y="532"/>
                  <a:pt x="1424" y="532"/>
                </a:cubicBezTo>
                <a:cubicBezTo>
                  <a:pt x="1459" y="529"/>
                  <a:pt x="1459" y="529"/>
                  <a:pt x="1459" y="529"/>
                </a:cubicBezTo>
                <a:cubicBezTo>
                  <a:pt x="1470" y="532"/>
                  <a:pt x="1482" y="545"/>
                  <a:pt x="1498" y="566"/>
                </a:cubicBezTo>
                <a:cubicBezTo>
                  <a:pt x="1540" y="588"/>
                  <a:pt x="1564" y="607"/>
                  <a:pt x="1569" y="623"/>
                </a:cubicBezTo>
                <a:cubicBezTo>
                  <a:pt x="1572" y="632"/>
                  <a:pt x="1572" y="638"/>
                  <a:pt x="1569" y="646"/>
                </a:cubicBezTo>
                <a:cubicBezTo>
                  <a:pt x="1566" y="653"/>
                  <a:pt x="1558" y="657"/>
                  <a:pt x="1548" y="658"/>
                </a:cubicBezTo>
                <a:cubicBezTo>
                  <a:pt x="1547" y="658"/>
                  <a:pt x="1547" y="658"/>
                  <a:pt x="1547" y="658"/>
                </a:cubicBezTo>
                <a:cubicBezTo>
                  <a:pt x="1495" y="656"/>
                  <a:pt x="1465" y="656"/>
                  <a:pt x="1455" y="659"/>
                </a:cubicBezTo>
                <a:cubicBezTo>
                  <a:pt x="1430" y="676"/>
                  <a:pt x="1430" y="676"/>
                  <a:pt x="1430" y="676"/>
                </a:cubicBezTo>
                <a:cubicBezTo>
                  <a:pt x="1398" y="699"/>
                  <a:pt x="1377" y="711"/>
                  <a:pt x="1365" y="711"/>
                </a:cubicBezTo>
                <a:cubicBezTo>
                  <a:pt x="1344" y="714"/>
                  <a:pt x="1344" y="714"/>
                  <a:pt x="1344" y="714"/>
                </a:cubicBezTo>
                <a:cubicBezTo>
                  <a:pt x="1331" y="767"/>
                  <a:pt x="1331" y="767"/>
                  <a:pt x="1331" y="767"/>
                </a:cubicBezTo>
                <a:cubicBezTo>
                  <a:pt x="1328" y="783"/>
                  <a:pt x="1323" y="793"/>
                  <a:pt x="1314" y="801"/>
                </a:cubicBezTo>
                <a:cubicBezTo>
                  <a:pt x="1305" y="809"/>
                  <a:pt x="1292" y="814"/>
                  <a:pt x="1276" y="818"/>
                </a:cubicBezTo>
                <a:cubicBezTo>
                  <a:pt x="1255" y="821"/>
                  <a:pt x="1239" y="828"/>
                  <a:pt x="1223" y="838"/>
                </a:cubicBezTo>
                <a:cubicBezTo>
                  <a:pt x="1205" y="876"/>
                  <a:pt x="1205" y="876"/>
                  <a:pt x="1205" y="876"/>
                </a:cubicBezTo>
                <a:cubicBezTo>
                  <a:pt x="1204" y="877"/>
                  <a:pt x="1204" y="877"/>
                  <a:pt x="1204" y="877"/>
                </a:cubicBezTo>
                <a:cubicBezTo>
                  <a:pt x="1203" y="877"/>
                  <a:pt x="1203" y="877"/>
                  <a:pt x="1203" y="877"/>
                </a:cubicBezTo>
                <a:cubicBezTo>
                  <a:pt x="1202" y="877"/>
                  <a:pt x="1202" y="877"/>
                  <a:pt x="1202" y="877"/>
                </a:cubicBezTo>
                <a:cubicBezTo>
                  <a:pt x="1153" y="897"/>
                  <a:pt x="1153" y="897"/>
                  <a:pt x="1153" y="897"/>
                </a:cubicBezTo>
                <a:cubicBezTo>
                  <a:pt x="1150" y="897"/>
                  <a:pt x="1150" y="897"/>
                  <a:pt x="1150" y="897"/>
                </a:cubicBezTo>
                <a:cubicBezTo>
                  <a:pt x="1126" y="891"/>
                  <a:pt x="1126" y="891"/>
                  <a:pt x="1126" y="891"/>
                </a:cubicBezTo>
                <a:cubicBezTo>
                  <a:pt x="1107" y="888"/>
                  <a:pt x="1092" y="883"/>
                  <a:pt x="1082" y="877"/>
                </a:cubicBezTo>
                <a:cubicBezTo>
                  <a:pt x="1070" y="870"/>
                  <a:pt x="1056" y="869"/>
                  <a:pt x="1041" y="874"/>
                </a:cubicBezTo>
                <a:cubicBezTo>
                  <a:pt x="1029" y="891"/>
                  <a:pt x="1022" y="914"/>
                  <a:pt x="1023" y="938"/>
                </a:cubicBezTo>
                <a:cubicBezTo>
                  <a:pt x="1024" y="951"/>
                  <a:pt x="1027" y="959"/>
                  <a:pt x="1031" y="961"/>
                </a:cubicBezTo>
                <a:cubicBezTo>
                  <a:pt x="1038" y="960"/>
                  <a:pt x="1038" y="960"/>
                  <a:pt x="1038" y="960"/>
                </a:cubicBezTo>
                <a:cubicBezTo>
                  <a:pt x="1046" y="955"/>
                  <a:pt x="1046" y="955"/>
                  <a:pt x="1046" y="955"/>
                </a:cubicBezTo>
                <a:cubicBezTo>
                  <a:pt x="1049" y="989"/>
                  <a:pt x="1049" y="989"/>
                  <a:pt x="1049" y="989"/>
                </a:cubicBezTo>
                <a:cubicBezTo>
                  <a:pt x="1049" y="1000"/>
                  <a:pt x="1044" y="1009"/>
                  <a:pt x="1036" y="1015"/>
                </a:cubicBezTo>
                <a:cubicBezTo>
                  <a:pt x="1031" y="1019"/>
                  <a:pt x="1021" y="1023"/>
                  <a:pt x="1007" y="1028"/>
                </a:cubicBezTo>
                <a:cubicBezTo>
                  <a:pt x="999" y="1030"/>
                  <a:pt x="999" y="1030"/>
                  <a:pt x="999" y="1030"/>
                </a:cubicBezTo>
                <a:cubicBezTo>
                  <a:pt x="988" y="1034"/>
                  <a:pt x="966" y="1062"/>
                  <a:pt x="934" y="1114"/>
                </a:cubicBezTo>
                <a:cubicBezTo>
                  <a:pt x="934" y="1115"/>
                  <a:pt x="934" y="1115"/>
                  <a:pt x="934" y="1115"/>
                </a:cubicBezTo>
                <a:cubicBezTo>
                  <a:pt x="933" y="1115"/>
                  <a:pt x="933" y="1115"/>
                  <a:pt x="933" y="1115"/>
                </a:cubicBezTo>
                <a:cubicBezTo>
                  <a:pt x="901" y="1134"/>
                  <a:pt x="901" y="1134"/>
                  <a:pt x="901" y="1134"/>
                </a:cubicBezTo>
                <a:cubicBezTo>
                  <a:pt x="906" y="1134"/>
                  <a:pt x="909" y="1136"/>
                  <a:pt x="908" y="1141"/>
                </a:cubicBezTo>
                <a:cubicBezTo>
                  <a:pt x="907" y="1145"/>
                  <a:pt x="904" y="1146"/>
                  <a:pt x="896" y="1147"/>
                </a:cubicBezTo>
                <a:cubicBezTo>
                  <a:pt x="806" y="1145"/>
                  <a:pt x="806" y="1145"/>
                  <a:pt x="806" y="1145"/>
                </a:cubicBezTo>
                <a:cubicBezTo>
                  <a:pt x="706" y="1142"/>
                  <a:pt x="627" y="1169"/>
                  <a:pt x="572" y="1226"/>
                </a:cubicBezTo>
                <a:cubicBezTo>
                  <a:pt x="570" y="1227"/>
                  <a:pt x="570" y="1227"/>
                  <a:pt x="570" y="1227"/>
                </a:cubicBezTo>
                <a:cubicBezTo>
                  <a:pt x="568" y="1228"/>
                  <a:pt x="568" y="1228"/>
                  <a:pt x="568" y="1228"/>
                </a:cubicBezTo>
                <a:cubicBezTo>
                  <a:pt x="567" y="1228"/>
                  <a:pt x="567" y="1228"/>
                  <a:pt x="567" y="1228"/>
                </a:cubicBezTo>
                <a:cubicBezTo>
                  <a:pt x="530" y="1232"/>
                  <a:pt x="530" y="1232"/>
                  <a:pt x="530" y="1232"/>
                </a:cubicBezTo>
                <a:cubicBezTo>
                  <a:pt x="528" y="1233"/>
                  <a:pt x="528" y="1233"/>
                  <a:pt x="528" y="1233"/>
                </a:cubicBezTo>
                <a:cubicBezTo>
                  <a:pt x="526" y="1233"/>
                  <a:pt x="526" y="1233"/>
                  <a:pt x="526" y="1233"/>
                </a:cubicBezTo>
                <a:cubicBezTo>
                  <a:pt x="516" y="1208"/>
                  <a:pt x="516" y="1208"/>
                  <a:pt x="516" y="1208"/>
                </a:cubicBezTo>
                <a:cubicBezTo>
                  <a:pt x="478" y="1218"/>
                  <a:pt x="478" y="1218"/>
                  <a:pt x="478" y="1218"/>
                </a:cubicBezTo>
                <a:cubicBezTo>
                  <a:pt x="458" y="1219"/>
                  <a:pt x="431" y="1213"/>
                  <a:pt x="402" y="1199"/>
                </a:cubicBezTo>
                <a:cubicBezTo>
                  <a:pt x="374" y="1187"/>
                  <a:pt x="350" y="1171"/>
                  <a:pt x="326" y="1152"/>
                </a:cubicBezTo>
                <a:cubicBezTo>
                  <a:pt x="310" y="1140"/>
                  <a:pt x="290" y="1131"/>
                  <a:pt x="267" y="1127"/>
                </a:cubicBezTo>
                <a:cubicBezTo>
                  <a:pt x="233" y="1124"/>
                  <a:pt x="233" y="1124"/>
                  <a:pt x="233" y="1124"/>
                </a:cubicBezTo>
                <a:cubicBezTo>
                  <a:pt x="195" y="1129"/>
                  <a:pt x="195" y="1129"/>
                  <a:pt x="195" y="1129"/>
                </a:cubicBezTo>
                <a:cubicBezTo>
                  <a:pt x="167" y="1133"/>
                  <a:pt x="140" y="1133"/>
                  <a:pt x="115" y="1131"/>
                </a:cubicBezTo>
                <a:cubicBezTo>
                  <a:pt x="84" y="1129"/>
                  <a:pt x="47" y="1121"/>
                  <a:pt x="3" y="1107"/>
                </a:cubicBezTo>
                <a:cubicBezTo>
                  <a:pt x="0" y="1113"/>
                  <a:pt x="0" y="1113"/>
                  <a:pt x="0" y="1113"/>
                </a:cubicBezTo>
                <a:cubicBezTo>
                  <a:pt x="1" y="1113"/>
                  <a:pt x="1" y="1113"/>
                  <a:pt x="1" y="1113"/>
                </a:cubicBezTo>
                <a:cubicBezTo>
                  <a:pt x="2" y="1113"/>
                  <a:pt x="2" y="1113"/>
                  <a:pt x="2" y="1113"/>
                </a:cubicBezTo>
                <a:cubicBezTo>
                  <a:pt x="3" y="1114"/>
                  <a:pt x="3" y="1114"/>
                  <a:pt x="3" y="1114"/>
                </a:cubicBezTo>
                <a:cubicBezTo>
                  <a:pt x="3" y="1115"/>
                  <a:pt x="3" y="1115"/>
                  <a:pt x="3" y="1115"/>
                </a:cubicBezTo>
                <a:cubicBezTo>
                  <a:pt x="4" y="1126"/>
                  <a:pt x="4" y="1126"/>
                  <a:pt x="4" y="1126"/>
                </a:cubicBezTo>
                <a:cubicBezTo>
                  <a:pt x="13" y="1146"/>
                  <a:pt x="13" y="1146"/>
                  <a:pt x="13" y="1146"/>
                </a:cubicBezTo>
                <a:cubicBezTo>
                  <a:pt x="35" y="1173"/>
                  <a:pt x="35" y="1173"/>
                  <a:pt x="35" y="1173"/>
                </a:cubicBezTo>
                <a:cubicBezTo>
                  <a:pt x="36" y="1176"/>
                  <a:pt x="36" y="1176"/>
                  <a:pt x="36" y="1176"/>
                </a:cubicBezTo>
                <a:cubicBezTo>
                  <a:pt x="32" y="1196"/>
                  <a:pt x="32" y="1196"/>
                  <a:pt x="32" y="1196"/>
                </a:cubicBezTo>
                <a:cubicBezTo>
                  <a:pt x="32" y="1198"/>
                  <a:pt x="32" y="1198"/>
                  <a:pt x="32" y="1198"/>
                </a:cubicBezTo>
                <a:cubicBezTo>
                  <a:pt x="31" y="1198"/>
                  <a:pt x="31" y="1198"/>
                  <a:pt x="31" y="1198"/>
                </a:cubicBezTo>
                <a:cubicBezTo>
                  <a:pt x="19" y="1214"/>
                  <a:pt x="19" y="1214"/>
                  <a:pt x="19" y="1214"/>
                </a:cubicBezTo>
                <a:cubicBezTo>
                  <a:pt x="32" y="1228"/>
                  <a:pt x="32" y="1228"/>
                  <a:pt x="32" y="1228"/>
                </a:cubicBezTo>
                <a:cubicBezTo>
                  <a:pt x="38" y="1233"/>
                  <a:pt x="41" y="1238"/>
                  <a:pt x="41" y="1242"/>
                </a:cubicBezTo>
                <a:cubicBezTo>
                  <a:pt x="44" y="1262"/>
                  <a:pt x="44" y="1262"/>
                  <a:pt x="44" y="1262"/>
                </a:cubicBezTo>
                <a:cubicBezTo>
                  <a:pt x="60" y="1278"/>
                  <a:pt x="60" y="1278"/>
                  <a:pt x="60" y="1278"/>
                </a:cubicBezTo>
                <a:cubicBezTo>
                  <a:pt x="60" y="1280"/>
                  <a:pt x="60" y="1280"/>
                  <a:pt x="60" y="1280"/>
                </a:cubicBezTo>
                <a:cubicBezTo>
                  <a:pt x="62" y="1294"/>
                  <a:pt x="62" y="1294"/>
                  <a:pt x="62" y="1294"/>
                </a:cubicBezTo>
                <a:cubicBezTo>
                  <a:pt x="62" y="1304"/>
                  <a:pt x="62" y="1304"/>
                  <a:pt x="62" y="1304"/>
                </a:cubicBezTo>
                <a:cubicBezTo>
                  <a:pt x="71" y="1312"/>
                  <a:pt x="71" y="1312"/>
                  <a:pt x="71" y="1312"/>
                </a:cubicBezTo>
                <a:cubicBezTo>
                  <a:pt x="78" y="1309"/>
                  <a:pt x="78" y="1309"/>
                  <a:pt x="78" y="1309"/>
                </a:cubicBezTo>
                <a:cubicBezTo>
                  <a:pt x="79" y="1306"/>
                  <a:pt x="79" y="1306"/>
                  <a:pt x="79" y="1306"/>
                </a:cubicBezTo>
                <a:cubicBezTo>
                  <a:pt x="82" y="1298"/>
                  <a:pt x="87" y="1294"/>
                  <a:pt x="95" y="1293"/>
                </a:cubicBezTo>
                <a:cubicBezTo>
                  <a:pt x="103" y="1289"/>
                  <a:pt x="103" y="1289"/>
                  <a:pt x="103" y="1289"/>
                </a:cubicBezTo>
                <a:cubicBezTo>
                  <a:pt x="159" y="1284"/>
                  <a:pt x="159" y="1284"/>
                  <a:pt x="159" y="1284"/>
                </a:cubicBezTo>
                <a:cubicBezTo>
                  <a:pt x="181" y="1276"/>
                  <a:pt x="181" y="1276"/>
                  <a:pt x="181" y="1276"/>
                </a:cubicBezTo>
                <a:cubicBezTo>
                  <a:pt x="183" y="1275"/>
                  <a:pt x="183" y="1275"/>
                  <a:pt x="183" y="1275"/>
                </a:cubicBezTo>
                <a:cubicBezTo>
                  <a:pt x="186" y="1272"/>
                  <a:pt x="186" y="1272"/>
                  <a:pt x="186" y="1272"/>
                </a:cubicBezTo>
                <a:cubicBezTo>
                  <a:pt x="198" y="1298"/>
                  <a:pt x="198" y="1298"/>
                  <a:pt x="198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200" y="1304"/>
                  <a:pt x="199" y="1309"/>
                  <a:pt x="196" y="1315"/>
                </a:cubicBezTo>
                <a:cubicBezTo>
                  <a:pt x="165" y="1358"/>
                  <a:pt x="165" y="1358"/>
                  <a:pt x="165" y="1358"/>
                </a:cubicBezTo>
                <a:cubicBezTo>
                  <a:pt x="167" y="1365"/>
                  <a:pt x="167" y="1365"/>
                  <a:pt x="167" y="1365"/>
                </a:cubicBezTo>
                <a:cubicBezTo>
                  <a:pt x="181" y="1379"/>
                  <a:pt x="181" y="1379"/>
                  <a:pt x="181" y="1379"/>
                </a:cubicBezTo>
                <a:cubicBezTo>
                  <a:pt x="195" y="1388"/>
                  <a:pt x="195" y="1388"/>
                  <a:pt x="195" y="1388"/>
                </a:cubicBezTo>
                <a:cubicBezTo>
                  <a:pt x="196" y="1388"/>
                  <a:pt x="196" y="1388"/>
                  <a:pt x="196" y="1388"/>
                </a:cubicBezTo>
                <a:cubicBezTo>
                  <a:pt x="202" y="1396"/>
                  <a:pt x="207" y="1401"/>
                  <a:pt x="214" y="1403"/>
                </a:cubicBezTo>
                <a:cubicBezTo>
                  <a:pt x="221" y="1405"/>
                  <a:pt x="229" y="1412"/>
                  <a:pt x="235" y="1420"/>
                </a:cubicBezTo>
                <a:cubicBezTo>
                  <a:pt x="236" y="1423"/>
                  <a:pt x="236" y="1423"/>
                  <a:pt x="236" y="1423"/>
                </a:cubicBezTo>
                <a:cubicBezTo>
                  <a:pt x="246" y="1428"/>
                  <a:pt x="246" y="1428"/>
                  <a:pt x="246" y="1428"/>
                </a:cubicBezTo>
                <a:cubicBezTo>
                  <a:pt x="250" y="1429"/>
                  <a:pt x="250" y="1429"/>
                  <a:pt x="250" y="1429"/>
                </a:cubicBezTo>
                <a:cubicBezTo>
                  <a:pt x="251" y="1429"/>
                  <a:pt x="251" y="1429"/>
                  <a:pt x="251" y="1429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5" y="1452"/>
                  <a:pt x="255" y="1452"/>
                  <a:pt x="255" y="1452"/>
                </a:cubicBezTo>
                <a:cubicBezTo>
                  <a:pt x="259" y="1469"/>
                  <a:pt x="259" y="1469"/>
                  <a:pt x="259" y="1469"/>
                </a:cubicBezTo>
                <a:cubicBezTo>
                  <a:pt x="286" y="1473"/>
                  <a:pt x="286" y="1473"/>
                  <a:pt x="286" y="1473"/>
                </a:cubicBezTo>
                <a:cubicBezTo>
                  <a:pt x="288" y="1473"/>
                  <a:pt x="288" y="1473"/>
                  <a:pt x="288" y="1473"/>
                </a:cubicBezTo>
                <a:cubicBezTo>
                  <a:pt x="289" y="1474"/>
                  <a:pt x="289" y="1474"/>
                  <a:pt x="289" y="1474"/>
                </a:cubicBezTo>
                <a:cubicBezTo>
                  <a:pt x="289" y="1475"/>
                  <a:pt x="289" y="1475"/>
                  <a:pt x="289" y="1475"/>
                </a:cubicBezTo>
                <a:cubicBezTo>
                  <a:pt x="290" y="1477"/>
                  <a:pt x="290" y="1477"/>
                  <a:pt x="290" y="1477"/>
                </a:cubicBezTo>
                <a:cubicBezTo>
                  <a:pt x="297" y="1492"/>
                  <a:pt x="297" y="1492"/>
                  <a:pt x="297" y="1492"/>
                </a:cubicBezTo>
                <a:cubicBezTo>
                  <a:pt x="318" y="1499"/>
                  <a:pt x="318" y="1499"/>
                  <a:pt x="318" y="1499"/>
                </a:cubicBezTo>
                <a:cubicBezTo>
                  <a:pt x="333" y="1492"/>
                  <a:pt x="333" y="1492"/>
                  <a:pt x="333" y="1492"/>
                </a:cubicBezTo>
                <a:cubicBezTo>
                  <a:pt x="331" y="1484"/>
                  <a:pt x="331" y="1484"/>
                  <a:pt x="331" y="1484"/>
                </a:cubicBezTo>
                <a:cubicBezTo>
                  <a:pt x="317" y="1471"/>
                  <a:pt x="317" y="1471"/>
                  <a:pt x="317" y="1471"/>
                </a:cubicBezTo>
                <a:cubicBezTo>
                  <a:pt x="319" y="1469"/>
                  <a:pt x="319" y="1469"/>
                  <a:pt x="319" y="1469"/>
                </a:cubicBezTo>
                <a:cubicBezTo>
                  <a:pt x="319" y="1467"/>
                  <a:pt x="319" y="1467"/>
                  <a:pt x="319" y="1467"/>
                </a:cubicBezTo>
                <a:cubicBezTo>
                  <a:pt x="331" y="1445"/>
                  <a:pt x="331" y="1445"/>
                  <a:pt x="331" y="1445"/>
                </a:cubicBezTo>
                <a:cubicBezTo>
                  <a:pt x="356" y="1445"/>
                  <a:pt x="356" y="1445"/>
                  <a:pt x="356" y="1445"/>
                </a:cubicBezTo>
                <a:cubicBezTo>
                  <a:pt x="357" y="1446"/>
                  <a:pt x="357" y="1446"/>
                  <a:pt x="357" y="1446"/>
                </a:cubicBezTo>
                <a:cubicBezTo>
                  <a:pt x="393" y="1458"/>
                  <a:pt x="393" y="1458"/>
                  <a:pt x="393" y="1458"/>
                </a:cubicBezTo>
                <a:cubicBezTo>
                  <a:pt x="413" y="1455"/>
                  <a:pt x="413" y="1455"/>
                  <a:pt x="413" y="1455"/>
                </a:cubicBezTo>
                <a:cubicBezTo>
                  <a:pt x="429" y="1440"/>
                  <a:pt x="429" y="1440"/>
                  <a:pt x="429" y="1440"/>
                </a:cubicBezTo>
                <a:cubicBezTo>
                  <a:pt x="447" y="1418"/>
                  <a:pt x="459" y="1409"/>
                  <a:pt x="466" y="1414"/>
                </a:cubicBezTo>
                <a:cubicBezTo>
                  <a:pt x="474" y="1413"/>
                  <a:pt x="474" y="1413"/>
                  <a:pt x="474" y="1413"/>
                </a:cubicBezTo>
                <a:cubicBezTo>
                  <a:pt x="484" y="1413"/>
                  <a:pt x="489" y="1414"/>
                  <a:pt x="492" y="1415"/>
                </a:cubicBezTo>
                <a:cubicBezTo>
                  <a:pt x="493" y="1417"/>
                  <a:pt x="495" y="1419"/>
                  <a:pt x="495" y="1421"/>
                </a:cubicBezTo>
                <a:cubicBezTo>
                  <a:pt x="495" y="1426"/>
                  <a:pt x="499" y="1434"/>
                  <a:pt x="505" y="1446"/>
                </a:cubicBezTo>
                <a:cubicBezTo>
                  <a:pt x="505" y="1447"/>
                  <a:pt x="505" y="1447"/>
                  <a:pt x="505" y="1447"/>
                </a:cubicBezTo>
                <a:cubicBezTo>
                  <a:pt x="505" y="1448"/>
                  <a:pt x="505" y="1448"/>
                  <a:pt x="505" y="1448"/>
                </a:cubicBezTo>
                <a:cubicBezTo>
                  <a:pt x="508" y="1462"/>
                  <a:pt x="508" y="1462"/>
                  <a:pt x="508" y="1462"/>
                </a:cubicBezTo>
                <a:cubicBezTo>
                  <a:pt x="508" y="1466"/>
                  <a:pt x="508" y="1466"/>
                  <a:pt x="508" y="1466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4"/>
                  <a:pt x="504" y="1484"/>
                  <a:pt x="504" y="1484"/>
                </a:cubicBezTo>
                <a:cubicBezTo>
                  <a:pt x="503" y="1485"/>
                  <a:pt x="503" y="1485"/>
                  <a:pt x="503" y="1485"/>
                </a:cubicBezTo>
                <a:cubicBezTo>
                  <a:pt x="485" y="1506"/>
                  <a:pt x="485" y="1506"/>
                  <a:pt x="485" y="1506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46" y="1524"/>
                  <a:pt x="446" y="1524"/>
                  <a:pt x="446" y="1524"/>
                </a:cubicBezTo>
                <a:cubicBezTo>
                  <a:pt x="441" y="1534"/>
                  <a:pt x="441" y="1534"/>
                  <a:pt x="441" y="1534"/>
                </a:cubicBezTo>
                <a:cubicBezTo>
                  <a:pt x="435" y="1565"/>
                  <a:pt x="435" y="1565"/>
                  <a:pt x="435" y="1565"/>
                </a:cubicBezTo>
                <a:cubicBezTo>
                  <a:pt x="439" y="1580"/>
                  <a:pt x="439" y="1580"/>
                  <a:pt x="439" y="1580"/>
                </a:cubicBezTo>
                <a:cubicBezTo>
                  <a:pt x="448" y="1595"/>
                  <a:pt x="448" y="1595"/>
                  <a:pt x="448" y="1595"/>
                </a:cubicBezTo>
                <a:cubicBezTo>
                  <a:pt x="452" y="1599"/>
                  <a:pt x="452" y="1599"/>
                  <a:pt x="452" y="1599"/>
                </a:cubicBezTo>
                <a:cubicBezTo>
                  <a:pt x="465" y="1607"/>
                  <a:pt x="465" y="1607"/>
                  <a:pt x="465" y="1607"/>
                </a:cubicBezTo>
                <a:cubicBezTo>
                  <a:pt x="509" y="1607"/>
                  <a:pt x="509" y="1607"/>
                  <a:pt x="509" y="1607"/>
                </a:cubicBezTo>
                <a:cubicBezTo>
                  <a:pt x="546" y="1602"/>
                  <a:pt x="546" y="1602"/>
                  <a:pt x="546" y="1602"/>
                </a:cubicBezTo>
                <a:cubicBezTo>
                  <a:pt x="552" y="1596"/>
                  <a:pt x="552" y="1596"/>
                  <a:pt x="552" y="1596"/>
                </a:cubicBezTo>
                <a:cubicBezTo>
                  <a:pt x="557" y="1590"/>
                  <a:pt x="562" y="1588"/>
                  <a:pt x="565" y="1588"/>
                </a:cubicBezTo>
                <a:cubicBezTo>
                  <a:pt x="591" y="1592"/>
                  <a:pt x="591" y="1592"/>
                  <a:pt x="591" y="1592"/>
                </a:cubicBezTo>
                <a:cubicBezTo>
                  <a:pt x="593" y="1588"/>
                  <a:pt x="593" y="1588"/>
                  <a:pt x="593" y="1588"/>
                </a:cubicBezTo>
                <a:cubicBezTo>
                  <a:pt x="591" y="1581"/>
                  <a:pt x="591" y="1574"/>
                  <a:pt x="595" y="1568"/>
                </a:cubicBezTo>
                <a:cubicBezTo>
                  <a:pt x="605" y="1550"/>
                  <a:pt x="605" y="1550"/>
                  <a:pt x="605" y="1550"/>
                </a:cubicBezTo>
                <a:cubicBezTo>
                  <a:pt x="605" y="1516"/>
                  <a:pt x="605" y="1516"/>
                  <a:pt x="605" y="1516"/>
                </a:cubicBezTo>
                <a:cubicBezTo>
                  <a:pt x="605" y="1515"/>
                  <a:pt x="605" y="1515"/>
                  <a:pt x="605" y="1515"/>
                </a:cubicBezTo>
                <a:cubicBezTo>
                  <a:pt x="624" y="1460"/>
                  <a:pt x="624" y="1460"/>
                  <a:pt x="624" y="1460"/>
                </a:cubicBezTo>
                <a:cubicBezTo>
                  <a:pt x="625" y="1459"/>
                  <a:pt x="625" y="1459"/>
                  <a:pt x="625" y="1459"/>
                </a:cubicBezTo>
                <a:cubicBezTo>
                  <a:pt x="625" y="1458"/>
                  <a:pt x="625" y="1458"/>
                  <a:pt x="625" y="1458"/>
                </a:cubicBezTo>
                <a:cubicBezTo>
                  <a:pt x="626" y="1458"/>
                  <a:pt x="626" y="1458"/>
                  <a:pt x="626" y="1458"/>
                </a:cubicBezTo>
                <a:cubicBezTo>
                  <a:pt x="626" y="1457"/>
                  <a:pt x="626" y="1457"/>
                  <a:pt x="626" y="1457"/>
                </a:cubicBezTo>
                <a:cubicBezTo>
                  <a:pt x="659" y="1431"/>
                  <a:pt x="659" y="1431"/>
                  <a:pt x="659" y="1431"/>
                </a:cubicBezTo>
                <a:cubicBezTo>
                  <a:pt x="661" y="1429"/>
                  <a:pt x="661" y="1429"/>
                  <a:pt x="661" y="1429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705" y="1452"/>
                  <a:pt x="712" y="1460"/>
                  <a:pt x="712" y="1466"/>
                </a:cubicBezTo>
                <a:cubicBezTo>
                  <a:pt x="710" y="1489"/>
                  <a:pt x="710" y="1489"/>
                  <a:pt x="710" y="1489"/>
                </a:cubicBezTo>
                <a:cubicBezTo>
                  <a:pt x="700" y="1504"/>
                  <a:pt x="700" y="1504"/>
                  <a:pt x="700" y="1504"/>
                </a:cubicBezTo>
                <a:cubicBezTo>
                  <a:pt x="693" y="1525"/>
                  <a:pt x="693" y="1525"/>
                  <a:pt x="693" y="1525"/>
                </a:cubicBezTo>
                <a:cubicBezTo>
                  <a:pt x="693" y="1548"/>
                  <a:pt x="693" y="1548"/>
                  <a:pt x="693" y="1548"/>
                </a:cubicBezTo>
                <a:cubicBezTo>
                  <a:pt x="700" y="1559"/>
                  <a:pt x="700" y="1559"/>
                  <a:pt x="700" y="1559"/>
                </a:cubicBezTo>
                <a:cubicBezTo>
                  <a:pt x="710" y="1557"/>
                  <a:pt x="710" y="1557"/>
                  <a:pt x="710" y="1557"/>
                </a:cubicBezTo>
                <a:cubicBezTo>
                  <a:pt x="712" y="1556"/>
                  <a:pt x="712" y="1556"/>
                  <a:pt x="712" y="1556"/>
                </a:cubicBezTo>
                <a:cubicBezTo>
                  <a:pt x="728" y="1557"/>
                  <a:pt x="728" y="1557"/>
                  <a:pt x="728" y="1557"/>
                </a:cubicBezTo>
                <a:cubicBezTo>
                  <a:pt x="736" y="1562"/>
                  <a:pt x="741" y="1569"/>
                  <a:pt x="746" y="1580"/>
                </a:cubicBezTo>
                <a:cubicBezTo>
                  <a:pt x="755" y="1583"/>
                  <a:pt x="755" y="1583"/>
                  <a:pt x="755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7" y="1583"/>
                  <a:pt x="757" y="1583"/>
                  <a:pt x="757" y="1583"/>
                </a:cubicBezTo>
                <a:cubicBezTo>
                  <a:pt x="793" y="1600"/>
                  <a:pt x="793" y="1600"/>
                  <a:pt x="793" y="1600"/>
                </a:cubicBezTo>
                <a:cubicBezTo>
                  <a:pt x="809" y="1605"/>
                  <a:pt x="809" y="1605"/>
                  <a:pt x="809" y="1605"/>
                </a:cubicBezTo>
                <a:cubicBezTo>
                  <a:pt x="831" y="1602"/>
                  <a:pt x="831" y="1602"/>
                  <a:pt x="831" y="1602"/>
                </a:cubicBezTo>
                <a:cubicBezTo>
                  <a:pt x="841" y="1589"/>
                  <a:pt x="841" y="1589"/>
                  <a:pt x="841" y="1589"/>
                </a:cubicBezTo>
                <a:cubicBezTo>
                  <a:pt x="853" y="1537"/>
                  <a:pt x="853" y="1537"/>
                  <a:pt x="853" y="1537"/>
                </a:cubicBezTo>
                <a:cubicBezTo>
                  <a:pt x="854" y="1509"/>
                  <a:pt x="854" y="1509"/>
                  <a:pt x="854" y="1509"/>
                </a:cubicBezTo>
                <a:cubicBezTo>
                  <a:pt x="854" y="1507"/>
                  <a:pt x="854" y="1507"/>
                  <a:pt x="854" y="1507"/>
                </a:cubicBezTo>
                <a:cubicBezTo>
                  <a:pt x="857" y="1506"/>
                  <a:pt x="857" y="1506"/>
                  <a:pt x="857" y="1506"/>
                </a:cubicBezTo>
                <a:cubicBezTo>
                  <a:pt x="858" y="1505"/>
                  <a:pt x="858" y="1505"/>
                  <a:pt x="858" y="1505"/>
                </a:cubicBezTo>
                <a:cubicBezTo>
                  <a:pt x="878" y="1488"/>
                  <a:pt x="878" y="1488"/>
                  <a:pt x="878" y="1488"/>
                </a:cubicBezTo>
                <a:cubicBezTo>
                  <a:pt x="889" y="1473"/>
                  <a:pt x="889" y="1473"/>
                  <a:pt x="889" y="1473"/>
                </a:cubicBezTo>
                <a:cubicBezTo>
                  <a:pt x="890" y="1472"/>
                  <a:pt x="890" y="1472"/>
                  <a:pt x="890" y="1472"/>
                </a:cubicBezTo>
                <a:cubicBezTo>
                  <a:pt x="911" y="1462"/>
                  <a:pt x="911" y="1462"/>
                  <a:pt x="911" y="1462"/>
                </a:cubicBezTo>
                <a:cubicBezTo>
                  <a:pt x="924" y="1455"/>
                  <a:pt x="924" y="1455"/>
                  <a:pt x="924" y="1455"/>
                </a:cubicBezTo>
                <a:cubicBezTo>
                  <a:pt x="940" y="1449"/>
                  <a:pt x="940" y="1449"/>
                  <a:pt x="940" y="1449"/>
                </a:cubicBezTo>
                <a:cubicBezTo>
                  <a:pt x="931" y="1417"/>
                  <a:pt x="931" y="1417"/>
                  <a:pt x="931" y="1417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29"/>
                  <a:pt x="986" y="1429"/>
                  <a:pt x="986" y="1429"/>
                </a:cubicBezTo>
                <a:cubicBezTo>
                  <a:pt x="992" y="1409"/>
                  <a:pt x="992" y="1409"/>
                  <a:pt x="992" y="1409"/>
                </a:cubicBezTo>
                <a:cubicBezTo>
                  <a:pt x="992" y="1405"/>
                  <a:pt x="992" y="1405"/>
                  <a:pt x="992" y="1405"/>
                </a:cubicBezTo>
                <a:cubicBezTo>
                  <a:pt x="995" y="1407"/>
                  <a:pt x="995" y="1407"/>
                  <a:pt x="995" y="1407"/>
                </a:cubicBezTo>
                <a:cubicBezTo>
                  <a:pt x="997" y="1407"/>
                  <a:pt x="997" y="1407"/>
                  <a:pt x="997" y="1407"/>
                </a:cubicBezTo>
                <a:cubicBezTo>
                  <a:pt x="1014" y="1411"/>
                  <a:pt x="1014" y="1411"/>
                  <a:pt x="1014" y="1411"/>
                </a:cubicBezTo>
                <a:cubicBezTo>
                  <a:pt x="1022" y="1411"/>
                  <a:pt x="1022" y="1411"/>
                  <a:pt x="1022" y="1411"/>
                </a:cubicBezTo>
                <a:cubicBezTo>
                  <a:pt x="1038" y="1393"/>
                  <a:pt x="1038" y="1393"/>
                  <a:pt x="1038" y="1393"/>
                </a:cubicBezTo>
                <a:cubicBezTo>
                  <a:pt x="1039" y="1393"/>
                  <a:pt x="1039" y="1393"/>
                  <a:pt x="1039" y="1393"/>
                </a:cubicBezTo>
                <a:cubicBezTo>
                  <a:pt x="1040" y="1392"/>
                  <a:pt x="1040" y="1392"/>
                  <a:pt x="1040" y="1392"/>
                </a:cubicBezTo>
                <a:cubicBezTo>
                  <a:pt x="1041" y="1392"/>
                  <a:pt x="1041" y="1392"/>
                  <a:pt x="1041" y="1392"/>
                </a:cubicBezTo>
                <a:cubicBezTo>
                  <a:pt x="1062" y="1388"/>
                  <a:pt x="1062" y="1388"/>
                  <a:pt x="1062" y="1388"/>
                </a:cubicBezTo>
                <a:cubicBezTo>
                  <a:pt x="1080" y="1371"/>
                  <a:pt x="1080" y="1371"/>
                  <a:pt x="1080" y="1371"/>
                </a:cubicBezTo>
                <a:cubicBezTo>
                  <a:pt x="1090" y="1357"/>
                  <a:pt x="1090" y="1357"/>
                  <a:pt x="1090" y="1357"/>
                </a:cubicBezTo>
                <a:cubicBezTo>
                  <a:pt x="1090" y="1340"/>
                  <a:pt x="1090" y="1340"/>
                  <a:pt x="1090" y="1340"/>
                </a:cubicBezTo>
                <a:cubicBezTo>
                  <a:pt x="1090" y="1334"/>
                  <a:pt x="1093" y="1329"/>
                  <a:pt x="1099" y="1326"/>
                </a:cubicBezTo>
                <a:cubicBezTo>
                  <a:pt x="1099" y="1326"/>
                  <a:pt x="1099" y="1326"/>
                  <a:pt x="1099" y="1326"/>
                </a:cubicBezTo>
                <a:cubicBezTo>
                  <a:pt x="1101" y="1326"/>
                  <a:pt x="1101" y="1326"/>
                  <a:pt x="1101" y="1326"/>
                </a:cubicBezTo>
                <a:cubicBezTo>
                  <a:pt x="1102" y="1326"/>
                  <a:pt x="1102" y="1326"/>
                  <a:pt x="1102" y="1326"/>
                </a:cubicBezTo>
                <a:cubicBezTo>
                  <a:pt x="1122" y="1328"/>
                  <a:pt x="1122" y="1328"/>
                  <a:pt x="1122" y="1328"/>
                </a:cubicBezTo>
                <a:cubicBezTo>
                  <a:pt x="1131" y="1323"/>
                  <a:pt x="1131" y="1323"/>
                  <a:pt x="1131" y="1323"/>
                </a:cubicBezTo>
                <a:cubicBezTo>
                  <a:pt x="1134" y="1308"/>
                  <a:pt x="1134" y="1308"/>
                  <a:pt x="1134" y="1308"/>
                </a:cubicBezTo>
                <a:cubicBezTo>
                  <a:pt x="1155" y="1302"/>
                  <a:pt x="1155" y="1302"/>
                  <a:pt x="1155" y="1302"/>
                </a:cubicBezTo>
                <a:cubicBezTo>
                  <a:pt x="1156" y="1302"/>
                  <a:pt x="1156" y="1302"/>
                  <a:pt x="1156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84" y="1305"/>
                  <a:pt x="1184" y="1305"/>
                  <a:pt x="1184" y="1305"/>
                </a:cubicBezTo>
                <a:cubicBezTo>
                  <a:pt x="1205" y="1300"/>
                  <a:pt x="1205" y="1300"/>
                  <a:pt x="1205" y="1300"/>
                </a:cubicBezTo>
                <a:cubicBezTo>
                  <a:pt x="1217" y="1287"/>
                  <a:pt x="1217" y="1287"/>
                  <a:pt x="1217" y="1287"/>
                </a:cubicBezTo>
                <a:cubicBezTo>
                  <a:pt x="1226" y="1270"/>
                  <a:pt x="1226" y="1270"/>
                  <a:pt x="1226" y="1270"/>
                </a:cubicBezTo>
                <a:cubicBezTo>
                  <a:pt x="1210" y="1253"/>
                  <a:pt x="1210" y="1253"/>
                  <a:pt x="1210" y="1253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3" y="1221"/>
                  <a:pt x="1203" y="1221"/>
                  <a:pt x="1203" y="1221"/>
                </a:cubicBezTo>
                <a:cubicBezTo>
                  <a:pt x="1203" y="1220"/>
                  <a:pt x="1203" y="1220"/>
                  <a:pt x="1203" y="1220"/>
                </a:cubicBezTo>
                <a:cubicBezTo>
                  <a:pt x="1212" y="1203"/>
                  <a:pt x="1212" y="1203"/>
                  <a:pt x="1212" y="1203"/>
                </a:cubicBezTo>
                <a:cubicBezTo>
                  <a:pt x="1212" y="1198"/>
                  <a:pt x="1215" y="1190"/>
                  <a:pt x="1224" y="1182"/>
                </a:cubicBezTo>
                <a:cubicBezTo>
                  <a:pt x="1235" y="1159"/>
                  <a:pt x="1235" y="1159"/>
                  <a:pt x="1235" y="1159"/>
                </a:cubicBezTo>
                <a:cubicBezTo>
                  <a:pt x="1235" y="1157"/>
                  <a:pt x="1235" y="1157"/>
                  <a:pt x="1235" y="1157"/>
                </a:cubicBezTo>
                <a:cubicBezTo>
                  <a:pt x="1236" y="1157"/>
                  <a:pt x="1236" y="1157"/>
                  <a:pt x="1236" y="1157"/>
                </a:cubicBezTo>
                <a:cubicBezTo>
                  <a:pt x="1247" y="1141"/>
                  <a:pt x="1247" y="1141"/>
                  <a:pt x="1247" y="1141"/>
                </a:cubicBezTo>
                <a:cubicBezTo>
                  <a:pt x="1263" y="1109"/>
                  <a:pt x="1263" y="1109"/>
                  <a:pt x="1263" y="1109"/>
                </a:cubicBezTo>
                <a:cubicBezTo>
                  <a:pt x="1278" y="1130"/>
                  <a:pt x="1278" y="1130"/>
                  <a:pt x="1278" y="1130"/>
                </a:cubicBezTo>
                <a:cubicBezTo>
                  <a:pt x="1279" y="1131"/>
                  <a:pt x="1279" y="1131"/>
                  <a:pt x="1279" y="1131"/>
                </a:cubicBezTo>
                <a:cubicBezTo>
                  <a:pt x="1279" y="1132"/>
                  <a:pt x="1279" y="1132"/>
                  <a:pt x="1279" y="1132"/>
                </a:cubicBezTo>
                <a:cubicBezTo>
                  <a:pt x="1284" y="1153"/>
                  <a:pt x="1284" y="1153"/>
                  <a:pt x="1284" y="1153"/>
                </a:cubicBezTo>
                <a:cubicBezTo>
                  <a:pt x="1284" y="1154"/>
                  <a:pt x="1284" y="1154"/>
                  <a:pt x="1284" y="1154"/>
                </a:cubicBezTo>
                <a:cubicBezTo>
                  <a:pt x="1287" y="1175"/>
                  <a:pt x="1287" y="1175"/>
                  <a:pt x="1287" y="1175"/>
                </a:cubicBezTo>
                <a:cubicBezTo>
                  <a:pt x="1302" y="1182"/>
                  <a:pt x="1302" y="1182"/>
                  <a:pt x="1302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7" y="1184"/>
                  <a:pt x="1307" y="1184"/>
                  <a:pt x="1307" y="1184"/>
                </a:cubicBezTo>
                <a:cubicBezTo>
                  <a:pt x="1308" y="1183"/>
                  <a:pt x="1308" y="1183"/>
                  <a:pt x="1308" y="1183"/>
                </a:cubicBezTo>
                <a:cubicBezTo>
                  <a:pt x="1321" y="1161"/>
                  <a:pt x="1321" y="1161"/>
                  <a:pt x="1321" y="1161"/>
                </a:cubicBezTo>
                <a:cubicBezTo>
                  <a:pt x="1328" y="1140"/>
                  <a:pt x="1328" y="1140"/>
                  <a:pt x="1328" y="1140"/>
                </a:cubicBezTo>
                <a:cubicBezTo>
                  <a:pt x="1331" y="1141"/>
                  <a:pt x="1331" y="1141"/>
                  <a:pt x="1331" y="1141"/>
                </a:cubicBezTo>
                <a:cubicBezTo>
                  <a:pt x="1335" y="1142"/>
                  <a:pt x="1335" y="1142"/>
                  <a:pt x="1335" y="1142"/>
                </a:cubicBezTo>
                <a:cubicBezTo>
                  <a:pt x="1365" y="1152"/>
                  <a:pt x="1365" y="1152"/>
                  <a:pt x="1365" y="1152"/>
                </a:cubicBezTo>
                <a:cubicBezTo>
                  <a:pt x="1380" y="1141"/>
                  <a:pt x="1380" y="1141"/>
                  <a:pt x="1380" y="1141"/>
                </a:cubicBezTo>
                <a:cubicBezTo>
                  <a:pt x="1381" y="1140"/>
                  <a:pt x="1381" y="1140"/>
                  <a:pt x="1381" y="1140"/>
                </a:cubicBezTo>
                <a:cubicBezTo>
                  <a:pt x="1383" y="1140"/>
                  <a:pt x="1383" y="1140"/>
                  <a:pt x="1383" y="1140"/>
                </a:cubicBezTo>
                <a:cubicBezTo>
                  <a:pt x="1398" y="1138"/>
                  <a:pt x="1398" y="1138"/>
                  <a:pt x="1398" y="1138"/>
                </a:cubicBezTo>
                <a:cubicBezTo>
                  <a:pt x="1408" y="1121"/>
                  <a:pt x="1408" y="1121"/>
                  <a:pt x="1408" y="1121"/>
                </a:cubicBezTo>
                <a:cubicBezTo>
                  <a:pt x="1408" y="1098"/>
                  <a:pt x="1408" y="1098"/>
                  <a:pt x="1408" y="1098"/>
                </a:cubicBezTo>
                <a:cubicBezTo>
                  <a:pt x="1416" y="1065"/>
                  <a:pt x="1416" y="1065"/>
                  <a:pt x="1416" y="1065"/>
                </a:cubicBezTo>
                <a:cubicBezTo>
                  <a:pt x="1418" y="1066"/>
                  <a:pt x="1418" y="1066"/>
                  <a:pt x="1418" y="1066"/>
                </a:cubicBezTo>
                <a:cubicBezTo>
                  <a:pt x="1421" y="1066"/>
                  <a:pt x="1421" y="1066"/>
                  <a:pt x="1421" y="1066"/>
                </a:cubicBezTo>
                <a:cubicBezTo>
                  <a:pt x="1444" y="1071"/>
                  <a:pt x="1444" y="1071"/>
                  <a:pt x="1444" y="1071"/>
                </a:cubicBezTo>
                <a:cubicBezTo>
                  <a:pt x="1455" y="1052"/>
                  <a:pt x="1455" y="1052"/>
                  <a:pt x="1455" y="1052"/>
                </a:cubicBezTo>
                <a:cubicBezTo>
                  <a:pt x="1456" y="1052"/>
                  <a:pt x="1456" y="1052"/>
                  <a:pt x="1456" y="1052"/>
                </a:cubicBezTo>
                <a:cubicBezTo>
                  <a:pt x="1458" y="1052"/>
                  <a:pt x="1458" y="1052"/>
                  <a:pt x="1458" y="1052"/>
                </a:cubicBezTo>
                <a:cubicBezTo>
                  <a:pt x="1479" y="1050"/>
                  <a:pt x="1479" y="1050"/>
                  <a:pt x="1479" y="1050"/>
                </a:cubicBezTo>
                <a:cubicBezTo>
                  <a:pt x="1482" y="1050"/>
                  <a:pt x="1482" y="1050"/>
                  <a:pt x="1482" y="1050"/>
                </a:cubicBezTo>
                <a:cubicBezTo>
                  <a:pt x="1482" y="1051"/>
                  <a:pt x="1482" y="1051"/>
                  <a:pt x="1482" y="1051"/>
                </a:cubicBezTo>
                <a:cubicBezTo>
                  <a:pt x="1484" y="1052"/>
                  <a:pt x="1484" y="1052"/>
                  <a:pt x="1484" y="1052"/>
                </a:cubicBezTo>
                <a:cubicBezTo>
                  <a:pt x="1495" y="1067"/>
                  <a:pt x="1495" y="1067"/>
                  <a:pt x="1495" y="1067"/>
                </a:cubicBezTo>
                <a:cubicBezTo>
                  <a:pt x="1495" y="1068"/>
                  <a:pt x="1495" y="1068"/>
                  <a:pt x="1495" y="1068"/>
                </a:cubicBezTo>
                <a:cubicBezTo>
                  <a:pt x="1496" y="1069"/>
                  <a:pt x="1496" y="1069"/>
                  <a:pt x="1496" y="1069"/>
                </a:cubicBezTo>
                <a:cubicBezTo>
                  <a:pt x="1496" y="1071"/>
                  <a:pt x="1496" y="1071"/>
                  <a:pt x="1496" y="1071"/>
                </a:cubicBezTo>
                <a:cubicBezTo>
                  <a:pt x="1498" y="1092"/>
                  <a:pt x="1498" y="1092"/>
                  <a:pt x="1498" y="1092"/>
                </a:cubicBezTo>
                <a:cubicBezTo>
                  <a:pt x="1509" y="1102"/>
                  <a:pt x="1509" y="1102"/>
                  <a:pt x="1509" y="1102"/>
                </a:cubicBezTo>
                <a:cubicBezTo>
                  <a:pt x="1524" y="1088"/>
                  <a:pt x="1524" y="1088"/>
                  <a:pt x="1524" y="1088"/>
                </a:cubicBezTo>
                <a:cubicBezTo>
                  <a:pt x="1527" y="1092"/>
                  <a:pt x="1527" y="1092"/>
                  <a:pt x="1527" y="1092"/>
                </a:cubicBezTo>
                <a:cubicBezTo>
                  <a:pt x="1532" y="1097"/>
                  <a:pt x="1534" y="1103"/>
                  <a:pt x="1534" y="1109"/>
                </a:cubicBezTo>
                <a:cubicBezTo>
                  <a:pt x="1534" y="1128"/>
                  <a:pt x="1534" y="1128"/>
                  <a:pt x="1534" y="1128"/>
                </a:cubicBezTo>
                <a:cubicBezTo>
                  <a:pt x="1527" y="1147"/>
                  <a:pt x="1527" y="1147"/>
                  <a:pt x="1527" y="1147"/>
                </a:cubicBezTo>
                <a:cubicBezTo>
                  <a:pt x="1532" y="1155"/>
                  <a:pt x="1532" y="1155"/>
                  <a:pt x="1532" y="1155"/>
                </a:cubicBezTo>
                <a:cubicBezTo>
                  <a:pt x="1543" y="1167"/>
                  <a:pt x="1543" y="1167"/>
                  <a:pt x="1543" y="1167"/>
                </a:cubicBezTo>
                <a:cubicBezTo>
                  <a:pt x="1587" y="1173"/>
                  <a:pt x="1587" y="1173"/>
                  <a:pt x="1587" y="1173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3" y="1179"/>
                  <a:pt x="1593" y="1179"/>
                  <a:pt x="1593" y="1179"/>
                </a:cubicBezTo>
                <a:cubicBezTo>
                  <a:pt x="1606" y="1161"/>
                  <a:pt x="1606" y="1161"/>
                  <a:pt x="1606" y="1161"/>
                </a:cubicBezTo>
                <a:cubicBezTo>
                  <a:pt x="1607" y="1161"/>
                  <a:pt x="1607" y="1161"/>
                  <a:pt x="1607" y="1161"/>
                </a:cubicBezTo>
                <a:cubicBezTo>
                  <a:pt x="1617" y="1150"/>
                  <a:pt x="1617" y="1150"/>
                  <a:pt x="1617" y="1150"/>
                </a:cubicBezTo>
                <a:cubicBezTo>
                  <a:pt x="1613" y="1134"/>
                  <a:pt x="1613" y="1134"/>
                  <a:pt x="1613" y="1134"/>
                </a:cubicBezTo>
                <a:cubicBezTo>
                  <a:pt x="1602" y="1067"/>
                  <a:pt x="1602" y="1067"/>
                  <a:pt x="1602" y="1067"/>
                </a:cubicBezTo>
                <a:cubicBezTo>
                  <a:pt x="1632" y="1081"/>
                  <a:pt x="1632" y="1081"/>
                  <a:pt x="1632" y="1081"/>
                </a:cubicBezTo>
                <a:cubicBezTo>
                  <a:pt x="1633" y="1081"/>
                  <a:pt x="1633" y="1081"/>
                  <a:pt x="1633" y="1081"/>
                </a:cubicBezTo>
                <a:cubicBezTo>
                  <a:pt x="1634" y="1081"/>
                  <a:pt x="1634" y="1081"/>
                  <a:pt x="1634" y="1081"/>
                </a:cubicBezTo>
                <a:cubicBezTo>
                  <a:pt x="1648" y="1098"/>
                  <a:pt x="1648" y="1098"/>
                  <a:pt x="1648" y="1098"/>
                </a:cubicBezTo>
                <a:cubicBezTo>
                  <a:pt x="1657" y="1107"/>
                  <a:pt x="1657" y="1107"/>
                  <a:pt x="1657" y="1107"/>
                </a:cubicBezTo>
                <a:cubicBezTo>
                  <a:pt x="1669" y="1098"/>
                  <a:pt x="1669" y="1098"/>
                  <a:pt x="1669" y="1098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5" y="1050"/>
                  <a:pt x="1715" y="1050"/>
                  <a:pt x="1715" y="1050"/>
                </a:cubicBezTo>
                <a:cubicBezTo>
                  <a:pt x="1730" y="1038"/>
                  <a:pt x="1730" y="1038"/>
                  <a:pt x="1730" y="1038"/>
                </a:cubicBezTo>
                <a:cubicBezTo>
                  <a:pt x="1748" y="1013"/>
                  <a:pt x="1748" y="1013"/>
                  <a:pt x="1748" y="1013"/>
                </a:cubicBezTo>
                <a:cubicBezTo>
                  <a:pt x="1749" y="1011"/>
                  <a:pt x="1749" y="1011"/>
                  <a:pt x="1749" y="1011"/>
                </a:cubicBezTo>
                <a:cubicBezTo>
                  <a:pt x="1774" y="1017"/>
                  <a:pt x="1774" y="1017"/>
                  <a:pt x="1774" y="1017"/>
                </a:cubicBezTo>
                <a:cubicBezTo>
                  <a:pt x="1785" y="1017"/>
                  <a:pt x="1785" y="1017"/>
                  <a:pt x="1785" y="1017"/>
                </a:cubicBezTo>
                <a:cubicBezTo>
                  <a:pt x="1785" y="1008"/>
                  <a:pt x="1787" y="1001"/>
                  <a:pt x="1788" y="997"/>
                </a:cubicBezTo>
                <a:cubicBezTo>
                  <a:pt x="1806" y="976"/>
                  <a:pt x="1806" y="976"/>
                  <a:pt x="1806" y="976"/>
                </a:cubicBezTo>
                <a:cubicBezTo>
                  <a:pt x="1812" y="973"/>
                  <a:pt x="1812" y="973"/>
                  <a:pt x="1812" y="973"/>
                </a:cubicBezTo>
                <a:cubicBezTo>
                  <a:pt x="1833" y="980"/>
                  <a:pt x="1833" y="980"/>
                  <a:pt x="1833" y="980"/>
                </a:cubicBezTo>
                <a:cubicBezTo>
                  <a:pt x="1858" y="977"/>
                  <a:pt x="1858" y="977"/>
                  <a:pt x="1858" y="977"/>
                </a:cubicBezTo>
                <a:cubicBezTo>
                  <a:pt x="1875" y="959"/>
                  <a:pt x="1875" y="959"/>
                  <a:pt x="1875" y="959"/>
                </a:cubicBezTo>
                <a:cubicBezTo>
                  <a:pt x="1883" y="943"/>
                  <a:pt x="1883" y="943"/>
                  <a:pt x="1883" y="943"/>
                </a:cubicBezTo>
                <a:cubicBezTo>
                  <a:pt x="1878" y="935"/>
                  <a:pt x="1878" y="935"/>
                  <a:pt x="1878" y="935"/>
                </a:cubicBezTo>
                <a:cubicBezTo>
                  <a:pt x="1863" y="942"/>
                  <a:pt x="1863" y="942"/>
                  <a:pt x="1863" y="942"/>
                </a:cubicBezTo>
                <a:cubicBezTo>
                  <a:pt x="1862" y="941"/>
                  <a:pt x="1862" y="941"/>
                  <a:pt x="1862" y="941"/>
                </a:cubicBezTo>
                <a:cubicBezTo>
                  <a:pt x="1861" y="940"/>
                  <a:pt x="1861" y="940"/>
                  <a:pt x="1861" y="940"/>
                </a:cubicBezTo>
                <a:cubicBezTo>
                  <a:pt x="1842" y="923"/>
                  <a:pt x="1842" y="923"/>
                  <a:pt x="1842" y="923"/>
                </a:cubicBezTo>
                <a:cubicBezTo>
                  <a:pt x="1841" y="922"/>
                  <a:pt x="1841" y="922"/>
                  <a:pt x="1841" y="922"/>
                </a:cubicBezTo>
                <a:cubicBezTo>
                  <a:pt x="1849" y="894"/>
                  <a:pt x="1849" y="894"/>
                  <a:pt x="1849" y="894"/>
                </a:cubicBezTo>
                <a:cubicBezTo>
                  <a:pt x="1851" y="872"/>
                  <a:pt x="1851" y="872"/>
                  <a:pt x="1851" y="872"/>
                </a:cubicBezTo>
                <a:cubicBezTo>
                  <a:pt x="1845" y="855"/>
                  <a:pt x="1845" y="855"/>
                  <a:pt x="1845" y="855"/>
                </a:cubicBezTo>
                <a:cubicBezTo>
                  <a:pt x="1831" y="849"/>
                  <a:pt x="1831" y="849"/>
                  <a:pt x="1831" y="849"/>
                </a:cubicBezTo>
                <a:cubicBezTo>
                  <a:pt x="1831" y="848"/>
                  <a:pt x="1831" y="848"/>
                  <a:pt x="1831" y="848"/>
                </a:cubicBezTo>
                <a:cubicBezTo>
                  <a:pt x="1830" y="847"/>
                  <a:pt x="1830" y="847"/>
                  <a:pt x="1830" y="847"/>
                </a:cubicBezTo>
                <a:cubicBezTo>
                  <a:pt x="1829" y="846"/>
                  <a:pt x="1829" y="846"/>
                  <a:pt x="1829" y="846"/>
                </a:cubicBezTo>
                <a:cubicBezTo>
                  <a:pt x="1816" y="821"/>
                  <a:pt x="1816" y="821"/>
                  <a:pt x="1816" y="821"/>
                </a:cubicBezTo>
                <a:cubicBezTo>
                  <a:pt x="1814" y="818"/>
                  <a:pt x="1814" y="818"/>
                  <a:pt x="1814" y="818"/>
                </a:cubicBezTo>
                <a:cubicBezTo>
                  <a:pt x="1796" y="839"/>
                  <a:pt x="1796" y="839"/>
                  <a:pt x="1796" y="839"/>
                </a:cubicBezTo>
                <a:cubicBezTo>
                  <a:pt x="1778" y="850"/>
                  <a:pt x="1778" y="850"/>
                  <a:pt x="1778" y="850"/>
                </a:cubicBezTo>
                <a:cubicBezTo>
                  <a:pt x="1774" y="852"/>
                  <a:pt x="1774" y="852"/>
                  <a:pt x="1774" y="852"/>
                </a:cubicBezTo>
                <a:cubicBezTo>
                  <a:pt x="1773" y="851"/>
                  <a:pt x="1773" y="851"/>
                  <a:pt x="1773" y="851"/>
                </a:cubicBezTo>
                <a:cubicBezTo>
                  <a:pt x="1772" y="849"/>
                  <a:pt x="1772" y="849"/>
                  <a:pt x="1772" y="849"/>
                </a:cubicBezTo>
                <a:cubicBezTo>
                  <a:pt x="1753" y="831"/>
                  <a:pt x="1753" y="831"/>
                  <a:pt x="1753" y="831"/>
                </a:cubicBezTo>
                <a:cubicBezTo>
                  <a:pt x="1753" y="830"/>
                  <a:pt x="1753" y="830"/>
                  <a:pt x="1753" y="830"/>
                </a:cubicBezTo>
                <a:cubicBezTo>
                  <a:pt x="1739" y="801"/>
                  <a:pt x="1739" y="801"/>
                  <a:pt x="1739" y="801"/>
                </a:cubicBezTo>
                <a:cubicBezTo>
                  <a:pt x="1739" y="800"/>
                  <a:pt x="1739" y="800"/>
                  <a:pt x="1739" y="800"/>
                </a:cubicBezTo>
                <a:cubicBezTo>
                  <a:pt x="1733" y="779"/>
                  <a:pt x="1733" y="779"/>
                  <a:pt x="1733" y="779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46"/>
                  <a:pt x="1733" y="746"/>
                  <a:pt x="1733" y="746"/>
                </a:cubicBezTo>
                <a:cubicBezTo>
                  <a:pt x="1730" y="727"/>
                  <a:pt x="1730" y="727"/>
                  <a:pt x="1730" y="727"/>
                </a:cubicBezTo>
                <a:cubicBezTo>
                  <a:pt x="1716" y="722"/>
                  <a:pt x="1716" y="722"/>
                  <a:pt x="1716" y="722"/>
                </a:cubicBezTo>
                <a:cubicBezTo>
                  <a:pt x="1715" y="722"/>
                  <a:pt x="1715" y="722"/>
                  <a:pt x="1715" y="722"/>
                </a:cubicBezTo>
                <a:cubicBezTo>
                  <a:pt x="1715" y="721"/>
                  <a:pt x="1715" y="721"/>
                  <a:pt x="1715" y="721"/>
                </a:cubicBezTo>
                <a:cubicBezTo>
                  <a:pt x="1681" y="694"/>
                  <a:pt x="1681" y="694"/>
                  <a:pt x="1681" y="694"/>
                </a:cubicBezTo>
                <a:cubicBezTo>
                  <a:pt x="1683" y="691"/>
                  <a:pt x="1683" y="691"/>
                  <a:pt x="1683" y="691"/>
                </a:cubicBezTo>
                <a:cubicBezTo>
                  <a:pt x="1699" y="674"/>
                  <a:pt x="1699" y="674"/>
                  <a:pt x="1699" y="674"/>
                </a:cubicBezTo>
                <a:cubicBezTo>
                  <a:pt x="1699" y="673"/>
                  <a:pt x="1699" y="673"/>
                  <a:pt x="1699" y="673"/>
                </a:cubicBezTo>
                <a:cubicBezTo>
                  <a:pt x="1699" y="672"/>
                  <a:pt x="1699" y="672"/>
                  <a:pt x="1699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19" y="670"/>
                  <a:pt x="1719" y="670"/>
                  <a:pt x="1719" y="670"/>
                </a:cubicBezTo>
                <a:cubicBezTo>
                  <a:pt x="1720" y="670"/>
                  <a:pt x="1720" y="670"/>
                  <a:pt x="1720" y="670"/>
                </a:cubicBezTo>
                <a:cubicBezTo>
                  <a:pt x="1725" y="670"/>
                  <a:pt x="1730" y="673"/>
                  <a:pt x="1735" y="678"/>
                </a:cubicBezTo>
                <a:cubicBezTo>
                  <a:pt x="1749" y="690"/>
                  <a:pt x="1749" y="690"/>
                  <a:pt x="1749" y="690"/>
                </a:cubicBezTo>
                <a:cubicBezTo>
                  <a:pt x="1765" y="677"/>
                  <a:pt x="1765" y="677"/>
                  <a:pt x="1765" y="677"/>
                </a:cubicBezTo>
                <a:cubicBezTo>
                  <a:pt x="1777" y="661"/>
                  <a:pt x="1777" y="661"/>
                  <a:pt x="1777" y="661"/>
                </a:cubicBezTo>
                <a:cubicBezTo>
                  <a:pt x="1777" y="648"/>
                  <a:pt x="1777" y="648"/>
                  <a:pt x="1777" y="648"/>
                </a:cubicBezTo>
                <a:cubicBezTo>
                  <a:pt x="1773" y="614"/>
                  <a:pt x="1773" y="614"/>
                  <a:pt x="1773" y="614"/>
                </a:cubicBezTo>
                <a:cubicBezTo>
                  <a:pt x="1769" y="600"/>
                  <a:pt x="1769" y="600"/>
                  <a:pt x="1769" y="600"/>
                </a:cubicBezTo>
                <a:cubicBezTo>
                  <a:pt x="1746" y="596"/>
                  <a:pt x="1746" y="596"/>
                  <a:pt x="1746" y="596"/>
                </a:cubicBezTo>
                <a:cubicBezTo>
                  <a:pt x="1746" y="582"/>
                  <a:pt x="1746" y="582"/>
                  <a:pt x="1746" y="582"/>
                </a:cubicBezTo>
                <a:cubicBezTo>
                  <a:pt x="1725" y="556"/>
                  <a:pt x="1725" y="556"/>
                  <a:pt x="1725" y="556"/>
                </a:cubicBezTo>
                <a:cubicBezTo>
                  <a:pt x="1724" y="555"/>
                  <a:pt x="1724" y="555"/>
                  <a:pt x="1724" y="555"/>
                </a:cubicBezTo>
                <a:cubicBezTo>
                  <a:pt x="1714" y="536"/>
                  <a:pt x="1714" y="536"/>
                  <a:pt x="1714" y="536"/>
                </a:cubicBezTo>
                <a:cubicBezTo>
                  <a:pt x="1711" y="534"/>
                  <a:pt x="1711" y="534"/>
                  <a:pt x="1711" y="534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35" y="501"/>
                  <a:pt x="1735" y="501"/>
                  <a:pt x="1735" y="501"/>
                </a:cubicBezTo>
                <a:cubicBezTo>
                  <a:pt x="1735" y="500"/>
                  <a:pt x="1735" y="500"/>
                  <a:pt x="1735" y="500"/>
                </a:cubicBezTo>
                <a:cubicBezTo>
                  <a:pt x="1736" y="499"/>
                  <a:pt x="1736" y="499"/>
                  <a:pt x="1736" y="499"/>
                </a:cubicBezTo>
                <a:cubicBezTo>
                  <a:pt x="1736" y="498"/>
                  <a:pt x="1736" y="498"/>
                  <a:pt x="1736" y="498"/>
                </a:cubicBezTo>
                <a:cubicBezTo>
                  <a:pt x="1738" y="498"/>
                  <a:pt x="1738" y="498"/>
                  <a:pt x="1738" y="498"/>
                </a:cubicBezTo>
                <a:cubicBezTo>
                  <a:pt x="1747" y="497"/>
                  <a:pt x="1747" y="497"/>
                  <a:pt x="1747" y="497"/>
                </a:cubicBezTo>
                <a:cubicBezTo>
                  <a:pt x="1759" y="487"/>
                  <a:pt x="1759" y="487"/>
                  <a:pt x="1759" y="487"/>
                </a:cubicBezTo>
                <a:cubicBezTo>
                  <a:pt x="1773" y="445"/>
                  <a:pt x="1773" y="445"/>
                  <a:pt x="1773" y="445"/>
                </a:cubicBezTo>
                <a:cubicBezTo>
                  <a:pt x="1774" y="445"/>
                  <a:pt x="1774" y="445"/>
                  <a:pt x="1774" y="445"/>
                </a:cubicBezTo>
                <a:cubicBezTo>
                  <a:pt x="1774" y="444"/>
                  <a:pt x="1774" y="444"/>
                  <a:pt x="1774" y="444"/>
                </a:cubicBezTo>
                <a:cubicBezTo>
                  <a:pt x="1791" y="425"/>
                  <a:pt x="1791" y="425"/>
                  <a:pt x="1791" y="425"/>
                </a:cubicBezTo>
                <a:cubicBezTo>
                  <a:pt x="1791" y="424"/>
                  <a:pt x="1791" y="424"/>
                  <a:pt x="1791" y="424"/>
                </a:cubicBezTo>
                <a:cubicBezTo>
                  <a:pt x="1792" y="424"/>
                  <a:pt x="1792" y="424"/>
                  <a:pt x="1792" y="424"/>
                </a:cubicBezTo>
                <a:cubicBezTo>
                  <a:pt x="1793" y="424"/>
                  <a:pt x="1793" y="424"/>
                  <a:pt x="1793" y="424"/>
                </a:cubicBezTo>
                <a:cubicBezTo>
                  <a:pt x="1812" y="419"/>
                  <a:pt x="1812" y="419"/>
                  <a:pt x="1812" y="419"/>
                </a:cubicBezTo>
                <a:cubicBezTo>
                  <a:pt x="1812" y="421"/>
                  <a:pt x="1812" y="421"/>
                  <a:pt x="1812" y="421"/>
                </a:cubicBezTo>
                <a:cubicBezTo>
                  <a:pt x="1824" y="431"/>
                  <a:pt x="1824" y="431"/>
                  <a:pt x="1824" y="431"/>
                </a:cubicBezTo>
                <a:cubicBezTo>
                  <a:pt x="1829" y="432"/>
                  <a:pt x="1829" y="432"/>
                  <a:pt x="1829" y="432"/>
                </a:cubicBezTo>
                <a:cubicBezTo>
                  <a:pt x="1836" y="400"/>
                  <a:pt x="1836" y="400"/>
                  <a:pt x="1836" y="400"/>
                </a:cubicBezTo>
                <a:cubicBezTo>
                  <a:pt x="1829" y="376"/>
                  <a:pt x="1829" y="376"/>
                  <a:pt x="1829" y="376"/>
                </a:cubicBezTo>
                <a:cubicBezTo>
                  <a:pt x="1827" y="375"/>
                  <a:pt x="1827" y="375"/>
                  <a:pt x="1827" y="375"/>
                </a:cubicBezTo>
                <a:cubicBezTo>
                  <a:pt x="1827" y="373"/>
                  <a:pt x="1827" y="373"/>
                  <a:pt x="1827" y="373"/>
                </a:cubicBezTo>
                <a:cubicBezTo>
                  <a:pt x="1831" y="347"/>
                  <a:pt x="1831" y="347"/>
                  <a:pt x="1831" y="347"/>
                </a:cubicBezTo>
                <a:cubicBezTo>
                  <a:pt x="1831" y="345"/>
                  <a:pt x="1831" y="345"/>
                  <a:pt x="1831" y="345"/>
                </a:cubicBezTo>
                <a:cubicBezTo>
                  <a:pt x="1843" y="331"/>
                  <a:pt x="1843" y="331"/>
                  <a:pt x="1843" y="331"/>
                </a:cubicBezTo>
                <a:cubicBezTo>
                  <a:pt x="1852" y="316"/>
                  <a:pt x="1852" y="316"/>
                  <a:pt x="1852" y="316"/>
                </a:cubicBezTo>
                <a:cubicBezTo>
                  <a:pt x="1853" y="304"/>
                  <a:pt x="1853" y="304"/>
                  <a:pt x="1853" y="304"/>
                </a:cubicBezTo>
                <a:cubicBezTo>
                  <a:pt x="1853" y="297"/>
                  <a:pt x="1850" y="287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46"/>
                  <a:pt x="1843" y="246"/>
                  <a:pt x="1843" y="246"/>
                </a:cubicBezTo>
                <a:cubicBezTo>
                  <a:pt x="1843" y="245"/>
                  <a:pt x="1843" y="245"/>
                  <a:pt x="1843" y="245"/>
                </a:cubicBezTo>
                <a:cubicBezTo>
                  <a:pt x="1849" y="222"/>
                  <a:pt x="1849" y="222"/>
                  <a:pt x="1849" y="222"/>
                </a:cubicBezTo>
                <a:cubicBezTo>
                  <a:pt x="1844" y="213"/>
                  <a:pt x="1841" y="205"/>
                  <a:pt x="1841" y="200"/>
                </a:cubicBezTo>
                <a:lnTo>
                  <a:pt x="1845" y="17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6"/>
          <p:cNvSpPr/>
          <p:nvPr/>
        </p:nvSpPr>
        <p:spPr>
          <a:xfrm>
            <a:off x="1838160" y="2265480"/>
            <a:ext cx="1138320" cy="939600"/>
          </a:xfrm>
          <a:custGeom>
            <a:avLst/>
            <a:gdLst/>
            <a:ahLst/>
            <a:rect l="l" t="t" r="r" b="b"/>
            <a:pathLst>
              <a:path w="1203" h="1018">
                <a:moveTo>
                  <a:pt x="715" y="368"/>
                </a:moveTo>
                <a:cubicBezTo>
                  <a:pt x="698" y="368"/>
                  <a:pt x="698" y="368"/>
                  <a:pt x="698" y="368"/>
                </a:cubicBezTo>
                <a:cubicBezTo>
                  <a:pt x="692" y="380"/>
                  <a:pt x="692" y="380"/>
                  <a:pt x="692" y="380"/>
                </a:cubicBezTo>
                <a:cubicBezTo>
                  <a:pt x="702" y="389"/>
                  <a:pt x="702" y="389"/>
                  <a:pt x="702" y="389"/>
                </a:cubicBezTo>
                <a:cubicBezTo>
                  <a:pt x="702" y="390"/>
                  <a:pt x="702" y="390"/>
                  <a:pt x="702" y="390"/>
                </a:cubicBezTo>
                <a:cubicBezTo>
                  <a:pt x="702" y="391"/>
                  <a:pt x="702" y="391"/>
                  <a:pt x="702" y="391"/>
                </a:cubicBezTo>
                <a:cubicBezTo>
                  <a:pt x="706" y="405"/>
                  <a:pt x="706" y="405"/>
                  <a:pt x="706" y="405"/>
                </a:cubicBezTo>
                <a:cubicBezTo>
                  <a:pt x="707" y="406"/>
                  <a:pt x="707" y="406"/>
                  <a:pt x="707" y="406"/>
                </a:cubicBezTo>
                <a:cubicBezTo>
                  <a:pt x="707" y="409"/>
                  <a:pt x="707" y="409"/>
                  <a:pt x="707" y="409"/>
                </a:cubicBezTo>
                <a:cubicBezTo>
                  <a:pt x="705" y="410"/>
                  <a:pt x="705" y="410"/>
                  <a:pt x="705" y="410"/>
                </a:cubicBezTo>
                <a:cubicBezTo>
                  <a:pt x="682" y="422"/>
                  <a:pt x="682" y="422"/>
                  <a:pt x="682" y="422"/>
                </a:cubicBezTo>
                <a:cubicBezTo>
                  <a:pt x="681" y="423"/>
                  <a:pt x="681" y="423"/>
                  <a:pt x="681" y="423"/>
                </a:cubicBezTo>
                <a:cubicBezTo>
                  <a:pt x="681" y="423"/>
                  <a:pt x="681" y="423"/>
                  <a:pt x="681" y="423"/>
                </a:cubicBezTo>
                <a:cubicBezTo>
                  <a:pt x="680" y="423"/>
                  <a:pt x="680" y="423"/>
                  <a:pt x="680" y="423"/>
                </a:cubicBezTo>
                <a:cubicBezTo>
                  <a:pt x="679" y="423"/>
                  <a:pt x="679" y="423"/>
                  <a:pt x="679" y="423"/>
                </a:cubicBezTo>
                <a:cubicBezTo>
                  <a:pt x="661" y="421"/>
                  <a:pt x="651" y="416"/>
                  <a:pt x="648" y="408"/>
                </a:cubicBezTo>
                <a:cubicBezTo>
                  <a:pt x="642" y="396"/>
                  <a:pt x="642" y="396"/>
                  <a:pt x="642" y="396"/>
                </a:cubicBezTo>
                <a:cubicBezTo>
                  <a:pt x="610" y="389"/>
                  <a:pt x="610" y="389"/>
                  <a:pt x="610" y="389"/>
                </a:cubicBezTo>
                <a:cubicBezTo>
                  <a:pt x="602" y="349"/>
                  <a:pt x="602" y="349"/>
                  <a:pt x="602" y="349"/>
                </a:cubicBezTo>
                <a:cubicBezTo>
                  <a:pt x="595" y="348"/>
                  <a:pt x="590" y="345"/>
                  <a:pt x="587" y="341"/>
                </a:cubicBezTo>
                <a:cubicBezTo>
                  <a:pt x="586" y="339"/>
                  <a:pt x="586" y="339"/>
                  <a:pt x="586" y="339"/>
                </a:cubicBezTo>
                <a:cubicBezTo>
                  <a:pt x="581" y="331"/>
                  <a:pt x="576" y="327"/>
                  <a:pt x="570" y="326"/>
                </a:cubicBezTo>
                <a:cubicBezTo>
                  <a:pt x="562" y="323"/>
                  <a:pt x="554" y="316"/>
                  <a:pt x="548" y="307"/>
                </a:cubicBezTo>
                <a:cubicBezTo>
                  <a:pt x="535" y="300"/>
                  <a:pt x="535" y="300"/>
                  <a:pt x="535" y="300"/>
                </a:cubicBezTo>
                <a:cubicBezTo>
                  <a:pt x="534" y="300"/>
                  <a:pt x="534" y="300"/>
                  <a:pt x="534" y="300"/>
                </a:cubicBezTo>
                <a:cubicBezTo>
                  <a:pt x="534" y="300"/>
                  <a:pt x="534" y="300"/>
                  <a:pt x="534" y="300"/>
                </a:cubicBezTo>
                <a:cubicBezTo>
                  <a:pt x="534" y="300"/>
                  <a:pt x="534" y="300"/>
                  <a:pt x="534" y="300"/>
                </a:cubicBezTo>
                <a:cubicBezTo>
                  <a:pt x="517" y="283"/>
                  <a:pt x="517" y="283"/>
                  <a:pt x="517" y="283"/>
                </a:cubicBezTo>
                <a:cubicBezTo>
                  <a:pt x="517" y="283"/>
                  <a:pt x="517" y="283"/>
                  <a:pt x="517" y="283"/>
                </a:cubicBezTo>
                <a:cubicBezTo>
                  <a:pt x="513" y="268"/>
                  <a:pt x="513" y="268"/>
                  <a:pt x="513" y="268"/>
                </a:cubicBezTo>
                <a:cubicBezTo>
                  <a:pt x="513" y="267"/>
                  <a:pt x="513" y="267"/>
                  <a:pt x="513" y="267"/>
                </a:cubicBezTo>
                <a:cubicBezTo>
                  <a:pt x="547" y="220"/>
                  <a:pt x="547" y="220"/>
                  <a:pt x="547" y="220"/>
                </a:cubicBezTo>
                <a:cubicBezTo>
                  <a:pt x="548" y="217"/>
                  <a:pt x="549" y="215"/>
                  <a:pt x="548" y="214"/>
                </a:cubicBezTo>
                <a:cubicBezTo>
                  <a:pt x="542" y="199"/>
                  <a:pt x="542" y="199"/>
                  <a:pt x="542" y="199"/>
                </a:cubicBezTo>
                <a:cubicBezTo>
                  <a:pt x="524" y="207"/>
                  <a:pt x="524" y="207"/>
                  <a:pt x="524" y="207"/>
                </a:cubicBezTo>
                <a:cubicBezTo>
                  <a:pt x="523" y="207"/>
                  <a:pt x="523" y="207"/>
                  <a:pt x="523" y="207"/>
                </a:cubicBezTo>
                <a:cubicBezTo>
                  <a:pt x="523" y="208"/>
                  <a:pt x="523" y="208"/>
                  <a:pt x="523" y="208"/>
                </a:cubicBezTo>
                <a:cubicBezTo>
                  <a:pt x="522" y="208"/>
                  <a:pt x="522" y="208"/>
                  <a:pt x="522" y="208"/>
                </a:cubicBezTo>
                <a:cubicBezTo>
                  <a:pt x="475" y="211"/>
                  <a:pt x="475" y="211"/>
                  <a:pt x="475" y="211"/>
                </a:cubicBezTo>
                <a:cubicBezTo>
                  <a:pt x="457" y="215"/>
                  <a:pt x="457" y="215"/>
                  <a:pt x="457" y="215"/>
                </a:cubicBezTo>
                <a:cubicBezTo>
                  <a:pt x="451" y="221"/>
                  <a:pt x="451" y="221"/>
                  <a:pt x="451" y="221"/>
                </a:cubicBezTo>
                <a:cubicBezTo>
                  <a:pt x="448" y="228"/>
                  <a:pt x="448" y="228"/>
                  <a:pt x="448" y="228"/>
                </a:cubicBezTo>
                <a:cubicBezTo>
                  <a:pt x="443" y="233"/>
                  <a:pt x="437" y="236"/>
                  <a:pt x="428" y="234"/>
                </a:cubicBezTo>
                <a:cubicBezTo>
                  <a:pt x="428" y="234"/>
                  <a:pt x="428" y="234"/>
                  <a:pt x="428" y="234"/>
                </a:cubicBezTo>
                <a:cubicBezTo>
                  <a:pt x="427" y="233"/>
                  <a:pt x="427" y="233"/>
                  <a:pt x="427" y="233"/>
                </a:cubicBezTo>
                <a:cubicBezTo>
                  <a:pt x="411" y="221"/>
                  <a:pt x="411" y="221"/>
                  <a:pt x="411" y="221"/>
                </a:cubicBezTo>
                <a:cubicBezTo>
                  <a:pt x="410" y="195"/>
                  <a:pt x="410" y="195"/>
                  <a:pt x="410" y="195"/>
                </a:cubicBezTo>
                <a:cubicBezTo>
                  <a:pt x="401" y="189"/>
                  <a:pt x="396" y="182"/>
                  <a:pt x="394" y="177"/>
                </a:cubicBezTo>
                <a:cubicBezTo>
                  <a:pt x="390" y="154"/>
                  <a:pt x="390" y="154"/>
                  <a:pt x="390" y="154"/>
                </a:cubicBezTo>
                <a:cubicBezTo>
                  <a:pt x="379" y="141"/>
                  <a:pt x="379" y="141"/>
                  <a:pt x="379" y="141"/>
                </a:cubicBezTo>
                <a:cubicBezTo>
                  <a:pt x="367" y="132"/>
                  <a:pt x="367" y="132"/>
                  <a:pt x="367" y="132"/>
                </a:cubicBezTo>
                <a:cubicBezTo>
                  <a:pt x="362" y="129"/>
                  <a:pt x="362" y="129"/>
                  <a:pt x="362" y="129"/>
                </a:cubicBezTo>
                <a:cubicBezTo>
                  <a:pt x="381" y="104"/>
                  <a:pt x="381" y="104"/>
                  <a:pt x="381" y="104"/>
                </a:cubicBezTo>
                <a:cubicBezTo>
                  <a:pt x="385" y="91"/>
                  <a:pt x="385" y="91"/>
                  <a:pt x="385" y="91"/>
                </a:cubicBezTo>
                <a:cubicBezTo>
                  <a:pt x="364" y="64"/>
                  <a:pt x="364" y="64"/>
                  <a:pt x="364" y="64"/>
                </a:cubicBezTo>
                <a:cubicBezTo>
                  <a:pt x="363" y="64"/>
                  <a:pt x="363" y="64"/>
                  <a:pt x="363" y="64"/>
                </a:cubicBezTo>
                <a:cubicBezTo>
                  <a:pt x="363" y="63"/>
                  <a:pt x="363" y="63"/>
                  <a:pt x="363" y="63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54" y="41"/>
                  <a:pt x="354" y="41"/>
                  <a:pt x="354" y="41"/>
                </a:cubicBezTo>
                <a:cubicBezTo>
                  <a:pt x="354" y="41"/>
                  <a:pt x="354" y="41"/>
                  <a:pt x="354" y="41"/>
                </a:cubicBezTo>
                <a:cubicBezTo>
                  <a:pt x="352" y="30"/>
                  <a:pt x="352" y="30"/>
                  <a:pt x="352" y="30"/>
                </a:cubicBezTo>
                <a:cubicBezTo>
                  <a:pt x="338" y="20"/>
                  <a:pt x="338" y="20"/>
                  <a:pt x="338" y="20"/>
                </a:cubicBezTo>
                <a:cubicBezTo>
                  <a:pt x="338" y="19"/>
                  <a:pt x="338" y="19"/>
                  <a:pt x="338" y="19"/>
                </a:cubicBezTo>
                <a:cubicBezTo>
                  <a:pt x="338" y="19"/>
                  <a:pt x="338" y="19"/>
                  <a:pt x="338" y="19"/>
                </a:cubicBezTo>
                <a:cubicBezTo>
                  <a:pt x="338" y="19"/>
                  <a:pt x="338" y="19"/>
                  <a:pt x="338" y="19"/>
                </a:cubicBezTo>
                <a:cubicBezTo>
                  <a:pt x="323" y="3"/>
                  <a:pt x="323" y="3"/>
                  <a:pt x="323" y="3"/>
                </a:cubicBezTo>
                <a:cubicBezTo>
                  <a:pt x="304" y="0"/>
                  <a:pt x="304" y="0"/>
                  <a:pt x="304" y="0"/>
                </a:cubicBezTo>
                <a:cubicBezTo>
                  <a:pt x="283" y="6"/>
                  <a:pt x="283" y="6"/>
                  <a:pt x="283" y="6"/>
                </a:cubicBezTo>
                <a:cubicBezTo>
                  <a:pt x="280" y="10"/>
                  <a:pt x="280" y="10"/>
                  <a:pt x="280" y="10"/>
                </a:cubicBezTo>
                <a:cubicBezTo>
                  <a:pt x="277" y="40"/>
                  <a:pt x="277" y="40"/>
                  <a:pt x="277" y="40"/>
                </a:cubicBezTo>
                <a:cubicBezTo>
                  <a:pt x="277" y="73"/>
                  <a:pt x="277" y="73"/>
                  <a:pt x="277" y="73"/>
                </a:cubicBezTo>
                <a:cubicBezTo>
                  <a:pt x="273" y="74"/>
                  <a:pt x="273" y="74"/>
                  <a:pt x="273" y="74"/>
                </a:cubicBezTo>
                <a:cubicBezTo>
                  <a:pt x="253" y="81"/>
                  <a:pt x="253" y="81"/>
                  <a:pt x="253" y="81"/>
                </a:cubicBezTo>
                <a:cubicBezTo>
                  <a:pt x="253" y="81"/>
                  <a:pt x="253" y="81"/>
                  <a:pt x="253" y="81"/>
                </a:cubicBezTo>
                <a:cubicBezTo>
                  <a:pt x="253" y="82"/>
                  <a:pt x="253" y="82"/>
                  <a:pt x="253" y="82"/>
                </a:cubicBezTo>
                <a:cubicBezTo>
                  <a:pt x="253" y="82"/>
                  <a:pt x="253" y="82"/>
                  <a:pt x="253" y="82"/>
                </a:cubicBezTo>
                <a:cubicBezTo>
                  <a:pt x="234" y="83"/>
                  <a:pt x="234" y="83"/>
                  <a:pt x="234" y="83"/>
                </a:cubicBezTo>
                <a:cubicBezTo>
                  <a:pt x="225" y="88"/>
                  <a:pt x="214" y="94"/>
                  <a:pt x="203" y="98"/>
                </a:cubicBezTo>
                <a:cubicBezTo>
                  <a:pt x="201" y="99"/>
                  <a:pt x="201" y="99"/>
                  <a:pt x="201" y="99"/>
                </a:cubicBezTo>
                <a:cubicBezTo>
                  <a:pt x="201" y="99"/>
                  <a:pt x="201" y="99"/>
                  <a:pt x="201" y="99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64" y="91"/>
                  <a:pt x="164" y="91"/>
                  <a:pt x="164" y="91"/>
                </a:cubicBezTo>
                <a:cubicBezTo>
                  <a:pt x="149" y="106"/>
                  <a:pt x="149" y="106"/>
                  <a:pt x="149" y="106"/>
                </a:cubicBezTo>
                <a:cubicBezTo>
                  <a:pt x="146" y="111"/>
                  <a:pt x="138" y="115"/>
                  <a:pt x="129" y="117"/>
                </a:cubicBezTo>
                <a:cubicBezTo>
                  <a:pt x="107" y="135"/>
                  <a:pt x="107" y="135"/>
                  <a:pt x="107" y="135"/>
                </a:cubicBezTo>
                <a:cubicBezTo>
                  <a:pt x="95" y="153"/>
                  <a:pt x="95" y="153"/>
                  <a:pt x="95" y="153"/>
                </a:cubicBezTo>
                <a:cubicBezTo>
                  <a:pt x="95" y="154"/>
                  <a:pt x="95" y="154"/>
                  <a:pt x="95" y="154"/>
                </a:cubicBezTo>
                <a:cubicBezTo>
                  <a:pt x="94" y="155"/>
                  <a:pt x="94" y="155"/>
                  <a:pt x="94" y="155"/>
                </a:cubicBezTo>
                <a:cubicBezTo>
                  <a:pt x="88" y="164"/>
                  <a:pt x="82" y="172"/>
                  <a:pt x="78" y="175"/>
                </a:cubicBezTo>
                <a:cubicBezTo>
                  <a:pt x="66" y="191"/>
                  <a:pt x="66" y="191"/>
                  <a:pt x="66" y="191"/>
                </a:cubicBezTo>
                <a:cubicBezTo>
                  <a:pt x="66" y="192"/>
                  <a:pt x="66" y="192"/>
                  <a:pt x="66" y="192"/>
                </a:cubicBezTo>
                <a:cubicBezTo>
                  <a:pt x="65" y="193"/>
                  <a:pt x="65" y="193"/>
                  <a:pt x="65" y="193"/>
                </a:cubicBezTo>
                <a:cubicBezTo>
                  <a:pt x="57" y="198"/>
                  <a:pt x="57" y="198"/>
                  <a:pt x="57" y="198"/>
                </a:cubicBezTo>
                <a:cubicBezTo>
                  <a:pt x="52" y="200"/>
                  <a:pt x="47" y="201"/>
                  <a:pt x="42" y="201"/>
                </a:cubicBezTo>
                <a:cubicBezTo>
                  <a:pt x="16" y="199"/>
                  <a:pt x="16" y="199"/>
                  <a:pt x="16" y="199"/>
                </a:cubicBezTo>
                <a:cubicBezTo>
                  <a:pt x="10" y="209"/>
                  <a:pt x="10" y="209"/>
                  <a:pt x="10" y="209"/>
                </a:cubicBezTo>
                <a:cubicBezTo>
                  <a:pt x="0" y="226"/>
                  <a:pt x="0" y="226"/>
                  <a:pt x="0" y="226"/>
                </a:cubicBezTo>
                <a:cubicBezTo>
                  <a:pt x="4" y="243"/>
                  <a:pt x="4" y="243"/>
                  <a:pt x="4" y="243"/>
                </a:cubicBezTo>
                <a:cubicBezTo>
                  <a:pt x="2" y="284"/>
                  <a:pt x="2" y="284"/>
                  <a:pt x="2" y="284"/>
                </a:cubicBezTo>
                <a:cubicBezTo>
                  <a:pt x="10" y="296"/>
                  <a:pt x="10" y="296"/>
                  <a:pt x="10" y="296"/>
                </a:cubicBezTo>
                <a:cubicBezTo>
                  <a:pt x="10" y="297"/>
                  <a:pt x="10" y="297"/>
                  <a:pt x="10" y="297"/>
                </a:cubicBezTo>
                <a:cubicBezTo>
                  <a:pt x="13" y="307"/>
                  <a:pt x="13" y="307"/>
                  <a:pt x="13" y="307"/>
                </a:cubicBezTo>
                <a:cubicBezTo>
                  <a:pt x="28" y="307"/>
                  <a:pt x="28" y="307"/>
                  <a:pt x="28" y="307"/>
                </a:cubicBezTo>
                <a:cubicBezTo>
                  <a:pt x="53" y="312"/>
                  <a:pt x="53" y="312"/>
                  <a:pt x="53" y="312"/>
                </a:cubicBezTo>
                <a:cubicBezTo>
                  <a:pt x="86" y="314"/>
                  <a:pt x="86" y="314"/>
                  <a:pt x="86" y="314"/>
                </a:cubicBezTo>
                <a:cubicBezTo>
                  <a:pt x="100" y="312"/>
                  <a:pt x="100" y="312"/>
                  <a:pt x="100" y="312"/>
                </a:cubicBezTo>
                <a:cubicBezTo>
                  <a:pt x="103" y="312"/>
                  <a:pt x="103" y="312"/>
                  <a:pt x="103" y="312"/>
                </a:cubicBezTo>
                <a:cubicBezTo>
                  <a:pt x="104" y="312"/>
                  <a:pt x="104" y="312"/>
                  <a:pt x="104" y="312"/>
                </a:cubicBezTo>
                <a:cubicBezTo>
                  <a:pt x="132" y="323"/>
                  <a:pt x="132" y="323"/>
                  <a:pt x="132" y="323"/>
                </a:cubicBezTo>
                <a:cubicBezTo>
                  <a:pt x="132" y="323"/>
                  <a:pt x="132" y="323"/>
                  <a:pt x="132" y="323"/>
                </a:cubicBezTo>
                <a:cubicBezTo>
                  <a:pt x="133" y="323"/>
                  <a:pt x="133" y="323"/>
                  <a:pt x="133" y="323"/>
                </a:cubicBezTo>
                <a:cubicBezTo>
                  <a:pt x="148" y="334"/>
                  <a:pt x="148" y="334"/>
                  <a:pt x="148" y="334"/>
                </a:cubicBezTo>
                <a:cubicBezTo>
                  <a:pt x="180" y="346"/>
                  <a:pt x="180" y="346"/>
                  <a:pt x="180" y="346"/>
                </a:cubicBezTo>
                <a:cubicBezTo>
                  <a:pt x="181" y="346"/>
                  <a:pt x="181" y="346"/>
                  <a:pt x="181" y="346"/>
                </a:cubicBezTo>
                <a:cubicBezTo>
                  <a:pt x="202" y="359"/>
                  <a:pt x="202" y="359"/>
                  <a:pt x="202" y="359"/>
                </a:cubicBezTo>
                <a:cubicBezTo>
                  <a:pt x="253" y="406"/>
                  <a:pt x="253" y="406"/>
                  <a:pt x="253" y="406"/>
                </a:cubicBezTo>
                <a:cubicBezTo>
                  <a:pt x="277" y="417"/>
                  <a:pt x="277" y="417"/>
                  <a:pt x="277" y="417"/>
                </a:cubicBezTo>
                <a:cubicBezTo>
                  <a:pt x="286" y="412"/>
                  <a:pt x="286" y="412"/>
                  <a:pt x="286" y="412"/>
                </a:cubicBezTo>
                <a:cubicBezTo>
                  <a:pt x="296" y="395"/>
                  <a:pt x="296" y="395"/>
                  <a:pt x="296" y="395"/>
                </a:cubicBezTo>
                <a:cubicBezTo>
                  <a:pt x="290" y="366"/>
                  <a:pt x="290" y="366"/>
                  <a:pt x="290" y="366"/>
                </a:cubicBezTo>
                <a:cubicBezTo>
                  <a:pt x="290" y="358"/>
                  <a:pt x="297" y="352"/>
                  <a:pt x="309" y="347"/>
                </a:cubicBezTo>
                <a:cubicBezTo>
                  <a:pt x="311" y="346"/>
                  <a:pt x="311" y="346"/>
                  <a:pt x="311" y="346"/>
                </a:cubicBezTo>
                <a:cubicBezTo>
                  <a:pt x="376" y="384"/>
                  <a:pt x="376" y="384"/>
                  <a:pt x="376" y="384"/>
                </a:cubicBezTo>
                <a:cubicBezTo>
                  <a:pt x="383" y="382"/>
                  <a:pt x="383" y="382"/>
                  <a:pt x="383" y="382"/>
                </a:cubicBezTo>
                <a:cubicBezTo>
                  <a:pt x="398" y="373"/>
                  <a:pt x="398" y="373"/>
                  <a:pt x="398" y="373"/>
                </a:cubicBezTo>
                <a:cubicBezTo>
                  <a:pt x="400" y="373"/>
                  <a:pt x="400" y="373"/>
                  <a:pt x="400" y="373"/>
                </a:cubicBezTo>
                <a:cubicBezTo>
                  <a:pt x="409" y="374"/>
                  <a:pt x="409" y="374"/>
                  <a:pt x="409" y="374"/>
                </a:cubicBezTo>
                <a:cubicBezTo>
                  <a:pt x="421" y="364"/>
                  <a:pt x="421" y="364"/>
                  <a:pt x="421" y="364"/>
                </a:cubicBezTo>
                <a:cubicBezTo>
                  <a:pt x="423" y="363"/>
                  <a:pt x="423" y="363"/>
                  <a:pt x="423" y="363"/>
                </a:cubicBezTo>
                <a:cubicBezTo>
                  <a:pt x="427" y="365"/>
                  <a:pt x="427" y="365"/>
                  <a:pt x="427" y="365"/>
                </a:cubicBezTo>
                <a:cubicBezTo>
                  <a:pt x="465" y="391"/>
                  <a:pt x="465" y="391"/>
                  <a:pt x="465" y="391"/>
                </a:cubicBezTo>
                <a:cubicBezTo>
                  <a:pt x="466" y="392"/>
                  <a:pt x="466" y="392"/>
                  <a:pt x="466" y="392"/>
                </a:cubicBezTo>
                <a:cubicBezTo>
                  <a:pt x="490" y="412"/>
                  <a:pt x="490" y="412"/>
                  <a:pt x="490" y="412"/>
                </a:cubicBezTo>
                <a:cubicBezTo>
                  <a:pt x="496" y="417"/>
                  <a:pt x="505" y="424"/>
                  <a:pt x="512" y="435"/>
                </a:cubicBezTo>
                <a:cubicBezTo>
                  <a:pt x="524" y="447"/>
                  <a:pt x="524" y="447"/>
                  <a:pt x="524" y="447"/>
                </a:cubicBezTo>
                <a:cubicBezTo>
                  <a:pt x="533" y="446"/>
                  <a:pt x="533" y="446"/>
                  <a:pt x="533" y="446"/>
                </a:cubicBezTo>
                <a:cubicBezTo>
                  <a:pt x="544" y="426"/>
                  <a:pt x="544" y="426"/>
                  <a:pt x="544" y="426"/>
                </a:cubicBezTo>
                <a:cubicBezTo>
                  <a:pt x="566" y="442"/>
                  <a:pt x="566" y="442"/>
                  <a:pt x="566" y="442"/>
                </a:cubicBezTo>
                <a:cubicBezTo>
                  <a:pt x="567" y="442"/>
                  <a:pt x="567" y="442"/>
                  <a:pt x="567" y="442"/>
                </a:cubicBezTo>
                <a:cubicBezTo>
                  <a:pt x="568" y="442"/>
                  <a:pt x="568" y="442"/>
                  <a:pt x="568" y="442"/>
                </a:cubicBezTo>
                <a:cubicBezTo>
                  <a:pt x="568" y="442"/>
                  <a:pt x="568" y="442"/>
                  <a:pt x="568" y="442"/>
                </a:cubicBezTo>
                <a:cubicBezTo>
                  <a:pt x="586" y="464"/>
                  <a:pt x="586" y="464"/>
                  <a:pt x="586" y="464"/>
                </a:cubicBezTo>
                <a:cubicBezTo>
                  <a:pt x="633" y="500"/>
                  <a:pt x="633" y="500"/>
                  <a:pt x="633" y="500"/>
                </a:cubicBezTo>
                <a:cubicBezTo>
                  <a:pt x="633" y="500"/>
                  <a:pt x="633" y="500"/>
                  <a:pt x="633" y="500"/>
                </a:cubicBezTo>
                <a:cubicBezTo>
                  <a:pt x="647" y="516"/>
                  <a:pt x="647" y="516"/>
                  <a:pt x="647" y="516"/>
                </a:cubicBezTo>
                <a:cubicBezTo>
                  <a:pt x="688" y="504"/>
                  <a:pt x="688" y="504"/>
                  <a:pt x="688" y="504"/>
                </a:cubicBezTo>
                <a:cubicBezTo>
                  <a:pt x="690" y="535"/>
                  <a:pt x="690" y="535"/>
                  <a:pt x="690" y="535"/>
                </a:cubicBezTo>
                <a:cubicBezTo>
                  <a:pt x="708" y="553"/>
                  <a:pt x="708" y="553"/>
                  <a:pt x="708" y="553"/>
                </a:cubicBezTo>
                <a:cubicBezTo>
                  <a:pt x="708" y="553"/>
                  <a:pt x="708" y="553"/>
                  <a:pt x="708" y="553"/>
                </a:cubicBezTo>
                <a:cubicBezTo>
                  <a:pt x="708" y="554"/>
                  <a:pt x="708" y="554"/>
                  <a:pt x="708" y="554"/>
                </a:cubicBezTo>
                <a:cubicBezTo>
                  <a:pt x="723" y="576"/>
                  <a:pt x="723" y="576"/>
                  <a:pt x="723" y="576"/>
                </a:cubicBezTo>
                <a:cubicBezTo>
                  <a:pt x="723" y="577"/>
                  <a:pt x="723" y="577"/>
                  <a:pt x="723" y="577"/>
                </a:cubicBezTo>
                <a:cubicBezTo>
                  <a:pt x="723" y="578"/>
                  <a:pt x="723" y="578"/>
                  <a:pt x="723" y="578"/>
                </a:cubicBezTo>
                <a:cubicBezTo>
                  <a:pt x="723" y="579"/>
                  <a:pt x="723" y="579"/>
                  <a:pt x="723" y="579"/>
                </a:cubicBezTo>
                <a:cubicBezTo>
                  <a:pt x="739" y="652"/>
                  <a:pt x="739" y="652"/>
                  <a:pt x="739" y="652"/>
                </a:cubicBezTo>
                <a:cubicBezTo>
                  <a:pt x="755" y="682"/>
                  <a:pt x="755" y="682"/>
                  <a:pt x="755" y="682"/>
                </a:cubicBezTo>
                <a:cubicBezTo>
                  <a:pt x="734" y="735"/>
                  <a:pt x="734" y="735"/>
                  <a:pt x="734" y="735"/>
                </a:cubicBezTo>
                <a:cubicBezTo>
                  <a:pt x="734" y="739"/>
                  <a:pt x="734" y="739"/>
                  <a:pt x="734" y="739"/>
                </a:cubicBezTo>
                <a:cubicBezTo>
                  <a:pt x="716" y="743"/>
                  <a:pt x="716" y="743"/>
                  <a:pt x="716" y="743"/>
                </a:cubicBezTo>
                <a:cubicBezTo>
                  <a:pt x="716" y="759"/>
                  <a:pt x="716" y="759"/>
                  <a:pt x="716" y="759"/>
                </a:cubicBezTo>
                <a:cubicBezTo>
                  <a:pt x="715" y="760"/>
                  <a:pt x="715" y="760"/>
                  <a:pt x="715" y="760"/>
                </a:cubicBezTo>
                <a:cubicBezTo>
                  <a:pt x="697" y="789"/>
                  <a:pt x="697" y="789"/>
                  <a:pt x="697" y="789"/>
                </a:cubicBezTo>
                <a:cubicBezTo>
                  <a:pt x="695" y="789"/>
                  <a:pt x="695" y="789"/>
                  <a:pt x="695" y="789"/>
                </a:cubicBezTo>
                <a:cubicBezTo>
                  <a:pt x="669" y="791"/>
                  <a:pt x="669" y="791"/>
                  <a:pt x="669" y="791"/>
                </a:cubicBezTo>
                <a:cubicBezTo>
                  <a:pt x="644" y="812"/>
                  <a:pt x="644" y="812"/>
                  <a:pt x="644" y="812"/>
                </a:cubicBezTo>
                <a:cubicBezTo>
                  <a:pt x="647" y="816"/>
                  <a:pt x="651" y="818"/>
                  <a:pt x="659" y="821"/>
                </a:cubicBezTo>
                <a:cubicBezTo>
                  <a:pt x="669" y="824"/>
                  <a:pt x="670" y="833"/>
                  <a:pt x="665" y="847"/>
                </a:cubicBezTo>
                <a:cubicBezTo>
                  <a:pt x="665" y="848"/>
                  <a:pt x="665" y="848"/>
                  <a:pt x="665" y="848"/>
                </a:cubicBezTo>
                <a:cubicBezTo>
                  <a:pt x="647" y="866"/>
                  <a:pt x="647" y="866"/>
                  <a:pt x="647" y="866"/>
                </a:cubicBezTo>
                <a:cubicBezTo>
                  <a:pt x="646" y="866"/>
                  <a:pt x="646" y="866"/>
                  <a:pt x="646" y="866"/>
                </a:cubicBezTo>
                <a:cubicBezTo>
                  <a:pt x="645" y="868"/>
                  <a:pt x="645" y="868"/>
                  <a:pt x="645" y="868"/>
                </a:cubicBezTo>
                <a:cubicBezTo>
                  <a:pt x="644" y="868"/>
                  <a:pt x="644" y="868"/>
                  <a:pt x="644" y="868"/>
                </a:cubicBezTo>
                <a:cubicBezTo>
                  <a:pt x="643" y="868"/>
                  <a:pt x="643" y="868"/>
                  <a:pt x="643" y="868"/>
                </a:cubicBezTo>
                <a:cubicBezTo>
                  <a:pt x="592" y="861"/>
                  <a:pt x="592" y="861"/>
                  <a:pt x="592" y="861"/>
                </a:cubicBezTo>
                <a:cubicBezTo>
                  <a:pt x="591" y="879"/>
                  <a:pt x="591" y="879"/>
                  <a:pt x="591" y="879"/>
                </a:cubicBezTo>
                <a:cubicBezTo>
                  <a:pt x="596" y="917"/>
                  <a:pt x="596" y="917"/>
                  <a:pt x="596" y="917"/>
                </a:cubicBezTo>
                <a:cubicBezTo>
                  <a:pt x="639" y="935"/>
                  <a:pt x="639" y="935"/>
                  <a:pt x="639" y="935"/>
                </a:cubicBezTo>
                <a:cubicBezTo>
                  <a:pt x="639" y="937"/>
                  <a:pt x="639" y="937"/>
                  <a:pt x="639" y="937"/>
                </a:cubicBezTo>
                <a:cubicBezTo>
                  <a:pt x="639" y="937"/>
                  <a:pt x="639" y="937"/>
                  <a:pt x="639" y="937"/>
                </a:cubicBezTo>
                <a:cubicBezTo>
                  <a:pt x="654" y="932"/>
                  <a:pt x="654" y="932"/>
                  <a:pt x="654" y="932"/>
                </a:cubicBezTo>
                <a:cubicBezTo>
                  <a:pt x="656" y="931"/>
                  <a:pt x="656" y="931"/>
                  <a:pt x="656" y="931"/>
                </a:cubicBezTo>
                <a:cubicBezTo>
                  <a:pt x="658" y="930"/>
                  <a:pt x="658" y="930"/>
                  <a:pt x="658" y="930"/>
                </a:cubicBezTo>
                <a:cubicBezTo>
                  <a:pt x="659" y="932"/>
                  <a:pt x="659" y="932"/>
                  <a:pt x="659" y="932"/>
                </a:cubicBezTo>
                <a:cubicBezTo>
                  <a:pt x="660" y="932"/>
                  <a:pt x="660" y="932"/>
                  <a:pt x="660" y="932"/>
                </a:cubicBezTo>
                <a:cubicBezTo>
                  <a:pt x="671" y="938"/>
                  <a:pt x="671" y="938"/>
                  <a:pt x="671" y="938"/>
                </a:cubicBezTo>
                <a:cubicBezTo>
                  <a:pt x="689" y="938"/>
                  <a:pt x="689" y="938"/>
                  <a:pt x="689" y="938"/>
                </a:cubicBezTo>
                <a:cubicBezTo>
                  <a:pt x="696" y="937"/>
                  <a:pt x="696" y="937"/>
                  <a:pt x="696" y="937"/>
                </a:cubicBezTo>
                <a:cubicBezTo>
                  <a:pt x="689" y="917"/>
                  <a:pt x="689" y="917"/>
                  <a:pt x="689" y="917"/>
                </a:cubicBezTo>
                <a:cubicBezTo>
                  <a:pt x="689" y="917"/>
                  <a:pt x="689" y="917"/>
                  <a:pt x="689" y="917"/>
                </a:cubicBezTo>
                <a:cubicBezTo>
                  <a:pt x="689" y="917"/>
                  <a:pt x="689" y="917"/>
                  <a:pt x="689" y="917"/>
                </a:cubicBezTo>
                <a:cubicBezTo>
                  <a:pt x="685" y="896"/>
                  <a:pt x="685" y="896"/>
                  <a:pt x="685" y="896"/>
                </a:cubicBezTo>
                <a:cubicBezTo>
                  <a:pt x="685" y="895"/>
                  <a:pt x="685" y="895"/>
                  <a:pt x="685" y="895"/>
                </a:cubicBezTo>
                <a:cubicBezTo>
                  <a:pt x="685" y="893"/>
                  <a:pt x="685" y="893"/>
                  <a:pt x="685" y="893"/>
                </a:cubicBezTo>
                <a:cubicBezTo>
                  <a:pt x="686" y="892"/>
                  <a:pt x="686" y="892"/>
                  <a:pt x="686" y="892"/>
                </a:cubicBezTo>
                <a:cubicBezTo>
                  <a:pt x="686" y="891"/>
                  <a:pt x="686" y="891"/>
                  <a:pt x="686" y="891"/>
                </a:cubicBezTo>
                <a:cubicBezTo>
                  <a:pt x="692" y="883"/>
                  <a:pt x="692" y="883"/>
                  <a:pt x="692" y="883"/>
                </a:cubicBezTo>
                <a:cubicBezTo>
                  <a:pt x="695" y="881"/>
                  <a:pt x="695" y="881"/>
                  <a:pt x="695" y="881"/>
                </a:cubicBezTo>
                <a:cubicBezTo>
                  <a:pt x="695" y="881"/>
                  <a:pt x="695" y="881"/>
                  <a:pt x="695" y="881"/>
                </a:cubicBezTo>
                <a:cubicBezTo>
                  <a:pt x="696" y="880"/>
                  <a:pt x="696" y="880"/>
                  <a:pt x="696" y="880"/>
                </a:cubicBezTo>
                <a:cubicBezTo>
                  <a:pt x="707" y="864"/>
                  <a:pt x="707" y="864"/>
                  <a:pt x="707" y="864"/>
                </a:cubicBezTo>
                <a:cubicBezTo>
                  <a:pt x="708" y="863"/>
                  <a:pt x="708" y="863"/>
                  <a:pt x="708" y="863"/>
                </a:cubicBezTo>
                <a:cubicBezTo>
                  <a:pt x="727" y="848"/>
                  <a:pt x="727" y="848"/>
                  <a:pt x="727" y="848"/>
                </a:cubicBezTo>
                <a:cubicBezTo>
                  <a:pt x="728" y="848"/>
                  <a:pt x="728" y="848"/>
                  <a:pt x="728" y="848"/>
                </a:cubicBezTo>
                <a:cubicBezTo>
                  <a:pt x="728" y="847"/>
                  <a:pt x="728" y="847"/>
                  <a:pt x="728" y="847"/>
                </a:cubicBezTo>
                <a:cubicBezTo>
                  <a:pt x="729" y="847"/>
                  <a:pt x="729" y="847"/>
                  <a:pt x="729" y="847"/>
                </a:cubicBezTo>
                <a:cubicBezTo>
                  <a:pt x="729" y="847"/>
                  <a:pt x="729" y="847"/>
                  <a:pt x="729" y="847"/>
                </a:cubicBezTo>
                <a:cubicBezTo>
                  <a:pt x="753" y="844"/>
                  <a:pt x="753" y="844"/>
                  <a:pt x="753" y="844"/>
                </a:cubicBezTo>
                <a:cubicBezTo>
                  <a:pt x="753" y="850"/>
                  <a:pt x="753" y="850"/>
                  <a:pt x="753" y="850"/>
                </a:cubicBezTo>
                <a:cubicBezTo>
                  <a:pt x="753" y="858"/>
                  <a:pt x="754" y="863"/>
                  <a:pt x="755" y="866"/>
                </a:cubicBezTo>
                <a:cubicBezTo>
                  <a:pt x="759" y="876"/>
                  <a:pt x="759" y="876"/>
                  <a:pt x="759" y="876"/>
                </a:cubicBezTo>
                <a:cubicBezTo>
                  <a:pt x="765" y="889"/>
                  <a:pt x="765" y="889"/>
                  <a:pt x="765" y="889"/>
                </a:cubicBezTo>
                <a:cubicBezTo>
                  <a:pt x="786" y="901"/>
                  <a:pt x="786" y="901"/>
                  <a:pt x="786" y="901"/>
                </a:cubicBezTo>
                <a:cubicBezTo>
                  <a:pt x="844" y="906"/>
                  <a:pt x="844" y="906"/>
                  <a:pt x="844" y="906"/>
                </a:cubicBezTo>
                <a:cubicBezTo>
                  <a:pt x="847" y="906"/>
                  <a:pt x="847" y="906"/>
                  <a:pt x="847" y="906"/>
                </a:cubicBezTo>
                <a:cubicBezTo>
                  <a:pt x="850" y="906"/>
                  <a:pt x="850" y="906"/>
                  <a:pt x="850" y="906"/>
                </a:cubicBezTo>
                <a:cubicBezTo>
                  <a:pt x="850" y="910"/>
                  <a:pt x="850" y="910"/>
                  <a:pt x="850" y="910"/>
                </a:cubicBezTo>
                <a:cubicBezTo>
                  <a:pt x="850" y="912"/>
                  <a:pt x="850" y="912"/>
                  <a:pt x="850" y="912"/>
                </a:cubicBezTo>
                <a:cubicBezTo>
                  <a:pt x="848" y="931"/>
                  <a:pt x="848" y="931"/>
                  <a:pt x="848" y="931"/>
                </a:cubicBezTo>
                <a:cubicBezTo>
                  <a:pt x="865" y="949"/>
                  <a:pt x="865" y="949"/>
                  <a:pt x="865" y="949"/>
                </a:cubicBezTo>
                <a:cubicBezTo>
                  <a:pt x="877" y="954"/>
                  <a:pt x="877" y="954"/>
                  <a:pt x="877" y="954"/>
                </a:cubicBezTo>
                <a:cubicBezTo>
                  <a:pt x="879" y="955"/>
                  <a:pt x="879" y="955"/>
                  <a:pt x="879" y="955"/>
                </a:cubicBezTo>
                <a:cubicBezTo>
                  <a:pt x="879" y="956"/>
                  <a:pt x="879" y="956"/>
                  <a:pt x="879" y="956"/>
                </a:cubicBezTo>
                <a:cubicBezTo>
                  <a:pt x="880" y="958"/>
                  <a:pt x="880" y="958"/>
                  <a:pt x="880" y="958"/>
                </a:cubicBezTo>
                <a:cubicBezTo>
                  <a:pt x="880" y="965"/>
                  <a:pt x="880" y="965"/>
                  <a:pt x="880" y="965"/>
                </a:cubicBezTo>
                <a:cubicBezTo>
                  <a:pt x="880" y="976"/>
                  <a:pt x="880" y="976"/>
                  <a:pt x="880" y="976"/>
                </a:cubicBezTo>
                <a:cubicBezTo>
                  <a:pt x="875" y="997"/>
                  <a:pt x="875" y="997"/>
                  <a:pt x="875" y="997"/>
                </a:cubicBezTo>
                <a:cubicBezTo>
                  <a:pt x="882" y="1002"/>
                  <a:pt x="882" y="1002"/>
                  <a:pt x="882" y="1002"/>
                </a:cubicBezTo>
                <a:cubicBezTo>
                  <a:pt x="891" y="1001"/>
                  <a:pt x="898" y="1001"/>
                  <a:pt x="906" y="1007"/>
                </a:cubicBezTo>
                <a:cubicBezTo>
                  <a:pt x="930" y="1018"/>
                  <a:pt x="930" y="1018"/>
                  <a:pt x="930" y="1018"/>
                </a:cubicBezTo>
                <a:cubicBezTo>
                  <a:pt x="945" y="1007"/>
                  <a:pt x="945" y="1007"/>
                  <a:pt x="945" y="1007"/>
                </a:cubicBezTo>
                <a:cubicBezTo>
                  <a:pt x="961" y="990"/>
                  <a:pt x="961" y="990"/>
                  <a:pt x="961" y="990"/>
                </a:cubicBezTo>
                <a:cubicBezTo>
                  <a:pt x="962" y="982"/>
                  <a:pt x="962" y="982"/>
                  <a:pt x="962" y="982"/>
                </a:cubicBezTo>
                <a:cubicBezTo>
                  <a:pt x="963" y="980"/>
                  <a:pt x="963" y="980"/>
                  <a:pt x="963" y="980"/>
                </a:cubicBezTo>
                <a:cubicBezTo>
                  <a:pt x="965" y="979"/>
                  <a:pt x="965" y="979"/>
                  <a:pt x="965" y="979"/>
                </a:cubicBezTo>
                <a:cubicBezTo>
                  <a:pt x="967" y="977"/>
                  <a:pt x="967" y="977"/>
                  <a:pt x="967" y="977"/>
                </a:cubicBezTo>
                <a:cubicBezTo>
                  <a:pt x="967" y="975"/>
                  <a:pt x="967" y="975"/>
                  <a:pt x="967" y="975"/>
                </a:cubicBezTo>
                <a:cubicBezTo>
                  <a:pt x="962" y="953"/>
                  <a:pt x="962" y="953"/>
                  <a:pt x="962" y="953"/>
                </a:cubicBezTo>
                <a:cubicBezTo>
                  <a:pt x="961" y="941"/>
                  <a:pt x="961" y="941"/>
                  <a:pt x="961" y="941"/>
                </a:cubicBezTo>
                <a:cubicBezTo>
                  <a:pt x="960" y="940"/>
                  <a:pt x="960" y="940"/>
                  <a:pt x="960" y="940"/>
                </a:cubicBezTo>
                <a:cubicBezTo>
                  <a:pt x="960" y="939"/>
                  <a:pt x="960" y="939"/>
                  <a:pt x="960" y="939"/>
                </a:cubicBezTo>
                <a:cubicBezTo>
                  <a:pt x="961" y="938"/>
                  <a:pt x="961" y="938"/>
                  <a:pt x="961" y="938"/>
                </a:cubicBezTo>
                <a:cubicBezTo>
                  <a:pt x="961" y="937"/>
                  <a:pt x="961" y="937"/>
                  <a:pt x="961" y="937"/>
                </a:cubicBezTo>
                <a:cubicBezTo>
                  <a:pt x="969" y="923"/>
                  <a:pt x="969" y="923"/>
                  <a:pt x="969" y="923"/>
                </a:cubicBezTo>
                <a:cubicBezTo>
                  <a:pt x="970" y="922"/>
                  <a:pt x="970" y="922"/>
                  <a:pt x="970" y="922"/>
                </a:cubicBezTo>
                <a:cubicBezTo>
                  <a:pt x="970" y="922"/>
                  <a:pt x="970" y="922"/>
                  <a:pt x="970" y="922"/>
                </a:cubicBezTo>
                <a:cubicBezTo>
                  <a:pt x="987" y="911"/>
                  <a:pt x="987" y="911"/>
                  <a:pt x="987" y="911"/>
                </a:cubicBezTo>
                <a:cubicBezTo>
                  <a:pt x="988" y="911"/>
                  <a:pt x="988" y="911"/>
                  <a:pt x="988" y="911"/>
                </a:cubicBezTo>
                <a:cubicBezTo>
                  <a:pt x="1023" y="911"/>
                  <a:pt x="1023" y="911"/>
                  <a:pt x="1023" y="911"/>
                </a:cubicBezTo>
                <a:cubicBezTo>
                  <a:pt x="1028" y="908"/>
                  <a:pt x="1028" y="908"/>
                  <a:pt x="1028" y="908"/>
                </a:cubicBezTo>
                <a:cubicBezTo>
                  <a:pt x="1027" y="891"/>
                  <a:pt x="1027" y="891"/>
                  <a:pt x="1027" y="891"/>
                </a:cubicBezTo>
                <a:cubicBezTo>
                  <a:pt x="1022" y="875"/>
                  <a:pt x="1022" y="875"/>
                  <a:pt x="1022" y="875"/>
                </a:cubicBezTo>
                <a:cubicBezTo>
                  <a:pt x="1010" y="856"/>
                  <a:pt x="1010" y="856"/>
                  <a:pt x="1010" y="856"/>
                </a:cubicBezTo>
                <a:cubicBezTo>
                  <a:pt x="1009" y="855"/>
                  <a:pt x="1009" y="855"/>
                  <a:pt x="1009" y="855"/>
                </a:cubicBezTo>
                <a:cubicBezTo>
                  <a:pt x="1009" y="854"/>
                  <a:pt x="1009" y="854"/>
                  <a:pt x="1009" y="854"/>
                </a:cubicBezTo>
                <a:cubicBezTo>
                  <a:pt x="1009" y="827"/>
                  <a:pt x="1009" y="827"/>
                  <a:pt x="1009" y="827"/>
                </a:cubicBezTo>
                <a:cubicBezTo>
                  <a:pt x="1009" y="826"/>
                  <a:pt x="1009" y="826"/>
                  <a:pt x="1009" y="826"/>
                </a:cubicBezTo>
                <a:cubicBezTo>
                  <a:pt x="1009" y="826"/>
                  <a:pt x="1009" y="826"/>
                  <a:pt x="1009" y="826"/>
                </a:cubicBezTo>
                <a:cubicBezTo>
                  <a:pt x="1015" y="810"/>
                  <a:pt x="1015" y="810"/>
                  <a:pt x="1015" y="810"/>
                </a:cubicBezTo>
                <a:cubicBezTo>
                  <a:pt x="1015" y="810"/>
                  <a:pt x="1015" y="810"/>
                  <a:pt x="1015" y="810"/>
                </a:cubicBezTo>
                <a:cubicBezTo>
                  <a:pt x="1017" y="809"/>
                  <a:pt x="1017" y="809"/>
                  <a:pt x="1017" y="809"/>
                </a:cubicBezTo>
                <a:cubicBezTo>
                  <a:pt x="1017" y="809"/>
                  <a:pt x="1017" y="809"/>
                  <a:pt x="1017" y="809"/>
                </a:cubicBezTo>
                <a:cubicBezTo>
                  <a:pt x="1045" y="768"/>
                  <a:pt x="1045" y="768"/>
                  <a:pt x="1045" y="768"/>
                </a:cubicBezTo>
                <a:cubicBezTo>
                  <a:pt x="1046" y="767"/>
                  <a:pt x="1046" y="767"/>
                  <a:pt x="1046" y="767"/>
                </a:cubicBezTo>
                <a:cubicBezTo>
                  <a:pt x="1047" y="767"/>
                  <a:pt x="1047" y="767"/>
                  <a:pt x="1047" y="767"/>
                </a:cubicBezTo>
                <a:cubicBezTo>
                  <a:pt x="1049" y="766"/>
                  <a:pt x="1049" y="766"/>
                  <a:pt x="1049" y="766"/>
                </a:cubicBezTo>
                <a:cubicBezTo>
                  <a:pt x="1056" y="766"/>
                  <a:pt x="1056" y="766"/>
                  <a:pt x="1056" y="766"/>
                </a:cubicBezTo>
                <a:cubicBezTo>
                  <a:pt x="1066" y="767"/>
                  <a:pt x="1066" y="767"/>
                  <a:pt x="1066" y="767"/>
                </a:cubicBezTo>
                <a:cubicBezTo>
                  <a:pt x="1090" y="781"/>
                  <a:pt x="1090" y="781"/>
                  <a:pt x="1090" y="781"/>
                </a:cubicBezTo>
                <a:cubicBezTo>
                  <a:pt x="1106" y="785"/>
                  <a:pt x="1106" y="785"/>
                  <a:pt x="1106" y="785"/>
                </a:cubicBezTo>
                <a:cubicBezTo>
                  <a:pt x="1108" y="778"/>
                  <a:pt x="1108" y="778"/>
                  <a:pt x="1108" y="778"/>
                </a:cubicBezTo>
                <a:cubicBezTo>
                  <a:pt x="1105" y="776"/>
                  <a:pt x="1105" y="776"/>
                  <a:pt x="1105" y="776"/>
                </a:cubicBezTo>
                <a:cubicBezTo>
                  <a:pt x="1105" y="772"/>
                  <a:pt x="1105" y="772"/>
                  <a:pt x="1105" y="772"/>
                </a:cubicBezTo>
                <a:cubicBezTo>
                  <a:pt x="1105" y="766"/>
                  <a:pt x="1108" y="761"/>
                  <a:pt x="1115" y="755"/>
                </a:cubicBezTo>
                <a:cubicBezTo>
                  <a:pt x="1134" y="742"/>
                  <a:pt x="1134" y="742"/>
                  <a:pt x="1134" y="742"/>
                </a:cubicBezTo>
                <a:cubicBezTo>
                  <a:pt x="1135" y="741"/>
                  <a:pt x="1135" y="741"/>
                  <a:pt x="1135" y="741"/>
                </a:cubicBezTo>
                <a:cubicBezTo>
                  <a:pt x="1135" y="741"/>
                  <a:pt x="1135" y="741"/>
                  <a:pt x="1135" y="741"/>
                </a:cubicBezTo>
                <a:cubicBezTo>
                  <a:pt x="1135" y="740"/>
                  <a:pt x="1135" y="740"/>
                  <a:pt x="1135" y="740"/>
                </a:cubicBezTo>
                <a:cubicBezTo>
                  <a:pt x="1145" y="736"/>
                  <a:pt x="1152" y="734"/>
                  <a:pt x="1156" y="734"/>
                </a:cubicBezTo>
                <a:cubicBezTo>
                  <a:pt x="1173" y="732"/>
                  <a:pt x="1173" y="732"/>
                  <a:pt x="1173" y="732"/>
                </a:cubicBezTo>
                <a:cubicBezTo>
                  <a:pt x="1175" y="732"/>
                  <a:pt x="1175" y="732"/>
                  <a:pt x="1175" y="732"/>
                </a:cubicBezTo>
                <a:cubicBezTo>
                  <a:pt x="1175" y="732"/>
                  <a:pt x="1175" y="732"/>
                  <a:pt x="1175" y="732"/>
                </a:cubicBezTo>
                <a:cubicBezTo>
                  <a:pt x="1185" y="734"/>
                  <a:pt x="1185" y="734"/>
                  <a:pt x="1185" y="734"/>
                </a:cubicBezTo>
                <a:cubicBezTo>
                  <a:pt x="1193" y="708"/>
                  <a:pt x="1193" y="708"/>
                  <a:pt x="1193" y="708"/>
                </a:cubicBezTo>
                <a:cubicBezTo>
                  <a:pt x="1193" y="690"/>
                  <a:pt x="1193" y="690"/>
                  <a:pt x="1193" y="690"/>
                </a:cubicBezTo>
                <a:cubicBezTo>
                  <a:pt x="1193" y="678"/>
                  <a:pt x="1193" y="671"/>
                  <a:pt x="1196" y="669"/>
                </a:cubicBezTo>
                <a:cubicBezTo>
                  <a:pt x="1203" y="655"/>
                  <a:pt x="1203" y="655"/>
                  <a:pt x="1203" y="655"/>
                </a:cubicBezTo>
                <a:cubicBezTo>
                  <a:pt x="1194" y="643"/>
                  <a:pt x="1194" y="643"/>
                  <a:pt x="1194" y="643"/>
                </a:cubicBezTo>
                <a:cubicBezTo>
                  <a:pt x="1181" y="634"/>
                  <a:pt x="1181" y="634"/>
                  <a:pt x="1181" y="634"/>
                </a:cubicBezTo>
                <a:cubicBezTo>
                  <a:pt x="1155" y="627"/>
                  <a:pt x="1155" y="627"/>
                  <a:pt x="1155" y="627"/>
                </a:cubicBezTo>
                <a:cubicBezTo>
                  <a:pt x="1149" y="627"/>
                  <a:pt x="1140" y="621"/>
                  <a:pt x="1124" y="608"/>
                </a:cubicBezTo>
                <a:cubicBezTo>
                  <a:pt x="1108" y="600"/>
                  <a:pt x="1108" y="600"/>
                  <a:pt x="1108" y="600"/>
                </a:cubicBezTo>
                <a:cubicBezTo>
                  <a:pt x="1107" y="600"/>
                  <a:pt x="1107" y="600"/>
                  <a:pt x="1107" y="600"/>
                </a:cubicBezTo>
                <a:cubicBezTo>
                  <a:pt x="1106" y="599"/>
                  <a:pt x="1106" y="599"/>
                  <a:pt x="1106" y="599"/>
                </a:cubicBezTo>
                <a:cubicBezTo>
                  <a:pt x="1087" y="576"/>
                  <a:pt x="1087" y="576"/>
                  <a:pt x="1087" y="576"/>
                </a:cubicBezTo>
                <a:cubicBezTo>
                  <a:pt x="1069" y="576"/>
                  <a:pt x="1069" y="576"/>
                  <a:pt x="1069" y="576"/>
                </a:cubicBezTo>
                <a:cubicBezTo>
                  <a:pt x="1068" y="575"/>
                  <a:pt x="1068" y="575"/>
                  <a:pt x="1068" y="575"/>
                </a:cubicBezTo>
                <a:cubicBezTo>
                  <a:pt x="1067" y="575"/>
                  <a:pt x="1067" y="575"/>
                  <a:pt x="1067" y="575"/>
                </a:cubicBezTo>
                <a:cubicBezTo>
                  <a:pt x="1051" y="567"/>
                  <a:pt x="1051" y="567"/>
                  <a:pt x="1051" y="567"/>
                </a:cubicBezTo>
                <a:cubicBezTo>
                  <a:pt x="1042" y="579"/>
                  <a:pt x="1042" y="579"/>
                  <a:pt x="1042" y="579"/>
                </a:cubicBezTo>
                <a:cubicBezTo>
                  <a:pt x="1040" y="629"/>
                  <a:pt x="1040" y="629"/>
                  <a:pt x="1040" y="629"/>
                </a:cubicBezTo>
                <a:cubicBezTo>
                  <a:pt x="1043" y="648"/>
                  <a:pt x="1043" y="648"/>
                  <a:pt x="1043" y="648"/>
                </a:cubicBezTo>
                <a:cubicBezTo>
                  <a:pt x="1050" y="648"/>
                  <a:pt x="1050" y="648"/>
                  <a:pt x="1050" y="648"/>
                </a:cubicBezTo>
                <a:cubicBezTo>
                  <a:pt x="1051" y="649"/>
                  <a:pt x="1051" y="649"/>
                  <a:pt x="1051" y="649"/>
                </a:cubicBezTo>
                <a:cubicBezTo>
                  <a:pt x="1066" y="653"/>
                  <a:pt x="1066" y="653"/>
                  <a:pt x="1066" y="653"/>
                </a:cubicBezTo>
                <a:cubicBezTo>
                  <a:pt x="1066" y="654"/>
                  <a:pt x="1066" y="654"/>
                  <a:pt x="1066" y="654"/>
                </a:cubicBezTo>
                <a:cubicBezTo>
                  <a:pt x="1066" y="655"/>
                  <a:pt x="1066" y="655"/>
                  <a:pt x="1066" y="655"/>
                </a:cubicBezTo>
                <a:cubicBezTo>
                  <a:pt x="1073" y="673"/>
                  <a:pt x="1073" y="673"/>
                  <a:pt x="1073" y="673"/>
                </a:cubicBezTo>
                <a:cubicBezTo>
                  <a:pt x="1075" y="673"/>
                  <a:pt x="1075" y="673"/>
                  <a:pt x="1075" y="673"/>
                </a:cubicBezTo>
                <a:cubicBezTo>
                  <a:pt x="1075" y="674"/>
                  <a:pt x="1075" y="674"/>
                  <a:pt x="1075" y="674"/>
                </a:cubicBezTo>
                <a:cubicBezTo>
                  <a:pt x="1075" y="674"/>
                  <a:pt x="1075" y="674"/>
                  <a:pt x="1075" y="674"/>
                </a:cubicBezTo>
                <a:cubicBezTo>
                  <a:pt x="1075" y="675"/>
                  <a:pt x="1075" y="675"/>
                  <a:pt x="1075" y="675"/>
                </a:cubicBezTo>
                <a:cubicBezTo>
                  <a:pt x="1070" y="708"/>
                  <a:pt x="1070" y="708"/>
                  <a:pt x="1070" y="708"/>
                </a:cubicBezTo>
                <a:cubicBezTo>
                  <a:pt x="1070" y="710"/>
                  <a:pt x="1070" y="710"/>
                  <a:pt x="1070" y="710"/>
                </a:cubicBezTo>
                <a:cubicBezTo>
                  <a:pt x="1070" y="711"/>
                  <a:pt x="1070" y="711"/>
                  <a:pt x="1070" y="711"/>
                </a:cubicBezTo>
                <a:cubicBezTo>
                  <a:pt x="1069" y="712"/>
                  <a:pt x="1069" y="712"/>
                  <a:pt x="1069" y="712"/>
                </a:cubicBezTo>
                <a:cubicBezTo>
                  <a:pt x="1064" y="715"/>
                  <a:pt x="1060" y="717"/>
                  <a:pt x="1055" y="721"/>
                </a:cubicBezTo>
                <a:cubicBezTo>
                  <a:pt x="1052" y="722"/>
                  <a:pt x="1052" y="722"/>
                  <a:pt x="1052" y="722"/>
                </a:cubicBezTo>
                <a:cubicBezTo>
                  <a:pt x="1051" y="721"/>
                  <a:pt x="1051" y="721"/>
                  <a:pt x="1051" y="721"/>
                </a:cubicBezTo>
                <a:cubicBezTo>
                  <a:pt x="1050" y="721"/>
                  <a:pt x="1050" y="721"/>
                  <a:pt x="1050" y="721"/>
                </a:cubicBezTo>
                <a:cubicBezTo>
                  <a:pt x="1043" y="719"/>
                  <a:pt x="1043" y="719"/>
                  <a:pt x="1043" y="719"/>
                </a:cubicBezTo>
                <a:cubicBezTo>
                  <a:pt x="1026" y="725"/>
                  <a:pt x="1026" y="725"/>
                  <a:pt x="1026" y="725"/>
                </a:cubicBezTo>
                <a:cubicBezTo>
                  <a:pt x="1025" y="725"/>
                  <a:pt x="1025" y="725"/>
                  <a:pt x="1025" y="725"/>
                </a:cubicBezTo>
                <a:cubicBezTo>
                  <a:pt x="1026" y="728"/>
                  <a:pt x="1026" y="728"/>
                  <a:pt x="1026" y="728"/>
                </a:cubicBezTo>
                <a:cubicBezTo>
                  <a:pt x="1027" y="729"/>
                  <a:pt x="1027" y="729"/>
                  <a:pt x="1027" y="729"/>
                </a:cubicBezTo>
                <a:cubicBezTo>
                  <a:pt x="1030" y="758"/>
                  <a:pt x="1030" y="758"/>
                  <a:pt x="1030" y="758"/>
                </a:cubicBezTo>
                <a:cubicBezTo>
                  <a:pt x="1030" y="762"/>
                  <a:pt x="1028" y="764"/>
                  <a:pt x="1024" y="765"/>
                </a:cubicBezTo>
                <a:cubicBezTo>
                  <a:pt x="1011" y="765"/>
                  <a:pt x="1011" y="765"/>
                  <a:pt x="1011" y="765"/>
                </a:cubicBezTo>
                <a:cubicBezTo>
                  <a:pt x="1005" y="764"/>
                  <a:pt x="1002" y="762"/>
                  <a:pt x="999" y="759"/>
                </a:cubicBezTo>
                <a:cubicBezTo>
                  <a:pt x="986" y="749"/>
                  <a:pt x="986" y="749"/>
                  <a:pt x="986" y="749"/>
                </a:cubicBezTo>
                <a:cubicBezTo>
                  <a:pt x="985" y="748"/>
                  <a:pt x="985" y="748"/>
                  <a:pt x="985" y="748"/>
                </a:cubicBezTo>
                <a:cubicBezTo>
                  <a:pt x="984" y="748"/>
                  <a:pt x="984" y="748"/>
                  <a:pt x="984" y="748"/>
                </a:cubicBezTo>
                <a:cubicBezTo>
                  <a:pt x="984" y="747"/>
                  <a:pt x="984" y="747"/>
                  <a:pt x="984" y="747"/>
                </a:cubicBezTo>
                <a:cubicBezTo>
                  <a:pt x="976" y="729"/>
                  <a:pt x="976" y="729"/>
                  <a:pt x="976" y="729"/>
                </a:cubicBezTo>
                <a:cubicBezTo>
                  <a:pt x="974" y="727"/>
                  <a:pt x="969" y="724"/>
                  <a:pt x="958" y="721"/>
                </a:cubicBezTo>
                <a:cubicBezTo>
                  <a:pt x="957" y="721"/>
                  <a:pt x="957" y="721"/>
                  <a:pt x="957" y="721"/>
                </a:cubicBezTo>
                <a:cubicBezTo>
                  <a:pt x="956" y="721"/>
                  <a:pt x="956" y="721"/>
                  <a:pt x="956" y="721"/>
                </a:cubicBezTo>
                <a:cubicBezTo>
                  <a:pt x="942" y="710"/>
                  <a:pt x="942" y="710"/>
                  <a:pt x="942" y="710"/>
                </a:cubicBezTo>
                <a:cubicBezTo>
                  <a:pt x="939" y="710"/>
                  <a:pt x="939" y="710"/>
                  <a:pt x="939" y="710"/>
                </a:cubicBezTo>
                <a:cubicBezTo>
                  <a:pt x="939" y="708"/>
                  <a:pt x="939" y="708"/>
                  <a:pt x="939" y="708"/>
                </a:cubicBezTo>
                <a:cubicBezTo>
                  <a:pt x="939" y="708"/>
                  <a:pt x="939" y="708"/>
                  <a:pt x="939" y="708"/>
                </a:cubicBezTo>
                <a:cubicBezTo>
                  <a:pt x="935" y="690"/>
                  <a:pt x="935" y="690"/>
                  <a:pt x="935" y="690"/>
                </a:cubicBezTo>
                <a:cubicBezTo>
                  <a:pt x="937" y="676"/>
                  <a:pt x="937" y="676"/>
                  <a:pt x="937" y="676"/>
                </a:cubicBezTo>
                <a:cubicBezTo>
                  <a:pt x="938" y="676"/>
                  <a:pt x="938" y="676"/>
                  <a:pt x="938" y="676"/>
                </a:cubicBezTo>
                <a:cubicBezTo>
                  <a:pt x="938" y="675"/>
                  <a:pt x="938" y="675"/>
                  <a:pt x="938" y="675"/>
                </a:cubicBezTo>
                <a:cubicBezTo>
                  <a:pt x="938" y="675"/>
                  <a:pt x="938" y="675"/>
                  <a:pt x="938" y="675"/>
                </a:cubicBezTo>
                <a:cubicBezTo>
                  <a:pt x="945" y="668"/>
                  <a:pt x="945" y="668"/>
                  <a:pt x="945" y="668"/>
                </a:cubicBezTo>
                <a:cubicBezTo>
                  <a:pt x="945" y="663"/>
                  <a:pt x="945" y="663"/>
                  <a:pt x="945" y="663"/>
                </a:cubicBezTo>
                <a:cubicBezTo>
                  <a:pt x="938" y="644"/>
                  <a:pt x="938" y="644"/>
                  <a:pt x="938" y="644"/>
                </a:cubicBezTo>
                <a:cubicBezTo>
                  <a:pt x="924" y="630"/>
                  <a:pt x="924" y="630"/>
                  <a:pt x="924" y="630"/>
                </a:cubicBezTo>
                <a:cubicBezTo>
                  <a:pt x="924" y="628"/>
                  <a:pt x="924" y="628"/>
                  <a:pt x="924" y="628"/>
                </a:cubicBezTo>
                <a:cubicBezTo>
                  <a:pt x="919" y="584"/>
                  <a:pt x="919" y="584"/>
                  <a:pt x="919" y="584"/>
                </a:cubicBezTo>
                <a:cubicBezTo>
                  <a:pt x="909" y="574"/>
                  <a:pt x="909" y="574"/>
                  <a:pt x="909" y="574"/>
                </a:cubicBezTo>
                <a:cubicBezTo>
                  <a:pt x="908" y="574"/>
                  <a:pt x="908" y="574"/>
                  <a:pt x="908" y="574"/>
                </a:cubicBezTo>
                <a:cubicBezTo>
                  <a:pt x="907" y="573"/>
                  <a:pt x="907" y="573"/>
                  <a:pt x="907" y="573"/>
                </a:cubicBezTo>
                <a:cubicBezTo>
                  <a:pt x="907" y="573"/>
                  <a:pt x="907" y="573"/>
                  <a:pt x="907" y="573"/>
                </a:cubicBezTo>
                <a:cubicBezTo>
                  <a:pt x="898" y="553"/>
                  <a:pt x="898" y="553"/>
                  <a:pt x="898" y="553"/>
                </a:cubicBezTo>
                <a:cubicBezTo>
                  <a:pt x="860" y="549"/>
                  <a:pt x="860" y="549"/>
                  <a:pt x="860" y="549"/>
                </a:cubicBezTo>
                <a:cubicBezTo>
                  <a:pt x="851" y="545"/>
                  <a:pt x="844" y="539"/>
                  <a:pt x="840" y="531"/>
                </a:cubicBezTo>
                <a:cubicBezTo>
                  <a:pt x="823" y="531"/>
                  <a:pt x="823" y="531"/>
                  <a:pt x="823" y="531"/>
                </a:cubicBezTo>
                <a:cubicBezTo>
                  <a:pt x="817" y="529"/>
                  <a:pt x="811" y="524"/>
                  <a:pt x="803" y="517"/>
                </a:cubicBezTo>
                <a:cubicBezTo>
                  <a:pt x="801" y="515"/>
                  <a:pt x="801" y="515"/>
                  <a:pt x="801" y="515"/>
                </a:cubicBezTo>
                <a:cubicBezTo>
                  <a:pt x="797" y="511"/>
                  <a:pt x="793" y="504"/>
                  <a:pt x="789" y="496"/>
                </a:cubicBezTo>
                <a:cubicBezTo>
                  <a:pt x="789" y="496"/>
                  <a:pt x="789" y="496"/>
                  <a:pt x="789" y="496"/>
                </a:cubicBezTo>
                <a:cubicBezTo>
                  <a:pt x="787" y="495"/>
                  <a:pt x="787" y="495"/>
                  <a:pt x="787" y="495"/>
                </a:cubicBezTo>
                <a:cubicBezTo>
                  <a:pt x="784" y="478"/>
                  <a:pt x="784" y="478"/>
                  <a:pt x="784" y="478"/>
                </a:cubicBezTo>
                <a:cubicBezTo>
                  <a:pt x="784" y="478"/>
                  <a:pt x="784" y="478"/>
                  <a:pt x="784" y="478"/>
                </a:cubicBezTo>
                <a:cubicBezTo>
                  <a:pt x="784" y="477"/>
                  <a:pt x="784" y="477"/>
                  <a:pt x="784" y="477"/>
                </a:cubicBezTo>
                <a:cubicBezTo>
                  <a:pt x="784" y="476"/>
                  <a:pt x="784" y="476"/>
                  <a:pt x="784" y="476"/>
                </a:cubicBezTo>
                <a:cubicBezTo>
                  <a:pt x="784" y="476"/>
                  <a:pt x="784" y="476"/>
                  <a:pt x="784" y="476"/>
                </a:cubicBezTo>
                <a:cubicBezTo>
                  <a:pt x="791" y="443"/>
                  <a:pt x="791" y="443"/>
                  <a:pt x="791" y="443"/>
                </a:cubicBezTo>
                <a:cubicBezTo>
                  <a:pt x="791" y="442"/>
                  <a:pt x="791" y="442"/>
                  <a:pt x="791" y="442"/>
                </a:cubicBezTo>
                <a:cubicBezTo>
                  <a:pt x="797" y="428"/>
                  <a:pt x="797" y="428"/>
                  <a:pt x="797" y="428"/>
                </a:cubicBezTo>
                <a:cubicBezTo>
                  <a:pt x="797" y="427"/>
                  <a:pt x="797" y="427"/>
                  <a:pt x="797" y="427"/>
                </a:cubicBezTo>
                <a:cubicBezTo>
                  <a:pt x="797" y="426"/>
                  <a:pt x="797" y="426"/>
                  <a:pt x="797" y="426"/>
                </a:cubicBezTo>
                <a:cubicBezTo>
                  <a:pt x="798" y="426"/>
                  <a:pt x="798" y="426"/>
                  <a:pt x="798" y="426"/>
                </a:cubicBezTo>
                <a:cubicBezTo>
                  <a:pt x="838" y="409"/>
                  <a:pt x="838" y="409"/>
                  <a:pt x="838" y="409"/>
                </a:cubicBezTo>
                <a:cubicBezTo>
                  <a:pt x="854" y="390"/>
                  <a:pt x="854" y="390"/>
                  <a:pt x="854" y="390"/>
                </a:cubicBezTo>
                <a:cubicBezTo>
                  <a:pt x="857" y="374"/>
                  <a:pt x="857" y="374"/>
                  <a:pt x="857" y="374"/>
                </a:cubicBezTo>
                <a:cubicBezTo>
                  <a:pt x="855" y="363"/>
                  <a:pt x="855" y="363"/>
                  <a:pt x="855" y="363"/>
                </a:cubicBezTo>
                <a:cubicBezTo>
                  <a:pt x="849" y="349"/>
                  <a:pt x="844" y="341"/>
                  <a:pt x="844" y="335"/>
                </a:cubicBezTo>
                <a:cubicBezTo>
                  <a:pt x="836" y="336"/>
                  <a:pt x="836" y="336"/>
                  <a:pt x="836" y="336"/>
                </a:cubicBezTo>
                <a:cubicBezTo>
                  <a:pt x="821" y="335"/>
                  <a:pt x="821" y="335"/>
                  <a:pt x="821" y="335"/>
                </a:cubicBezTo>
                <a:cubicBezTo>
                  <a:pt x="818" y="336"/>
                  <a:pt x="810" y="346"/>
                  <a:pt x="798" y="360"/>
                </a:cubicBezTo>
                <a:cubicBezTo>
                  <a:pt x="780" y="377"/>
                  <a:pt x="780" y="377"/>
                  <a:pt x="780" y="377"/>
                </a:cubicBezTo>
                <a:cubicBezTo>
                  <a:pt x="779" y="377"/>
                  <a:pt x="779" y="377"/>
                  <a:pt x="779" y="377"/>
                </a:cubicBezTo>
                <a:cubicBezTo>
                  <a:pt x="778" y="378"/>
                  <a:pt x="778" y="378"/>
                  <a:pt x="778" y="378"/>
                </a:cubicBezTo>
                <a:cubicBezTo>
                  <a:pt x="764" y="381"/>
                  <a:pt x="755" y="383"/>
                  <a:pt x="749" y="381"/>
                </a:cubicBezTo>
                <a:lnTo>
                  <a:pt x="715" y="368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2646360" y="2592360"/>
            <a:ext cx="230040" cy="370080"/>
          </a:xfrm>
          <a:custGeom>
            <a:avLst/>
            <a:gdLst/>
            <a:ahLst/>
            <a:rect l="l" t="t" r="r" b="b"/>
            <a:pathLst>
              <a:path w="242" h="402">
                <a:moveTo>
                  <a:pt x="141" y="25"/>
                </a:moveTo>
                <a:cubicBezTo>
                  <a:pt x="122" y="77"/>
                  <a:pt x="122" y="77"/>
                  <a:pt x="122" y="77"/>
                </a:cubicBezTo>
                <a:cubicBezTo>
                  <a:pt x="122" y="112"/>
                  <a:pt x="122" y="112"/>
                  <a:pt x="122" y="112"/>
                </a:cubicBezTo>
                <a:cubicBezTo>
                  <a:pt x="122" y="113"/>
                  <a:pt x="122" y="113"/>
                  <a:pt x="122" y="113"/>
                </a:cubicBezTo>
                <a:cubicBezTo>
                  <a:pt x="112" y="131"/>
                  <a:pt x="112" y="131"/>
                  <a:pt x="112" y="131"/>
                </a:cubicBezTo>
                <a:cubicBezTo>
                  <a:pt x="110" y="144"/>
                  <a:pt x="110" y="144"/>
                  <a:pt x="110" y="144"/>
                </a:cubicBezTo>
                <a:cubicBezTo>
                  <a:pt x="112" y="151"/>
                  <a:pt x="109" y="158"/>
                  <a:pt x="101" y="162"/>
                </a:cubicBezTo>
                <a:cubicBezTo>
                  <a:pt x="99" y="163"/>
                  <a:pt x="99" y="163"/>
                  <a:pt x="99" y="163"/>
                </a:cubicBezTo>
                <a:cubicBezTo>
                  <a:pt x="98" y="163"/>
                  <a:pt x="98" y="163"/>
                  <a:pt x="98" y="163"/>
                </a:cubicBezTo>
                <a:cubicBezTo>
                  <a:pt x="97" y="162"/>
                  <a:pt x="97" y="162"/>
                  <a:pt x="97" y="162"/>
                </a:cubicBezTo>
                <a:cubicBezTo>
                  <a:pt x="71" y="159"/>
                  <a:pt x="71" y="159"/>
                  <a:pt x="71" y="159"/>
                </a:cubicBezTo>
                <a:cubicBezTo>
                  <a:pt x="57" y="171"/>
                  <a:pt x="57" y="171"/>
                  <a:pt x="57" y="171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0" y="178"/>
                  <a:pt x="0" y="178"/>
                  <a:pt x="0" y="178"/>
                </a:cubicBezTo>
                <a:cubicBezTo>
                  <a:pt x="11" y="185"/>
                  <a:pt x="11" y="185"/>
                  <a:pt x="11" y="185"/>
                </a:cubicBezTo>
                <a:cubicBezTo>
                  <a:pt x="49" y="189"/>
                  <a:pt x="49" y="189"/>
                  <a:pt x="49" y="189"/>
                </a:cubicBezTo>
                <a:cubicBezTo>
                  <a:pt x="51" y="189"/>
                  <a:pt x="51" y="189"/>
                  <a:pt x="51" y="189"/>
                </a:cubicBezTo>
                <a:cubicBezTo>
                  <a:pt x="53" y="189"/>
                  <a:pt x="53" y="189"/>
                  <a:pt x="53" y="189"/>
                </a:cubicBezTo>
                <a:cubicBezTo>
                  <a:pt x="54" y="190"/>
                  <a:pt x="54" y="190"/>
                  <a:pt x="54" y="190"/>
                </a:cubicBezTo>
                <a:cubicBezTo>
                  <a:pt x="54" y="191"/>
                  <a:pt x="54" y="191"/>
                  <a:pt x="54" y="191"/>
                </a:cubicBezTo>
                <a:cubicBezTo>
                  <a:pt x="63" y="215"/>
                  <a:pt x="63" y="215"/>
                  <a:pt x="63" y="215"/>
                </a:cubicBezTo>
                <a:cubicBezTo>
                  <a:pt x="74" y="222"/>
                  <a:pt x="74" y="222"/>
                  <a:pt x="74" y="222"/>
                </a:cubicBezTo>
                <a:cubicBezTo>
                  <a:pt x="77" y="226"/>
                  <a:pt x="79" y="233"/>
                  <a:pt x="79" y="244"/>
                </a:cubicBezTo>
                <a:cubicBezTo>
                  <a:pt x="80" y="273"/>
                  <a:pt x="80" y="273"/>
                  <a:pt x="80" y="273"/>
                </a:cubicBezTo>
                <a:cubicBezTo>
                  <a:pt x="93" y="284"/>
                  <a:pt x="93" y="284"/>
                  <a:pt x="93" y="284"/>
                </a:cubicBezTo>
                <a:cubicBezTo>
                  <a:pt x="94" y="284"/>
                  <a:pt x="94" y="284"/>
                  <a:pt x="94" y="284"/>
                </a:cubicBezTo>
                <a:cubicBezTo>
                  <a:pt x="94" y="285"/>
                  <a:pt x="94" y="285"/>
                  <a:pt x="94" y="285"/>
                </a:cubicBezTo>
                <a:cubicBezTo>
                  <a:pt x="95" y="285"/>
                  <a:pt x="95" y="285"/>
                  <a:pt x="95" y="285"/>
                </a:cubicBezTo>
                <a:cubicBezTo>
                  <a:pt x="101" y="306"/>
                  <a:pt x="101" y="306"/>
                  <a:pt x="101" y="306"/>
                </a:cubicBezTo>
                <a:cubicBezTo>
                  <a:pt x="101" y="318"/>
                  <a:pt x="101" y="318"/>
                  <a:pt x="101" y="318"/>
                </a:cubicBezTo>
                <a:cubicBezTo>
                  <a:pt x="94" y="329"/>
                  <a:pt x="94" y="329"/>
                  <a:pt x="94" y="329"/>
                </a:cubicBezTo>
                <a:cubicBezTo>
                  <a:pt x="92" y="338"/>
                  <a:pt x="92" y="338"/>
                  <a:pt x="92" y="338"/>
                </a:cubicBezTo>
                <a:cubicBezTo>
                  <a:pt x="95" y="349"/>
                  <a:pt x="95" y="349"/>
                  <a:pt x="95" y="349"/>
                </a:cubicBezTo>
                <a:cubicBezTo>
                  <a:pt x="108" y="357"/>
                  <a:pt x="108" y="357"/>
                  <a:pt x="108" y="357"/>
                </a:cubicBezTo>
                <a:cubicBezTo>
                  <a:pt x="121" y="362"/>
                  <a:pt x="129" y="366"/>
                  <a:pt x="132" y="371"/>
                </a:cubicBezTo>
                <a:cubicBezTo>
                  <a:pt x="139" y="387"/>
                  <a:pt x="139" y="387"/>
                  <a:pt x="139" y="387"/>
                </a:cubicBezTo>
                <a:cubicBezTo>
                  <a:pt x="148" y="391"/>
                  <a:pt x="152" y="395"/>
                  <a:pt x="154" y="399"/>
                </a:cubicBezTo>
                <a:cubicBezTo>
                  <a:pt x="164" y="402"/>
                  <a:pt x="164" y="402"/>
                  <a:pt x="164" y="402"/>
                </a:cubicBezTo>
                <a:cubicBezTo>
                  <a:pt x="165" y="402"/>
                  <a:pt x="165" y="402"/>
                  <a:pt x="165" y="402"/>
                </a:cubicBezTo>
                <a:cubicBezTo>
                  <a:pt x="160" y="379"/>
                  <a:pt x="160" y="379"/>
                  <a:pt x="160" y="379"/>
                </a:cubicBezTo>
                <a:cubicBezTo>
                  <a:pt x="159" y="374"/>
                  <a:pt x="159" y="369"/>
                  <a:pt x="161" y="367"/>
                </a:cubicBezTo>
                <a:cubicBezTo>
                  <a:pt x="164" y="363"/>
                  <a:pt x="166" y="361"/>
                  <a:pt x="170" y="360"/>
                </a:cubicBezTo>
                <a:cubicBezTo>
                  <a:pt x="186" y="355"/>
                  <a:pt x="186" y="355"/>
                  <a:pt x="186" y="355"/>
                </a:cubicBezTo>
                <a:cubicBezTo>
                  <a:pt x="186" y="355"/>
                  <a:pt x="186" y="355"/>
                  <a:pt x="186" y="355"/>
                </a:cubicBezTo>
                <a:cubicBezTo>
                  <a:pt x="187" y="354"/>
                  <a:pt x="187" y="354"/>
                  <a:pt x="187" y="354"/>
                </a:cubicBezTo>
                <a:cubicBezTo>
                  <a:pt x="188" y="354"/>
                  <a:pt x="188" y="354"/>
                  <a:pt x="188" y="354"/>
                </a:cubicBezTo>
                <a:cubicBezTo>
                  <a:pt x="189" y="355"/>
                  <a:pt x="189" y="355"/>
                  <a:pt x="189" y="355"/>
                </a:cubicBezTo>
                <a:cubicBezTo>
                  <a:pt x="196" y="357"/>
                  <a:pt x="196" y="357"/>
                  <a:pt x="196" y="357"/>
                </a:cubicBezTo>
                <a:cubicBezTo>
                  <a:pt x="206" y="352"/>
                  <a:pt x="206" y="352"/>
                  <a:pt x="206" y="352"/>
                </a:cubicBezTo>
                <a:cubicBezTo>
                  <a:pt x="206" y="350"/>
                  <a:pt x="206" y="350"/>
                  <a:pt x="206" y="350"/>
                </a:cubicBezTo>
                <a:cubicBezTo>
                  <a:pt x="209" y="323"/>
                  <a:pt x="209" y="323"/>
                  <a:pt x="209" y="323"/>
                </a:cubicBezTo>
                <a:cubicBezTo>
                  <a:pt x="203" y="311"/>
                  <a:pt x="203" y="311"/>
                  <a:pt x="203" y="311"/>
                </a:cubicBezTo>
                <a:cubicBezTo>
                  <a:pt x="194" y="306"/>
                  <a:pt x="194" y="306"/>
                  <a:pt x="194" y="306"/>
                </a:cubicBezTo>
                <a:cubicBezTo>
                  <a:pt x="184" y="305"/>
                  <a:pt x="184" y="305"/>
                  <a:pt x="184" y="305"/>
                </a:cubicBezTo>
                <a:cubicBezTo>
                  <a:pt x="182" y="305"/>
                  <a:pt x="182" y="305"/>
                  <a:pt x="182" y="305"/>
                </a:cubicBezTo>
                <a:cubicBezTo>
                  <a:pt x="179" y="304"/>
                  <a:pt x="179" y="304"/>
                  <a:pt x="179" y="304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178" y="221"/>
                  <a:pt x="178" y="221"/>
                  <a:pt x="178" y="221"/>
                </a:cubicBezTo>
                <a:cubicBezTo>
                  <a:pt x="194" y="199"/>
                  <a:pt x="194" y="199"/>
                  <a:pt x="194" y="199"/>
                </a:cubicBezTo>
                <a:cubicBezTo>
                  <a:pt x="217" y="211"/>
                  <a:pt x="217" y="211"/>
                  <a:pt x="217" y="211"/>
                </a:cubicBezTo>
                <a:cubicBezTo>
                  <a:pt x="231" y="211"/>
                  <a:pt x="231" y="211"/>
                  <a:pt x="231" y="211"/>
                </a:cubicBezTo>
                <a:cubicBezTo>
                  <a:pt x="242" y="143"/>
                  <a:pt x="242" y="143"/>
                  <a:pt x="242" y="143"/>
                </a:cubicBezTo>
                <a:cubicBezTo>
                  <a:pt x="238" y="135"/>
                  <a:pt x="235" y="130"/>
                  <a:pt x="229" y="127"/>
                </a:cubicBezTo>
                <a:cubicBezTo>
                  <a:pt x="223" y="126"/>
                  <a:pt x="223" y="126"/>
                  <a:pt x="223" y="126"/>
                </a:cubicBezTo>
                <a:cubicBezTo>
                  <a:pt x="223" y="127"/>
                  <a:pt x="223" y="127"/>
                  <a:pt x="223" y="127"/>
                </a:cubicBezTo>
                <a:cubicBezTo>
                  <a:pt x="219" y="127"/>
                  <a:pt x="219" y="127"/>
                  <a:pt x="219" y="127"/>
                </a:cubicBezTo>
                <a:cubicBezTo>
                  <a:pt x="203" y="130"/>
                  <a:pt x="203" y="130"/>
                  <a:pt x="203" y="130"/>
                </a:cubicBezTo>
                <a:cubicBezTo>
                  <a:pt x="202" y="128"/>
                  <a:pt x="202" y="128"/>
                  <a:pt x="202" y="128"/>
                </a:cubicBezTo>
                <a:cubicBezTo>
                  <a:pt x="201" y="127"/>
                  <a:pt x="201" y="127"/>
                  <a:pt x="201" y="127"/>
                </a:cubicBezTo>
                <a:cubicBezTo>
                  <a:pt x="189" y="112"/>
                  <a:pt x="189" y="112"/>
                  <a:pt x="189" y="112"/>
                </a:cubicBezTo>
                <a:cubicBezTo>
                  <a:pt x="189" y="111"/>
                  <a:pt x="189" y="111"/>
                  <a:pt x="189" y="111"/>
                </a:cubicBezTo>
                <a:cubicBezTo>
                  <a:pt x="188" y="110"/>
                  <a:pt x="188" y="110"/>
                  <a:pt x="188" y="110"/>
                </a:cubicBezTo>
                <a:cubicBezTo>
                  <a:pt x="188" y="84"/>
                  <a:pt x="188" y="84"/>
                  <a:pt x="188" y="84"/>
                </a:cubicBezTo>
                <a:cubicBezTo>
                  <a:pt x="192" y="69"/>
                  <a:pt x="192" y="69"/>
                  <a:pt x="192" y="69"/>
                </a:cubicBezTo>
                <a:cubicBezTo>
                  <a:pt x="196" y="63"/>
                  <a:pt x="196" y="63"/>
                  <a:pt x="196" y="63"/>
                </a:cubicBezTo>
                <a:cubicBezTo>
                  <a:pt x="196" y="58"/>
                  <a:pt x="197" y="54"/>
                  <a:pt x="202" y="49"/>
                </a:cubicBezTo>
                <a:cubicBezTo>
                  <a:pt x="206" y="44"/>
                  <a:pt x="206" y="44"/>
                  <a:pt x="206" y="44"/>
                </a:cubicBezTo>
                <a:cubicBezTo>
                  <a:pt x="207" y="26"/>
                  <a:pt x="207" y="26"/>
                  <a:pt x="207" y="26"/>
                </a:cubicBezTo>
                <a:cubicBezTo>
                  <a:pt x="191" y="11"/>
                  <a:pt x="191" y="11"/>
                  <a:pt x="191" y="11"/>
                </a:cubicBezTo>
                <a:cubicBezTo>
                  <a:pt x="170" y="0"/>
                  <a:pt x="170" y="0"/>
                  <a:pt x="170" y="0"/>
                </a:cubicBezTo>
                <a:lnTo>
                  <a:pt x="141" y="25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8"/>
          <p:cNvSpPr/>
          <p:nvPr/>
        </p:nvSpPr>
        <p:spPr>
          <a:xfrm>
            <a:off x="473040" y="1616040"/>
            <a:ext cx="1627200" cy="1201680"/>
          </a:xfrm>
          <a:custGeom>
            <a:avLst/>
            <a:gdLst/>
            <a:ahLst/>
            <a:rect l="l" t="t" r="r" b="b"/>
            <a:pathLst>
              <a:path w="1721" h="1302">
                <a:moveTo>
                  <a:pt x="1719" y="701"/>
                </a:moveTo>
                <a:cubicBezTo>
                  <a:pt x="1720" y="700"/>
                  <a:pt x="1720" y="700"/>
                  <a:pt x="1720" y="700"/>
                </a:cubicBezTo>
                <a:cubicBezTo>
                  <a:pt x="1721" y="700"/>
                  <a:pt x="1721" y="700"/>
                  <a:pt x="1721" y="700"/>
                </a:cubicBezTo>
                <a:cubicBezTo>
                  <a:pt x="1721" y="699"/>
                  <a:pt x="1721" y="699"/>
                  <a:pt x="1721" y="699"/>
                </a:cubicBezTo>
                <a:cubicBezTo>
                  <a:pt x="1687" y="603"/>
                  <a:pt x="1687" y="603"/>
                  <a:pt x="1687" y="603"/>
                </a:cubicBezTo>
                <a:cubicBezTo>
                  <a:pt x="1666" y="586"/>
                  <a:pt x="1666" y="586"/>
                  <a:pt x="1666" y="586"/>
                </a:cubicBezTo>
                <a:cubicBezTo>
                  <a:pt x="1666" y="584"/>
                  <a:pt x="1666" y="584"/>
                  <a:pt x="1666" y="584"/>
                </a:cubicBezTo>
                <a:cubicBezTo>
                  <a:pt x="1660" y="544"/>
                  <a:pt x="1660" y="544"/>
                  <a:pt x="1660" y="544"/>
                </a:cubicBezTo>
                <a:cubicBezTo>
                  <a:pt x="1616" y="538"/>
                  <a:pt x="1616" y="538"/>
                  <a:pt x="1616" y="538"/>
                </a:cubicBezTo>
                <a:cubicBezTo>
                  <a:pt x="1615" y="538"/>
                  <a:pt x="1615" y="538"/>
                  <a:pt x="1615" y="538"/>
                </a:cubicBezTo>
                <a:cubicBezTo>
                  <a:pt x="1613" y="538"/>
                  <a:pt x="1613" y="538"/>
                  <a:pt x="1613" y="538"/>
                </a:cubicBezTo>
                <a:cubicBezTo>
                  <a:pt x="1613" y="537"/>
                  <a:pt x="1613" y="537"/>
                  <a:pt x="1613" y="537"/>
                </a:cubicBezTo>
                <a:cubicBezTo>
                  <a:pt x="1612" y="535"/>
                  <a:pt x="1612" y="535"/>
                  <a:pt x="1612" y="535"/>
                </a:cubicBezTo>
                <a:cubicBezTo>
                  <a:pt x="1612" y="534"/>
                  <a:pt x="1612" y="534"/>
                  <a:pt x="1612" y="534"/>
                </a:cubicBezTo>
                <a:cubicBezTo>
                  <a:pt x="1607" y="519"/>
                  <a:pt x="1593" y="503"/>
                  <a:pt x="1572" y="486"/>
                </a:cubicBezTo>
                <a:cubicBezTo>
                  <a:pt x="1560" y="477"/>
                  <a:pt x="1549" y="471"/>
                  <a:pt x="1539" y="468"/>
                </a:cubicBezTo>
                <a:cubicBezTo>
                  <a:pt x="1532" y="464"/>
                  <a:pt x="1524" y="461"/>
                  <a:pt x="1519" y="457"/>
                </a:cubicBezTo>
                <a:cubicBezTo>
                  <a:pt x="1505" y="447"/>
                  <a:pt x="1458" y="440"/>
                  <a:pt x="1374" y="438"/>
                </a:cubicBezTo>
                <a:cubicBezTo>
                  <a:pt x="1371" y="438"/>
                  <a:pt x="1371" y="438"/>
                  <a:pt x="1371" y="438"/>
                </a:cubicBezTo>
                <a:cubicBezTo>
                  <a:pt x="1371" y="438"/>
                  <a:pt x="1371" y="438"/>
                  <a:pt x="1371" y="438"/>
                </a:cubicBezTo>
                <a:cubicBezTo>
                  <a:pt x="1362" y="423"/>
                  <a:pt x="1362" y="423"/>
                  <a:pt x="1362" y="423"/>
                </a:cubicBezTo>
                <a:cubicBezTo>
                  <a:pt x="1358" y="414"/>
                  <a:pt x="1354" y="405"/>
                  <a:pt x="1353" y="396"/>
                </a:cubicBezTo>
                <a:cubicBezTo>
                  <a:pt x="1353" y="384"/>
                  <a:pt x="1367" y="346"/>
                  <a:pt x="1397" y="284"/>
                </a:cubicBezTo>
                <a:cubicBezTo>
                  <a:pt x="1382" y="237"/>
                  <a:pt x="1382" y="237"/>
                  <a:pt x="1382" y="237"/>
                </a:cubicBezTo>
                <a:cubicBezTo>
                  <a:pt x="1382" y="237"/>
                  <a:pt x="1382" y="237"/>
                  <a:pt x="1382" y="237"/>
                </a:cubicBezTo>
                <a:cubicBezTo>
                  <a:pt x="1366" y="163"/>
                  <a:pt x="1366" y="163"/>
                  <a:pt x="1366" y="163"/>
                </a:cubicBezTo>
                <a:cubicBezTo>
                  <a:pt x="1364" y="153"/>
                  <a:pt x="1346" y="143"/>
                  <a:pt x="1314" y="134"/>
                </a:cubicBezTo>
                <a:cubicBezTo>
                  <a:pt x="1308" y="132"/>
                  <a:pt x="1302" y="130"/>
                  <a:pt x="1295" y="125"/>
                </a:cubicBezTo>
                <a:cubicBezTo>
                  <a:pt x="1284" y="120"/>
                  <a:pt x="1275" y="111"/>
                  <a:pt x="1271" y="99"/>
                </a:cubicBezTo>
                <a:cubicBezTo>
                  <a:pt x="1265" y="85"/>
                  <a:pt x="1254" y="74"/>
                  <a:pt x="1239" y="67"/>
                </a:cubicBezTo>
                <a:cubicBezTo>
                  <a:pt x="1238" y="66"/>
                  <a:pt x="1238" y="66"/>
                  <a:pt x="1238" y="66"/>
                </a:cubicBezTo>
                <a:cubicBezTo>
                  <a:pt x="1237" y="65"/>
                  <a:pt x="1237" y="65"/>
                  <a:pt x="1237" y="65"/>
                </a:cubicBezTo>
                <a:cubicBezTo>
                  <a:pt x="1225" y="0"/>
                  <a:pt x="1225" y="0"/>
                  <a:pt x="1225" y="0"/>
                </a:cubicBezTo>
                <a:cubicBezTo>
                  <a:pt x="1174" y="5"/>
                  <a:pt x="1174" y="5"/>
                  <a:pt x="1174" y="5"/>
                </a:cubicBezTo>
                <a:cubicBezTo>
                  <a:pt x="1169" y="19"/>
                  <a:pt x="1169" y="19"/>
                  <a:pt x="1169" y="19"/>
                </a:cubicBezTo>
                <a:cubicBezTo>
                  <a:pt x="1162" y="41"/>
                  <a:pt x="1156" y="52"/>
                  <a:pt x="1149" y="52"/>
                </a:cubicBezTo>
                <a:cubicBezTo>
                  <a:pt x="1116" y="62"/>
                  <a:pt x="1116" y="62"/>
                  <a:pt x="1116" y="62"/>
                </a:cubicBezTo>
                <a:cubicBezTo>
                  <a:pt x="1096" y="70"/>
                  <a:pt x="1083" y="78"/>
                  <a:pt x="1077" y="87"/>
                </a:cubicBezTo>
                <a:cubicBezTo>
                  <a:pt x="1074" y="92"/>
                  <a:pt x="1071" y="104"/>
                  <a:pt x="1068" y="121"/>
                </a:cubicBezTo>
                <a:cubicBezTo>
                  <a:pt x="1065" y="140"/>
                  <a:pt x="1062" y="154"/>
                  <a:pt x="1058" y="162"/>
                </a:cubicBezTo>
                <a:cubicBezTo>
                  <a:pt x="1052" y="176"/>
                  <a:pt x="1042" y="187"/>
                  <a:pt x="1027" y="192"/>
                </a:cubicBezTo>
                <a:cubicBezTo>
                  <a:pt x="1000" y="203"/>
                  <a:pt x="953" y="185"/>
                  <a:pt x="889" y="139"/>
                </a:cubicBezTo>
                <a:cubicBezTo>
                  <a:pt x="802" y="250"/>
                  <a:pt x="802" y="250"/>
                  <a:pt x="802" y="250"/>
                </a:cubicBezTo>
                <a:cubicBezTo>
                  <a:pt x="813" y="295"/>
                  <a:pt x="813" y="295"/>
                  <a:pt x="813" y="295"/>
                </a:cubicBezTo>
                <a:cubicBezTo>
                  <a:pt x="814" y="295"/>
                  <a:pt x="814" y="295"/>
                  <a:pt x="814" y="295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3" y="299"/>
                  <a:pt x="813" y="299"/>
                  <a:pt x="813" y="299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09" y="306"/>
                  <a:pt x="802" y="310"/>
                  <a:pt x="795" y="311"/>
                </a:cubicBezTo>
                <a:cubicBezTo>
                  <a:pt x="787" y="313"/>
                  <a:pt x="778" y="310"/>
                  <a:pt x="769" y="304"/>
                </a:cubicBezTo>
                <a:cubicBezTo>
                  <a:pt x="760" y="298"/>
                  <a:pt x="736" y="292"/>
                  <a:pt x="697" y="290"/>
                </a:cubicBezTo>
                <a:cubicBezTo>
                  <a:pt x="679" y="289"/>
                  <a:pt x="679" y="289"/>
                  <a:pt x="679" y="289"/>
                </a:cubicBezTo>
                <a:cubicBezTo>
                  <a:pt x="679" y="289"/>
                  <a:pt x="679" y="289"/>
                  <a:pt x="679" y="289"/>
                </a:cubicBezTo>
                <a:cubicBezTo>
                  <a:pt x="653" y="287"/>
                  <a:pt x="653" y="287"/>
                  <a:pt x="653" y="287"/>
                </a:cubicBezTo>
                <a:cubicBezTo>
                  <a:pt x="624" y="292"/>
                  <a:pt x="624" y="292"/>
                  <a:pt x="624" y="292"/>
                </a:cubicBezTo>
                <a:cubicBezTo>
                  <a:pt x="637" y="310"/>
                  <a:pt x="637" y="310"/>
                  <a:pt x="637" y="310"/>
                </a:cubicBezTo>
                <a:cubicBezTo>
                  <a:pt x="647" y="324"/>
                  <a:pt x="652" y="332"/>
                  <a:pt x="650" y="338"/>
                </a:cubicBezTo>
                <a:cubicBezTo>
                  <a:pt x="639" y="406"/>
                  <a:pt x="639" y="406"/>
                  <a:pt x="639" y="406"/>
                </a:cubicBezTo>
                <a:cubicBezTo>
                  <a:pt x="644" y="443"/>
                  <a:pt x="644" y="443"/>
                  <a:pt x="644" y="443"/>
                </a:cubicBezTo>
                <a:cubicBezTo>
                  <a:pt x="645" y="443"/>
                  <a:pt x="645" y="443"/>
                  <a:pt x="645" y="443"/>
                </a:cubicBezTo>
                <a:cubicBezTo>
                  <a:pt x="645" y="444"/>
                  <a:pt x="645" y="444"/>
                  <a:pt x="645" y="444"/>
                </a:cubicBezTo>
                <a:cubicBezTo>
                  <a:pt x="644" y="445"/>
                  <a:pt x="644" y="445"/>
                  <a:pt x="644" y="445"/>
                </a:cubicBezTo>
                <a:cubicBezTo>
                  <a:pt x="644" y="445"/>
                  <a:pt x="644" y="445"/>
                  <a:pt x="644" y="445"/>
                </a:cubicBezTo>
                <a:cubicBezTo>
                  <a:pt x="623" y="514"/>
                  <a:pt x="623" y="514"/>
                  <a:pt x="623" y="514"/>
                </a:cubicBezTo>
                <a:cubicBezTo>
                  <a:pt x="622" y="520"/>
                  <a:pt x="620" y="523"/>
                  <a:pt x="618" y="522"/>
                </a:cubicBezTo>
                <a:cubicBezTo>
                  <a:pt x="616" y="522"/>
                  <a:pt x="616" y="522"/>
                  <a:pt x="616" y="522"/>
                </a:cubicBezTo>
                <a:cubicBezTo>
                  <a:pt x="616" y="521"/>
                  <a:pt x="616" y="521"/>
                  <a:pt x="616" y="521"/>
                </a:cubicBezTo>
                <a:cubicBezTo>
                  <a:pt x="612" y="515"/>
                  <a:pt x="612" y="515"/>
                  <a:pt x="612" y="515"/>
                </a:cubicBezTo>
                <a:cubicBezTo>
                  <a:pt x="608" y="506"/>
                  <a:pt x="606" y="503"/>
                  <a:pt x="603" y="504"/>
                </a:cubicBezTo>
                <a:cubicBezTo>
                  <a:pt x="601" y="505"/>
                  <a:pt x="598" y="510"/>
                  <a:pt x="597" y="519"/>
                </a:cubicBezTo>
                <a:cubicBezTo>
                  <a:pt x="592" y="538"/>
                  <a:pt x="581" y="554"/>
                  <a:pt x="563" y="571"/>
                </a:cubicBezTo>
                <a:cubicBezTo>
                  <a:pt x="544" y="586"/>
                  <a:pt x="544" y="586"/>
                  <a:pt x="544" y="586"/>
                </a:cubicBezTo>
                <a:cubicBezTo>
                  <a:pt x="534" y="591"/>
                  <a:pt x="534" y="591"/>
                  <a:pt x="534" y="591"/>
                </a:cubicBezTo>
                <a:cubicBezTo>
                  <a:pt x="534" y="591"/>
                  <a:pt x="534" y="591"/>
                  <a:pt x="534" y="591"/>
                </a:cubicBezTo>
                <a:cubicBezTo>
                  <a:pt x="533" y="591"/>
                  <a:pt x="533" y="591"/>
                  <a:pt x="533" y="591"/>
                </a:cubicBezTo>
                <a:cubicBezTo>
                  <a:pt x="465" y="592"/>
                  <a:pt x="465" y="592"/>
                  <a:pt x="465" y="592"/>
                </a:cubicBezTo>
                <a:cubicBezTo>
                  <a:pt x="438" y="617"/>
                  <a:pt x="438" y="617"/>
                  <a:pt x="438" y="617"/>
                </a:cubicBezTo>
                <a:cubicBezTo>
                  <a:pt x="437" y="617"/>
                  <a:pt x="437" y="617"/>
                  <a:pt x="437" y="617"/>
                </a:cubicBezTo>
                <a:cubicBezTo>
                  <a:pt x="435" y="617"/>
                  <a:pt x="435" y="617"/>
                  <a:pt x="435" y="617"/>
                </a:cubicBezTo>
                <a:cubicBezTo>
                  <a:pt x="434" y="617"/>
                  <a:pt x="434" y="617"/>
                  <a:pt x="434" y="617"/>
                </a:cubicBezTo>
                <a:cubicBezTo>
                  <a:pt x="361" y="607"/>
                  <a:pt x="361" y="607"/>
                  <a:pt x="361" y="607"/>
                </a:cubicBezTo>
                <a:cubicBezTo>
                  <a:pt x="350" y="619"/>
                  <a:pt x="338" y="624"/>
                  <a:pt x="326" y="622"/>
                </a:cubicBezTo>
                <a:cubicBezTo>
                  <a:pt x="316" y="618"/>
                  <a:pt x="298" y="623"/>
                  <a:pt x="273" y="632"/>
                </a:cubicBezTo>
                <a:cubicBezTo>
                  <a:pt x="243" y="667"/>
                  <a:pt x="243" y="667"/>
                  <a:pt x="243" y="667"/>
                </a:cubicBezTo>
                <a:cubicBezTo>
                  <a:pt x="242" y="669"/>
                  <a:pt x="242" y="669"/>
                  <a:pt x="242" y="669"/>
                </a:cubicBezTo>
                <a:cubicBezTo>
                  <a:pt x="196" y="670"/>
                  <a:pt x="196" y="670"/>
                  <a:pt x="196" y="670"/>
                </a:cubicBezTo>
                <a:cubicBezTo>
                  <a:pt x="196" y="631"/>
                  <a:pt x="196" y="631"/>
                  <a:pt x="196" y="631"/>
                </a:cubicBezTo>
                <a:cubicBezTo>
                  <a:pt x="166" y="631"/>
                  <a:pt x="166" y="631"/>
                  <a:pt x="166" y="631"/>
                </a:cubicBezTo>
                <a:cubicBezTo>
                  <a:pt x="161" y="648"/>
                  <a:pt x="161" y="648"/>
                  <a:pt x="161" y="648"/>
                </a:cubicBezTo>
                <a:cubicBezTo>
                  <a:pt x="139" y="653"/>
                  <a:pt x="139" y="653"/>
                  <a:pt x="139" y="653"/>
                </a:cubicBezTo>
                <a:cubicBezTo>
                  <a:pt x="136" y="653"/>
                  <a:pt x="136" y="653"/>
                  <a:pt x="136" y="653"/>
                </a:cubicBezTo>
                <a:cubicBezTo>
                  <a:pt x="136" y="653"/>
                  <a:pt x="136" y="653"/>
                  <a:pt x="136" y="653"/>
                </a:cubicBezTo>
                <a:cubicBezTo>
                  <a:pt x="135" y="652"/>
                  <a:pt x="135" y="652"/>
                  <a:pt x="135" y="652"/>
                </a:cubicBezTo>
                <a:cubicBezTo>
                  <a:pt x="134" y="652"/>
                  <a:pt x="134" y="652"/>
                  <a:pt x="134" y="652"/>
                </a:cubicBezTo>
                <a:cubicBezTo>
                  <a:pt x="121" y="644"/>
                  <a:pt x="104" y="637"/>
                  <a:pt x="87" y="635"/>
                </a:cubicBezTo>
                <a:cubicBezTo>
                  <a:pt x="77" y="634"/>
                  <a:pt x="66" y="641"/>
                  <a:pt x="49" y="655"/>
                </a:cubicBezTo>
                <a:cubicBezTo>
                  <a:pt x="31" y="670"/>
                  <a:pt x="18" y="684"/>
                  <a:pt x="12" y="696"/>
                </a:cubicBezTo>
                <a:cubicBezTo>
                  <a:pt x="15" y="699"/>
                  <a:pt x="17" y="703"/>
                  <a:pt x="17" y="709"/>
                </a:cubicBezTo>
                <a:cubicBezTo>
                  <a:pt x="19" y="717"/>
                  <a:pt x="20" y="723"/>
                  <a:pt x="20" y="731"/>
                </a:cubicBezTo>
                <a:cubicBezTo>
                  <a:pt x="19" y="740"/>
                  <a:pt x="16" y="745"/>
                  <a:pt x="12" y="749"/>
                </a:cubicBezTo>
                <a:cubicBezTo>
                  <a:pt x="7" y="752"/>
                  <a:pt x="4" y="762"/>
                  <a:pt x="0" y="779"/>
                </a:cubicBezTo>
                <a:cubicBezTo>
                  <a:pt x="17" y="790"/>
                  <a:pt x="17" y="790"/>
                  <a:pt x="17" y="790"/>
                </a:cubicBezTo>
                <a:cubicBezTo>
                  <a:pt x="40" y="766"/>
                  <a:pt x="40" y="766"/>
                  <a:pt x="40" y="766"/>
                </a:cubicBezTo>
                <a:cubicBezTo>
                  <a:pt x="70" y="799"/>
                  <a:pt x="70" y="799"/>
                  <a:pt x="70" y="799"/>
                </a:cubicBezTo>
                <a:cubicBezTo>
                  <a:pt x="70" y="801"/>
                  <a:pt x="70" y="801"/>
                  <a:pt x="70" y="801"/>
                </a:cubicBezTo>
                <a:cubicBezTo>
                  <a:pt x="76" y="859"/>
                  <a:pt x="76" y="859"/>
                  <a:pt x="76" y="859"/>
                </a:cubicBezTo>
                <a:cubicBezTo>
                  <a:pt x="76" y="860"/>
                  <a:pt x="76" y="860"/>
                  <a:pt x="76" y="860"/>
                </a:cubicBezTo>
                <a:cubicBezTo>
                  <a:pt x="75" y="860"/>
                  <a:pt x="75" y="860"/>
                  <a:pt x="75" y="860"/>
                </a:cubicBezTo>
                <a:cubicBezTo>
                  <a:pt x="58" y="940"/>
                  <a:pt x="58" y="940"/>
                  <a:pt x="58" y="940"/>
                </a:cubicBezTo>
                <a:cubicBezTo>
                  <a:pt x="54" y="940"/>
                  <a:pt x="54" y="940"/>
                  <a:pt x="54" y="940"/>
                </a:cubicBezTo>
                <a:cubicBezTo>
                  <a:pt x="30" y="940"/>
                  <a:pt x="14" y="941"/>
                  <a:pt x="8" y="946"/>
                </a:cubicBezTo>
                <a:cubicBezTo>
                  <a:pt x="9" y="951"/>
                  <a:pt x="19" y="959"/>
                  <a:pt x="37" y="971"/>
                </a:cubicBezTo>
                <a:cubicBezTo>
                  <a:pt x="52" y="969"/>
                  <a:pt x="52" y="969"/>
                  <a:pt x="52" y="969"/>
                </a:cubicBezTo>
                <a:cubicBezTo>
                  <a:pt x="55" y="969"/>
                  <a:pt x="55" y="969"/>
                  <a:pt x="55" y="969"/>
                </a:cubicBezTo>
                <a:cubicBezTo>
                  <a:pt x="56" y="970"/>
                  <a:pt x="56" y="970"/>
                  <a:pt x="56" y="970"/>
                </a:cubicBezTo>
                <a:cubicBezTo>
                  <a:pt x="91" y="1004"/>
                  <a:pt x="91" y="1004"/>
                  <a:pt x="91" y="1004"/>
                </a:cubicBezTo>
                <a:cubicBezTo>
                  <a:pt x="105" y="1015"/>
                  <a:pt x="104" y="1035"/>
                  <a:pt x="86" y="1065"/>
                </a:cubicBezTo>
                <a:cubicBezTo>
                  <a:pt x="91" y="1098"/>
                  <a:pt x="91" y="1098"/>
                  <a:pt x="91" y="1098"/>
                </a:cubicBezTo>
                <a:cubicBezTo>
                  <a:pt x="105" y="1101"/>
                  <a:pt x="105" y="1101"/>
                  <a:pt x="105" y="1101"/>
                </a:cubicBezTo>
                <a:cubicBezTo>
                  <a:pt x="159" y="1101"/>
                  <a:pt x="159" y="1101"/>
                  <a:pt x="159" y="1101"/>
                </a:cubicBezTo>
                <a:cubicBezTo>
                  <a:pt x="131" y="1126"/>
                  <a:pt x="131" y="1126"/>
                  <a:pt x="131" y="1126"/>
                </a:cubicBezTo>
                <a:cubicBezTo>
                  <a:pt x="147" y="1134"/>
                  <a:pt x="147" y="1134"/>
                  <a:pt x="147" y="1134"/>
                </a:cubicBezTo>
                <a:cubicBezTo>
                  <a:pt x="147" y="1134"/>
                  <a:pt x="147" y="1134"/>
                  <a:pt x="147" y="1134"/>
                </a:cubicBezTo>
                <a:cubicBezTo>
                  <a:pt x="168" y="1146"/>
                  <a:pt x="168" y="1146"/>
                  <a:pt x="168" y="1146"/>
                </a:cubicBezTo>
                <a:cubicBezTo>
                  <a:pt x="225" y="1170"/>
                  <a:pt x="225" y="1170"/>
                  <a:pt x="225" y="1170"/>
                </a:cubicBezTo>
                <a:cubicBezTo>
                  <a:pt x="226" y="1171"/>
                  <a:pt x="226" y="1171"/>
                  <a:pt x="226" y="1171"/>
                </a:cubicBezTo>
                <a:cubicBezTo>
                  <a:pt x="228" y="1171"/>
                  <a:pt x="228" y="1171"/>
                  <a:pt x="228" y="1171"/>
                </a:cubicBezTo>
                <a:cubicBezTo>
                  <a:pt x="234" y="1258"/>
                  <a:pt x="234" y="1258"/>
                  <a:pt x="234" y="1258"/>
                </a:cubicBezTo>
                <a:cubicBezTo>
                  <a:pt x="235" y="1275"/>
                  <a:pt x="247" y="1287"/>
                  <a:pt x="273" y="1296"/>
                </a:cubicBezTo>
                <a:cubicBezTo>
                  <a:pt x="277" y="1294"/>
                  <a:pt x="277" y="1294"/>
                  <a:pt x="277" y="1294"/>
                </a:cubicBezTo>
                <a:cubicBezTo>
                  <a:pt x="278" y="1294"/>
                  <a:pt x="278" y="1294"/>
                  <a:pt x="278" y="1294"/>
                </a:cubicBezTo>
                <a:cubicBezTo>
                  <a:pt x="279" y="1294"/>
                  <a:pt x="279" y="1294"/>
                  <a:pt x="279" y="1294"/>
                </a:cubicBezTo>
                <a:cubicBezTo>
                  <a:pt x="338" y="1302"/>
                  <a:pt x="338" y="1302"/>
                  <a:pt x="338" y="1302"/>
                </a:cubicBezTo>
                <a:cubicBezTo>
                  <a:pt x="342" y="1302"/>
                  <a:pt x="342" y="1302"/>
                  <a:pt x="342" y="1302"/>
                </a:cubicBezTo>
                <a:cubicBezTo>
                  <a:pt x="342" y="1301"/>
                  <a:pt x="342" y="1301"/>
                  <a:pt x="342" y="1301"/>
                </a:cubicBezTo>
                <a:cubicBezTo>
                  <a:pt x="343" y="1299"/>
                  <a:pt x="343" y="1299"/>
                  <a:pt x="343" y="1299"/>
                </a:cubicBezTo>
                <a:cubicBezTo>
                  <a:pt x="350" y="1287"/>
                  <a:pt x="354" y="1279"/>
                  <a:pt x="354" y="1277"/>
                </a:cubicBezTo>
                <a:cubicBezTo>
                  <a:pt x="354" y="1275"/>
                  <a:pt x="354" y="1275"/>
                  <a:pt x="354" y="1275"/>
                </a:cubicBezTo>
                <a:cubicBezTo>
                  <a:pt x="353" y="1265"/>
                  <a:pt x="357" y="1257"/>
                  <a:pt x="366" y="1251"/>
                </a:cubicBezTo>
                <a:cubicBezTo>
                  <a:pt x="374" y="1244"/>
                  <a:pt x="379" y="1238"/>
                  <a:pt x="382" y="1230"/>
                </a:cubicBezTo>
                <a:cubicBezTo>
                  <a:pt x="383" y="1229"/>
                  <a:pt x="383" y="1229"/>
                  <a:pt x="383" y="1229"/>
                </a:cubicBezTo>
                <a:cubicBezTo>
                  <a:pt x="387" y="1221"/>
                  <a:pt x="397" y="1219"/>
                  <a:pt x="415" y="1224"/>
                </a:cubicBezTo>
                <a:cubicBezTo>
                  <a:pt x="416" y="1224"/>
                  <a:pt x="416" y="1224"/>
                  <a:pt x="416" y="1224"/>
                </a:cubicBezTo>
                <a:cubicBezTo>
                  <a:pt x="416" y="1224"/>
                  <a:pt x="416" y="1224"/>
                  <a:pt x="416" y="1224"/>
                </a:cubicBezTo>
                <a:cubicBezTo>
                  <a:pt x="436" y="1236"/>
                  <a:pt x="436" y="1236"/>
                  <a:pt x="436" y="1236"/>
                </a:cubicBezTo>
                <a:cubicBezTo>
                  <a:pt x="503" y="1248"/>
                  <a:pt x="503" y="1248"/>
                  <a:pt x="503" y="1248"/>
                </a:cubicBezTo>
                <a:cubicBezTo>
                  <a:pt x="544" y="1245"/>
                  <a:pt x="544" y="1245"/>
                  <a:pt x="544" y="1245"/>
                </a:cubicBezTo>
                <a:cubicBezTo>
                  <a:pt x="573" y="1233"/>
                  <a:pt x="573" y="1233"/>
                  <a:pt x="573" y="1233"/>
                </a:cubicBezTo>
                <a:cubicBezTo>
                  <a:pt x="579" y="1225"/>
                  <a:pt x="583" y="1222"/>
                  <a:pt x="586" y="1220"/>
                </a:cubicBezTo>
                <a:cubicBezTo>
                  <a:pt x="591" y="1219"/>
                  <a:pt x="599" y="1221"/>
                  <a:pt x="607" y="1228"/>
                </a:cubicBezTo>
                <a:cubicBezTo>
                  <a:pt x="611" y="1230"/>
                  <a:pt x="611" y="1230"/>
                  <a:pt x="611" y="1230"/>
                </a:cubicBezTo>
                <a:cubicBezTo>
                  <a:pt x="616" y="1234"/>
                  <a:pt x="619" y="1240"/>
                  <a:pt x="623" y="1252"/>
                </a:cubicBezTo>
                <a:cubicBezTo>
                  <a:pt x="644" y="1267"/>
                  <a:pt x="644" y="1267"/>
                  <a:pt x="644" y="1267"/>
                </a:cubicBezTo>
                <a:cubicBezTo>
                  <a:pt x="660" y="1267"/>
                  <a:pt x="660" y="1267"/>
                  <a:pt x="660" y="1267"/>
                </a:cubicBezTo>
                <a:cubicBezTo>
                  <a:pt x="661" y="1267"/>
                  <a:pt x="661" y="1267"/>
                  <a:pt x="661" y="1267"/>
                </a:cubicBezTo>
                <a:cubicBezTo>
                  <a:pt x="663" y="1267"/>
                  <a:pt x="663" y="1267"/>
                  <a:pt x="663" y="1267"/>
                </a:cubicBezTo>
                <a:cubicBezTo>
                  <a:pt x="664" y="1267"/>
                  <a:pt x="664" y="1267"/>
                  <a:pt x="664" y="1267"/>
                </a:cubicBezTo>
                <a:cubicBezTo>
                  <a:pt x="686" y="1277"/>
                  <a:pt x="686" y="1277"/>
                  <a:pt x="686" y="1277"/>
                </a:cubicBezTo>
                <a:cubicBezTo>
                  <a:pt x="728" y="1274"/>
                  <a:pt x="728" y="1274"/>
                  <a:pt x="728" y="1274"/>
                </a:cubicBezTo>
                <a:cubicBezTo>
                  <a:pt x="751" y="1266"/>
                  <a:pt x="751" y="1266"/>
                  <a:pt x="751" y="1266"/>
                </a:cubicBezTo>
                <a:cubicBezTo>
                  <a:pt x="811" y="1272"/>
                  <a:pt x="811" y="1272"/>
                  <a:pt x="811" y="1272"/>
                </a:cubicBezTo>
                <a:cubicBezTo>
                  <a:pt x="837" y="1264"/>
                  <a:pt x="837" y="1264"/>
                  <a:pt x="837" y="1264"/>
                </a:cubicBezTo>
                <a:cubicBezTo>
                  <a:pt x="868" y="1252"/>
                  <a:pt x="868" y="1252"/>
                  <a:pt x="868" y="1252"/>
                </a:cubicBezTo>
                <a:cubicBezTo>
                  <a:pt x="874" y="1247"/>
                  <a:pt x="882" y="1244"/>
                  <a:pt x="892" y="1241"/>
                </a:cubicBezTo>
                <a:cubicBezTo>
                  <a:pt x="950" y="1241"/>
                  <a:pt x="950" y="1241"/>
                  <a:pt x="950" y="1241"/>
                </a:cubicBezTo>
                <a:cubicBezTo>
                  <a:pt x="971" y="1234"/>
                  <a:pt x="971" y="1234"/>
                  <a:pt x="971" y="1234"/>
                </a:cubicBezTo>
                <a:cubicBezTo>
                  <a:pt x="980" y="1228"/>
                  <a:pt x="987" y="1225"/>
                  <a:pt x="993" y="1225"/>
                </a:cubicBezTo>
                <a:cubicBezTo>
                  <a:pt x="1027" y="1225"/>
                  <a:pt x="1027" y="1225"/>
                  <a:pt x="1027" y="1225"/>
                </a:cubicBezTo>
                <a:cubicBezTo>
                  <a:pt x="1043" y="1237"/>
                  <a:pt x="1043" y="1237"/>
                  <a:pt x="1043" y="1237"/>
                </a:cubicBezTo>
                <a:cubicBezTo>
                  <a:pt x="1088" y="1246"/>
                  <a:pt x="1088" y="1246"/>
                  <a:pt x="1088" y="1246"/>
                </a:cubicBezTo>
                <a:cubicBezTo>
                  <a:pt x="1095" y="1246"/>
                  <a:pt x="1101" y="1252"/>
                  <a:pt x="1112" y="1261"/>
                </a:cubicBezTo>
                <a:cubicBezTo>
                  <a:pt x="1131" y="1274"/>
                  <a:pt x="1131" y="1274"/>
                  <a:pt x="1131" y="1274"/>
                </a:cubicBezTo>
                <a:cubicBezTo>
                  <a:pt x="1133" y="1276"/>
                  <a:pt x="1133" y="1276"/>
                  <a:pt x="1133" y="1276"/>
                </a:cubicBezTo>
                <a:cubicBezTo>
                  <a:pt x="1176" y="1277"/>
                  <a:pt x="1176" y="1277"/>
                  <a:pt x="1176" y="1277"/>
                </a:cubicBezTo>
                <a:cubicBezTo>
                  <a:pt x="1176" y="1277"/>
                  <a:pt x="1176" y="1277"/>
                  <a:pt x="1176" y="1277"/>
                </a:cubicBezTo>
                <a:cubicBezTo>
                  <a:pt x="1177" y="1277"/>
                  <a:pt x="1177" y="1277"/>
                  <a:pt x="1177" y="1277"/>
                </a:cubicBezTo>
                <a:cubicBezTo>
                  <a:pt x="1197" y="1287"/>
                  <a:pt x="1197" y="1287"/>
                  <a:pt x="1197" y="1287"/>
                </a:cubicBezTo>
                <a:cubicBezTo>
                  <a:pt x="1224" y="1293"/>
                  <a:pt x="1224" y="1293"/>
                  <a:pt x="1224" y="1293"/>
                </a:cubicBezTo>
                <a:cubicBezTo>
                  <a:pt x="1225" y="1293"/>
                  <a:pt x="1225" y="1293"/>
                  <a:pt x="1225" y="1293"/>
                </a:cubicBezTo>
                <a:cubicBezTo>
                  <a:pt x="1247" y="1296"/>
                  <a:pt x="1247" y="1296"/>
                  <a:pt x="1247" y="1296"/>
                </a:cubicBezTo>
                <a:cubicBezTo>
                  <a:pt x="1253" y="1283"/>
                  <a:pt x="1253" y="1283"/>
                  <a:pt x="1253" y="1283"/>
                </a:cubicBezTo>
                <a:cubicBezTo>
                  <a:pt x="1244" y="1262"/>
                  <a:pt x="1244" y="1262"/>
                  <a:pt x="1244" y="1262"/>
                </a:cubicBezTo>
                <a:cubicBezTo>
                  <a:pt x="1239" y="1241"/>
                  <a:pt x="1239" y="1241"/>
                  <a:pt x="1239" y="1241"/>
                </a:cubicBezTo>
                <a:cubicBezTo>
                  <a:pt x="1239" y="1240"/>
                  <a:pt x="1239" y="1240"/>
                  <a:pt x="1239" y="1240"/>
                </a:cubicBezTo>
                <a:cubicBezTo>
                  <a:pt x="1238" y="1240"/>
                  <a:pt x="1238" y="1240"/>
                  <a:pt x="1238" y="1240"/>
                </a:cubicBezTo>
                <a:cubicBezTo>
                  <a:pt x="1242" y="1237"/>
                  <a:pt x="1242" y="1237"/>
                  <a:pt x="1242" y="1237"/>
                </a:cubicBezTo>
                <a:cubicBezTo>
                  <a:pt x="1256" y="1217"/>
                  <a:pt x="1256" y="1217"/>
                  <a:pt x="1256" y="1217"/>
                </a:cubicBezTo>
                <a:cubicBezTo>
                  <a:pt x="1256" y="1216"/>
                  <a:pt x="1256" y="1216"/>
                  <a:pt x="1256" y="1216"/>
                </a:cubicBezTo>
                <a:cubicBezTo>
                  <a:pt x="1256" y="1216"/>
                  <a:pt x="1256" y="1216"/>
                  <a:pt x="1256" y="1216"/>
                </a:cubicBezTo>
                <a:cubicBezTo>
                  <a:pt x="1257" y="1216"/>
                  <a:pt x="1257" y="1216"/>
                  <a:pt x="1257" y="1216"/>
                </a:cubicBezTo>
                <a:cubicBezTo>
                  <a:pt x="1257" y="1215"/>
                  <a:pt x="1257" y="1215"/>
                  <a:pt x="1257" y="1215"/>
                </a:cubicBezTo>
                <a:cubicBezTo>
                  <a:pt x="1272" y="1204"/>
                  <a:pt x="1272" y="1204"/>
                  <a:pt x="1272" y="1204"/>
                </a:cubicBezTo>
                <a:cubicBezTo>
                  <a:pt x="1272" y="1204"/>
                  <a:pt x="1272" y="1204"/>
                  <a:pt x="1272" y="1204"/>
                </a:cubicBezTo>
                <a:cubicBezTo>
                  <a:pt x="1269" y="1198"/>
                  <a:pt x="1269" y="1198"/>
                  <a:pt x="1269" y="1198"/>
                </a:cubicBezTo>
                <a:cubicBezTo>
                  <a:pt x="1263" y="1177"/>
                  <a:pt x="1263" y="1177"/>
                  <a:pt x="1263" y="1177"/>
                </a:cubicBezTo>
                <a:cubicBezTo>
                  <a:pt x="1263" y="1174"/>
                  <a:pt x="1259" y="1171"/>
                  <a:pt x="1253" y="1167"/>
                </a:cubicBezTo>
                <a:cubicBezTo>
                  <a:pt x="1253" y="1167"/>
                  <a:pt x="1253" y="1167"/>
                  <a:pt x="1253" y="1167"/>
                </a:cubicBezTo>
                <a:cubicBezTo>
                  <a:pt x="1237" y="1150"/>
                  <a:pt x="1237" y="1150"/>
                  <a:pt x="1237" y="1150"/>
                </a:cubicBezTo>
                <a:cubicBezTo>
                  <a:pt x="1217" y="1133"/>
                  <a:pt x="1217" y="1133"/>
                  <a:pt x="1217" y="1133"/>
                </a:cubicBezTo>
                <a:cubicBezTo>
                  <a:pt x="1216" y="1131"/>
                  <a:pt x="1216" y="1131"/>
                  <a:pt x="1216" y="1131"/>
                </a:cubicBezTo>
                <a:cubicBezTo>
                  <a:pt x="1214" y="1130"/>
                  <a:pt x="1214" y="1130"/>
                  <a:pt x="1214" y="1130"/>
                </a:cubicBezTo>
                <a:cubicBezTo>
                  <a:pt x="1215" y="1129"/>
                  <a:pt x="1215" y="1129"/>
                  <a:pt x="1215" y="1129"/>
                </a:cubicBezTo>
                <a:cubicBezTo>
                  <a:pt x="1215" y="1127"/>
                  <a:pt x="1215" y="1127"/>
                  <a:pt x="1215" y="1127"/>
                </a:cubicBezTo>
                <a:cubicBezTo>
                  <a:pt x="1218" y="1107"/>
                  <a:pt x="1218" y="1107"/>
                  <a:pt x="1218" y="1107"/>
                </a:cubicBezTo>
                <a:cubicBezTo>
                  <a:pt x="1218" y="1092"/>
                  <a:pt x="1218" y="1092"/>
                  <a:pt x="1218" y="1092"/>
                </a:cubicBezTo>
                <a:cubicBezTo>
                  <a:pt x="1209" y="1067"/>
                  <a:pt x="1209" y="1067"/>
                  <a:pt x="1209" y="1067"/>
                </a:cubicBezTo>
                <a:cubicBezTo>
                  <a:pt x="1233" y="1062"/>
                  <a:pt x="1233" y="1062"/>
                  <a:pt x="1233" y="1062"/>
                </a:cubicBezTo>
                <a:cubicBezTo>
                  <a:pt x="1245" y="1050"/>
                  <a:pt x="1245" y="1050"/>
                  <a:pt x="1245" y="1050"/>
                </a:cubicBezTo>
                <a:cubicBezTo>
                  <a:pt x="1274" y="1050"/>
                  <a:pt x="1274" y="1050"/>
                  <a:pt x="1274" y="1050"/>
                </a:cubicBezTo>
                <a:cubicBezTo>
                  <a:pt x="1304" y="1046"/>
                  <a:pt x="1304" y="1046"/>
                  <a:pt x="1304" y="1046"/>
                </a:cubicBezTo>
                <a:cubicBezTo>
                  <a:pt x="1305" y="1046"/>
                  <a:pt x="1305" y="1046"/>
                  <a:pt x="1305" y="1046"/>
                </a:cubicBezTo>
                <a:cubicBezTo>
                  <a:pt x="1325" y="1048"/>
                  <a:pt x="1325" y="1048"/>
                  <a:pt x="1325" y="1048"/>
                </a:cubicBezTo>
                <a:cubicBezTo>
                  <a:pt x="1348" y="1039"/>
                  <a:pt x="1348" y="1039"/>
                  <a:pt x="1348" y="1039"/>
                </a:cubicBezTo>
                <a:cubicBezTo>
                  <a:pt x="1374" y="1036"/>
                  <a:pt x="1374" y="1036"/>
                  <a:pt x="1374" y="1036"/>
                </a:cubicBezTo>
                <a:cubicBezTo>
                  <a:pt x="1391" y="1029"/>
                  <a:pt x="1391" y="1029"/>
                  <a:pt x="1391" y="1029"/>
                </a:cubicBezTo>
                <a:cubicBezTo>
                  <a:pt x="1392" y="1029"/>
                  <a:pt x="1392" y="1029"/>
                  <a:pt x="1392" y="1029"/>
                </a:cubicBezTo>
                <a:cubicBezTo>
                  <a:pt x="1438" y="1020"/>
                  <a:pt x="1438" y="1020"/>
                  <a:pt x="1438" y="1020"/>
                </a:cubicBezTo>
                <a:cubicBezTo>
                  <a:pt x="1445" y="1013"/>
                  <a:pt x="1445" y="1013"/>
                  <a:pt x="1445" y="1013"/>
                </a:cubicBezTo>
                <a:cubicBezTo>
                  <a:pt x="1443" y="1005"/>
                  <a:pt x="1443" y="1005"/>
                  <a:pt x="1443" y="1005"/>
                </a:cubicBezTo>
                <a:cubicBezTo>
                  <a:pt x="1435" y="990"/>
                  <a:pt x="1435" y="990"/>
                  <a:pt x="1435" y="990"/>
                </a:cubicBezTo>
                <a:cubicBezTo>
                  <a:pt x="1435" y="989"/>
                  <a:pt x="1435" y="989"/>
                  <a:pt x="1435" y="989"/>
                </a:cubicBezTo>
                <a:cubicBezTo>
                  <a:pt x="1434" y="988"/>
                  <a:pt x="1434" y="988"/>
                  <a:pt x="1434" y="988"/>
                </a:cubicBezTo>
                <a:cubicBezTo>
                  <a:pt x="1434" y="987"/>
                  <a:pt x="1434" y="987"/>
                  <a:pt x="1434" y="987"/>
                </a:cubicBezTo>
                <a:cubicBezTo>
                  <a:pt x="1436" y="971"/>
                  <a:pt x="1436" y="971"/>
                  <a:pt x="1436" y="971"/>
                </a:cubicBezTo>
                <a:cubicBezTo>
                  <a:pt x="1437" y="970"/>
                  <a:pt x="1437" y="970"/>
                  <a:pt x="1437" y="970"/>
                </a:cubicBezTo>
                <a:cubicBezTo>
                  <a:pt x="1437" y="948"/>
                  <a:pt x="1437" y="948"/>
                  <a:pt x="1437" y="948"/>
                </a:cubicBezTo>
                <a:cubicBezTo>
                  <a:pt x="1433" y="929"/>
                  <a:pt x="1433" y="929"/>
                  <a:pt x="1433" y="929"/>
                </a:cubicBezTo>
                <a:cubicBezTo>
                  <a:pt x="1433" y="929"/>
                  <a:pt x="1433" y="929"/>
                  <a:pt x="1433" y="929"/>
                </a:cubicBezTo>
                <a:cubicBezTo>
                  <a:pt x="1433" y="928"/>
                  <a:pt x="1433" y="928"/>
                  <a:pt x="1433" y="928"/>
                </a:cubicBezTo>
                <a:cubicBezTo>
                  <a:pt x="1443" y="906"/>
                  <a:pt x="1443" y="906"/>
                  <a:pt x="1443" y="906"/>
                </a:cubicBezTo>
                <a:cubicBezTo>
                  <a:pt x="1447" y="897"/>
                  <a:pt x="1453" y="892"/>
                  <a:pt x="1459" y="892"/>
                </a:cubicBezTo>
                <a:cubicBezTo>
                  <a:pt x="1486" y="894"/>
                  <a:pt x="1486" y="894"/>
                  <a:pt x="1486" y="894"/>
                </a:cubicBezTo>
                <a:cubicBezTo>
                  <a:pt x="1491" y="894"/>
                  <a:pt x="1496" y="892"/>
                  <a:pt x="1501" y="887"/>
                </a:cubicBezTo>
                <a:cubicBezTo>
                  <a:pt x="1542" y="832"/>
                  <a:pt x="1542" y="832"/>
                  <a:pt x="1542" y="832"/>
                </a:cubicBezTo>
                <a:cubicBezTo>
                  <a:pt x="1542" y="831"/>
                  <a:pt x="1542" y="831"/>
                  <a:pt x="1542" y="831"/>
                </a:cubicBezTo>
                <a:cubicBezTo>
                  <a:pt x="1543" y="829"/>
                  <a:pt x="1543" y="829"/>
                  <a:pt x="1543" y="829"/>
                </a:cubicBezTo>
                <a:cubicBezTo>
                  <a:pt x="1566" y="811"/>
                  <a:pt x="1566" y="811"/>
                  <a:pt x="1566" y="811"/>
                </a:cubicBezTo>
                <a:cubicBezTo>
                  <a:pt x="1568" y="809"/>
                  <a:pt x="1568" y="809"/>
                  <a:pt x="1568" y="809"/>
                </a:cubicBezTo>
                <a:cubicBezTo>
                  <a:pt x="1576" y="807"/>
                  <a:pt x="1581" y="804"/>
                  <a:pt x="1585" y="802"/>
                </a:cubicBezTo>
                <a:cubicBezTo>
                  <a:pt x="1590" y="797"/>
                  <a:pt x="1590" y="797"/>
                  <a:pt x="1590" y="797"/>
                </a:cubicBezTo>
                <a:cubicBezTo>
                  <a:pt x="1597" y="787"/>
                  <a:pt x="1604" y="783"/>
                  <a:pt x="1608" y="783"/>
                </a:cubicBezTo>
                <a:cubicBezTo>
                  <a:pt x="1644" y="790"/>
                  <a:pt x="1644" y="790"/>
                  <a:pt x="1644" y="790"/>
                </a:cubicBezTo>
                <a:cubicBezTo>
                  <a:pt x="1674" y="776"/>
                  <a:pt x="1674" y="776"/>
                  <a:pt x="1674" y="776"/>
                </a:cubicBezTo>
                <a:cubicBezTo>
                  <a:pt x="1674" y="776"/>
                  <a:pt x="1674" y="776"/>
                  <a:pt x="1674" y="776"/>
                </a:cubicBezTo>
                <a:cubicBezTo>
                  <a:pt x="1675" y="776"/>
                  <a:pt x="1675" y="776"/>
                  <a:pt x="1675" y="776"/>
                </a:cubicBezTo>
                <a:cubicBezTo>
                  <a:pt x="1675" y="776"/>
                  <a:pt x="1675" y="776"/>
                  <a:pt x="1675" y="776"/>
                </a:cubicBezTo>
                <a:cubicBezTo>
                  <a:pt x="1676" y="776"/>
                  <a:pt x="1676" y="776"/>
                  <a:pt x="1676" y="776"/>
                </a:cubicBezTo>
                <a:cubicBezTo>
                  <a:pt x="1694" y="774"/>
                  <a:pt x="1694" y="774"/>
                  <a:pt x="1694" y="774"/>
                </a:cubicBezTo>
                <a:cubicBezTo>
                  <a:pt x="1709" y="767"/>
                  <a:pt x="1709" y="767"/>
                  <a:pt x="1709" y="767"/>
                </a:cubicBezTo>
                <a:cubicBezTo>
                  <a:pt x="1709" y="743"/>
                  <a:pt x="1709" y="743"/>
                  <a:pt x="1709" y="743"/>
                </a:cubicBezTo>
                <a:cubicBezTo>
                  <a:pt x="1713" y="712"/>
                  <a:pt x="1713" y="712"/>
                  <a:pt x="1713" y="712"/>
                </a:cubicBezTo>
                <a:cubicBezTo>
                  <a:pt x="1713" y="711"/>
                  <a:pt x="1713" y="711"/>
                  <a:pt x="1713" y="711"/>
                </a:cubicBezTo>
                <a:cubicBezTo>
                  <a:pt x="1713" y="711"/>
                  <a:pt x="1713" y="711"/>
                  <a:pt x="1713" y="711"/>
                </a:cubicBezTo>
                <a:cubicBezTo>
                  <a:pt x="1713" y="710"/>
                  <a:pt x="1713" y="710"/>
                  <a:pt x="1713" y="710"/>
                </a:cubicBezTo>
                <a:cubicBezTo>
                  <a:pt x="1719" y="702"/>
                  <a:pt x="1719" y="702"/>
                  <a:pt x="1719" y="702"/>
                </a:cubicBezTo>
                <a:lnTo>
                  <a:pt x="1719" y="70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9"/>
          <p:cNvSpPr/>
          <p:nvPr/>
        </p:nvSpPr>
        <p:spPr>
          <a:xfrm>
            <a:off x="1527120" y="2560680"/>
            <a:ext cx="1014480" cy="709560"/>
          </a:xfrm>
          <a:custGeom>
            <a:avLst/>
            <a:gdLst/>
            <a:ahLst/>
            <a:rect l="l" t="t" r="r" b="b"/>
            <a:pathLst>
              <a:path w="1071" h="769">
                <a:moveTo>
                  <a:pt x="639" y="40"/>
                </a:moveTo>
                <a:cubicBezTo>
                  <a:pt x="630" y="47"/>
                  <a:pt x="630" y="47"/>
                  <a:pt x="630" y="47"/>
                </a:cubicBezTo>
                <a:cubicBezTo>
                  <a:pt x="630" y="51"/>
                  <a:pt x="632" y="61"/>
                  <a:pt x="635" y="74"/>
                </a:cubicBezTo>
                <a:cubicBezTo>
                  <a:pt x="635" y="76"/>
                  <a:pt x="635" y="76"/>
                  <a:pt x="635" y="76"/>
                </a:cubicBezTo>
                <a:cubicBezTo>
                  <a:pt x="636" y="77"/>
                  <a:pt x="636" y="77"/>
                  <a:pt x="636" y="77"/>
                </a:cubicBezTo>
                <a:cubicBezTo>
                  <a:pt x="635" y="77"/>
                  <a:pt x="635" y="77"/>
                  <a:pt x="635" y="77"/>
                </a:cubicBezTo>
                <a:cubicBezTo>
                  <a:pt x="624" y="103"/>
                  <a:pt x="624" y="103"/>
                  <a:pt x="624" y="103"/>
                </a:cubicBezTo>
                <a:cubicBezTo>
                  <a:pt x="608" y="109"/>
                  <a:pt x="608" y="109"/>
                  <a:pt x="608" y="109"/>
                </a:cubicBezTo>
                <a:cubicBezTo>
                  <a:pt x="605" y="110"/>
                  <a:pt x="605" y="110"/>
                  <a:pt x="605" y="110"/>
                </a:cubicBezTo>
                <a:cubicBezTo>
                  <a:pt x="604" y="110"/>
                  <a:pt x="604" y="110"/>
                  <a:pt x="604" y="110"/>
                </a:cubicBezTo>
                <a:cubicBezTo>
                  <a:pt x="576" y="98"/>
                  <a:pt x="576" y="98"/>
                  <a:pt x="576" y="98"/>
                </a:cubicBezTo>
                <a:cubicBezTo>
                  <a:pt x="575" y="98"/>
                  <a:pt x="575" y="98"/>
                  <a:pt x="575" y="98"/>
                </a:cubicBezTo>
                <a:cubicBezTo>
                  <a:pt x="575" y="97"/>
                  <a:pt x="575" y="97"/>
                  <a:pt x="575" y="97"/>
                </a:cubicBezTo>
                <a:cubicBezTo>
                  <a:pt x="523" y="49"/>
                  <a:pt x="523" y="49"/>
                  <a:pt x="523" y="49"/>
                </a:cubicBezTo>
                <a:cubicBezTo>
                  <a:pt x="503" y="38"/>
                  <a:pt x="503" y="38"/>
                  <a:pt x="503" y="38"/>
                </a:cubicBezTo>
                <a:cubicBezTo>
                  <a:pt x="472" y="26"/>
                  <a:pt x="472" y="26"/>
                  <a:pt x="472" y="26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56" y="14"/>
                  <a:pt x="456" y="14"/>
                  <a:pt x="456" y="14"/>
                </a:cubicBezTo>
                <a:cubicBezTo>
                  <a:pt x="429" y="6"/>
                  <a:pt x="429" y="6"/>
                  <a:pt x="429" y="6"/>
                </a:cubicBezTo>
                <a:cubicBezTo>
                  <a:pt x="415" y="7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380" y="5"/>
                  <a:pt x="380" y="5"/>
                  <a:pt x="380" y="5"/>
                </a:cubicBezTo>
                <a:cubicBezTo>
                  <a:pt x="379" y="5"/>
                  <a:pt x="379" y="5"/>
                  <a:pt x="379" y="5"/>
                </a:cubicBezTo>
                <a:cubicBezTo>
                  <a:pt x="354" y="0"/>
                  <a:pt x="354" y="0"/>
                  <a:pt x="354" y="0"/>
                </a:cubicBezTo>
                <a:cubicBezTo>
                  <a:pt x="340" y="0"/>
                  <a:pt x="340" y="0"/>
                  <a:pt x="340" y="0"/>
                </a:cubicBezTo>
                <a:cubicBezTo>
                  <a:pt x="328" y="8"/>
                  <a:pt x="328" y="8"/>
                  <a:pt x="328" y="8"/>
                </a:cubicBezTo>
                <a:cubicBezTo>
                  <a:pt x="322" y="11"/>
                  <a:pt x="313" y="12"/>
                  <a:pt x="303" y="14"/>
                </a:cubicBezTo>
                <a:cubicBezTo>
                  <a:pt x="281" y="19"/>
                  <a:pt x="281" y="19"/>
                  <a:pt x="281" y="19"/>
                </a:cubicBezTo>
                <a:cubicBezTo>
                  <a:pt x="262" y="25"/>
                  <a:pt x="262" y="25"/>
                  <a:pt x="262" y="25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61" y="27"/>
                  <a:pt x="261" y="27"/>
                  <a:pt x="261" y="27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37" y="28"/>
                  <a:pt x="237" y="28"/>
                  <a:pt x="237" y="2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0" y="38"/>
                  <a:pt x="210" y="38"/>
                  <a:pt x="210" y="38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59" y="40"/>
                  <a:pt x="159" y="40"/>
                  <a:pt x="159" y="40"/>
                </a:cubicBezTo>
                <a:cubicBezTo>
                  <a:pt x="134" y="40"/>
                  <a:pt x="134" y="40"/>
                  <a:pt x="134" y="40"/>
                </a:cubicBezTo>
                <a:cubicBezTo>
                  <a:pt x="123" y="50"/>
                  <a:pt x="123" y="50"/>
                  <a:pt x="123" y="50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5" y="66"/>
                  <a:pt x="115" y="66"/>
                  <a:pt x="115" y="66"/>
                </a:cubicBezTo>
                <a:cubicBezTo>
                  <a:pt x="115" y="86"/>
                  <a:pt x="115" y="86"/>
                  <a:pt x="115" y="86"/>
                </a:cubicBezTo>
                <a:cubicBezTo>
                  <a:pt x="112" y="104"/>
                  <a:pt x="112" y="104"/>
                  <a:pt x="112" y="104"/>
                </a:cubicBezTo>
                <a:cubicBezTo>
                  <a:pt x="130" y="119"/>
                  <a:pt x="130" y="119"/>
                  <a:pt x="130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46" y="136"/>
                  <a:pt x="146" y="136"/>
                  <a:pt x="146" y="136"/>
                </a:cubicBezTo>
                <a:cubicBezTo>
                  <a:pt x="155" y="143"/>
                  <a:pt x="159" y="148"/>
                  <a:pt x="159" y="155"/>
                </a:cubicBezTo>
                <a:cubicBezTo>
                  <a:pt x="164" y="171"/>
                  <a:pt x="164" y="171"/>
                  <a:pt x="164" y="171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1" y="186"/>
                  <a:pt x="171" y="187"/>
                  <a:pt x="170" y="187"/>
                </a:cubicBezTo>
                <a:cubicBezTo>
                  <a:pt x="150" y="202"/>
                  <a:pt x="150" y="202"/>
                  <a:pt x="150" y="202"/>
                </a:cubicBezTo>
                <a:cubicBezTo>
                  <a:pt x="136" y="220"/>
                  <a:pt x="136" y="220"/>
                  <a:pt x="136" y="220"/>
                </a:cubicBezTo>
                <a:cubicBezTo>
                  <a:pt x="139" y="236"/>
                  <a:pt x="139" y="236"/>
                  <a:pt x="139" y="236"/>
                </a:cubicBezTo>
                <a:cubicBezTo>
                  <a:pt x="149" y="258"/>
                  <a:pt x="149" y="258"/>
                  <a:pt x="149" y="258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1"/>
                  <a:pt x="150" y="261"/>
                  <a:pt x="150" y="261"/>
                </a:cubicBezTo>
                <a:cubicBezTo>
                  <a:pt x="148" y="270"/>
                  <a:pt x="148" y="270"/>
                  <a:pt x="148" y="270"/>
                </a:cubicBezTo>
                <a:cubicBezTo>
                  <a:pt x="146" y="275"/>
                  <a:pt x="143" y="279"/>
                  <a:pt x="140" y="281"/>
                </a:cubicBezTo>
                <a:cubicBezTo>
                  <a:pt x="134" y="287"/>
                  <a:pt x="123" y="287"/>
                  <a:pt x="106" y="281"/>
                </a:cubicBezTo>
                <a:cubicBezTo>
                  <a:pt x="80" y="276"/>
                  <a:pt x="80" y="276"/>
                  <a:pt x="80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76"/>
                  <a:pt x="78" y="276"/>
                  <a:pt x="78" y="276"/>
                </a:cubicBezTo>
                <a:cubicBezTo>
                  <a:pt x="59" y="267"/>
                  <a:pt x="59" y="267"/>
                  <a:pt x="59" y="267"/>
                </a:cubicBezTo>
                <a:cubicBezTo>
                  <a:pt x="28" y="265"/>
                  <a:pt x="28" y="265"/>
                  <a:pt x="28" y="265"/>
                </a:cubicBezTo>
                <a:cubicBezTo>
                  <a:pt x="29" y="267"/>
                  <a:pt x="29" y="267"/>
                  <a:pt x="29" y="267"/>
                </a:cubicBezTo>
                <a:cubicBezTo>
                  <a:pt x="26" y="319"/>
                  <a:pt x="26" y="319"/>
                  <a:pt x="26" y="319"/>
                </a:cubicBezTo>
                <a:cubicBezTo>
                  <a:pt x="25" y="327"/>
                  <a:pt x="20" y="330"/>
                  <a:pt x="13" y="331"/>
                </a:cubicBezTo>
                <a:cubicBezTo>
                  <a:pt x="9" y="332"/>
                  <a:pt x="7" y="336"/>
                  <a:pt x="8" y="345"/>
                </a:cubicBezTo>
                <a:cubicBezTo>
                  <a:pt x="8" y="346"/>
                  <a:pt x="8" y="346"/>
                  <a:pt x="8" y="346"/>
                </a:cubicBezTo>
                <a:cubicBezTo>
                  <a:pt x="7" y="346"/>
                  <a:pt x="7" y="346"/>
                  <a:pt x="7" y="346"/>
                </a:cubicBezTo>
                <a:cubicBezTo>
                  <a:pt x="5" y="359"/>
                  <a:pt x="5" y="359"/>
                  <a:pt x="5" y="359"/>
                </a:cubicBezTo>
                <a:cubicBezTo>
                  <a:pt x="13" y="366"/>
                  <a:pt x="18" y="371"/>
                  <a:pt x="20" y="375"/>
                </a:cubicBezTo>
                <a:cubicBezTo>
                  <a:pt x="25" y="401"/>
                  <a:pt x="25" y="401"/>
                  <a:pt x="25" y="401"/>
                </a:cubicBezTo>
                <a:cubicBezTo>
                  <a:pt x="25" y="410"/>
                  <a:pt x="25" y="410"/>
                  <a:pt x="25" y="410"/>
                </a:cubicBezTo>
                <a:cubicBezTo>
                  <a:pt x="24" y="415"/>
                  <a:pt x="23" y="420"/>
                  <a:pt x="21" y="424"/>
                </a:cubicBezTo>
                <a:cubicBezTo>
                  <a:pt x="14" y="445"/>
                  <a:pt x="14" y="445"/>
                  <a:pt x="14" y="445"/>
                </a:cubicBezTo>
                <a:cubicBezTo>
                  <a:pt x="0" y="471"/>
                  <a:pt x="0" y="471"/>
                  <a:pt x="0" y="471"/>
                </a:cubicBezTo>
                <a:cubicBezTo>
                  <a:pt x="0" y="477"/>
                  <a:pt x="0" y="477"/>
                  <a:pt x="0" y="477"/>
                </a:cubicBezTo>
                <a:cubicBezTo>
                  <a:pt x="2" y="489"/>
                  <a:pt x="2" y="489"/>
                  <a:pt x="2" y="489"/>
                </a:cubicBezTo>
                <a:cubicBezTo>
                  <a:pt x="16" y="507"/>
                  <a:pt x="16" y="507"/>
                  <a:pt x="16" y="507"/>
                </a:cubicBezTo>
                <a:cubicBezTo>
                  <a:pt x="20" y="512"/>
                  <a:pt x="22" y="516"/>
                  <a:pt x="23" y="519"/>
                </a:cubicBezTo>
                <a:cubicBezTo>
                  <a:pt x="36" y="537"/>
                  <a:pt x="36" y="537"/>
                  <a:pt x="36" y="537"/>
                </a:cubicBezTo>
                <a:cubicBezTo>
                  <a:pt x="55" y="558"/>
                  <a:pt x="55" y="558"/>
                  <a:pt x="55" y="558"/>
                </a:cubicBezTo>
                <a:cubicBezTo>
                  <a:pt x="62" y="565"/>
                  <a:pt x="67" y="568"/>
                  <a:pt x="70" y="568"/>
                </a:cubicBezTo>
                <a:cubicBezTo>
                  <a:pt x="90" y="556"/>
                  <a:pt x="90" y="556"/>
                  <a:pt x="90" y="556"/>
                </a:cubicBezTo>
                <a:cubicBezTo>
                  <a:pt x="94" y="553"/>
                  <a:pt x="97" y="550"/>
                  <a:pt x="102" y="550"/>
                </a:cubicBezTo>
                <a:cubicBezTo>
                  <a:pt x="106" y="550"/>
                  <a:pt x="113" y="554"/>
                  <a:pt x="122" y="560"/>
                </a:cubicBezTo>
                <a:cubicBezTo>
                  <a:pt x="122" y="560"/>
                  <a:pt x="122" y="560"/>
                  <a:pt x="122" y="560"/>
                </a:cubicBezTo>
                <a:cubicBezTo>
                  <a:pt x="123" y="560"/>
                  <a:pt x="123" y="560"/>
                  <a:pt x="123" y="560"/>
                </a:cubicBezTo>
                <a:cubicBezTo>
                  <a:pt x="123" y="561"/>
                  <a:pt x="123" y="561"/>
                  <a:pt x="123" y="561"/>
                </a:cubicBezTo>
                <a:cubicBezTo>
                  <a:pt x="134" y="574"/>
                  <a:pt x="134" y="574"/>
                  <a:pt x="134" y="574"/>
                </a:cubicBezTo>
                <a:cubicBezTo>
                  <a:pt x="139" y="586"/>
                  <a:pt x="139" y="586"/>
                  <a:pt x="139" y="586"/>
                </a:cubicBezTo>
                <a:cubicBezTo>
                  <a:pt x="143" y="592"/>
                  <a:pt x="143" y="592"/>
                  <a:pt x="143" y="592"/>
                </a:cubicBezTo>
                <a:cubicBezTo>
                  <a:pt x="147" y="594"/>
                  <a:pt x="147" y="594"/>
                  <a:pt x="147" y="594"/>
                </a:cubicBezTo>
                <a:cubicBezTo>
                  <a:pt x="160" y="603"/>
                  <a:pt x="160" y="603"/>
                  <a:pt x="160" y="603"/>
                </a:cubicBezTo>
                <a:cubicBezTo>
                  <a:pt x="168" y="604"/>
                  <a:pt x="168" y="604"/>
                  <a:pt x="168" y="604"/>
                </a:cubicBezTo>
                <a:cubicBezTo>
                  <a:pt x="172" y="605"/>
                  <a:pt x="176" y="609"/>
                  <a:pt x="179" y="613"/>
                </a:cubicBezTo>
                <a:cubicBezTo>
                  <a:pt x="181" y="616"/>
                  <a:pt x="193" y="620"/>
                  <a:pt x="213" y="625"/>
                </a:cubicBezTo>
                <a:cubicBezTo>
                  <a:pt x="214" y="625"/>
                  <a:pt x="214" y="625"/>
                  <a:pt x="214" y="625"/>
                </a:cubicBezTo>
                <a:cubicBezTo>
                  <a:pt x="246" y="637"/>
                  <a:pt x="246" y="637"/>
                  <a:pt x="246" y="637"/>
                </a:cubicBezTo>
                <a:cubicBezTo>
                  <a:pt x="247" y="637"/>
                  <a:pt x="247" y="637"/>
                  <a:pt x="247" y="637"/>
                </a:cubicBezTo>
                <a:cubicBezTo>
                  <a:pt x="248" y="637"/>
                  <a:pt x="248" y="637"/>
                  <a:pt x="248" y="637"/>
                </a:cubicBezTo>
                <a:cubicBezTo>
                  <a:pt x="270" y="648"/>
                  <a:pt x="270" y="648"/>
                  <a:pt x="270" y="648"/>
                </a:cubicBezTo>
                <a:cubicBezTo>
                  <a:pt x="308" y="657"/>
                  <a:pt x="308" y="657"/>
                  <a:pt x="308" y="657"/>
                </a:cubicBezTo>
                <a:cubicBezTo>
                  <a:pt x="309" y="658"/>
                  <a:pt x="309" y="658"/>
                  <a:pt x="309" y="658"/>
                </a:cubicBezTo>
                <a:cubicBezTo>
                  <a:pt x="359" y="660"/>
                  <a:pt x="359" y="660"/>
                  <a:pt x="359" y="660"/>
                </a:cubicBezTo>
                <a:cubicBezTo>
                  <a:pt x="381" y="652"/>
                  <a:pt x="381" y="652"/>
                  <a:pt x="381" y="652"/>
                </a:cubicBezTo>
                <a:cubicBezTo>
                  <a:pt x="401" y="652"/>
                  <a:pt x="401" y="652"/>
                  <a:pt x="401" y="652"/>
                </a:cubicBezTo>
                <a:cubicBezTo>
                  <a:pt x="401" y="653"/>
                  <a:pt x="401" y="653"/>
                  <a:pt x="401" y="653"/>
                </a:cubicBezTo>
                <a:cubicBezTo>
                  <a:pt x="402" y="654"/>
                  <a:pt x="402" y="654"/>
                  <a:pt x="402" y="654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6"/>
                  <a:pt x="419" y="676"/>
                  <a:pt x="419" y="676"/>
                </a:cubicBezTo>
                <a:cubicBezTo>
                  <a:pt x="429" y="693"/>
                  <a:pt x="429" y="693"/>
                  <a:pt x="429" y="693"/>
                </a:cubicBezTo>
                <a:cubicBezTo>
                  <a:pt x="438" y="702"/>
                  <a:pt x="438" y="702"/>
                  <a:pt x="438" y="702"/>
                </a:cubicBezTo>
                <a:cubicBezTo>
                  <a:pt x="449" y="708"/>
                  <a:pt x="449" y="708"/>
                  <a:pt x="449" y="708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2" y="710"/>
                  <a:pt x="452" y="710"/>
                  <a:pt x="452" y="710"/>
                </a:cubicBezTo>
                <a:cubicBezTo>
                  <a:pt x="461" y="731"/>
                  <a:pt x="461" y="731"/>
                  <a:pt x="461" y="731"/>
                </a:cubicBezTo>
                <a:cubicBezTo>
                  <a:pt x="461" y="732"/>
                  <a:pt x="461" y="732"/>
                  <a:pt x="461" y="732"/>
                </a:cubicBezTo>
                <a:cubicBezTo>
                  <a:pt x="462" y="732"/>
                  <a:pt x="462" y="732"/>
                  <a:pt x="462" y="732"/>
                </a:cubicBezTo>
                <a:cubicBezTo>
                  <a:pt x="462" y="733"/>
                  <a:pt x="462" y="733"/>
                  <a:pt x="462" y="733"/>
                </a:cubicBezTo>
                <a:cubicBezTo>
                  <a:pt x="467" y="756"/>
                  <a:pt x="467" y="756"/>
                  <a:pt x="467" y="756"/>
                </a:cubicBezTo>
                <a:cubicBezTo>
                  <a:pt x="482" y="762"/>
                  <a:pt x="482" y="762"/>
                  <a:pt x="482" y="762"/>
                </a:cubicBezTo>
                <a:cubicBezTo>
                  <a:pt x="483" y="762"/>
                  <a:pt x="483" y="762"/>
                  <a:pt x="483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96" y="769"/>
                  <a:pt x="496" y="769"/>
                  <a:pt x="496" y="769"/>
                </a:cubicBezTo>
                <a:cubicBezTo>
                  <a:pt x="512" y="766"/>
                  <a:pt x="512" y="766"/>
                  <a:pt x="512" y="766"/>
                </a:cubicBezTo>
                <a:cubicBezTo>
                  <a:pt x="516" y="750"/>
                  <a:pt x="516" y="750"/>
                  <a:pt x="516" y="750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7" y="748"/>
                  <a:pt x="517" y="748"/>
                  <a:pt x="517" y="748"/>
                </a:cubicBezTo>
                <a:cubicBezTo>
                  <a:pt x="535" y="730"/>
                  <a:pt x="535" y="730"/>
                  <a:pt x="535" y="730"/>
                </a:cubicBezTo>
                <a:cubicBezTo>
                  <a:pt x="555" y="735"/>
                  <a:pt x="555" y="735"/>
                  <a:pt x="555" y="735"/>
                </a:cubicBezTo>
                <a:cubicBezTo>
                  <a:pt x="555" y="737"/>
                  <a:pt x="555" y="737"/>
                  <a:pt x="555" y="737"/>
                </a:cubicBezTo>
                <a:cubicBezTo>
                  <a:pt x="565" y="758"/>
                  <a:pt x="565" y="758"/>
                  <a:pt x="565" y="758"/>
                </a:cubicBezTo>
                <a:cubicBezTo>
                  <a:pt x="585" y="751"/>
                  <a:pt x="585" y="751"/>
                  <a:pt x="585" y="751"/>
                </a:cubicBezTo>
                <a:cubicBezTo>
                  <a:pt x="587" y="731"/>
                  <a:pt x="587" y="731"/>
                  <a:pt x="587" y="731"/>
                </a:cubicBezTo>
                <a:cubicBezTo>
                  <a:pt x="587" y="730"/>
                  <a:pt x="587" y="730"/>
                  <a:pt x="587" y="730"/>
                </a:cubicBezTo>
                <a:cubicBezTo>
                  <a:pt x="587" y="729"/>
                  <a:pt x="587" y="729"/>
                  <a:pt x="587" y="729"/>
                </a:cubicBezTo>
                <a:cubicBezTo>
                  <a:pt x="588" y="728"/>
                  <a:pt x="588" y="728"/>
                  <a:pt x="588" y="728"/>
                </a:cubicBezTo>
                <a:cubicBezTo>
                  <a:pt x="601" y="720"/>
                  <a:pt x="601" y="720"/>
                  <a:pt x="601" y="720"/>
                </a:cubicBezTo>
                <a:cubicBezTo>
                  <a:pt x="598" y="691"/>
                  <a:pt x="598" y="691"/>
                  <a:pt x="598" y="691"/>
                </a:cubicBezTo>
                <a:cubicBezTo>
                  <a:pt x="598" y="689"/>
                  <a:pt x="598" y="689"/>
                  <a:pt x="598" y="689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614" y="655"/>
                  <a:pt x="614" y="655"/>
                  <a:pt x="614" y="655"/>
                </a:cubicBezTo>
                <a:cubicBezTo>
                  <a:pt x="630" y="649"/>
                  <a:pt x="630" y="649"/>
                  <a:pt x="630" y="649"/>
                </a:cubicBezTo>
                <a:cubicBezTo>
                  <a:pt x="624" y="619"/>
                  <a:pt x="624" y="619"/>
                  <a:pt x="624" y="619"/>
                </a:cubicBezTo>
                <a:cubicBezTo>
                  <a:pt x="639" y="619"/>
                  <a:pt x="639" y="619"/>
                  <a:pt x="639" y="619"/>
                </a:cubicBezTo>
                <a:cubicBezTo>
                  <a:pt x="638" y="605"/>
                  <a:pt x="638" y="605"/>
                  <a:pt x="638" y="605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5"/>
                  <a:pt x="630" y="575"/>
                  <a:pt x="630" y="575"/>
                </a:cubicBezTo>
                <a:cubicBezTo>
                  <a:pt x="632" y="555"/>
                  <a:pt x="632" y="555"/>
                  <a:pt x="632" y="555"/>
                </a:cubicBezTo>
                <a:cubicBezTo>
                  <a:pt x="632" y="552"/>
                  <a:pt x="632" y="552"/>
                  <a:pt x="632" y="552"/>
                </a:cubicBezTo>
                <a:cubicBezTo>
                  <a:pt x="634" y="550"/>
                  <a:pt x="634" y="550"/>
                  <a:pt x="634" y="550"/>
                </a:cubicBezTo>
                <a:cubicBezTo>
                  <a:pt x="645" y="537"/>
                  <a:pt x="645" y="537"/>
                  <a:pt x="645" y="537"/>
                </a:cubicBezTo>
                <a:cubicBezTo>
                  <a:pt x="647" y="535"/>
                  <a:pt x="647" y="535"/>
                  <a:pt x="647" y="535"/>
                </a:cubicBezTo>
                <a:cubicBezTo>
                  <a:pt x="650" y="535"/>
                  <a:pt x="650" y="535"/>
                  <a:pt x="650" y="535"/>
                </a:cubicBezTo>
                <a:cubicBezTo>
                  <a:pt x="678" y="540"/>
                  <a:pt x="678" y="540"/>
                  <a:pt x="678" y="540"/>
                </a:cubicBezTo>
                <a:cubicBezTo>
                  <a:pt x="680" y="540"/>
                  <a:pt x="680" y="540"/>
                  <a:pt x="680" y="540"/>
                </a:cubicBezTo>
                <a:cubicBezTo>
                  <a:pt x="703" y="546"/>
                  <a:pt x="703" y="546"/>
                  <a:pt x="703" y="546"/>
                </a:cubicBezTo>
                <a:cubicBezTo>
                  <a:pt x="723" y="540"/>
                  <a:pt x="723" y="540"/>
                  <a:pt x="723" y="540"/>
                </a:cubicBezTo>
                <a:cubicBezTo>
                  <a:pt x="734" y="563"/>
                  <a:pt x="734" y="563"/>
                  <a:pt x="734" y="563"/>
                </a:cubicBezTo>
                <a:cubicBezTo>
                  <a:pt x="735" y="564"/>
                  <a:pt x="735" y="564"/>
                  <a:pt x="735" y="564"/>
                </a:cubicBezTo>
                <a:cubicBezTo>
                  <a:pt x="735" y="581"/>
                  <a:pt x="735" y="581"/>
                  <a:pt x="735" y="581"/>
                </a:cubicBezTo>
                <a:cubicBezTo>
                  <a:pt x="739" y="597"/>
                  <a:pt x="739" y="597"/>
                  <a:pt x="739" y="597"/>
                </a:cubicBezTo>
                <a:cubicBezTo>
                  <a:pt x="741" y="603"/>
                  <a:pt x="745" y="607"/>
                  <a:pt x="749" y="609"/>
                </a:cubicBezTo>
                <a:cubicBezTo>
                  <a:pt x="751" y="609"/>
                  <a:pt x="751" y="609"/>
                  <a:pt x="751" y="609"/>
                </a:cubicBezTo>
                <a:cubicBezTo>
                  <a:pt x="761" y="611"/>
                  <a:pt x="766" y="615"/>
                  <a:pt x="767" y="621"/>
                </a:cubicBezTo>
                <a:cubicBezTo>
                  <a:pt x="768" y="626"/>
                  <a:pt x="772" y="634"/>
                  <a:pt x="780" y="642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7"/>
                  <a:pt x="789" y="657"/>
                  <a:pt x="789" y="657"/>
                </a:cubicBezTo>
                <a:cubicBezTo>
                  <a:pt x="796" y="669"/>
                  <a:pt x="796" y="669"/>
                  <a:pt x="796" y="669"/>
                </a:cubicBezTo>
                <a:cubicBezTo>
                  <a:pt x="805" y="668"/>
                  <a:pt x="805" y="668"/>
                  <a:pt x="805" y="668"/>
                </a:cubicBezTo>
                <a:cubicBezTo>
                  <a:pt x="823" y="652"/>
                  <a:pt x="823" y="652"/>
                  <a:pt x="823" y="652"/>
                </a:cubicBezTo>
                <a:cubicBezTo>
                  <a:pt x="835" y="676"/>
                  <a:pt x="835" y="676"/>
                  <a:pt x="835" y="676"/>
                </a:cubicBezTo>
                <a:cubicBezTo>
                  <a:pt x="858" y="683"/>
                  <a:pt x="858" y="683"/>
                  <a:pt x="858" y="683"/>
                </a:cubicBezTo>
                <a:cubicBezTo>
                  <a:pt x="859" y="683"/>
                  <a:pt x="859" y="683"/>
                  <a:pt x="859" y="683"/>
                </a:cubicBezTo>
                <a:cubicBezTo>
                  <a:pt x="860" y="684"/>
                  <a:pt x="860" y="684"/>
                  <a:pt x="860" y="684"/>
                </a:cubicBezTo>
                <a:cubicBezTo>
                  <a:pt x="872" y="706"/>
                  <a:pt x="872" y="706"/>
                  <a:pt x="872" y="706"/>
                </a:cubicBezTo>
                <a:cubicBezTo>
                  <a:pt x="877" y="709"/>
                  <a:pt x="877" y="709"/>
                  <a:pt x="877" y="709"/>
                </a:cubicBezTo>
                <a:cubicBezTo>
                  <a:pt x="878" y="689"/>
                  <a:pt x="878" y="689"/>
                  <a:pt x="878" y="689"/>
                </a:cubicBezTo>
                <a:cubicBezTo>
                  <a:pt x="878" y="688"/>
                  <a:pt x="878" y="688"/>
                  <a:pt x="878" y="688"/>
                </a:cubicBezTo>
                <a:cubicBezTo>
                  <a:pt x="878" y="684"/>
                  <a:pt x="878" y="684"/>
                  <a:pt x="878" y="684"/>
                </a:cubicBezTo>
                <a:cubicBezTo>
                  <a:pt x="924" y="683"/>
                  <a:pt x="924" y="683"/>
                  <a:pt x="924" y="683"/>
                </a:cubicBezTo>
                <a:cubicBezTo>
                  <a:pt x="925" y="679"/>
                  <a:pt x="925" y="679"/>
                  <a:pt x="925" y="679"/>
                </a:cubicBezTo>
                <a:cubicBezTo>
                  <a:pt x="927" y="677"/>
                  <a:pt x="927" y="673"/>
                  <a:pt x="924" y="670"/>
                </a:cubicBezTo>
                <a:cubicBezTo>
                  <a:pt x="921" y="663"/>
                  <a:pt x="920" y="658"/>
                  <a:pt x="919" y="651"/>
                </a:cubicBezTo>
                <a:cubicBezTo>
                  <a:pt x="918" y="642"/>
                  <a:pt x="919" y="636"/>
                  <a:pt x="921" y="634"/>
                </a:cubicBezTo>
                <a:cubicBezTo>
                  <a:pt x="924" y="630"/>
                  <a:pt x="927" y="630"/>
                  <a:pt x="932" y="631"/>
                </a:cubicBezTo>
                <a:cubicBezTo>
                  <a:pt x="951" y="637"/>
                  <a:pt x="951" y="637"/>
                  <a:pt x="951" y="637"/>
                </a:cubicBezTo>
                <a:cubicBezTo>
                  <a:pt x="953" y="623"/>
                  <a:pt x="953" y="623"/>
                  <a:pt x="953" y="623"/>
                </a:cubicBezTo>
                <a:cubicBezTo>
                  <a:pt x="918" y="607"/>
                  <a:pt x="918" y="607"/>
                  <a:pt x="918" y="607"/>
                </a:cubicBezTo>
                <a:cubicBezTo>
                  <a:pt x="916" y="607"/>
                  <a:pt x="916" y="607"/>
                  <a:pt x="916" y="607"/>
                </a:cubicBezTo>
                <a:cubicBezTo>
                  <a:pt x="915" y="605"/>
                  <a:pt x="915" y="605"/>
                  <a:pt x="915" y="605"/>
                </a:cubicBezTo>
                <a:cubicBezTo>
                  <a:pt x="915" y="604"/>
                  <a:pt x="915" y="604"/>
                  <a:pt x="915" y="604"/>
                </a:cubicBezTo>
                <a:cubicBezTo>
                  <a:pt x="915" y="603"/>
                  <a:pt x="915" y="603"/>
                  <a:pt x="915" y="603"/>
                </a:cubicBezTo>
                <a:cubicBezTo>
                  <a:pt x="910" y="561"/>
                  <a:pt x="910" y="561"/>
                  <a:pt x="910" y="561"/>
                </a:cubicBezTo>
                <a:cubicBezTo>
                  <a:pt x="911" y="535"/>
                  <a:pt x="911" y="535"/>
                  <a:pt x="911" y="535"/>
                </a:cubicBezTo>
                <a:cubicBezTo>
                  <a:pt x="911" y="531"/>
                  <a:pt x="911" y="531"/>
                  <a:pt x="911" y="531"/>
                </a:cubicBezTo>
                <a:cubicBezTo>
                  <a:pt x="911" y="529"/>
                  <a:pt x="911" y="529"/>
                  <a:pt x="911" y="529"/>
                </a:cubicBezTo>
                <a:cubicBezTo>
                  <a:pt x="969" y="537"/>
                  <a:pt x="969" y="537"/>
                  <a:pt x="969" y="537"/>
                </a:cubicBezTo>
                <a:cubicBezTo>
                  <a:pt x="983" y="523"/>
                  <a:pt x="983" y="523"/>
                  <a:pt x="983" y="523"/>
                </a:cubicBezTo>
                <a:cubicBezTo>
                  <a:pt x="987" y="518"/>
                  <a:pt x="986" y="514"/>
                  <a:pt x="983" y="512"/>
                </a:cubicBezTo>
                <a:cubicBezTo>
                  <a:pt x="969" y="507"/>
                  <a:pt x="961" y="501"/>
                  <a:pt x="961" y="495"/>
                </a:cubicBezTo>
                <a:cubicBezTo>
                  <a:pt x="961" y="491"/>
                  <a:pt x="962" y="487"/>
                  <a:pt x="968" y="485"/>
                </a:cubicBezTo>
                <a:cubicBezTo>
                  <a:pt x="992" y="461"/>
                  <a:pt x="992" y="461"/>
                  <a:pt x="992" y="461"/>
                </a:cubicBezTo>
                <a:cubicBezTo>
                  <a:pt x="1018" y="460"/>
                  <a:pt x="1018" y="460"/>
                  <a:pt x="1018" y="460"/>
                </a:cubicBezTo>
                <a:cubicBezTo>
                  <a:pt x="1032" y="436"/>
                  <a:pt x="1032" y="436"/>
                  <a:pt x="1032" y="436"/>
                </a:cubicBezTo>
                <a:cubicBezTo>
                  <a:pt x="1032" y="414"/>
                  <a:pt x="1032" y="414"/>
                  <a:pt x="1032" y="414"/>
                </a:cubicBezTo>
                <a:cubicBezTo>
                  <a:pt x="1052" y="410"/>
                  <a:pt x="1052" y="410"/>
                  <a:pt x="1052" y="410"/>
                </a:cubicBezTo>
                <a:cubicBezTo>
                  <a:pt x="1057" y="394"/>
                  <a:pt x="1061" y="386"/>
                  <a:pt x="1063" y="383"/>
                </a:cubicBezTo>
                <a:cubicBezTo>
                  <a:pt x="1071" y="365"/>
                  <a:pt x="1071" y="365"/>
                  <a:pt x="1071" y="365"/>
                </a:cubicBezTo>
                <a:cubicBezTo>
                  <a:pt x="1056" y="338"/>
                  <a:pt x="1056" y="338"/>
                  <a:pt x="1056" y="338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6"/>
                  <a:pt x="1056" y="336"/>
                  <a:pt x="1056" y="336"/>
                </a:cubicBezTo>
                <a:cubicBezTo>
                  <a:pt x="1047" y="300"/>
                  <a:pt x="1047" y="300"/>
                  <a:pt x="1047" y="300"/>
                </a:cubicBezTo>
                <a:cubicBezTo>
                  <a:pt x="1047" y="299"/>
                  <a:pt x="1047" y="299"/>
                  <a:pt x="1047" y="299"/>
                </a:cubicBezTo>
                <a:cubicBezTo>
                  <a:pt x="1040" y="262"/>
                  <a:pt x="1040" y="262"/>
                  <a:pt x="1040" y="262"/>
                </a:cubicBezTo>
                <a:cubicBezTo>
                  <a:pt x="1028" y="241"/>
                  <a:pt x="1028" y="241"/>
                  <a:pt x="1028" y="241"/>
                </a:cubicBezTo>
                <a:cubicBezTo>
                  <a:pt x="1009" y="222"/>
                  <a:pt x="1009" y="222"/>
                  <a:pt x="1009" y="222"/>
                </a:cubicBezTo>
                <a:cubicBezTo>
                  <a:pt x="1009" y="221"/>
                  <a:pt x="1009" y="221"/>
                  <a:pt x="1009" y="221"/>
                </a:cubicBezTo>
                <a:cubicBezTo>
                  <a:pt x="1009" y="220"/>
                  <a:pt x="1009" y="220"/>
                  <a:pt x="1009" y="220"/>
                </a:cubicBezTo>
                <a:cubicBezTo>
                  <a:pt x="1008" y="219"/>
                  <a:pt x="1008" y="219"/>
                  <a:pt x="1008" y="219"/>
                </a:cubicBezTo>
                <a:cubicBezTo>
                  <a:pt x="1007" y="199"/>
                  <a:pt x="1007" y="199"/>
                  <a:pt x="1007" y="199"/>
                </a:cubicBezTo>
                <a:cubicBezTo>
                  <a:pt x="972" y="210"/>
                  <a:pt x="972" y="210"/>
                  <a:pt x="972" y="210"/>
                </a:cubicBezTo>
                <a:cubicBezTo>
                  <a:pt x="971" y="208"/>
                  <a:pt x="971" y="208"/>
                  <a:pt x="971" y="208"/>
                </a:cubicBezTo>
                <a:cubicBezTo>
                  <a:pt x="955" y="191"/>
                  <a:pt x="955" y="191"/>
                  <a:pt x="955" y="191"/>
                </a:cubicBezTo>
                <a:cubicBezTo>
                  <a:pt x="908" y="155"/>
                  <a:pt x="908" y="155"/>
                  <a:pt x="908" y="155"/>
                </a:cubicBezTo>
                <a:cubicBezTo>
                  <a:pt x="906" y="155"/>
                  <a:pt x="906" y="155"/>
                  <a:pt x="906" y="155"/>
                </a:cubicBezTo>
                <a:cubicBezTo>
                  <a:pt x="889" y="131"/>
                  <a:pt x="889" y="131"/>
                  <a:pt x="889" y="131"/>
                </a:cubicBezTo>
                <a:cubicBezTo>
                  <a:pt x="877" y="124"/>
                  <a:pt x="877" y="124"/>
                  <a:pt x="877" y="124"/>
                </a:cubicBezTo>
                <a:cubicBezTo>
                  <a:pt x="870" y="136"/>
                  <a:pt x="870" y="136"/>
                  <a:pt x="870" y="136"/>
                </a:cubicBezTo>
                <a:cubicBezTo>
                  <a:pt x="870" y="138"/>
                  <a:pt x="870" y="138"/>
                  <a:pt x="870" y="138"/>
                </a:cubicBezTo>
                <a:cubicBezTo>
                  <a:pt x="868" y="139"/>
                  <a:pt x="868" y="139"/>
                  <a:pt x="868" y="139"/>
                </a:cubicBezTo>
                <a:cubicBezTo>
                  <a:pt x="867" y="139"/>
                  <a:pt x="867" y="139"/>
                  <a:pt x="867" y="139"/>
                </a:cubicBezTo>
                <a:cubicBezTo>
                  <a:pt x="865" y="139"/>
                  <a:pt x="865" y="139"/>
                  <a:pt x="865" y="139"/>
                </a:cubicBezTo>
                <a:cubicBezTo>
                  <a:pt x="851" y="140"/>
                  <a:pt x="851" y="140"/>
                  <a:pt x="851" y="140"/>
                </a:cubicBezTo>
                <a:cubicBezTo>
                  <a:pt x="848" y="141"/>
                  <a:pt x="848" y="141"/>
                  <a:pt x="848" y="141"/>
                </a:cubicBezTo>
                <a:cubicBezTo>
                  <a:pt x="847" y="141"/>
                  <a:pt x="847" y="141"/>
                  <a:pt x="847" y="141"/>
                </a:cubicBezTo>
                <a:cubicBezTo>
                  <a:pt x="813" y="103"/>
                  <a:pt x="813" y="103"/>
                  <a:pt x="813" y="103"/>
                </a:cubicBezTo>
                <a:cubicBezTo>
                  <a:pt x="805" y="100"/>
                  <a:pt x="798" y="92"/>
                  <a:pt x="787" y="82"/>
                </a:cubicBezTo>
                <a:cubicBezTo>
                  <a:pt x="771" y="70"/>
                  <a:pt x="771" y="70"/>
                  <a:pt x="771" y="70"/>
                </a:cubicBezTo>
                <a:cubicBezTo>
                  <a:pt x="770" y="69"/>
                  <a:pt x="770" y="69"/>
                  <a:pt x="770" y="69"/>
                </a:cubicBezTo>
                <a:cubicBezTo>
                  <a:pt x="752" y="59"/>
                  <a:pt x="752" y="59"/>
                  <a:pt x="752" y="59"/>
                </a:cubicBezTo>
                <a:cubicBezTo>
                  <a:pt x="742" y="67"/>
                  <a:pt x="742" y="67"/>
                  <a:pt x="742" y="67"/>
                </a:cubicBezTo>
                <a:cubicBezTo>
                  <a:pt x="741" y="69"/>
                  <a:pt x="741" y="69"/>
                  <a:pt x="741" y="69"/>
                </a:cubicBezTo>
                <a:cubicBezTo>
                  <a:pt x="740" y="68"/>
                  <a:pt x="740" y="68"/>
                  <a:pt x="740" y="68"/>
                </a:cubicBezTo>
                <a:cubicBezTo>
                  <a:pt x="739" y="68"/>
                  <a:pt x="739" y="68"/>
                  <a:pt x="739" y="68"/>
                </a:cubicBezTo>
                <a:cubicBezTo>
                  <a:pt x="729" y="66"/>
                  <a:pt x="729" y="66"/>
                  <a:pt x="729" y="66"/>
                </a:cubicBezTo>
                <a:cubicBezTo>
                  <a:pt x="719" y="71"/>
                  <a:pt x="719" y="71"/>
                  <a:pt x="719" y="71"/>
                </a:cubicBezTo>
                <a:cubicBezTo>
                  <a:pt x="718" y="72"/>
                  <a:pt x="718" y="72"/>
                  <a:pt x="718" y="72"/>
                </a:cubicBezTo>
                <a:cubicBezTo>
                  <a:pt x="716" y="73"/>
                  <a:pt x="716" y="73"/>
                  <a:pt x="716" y="73"/>
                </a:cubicBezTo>
                <a:cubicBezTo>
                  <a:pt x="715" y="73"/>
                  <a:pt x="715" y="73"/>
                  <a:pt x="715" y="73"/>
                </a:cubicBezTo>
                <a:cubicBezTo>
                  <a:pt x="701" y="76"/>
                  <a:pt x="701" y="76"/>
                  <a:pt x="701" y="76"/>
                </a:cubicBezTo>
                <a:cubicBezTo>
                  <a:pt x="681" y="64"/>
                  <a:pt x="661" y="52"/>
                  <a:pt x="639" y="40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"/>
          <p:cNvSpPr/>
          <p:nvPr/>
        </p:nvSpPr>
        <p:spPr>
          <a:xfrm>
            <a:off x="2109960" y="3057480"/>
            <a:ext cx="877680" cy="752400"/>
          </a:xfrm>
          <a:custGeom>
            <a:avLst/>
            <a:gdLst/>
            <a:ahLst/>
            <a:rect l="l" t="t" r="r" b="b"/>
            <a:pathLst>
              <a:path w="928" h="814">
                <a:moveTo>
                  <a:pt x="87" y="20"/>
                </a:moveTo>
                <a:cubicBezTo>
                  <a:pt x="62" y="12"/>
                  <a:pt x="62" y="12"/>
                  <a:pt x="62" y="12"/>
                </a:cubicBezTo>
                <a:cubicBezTo>
                  <a:pt x="37" y="9"/>
                  <a:pt x="37" y="9"/>
                  <a:pt x="37" y="9"/>
                </a:cubicBezTo>
                <a:cubicBezTo>
                  <a:pt x="29" y="19"/>
                  <a:pt x="29" y="19"/>
                  <a:pt x="29" y="19"/>
                </a:cubicBezTo>
                <a:cubicBezTo>
                  <a:pt x="27" y="37"/>
                  <a:pt x="27" y="37"/>
                  <a:pt x="27" y="37"/>
                </a:cubicBezTo>
                <a:cubicBezTo>
                  <a:pt x="28" y="38"/>
                  <a:pt x="28" y="38"/>
                  <a:pt x="28" y="38"/>
                </a:cubicBezTo>
                <a:cubicBezTo>
                  <a:pt x="35" y="65"/>
                  <a:pt x="35" y="65"/>
                  <a:pt x="35" y="65"/>
                </a:cubicBezTo>
                <a:cubicBezTo>
                  <a:pt x="36" y="86"/>
                  <a:pt x="36" y="86"/>
                  <a:pt x="36" y="86"/>
                </a:cubicBezTo>
                <a:cubicBezTo>
                  <a:pt x="36" y="93"/>
                  <a:pt x="36" y="93"/>
                  <a:pt x="36" y="93"/>
                </a:cubicBezTo>
                <a:cubicBezTo>
                  <a:pt x="23" y="93"/>
                  <a:pt x="23" y="93"/>
                  <a:pt x="23" y="93"/>
                </a:cubicBezTo>
                <a:cubicBezTo>
                  <a:pt x="29" y="118"/>
                  <a:pt x="29" y="118"/>
                  <a:pt x="29" y="118"/>
                </a:cubicBezTo>
                <a:cubicBezTo>
                  <a:pt x="9" y="125"/>
                  <a:pt x="9" y="125"/>
                  <a:pt x="9" y="125"/>
                </a:cubicBezTo>
                <a:cubicBezTo>
                  <a:pt x="0" y="141"/>
                  <a:pt x="0" y="141"/>
                  <a:pt x="0" y="141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3" y="151"/>
                  <a:pt x="13" y="151"/>
                  <a:pt x="13" y="151"/>
                </a:cubicBezTo>
                <a:cubicBezTo>
                  <a:pt x="13" y="151"/>
                  <a:pt x="13" y="151"/>
                  <a:pt x="13" y="151"/>
                </a:cubicBezTo>
                <a:cubicBezTo>
                  <a:pt x="50" y="180"/>
                  <a:pt x="50" y="180"/>
                  <a:pt x="50" y="180"/>
                </a:cubicBezTo>
                <a:cubicBezTo>
                  <a:pt x="51" y="181"/>
                  <a:pt x="51" y="181"/>
                  <a:pt x="51" y="181"/>
                </a:cubicBezTo>
                <a:cubicBezTo>
                  <a:pt x="52" y="181"/>
                  <a:pt x="52" y="181"/>
                  <a:pt x="52" y="181"/>
                </a:cubicBezTo>
                <a:cubicBezTo>
                  <a:pt x="52" y="182"/>
                  <a:pt x="52" y="182"/>
                  <a:pt x="52" y="182"/>
                </a:cubicBezTo>
                <a:cubicBezTo>
                  <a:pt x="52" y="183"/>
                  <a:pt x="52" y="183"/>
                  <a:pt x="52" y="183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74" y="234"/>
                  <a:pt x="74" y="234"/>
                  <a:pt x="74" y="234"/>
                </a:cubicBezTo>
                <a:cubicBezTo>
                  <a:pt x="78" y="240"/>
                  <a:pt x="84" y="247"/>
                  <a:pt x="93" y="255"/>
                </a:cubicBezTo>
                <a:cubicBezTo>
                  <a:pt x="94" y="255"/>
                  <a:pt x="94" y="255"/>
                  <a:pt x="94" y="255"/>
                </a:cubicBezTo>
                <a:cubicBezTo>
                  <a:pt x="95" y="256"/>
                  <a:pt x="95" y="256"/>
                  <a:pt x="95" y="256"/>
                </a:cubicBezTo>
                <a:cubicBezTo>
                  <a:pt x="95" y="257"/>
                  <a:pt x="95" y="257"/>
                  <a:pt x="95" y="257"/>
                </a:cubicBezTo>
                <a:cubicBezTo>
                  <a:pt x="94" y="259"/>
                  <a:pt x="94" y="259"/>
                  <a:pt x="94" y="259"/>
                </a:cubicBezTo>
                <a:cubicBezTo>
                  <a:pt x="94" y="283"/>
                  <a:pt x="94" y="283"/>
                  <a:pt x="94" y="283"/>
                </a:cubicBezTo>
                <a:cubicBezTo>
                  <a:pt x="97" y="289"/>
                  <a:pt x="98" y="303"/>
                  <a:pt x="98" y="323"/>
                </a:cubicBezTo>
                <a:cubicBezTo>
                  <a:pt x="108" y="336"/>
                  <a:pt x="112" y="346"/>
                  <a:pt x="112" y="352"/>
                </a:cubicBezTo>
                <a:cubicBezTo>
                  <a:pt x="112" y="357"/>
                  <a:pt x="115" y="365"/>
                  <a:pt x="120" y="377"/>
                </a:cubicBezTo>
                <a:cubicBezTo>
                  <a:pt x="120" y="377"/>
                  <a:pt x="120" y="377"/>
                  <a:pt x="120" y="377"/>
                </a:cubicBezTo>
                <a:cubicBezTo>
                  <a:pt x="120" y="378"/>
                  <a:pt x="120" y="378"/>
                  <a:pt x="120" y="378"/>
                </a:cubicBezTo>
                <a:cubicBezTo>
                  <a:pt x="120" y="378"/>
                  <a:pt x="120" y="378"/>
                  <a:pt x="120" y="378"/>
                </a:cubicBezTo>
                <a:cubicBezTo>
                  <a:pt x="123" y="392"/>
                  <a:pt x="122" y="405"/>
                  <a:pt x="118" y="416"/>
                </a:cubicBezTo>
                <a:cubicBezTo>
                  <a:pt x="115" y="423"/>
                  <a:pt x="119" y="437"/>
                  <a:pt x="131" y="456"/>
                </a:cubicBezTo>
                <a:cubicBezTo>
                  <a:pt x="132" y="457"/>
                  <a:pt x="132" y="457"/>
                  <a:pt x="132" y="457"/>
                </a:cubicBezTo>
                <a:cubicBezTo>
                  <a:pt x="133" y="459"/>
                  <a:pt x="133" y="459"/>
                  <a:pt x="133" y="459"/>
                </a:cubicBezTo>
                <a:cubicBezTo>
                  <a:pt x="132" y="461"/>
                  <a:pt x="132" y="461"/>
                  <a:pt x="132" y="461"/>
                </a:cubicBezTo>
                <a:cubicBezTo>
                  <a:pt x="115" y="498"/>
                  <a:pt x="115" y="498"/>
                  <a:pt x="115" y="498"/>
                </a:cubicBezTo>
                <a:cubicBezTo>
                  <a:pt x="118" y="506"/>
                  <a:pt x="119" y="513"/>
                  <a:pt x="119" y="517"/>
                </a:cubicBezTo>
                <a:cubicBezTo>
                  <a:pt x="115" y="552"/>
                  <a:pt x="115" y="552"/>
                  <a:pt x="115" y="552"/>
                </a:cubicBezTo>
                <a:cubicBezTo>
                  <a:pt x="113" y="563"/>
                  <a:pt x="113" y="570"/>
                  <a:pt x="118" y="572"/>
                </a:cubicBezTo>
                <a:cubicBezTo>
                  <a:pt x="125" y="576"/>
                  <a:pt x="125" y="576"/>
                  <a:pt x="125" y="576"/>
                </a:cubicBezTo>
                <a:cubicBezTo>
                  <a:pt x="134" y="580"/>
                  <a:pt x="137" y="586"/>
                  <a:pt x="137" y="591"/>
                </a:cubicBezTo>
                <a:cubicBezTo>
                  <a:pt x="136" y="609"/>
                  <a:pt x="136" y="609"/>
                  <a:pt x="136" y="609"/>
                </a:cubicBezTo>
                <a:cubicBezTo>
                  <a:pt x="142" y="611"/>
                  <a:pt x="142" y="611"/>
                  <a:pt x="142" y="611"/>
                </a:cubicBezTo>
                <a:cubicBezTo>
                  <a:pt x="143" y="612"/>
                  <a:pt x="143" y="612"/>
                  <a:pt x="143" y="612"/>
                </a:cubicBezTo>
                <a:cubicBezTo>
                  <a:pt x="146" y="609"/>
                  <a:pt x="146" y="609"/>
                  <a:pt x="146" y="609"/>
                </a:cubicBezTo>
                <a:cubicBezTo>
                  <a:pt x="149" y="606"/>
                  <a:pt x="152" y="601"/>
                  <a:pt x="153" y="596"/>
                </a:cubicBezTo>
                <a:cubicBezTo>
                  <a:pt x="155" y="593"/>
                  <a:pt x="155" y="593"/>
                  <a:pt x="155" y="593"/>
                </a:cubicBezTo>
                <a:cubicBezTo>
                  <a:pt x="156" y="591"/>
                  <a:pt x="156" y="591"/>
                  <a:pt x="156" y="591"/>
                </a:cubicBezTo>
                <a:cubicBezTo>
                  <a:pt x="161" y="589"/>
                  <a:pt x="163" y="586"/>
                  <a:pt x="166" y="581"/>
                </a:cubicBezTo>
                <a:cubicBezTo>
                  <a:pt x="167" y="575"/>
                  <a:pt x="167" y="569"/>
                  <a:pt x="165" y="561"/>
                </a:cubicBezTo>
                <a:cubicBezTo>
                  <a:pt x="163" y="556"/>
                  <a:pt x="163" y="556"/>
                  <a:pt x="163" y="556"/>
                </a:cubicBezTo>
                <a:cubicBezTo>
                  <a:pt x="168" y="555"/>
                  <a:pt x="168" y="555"/>
                  <a:pt x="168" y="555"/>
                </a:cubicBezTo>
                <a:cubicBezTo>
                  <a:pt x="185" y="551"/>
                  <a:pt x="194" y="552"/>
                  <a:pt x="198" y="559"/>
                </a:cubicBezTo>
                <a:cubicBezTo>
                  <a:pt x="206" y="580"/>
                  <a:pt x="206" y="580"/>
                  <a:pt x="206" y="580"/>
                </a:cubicBezTo>
                <a:cubicBezTo>
                  <a:pt x="206" y="581"/>
                  <a:pt x="206" y="581"/>
                  <a:pt x="206" y="581"/>
                </a:cubicBezTo>
                <a:cubicBezTo>
                  <a:pt x="206" y="582"/>
                  <a:pt x="206" y="582"/>
                  <a:pt x="206" y="582"/>
                </a:cubicBezTo>
                <a:cubicBezTo>
                  <a:pt x="210" y="617"/>
                  <a:pt x="210" y="617"/>
                  <a:pt x="210" y="617"/>
                </a:cubicBezTo>
                <a:cubicBezTo>
                  <a:pt x="224" y="625"/>
                  <a:pt x="224" y="625"/>
                  <a:pt x="224" y="625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26" y="625"/>
                  <a:pt x="226" y="625"/>
                  <a:pt x="226" y="625"/>
                </a:cubicBezTo>
                <a:cubicBezTo>
                  <a:pt x="234" y="632"/>
                  <a:pt x="234" y="632"/>
                  <a:pt x="234" y="632"/>
                </a:cubicBezTo>
                <a:cubicBezTo>
                  <a:pt x="243" y="622"/>
                  <a:pt x="243" y="622"/>
                  <a:pt x="243" y="622"/>
                </a:cubicBezTo>
                <a:cubicBezTo>
                  <a:pt x="252" y="615"/>
                  <a:pt x="252" y="615"/>
                  <a:pt x="252" y="615"/>
                </a:cubicBezTo>
                <a:cubicBezTo>
                  <a:pt x="256" y="615"/>
                  <a:pt x="256" y="615"/>
                  <a:pt x="256" y="615"/>
                </a:cubicBezTo>
                <a:cubicBezTo>
                  <a:pt x="263" y="617"/>
                  <a:pt x="267" y="622"/>
                  <a:pt x="269" y="630"/>
                </a:cubicBezTo>
                <a:cubicBezTo>
                  <a:pt x="274" y="657"/>
                  <a:pt x="274" y="657"/>
                  <a:pt x="274" y="657"/>
                </a:cubicBezTo>
                <a:cubicBezTo>
                  <a:pt x="275" y="662"/>
                  <a:pt x="275" y="662"/>
                  <a:pt x="275" y="662"/>
                </a:cubicBezTo>
                <a:cubicBezTo>
                  <a:pt x="303" y="723"/>
                  <a:pt x="303" y="723"/>
                  <a:pt x="303" y="723"/>
                </a:cubicBezTo>
                <a:cubicBezTo>
                  <a:pt x="315" y="734"/>
                  <a:pt x="315" y="734"/>
                  <a:pt x="315" y="734"/>
                </a:cubicBezTo>
                <a:cubicBezTo>
                  <a:pt x="316" y="735"/>
                  <a:pt x="316" y="735"/>
                  <a:pt x="316" y="735"/>
                </a:cubicBezTo>
                <a:cubicBezTo>
                  <a:pt x="316" y="736"/>
                  <a:pt x="316" y="736"/>
                  <a:pt x="316" y="736"/>
                </a:cubicBezTo>
                <a:cubicBezTo>
                  <a:pt x="321" y="762"/>
                  <a:pt x="321" y="762"/>
                  <a:pt x="321" y="762"/>
                </a:cubicBezTo>
                <a:cubicBezTo>
                  <a:pt x="321" y="762"/>
                  <a:pt x="321" y="762"/>
                  <a:pt x="321" y="762"/>
                </a:cubicBezTo>
                <a:cubicBezTo>
                  <a:pt x="323" y="786"/>
                  <a:pt x="323" y="786"/>
                  <a:pt x="323" y="786"/>
                </a:cubicBezTo>
                <a:cubicBezTo>
                  <a:pt x="324" y="788"/>
                  <a:pt x="324" y="788"/>
                  <a:pt x="324" y="788"/>
                </a:cubicBezTo>
                <a:cubicBezTo>
                  <a:pt x="332" y="778"/>
                  <a:pt x="338" y="772"/>
                  <a:pt x="342" y="774"/>
                </a:cubicBezTo>
                <a:cubicBezTo>
                  <a:pt x="346" y="776"/>
                  <a:pt x="347" y="778"/>
                  <a:pt x="347" y="782"/>
                </a:cubicBezTo>
                <a:cubicBezTo>
                  <a:pt x="347" y="788"/>
                  <a:pt x="347" y="788"/>
                  <a:pt x="347" y="788"/>
                </a:cubicBezTo>
                <a:cubicBezTo>
                  <a:pt x="347" y="807"/>
                  <a:pt x="347" y="807"/>
                  <a:pt x="347" y="807"/>
                </a:cubicBezTo>
                <a:cubicBezTo>
                  <a:pt x="347" y="812"/>
                  <a:pt x="347" y="812"/>
                  <a:pt x="347" y="812"/>
                </a:cubicBezTo>
                <a:cubicBezTo>
                  <a:pt x="353" y="814"/>
                  <a:pt x="357" y="812"/>
                  <a:pt x="358" y="809"/>
                </a:cubicBezTo>
                <a:cubicBezTo>
                  <a:pt x="368" y="795"/>
                  <a:pt x="368" y="795"/>
                  <a:pt x="368" y="795"/>
                </a:cubicBezTo>
                <a:cubicBezTo>
                  <a:pt x="380" y="783"/>
                  <a:pt x="380" y="783"/>
                  <a:pt x="380" y="783"/>
                </a:cubicBezTo>
                <a:cubicBezTo>
                  <a:pt x="388" y="778"/>
                  <a:pt x="395" y="773"/>
                  <a:pt x="403" y="773"/>
                </a:cubicBezTo>
                <a:cubicBezTo>
                  <a:pt x="404" y="773"/>
                  <a:pt x="404" y="773"/>
                  <a:pt x="404" y="773"/>
                </a:cubicBezTo>
                <a:cubicBezTo>
                  <a:pt x="427" y="779"/>
                  <a:pt x="427" y="779"/>
                  <a:pt x="427" y="779"/>
                </a:cubicBezTo>
                <a:cubicBezTo>
                  <a:pt x="433" y="776"/>
                  <a:pt x="433" y="776"/>
                  <a:pt x="433" y="776"/>
                </a:cubicBezTo>
                <a:cubicBezTo>
                  <a:pt x="444" y="761"/>
                  <a:pt x="444" y="761"/>
                  <a:pt x="444" y="761"/>
                </a:cubicBezTo>
                <a:cubicBezTo>
                  <a:pt x="442" y="738"/>
                  <a:pt x="442" y="738"/>
                  <a:pt x="442" y="738"/>
                </a:cubicBezTo>
                <a:cubicBezTo>
                  <a:pt x="435" y="725"/>
                  <a:pt x="432" y="714"/>
                  <a:pt x="434" y="707"/>
                </a:cubicBezTo>
                <a:cubicBezTo>
                  <a:pt x="437" y="688"/>
                  <a:pt x="437" y="688"/>
                  <a:pt x="437" y="688"/>
                </a:cubicBezTo>
                <a:cubicBezTo>
                  <a:pt x="437" y="686"/>
                  <a:pt x="437" y="686"/>
                  <a:pt x="437" y="686"/>
                </a:cubicBezTo>
                <a:cubicBezTo>
                  <a:pt x="438" y="684"/>
                  <a:pt x="438" y="684"/>
                  <a:pt x="438" y="684"/>
                </a:cubicBezTo>
                <a:cubicBezTo>
                  <a:pt x="438" y="684"/>
                  <a:pt x="438" y="684"/>
                  <a:pt x="438" y="684"/>
                </a:cubicBezTo>
                <a:cubicBezTo>
                  <a:pt x="458" y="672"/>
                  <a:pt x="458" y="672"/>
                  <a:pt x="458" y="672"/>
                </a:cubicBezTo>
                <a:cubicBezTo>
                  <a:pt x="459" y="672"/>
                  <a:pt x="459" y="672"/>
                  <a:pt x="459" y="672"/>
                </a:cubicBezTo>
                <a:cubicBezTo>
                  <a:pt x="459" y="672"/>
                  <a:pt x="459" y="672"/>
                  <a:pt x="459" y="672"/>
                </a:cubicBezTo>
                <a:cubicBezTo>
                  <a:pt x="474" y="663"/>
                  <a:pt x="474" y="663"/>
                  <a:pt x="474" y="663"/>
                </a:cubicBezTo>
                <a:cubicBezTo>
                  <a:pt x="491" y="638"/>
                  <a:pt x="491" y="638"/>
                  <a:pt x="491" y="638"/>
                </a:cubicBezTo>
                <a:cubicBezTo>
                  <a:pt x="493" y="620"/>
                  <a:pt x="493" y="620"/>
                  <a:pt x="493" y="620"/>
                </a:cubicBezTo>
                <a:cubicBezTo>
                  <a:pt x="474" y="576"/>
                  <a:pt x="474" y="576"/>
                  <a:pt x="474" y="576"/>
                </a:cubicBezTo>
                <a:cubicBezTo>
                  <a:pt x="516" y="595"/>
                  <a:pt x="516" y="595"/>
                  <a:pt x="516" y="595"/>
                </a:cubicBezTo>
                <a:cubicBezTo>
                  <a:pt x="516" y="577"/>
                  <a:pt x="516" y="577"/>
                  <a:pt x="516" y="577"/>
                </a:cubicBezTo>
                <a:cubicBezTo>
                  <a:pt x="516" y="577"/>
                  <a:pt x="516" y="577"/>
                  <a:pt x="516" y="577"/>
                </a:cubicBezTo>
                <a:cubicBezTo>
                  <a:pt x="516" y="576"/>
                  <a:pt x="516" y="576"/>
                  <a:pt x="516" y="576"/>
                </a:cubicBezTo>
                <a:cubicBezTo>
                  <a:pt x="532" y="562"/>
                  <a:pt x="532" y="562"/>
                  <a:pt x="532" y="562"/>
                </a:cubicBezTo>
                <a:cubicBezTo>
                  <a:pt x="563" y="554"/>
                  <a:pt x="563" y="554"/>
                  <a:pt x="563" y="554"/>
                </a:cubicBezTo>
                <a:cubicBezTo>
                  <a:pt x="565" y="554"/>
                  <a:pt x="565" y="554"/>
                  <a:pt x="565" y="554"/>
                </a:cubicBezTo>
                <a:cubicBezTo>
                  <a:pt x="583" y="593"/>
                  <a:pt x="583" y="593"/>
                  <a:pt x="583" y="593"/>
                </a:cubicBezTo>
                <a:cubicBezTo>
                  <a:pt x="583" y="595"/>
                  <a:pt x="583" y="595"/>
                  <a:pt x="583" y="595"/>
                </a:cubicBezTo>
                <a:cubicBezTo>
                  <a:pt x="581" y="610"/>
                  <a:pt x="581" y="610"/>
                  <a:pt x="581" y="610"/>
                </a:cubicBezTo>
                <a:cubicBezTo>
                  <a:pt x="583" y="624"/>
                  <a:pt x="583" y="624"/>
                  <a:pt x="583" y="624"/>
                </a:cubicBezTo>
                <a:cubicBezTo>
                  <a:pt x="585" y="630"/>
                  <a:pt x="589" y="633"/>
                  <a:pt x="592" y="633"/>
                </a:cubicBezTo>
                <a:cubicBezTo>
                  <a:pt x="596" y="633"/>
                  <a:pt x="601" y="630"/>
                  <a:pt x="605" y="625"/>
                </a:cubicBezTo>
                <a:cubicBezTo>
                  <a:pt x="606" y="622"/>
                  <a:pt x="606" y="622"/>
                  <a:pt x="606" y="622"/>
                </a:cubicBezTo>
                <a:cubicBezTo>
                  <a:pt x="606" y="622"/>
                  <a:pt x="606" y="622"/>
                  <a:pt x="606" y="622"/>
                </a:cubicBezTo>
                <a:cubicBezTo>
                  <a:pt x="607" y="622"/>
                  <a:pt x="607" y="622"/>
                  <a:pt x="607" y="622"/>
                </a:cubicBezTo>
                <a:cubicBezTo>
                  <a:pt x="632" y="614"/>
                  <a:pt x="632" y="614"/>
                  <a:pt x="632" y="614"/>
                </a:cubicBezTo>
                <a:cubicBezTo>
                  <a:pt x="632" y="614"/>
                  <a:pt x="632" y="614"/>
                  <a:pt x="632" y="614"/>
                </a:cubicBezTo>
                <a:cubicBezTo>
                  <a:pt x="633" y="614"/>
                  <a:pt x="633" y="614"/>
                  <a:pt x="633" y="614"/>
                </a:cubicBezTo>
                <a:cubicBezTo>
                  <a:pt x="647" y="614"/>
                  <a:pt x="653" y="617"/>
                  <a:pt x="657" y="624"/>
                </a:cubicBezTo>
                <a:cubicBezTo>
                  <a:pt x="659" y="652"/>
                  <a:pt x="659" y="652"/>
                  <a:pt x="659" y="652"/>
                </a:cubicBezTo>
                <a:cubicBezTo>
                  <a:pt x="659" y="653"/>
                  <a:pt x="659" y="653"/>
                  <a:pt x="659" y="653"/>
                </a:cubicBezTo>
                <a:cubicBezTo>
                  <a:pt x="664" y="654"/>
                  <a:pt x="664" y="654"/>
                  <a:pt x="664" y="654"/>
                </a:cubicBezTo>
                <a:cubicBezTo>
                  <a:pt x="675" y="657"/>
                  <a:pt x="675" y="657"/>
                  <a:pt x="675" y="657"/>
                </a:cubicBezTo>
                <a:cubicBezTo>
                  <a:pt x="690" y="656"/>
                  <a:pt x="690" y="656"/>
                  <a:pt x="690" y="656"/>
                </a:cubicBezTo>
                <a:cubicBezTo>
                  <a:pt x="717" y="649"/>
                  <a:pt x="717" y="649"/>
                  <a:pt x="717" y="649"/>
                </a:cubicBezTo>
                <a:cubicBezTo>
                  <a:pt x="733" y="635"/>
                  <a:pt x="733" y="635"/>
                  <a:pt x="733" y="635"/>
                </a:cubicBezTo>
                <a:cubicBezTo>
                  <a:pt x="734" y="624"/>
                  <a:pt x="734" y="624"/>
                  <a:pt x="734" y="624"/>
                </a:cubicBezTo>
                <a:cubicBezTo>
                  <a:pt x="726" y="615"/>
                  <a:pt x="726" y="615"/>
                  <a:pt x="726" y="615"/>
                </a:cubicBezTo>
                <a:cubicBezTo>
                  <a:pt x="699" y="606"/>
                  <a:pt x="699" y="606"/>
                  <a:pt x="699" y="606"/>
                </a:cubicBezTo>
                <a:cubicBezTo>
                  <a:pt x="699" y="606"/>
                  <a:pt x="699" y="606"/>
                  <a:pt x="699" y="606"/>
                </a:cubicBezTo>
                <a:cubicBezTo>
                  <a:pt x="697" y="605"/>
                  <a:pt x="697" y="605"/>
                  <a:pt x="697" y="605"/>
                </a:cubicBezTo>
                <a:cubicBezTo>
                  <a:pt x="697" y="605"/>
                  <a:pt x="697" y="605"/>
                  <a:pt x="697" y="605"/>
                </a:cubicBezTo>
                <a:cubicBezTo>
                  <a:pt x="697" y="603"/>
                  <a:pt x="697" y="603"/>
                  <a:pt x="697" y="603"/>
                </a:cubicBezTo>
                <a:cubicBezTo>
                  <a:pt x="665" y="572"/>
                  <a:pt x="665" y="572"/>
                  <a:pt x="665" y="572"/>
                </a:cubicBezTo>
                <a:cubicBezTo>
                  <a:pt x="668" y="570"/>
                  <a:pt x="668" y="570"/>
                  <a:pt x="668" y="570"/>
                </a:cubicBezTo>
                <a:cubicBezTo>
                  <a:pt x="684" y="556"/>
                  <a:pt x="684" y="556"/>
                  <a:pt x="684" y="556"/>
                </a:cubicBezTo>
                <a:cubicBezTo>
                  <a:pt x="685" y="555"/>
                  <a:pt x="685" y="555"/>
                  <a:pt x="685" y="555"/>
                </a:cubicBezTo>
                <a:cubicBezTo>
                  <a:pt x="685" y="555"/>
                  <a:pt x="685" y="555"/>
                  <a:pt x="685" y="555"/>
                </a:cubicBezTo>
                <a:cubicBezTo>
                  <a:pt x="701" y="549"/>
                  <a:pt x="701" y="549"/>
                  <a:pt x="701" y="549"/>
                </a:cubicBezTo>
                <a:cubicBezTo>
                  <a:pt x="701" y="549"/>
                  <a:pt x="701" y="549"/>
                  <a:pt x="701" y="549"/>
                </a:cubicBezTo>
                <a:cubicBezTo>
                  <a:pt x="704" y="549"/>
                  <a:pt x="704" y="549"/>
                  <a:pt x="704" y="549"/>
                </a:cubicBezTo>
                <a:cubicBezTo>
                  <a:pt x="725" y="553"/>
                  <a:pt x="725" y="553"/>
                  <a:pt x="725" y="553"/>
                </a:cubicBezTo>
                <a:cubicBezTo>
                  <a:pt x="726" y="553"/>
                  <a:pt x="726" y="553"/>
                  <a:pt x="726" y="553"/>
                </a:cubicBezTo>
                <a:cubicBezTo>
                  <a:pt x="727" y="554"/>
                  <a:pt x="727" y="554"/>
                  <a:pt x="727" y="554"/>
                </a:cubicBezTo>
                <a:cubicBezTo>
                  <a:pt x="727" y="545"/>
                  <a:pt x="727" y="545"/>
                  <a:pt x="727" y="545"/>
                </a:cubicBezTo>
                <a:cubicBezTo>
                  <a:pt x="718" y="530"/>
                  <a:pt x="718" y="530"/>
                  <a:pt x="718" y="530"/>
                </a:cubicBezTo>
                <a:cubicBezTo>
                  <a:pt x="703" y="522"/>
                  <a:pt x="703" y="522"/>
                  <a:pt x="703" y="522"/>
                </a:cubicBezTo>
                <a:cubicBezTo>
                  <a:pt x="683" y="493"/>
                  <a:pt x="683" y="493"/>
                  <a:pt x="683" y="493"/>
                </a:cubicBezTo>
                <a:cubicBezTo>
                  <a:pt x="683" y="493"/>
                  <a:pt x="683" y="493"/>
                  <a:pt x="683" y="493"/>
                </a:cubicBezTo>
                <a:cubicBezTo>
                  <a:pt x="682" y="492"/>
                  <a:pt x="682" y="492"/>
                  <a:pt x="682" y="492"/>
                </a:cubicBezTo>
                <a:cubicBezTo>
                  <a:pt x="682" y="491"/>
                  <a:pt x="682" y="491"/>
                  <a:pt x="682" y="491"/>
                </a:cubicBezTo>
                <a:cubicBezTo>
                  <a:pt x="672" y="456"/>
                  <a:pt x="672" y="456"/>
                  <a:pt x="672" y="456"/>
                </a:cubicBezTo>
                <a:cubicBezTo>
                  <a:pt x="672" y="429"/>
                  <a:pt x="672" y="429"/>
                  <a:pt x="672" y="429"/>
                </a:cubicBezTo>
                <a:cubicBezTo>
                  <a:pt x="689" y="414"/>
                  <a:pt x="689" y="414"/>
                  <a:pt x="689" y="414"/>
                </a:cubicBezTo>
                <a:cubicBezTo>
                  <a:pt x="715" y="414"/>
                  <a:pt x="715" y="414"/>
                  <a:pt x="715" y="414"/>
                </a:cubicBezTo>
                <a:cubicBezTo>
                  <a:pt x="774" y="419"/>
                  <a:pt x="774" y="419"/>
                  <a:pt x="774" y="419"/>
                </a:cubicBezTo>
                <a:cubicBezTo>
                  <a:pt x="801" y="380"/>
                  <a:pt x="801" y="380"/>
                  <a:pt x="801" y="380"/>
                </a:cubicBezTo>
                <a:cubicBezTo>
                  <a:pt x="801" y="378"/>
                  <a:pt x="801" y="378"/>
                  <a:pt x="801" y="378"/>
                </a:cubicBezTo>
                <a:cubicBezTo>
                  <a:pt x="803" y="378"/>
                  <a:pt x="803" y="378"/>
                  <a:pt x="803" y="378"/>
                </a:cubicBezTo>
                <a:cubicBezTo>
                  <a:pt x="825" y="366"/>
                  <a:pt x="825" y="366"/>
                  <a:pt x="825" y="366"/>
                </a:cubicBezTo>
                <a:cubicBezTo>
                  <a:pt x="837" y="343"/>
                  <a:pt x="837" y="343"/>
                  <a:pt x="837" y="343"/>
                </a:cubicBezTo>
                <a:cubicBezTo>
                  <a:pt x="838" y="342"/>
                  <a:pt x="838" y="342"/>
                  <a:pt x="838" y="342"/>
                </a:cubicBezTo>
                <a:cubicBezTo>
                  <a:pt x="865" y="320"/>
                  <a:pt x="865" y="320"/>
                  <a:pt x="865" y="320"/>
                </a:cubicBezTo>
                <a:cubicBezTo>
                  <a:pt x="877" y="296"/>
                  <a:pt x="877" y="296"/>
                  <a:pt x="877" y="296"/>
                </a:cubicBezTo>
                <a:cubicBezTo>
                  <a:pt x="877" y="295"/>
                  <a:pt x="877" y="295"/>
                  <a:pt x="877" y="295"/>
                </a:cubicBezTo>
                <a:cubicBezTo>
                  <a:pt x="878" y="295"/>
                  <a:pt x="878" y="295"/>
                  <a:pt x="878" y="295"/>
                </a:cubicBezTo>
                <a:cubicBezTo>
                  <a:pt x="878" y="294"/>
                  <a:pt x="878" y="294"/>
                  <a:pt x="878" y="294"/>
                </a:cubicBezTo>
                <a:cubicBezTo>
                  <a:pt x="878" y="294"/>
                  <a:pt x="878" y="294"/>
                  <a:pt x="878" y="294"/>
                </a:cubicBezTo>
                <a:cubicBezTo>
                  <a:pt x="889" y="284"/>
                  <a:pt x="889" y="284"/>
                  <a:pt x="889" y="284"/>
                </a:cubicBezTo>
                <a:cubicBezTo>
                  <a:pt x="901" y="263"/>
                  <a:pt x="901" y="263"/>
                  <a:pt x="901" y="263"/>
                </a:cubicBezTo>
                <a:cubicBezTo>
                  <a:pt x="906" y="230"/>
                  <a:pt x="906" y="230"/>
                  <a:pt x="906" y="230"/>
                </a:cubicBezTo>
                <a:cubicBezTo>
                  <a:pt x="906" y="227"/>
                  <a:pt x="906" y="227"/>
                  <a:pt x="906" y="227"/>
                </a:cubicBezTo>
                <a:cubicBezTo>
                  <a:pt x="907" y="226"/>
                  <a:pt x="907" y="226"/>
                  <a:pt x="907" y="226"/>
                </a:cubicBezTo>
                <a:cubicBezTo>
                  <a:pt x="924" y="214"/>
                  <a:pt x="924" y="214"/>
                  <a:pt x="924" y="214"/>
                </a:cubicBezTo>
                <a:cubicBezTo>
                  <a:pt x="928" y="210"/>
                  <a:pt x="928" y="210"/>
                  <a:pt x="928" y="210"/>
                </a:cubicBezTo>
                <a:cubicBezTo>
                  <a:pt x="903" y="206"/>
                  <a:pt x="903" y="206"/>
                  <a:pt x="903" y="206"/>
                </a:cubicBezTo>
                <a:cubicBezTo>
                  <a:pt x="860" y="208"/>
                  <a:pt x="860" y="208"/>
                  <a:pt x="860" y="208"/>
                </a:cubicBezTo>
                <a:cubicBezTo>
                  <a:pt x="859" y="207"/>
                  <a:pt x="859" y="207"/>
                  <a:pt x="859" y="207"/>
                </a:cubicBezTo>
                <a:cubicBezTo>
                  <a:pt x="843" y="194"/>
                  <a:pt x="843" y="194"/>
                  <a:pt x="843" y="194"/>
                </a:cubicBezTo>
                <a:cubicBezTo>
                  <a:pt x="841" y="194"/>
                  <a:pt x="841" y="194"/>
                  <a:pt x="841" y="194"/>
                </a:cubicBezTo>
                <a:cubicBezTo>
                  <a:pt x="841" y="193"/>
                  <a:pt x="841" y="193"/>
                  <a:pt x="841" y="193"/>
                </a:cubicBezTo>
                <a:cubicBezTo>
                  <a:pt x="841" y="193"/>
                  <a:pt x="841" y="193"/>
                  <a:pt x="841" y="193"/>
                </a:cubicBezTo>
                <a:cubicBezTo>
                  <a:pt x="833" y="180"/>
                  <a:pt x="833" y="180"/>
                  <a:pt x="833" y="180"/>
                </a:cubicBezTo>
                <a:cubicBezTo>
                  <a:pt x="831" y="181"/>
                  <a:pt x="831" y="181"/>
                  <a:pt x="831" y="181"/>
                </a:cubicBezTo>
                <a:cubicBezTo>
                  <a:pt x="830" y="183"/>
                  <a:pt x="830" y="183"/>
                  <a:pt x="830" y="183"/>
                </a:cubicBezTo>
                <a:cubicBezTo>
                  <a:pt x="828" y="187"/>
                  <a:pt x="822" y="188"/>
                  <a:pt x="816" y="188"/>
                </a:cubicBezTo>
                <a:cubicBezTo>
                  <a:pt x="810" y="191"/>
                  <a:pt x="810" y="191"/>
                  <a:pt x="810" y="191"/>
                </a:cubicBezTo>
                <a:cubicBezTo>
                  <a:pt x="808" y="192"/>
                  <a:pt x="806" y="193"/>
                  <a:pt x="803" y="192"/>
                </a:cubicBezTo>
                <a:cubicBezTo>
                  <a:pt x="801" y="192"/>
                  <a:pt x="800" y="189"/>
                  <a:pt x="798" y="183"/>
                </a:cubicBezTo>
                <a:cubicBezTo>
                  <a:pt x="797" y="178"/>
                  <a:pt x="795" y="173"/>
                  <a:pt x="789" y="168"/>
                </a:cubicBezTo>
                <a:cubicBezTo>
                  <a:pt x="787" y="167"/>
                  <a:pt x="787" y="167"/>
                  <a:pt x="787" y="167"/>
                </a:cubicBezTo>
                <a:cubicBezTo>
                  <a:pt x="787" y="165"/>
                  <a:pt x="787" y="165"/>
                  <a:pt x="787" y="165"/>
                </a:cubicBezTo>
                <a:cubicBezTo>
                  <a:pt x="786" y="165"/>
                  <a:pt x="786" y="165"/>
                  <a:pt x="786" y="165"/>
                </a:cubicBezTo>
                <a:cubicBezTo>
                  <a:pt x="781" y="152"/>
                  <a:pt x="781" y="152"/>
                  <a:pt x="781" y="152"/>
                </a:cubicBezTo>
                <a:cubicBezTo>
                  <a:pt x="777" y="152"/>
                  <a:pt x="777" y="152"/>
                  <a:pt x="777" y="152"/>
                </a:cubicBezTo>
                <a:cubicBezTo>
                  <a:pt x="761" y="162"/>
                  <a:pt x="761" y="162"/>
                  <a:pt x="761" y="162"/>
                </a:cubicBezTo>
                <a:cubicBezTo>
                  <a:pt x="760" y="163"/>
                  <a:pt x="760" y="163"/>
                  <a:pt x="760" y="163"/>
                </a:cubicBezTo>
                <a:cubicBezTo>
                  <a:pt x="759" y="163"/>
                  <a:pt x="759" y="163"/>
                  <a:pt x="759" y="163"/>
                </a:cubicBezTo>
                <a:cubicBezTo>
                  <a:pt x="722" y="171"/>
                  <a:pt x="722" y="171"/>
                  <a:pt x="722" y="171"/>
                </a:cubicBezTo>
                <a:cubicBezTo>
                  <a:pt x="720" y="171"/>
                  <a:pt x="720" y="171"/>
                  <a:pt x="720" y="171"/>
                </a:cubicBezTo>
                <a:cubicBezTo>
                  <a:pt x="718" y="170"/>
                  <a:pt x="718" y="170"/>
                  <a:pt x="718" y="170"/>
                </a:cubicBezTo>
                <a:cubicBezTo>
                  <a:pt x="694" y="153"/>
                  <a:pt x="694" y="153"/>
                  <a:pt x="694" y="153"/>
                </a:cubicBezTo>
                <a:cubicBezTo>
                  <a:pt x="694" y="153"/>
                  <a:pt x="694" y="153"/>
                  <a:pt x="694" y="153"/>
                </a:cubicBezTo>
                <a:cubicBezTo>
                  <a:pt x="693" y="152"/>
                  <a:pt x="693" y="152"/>
                  <a:pt x="693" y="152"/>
                </a:cubicBezTo>
                <a:cubicBezTo>
                  <a:pt x="693" y="151"/>
                  <a:pt x="693" y="151"/>
                  <a:pt x="693" y="151"/>
                </a:cubicBezTo>
                <a:cubicBezTo>
                  <a:pt x="691" y="151"/>
                  <a:pt x="691" y="151"/>
                  <a:pt x="691" y="151"/>
                </a:cubicBezTo>
                <a:cubicBezTo>
                  <a:pt x="685" y="138"/>
                  <a:pt x="685" y="138"/>
                  <a:pt x="685" y="138"/>
                </a:cubicBezTo>
                <a:cubicBezTo>
                  <a:pt x="667" y="157"/>
                  <a:pt x="667" y="157"/>
                  <a:pt x="667" y="157"/>
                </a:cubicBezTo>
                <a:cubicBezTo>
                  <a:pt x="655" y="172"/>
                  <a:pt x="645" y="176"/>
                  <a:pt x="639" y="172"/>
                </a:cubicBezTo>
                <a:cubicBezTo>
                  <a:pt x="614" y="159"/>
                  <a:pt x="614" y="159"/>
                  <a:pt x="614" y="159"/>
                </a:cubicBezTo>
                <a:cubicBezTo>
                  <a:pt x="598" y="157"/>
                  <a:pt x="598" y="157"/>
                  <a:pt x="598" y="157"/>
                </a:cubicBezTo>
                <a:cubicBezTo>
                  <a:pt x="595" y="158"/>
                  <a:pt x="595" y="158"/>
                  <a:pt x="595" y="158"/>
                </a:cubicBezTo>
                <a:cubicBezTo>
                  <a:pt x="580" y="146"/>
                  <a:pt x="580" y="146"/>
                  <a:pt x="580" y="146"/>
                </a:cubicBezTo>
                <a:cubicBezTo>
                  <a:pt x="579" y="145"/>
                  <a:pt x="579" y="145"/>
                  <a:pt x="579" y="145"/>
                </a:cubicBezTo>
                <a:cubicBezTo>
                  <a:pt x="575" y="144"/>
                  <a:pt x="575" y="144"/>
                  <a:pt x="575" y="144"/>
                </a:cubicBezTo>
                <a:cubicBezTo>
                  <a:pt x="583" y="116"/>
                  <a:pt x="583" y="116"/>
                  <a:pt x="583" y="116"/>
                </a:cubicBezTo>
                <a:cubicBezTo>
                  <a:pt x="583" y="106"/>
                  <a:pt x="583" y="106"/>
                  <a:pt x="583" y="106"/>
                </a:cubicBezTo>
                <a:cubicBezTo>
                  <a:pt x="573" y="102"/>
                  <a:pt x="573" y="102"/>
                  <a:pt x="573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50" y="78"/>
                  <a:pt x="550" y="78"/>
                  <a:pt x="550" y="78"/>
                </a:cubicBezTo>
                <a:cubicBezTo>
                  <a:pt x="551" y="60"/>
                  <a:pt x="551" y="60"/>
                  <a:pt x="551" y="60"/>
                </a:cubicBezTo>
                <a:cubicBezTo>
                  <a:pt x="496" y="55"/>
                  <a:pt x="496" y="55"/>
                  <a:pt x="496" y="55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0" y="40"/>
                  <a:pt x="466" y="34"/>
                  <a:pt x="462" y="23"/>
                </a:cubicBezTo>
                <a:cubicBezTo>
                  <a:pt x="459" y="16"/>
                  <a:pt x="459" y="16"/>
                  <a:pt x="459" y="16"/>
                </a:cubicBezTo>
                <a:cubicBezTo>
                  <a:pt x="455" y="0"/>
                  <a:pt x="455" y="0"/>
                  <a:pt x="455" y="0"/>
                </a:cubicBezTo>
                <a:cubicBezTo>
                  <a:pt x="448" y="1"/>
                  <a:pt x="448" y="1"/>
                  <a:pt x="448" y="1"/>
                </a:cubicBezTo>
                <a:cubicBezTo>
                  <a:pt x="431" y="15"/>
                  <a:pt x="431" y="15"/>
                  <a:pt x="431" y="15"/>
                </a:cubicBezTo>
                <a:cubicBezTo>
                  <a:pt x="411" y="39"/>
                  <a:pt x="411" y="39"/>
                  <a:pt x="411" y="39"/>
                </a:cubicBezTo>
                <a:cubicBezTo>
                  <a:pt x="415" y="57"/>
                  <a:pt x="415" y="57"/>
                  <a:pt x="415" y="57"/>
                </a:cubicBezTo>
                <a:cubicBezTo>
                  <a:pt x="421" y="80"/>
                  <a:pt x="421" y="80"/>
                  <a:pt x="421" y="80"/>
                </a:cubicBezTo>
                <a:cubicBezTo>
                  <a:pt x="421" y="81"/>
                  <a:pt x="421" y="81"/>
                  <a:pt x="421" y="81"/>
                </a:cubicBezTo>
                <a:cubicBezTo>
                  <a:pt x="422" y="81"/>
                  <a:pt x="422" y="81"/>
                  <a:pt x="422" y="81"/>
                </a:cubicBezTo>
                <a:cubicBezTo>
                  <a:pt x="421" y="82"/>
                  <a:pt x="421" y="82"/>
                  <a:pt x="421" y="82"/>
                </a:cubicBezTo>
                <a:cubicBezTo>
                  <a:pt x="421" y="83"/>
                  <a:pt x="421" y="83"/>
                  <a:pt x="421" y="83"/>
                </a:cubicBezTo>
                <a:cubicBezTo>
                  <a:pt x="419" y="89"/>
                  <a:pt x="413" y="93"/>
                  <a:pt x="403" y="93"/>
                </a:cubicBezTo>
                <a:cubicBezTo>
                  <a:pt x="382" y="93"/>
                  <a:pt x="382" y="93"/>
                  <a:pt x="382" y="93"/>
                </a:cubicBezTo>
                <a:cubicBezTo>
                  <a:pt x="370" y="86"/>
                  <a:pt x="370" y="86"/>
                  <a:pt x="370" y="86"/>
                </a:cubicBezTo>
                <a:cubicBezTo>
                  <a:pt x="354" y="93"/>
                  <a:pt x="354" y="93"/>
                  <a:pt x="354" y="93"/>
                </a:cubicBezTo>
                <a:cubicBezTo>
                  <a:pt x="351" y="94"/>
                  <a:pt x="351" y="94"/>
                  <a:pt x="351" y="94"/>
                </a:cubicBezTo>
                <a:cubicBezTo>
                  <a:pt x="348" y="93"/>
                  <a:pt x="348" y="93"/>
                  <a:pt x="348" y="93"/>
                </a:cubicBezTo>
                <a:cubicBezTo>
                  <a:pt x="346" y="107"/>
                  <a:pt x="346" y="107"/>
                  <a:pt x="346" y="107"/>
                </a:cubicBezTo>
                <a:cubicBezTo>
                  <a:pt x="345" y="110"/>
                  <a:pt x="345" y="110"/>
                  <a:pt x="345" y="110"/>
                </a:cubicBezTo>
                <a:cubicBezTo>
                  <a:pt x="345" y="113"/>
                  <a:pt x="345" y="113"/>
                  <a:pt x="345" y="113"/>
                </a:cubicBezTo>
                <a:cubicBezTo>
                  <a:pt x="342" y="113"/>
                  <a:pt x="342" y="113"/>
                  <a:pt x="342" y="113"/>
                </a:cubicBezTo>
                <a:cubicBezTo>
                  <a:pt x="316" y="104"/>
                  <a:pt x="316" y="104"/>
                  <a:pt x="316" y="104"/>
                </a:cubicBezTo>
                <a:cubicBezTo>
                  <a:pt x="316" y="113"/>
                  <a:pt x="317" y="119"/>
                  <a:pt x="321" y="126"/>
                </a:cubicBezTo>
                <a:cubicBezTo>
                  <a:pt x="324" y="134"/>
                  <a:pt x="325" y="139"/>
                  <a:pt x="322" y="145"/>
                </a:cubicBezTo>
                <a:cubicBezTo>
                  <a:pt x="319" y="154"/>
                  <a:pt x="319" y="154"/>
                  <a:pt x="319" y="154"/>
                </a:cubicBezTo>
                <a:cubicBezTo>
                  <a:pt x="316" y="157"/>
                  <a:pt x="306" y="158"/>
                  <a:pt x="293" y="157"/>
                </a:cubicBezTo>
                <a:cubicBezTo>
                  <a:pt x="275" y="157"/>
                  <a:pt x="275" y="157"/>
                  <a:pt x="275" y="157"/>
                </a:cubicBezTo>
                <a:cubicBezTo>
                  <a:pt x="274" y="187"/>
                  <a:pt x="274" y="187"/>
                  <a:pt x="274" y="187"/>
                </a:cubicBezTo>
                <a:cubicBezTo>
                  <a:pt x="250" y="178"/>
                  <a:pt x="250" y="178"/>
                  <a:pt x="250" y="178"/>
                </a:cubicBezTo>
                <a:cubicBezTo>
                  <a:pt x="249" y="178"/>
                  <a:pt x="249" y="178"/>
                  <a:pt x="249" y="178"/>
                </a:cubicBezTo>
                <a:cubicBezTo>
                  <a:pt x="248" y="177"/>
                  <a:pt x="248" y="177"/>
                  <a:pt x="248" y="177"/>
                </a:cubicBezTo>
                <a:cubicBezTo>
                  <a:pt x="237" y="155"/>
                  <a:pt x="237" y="155"/>
                  <a:pt x="237" y="155"/>
                </a:cubicBezTo>
                <a:cubicBezTo>
                  <a:pt x="211" y="146"/>
                  <a:pt x="211" y="146"/>
                  <a:pt x="211" y="146"/>
                </a:cubicBezTo>
                <a:cubicBezTo>
                  <a:pt x="205" y="133"/>
                  <a:pt x="205" y="133"/>
                  <a:pt x="205" y="133"/>
                </a:cubicBezTo>
                <a:cubicBezTo>
                  <a:pt x="195" y="140"/>
                  <a:pt x="195" y="140"/>
                  <a:pt x="195" y="140"/>
                </a:cubicBezTo>
                <a:cubicBezTo>
                  <a:pt x="194" y="140"/>
                  <a:pt x="194" y="140"/>
                  <a:pt x="194" y="140"/>
                </a:cubicBezTo>
                <a:cubicBezTo>
                  <a:pt x="179" y="143"/>
                  <a:pt x="179" y="143"/>
                  <a:pt x="179" y="143"/>
                </a:cubicBezTo>
                <a:cubicBezTo>
                  <a:pt x="174" y="143"/>
                  <a:pt x="174" y="143"/>
                  <a:pt x="174" y="143"/>
                </a:cubicBezTo>
                <a:cubicBezTo>
                  <a:pt x="166" y="124"/>
                  <a:pt x="166" y="124"/>
                  <a:pt x="166" y="124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6" y="112"/>
                  <a:pt x="156" y="112"/>
                  <a:pt x="156" y="112"/>
                </a:cubicBezTo>
                <a:cubicBezTo>
                  <a:pt x="148" y="101"/>
                  <a:pt x="144" y="92"/>
                  <a:pt x="142" y="86"/>
                </a:cubicBezTo>
                <a:cubicBezTo>
                  <a:pt x="142" y="85"/>
                  <a:pt x="139" y="83"/>
                  <a:pt x="134" y="82"/>
                </a:cubicBezTo>
                <a:cubicBezTo>
                  <a:pt x="130" y="81"/>
                  <a:pt x="130" y="81"/>
                  <a:pt x="130" y="81"/>
                </a:cubicBezTo>
                <a:cubicBezTo>
                  <a:pt x="123" y="78"/>
                  <a:pt x="117" y="72"/>
                  <a:pt x="114" y="62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03" y="16"/>
                  <a:pt x="103" y="16"/>
                  <a:pt x="103" y="16"/>
                </a:cubicBezTo>
                <a:cubicBezTo>
                  <a:pt x="90" y="20"/>
                  <a:pt x="90" y="20"/>
                  <a:pt x="90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8" y="20"/>
                  <a:pt x="88" y="20"/>
                  <a:pt x="88" y="20"/>
                </a:cubicBezTo>
                <a:lnTo>
                  <a:pt x="87" y="2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11"/>
          <p:cNvSpPr/>
          <p:nvPr/>
        </p:nvSpPr>
        <p:spPr>
          <a:xfrm>
            <a:off x="652320" y="2754360"/>
            <a:ext cx="1570320" cy="930240"/>
          </a:xfrm>
          <a:custGeom>
            <a:avLst/>
            <a:gdLst/>
            <a:ahLst/>
            <a:rect l="l" t="t" r="r" b="b"/>
            <a:pathLst>
              <a:path w="1661" h="1007">
                <a:moveTo>
                  <a:pt x="205" y="3"/>
                </a:moveTo>
                <a:cubicBezTo>
                  <a:pt x="205" y="4"/>
                  <a:pt x="205" y="4"/>
                  <a:pt x="205" y="4"/>
                </a:cubicBezTo>
                <a:cubicBezTo>
                  <a:pt x="201" y="13"/>
                  <a:pt x="193" y="20"/>
                  <a:pt x="185" y="27"/>
                </a:cubicBezTo>
                <a:cubicBezTo>
                  <a:pt x="179" y="30"/>
                  <a:pt x="177" y="35"/>
                  <a:pt x="177" y="42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77" y="50"/>
                  <a:pt x="173" y="59"/>
                  <a:pt x="165" y="71"/>
                </a:cubicBezTo>
                <a:cubicBezTo>
                  <a:pt x="164" y="77"/>
                  <a:pt x="164" y="77"/>
                  <a:pt x="164" y="77"/>
                </a:cubicBezTo>
                <a:cubicBezTo>
                  <a:pt x="162" y="80"/>
                  <a:pt x="158" y="82"/>
                  <a:pt x="150" y="82"/>
                </a:cubicBezTo>
                <a:cubicBezTo>
                  <a:pt x="90" y="74"/>
                  <a:pt x="90" y="74"/>
                  <a:pt x="90" y="74"/>
                </a:cubicBezTo>
                <a:cubicBezTo>
                  <a:pt x="90" y="76"/>
                  <a:pt x="90" y="76"/>
                  <a:pt x="90" y="76"/>
                </a:cubicBezTo>
                <a:cubicBezTo>
                  <a:pt x="86" y="89"/>
                  <a:pt x="86" y="89"/>
                  <a:pt x="86" y="89"/>
                </a:cubicBezTo>
                <a:cubicBezTo>
                  <a:pt x="86" y="90"/>
                  <a:pt x="86" y="90"/>
                  <a:pt x="86" y="90"/>
                </a:cubicBezTo>
                <a:cubicBezTo>
                  <a:pt x="85" y="91"/>
                  <a:pt x="85" y="91"/>
                  <a:pt x="85" y="91"/>
                </a:cubicBezTo>
                <a:cubicBezTo>
                  <a:pt x="85" y="91"/>
                  <a:pt x="85" y="91"/>
                  <a:pt x="85" y="91"/>
                </a:cubicBezTo>
                <a:cubicBezTo>
                  <a:pt x="69" y="114"/>
                  <a:pt x="58" y="129"/>
                  <a:pt x="57" y="140"/>
                </a:cubicBezTo>
                <a:cubicBezTo>
                  <a:pt x="56" y="145"/>
                  <a:pt x="63" y="164"/>
                  <a:pt x="76" y="197"/>
                </a:cubicBezTo>
                <a:cubicBezTo>
                  <a:pt x="86" y="219"/>
                  <a:pt x="86" y="219"/>
                  <a:pt x="86" y="219"/>
                </a:cubicBezTo>
                <a:cubicBezTo>
                  <a:pt x="90" y="230"/>
                  <a:pt x="87" y="242"/>
                  <a:pt x="77" y="256"/>
                </a:cubicBezTo>
                <a:cubicBezTo>
                  <a:pt x="58" y="275"/>
                  <a:pt x="58" y="275"/>
                  <a:pt x="58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0" y="240"/>
                  <a:pt x="20" y="240"/>
                  <a:pt x="20" y="240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26" y="305"/>
                  <a:pt x="26" y="305"/>
                  <a:pt x="26" y="305"/>
                </a:cubicBezTo>
                <a:cubicBezTo>
                  <a:pt x="27" y="308"/>
                  <a:pt x="27" y="310"/>
                  <a:pt x="26" y="311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19" y="316"/>
                  <a:pt x="13" y="327"/>
                  <a:pt x="7" y="345"/>
                </a:cubicBezTo>
                <a:cubicBezTo>
                  <a:pt x="0" y="360"/>
                  <a:pt x="3" y="376"/>
                  <a:pt x="16" y="393"/>
                </a:cubicBezTo>
                <a:cubicBezTo>
                  <a:pt x="41" y="393"/>
                  <a:pt x="41" y="393"/>
                  <a:pt x="41" y="393"/>
                </a:cubicBezTo>
                <a:cubicBezTo>
                  <a:pt x="50" y="395"/>
                  <a:pt x="63" y="409"/>
                  <a:pt x="80" y="433"/>
                </a:cubicBezTo>
                <a:cubicBezTo>
                  <a:pt x="82" y="435"/>
                  <a:pt x="82" y="435"/>
                  <a:pt x="82" y="435"/>
                </a:cubicBezTo>
                <a:cubicBezTo>
                  <a:pt x="82" y="435"/>
                  <a:pt x="82" y="435"/>
                  <a:pt x="82" y="435"/>
                </a:cubicBezTo>
                <a:cubicBezTo>
                  <a:pt x="82" y="443"/>
                  <a:pt x="85" y="448"/>
                  <a:pt x="90" y="452"/>
                </a:cubicBezTo>
                <a:cubicBezTo>
                  <a:pt x="146" y="504"/>
                  <a:pt x="146" y="504"/>
                  <a:pt x="146" y="504"/>
                </a:cubicBezTo>
                <a:cubicBezTo>
                  <a:pt x="146" y="505"/>
                  <a:pt x="146" y="505"/>
                  <a:pt x="146" y="505"/>
                </a:cubicBezTo>
                <a:cubicBezTo>
                  <a:pt x="171" y="537"/>
                  <a:pt x="171" y="537"/>
                  <a:pt x="171" y="537"/>
                </a:cubicBezTo>
                <a:cubicBezTo>
                  <a:pt x="186" y="537"/>
                  <a:pt x="186" y="537"/>
                  <a:pt x="186" y="537"/>
                </a:cubicBezTo>
                <a:cubicBezTo>
                  <a:pt x="202" y="508"/>
                  <a:pt x="202" y="508"/>
                  <a:pt x="202" y="508"/>
                </a:cubicBezTo>
                <a:cubicBezTo>
                  <a:pt x="204" y="506"/>
                  <a:pt x="204" y="506"/>
                  <a:pt x="204" y="506"/>
                </a:cubicBezTo>
                <a:cubicBezTo>
                  <a:pt x="205" y="505"/>
                  <a:pt x="205" y="505"/>
                  <a:pt x="205" y="505"/>
                </a:cubicBezTo>
                <a:cubicBezTo>
                  <a:pt x="244" y="515"/>
                  <a:pt x="244" y="515"/>
                  <a:pt x="244" y="515"/>
                </a:cubicBezTo>
                <a:cubicBezTo>
                  <a:pt x="244" y="516"/>
                  <a:pt x="244" y="516"/>
                  <a:pt x="244" y="516"/>
                </a:cubicBezTo>
                <a:cubicBezTo>
                  <a:pt x="244" y="518"/>
                  <a:pt x="244" y="518"/>
                  <a:pt x="244" y="518"/>
                </a:cubicBezTo>
                <a:cubicBezTo>
                  <a:pt x="249" y="544"/>
                  <a:pt x="249" y="544"/>
                  <a:pt x="249" y="544"/>
                </a:cubicBezTo>
                <a:cubicBezTo>
                  <a:pt x="296" y="598"/>
                  <a:pt x="296" y="598"/>
                  <a:pt x="296" y="598"/>
                </a:cubicBezTo>
                <a:cubicBezTo>
                  <a:pt x="312" y="604"/>
                  <a:pt x="312" y="604"/>
                  <a:pt x="312" y="604"/>
                </a:cubicBezTo>
                <a:cubicBezTo>
                  <a:pt x="313" y="605"/>
                  <a:pt x="313" y="605"/>
                  <a:pt x="313" y="605"/>
                </a:cubicBezTo>
                <a:cubicBezTo>
                  <a:pt x="320" y="610"/>
                  <a:pt x="320" y="610"/>
                  <a:pt x="320" y="610"/>
                </a:cubicBezTo>
                <a:cubicBezTo>
                  <a:pt x="321" y="611"/>
                  <a:pt x="321" y="611"/>
                  <a:pt x="321" y="611"/>
                </a:cubicBezTo>
                <a:cubicBezTo>
                  <a:pt x="356" y="662"/>
                  <a:pt x="356" y="662"/>
                  <a:pt x="356" y="662"/>
                </a:cubicBezTo>
                <a:cubicBezTo>
                  <a:pt x="384" y="658"/>
                  <a:pt x="384" y="658"/>
                  <a:pt x="384" y="658"/>
                </a:cubicBezTo>
                <a:cubicBezTo>
                  <a:pt x="387" y="658"/>
                  <a:pt x="387" y="658"/>
                  <a:pt x="387" y="658"/>
                </a:cubicBezTo>
                <a:cubicBezTo>
                  <a:pt x="388" y="658"/>
                  <a:pt x="388" y="658"/>
                  <a:pt x="388" y="658"/>
                </a:cubicBezTo>
                <a:cubicBezTo>
                  <a:pt x="390" y="660"/>
                  <a:pt x="390" y="660"/>
                  <a:pt x="390" y="660"/>
                </a:cubicBezTo>
                <a:cubicBezTo>
                  <a:pt x="391" y="662"/>
                  <a:pt x="391" y="662"/>
                  <a:pt x="391" y="662"/>
                </a:cubicBezTo>
                <a:cubicBezTo>
                  <a:pt x="415" y="713"/>
                  <a:pt x="415" y="713"/>
                  <a:pt x="415" y="713"/>
                </a:cubicBezTo>
                <a:cubicBezTo>
                  <a:pt x="445" y="731"/>
                  <a:pt x="445" y="731"/>
                  <a:pt x="445" y="731"/>
                </a:cubicBezTo>
                <a:cubicBezTo>
                  <a:pt x="469" y="737"/>
                  <a:pt x="469" y="737"/>
                  <a:pt x="469" y="737"/>
                </a:cubicBezTo>
                <a:cubicBezTo>
                  <a:pt x="480" y="770"/>
                  <a:pt x="480" y="770"/>
                  <a:pt x="480" y="770"/>
                </a:cubicBezTo>
                <a:cubicBezTo>
                  <a:pt x="498" y="770"/>
                  <a:pt x="498" y="770"/>
                  <a:pt x="498" y="770"/>
                </a:cubicBezTo>
                <a:cubicBezTo>
                  <a:pt x="499" y="771"/>
                  <a:pt x="499" y="771"/>
                  <a:pt x="499" y="771"/>
                </a:cubicBezTo>
                <a:cubicBezTo>
                  <a:pt x="499" y="771"/>
                  <a:pt x="499" y="771"/>
                  <a:pt x="499" y="771"/>
                </a:cubicBezTo>
                <a:cubicBezTo>
                  <a:pt x="537" y="792"/>
                  <a:pt x="537" y="792"/>
                  <a:pt x="537" y="792"/>
                </a:cubicBezTo>
                <a:cubicBezTo>
                  <a:pt x="537" y="793"/>
                  <a:pt x="537" y="793"/>
                  <a:pt x="537" y="793"/>
                </a:cubicBezTo>
                <a:cubicBezTo>
                  <a:pt x="537" y="793"/>
                  <a:pt x="537" y="793"/>
                  <a:pt x="537" y="793"/>
                </a:cubicBezTo>
                <a:cubicBezTo>
                  <a:pt x="539" y="794"/>
                  <a:pt x="539" y="794"/>
                  <a:pt x="539" y="794"/>
                </a:cubicBezTo>
                <a:cubicBezTo>
                  <a:pt x="566" y="828"/>
                  <a:pt x="566" y="828"/>
                  <a:pt x="566" y="828"/>
                </a:cubicBezTo>
                <a:cubicBezTo>
                  <a:pt x="606" y="821"/>
                  <a:pt x="606" y="821"/>
                  <a:pt x="606" y="821"/>
                </a:cubicBezTo>
                <a:cubicBezTo>
                  <a:pt x="608" y="821"/>
                  <a:pt x="608" y="821"/>
                  <a:pt x="608" y="821"/>
                </a:cubicBezTo>
                <a:cubicBezTo>
                  <a:pt x="623" y="827"/>
                  <a:pt x="623" y="827"/>
                  <a:pt x="623" y="827"/>
                </a:cubicBezTo>
                <a:cubicBezTo>
                  <a:pt x="624" y="827"/>
                  <a:pt x="624" y="827"/>
                  <a:pt x="624" y="827"/>
                </a:cubicBezTo>
                <a:cubicBezTo>
                  <a:pt x="649" y="849"/>
                  <a:pt x="649" y="849"/>
                  <a:pt x="649" y="849"/>
                </a:cubicBezTo>
                <a:cubicBezTo>
                  <a:pt x="695" y="852"/>
                  <a:pt x="695" y="852"/>
                  <a:pt x="695" y="852"/>
                </a:cubicBezTo>
                <a:cubicBezTo>
                  <a:pt x="722" y="848"/>
                  <a:pt x="722" y="848"/>
                  <a:pt x="722" y="848"/>
                </a:cubicBezTo>
                <a:cubicBezTo>
                  <a:pt x="722" y="848"/>
                  <a:pt x="722" y="848"/>
                  <a:pt x="722" y="848"/>
                </a:cubicBezTo>
                <a:cubicBezTo>
                  <a:pt x="759" y="842"/>
                  <a:pt x="782" y="845"/>
                  <a:pt x="791" y="854"/>
                </a:cubicBezTo>
                <a:cubicBezTo>
                  <a:pt x="796" y="863"/>
                  <a:pt x="793" y="871"/>
                  <a:pt x="780" y="882"/>
                </a:cubicBezTo>
                <a:cubicBezTo>
                  <a:pt x="770" y="892"/>
                  <a:pt x="770" y="892"/>
                  <a:pt x="770" y="892"/>
                </a:cubicBezTo>
                <a:cubicBezTo>
                  <a:pt x="766" y="898"/>
                  <a:pt x="771" y="906"/>
                  <a:pt x="784" y="919"/>
                </a:cubicBezTo>
                <a:cubicBezTo>
                  <a:pt x="785" y="921"/>
                  <a:pt x="785" y="921"/>
                  <a:pt x="785" y="921"/>
                </a:cubicBezTo>
                <a:cubicBezTo>
                  <a:pt x="784" y="921"/>
                  <a:pt x="784" y="921"/>
                  <a:pt x="784" y="921"/>
                </a:cubicBezTo>
                <a:cubicBezTo>
                  <a:pt x="793" y="927"/>
                  <a:pt x="793" y="927"/>
                  <a:pt x="793" y="927"/>
                </a:cubicBezTo>
                <a:cubicBezTo>
                  <a:pt x="796" y="924"/>
                  <a:pt x="796" y="924"/>
                  <a:pt x="796" y="924"/>
                </a:cubicBezTo>
                <a:cubicBezTo>
                  <a:pt x="822" y="874"/>
                  <a:pt x="844" y="847"/>
                  <a:pt x="858" y="842"/>
                </a:cubicBezTo>
                <a:cubicBezTo>
                  <a:pt x="874" y="836"/>
                  <a:pt x="907" y="850"/>
                  <a:pt x="959" y="882"/>
                </a:cubicBezTo>
                <a:cubicBezTo>
                  <a:pt x="1022" y="893"/>
                  <a:pt x="1022" y="893"/>
                  <a:pt x="1022" y="893"/>
                </a:cubicBezTo>
                <a:cubicBezTo>
                  <a:pt x="1021" y="896"/>
                  <a:pt x="1021" y="896"/>
                  <a:pt x="1021" y="896"/>
                </a:cubicBezTo>
                <a:cubicBezTo>
                  <a:pt x="1021" y="898"/>
                  <a:pt x="1021" y="898"/>
                  <a:pt x="1021" y="898"/>
                </a:cubicBezTo>
                <a:cubicBezTo>
                  <a:pt x="1018" y="927"/>
                  <a:pt x="1018" y="927"/>
                  <a:pt x="1018" y="927"/>
                </a:cubicBezTo>
                <a:cubicBezTo>
                  <a:pt x="1049" y="931"/>
                  <a:pt x="1049" y="931"/>
                  <a:pt x="1049" y="931"/>
                </a:cubicBezTo>
                <a:cubicBezTo>
                  <a:pt x="1048" y="972"/>
                  <a:pt x="1048" y="972"/>
                  <a:pt x="1048" y="972"/>
                </a:cubicBezTo>
                <a:cubicBezTo>
                  <a:pt x="1058" y="990"/>
                  <a:pt x="1065" y="1000"/>
                  <a:pt x="1069" y="1003"/>
                </a:cubicBezTo>
                <a:cubicBezTo>
                  <a:pt x="1076" y="1007"/>
                  <a:pt x="1107" y="1007"/>
                  <a:pt x="1163" y="1003"/>
                </a:cubicBezTo>
                <a:cubicBezTo>
                  <a:pt x="1196" y="986"/>
                  <a:pt x="1196" y="986"/>
                  <a:pt x="1196" y="986"/>
                </a:cubicBezTo>
                <a:cubicBezTo>
                  <a:pt x="1228" y="942"/>
                  <a:pt x="1228" y="942"/>
                  <a:pt x="1228" y="942"/>
                </a:cubicBezTo>
                <a:cubicBezTo>
                  <a:pt x="1265" y="941"/>
                  <a:pt x="1265" y="941"/>
                  <a:pt x="1265" y="941"/>
                </a:cubicBezTo>
                <a:cubicBezTo>
                  <a:pt x="1283" y="936"/>
                  <a:pt x="1283" y="936"/>
                  <a:pt x="1283" y="936"/>
                </a:cubicBezTo>
                <a:cubicBezTo>
                  <a:pt x="1352" y="896"/>
                  <a:pt x="1352" y="896"/>
                  <a:pt x="1352" y="896"/>
                </a:cubicBezTo>
                <a:cubicBezTo>
                  <a:pt x="1353" y="896"/>
                  <a:pt x="1353" y="896"/>
                  <a:pt x="1353" y="896"/>
                </a:cubicBezTo>
                <a:cubicBezTo>
                  <a:pt x="1354" y="895"/>
                  <a:pt x="1354" y="895"/>
                  <a:pt x="1354" y="895"/>
                </a:cubicBezTo>
                <a:cubicBezTo>
                  <a:pt x="1354" y="895"/>
                  <a:pt x="1354" y="895"/>
                  <a:pt x="1354" y="895"/>
                </a:cubicBezTo>
                <a:cubicBezTo>
                  <a:pt x="1394" y="890"/>
                  <a:pt x="1418" y="889"/>
                  <a:pt x="1424" y="895"/>
                </a:cubicBezTo>
                <a:cubicBezTo>
                  <a:pt x="1469" y="933"/>
                  <a:pt x="1469" y="933"/>
                  <a:pt x="1469" y="933"/>
                </a:cubicBezTo>
                <a:cubicBezTo>
                  <a:pt x="1483" y="938"/>
                  <a:pt x="1483" y="938"/>
                  <a:pt x="1483" y="938"/>
                </a:cubicBezTo>
                <a:cubicBezTo>
                  <a:pt x="1485" y="940"/>
                  <a:pt x="1485" y="940"/>
                  <a:pt x="1485" y="940"/>
                </a:cubicBezTo>
                <a:cubicBezTo>
                  <a:pt x="1503" y="947"/>
                  <a:pt x="1503" y="947"/>
                  <a:pt x="1503" y="947"/>
                </a:cubicBezTo>
                <a:cubicBezTo>
                  <a:pt x="1504" y="948"/>
                  <a:pt x="1504" y="948"/>
                  <a:pt x="1504" y="948"/>
                </a:cubicBezTo>
                <a:cubicBezTo>
                  <a:pt x="1504" y="945"/>
                  <a:pt x="1504" y="945"/>
                  <a:pt x="1504" y="945"/>
                </a:cubicBezTo>
                <a:cubicBezTo>
                  <a:pt x="1504" y="944"/>
                  <a:pt x="1504" y="944"/>
                  <a:pt x="1504" y="944"/>
                </a:cubicBezTo>
                <a:cubicBezTo>
                  <a:pt x="1504" y="943"/>
                  <a:pt x="1504" y="943"/>
                  <a:pt x="1504" y="943"/>
                </a:cubicBezTo>
                <a:cubicBezTo>
                  <a:pt x="1504" y="942"/>
                  <a:pt x="1504" y="942"/>
                  <a:pt x="1504" y="942"/>
                </a:cubicBezTo>
                <a:cubicBezTo>
                  <a:pt x="1512" y="910"/>
                  <a:pt x="1512" y="910"/>
                  <a:pt x="1512" y="910"/>
                </a:cubicBezTo>
                <a:cubicBezTo>
                  <a:pt x="1508" y="901"/>
                  <a:pt x="1508" y="893"/>
                  <a:pt x="1512" y="887"/>
                </a:cubicBezTo>
                <a:cubicBezTo>
                  <a:pt x="1514" y="882"/>
                  <a:pt x="1519" y="879"/>
                  <a:pt x="1527" y="877"/>
                </a:cubicBezTo>
                <a:cubicBezTo>
                  <a:pt x="1543" y="873"/>
                  <a:pt x="1558" y="887"/>
                  <a:pt x="1573" y="917"/>
                </a:cubicBezTo>
                <a:cubicBezTo>
                  <a:pt x="1575" y="918"/>
                  <a:pt x="1575" y="918"/>
                  <a:pt x="1575" y="918"/>
                </a:cubicBezTo>
                <a:cubicBezTo>
                  <a:pt x="1576" y="918"/>
                  <a:pt x="1576" y="918"/>
                  <a:pt x="1576" y="918"/>
                </a:cubicBezTo>
                <a:cubicBezTo>
                  <a:pt x="1602" y="906"/>
                  <a:pt x="1602" y="906"/>
                  <a:pt x="1602" y="906"/>
                </a:cubicBezTo>
                <a:cubicBezTo>
                  <a:pt x="1608" y="905"/>
                  <a:pt x="1610" y="900"/>
                  <a:pt x="1610" y="895"/>
                </a:cubicBezTo>
                <a:cubicBezTo>
                  <a:pt x="1604" y="876"/>
                  <a:pt x="1604" y="876"/>
                  <a:pt x="1604" y="876"/>
                </a:cubicBezTo>
                <a:cubicBezTo>
                  <a:pt x="1604" y="874"/>
                  <a:pt x="1604" y="874"/>
                  <a:pt x="1604" y="874"/>
                </a:cubicBezTo>
                <a:cubicBezTo>
                  <a:pt x="1602" y="866"/>
                  <a:pt x="1604" y="859"/>
                  <a:pt x="1613" y="855"/>
                </a:cubicBezTo>
                <a:cubicBezTo>
                  <a:pt x="1622" y="848"/>
                  <a:pt x="1622" y="848"/>
                  <a:pt x="1622" y="848"/>
                </a:cubicBezTo>
                <a:cubicBezTo>
                  <a:pt x="1646" y="823"/>
                  <a:pt x="1646" y="823"/>
                  <a:pt x="1646" y="823"/>
                </a:cubicBezTo>
                <a:cubicBezTo>
                  <a:pt x="1661" y="788"/>
                  <a:pt x="1661" y="788"/>
                  <a:pt x="1661" y="788"/>
                </a:cubicBezTo>
                <a:cubicBezTo>
                  <a:pt x="1648" y="766"/>
                  <a:pt x="1644" y="750"/>
                  <a:pt x="1648" y="739"/>
                </a:cubicBezTo>
                <a:cubicBezTo>
                  <a:pt x="1651" y="710"/>
                  <a:pt x="1651" y="710"/>
                  <a:pt x="1651" y="710"/>
                </a:cubicBezTo>
                <a:cubicBezTo>
                  <a:pt x="1645" y="697"/>
                  <a:pt x="1641" y="689"/>
                  <a:pt x="1641" y="681"/>
                </a:cubicBezTo>
                <a:cubicBezTo>
                  <a:pt x="1641" y="678"/>
                  <a:pt x="1637" y="669"/>
                  <a:pt x="1629" y="656"/>
                </a:cubicBezTo>
                <a:cubicBezTo>
                  <a:pt x="1628" y="656"/>
                  <a:pt x="1628" y="656"/>
                  <a:pt x="1628" y="656"/>
                </a:cubicBezTo>
                <a:cubicBezTo>
                  <a:pt x="1628" y="653"/>
                  <a:pt x="1628" y="653"/>
                  <a:pt x="1628" y="653"/>
                </a:cubicBezTo>
                <a:cubicBezTo>
                  <a:pt x="1625" y="615"/>
                  <a:pt x="1625" y="615"/>
                  <a:pt x="1625" y="615"/>
                </a:cubicBezTo>
                <a:cubicBezTo>
                  <a:pt x="1623" y="609"/>
                  <a:pt x="1622" y="600"/>
                  <a:pt x="1625" y="590"/>
                </a:cubicBezTo>
                <a:cubicBezTo>
                  <a:pt x="1615" y="582"/>
                  <a:pt x="1609" y="575"/>
                  <a:pt x="1604" y="567"/>
                </a:cubicBezTo>
                <a:cubicBezTo>
                  <a:pt x="1589" y="546"/>
                  <a:pt x="1589" y="546"/>
                  <a:pt x="1589" y="546"/>
                </a:cubicBezTo>
                <a:cubicBezTo>
                  <a:pt x="1588" y="545"/>
                  <a:pt x="1588" y="545"/>
                  <a:pt x="1588" y="545"/>
                </a:cubicBezTo>
                <a:cubicBezTo>
                  <a:pt x="1588" y="543"/>
                  <a:pt x="1588" y="543"/>
                  <a:pt x="1588" y="543"/>
                </a:cubicBezTo>
                <a:cubicBezTo>
                  <a:pt x="1588" y="542"/>
                  <a:pt x="1588" y="542"/>
                  <a:pt x="1588" y="542"/>
                </a:cubicBezTo>
                <a:cubicBezTo>
                  <a:pt x="1582" y="516"/>
                  <a:pt x="1582" y="516"/>
                  <a:pt x="1582" y="516"/>
                </a:cubicBezTo>
                <a:cubicBezTo>
                  <a:pt x="1566" y="503"/>
                  <a:pt x="1566" y="503"/>
                  <a:pt x="1566" y="503"/>
                </a:cubicBezTo>
                <a:cubicBezTo>
                  <a:pt x="1566" y="504"/>
                  <a:pt x="1566" y="504"/>
                  <a:pt x="1566" y="504"/>
                </a:cubicBezTo>
                <a:cubicBezTo>
                  <a:pt x="1536" y="480"/>
                  <a:pt x="1536" y="480"/>
                  <a:pt x="1536" y="480"/>
                </a:cubicBezTo>
                <a:cubicBezTo>
                  <a:pt x="1536" y="482"/>
                  <a:pt x="1536" y="482"/>
                  <a:pt x="1536" y="482"/>
                </a:cubicBezTo>
                <a:cubicBezTo>
                  <a:pt x="1540" y="515"/>
                  <a:pt x="1540" y="515"/>
                  <a:pt x="1540" y="515"/>
                </a:cubicBezTo>
                <a:cubicBezTo>
                  <a:pt x="1540" y="516"/>
                  <a:pt x="1540" y="516"/>
                  <a:pt x="1540" y="516"/>
                </a:cubicBezTo>
                <a:cubicBezTo>
                  <a:pt x="1540" y="519"/>
                  <a:pt x="1540" y="519"/>
                  <a:pt x="1540" y="519"/>
                </a:cubicBezTo>
                <a:cubicBezTo>
                  <a:pt x="1524" y="526"/>
                  <a:pt x="1524" y="526"/>
                  <a:pt x="1524" y="526"/>
                </a:cubicBezTo>
                <a:cubicBezTo>
                  <a:pt x="1522" y="546"/>
                  <a:pt x="1522" y="546"/>
                  <a:pt x="1522" y="546"/>
                </a:cubicBezTo>
                <a:cubicBezTo>
                  <a:pt x="1522" y="549"/>
                  <a:pt x="1522" y="549"/>
                  <a:pt x="1522" y="549"/>
                </a:cubicBezTo>
                <a:cubicBezTo>
                  <a:pt x="1485" y="564"/>
                  <a:pt x="1485" y="564"/>
                  <a:pt x="1485" y="564"/>
                </a:cubicBezTo>
                <a:cubicBezTo>
                  <a:pt x="1473" y="535"/>
                  <a:pt x="1473" y="535"/>
                  <a:pt x="1473" y="535"/>
                </a:cubicBezTo>
                <a:cubicBezTo>
                  <a:pt x="1465" y="533"/>
                  <a:pt x="1465" y="533"/>
                  <a:pt x="1465" y="533"/>
                </a:cubicBezTo>
                <a:cubicBezTo>
                  <a:pt x="1454" y="544"/>
                  <a:pt x="1454" y="544"/>
                  <a:pt x="1454" y="544"/>
                </a:cubicBezTo>
                <a:cubicBezTo>
                  <a:pt x="1446" y="565"/>
                  <a:pt x="1446" y="565"/>
                  <a:pt x="1446" y="565"/>
                </a:cubicBezTo>
                <a:cubicBezTo>
                  <a:pt x="1420" y="573"/>
                  <a:pt x="1420" y="573"/>
                  <a:pt x="1420" y="573"/>
                </a:cubicBezTo>
                <a:cubicBezTo>
                  <a:pt x="1405" y="562"/>
                  <a:pt x="1405" y="562"/>
                  <a:pt x="1405" y="562"/>
                </a:cubicBezTo>
                <a:cubicBezTo>
                  <a:pt x="1384" y="556"/>
                  <a:pt x="1384" y="556"/>
                  <a:pt x="1384" y="556"/>
                </a:cubicBezTo>
                <a:cubicBezTo>
                  <a:pt x="1378" y="526"/>
                  <a:pt x="1378" y="526"/>
                  <a:pt x="1378" y="526"/>
                </a:cubicBezTo>
                <a:cubicBezTo>
                  <a:pt x="1369" y="508"/>
                  <a:pt x="1369" y="508"/>
                  <a:pt x="1369" y="508"/>
                </a:cubicBezTo>
                <a:cubicBezTo>
                  <a:pt x="1356" y="503"/>
                  <a:pt x="1356" y="503"/>
                  <a:pt x="1356" y="503"/>
                </a:cubicBezTo>
                <a:cubicBezTo>
                  <a:pt x="1355" y="501"/>
                  <a:pt x="1355" y="501"/>
                  <a:pt x="1355" y="501"/>
                </a:cubicBezTo>
                <a:cubicBezTo>
                  <a:pt x="1346" y="489"/>
                  <a:pt x="1346" y="489"/>
                  <a:pt x="1346" y="489"/>
                </a:cubicBezTo>
                <a:cubicBezTo>
                  <a:pt x="1346" y="489"/>
                  <a:pt x="1346" y="489"/>
                  <a:pt x="1346" y="489"/>
                </a:cubicBezTo>
                <a:cubicBezTo>
                  <a:pt x="1336" y="472"/>
                  <a:pt x="1336" y="472"/>
                  <a:pt x="1336" y="472"/>
                </a:cubicBezTo>
                <a:cubicBezTo>
                  <a:pt x="1322" y="453"/>
                  <a:pt x="1322" y="453"/>
                  <a:pt x="1322" y="453"/>
                </a:cubicBezTo>
                <a:cubicBezTo>
                  <a:pt x="1309" y="453"/>
                  <a:pt x="1309" y="453"/>
                  <a:pt x="1309" y="453"/>
                </a:cubicBezTo>
                <a:cubicBezTo>
                  <a:pt x="1288" y="461"/>
                  <a:pt x="1288" y="461"/>
                  <a:pt x="1288" y="461"/>
                </a:cubicBezTo>
                <a:cubicBezTo>
                  <a:pt x="1287" y="462"/>
                  <a:pt x="1287" y="462"/>
                  <a:pt x="1287" y="462"/>
                </a:cubicBezTo>
                <a:cubicBezTo>
                  <a:pt x="1233" y="459"/>
                  <a:pt x="1233" y="459"/>
                  <a:pt x="1233" y="459"/>
                </a:cubicBezTo>
                <a:cubicBezTo>
                  <a:pt x="1192" y="450"/>
                  <a:pt x="1192" y="450"/>
                  <a:pt x="1192" y="450"/>
                </a:cubicBezTo>
                <a:cubicBezTo>
                  <a:pt x="1189" y="448"/>
                  <a:pt x="1181" y="445"/>
                  <a:pt x="1170" y="438"/>
                </a:cubicBezTo>
                <a:cubicBezTo>
                  <a:pt x="1138" y="427"/>
                  <a:pt x="1138" y="427"/>
                  <a:pt x="1138" y="427"/>
                </a:cubicBezTo>
                <a:cubicBezTo>
                  <a:pt x="1114" y="421"/>
                  <a:pt x="1100" y="415"/>
                  <a:pt x="1097" y="409"/>
                </a:cubicBezTo>
                <a:cubicBezTo>
                  <a:pt x="1092" y="406"/>
                  <a:pt x="1092" y="406"/>
                  <a:pt x="1092" y="406"/>
                </a:cubicBezTo>
                <a:cubicBezTo>
                  <a:pt x="1084" y="404"/>
                  <a:pt x="1084" y="404"/>
                  <a:pt x="1084" y="404"/>
                </a:cubicBezTo>
                <a:cubicBezTo>
                  <a:pt x="1065" y="393"/>
                  <a:pt x="1065" y="393"/>
                  <a:pt x="1065" y="393"/>
                </a:cubicBezTo>
                <a:cubicBezTo>
                  <a:pt x="1063" y="392"/>
                  <a:pt x="1063" y="392"/>
                  <a:pt x="1063" y="392"/>
                </a:cubicBezTo>
                <a:cubicBezTo>
                  <a:pt x="1060" y="388"/>
                  <a:pt x="1057" y="385"/>
                  <a:pt x="1055" y="381"/>
                </a:cubicBezTo>
                <a:cubicBezTo>
                  <a:pt x="1050" y="371"/>
                  <a:pt x="1050" y="371"/>
                  <a:pt x="1050" y="371"/>
                </a:cubicBezTo>
                <a:cubicBezTo>
                  <a:pt x="1042" y="358"/>
                  <a:pt x="1042" y="358"/>
                  <a:pt x="1042" y="358"/>
                </a:cubicBezTo>
                <a:cubicBezTo>
                  <a:pt x="1028" y="352"/>
                  <a:pt x="1028" y="352"/>
                  <a:pt x="1028" y="352"/>
                </a:cubicBezTo>
                <a:cubicBezTo>
                  <a:pt x="1023" y="355"/>
                  <a:pt x="1023" y="355"/>
                  <a:pt x="1023" y="355"/>
                </a:cubicBezTo>
                <a:cubicBezTo>
                  <a:pt x="1018" y="359"/>
                  <a:pt x="1018" y="359"/>
                  <a:pt x="1018" y="359"/>
                </a:cubicBezTo>
                <a:cubicBezTo>
                  <a:pt x="1015" y="362"/>
                  <a:pt x="1015" y="362"/>
                  <a:pt x="1015" y="362"/>
                </a:cubicBezTo>
                <a:cubicBezTo>
                  <a:pt x="1009" y="366"/>
                  <a:pt x="1004" y="368"/>
                  <a:pt x="1000" y="369"/>
                </a:cubicBezTo>
                <a:cubicBezTo>
                  <a:pt x="991" y="371"/>
                  <a:pt x="983" y="367"/>
                  <a:pt x="973" y="356"/>
                </a:cubicBezTo>
                <a:cubicBezTo>
                  <a:pt x="953" y="335"/>
                  <a:pt x="953" y="335"/>
                  <a:pt x="953" y="335"/>
                </a:cubicBezTo>
                <a:cubicBezTo>
                  <a:pt x="946" y="326"/>
                  <a:pt x="941" y="318"/>
                  <a:pt x="939" y="313"/>
                </a:cubicBezTo>
                <a:cubicBezTo>
                  <a:pt x="933" y="305"/>
                  <a:pt x="933" y="305"/>
                  <a:pt x="933" y="305"/>
                </a:cubicBezTo>
                <a:cubicBezTo>
                  <a:pt x="926" y="297"/>
                  <a:pt x="921" y="290"/>
                  <a:pt x="917" y="283"/>
                </a:cubicBezTo>
                <a:cubicBezTo>
                  <a:pt x="914" y="274"/>
                  <a:pt x="913" y="266"/>
                  <a:pt x="916" y="257"/>
                </a:cubicBezTo>
                <a:cubicBezTo>
                  <a:pt x="916" y="256"/>
                  <a:pt x="916" y="256"/>
                  <a:pt x="916" y="256"/>
                </a:cubicBezTo>
                <a:cubicBezTo>
                  <a:pt x="916" y="256"/>
                  <a:pt x="916" y="256"/>
                  <a:pt x="916" y="256"/>
                </a:cubicBezTo>
                <a:cubicBezTo>
                  <a:pt x="930" y="233"/>
                  <a:pt x="930" y="233"/>
                  <a:pt x="930" y="233"/>
                </a:cubicBezTo>
                <a:cubicBezTo>
                  <a:pt x="937" y="209"/>
                  <a:pt x="937" y="209"/>
                  <a:pt x="937" y="209"/>
                </a:cubicBezTo>
                <a:cubicBezTo>
                  <a:pt x="941" y="193"/>
                  <a:pt x="941" y="193"/>
                  <a:pt x="941" y="193"/>
                </a:cubicBezTo>
                <a:cubicBezTo>
                  <a:pt x="935" y="168"/>
                  <a:pt x="935" y="168"/>
                  <a:pt x="935" y="168"/>
                </a:cubicBezTo>
                <a:cubicBezTo>
                  <a:pt x="920" y="155"/>
                  <a:pt x="920" y="155"/>
                  <a:pt x="920" y="155"/>
                </a:cubicBezTo>
                <a:cubicBezTo>
                  <a:pt x="923" y="135"/>
                  <a:pt x="923" y="135"/>
                  <a:pt x="923" y="135"/>
                </a:cubicBezTo>
                <a:cubicBezTo>
                  <a:pt x="923" y="120"/>
                  <a:pt x="928" y="112"/>
                  <a:pt x="939" y="110"/>
                </a:cubicBezTo>
                <a:cubicBezTo>
                  <a:pt x="942" y="109"/>
                  <a:pt x="944" y="107"/>
                  <a:pt x="943" y="103"/>
                </a:cubicBezTo>
                <a:cubicBezTo>
                  <a:pt x="943" y="102"/>
                  <a:pt x="943" y="102"/>
                  <a:pt x="943" y="102"/>
                </a:cubicBezTo>
                <a:cubicBezTo>
                  <a:pt x="944" y="81"/>
                  <a:pt x="944" y="81"/>
                  <a:pt x="944" y="81"/>
                </a:cubicBezTo>
                <a:cubicBezTo>
                  <a:pt x="944" y="80"/>
                  <a:pt x="944" y="80"/>
                  <a:pt x="944" y="80"/>
                </a:cubicBezTo>
                <a:cubicBezTo>
                  <a:pt x="944" y="80"/>
                  <a:pt x="944" y="80"/>
                  <a:pt x="944" y="80"/>
                </a:cubicBezTo>
                <a:cubicBezTo>
                  <a:pt x="944" y="55"/>
                  <a:pt x="944" y="55"/>
                  <a:pt x="944" y="55"/>
                </a:cubicBezTo>
                <a:cubicBezTo>
                  <a:pt x="942" y="55"/>
                  <a:pt x="942" y="55"/>
                  <a:pt x="942" y="55"/>
                </a:cubicBezTo>
                <a:cubicBezTo>
                  <a:pt x="941" y="54"/>
                  <a:pt x="941" y="54"/>
                  <a:pt x="941" y="54"/>
                </a:cubicBezTo>
                <a:cubicBezTo>
                  <a:pt x="941" y="54"/>
                  <a:pt x="941" y="54"/>
                  <a:pt x="941" y="54"/>
                </a:cubicBezTo>
                <a:cubicBezTo>
                  <a:pt x="941" y="54"/>
                  <a:pt x="941" y="54"/>
                  <a:pt x="941" y="54"/>
                </a:cubicBezTo>
                <a:cubicBezTo>
                  <a:pt x="936" y="52"/>
                  <a:pt x="936" y="52"/>
                  <a:pt x="936" y="52"/>
                </a:cubicBezTo>
                <a:cubicBezTo>
                  <a:pt x="936" y="51"/>
                  <a:pt x="936" y="51"/>
                  <a:pt x="936" y="51"/>
                </a:cubicBezTo>
                <a:cubicBezTo>
                  <a:pt x="935" y="51"/>
                  <a:pt x="935" y="51"/>
                  <a:pt x="935" y="51"/>
                </a:cubicBezTo>
                <a:cubicBezTo>
                  <a:pt x="916" y="39"/>
                  <a:pt x="916" y="39"/>
                  <a:pt x="916" y="39"/>
                </a:cubicBezTo>
                <a:cubicBezTo>
                  <a:pt x="916" y="39"/>
                  <a:pt x="916" y="39"/>
                  <a:pt x="916" y="39"/>
                </a:cubicBezTo>
                <a:cubicBezTo>
                  <a:pt x="915" y="39"/>
                  <a:pt x="915" y="39"/>
                  <a:pt x="915" y="39"/>
                </a:cubicBezTo>
                <a:cubicBezTo>
                  <a:pt x="901" y="26"/>
                  <a:pt x="901" y="26"/>
                  <a:pt x="901" y="26"/>
                </a:cubicBezTo>
                <a:cubicBezTo>
                  <a:pt x="851" y="16"/>
                  <a:pt x="851" y="16"/>
                  <a:pt x="851" y="16"/>
                </a:cubicBezTo>
                <a:cubicBezTo>
                  <a:pt x="851" y="16"/>
                  <a:pt x="851" y="16"/>
                  <a:pt x="851" y="16"/>
                </a:cubicBezTo>
                <a:cubicBezTo>
                  <a:pt x="835" y="5"/>
                  <a:pt x="835" y="5"/>
                  <a:pt x="835" y="5"/>
                </a:cubicBezTo>
                <a:cubicBezTo>
                  <a:pt x="806" y="5"/>
                  <a:pt x="806" y="5"/>
                  <a:pt x="806" y="5"/>
                </a:cubicBezTo>
                <a:cubicBezTo>
                  <a:pt x="801" y="5"/>
                  <a:pt x="796" y="8"/>
                  <a:pt x="789" y="12"/>
                </a:cubicBezTo>
                <a:cubicBezTo>
                  <a:pt x="788" y="12"/>
                  <a:pt x="788" y="12"/>
                  <a:pt x="788" y="12"/>
                </a:cubicBezTo>
                <a:cubicBezTo>
                  <a:pt x="764" y="21"/>
                  <a:pt x="764" y="21"/>
                  <a:pt x="764" y="21"/>
                </a:cubicBezTo>
                <a:cubicBezTo>
                  <a:pt x="706" y="21"/>
                  <a:pt x="706" y="21"/>
                  <a:pt x="706" y="21"/>
                </a:cubicBezTo>
                <a:cubicBezTo>
                  <a:pt x="698" y="23"/>
                  <a:pt x="690" y="25"/>
                  <a:pt x="686" y="29"/>
                </a:cubicBezTo>
                <a:cubicBezTo>
                  <a:pt x="680" y="34"/>
                  <a:pt x="668" y="39"/>
                  <a:pt x="653" y="44"/>
                </a:cubicBezTo>
                <a:cubicBezTo>
                  <a:pt x="625" y="50"/>
                  <a:pt x="625" y="50"/>
                  <a:pt x="625" y="50"/>
                </a:cubicBezTo>
                <a:cubicBezTo>
                  <a:pt x="625" y="51"/>
                  <a:pt x="625" y="51"/>
                  <a:pt x="625" y="51"/>
                </a:cubicBezTo>
                <a:cubicBezTo>
                  <a:pt x="623" y="51"/>
                  <a:pt x="623" y="51"/>
                  <a:pt x="623" y="51"/>
                </a:cubicBezTo>
                <a:cubicBezTo>
                  <a:pt x="584" y="47"/>
                  <a:pt x="584" y="47"/>
                  <a:pt x="584" y="47"/>
                </a:cubicBezTo>
                <a:cubicBezTo>
                  <a:pt x="581" y="46"/>
                  <a:pt x="581" y="46"/>
                  <a:pt x="581" y="46"/>
                </a:cubicBezTo>
                <a:cubicBezTo>
                  <a:pt x="582" y="47"/>
                  <a:pt x="582" y="47"/>
                  <a:pt x="582" y="47"/>
                </a:cubicBezTo>
                <a:cubicBezTo>
                  <a:pt x="581" y="46"/>
                  <a:pt x="581" y="46"/>
                  <a:pt x="581" y="46"/>
                </a:cubicBezTo>
                <a:cubicBezTo>
                  <a:pt x="567" y="45"/>
                  <a:pt x="567" y="45"/>
                  <a:pt x="567" y="45"/>
                </a:cubicBezTo>
                <a:cubicBezTo>
                  <a:pt x="544" y="52"/>
                  <a:pt x="544" y="52"/>
                  <a:pt x="544" y="52"/>
                </a:cubicBezTo>
                <a:cubicBezTo>
                  <a:pt x="497" y="57"/>
                  <a:pt x="497" y="57"/>
                  <a:pt x="497" y="57"/>
                </a:cubicBezTo>
                <a:cubicBezTo>
                  <a:pt x="496" y="57"/>
                  <a:pt x="496" y="57"/>
                  <a:pt x="496" y="57"/>
                </a:cubicBezTo>
                <a:cubicBezTo>
                  <a:pt x="495" y="55"/>
                  <a:pt x="495" y="55"/>
                  <a:pt x="495" y="55"/>
                </a:cubicBezTo>
                <a:cubicBezTo>
                  <a:pt x="472" y="47"/>
                  <a:pt x="472" y="47"/>
                  <a:pt x="472" y="47"/>
                </a:cubicBezTo>
                <a:cubicBezTo>
                  <a:pt x="453" y="47"/>
                  <a:pt x="453" y="47"/>
                  <a:pt x="453" y="47"/>
                </a:cubicBezTo>
                <a:cubicBezTo>
                  <a:pt x="445" y="45"/>
                  <a:pt x="435" y="39"/>
                  <a:pt x="425" y="26"/>
                </a:cubicBezTo>
                <a:cubicBezTo>
                  <a:pt x="423" y="24"/>
                  <a:pt x="423" y="24"/>
                  <a:pt x="423" y="24"/>
                </a:cubicBezTo>
                <a:cubicBezTo>
                  <a:pt x="421" y="14"/>
                  <a:pt x="418" y="10"/>
                  <a:pt x="417" y="8"/>
                </a:cubicBezTo>
                <a:cubicBezTo>
                  <a:pt x="412" y="5"/>
                  <a:pt x="412" y="5"/>
                  <a:pt x="412" y="5"/>
                </a:cubicBezTo>
                <a:cubicBezTo>
                  <a:pt x="402" y="0"/>
                  <a:pt x="402" y="0"/>
                  <a:pt x="402" y="0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10"/>
                  <a:pt x="393" y="10"/>
                  <a:pt x="393" y="10"/>
                </a:cubicBezTo>
                <a:cubicBezTo>
                  <a:pt x="359" y="24"/>
                  <a:pt x="359" y="24"/>
                  <a:pt x="359" y="24"/>
                </a:cubicBezTo>
                <a:cubicBezTo>
                  <a:pt x="358" y="24"/>
                  <a:pt x="358" y="24"/>
                  <a:pt x="358" y="24"/>
                </a:cubicBezTo>
                <a:cubicBezTo>
                  <a:pt x="356" y="24"/>
                  <a:pt x="356" y="24"/>
                  <a:pt x="356" y="24"/>
                </a:cubicBezTo>
                <a:cubicBezTo>
                  <a:pt x="315" y="28"/>
                  <a:pt x="315" y="28"/>
                  <a:pt x="315" y="28"/>
                </a:cubicBezTo>
                <a:cubicBezTo>
                  <a:pt x="308" y="28"/>
                  <a:pt x="297" y="25"/>
                  <a:pt x="281" y="21"/>
                </a:cubicBezTo>
                <a:cubicBezTo>
                  <a:pt x="245" y="14"/>
                  <a:pt x="245" y="14"/>
                  <a:pt x="245" y="14"/>
                </a:cubicBezTo>
                <a:cubicBezTo>
                  <a:pt x="244" y="14"/>
                  <a:pt x="244" y="14"/>
                  <a:pt x="244" y="14"/>
                </a:cubicBezTo>
                <a:cubicBezTo>
                  <a:pt x="244" y="14"/>
                  <a:pt x="244" y="14"/>
                  <a:pt x="244" y="14"/>
                </a:cubicBezTo>
                <a:cubicBezTo>
                  <a:pt x="223" y="3"/>
                  <a:pt x="223" y="3"/>
                  <a:pt x="223" y="3"/>
                </a:cubicBezTo>
                <a:lnTo>
                  <a:pt x="205" y="3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2"/>
          <p:cNvSpPr/>
          <p:nvPr/>
        </p:nvSpPr>
        <p:spPr>
          <a:xfrm>
            <a:off x="2084400" y="3527280"/>
            <a:ext cx="708120" cy="723960"/>
          </a:xfrm>
          <a:custGeom>
            <a:avLst/>
            <a:gdLst/>
            <a:ahLst/>
            <a:rect l="l" t="t" r="r" b="b"/>
            <a:pathLst>
              <a:path w="749" h="782">
                <a:moveTo>
                  <a:pt x="4" y="479"/>
                </a:moveTo>
                <a:cubicBezTo>
                  <a:pt x="0" y="492"/>
                  <a:pt x="0" y="492"/>
                  <a:pt x="0" y="492"/>
                </a:cubicBezTo>
                <a:cubicBezTo>
                  <a:pt x="6" y="492"/>
                  <a:pt x="14" y="488"/>
                  <a:pt x="23" y="482"/>
                </a:cubicBezTo>
                <a:cubicBezTo>
                  <a:pt x="24" y="481"/>
                  <a:pt x="24" y="481"/>
                  <a:pt x="24" y="481"/>
                </a:cubicBezTo>
                <a:cubicBezTo>
                  <a:pt x="26" y="481"/>
                  <a:pt x="26" y="481"/>
                  <a:pt x="26" y="481"/>
                </a:cubicBezTo>
                <a:cubicBezTo>
                  <a:pt x="68" y="476"/>
                  <a:pt x="68" y="476"/>
                  <a:pt x="68" y="476"/>
                </a:cubicBezTo>
                <a:cubicBezTo>
                  <a:pt x="96" y="462"/>
                  <a:pt x="96" y="462"/>
                  <a:pt x="96" y="462"/>
                </a:cubicBezTo>
                <a:cubicBezTo>
                  <a:pt x="106" y="477"/>
                  <a:pt x="106" y="477"/>
                  <a:pt x="106" y="477"/>
                </a:cubicBezTo>
                <a:cubicBezTo>
                  <a:pt x="108" y="478"/>
                  <a:pt x="108" y="478"/>
                  <a:pt x="108" y="478"/>
                </a:cubicBezTo>
                <a:cubicBezTo>
                  <a:pt x="96" y="498"/>
                  <a:pt x="96" y="498"/>
                  <a:pt x="96" y="498"/>
                </a:cubicBezTo>
                <a:cubicBezTo>
                  <a:pt x="111" y="512"/>
                  <a:pt x="111" y="512"/>
                  <a:pt x="111" y="512"/>
                </a:cubicBezTo>
                <a:cubicBezTo>
                  <a:pt x="111" y="514"/>
                  <a:pt x="111" y="514"/>
                  <a:pt x="111" y="514"/>
                </a:cubicBezTo>
                <a:cubicBezTo>
                  <a:pt x="111" y="517"/>
                  <a:pt x="111" y="517"/>
                  <a:pt x="111" y="517"/>
                </a:cubicBezTo>
                <a:cubicBezTo>
                  <a:pt x="100" y="561"/>
                  <a:pt x="100" y="561"/>
                  <a:pt x="100" y="561"/>
                </a:cubicBezTo>
                <a:cubicBezTo>
                  <a:pt x="127" y="581"/>
                  <a:pt x="127" y="581"/>
                  <a:pt x="127" y="581"/>
                </a:cubicBezTo>
                <a:cubicBezTo>
                  <a:pt x="177" y="583"/>
                  <a:pt x="177" y="583"/>
                  <a:pt x="177" y="583"/>
                </a:cubicBezTo>
                <a:cubicBezTo>
                  <a:pt x="170" y="593"/>
                  <a:pt x="170" y="593"/>
                  <a:pt x="170" y="593"/>
                </a:cubicBezTo>
                <a:cubicBezTo>
                  <a:pt x="138" y="632"/>
                  <a:pt x="123" y="655"/>
                  <a:pt x="124" y="662"/>
                </a:cubicBezTo>
                <a:cubicBezTo>
                  <a:pt x="143" y="667"/>
                  <a:pt x="143" y="667"/>
                  <a:pt x="143" y="667"/>
                </a:cubicBezTo>
                <a:cubicBezTo>
                  <a:pt x="169" y="669"/>
                  <a:pt x="183" y="676"/>
                  <a:pt x="189" y="686"/>
                </a:cubicBezTo>
                <a:cubicBezTo>
                  <a:pt x="195" y="698"/>
                  <a:pt x="201" y="711"/>
                  <a:pt x="207" y="726"/>
                </a:cubicBezTo>
                <a:cubicBezTo>
                  <a:pt x="235" y="741"/>
                  <a:pt x="235" y="741"/>
                  <a:pt x="235" y="741"/>
                </a:cubicBezTo>
                <a:cubicBezTo>
                  <a:pt x="253" y="745"/>
                  <a:pt x="253" y="745"/>
                  <a:pt x="253" y="745"/>
                </a:cubicBezTo>
                <a:cubicBezTo>
                  <a:pt x="290" y="713"/>
                  <a:pt x="290" y="713"/>
                  <a:pt x="290" y="713"/>
                </a:cubicBezTo>
                <a:cubicBezTo>
                  <a:pt x="309" y="741"/>
                  <a:pt x="309" y="741"/>
                  <a:pt x="309" y="741"/>
                </a:cubicBezTo>
                <a:cubicBezTo>
                  <a:pt x="309" y="743"/>
                  <a:pt x="309" y="743"/>
                  <a:pt x="309" y="743"/>
                </a:cubicBezTo>
                <a:cubicBezTo>
                  <a:pt x="309" y="743"/>
                  <a:pt x="309" y="743"/>
                  <a:pt x="309" y="743"/>
                </a:cubicBezTo>
                <a:cubicBezTo>
                  <a:pt x="310" y="744"/>
                  <a:pt x="310" y="744"/>
                  <a:pt x="310" y="744"/>
                </a:cubicBezTo>
                <a:cubicBezTo>
                  <a:pt x="316" y="770"/>
                  <a:pt x="316" y="770"/>
                  <a:pt x="316" y="770"/>
                </a:cubicBezTo>
                <a:cubicBezTo>
                  <a:pt x="332" y="773"/>
                  <a:pt x="332" y="773"/>
                  <a:pt x="332" y="773"/>
                </a:cubicBezTo>
                <a:cubicBezTo>
                  <a:pt x="332" y="773"/>
                  <a:pt x="332" y="773"/>
                  <a:pt x="332" y="773"/>
                </a:cubicBezTo>
                <a:cubicBezTo>
                  <a:pt x="356" y="782"/>
                  <a:pt x="356" y="782"/>
                  <a:pt x="356" y="782"/>
                </a:cubicBezTo>
                <a:cubicBezTo>
                  <a:pt x="363" y="779"/>
                  <a:pt x="363" y="779"/>
                  <a:pt x="363" y="779"/>
                </a:cubicBezTo>
                <a:cubicBezTo>
                  <a:pt x="363" y="778"/>
                  <a:pt x="363" y="778"/>
                  <a:pt x="363" y="778"/>
                </a:cubicBezTo>
                <a:cubicBezTo>
                  <a:pt x="359" y="751"/>
                  <a:pt x="359" y="751"/>
                  <a:pt x="359" y="751"/>
                </a:cubicBezTo>
                <a:cubicBezTo>
                  <a:pt x="358" y="750"/>
                  <a:pt x="358" y="750"/>
                  <a:pt x="358" y="750"/>
                </a:cubicBezTo>
                <a:cubicBezTo>
                  <a:pt x="344" y="688"/>
                  <a:pt x="344" y="688"/>
                  <a:pt x="344" y="688"/>
                </a:cubicBezTo>
                <a:cubicBezTo>
                  <a:pt x="344" y="686"/>
                  <a:pt x="344" y="686"/>
                  <a:pt x="344" y="686"/>
                </a:cubicBezTo>
                <a:cubicBezTo>
                  <a:pt x="352" y="642"/>
                  <a:pt x="352" y="642"/>
                  <a:pt x="352" y="642"/>
                </a:cubicBezTo>
                <a:cubicBezTo>
                  <a:pt x="354" y="643"/>
                  <a:pt x="354" y="643"/>
                  <a:pt x="354" y="643"/>
                </a:cubicBezTo>
                <a:cubicBezTo>
                  <a:pt x="358" y="643"/>
                  <a:pt x="358" y="643"/>
                  <a:pt x="358" y="643"/>
                </a:cubicBezTo>
                <a:cubicBezTo>
                  <a:pt x="386" y="645"/>
                  <a:pt x="386" y="645"/>
                  <a:pt x="386" y="645"/>
                </a:cubicBezTo>
                <a:cubicBezTo>
                  <a:pt x="422" y="619"/>
                  <a:pt x="422" y="619"/>
                  <a:pt x="422" y="619"/>
                </a:cubicBezTo>
                <a:cubicBezTo>
                  <a:pt x="425" y="621"/>
                  <a:pt x="425" y="621"/>
                  <a:pt x="425" y="621"/>
                </a:cubicBezTo>
                <a:cubicBezTo>
                  <a:pt x="444" y="636"/>
                  <a:pt x="457" y="648"/>
                  <a:pt x="463" y="656"/>
                </a:cubicBezTo>
                <a:cubicBezTo>
                  <a:pt x="469" y="654"/>
                  <a:pt x="481" y="642"/>
                  <a:pt x="497" y="624"/>
                </a:cubicBezTo>
                <a:cubicBezTo>
                  <a:pt x="498" y="623"/>
                  <a:pt x="498" y="623"/>
                  <a:pt x="498" y="623"/>
                </a:cubicBezTo>
                <a:cubicBezTo>
                  <a:pt x="500" y="621"/>
                  <a:pt x="500" y="621"/>
                  <a:pt x="500" y="621"/>
                </a:cubicBezTo>
                <a:cubicBezTo>
                  <a:pt x="553" y="635"/>
                  <a:pt x="553" y="635"/>
                  <a:pt x="553" y="635"/>
                </a:cubicBezTo>
                <a:cubicBezTo>
                  <a:pt x="576" y="616"/>
                  <a:pt x="576" y="616"/>
                  <a:pt x="576" y="616"/>
                </a:cubicBezTo>
                <a:cubicBezTo>
                  <a:pt x="577" y="615"/>
                  <a:pt x="577" y="615"/>
                  <a:pt x="577" y="615"/>
                </a:cubicBezTo>
                <a:cubicBezTo>
                  <a:pt x="578" y="614"/>
                  <a:pt x="578" y="614"/>
                  <a:pt x="578" y="614"/>
                </a:cubicBezTo>
                <a:cubicBezTo>
                  <a:pt x="579" y="614"/>
                  <a:pt x="579" y="614"/>
                  <a:pt x="579" y="614"/>
                </a:cubicBezTo>
                <a:cubicBezTo>
                  <a:pt x="580" y="615"/>
                  <a:pt x="580" y="615"/>
                  <a:pt x="580" y="615"/>
                </a:cubicBezTo>
                <a:cubicBezTo>
                  <a:pt x="602" y="619"/>
                  <a:pt x="602" y="619"/>
                  <a:pt x="602" y="619"/>
                </a:cubicBezTo>
                <a:cubicBezTo>
                  <a:pt x="674" y="556"/>
                  <a:pt x="674" y="556"/>
                  <a:pt x="674" y="556"/>
                </a:cubicBezTo>
                <a:cubicBezTo>
                  <a:pt x="696" y="562"/>
                  <a:pt x="696" y="562"/>
                  <a:pt x="696" y="562"/>
                </a:cubicBezTo>
                <a:cubicBezTo>
                  <a:pt x="696" y="562"/>
                  <a:pt x="696" y="562"/>
                  <a:pt x="696" y="562"/>
                </a:cubicBezTo>
                <a:cubicBezTo>
                  <a:pt x="697" y="563"/>
                  <a:pt x="697" y="563"/>
                  <a:pt x="697" y="563"/>
                </a:cubicBezTo>
                <a:cubicBezTo>
                  <a:pt x="698" y="564"/>
                  <a:pt x="698" y="564"/>
                  <a:pt x="698" y="564"/>
                </a:cubicBezTo>
                <a:cubicBezTo>
                  <a:pt x="699" y="565"/>
                  <a:pt x="699" y="565"/>
                  <a:pt x="699" y="565"/>
                </a:cubicBezTo>
                <a:cubicBezTo>
                  <a:pt x="705" y="575"/>
                  <a:pt x="705" y="575"/>
                  <a:pt x="705" y="575"/>
                </a:cubicBezTo>
                <a:cubicBezTo>
                  <a:pt x="710" y="568"/>
                  <a:pt x="710" y="568"/>
                  <a:pt x="710" y="568"/>
                </a:cubicBezTo>
                <a:cubicBezTo>
                  <a:pt x="711" y="568"/>
                  <a:pt x="711" y="568"/>
                  <a:pt x="711" y="568"/>
                </a:cubicBezTo>
                <a:cubicBezTo>
                  <a:pt x="711" y="567"/>
                  <a:pt x="711" y="567"/>
                  <a:pt x="711" y="567"/>
                </a:cubicBezTo>
                <a:cubicBezTo>
                  <a:pt x="712" y="567"/>
                  <a:pt x="712" y="567"/>
                  <a:pt x="712" y="567"/>
                </a:cubicBezTo>
                <a:cubicBezTo>
                  <a:pt x="733" y="556"/>
                  <a:pt x="733" y="556"/>
                  <a:pt x="733" y="556"/>
                </a:cubicBezTo>
                <a:cubicBezTo>
                  <a:pt x="749" y="541"/>
                  <a:pt x="749" y="541"/>
                  <a:pt x="749" y="541"/>
                </a:cubicBezTo>
                <a:cubicBezTo>
                  <a:pt x="745" y="508"/>
                  <a:pt x="745" y="508"/>
                  <a:pt x="745" y="508"/>
                </a:cubicBezTo>
                <a:cubicBezTo>
                  <a:pt x="742" y="504"/>
                  <a:pt x="742" y="504"/>
                  <a:pt x="742" y="504"/>
                </a:cubicBezTo>
                <a:cubicBezTo>
                  <a:pt x="722" y="512"/>
                  <a:pt x="722" y="512"/>
                  <a:pt x="722" y="512"/>
                </a:cubicBezTo>
                <a:cubicBezTo>
                  <a:pt x="722" y="512"/>
                  <a:pt x="722" y="512"/>
                  <a:pt x="722" y="512"/>
                </a:cubicBezTo>
                <a:cubicBezTo>
                  <a:pt x="715" y="515"/>
                  <a:pt x="710" y="517"/>
                  <a:pt x="703" y="517"/>
                </a:cubicBezTo>
                <a:cubicBezTo>
                  <a:pt x="679" y="517"/>
                  <a:pt x="679" y="517"/>
                  <a:pt x="679" y="517"/>
                </a:cubicBezTo>
                <a:cubicBezTo>
                  <a:pt x="672" y="516"/>
                  <a:pt x="668" y="514"/>
                  <a:pt x="665" y="509"/>
                </a:cubicBezTo>
                <a:cubicBezTo>
                  <a:pt x="663" y="476"/>
                  <a:pt x="663" y="476"/>
                  <a:pt x="663" y="476"/>
                </a:cubicBezTo>
                <a:cubicBezTo>
                  <a:pt x="655" y="471"/>
                  <a:pt x="652" y="469"/>
                  <a:pt x="649" y="469"/>
                </a:cubicBezTo>
                <a:cubicBezTo>
                  <a:pt x="644" y="471"/>
                  <a:pt x="644" y="471"/>
                  <a:pt x="644" y="471"/>
                </a:cubicBezTo>
                <a:cubicBezTo>
                  <a:pt x="636" y="476"/>
                  <a:pt x="636" y="476"/>
                  <a:pt x="636" y="476"/>
                </a:cubicBezTo>
                <a:cubicBezTo>
                  <a:pt x="621" y="479"/>
                  <a:pt x="621" y="479"/>
                  <a:pt x="621" y="479"/>
                </a:cubicBezTo>
                <a:cubicBezTo>
                  <a:pt x="617" y="479"/>
                  <a:pt x="617" y="479"/>
                  <a:pt x="617" y="479"/>
                </a:cubicBezTo>
                <a:cubicBezTo>
                  <a:pt x="616" y="477"/>
                  <a:pt x="616" y="477"/>
                  <a:pt x="616" y="477"/>
                </a:cubicBezTo>
                <a:cubicBezTo>
                  <a:pt x="608" y="462"/>
                  <a:pt x="608" y="462"/>
                  <a:pt x="608" y="462"/>
                </a:cubicBezTo>
                <a:cubicBezTo>
                  <a:pt x="607" y="448"/>
                  <a:pt x="607" y="448"/>
                  <a:pt x="607" y="448"/>
                </a:cubicBezTo>
                <a:cubicBezTo>
                  <a:pt x="607" y="448"/>
                  <a:pt x="607" y="448"/>
                  <a:pt x="607" y="448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16" y="408"/>
                  <a:pt x="616" y="408"/>
                  <a:pt x="616" y="408"/>
                </a:cubicBezTo>
                <a:cubicBezTo>
                  <a:pt x="616" y="407"/>
                  <a:pt x="616" y="407"/>
                  <a:pt x="616" y="407"/>
                </a:cubicBezTo>
                <a:cubicBezTo>
                  <a:pt x="626" y="387"/>
                  <a:pt x="626" y="387"/>
                  <a:pt x="626" y="387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595" y="359"/>
                  <a:pt x="595" y="359"/>
                  <a:pt x="595" y="359"/>
                </a:cubicBezTo>
                <a:cubicBezTo>
                  <a:pt x="594" y="358"/>
                  <a:pt x="594" y="358"/>
                  <a:pt x="594" y="358"/>
                </a:cubicBezTo>
                <a:cubicBezTo>
                  <a:pt x="594" y="328"/>
                  <a:pt x="594" y="328"/>
                  <a:pt x="594" y="328"/>
                </a:cubicBezTo>
                <a:cubicBezTo>
                  <a:pt x="595" y="327"/>
                  <a:pt x="595" y="327"/>
                  <a:pt x="595" y="327"/>
                </a:cubicBezTo>
                <a:cubicBezTo>
                  <a:pt x="612" y="278"/>
                  <a:pt x="612" y="278"/>
                  <a:pt x="612" y="278"/>
                </a:cubicBezTo>
                <a:cubicBezTo>
                  <a:pt x="601" y="252"/>
                  <a:pt x="601" y="252"/>
                  <a:pt x="601" y="252"/>
                </a:cubicBezTo>
                <a:cubicBezTo>
                  <a:pt x="592" y="250"/>
                  <a:pt x="592" y="250"/>
                  <a:pt x="592" y="250"/>
                </a:cubicBezTo>
                <a:cubicBezTo>
                  <a:pt x="580" y="251"/>
                  <a:pt x="580" y="251"/>
                  <a:pt x="580" y="251"/>
                </a:cubicBezTo>
                <a:cubicBezTo>
                  <a:pt x="569" y="269"/>
                  <a:pt x="569" y="269"/>
                  <a:pt x="569" y="269"/>
                </a:cubicBezTo>
                <a:cubicBezTo>
                  <a:pt x="554" y="258"/>
                  <a:pt x="554" y="258"/>
                  <a:pt x="554" y="258"/>
                </a:cubicBezTo>
                <a:cubicBezTo>
                  <a:pt x="539" y="250"/>
                  <a:pt x="539" y="250"/>
                  <a:pt x="539" y="250"/>
                </a:cubicBezTo>
                <a:cubicBezTo>
                  <a:pt x="527" y="220"/>
                  <a:pt x="527" y="220"/>
                  <a:pt x="527" y="220"/>
                </a:cubicBezTo>
                <a:cubicBezTo>
                  <a:pt x="527" y="220"/>
                  <a:pt x="527" y="220"/>
                  <a:pt x="527" y="220"/>
                </a:cubicBezTo>
                <a:cubicBezTo>
                  <a:pt x="527" y="220"/>
                  <a:pt x="527" y="220"/>
                  <a:pt x="527" y="220"/>
                </a:cubicBezTo>
                <a:cubicBezTo>
                  <a:pt x="523" y="199"/>
                  <a:pt x="523" y="199"/>
                  <a:pt x="523" y="199"/>
                </a:cubicBezTo>
                <a:cubicBezTo>
                  <a:pt x="523" y="197"/>
                  <a:pt x="523" y="197"/>
                  <a:pt x="523" y="197"/>
                </a:cubicBezTo>
                <a:cubicBezTo>
                  <a:pt x="522" y="196"/>
                  <a:pt x="522" y="196"/>
                  <a:pt x="522" y="196"/>
                </a:cubicBezTo>
                <a:cubicBezTo>
                  <a:pt x="525" y="194"/>
                  <a:pt x="525" y="194"/>
                  <a:pt x="525" y="194"/>
                </a:cubicBezTo>
                <a:cubicBezTo>
                  <a:pt x="539" y="175"/>
                  <a:pt x="539" y="175"/>
                  <a:pt x="539" y="175"/>
                </a:cubicBezTo>
                <a:cubicBezTo>
                  <a:pt x="542" y="173"/>
                  <a:pt x="542" y="173"/>
                  <a:pt x="542" y="173"/>
                </a:cubicBezTo>
                <a:cubicBezTo>
                  <a:pt x="542" y="173"/>
                  <a:pt x="542" y="173"/>
                  <a:pt x="542" y="173"/>
                </a:cubicBezTo>
                <a:cubicBezTo>
                  <a:pt x="543" y="173"/>
                  <a:pt x="543" y="173"/>
                  <a:pt x="543" y="173"/>
                </a:cubicBezTo>
                <a:cubicBezTo>
                  <a:pt x="554" y="171"/>
                  <a:pt x="554" y="171"/>
                  <a:pt x="554" y="171"/>
                </a:cubicBezTo>
                <a:cubicBezTo>
                  <a:pt x="565" y="167"/>
                  <a:pt x="565" y="167"/>
                  <a:pt x="565" y="167"/>
                </a:cubicBezTo>
                <a:cubicBezTo>
                  <a:pt x="620" y="165"/>
                  <a:pt x="620" y="165"/>
                  <a:pt x="620" y="165"/>
                </a:cubicBezTo>
                <a:cubicBezTo>
                  <a:pt x="621" y="165"/>
                  <a:pt x="621" y="165"/>
                  <a:pt x="621" y="165"/>
                </a:cubicBezTo>
                <a:cubicBezTo>
                  <a:pt x="629" y="168"/>
                  <a:pt x="629" y="168"/>
                  <a:pt x="629" y="168"/>
                </a:cubicBezTo>
                <a:cubicBezTo>
                  <a:pt x="631" y="169"/>
                  <a:pt x="631" y="169"/>
                  <a:pt x="631" y="169"/>
                </a:cubicBezTo>
                <a:cubicBezTo>
                  <a:pt x="639" y="173"/>
                  <a:pt x="639" y="173"/>
                  <a:pt x="639" y="173"/>
                </a:cubicBezTo>
                <a:cubicBezTo>
                  <a:pt x="654" y="166"/>
                  <a:pt x="654" y="166"/>
                  <a:pt x="654" y="166"/>
                </a:cubicBezTo>
                <a:cubicBezTo>
                  <a:pt x="667" y="157"/>
                  <a:pt x="667" y="157"/>
                  <a:pt x="667" y="157"/>
                </a:cubicBezTo>
                <a:cubicBezTo>
                  <a:pt x="673" y="146"/>
                  <a:pt x="673" y="146"/>
                  <a:pt x="673" y="146"/>
                </a:cubicBezTo>
                <a:cubicBezTo>
                  <a:pt x="674" y="141"/>
                  <a:pt x="674" y="141"/>
                  <a:pt x="674" y="141"/>
                </a:cubicBezTo>
                <a:cubicBezTo>
                  <a:pt x="673" y="118"/>
                  <a:pt x="673" y="118"/>
                  <a:pt x="673" y="118"/>
                </a:cubicBezTo>
                <a:cubicBezTo>
                  <a:pt x="661" y="116"/>
                  <a:pt x="661" y="116"/>
                  <a:pt x="661" y="116"/>
                </a:cubicBezTo>
                <a:cubicBezTo>
                  <a:pt x="639" y="123"/>
                  <a:pt x="639" y="123"/>
                  <a:pt x="639" y="123"/>
                </a:cubicBezTo>
                <a:cubicBezTo>
                  <a:pt x="633" y="130"/>
                  <a:pt x="626" y="136"/>
                  <a:pt x="618" y="136"/>
                </a:cubicBezTo>
                <a:cubicBezTo>
                  <a:pt x="611" y="136"/>
                  <a:pt x="604" y="129"/>
                  <a:pt x="598" y="118"/>
                </a:cubicBezTo>
                <a:cubicBezTo>
                  <a:pt x="598" y="118"/>
                  <a:pt x="598" y="118"/>
                  <a:pt x="598" y="118"/>
                </a:cubicBezTo>
                <a:cubicBezTo>
                  <a:pt x="597" y="118"/>
                  <a:pt x="597" y="118"/>
                  <a:pt x="597" y="118"/>
                </a:cubicBezTo>
                <a:cubicBezTo>
                  <a:pt x="597" y="117"/>
                  <a:pt x="597" y="117"/>
                  <a:pt x="597" y="117"/>
                </a:cubicBezTo>
                <a:cubicBezTo>
                  <a:pt x="596" y="102"/>
                  <a:pt x="596" y="102"/>
                  <a:pt x="596" y="102"/>
                </a:cubicBezTo>
                <a:cubicBezTo>
                  <a:pt x="596" y="100"/>
                  <a:pt x="596" y="100"/>
                  <a:pt x="596" y="100"/>
                </a:cubicBezTo>
                <a:cubicBezTo>
                  <a:pt x="597" y="86"/>
                  <a:pt x="597" y="86"/>
                  <a:pt x="597" y="86"/>
                </a:cubicBezTo>
                <a:cubicBezTo>
                  <a:pt x="585" y="58"/>
                  <a:pt x="585" y="58"/>
                  <a:pt x="585" y="58"/>
                </a:cubicBezTo>
                <a:cubicBezTo>
                  <a:pt x="563" y="64"/>
                  <a:pt x="563" y="64"/>
                  <a:pt x="563" y="64"/>
                </a:cubicBezTo>
                <a:cubicBezTo>
                  <a:pt x="554" y="72"/>
                  <a:pt x="554" y="72"/>
                  <a:pt x="554" y="72"/>
                </a:cubicBezTo>
                <a:cubicBezTo>
                  <a:pt x="557" y="104"/>
                  <a:pt x="557" y="104"/>
                  <a:pt x="557" y="104"/>
                </a:cubicBezTo>
                <a:cubicBezTo>
                  <a:pt x="522" y="88"/>
                  <a:pt x="522" y="88"/>
                  <a:pt x="522" y="88"/>
                </a:cubicBezTo>
                <a:cubicBezTo>
                  <a:pt x="531" y="107"/>
                  <a:pt x="531" y="107"/>
                  <a:pt x="531" y="107"/>
                </a:cubicBezTo>
                <a:cubicBezTo>
                  <a:pt x="532" y="108"/>
                  <a:pt x="532" y="108"/>
                  <a:pt x="532" y="108"/>
                </a:cubicBezTo>
                <a:cubicBezTo>
                  <a:pt x="532" y="110"/>
                  <a:pt x="532" y="110"/>
                  <a:pt x="532" y="110"/>
                </a:cubicBezTo>
                <a:cubicBezTo>
                  <a:pt x="528" y="131"/>
                  <a:pt x="528" y="131"/>
                  <a:pt x="528" y="131"/>
                </a:cubicBezTo>
                <a:cubicBezTo>
                  <a:pt x="528" y="134"/>
                  <a:pt x="528" y="134"/>
                  <a:pt x="528" y="134"/>
                </a:cubicBezTo>
                <a:cubicBezTo>
                  <a:pt x="527" y="134"/>
                  <a:pt x="527" y="134"/>
                  <a:pt x="527" y="134"/>
                </a:cubicBezTo>
                <a:cubicBezTo>
                  <a:pt x="507" y="162"/>
                  <a:pt x="507" y="162"/>
                  <a:pt x="507" y="162"/>
                </a:cubicBezTo>
                <a:cubicBezTo>
                  <a:pt x="507" y="162"/>
                  <a:pt x="507" y="162"/>
                  <a:pt x="507" y="162"/>
                </a:cubicBezTo>
                <a:cubicBezTo>
                  <a:pt x="475" y="182"/>
                  <a:pt x="475" y="182"/>
                  <a:pt x="475" y="182"/>
                </a:cubicBezTo>
                <a:cubicBezTo>
                  <a:pt x="471" y="201"/>
                  <a:pt x="471" y="201"/>
                  <a:pt x="471" y="201"/>
                </a:cubicBezTo>
                <a:cubicBezTo>
                  <a:pt x="470" y="204"/>
                  <a:pt x="475" y="213"/>
                  <a:pt x="480" y="223"/>
                </a:cubicBezTo>
                <a:cubicBezTo>
                  <a:pt x="481" y="224"/>
                  <a:pt x="481" y="224"/>
                  <a:pt x="481" y="224"/>
                </a:cubicBezTo>
                <a:cubicBezTo>
                  <a:pt x="481" y="225"/>
                  <a:pt x="481" y="225"/>
                  <a:pt x="481" y="225"/>
                </a:cubicBezTo>
                <a:cubicBezTo>
                  <a:pt x="483" y="253"/>
                  <a:pt x="483" y="253"/>
                  <a:pt x="483" y="253"/>
                </a:cubicBezTo>
                <a:cubicBezTo>
                  <a:pt x="483" y="256"/>
                  <a:pt x="483" y="256"/>
                  <a:pt x="483" y="256"/>
                </a:cubicBezTo>
                <a:cubicBezTo>
                  <a:pt x="482" y="257"/>
                  <a:pt x="482" y="257"/>
                  <a:pt x="482" y="257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58" y="281"/>
                  <a:pt x="458" y="281"/>
                  <a:pt x="458" y="281"/>
                </a:cubicBezTo>
                <a:cubicBezTo>
                  <a:pt x="457" y="281"/>
                  <a:pt x="457" y="281"/>
                  <a:pt x="457" y="281"/>
                </a:cubicBezTo>
                <a:cubicBezTo>
                  <a:pt x="456" y="281"/>
                  <a:pt x="456" y="281"/>
                  <a:pt x="456" y="281"/>
                </a:cubicBezTo>
                <a:cubicBezTo>
                  <a:pt x="455" y="281"/>
                  <a:pt x="455" y="281"/>
                  <a:pt x="455" y="281"/>
                </a:cubicBezTo>
                <a:cubicBezTo>
                  <a:pt x="454" y="281"/>
                  <a:pt x="454" y="281"/>
                  <a:pt x="454" y="281"/>
                </a:cubicBezTo>
                <a:cubicBezTo>
                  <a:pt x="429" y="276"/>
                  <a:pt x="429" y="276"/>
                  <a:pt x="429" y="276"/>
                </a:cubicBezTo>
                <a:cubicBezTo>
                  <a:pt x="425" y="276"/>
                  <a:pt x="420" y="278"/>
                  <a:pt x="415" y="282"/>
                </a:cubicBezTo>
                <a:cubicBezTo>
                  <a:pt x="404" y="294"/>
                  <a:pt x="404" y="294"/>
                  <a:pt x="404" y="294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0" y="314"/>
                  <a:pt x="383" y="316"/>
                  <a:pt x="371" y="314"/>
                </a:cubicBezTo>
                <a:cubicBezTo>
                  <a:pt x="364" y="313"/>
                  <a:pt x="362" y="306"/>
                  <a:pt x="364" y="296"/>
                </a:cubicBezTo>
                <a:cubicBezTo>
                  <a:pt x="364" y="289"/>
                  <a:pt x="364" y="289"/>
                  <a:pt x="364" y="289"/>
                </a:cubicBezTo>
                <a:cubicBezTo>
                  <a:pt x="363" y="281"/>
                  <a:pt x="363" y="281"/>
                  <a:pt x="363" y="281"/>
                </a:cubicBezTo>
                <a:cubicBezTo>
                  <a:pt x="359" y="287"/>
                  <a:pt x="359" y="287"/>
                  <a:pt x="359" y="287"/>
                </a:cubicBezTo>
                <a:cubicBezTo>
                  <a:pt x="355" y="291"/>
                  <a:pt x="352" y="292"/>
                  <a:pt x="348" y="292"/>
                </a:cubicBezTo>
                <a:cubicBezTo>
                  <a:pt x="344" y="291"/>
                  <a:pt x="341" y="287"/>
                  <a:pt x="339" y="279"/>
                </a:cubicBezTo>
                <a:cubicBezTo>
                  <a:pt x="339" y="278"/>
                  <a:pt x="339" y="278"/>
                  <a:pt x="339" y="278"/>
                </a:cubicBezTo>
                <a:cubicBezTo>
                  <a:pt x="336" y="254"/>
                  <a:pt x="336" y="254"/>
                  <a:pt x="336" y="254"/>
                </a:cubicBezTo>
                <a:cubicBezTo>
                  <a:pt x="331" y="231"/>
                  <a:pt x="331" y="231"/>
                  <a:pt x="331" y="231"/>
                </a:cubicBezTo>
                <a:cubicBezTo>
                  <a:pt x="321" y="220"/>
                  <a:pt x="321" y="220"/>
                  <a:pt x="321" y="220"/>
                </a:cubicBezTo>
                <a:cubicBezTo>
                  <a:pt x="321" y="220"/>
                  <a:pt x="321" y="220"/>
                  <a:pt x="321" y="220"/>
                </a:cubicBezTo>
                <a:cubicBezTo>
                  <a:pt x="320" y="219"/>
                  <a:pt x="320" y="219"/>
                  <a:pt x="320" y="219"/>
                </a:cubicBezTo>
                <a:cubicBezTo>
                  <a:pt x="297" y="168"/>
                  <a:pt x="297" y="168"/>
                  <a:pt x="297" y="168"/>
                </a:cubicBezTo>
                <a:cubicBezTo>
                  <a:pt x="296" y="167"/>
                  <a:pt x="296" y="167"/>
                  <a:pt x="296" y="167"/>
                </a:cubicBezTo>
                <a:cubicBezTo>
                  <a:pt x="290" y="153"/>
                  <a:pt x="290" y="153"/>
                  <a:pt x="290" y="153"/>
                </a:cubicBezTo>
                <a:cubicBezTo>
                  <a:pt x="290" y="152"/>
                  <a:pt x="290" y="152"/>
                  <a:pt x="290" y="152"/>
                </a:cubicBezTo>
                <a:cubicBezTo>
                  <a:pt x="289" y="152"/>
                  <a:pt x="289" y="152"/>
                  <a:pt x="289" y="152"/>
                </a:cubicBezTo>
                <a:cubicBezTo>
                  <a:pt x="289" y="150"/>
                  <a:pt x="289" y="150"/>
                  <a:pt x="289" y="150"/>
                </a:cubicBezTo>
                <a:cubicBezTo>
                  <a:pt x="285" y="123"/>
                  <a:pt x="285" y="123"/>
                  <a:pt x="285" y="123"/>
                </a:cubicBezTo>
                <a:cubicBezTo>
                  <a:pt x="282" y="119"/>
                  <a:pt x="282" y="119"/>
                  <a:pt x="282" y="119"/>
                </a:cubicBezTo>
                <a:cubicBezTo>
                  <a:pt x="277" y="122"/>
                  <a:pt x="277" y="122"/>
                  <a:pt x="277" y="122"/>
                </a:cubicBezTo>
                <a:cubicBezTo>
                  <a:pt x="270" y="130"/>
                  <a:pt x="265" y="136"/>
                  <a:pt x="263" y="136"/>
                </a:cubicBezTo>
                <a:cubicBezTo>
                  <a:pt x="259" y="136"/>
                  <a:pt x="254" y="131"/>
                  <a:pt x="246" y="125"/>
                </a:cubicBezTo>
                <a:cubicBezTo>
                  <a:pt x="230" y="118"/>
                  <a:pt x="230" y="118"/>
                  <a:pt x="230" y="118"/>
                </a:cubicBezTo>
                <a:cubicBezTo>
                  <a:pt x="228" y="117"/>
                  <a:pt x="228" y="117"/>
                  <a:pt x="228" y="117"/>
                </a:cubicBezTo>
                <a:cubicBezTo>
                  <a:pt x="227" y="116"/>
                  <a:pt x="227" y="116"/>
                  <a:pt x="227" y="116"/>
                </a:cubicBezTo>
                <a:cubicBezTo>
                  <a:pt x="227" y="115"/>
                  <a:pt x="227" y="115"/>
                  <a:pt x="227" y="115"/>
                </a:cubicBezTo>
                <a:cubicBezTo>
                  <a:pt x="226" y="112"/>
                  <a:pt x="226" y="112"/>
                  <a:pt x="226" y="112"/>
                </a:cubicBezTo>
                <a:cubicBezTo>
                  <a:pt x="225" y="91"/>
                  <a:pt x="225" y="91"/>
                  <a:pt x="225" y="91"/>
                </a:cubicBezTo>
                <a:cubicBezTo>
                  <a:pt x="225" y="91"/>
                  <a:pt x="225" y="91"/>
                  <a:pt x="225" y="91"/>
                </a:cubicBezTo>
                <a:cubicBezTo>
                  <a:pt x="221" y="76"/>
                  <a:pt x="221" y="76"/>
                  <a:pt x="221" y="76"/>
                </a:cubicBezTo>
                <a:cubicBezTo>
                  <a:pt x="213" y="54"/>
                  <a:pt x="213" y="54"/>
                  <a:pt x="213" y="54"/>
                </a:cubicBezTo>
                <a:cubicBezTo>
                  <a:pt x="204" y="54"/>
                  <a:pt x="204" y="54"/>
                  <a:pt x="204" y="54"/>
                </a:cubicBezTo>
                <a:cubicBezTo>
                  <a:pt x="206" y="63"/>
                  <a:pt x="204" y="70"/>
                  <a:pt x="202" y="76"/>
                </a:cubicBezTo>
                <a:cubicBezTo>
                  <a:pt x="200" y="82"/>
                  <a:pt x="196" y="86"/>
                  <a:pt x="190" y="91"/>
                </a:cubicBezTo>
                <a:cubicBezTo>
                  <a:pt x="188" y="99"/>
                  <a:pt x="184" y="104"/>
                  <a:pt x="180" y="108"/>
                </a:cubicBezTo>
                <a:cubicBezTo>
                  <a:pt x="174" y="115"/>
                  <a:pt x="169" y="115"/>
                  <a:pt x="162" y="110"/>
                </a:cubicBezTo>
                <a:cubicBezTo>
                  <a:pt x="159" y="109"/>
                  <a:pt x="159" y="109"/>
                  <a:pt x="159" y="109"/>
                </a:cubicBezTo>
                <a:cubicBezTo>
                  <a:pt x="153" y="107"/>
                  <a:pt x="152" y="100"/>
                  <a:pt x="153" y="86"/>
                </a:cubicBezTo>
                <a:cubicBezTo>
                  <a:pt x="153" y="81"/>
                  <a:pt x="153" y="81"/>
                  <a:pt x="153" y="81"/>
                </a:cubicBezTo>
                <a:cubicBezTo>
                  <a:pt x="139" y="72"/>
                  <a:pt x="139" y="72"/>
                  <a:pt x="139" y="72"/>
                </a:cubicBezTo>
                <a:cubicBezTo>
                  <a:pt x="134" y="70"/>
                  <a:pt x="131" y="64"/>
                  <a:pt x="130" y="54"/>
                </a:cubicBezTo>
                <a:cubicBezTo>
                  <a:pt x="135" y="7"/>
                  <a:pt x="135" y="7"/>
                  <a:pt x="135" y="7"/>
                </a:cubicBezTo>
                <a:cubicBezTo>
                  <a:pt x="133" y="0"/>
                  <a:pt x="133" y="0"/>
                  <a:pt x="133" y="0"/>
                </a:cubicBezTo>
                <a:cubicBezTo>
                  <a:pt x="116" y="19"/>
                  <a:pt x="116" y="19"/>
                  <a:pt x="116" y="19"/>
                </a:cubicBezTo>
                <a:cubicBezTo>
                  <a:pt x="104" y="27"/>
                  <a:pt x="104" y="27"/>
                  <a:pt x="104" y="27"/>
                </a:cubicBezTo>
                <a:cubicBezTo>
                  <a:pt x="101" y="34"/>
                  <a:pt x="101" y="34"/>
                  <a:pt x="101" y="34"/>
                </a:cubicBezTo>
                <a:cubicBezTo>
                  <a:pt x="105" y="44"/>
                  <a:pt x="107" y="51"/>
                  <a:pt x="107" y="57"/>
                </a:cubicBezTo>
                <a:cubicBezTo>
                  <a:pt x="107" y="67"/>
                  <a:pt x="102" y="76"/>
                  <a:pt x="93" y="79"/>
                </a:cubicBezTo>
                <a:cubicBezTo>
                  <a:pt x="74" y="86"/>
                  <a:pt x="74" y="86"/>
                  <a:pt x="74" y="86"/>
                </a:cubicBezTo>
                <a:cubicBezTo>
                  <a:pt x="68" y="89"/>
                  <a:pt x="68" y="89"/>
                  <a:pt x="68" y="89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126"/>
                  <a:pt x="67" y="126"/>
                  <a:pt x="67" y="126"/>
                </a:cubicBezTo>
                <a:cubicBezTo>
                  <a:pt x="68" y="136"/>
                  <a:pt x="69" y="141"/>
                  <a:pt x="73" y="141"/>
                </a:cubicBezTo>
                <a:cubicBezTo>
                  <a:pt x="79" y="144"/>
                  <a:pt x="86" y="144"/>
                  <a:pt x="93" y="139"/>
                </a:cubicBezTo>
                <a:cubicBezTo>
                  <a:pt x="99" y="136"/>
                  <a:pt x="99" y="136"/>
                  <a:pt x="99" y="136"/>
                </a:cubicBezTo>
                <a:cubicBezTo>
                  <a:pt x="119" y="182"/>
                  <a:pt x="119" y="182"/>
                  <a:pt x="119" y="182"/>
                </a:cubicBezTo>
                <a:cubicBezTo>
                  <a:pt x="119" y="183"/>
                  <a:pt x="119" y="183"/>
                  <a:pt x="119" y="183"/>
                </a:cubicBezTo>
                <a:cubicBezTo>
                  <a:pt x="119" y="183"/>
                  <a:pt x="119" y="183"/>
                  <a:pt x="119" y="183"/>
                </a:cubicBezTo>
                <a:cubicBezTo>
                  <a:pt x="119" y="185"/>
                  <a:pt x="119" y="185"/>
                  <a:pt x="119" y="185"/>
                </a:cubicBezTo>
                <a:cubicBezTo>
                  <a:pt x="112" y="269"/>
                  <a:pt x="104" y="316"/>
                  <a:pt x="95" y="329"/>
                </a:cubicBezTo>
                <a:cubicBezTo>
                  <a:pt x="90" y="333"/>
                  <a:pt x="87" y="335"/>
                  <a:pt x="81" y="336"/>
                </a:cubicBezTo>
                <a:cubicBezTo>
                  <a:pt x="74" y="336"/>
                  <a:pt x="68" y="335"/>
                  <a:pt x="61" y="331"/>
                </a:cubicBezTo>
                <a:cubicBezTo>
                  <a:pt x="34" y="386"/>
                  <a:pt x="16" y="414"/>
                  <a:pt x="7" y="419"/>
                </a:cubicBezTo>
                <a:cubicBezTo>
                  <a:pt x="8" y="419"/>
                  <a:pt x="8" y="419"/>
                  <a:pt x="8" y="419"/>
                </a:cubicBezTo>
                <a:cubicBezTo>
                  <a:pt x="4" y="420"/>
                  <a:pt x="2" y="433"/>
                  <a:pt x="3" y="458"/>
                </a:cubicBezTo>
                <a:cubicBezTo>
                  <a:pt x="9" y="463"/>
                  <a:pt x="9" y="463"/>
                  <a:pt x="9" y="463"/>
                </a:cubicBezTo>
                <a:cubicBezTo>
                  <a:pt x="11" y="465"/>
                  <a:pt x="11" y="465"/>
                  <a:pt x="11" y="465"/>
                </a:cubicBezTo>
                <a:cubicBezTo>
                  <a:pt x="13" y="467"/>
                  <a:pt x="13" y="467"/>
                  <a:pt x="13" y="467"/>
                </a:cubicBezTo>
                <a:lnTo>
                  <a:pt x="4" y="479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"/>
          <p:cNvSpPr/>
          <p:nvPr/>
        </p:nvSpPr>
        <p:spPr>
          <a:xfrm>
            <a:off x="2590920" y="3517920"/>
            <a:ext cx="477720" cy="404640"/>
          </a:xfrm>
          <a:custGeom>
            <a:avLst/>
            <a:gdLst/>
            <a:ahLst/>
            <a:rect l="l" t="t" r="r" b="b"/>
            <a:pathLst>
              <a:path w="506" h="438">
                <a:moveTo>
                  <a:pt x="398" y="8"/>
                </a:moveTo>
                <a:cubicBezTo>
                  <a:pt x="390" y="5"/>
                  <a:pt x="390" y="5"/>
                  <a:pt x="390" y="5"/>
                </a:cubicBezTo>
                <a:cubicBezTo>
                  <a:pt x="382" y="10"/>
                  <a:pt x="382" y="10"/>
                  <a:pt x="382" y="10"/>
                </a:cubicBezTo>
                <a:cubicBezTo>
                  <a:pt x="377" y="20"/>
                  <a:pt x="377" y="20"/>
                  <a:pt x="377" y="20"/>
                </a:cubicBezTo>
                <a:cubicBezTo>
                  <a:pt x="372" y="29"/>
                  <a:pt x="368" y="35"/>
                  <a:pt x="361" y="35"/>
                </a:cubicBezTo>
                <a:cubicBezTo>
                  <a:pt x="357" y="35"/>
                  <a:pt x="351" y="32"/>
                  <a:pt x="348" y="28"/>
                </a:cubicBezTo>
                <a:cubicBezTo>
                  <a:pt x="347" y="27"/>
                  <a:pt x="347" y="27"/>
                  <a:pt x="347" y="27"/>
                </a:cubicBezTo>
                <a:cubicBezTo>
                  <a:pt x="346" y="26"/>
                  <a:pt x="346" y="26"/>
                  <a:pt x="346" y="26"/>
                </a:cubicBezTo>
                <a:cubicBezTo>
                  <a:pt x="346" y="26"/>
                  <a:pt x="346" y="26"/>
                  <a:pt x="346" y="26"/>
                </a:cubicBezTo>
                <a:cubicBezTo>
                  <a:pt x="343" y="16"/>
                  <a:pt x="343" y="16"/>
                  <a:pt x="343" y="16"/>
                </a:cubicBezTo>
                <a:cubicBezTo>
                  <a:pt x="343" y="15"/>
                  <a:pt x="343" y="15"/>
                  <a:pt x="343" y="15"/>
                </a:cubicBezTo>
                <a:cubicBezTo>
                  <a:pt x="342" y="1"/>
                  <a:pt x="342" y="1"/>
                  <a:pt x="342" y="1"/>
                </a:cubicBezTo>
                <a:cubicBezTo>
                  <a:pt x="335" y="0"/>
                  <a:pt x="335" y="0"/>
                  <a:pt x="335" y="0"/>
                </a:cubicBezTo>
                <a:cubicBezTo>
                  <a:pt x="334" y="1"/>
                  <a:pt x="334" y="1"/>
                  <a:pt x="334" y="1"/>
                </a:cubicBezTo>
                <a:cubicBezTo>
                  <a:pt x="331" y="12"/>
                  <a:pt x="331" y="12"/>
                  <a:pt x="331" y="12"/>
                </a:cubicBezTo>
                <a:cubicBezTo>
                  <a:pt x="331" y="26"/>
                  <a:pt x="331" y="26"/>
                  <a:pt x="331" y="26"/>
                </a:cubicBezTo>
                <a:cubicBezTo>
                  <a:pt x="330" y="27"/>
                  <a:pt x="330" y="27"/>
                  <a:pt x="330" y="27"/>
                </a:cubicBezTo>
                <a:cubicBezTo>
                  <a:pt x="329" y="28"/>
                  <a:pt x="329" y="28"/>
                  <a:pt x="329" y="28"/>
                </a:cubicBezTo>
                <a:cubicBezTo>
                  <a:pt x="316" y="45"/>
                  <a:pt x="316" y="45"/>
                  <a:pt x="316" y="45"/>
                </a:cubicBezTo>
                <a:cubicBezTo>
                  <a:pt x="314" y="47"/>
                  <a:pt x="314" y="47"/>
                  <a:pt x="314" y="47"/>
                </a:cubicBezTo>
                <a:cubicBezTo>
                  <a:pt x="312" y="47"/>
                  <a:pt x="312" y="47"/>
                  <a:pt x="312" y="47"/>
                </a:cubicBezTo>
                <a:cubicBezTo>
                  <a:pt x="287" y="45"/>
                  <a:pt x="287" y="45"/>
                  <a:pt x="287" y="45"/>
                </a:cubicBezTo>
                <a:cubicBezTo>
                  <a:pt x="285" y="45"/>
                  <a:pt x="285" y="45"/>
                  <a:pt x="285" y="45"/>
                </a:cubicBezTo>
                <a:cubicBezTo>
                  <a:pt x="285" y="46"/>
                  <a:pt x="285" y="46"/>
                  <a:pt x="285" y="46"/>
                </a:cubicBezTo>
                <a:cubicBezTo>
                  <a:pt x="285" y="46"/>
                  <a:pt x="285" y="46"/>
                  <a:pt x="285" y="46"/>
                </a:cubicBezTo>
                <a:cubicBezTo>
                  <a:pt x="285" y="47"/>
                  <a:pt x="285" y="47"/>
                  <a:pt x="285" y="47"/>
                </a:cubicBezTo>
                <a:cubicBezTo>
                  <a:pt x="276" y="59"/>
                  <a:pt x="276" y="59"/>
                  <a:pt x="276" y="59"/>
                </a:cubicBezTo>
                <a:cubicBezTo>
                  <a:pt x="280" y="66"/>
                  <a:pt x="280" y="66"/>
                  <a:pt x="280" y="66"/>
                </a:cubicBezTo>
                <a:cubicBezTo>
                  <a:pt x="281" y="66"/>
                  <a:pt x="281" y="66"/>
                  <a:pt x="281" y="66"/>
                </a:cubicBezTo>
                <a:cubicBezTo>
                  <a:pt x="273" y="78"/>
                  <a:pt x="273" y="78"/>
                  <a:pt x="273" y="78"/>
                </a:cubicBezTo>
                <a:cubicBezTo>
                  <a:pt x="250" y="78"/>
                  <a:pt x="250" y="78"/>
                  <a:pt x="250" y="78"/>
                </a:cubicBezTo>
                <a:cubicBezTo>
                  <a:pt x="250" y="74"/>
                  <a:pt x="250" y="74"/>
                  <a:pt x="250" y="74"/>
                </a:cubicBezTo>
                <a:cubicBezTo>
                  <a:pt x="248" y="72"/>
                  <a:pt x="248" y="72"/>
                  <a:pt x="248" y="72"/>
                </a:cubicBezTo>
                <a:cubicBezTo>
                  <a:pt x="245" y="70"/>
                  <a:pt x="245" y="70"/>
                  <a:pt x="245" y="70"/>
                </a:cubicBezTo>
                <a:cubicBezTo>
                  <a:pt x="241" y="77"/>
                  <a:pt x="241" y="77"/>
                  <a:pt x="241" y="77"/>
                </a:cubicBezTo>
                <a:cubicBezTo>
                  <a:pt x="239" y="80"/>
                  <a:pt x="239" y="80"/>
                  <a:pt x="239" y="80"/>
                </a:cubicBezTo>
                <a:cubicBezTo>
                  <a:pt x="224" y="80"/>
                  <a:pt x="224" y="80"/>
                  <a:pt x="224" y="80"/>
                </a:cubicBezTo>
                <a:cubicBezTo>
                  <a:pt x="223" y="79"/>
                  <a:pt x="223" y="79"/>
                  <a:pt x="223" y="79"/>
                </a:cubicBezTo>
                <a:cubicBezTo>
                  <a:pt x="213" y="72"/>
                  <a:pt x="213" y="72"/>
                  <a:pt x="213" y="72"/>
                </a:cubicBezTo>
                <a:cubicBezTo>
                  <a:pt x="212" y="70"/>
                  <a:pt x="212" y="70"/>
                  <a:pt x="212" y="70"/>
                </a:cubicBezTo>
                <a:cubicBezTo>
                  <a:pt x="212" y="69"/>
                  <a:pt x="212" y="69"/>
                  <a:pt x="212" y="69"/>
                </a:cubicBezTo>
                <a:cubicBezTo>
                  <a:pt x="211" y="69"/>
                  <a:pt x="211" y="69"/>
                  <a:pt x="211" y="69"/>
                </a:cubicBezTo>
                <a:cubicBezTo>
                  <a:pt x="211" y="66"/>
                  <a:pt x="211" y="66"/>
                  <a:pt x="211" y="66"/>
                </a:cubicBezTo>
                <a:cubicBezTo>
                  <a:pt x="194" y="63"/>
                  <a:pt x="194" y="63"/>
                  <a:pt x="194" y="63"/>
                </a:cubicBezTo>
                <a:cubicBezTo>
                  <a:pt x="181" y="69"/>
                  <a:pt x="181" y="69"/>
                  <a:pt x="181" y="69"/>
                </a:cubicBezTo>
                <a:cubicBezTo>
                  <a:pt x="174" y="74"/>
                  <a:pt x="174" y="74"/>
                  <a:pt x="174" y="74"/>
                </a:cubicBezTo>
                <a:cubicBezTo>
                  <a:pt x="195" y="98"/>
                  <a:pt x="195" y="98"/>
                  <a:pt x="195" y="98"/>
                </a:cubicBezTo>
                <a:cubicBezTo>
                  <a:pt x="223" y="107"/>
                  <a:pt x="223" y="107"/>
                  <a:pt x="223" y="107"/>
                </a:cubicBezTo>
                <a:cubicBezTo>
                  <a:pt x="224" y="108"/>
                  <a:pt x="224" y="108"/>
                  <a:pt x="224" y="108"/>
                </a:cubicBezTo>
                <a:cubicBezTo>
                  <a:pt x="224" y="108"/>
                  <a:pt x="224" y="108"/>
                  <a:pt x="224" y="108"/>
                </a:cubicBezTo>
                <a:cubicBezTo>
                  <a:pt x="225" y="109"/>
                  <a:pt x="225" y="109"/>
                  <a:pt x="225" y="109"/>
                </a:cubicBezTo>
                <a:cubicBezTo>
                  <a:pt x="238" y="121"/>
                  <a:pt x="238" y="121"/>
                  <a:pt x="238" y="121"/>
                </a:cubicBezTo>
                <a:cubicBezTo>
                  <a:pt x="233" y="142"/>
                  <a:pt x="233" y="142"/>
                  <a:pt x="233" y="142"/>
                </a:cubicBezTo>
                <a:cubicBezTo>
                  <a:pt x="233" y="142"/>
                  <a:pt x="233" y="142"/>
                  <a:pt x="233" y="142"/>
                </a:cubicBezTo>
                <a:cubicBezTo>
                  <a:pt x="233" y="146"/>
                  <a:pt x="233" y="146"/>
                  <a:pt x="233" y="146"/>
                </a:cubicBezTo>
                <a:cubicBezTo>
                  <a:pt x="232" y="146"/>
                  <a:pt x="232" y="146"/>
                  <a:pt x="232" y="146"/>
                </a:cubicBezTo>
                <a:cubicBezTo>
                  <a:pt x="214" y="160"/>
                  <a:pt x="214" y="160"/>
                  <a:pt x="214" y="160"/>
                </a:cubicBezTo>
                <a:cubicBezTo>
                  <a:pt x="214" y="161"/>
                  <a:pt x="214" y="161"/>
                  <a:pt x="214" y="161"/>
                </a:cubicBezTo>
                <a:cubicBezTo>
                  <a:pt x="213" y="161"/>
                  <a:pt x="213" y="161"/>
                  <a:pt x="213" y="161"/>
                </a:cubicBezTo>
                <a:cubicBezTo>
                  <a:pt x="184" y="170"/>
                  <a:pt x="184" y="170"/>
                  <a:pt x="184" y="170"/>
                </a:cubicBezTo>
                <a:cubicBezTo>
                  <a:pt x="182" y="170"/>
                  <a:pt x="182" y="170"/>
                  <a:pt x="182" y="170"/>
                </a:cubicBezTo>
                <a:cubicBezTo>
                  <a:pt x="166" y="172"/>
                  <a:pt x="166" y="172"/>
                  <a:pt x="166" y="172"/>
                </a:cubicBezTo>
                <a:cubicBezTo>
                  <a:pt x="166" y="172"/>
                  <a:pt x="166" y="172"/>
                  <a:pt x="166" y="172"/>
                </a:cubicBezTo>
                <a:cubicBezTo>
                  <a:pt x="165" y="172"/>
                  <a:pt x="165" y="172"/>
                  <a:pt x="165" y="172"/>
                </a:cubicBezTo>
                <a:cubicBezTo>
                  <a:pt x="165" y="172"/>
                  <a:pt x="165" y="172"/>
                  <a:pt x="165" y="172"/>
                </a:cubicBezTo>
                <a:cubicBezTo>
                  <a:pt x="163" y="172"/>
                  <a:pt x="163" y="172"/>
                  <a:pt x="163" y="172"/>
                </a:cubicBezTo>
                <a:cubicBezTo>
                  <a:pt x="152" y="168"/>
                  <a:pt x="152" y="168"/>
                  <a:pt x="152" y="168"/>
                </a:cubicBezTo>
                <a:cubicBezTo>
                  <a:pt x="146" y="167"/>
                  <a:pt x="146" y="167"/>
                  <a:pt x="146" y="167"/>
                </a:cubicBezTo>
                <a:cubicBezTo>
                  <a:pt x="139" y="177"/>
                  <a:pt x="139" y="177"/>
                  <a:pt x="139" y="177"/>
                </a:cubicBezTo>
                <a:cubicBezTo>
                  <a:pt x="138" y="177"/>
                  <a:pt x="138" y="177"/>
                  <a:pt x="138" y="177"/>
                </a:cubicBezTo>
                <a:cubicBezTo>
                  <a:pt x="138" y="178"/>
                  <a:pt x="138" y="178"/>
                  <a:pt x="138" y="178"/>
                </a:cubicBezTo>
                <a:cubicBezTo>
                  <a:pt x="124" y="188"/>
                  <a:pt x="124" y="188"/>
                  <a:pt x="124" y="188"/>
                </a:cubicBezTo>
                <a:cubicBezTo>
                  <a:pt x="123" y="188"/>
                  <a:pt x="123" y="188"/>
                  <a:pt x="123" y="188"/>
                </a:cubicBezTo>
                <a:cubicBezTo>
                  <a:pt x="123" y="188"/>
                  <a:pt x="123" y="188"/>
                  <a:pt x="123" y="188"/>
                </a:cubicBezTo>
                <a:cubicBezTo>
                  <a:pt x="104" y="196"/>
                  <a:pt x="104" y="196"/>
                  <a:pt x="104" y="196"/>
                </a:cubicBezTo>
                <a:cubicBezTo>
                  <a:pt x="103" y="196"/>
                  <a:pt x="103" y="196"/>
                  <a:pt x="103" y="196"/>
                </a:cubicBezTo>
                <a:cubicBezTo>
                  <a:pt x="81" y="189"/>
                  <a:pt x="81" y="189"/>
                  <a:pt x="81" y="189"/>
                </a:cubicBezTo>
                <a:cubicBezTo>
                  <a:pt x="33" y="191"/>
                  <a:pt x="33" y="191"/>
                  <a:pt x="33" y="191"/>
                </a:cubicBezTo>
                <a:cubicBezTo>
                  <a:pt x="22" y="194"/>
                  <a:pt x="22" y="194"/>
                  <a:pt x="22" y="194"/>
                </a:cubicBezTo>
                <a:cubicBezTo>
                  <a:pt x="21" y="195"/>
                  <a:pt x="21" y="195"/>
                  <a:pt x="21" y="195"/>
                </a:cubicBezTo>
                <a:cubicBezTo>
                  <a:pt x="11" y="195"/>
                  <a:pt x="11" y="195"/>
                  <a:pt x="11" y="195"/>
                </a:cubicBezTo>
                <a:cubicBezTo>
                  <a:pt x="0" y="211"/>
                  <a:pt x="0" y="211"/>
                  <a:pt x="0" y="211"/>
                </a:cubicBezTo>
                <a:cubicBezTo>
                  <a:pt x="2" y="229"/>
                  <a:pt x="2" y="229"/>
                  <a:pt x="2" y="229"/>
                </a:cubicBezTo>
                <a:cubicBezTo>
                  <a:pt x="13" y="253"/>
                  <a:pt x="13" y="253"/>
                  <a:pt x="13" y="253"/>
                </a:cubicBezTo>
                <a:cubicBezTo>
                  <a:pt x="24" y="260"/>
                  <a:pt x="24" y="260"/>
                  <a:pt x="24" y="260"/>
                </a:cubicBezTo>
                <a:cubicBezTo>
                  <a:pt x="25" y="260"/>
                  <a:pt x="25" y="260"/>
                  <a:pt x="25" y="260"/>
                </a:cubicBezTo>
                <a:cubicBezTo>
                  <a:pt x="25" y="261"/>
                  <a:pt x="25" y="261"/>
                  <a:pt x="25" y="261"/>
                </a:cubicBezTo>
                <a:cubicBezTo>
                  <a:pt x="29" y="264"/>
                  <a:pt x="29" y="264"/>
                  <a:pt x="29" y="264"/>
                </a:cubicBezTo>
                <a:cubicBezTo>
                  <a:pt x="37" y="253"/>
                  <a:pt x="37" y="253"/>
                  <a:pt x="37" y="253"/>
                </a:cubicBezTo>
                <a:cubicBezTo>
                  <a:pt x="38" y="252"/>
                  <a:pt x="38" y="252"/>
                  <a:pt x="38" y="252"/>
                </a:cubicBezTo>
                <a:cubicBezTo>
                  <a:pt x="39" y="251"/>
                  <a:pt x="39" y="251"/>
                  <a:pt x="39" y="251"/>
                </a:cubicBezTo>
                <a:cubicBezTo>
                  <a:pt x="40" y="251"/>
                  <a:pt x="40" y="251"/>
                  <a:pt x="40" y="251"/>
                </a:cubicBezTo>
                <a:cubicBezTo>
                  <a:pt x="56" y="249"/>
                  <a:pt x="56" y="249"/>
                  <a:pt x="56" y="249"/>
                </a:cubicBezTo>
                <a:cubicBezTo>
                  <a:pt x="58" y="249"/>
                  <a:pt x="58" y="249"/>
                  <a:pt x="58" y="249"/>
                </a:cubicBezTo>
                <a:cubicBezTo>
                  <a:pt x="58" y="250"/>
                  <a:pt x="58" y="250"/>
                  <a:pt x="58" y="250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90" y="290"/>
                  <a:pt x="90" y="290"/>
                  <a:pt x="90" y="290"/>
                </a:cubicBezTo>
                <a:cubicBezTo>
                  <a:pt x="89" y="290"/>
                  <a:pt x="89" y="290"/>
                  <a:pt x="89" y="290"/>
                </a:cubicBezTo>
                <a:cubicBezTo>
                  <a:pt x="89" y="291"/>
                  <a:pt x="89" y="291"/>
                  <a:pt x="89" y="291"/>
                </a:cubicBezTo>
                <a:cubicBezTo>
                  <a:pt x="82" y="311"/>
                  <a:pt x="82" y="311"/>
                  <a:pt x="82" y="311"/>
                </a:cubicBezTo>
                <a:cubicBezTo>
                  <a:pt x="82" y="311"/>
                  <a:pt x="82" y="311"/>
                  <a:pt x="82" y="311"/>
                </a:cubicBezTo>
                <a:cubicBezTo>
                  <a:pt x="77" y="324"/>
                  <a:pt x="77" y="324"/>
                  <a:pt x="77" y="324"/>
                </a:cubicBezTo>
                <a:cubicBezTo>
                  <a:pt x="77" y="325"/>
                  <a:pt x="77" y="325"/>
                  <a:pt x="77" y="325"/>
                </a:cubicBezTo>
                <a:cubicBezTo>
                  <a:pt x="70" y="343"/>
                  <a:pt x="70" y="343"/>
                  <a:pt x="70" y="343"/>
                </a:cubicBezTo>
                <a:cubicBezTo>
                  <a:pt x="70" y="365"/>
                  <a:pt x="70" y="365"/>
                  <a:pt x="70" y="365"/>
                </a:cubicBezTo>
                <a:cubicBezTo>
                  <a:pt x="82" y="378"/>
                  <a:pt x="82" y="378"/>
                  <a:pt x="82" y="378"/>
                </a:cubicBezTo>
                <a:cubicBezTo>
                  <a:pt x="83" y="378"/>
                  <a:pt x="83" y="378"/>
                  <a:pt x="83" y="378"/>
                </a:cubicBezTo>
                <a:cubicBezTo>
                  <a:pt x="100" y="393"/>
                  <a:pt x="100" y="393"/>
                  <a:pt x="100" y="393"/>
                </a:cubicBezTo>
                <a:cubicBezTo>
                  <a:pt x="102" y="394"/>
                  <a:pt x="102" y="394"/>
                  <a:pt x="102" y="394"/>
                </a:cubicBezTo>
                <a:cubicBezTo>
                  <a:pt x="103" y="395"/>
                  <a:pt x="103" y="395"/>
                  <a:pt x="103" y="395"/>
                </a:cubicBezTo>
                <a:cubicBezTo>
                  <a:pt x="91" y="424"/>
                  <a:pt x="91" y="424"/>
                  <a:pt x="91" y="424"/>
                </a:cubicBezTo>
                <a:cubicBezTo>
                  <a:pt x="87" y="438"/>
                  <a:pt x="87" y="438"/>
                  <a:pt x="87" y="438"/>
                </a:cubicBezTo>
                <a:cubicBezTo>
                  <a:pt x="92" y="436"/>
                  <a:pt x="92" y="436"/>
                  <a:pt x="92" y="436"/>
                </a:cubicBezTo>
                <a:cubicBezTo>
                  <a:pt x="93" y="436"/>
                  <a:pt x="93" y="436"/>
                  <a:pt x="93" y="436"/>
                </a:cubicBezTo>
                <a:cubicBezTo>
                  <a:pt x="103" y="432"/>
                  <a:pt x="103" y="432"/>
                  <a:pt x="103" y="432"/>
                </a:cubicBezTo>
                <a:cubicBezTo>
                  <a:pt x="122" y="421"/>
                  <a:pt x="122" y="421"/>
                  <a:pt x="122" y="421"/>
                </a:cubicBezTo>
                <a:cubicBezTo>
                  <a:pt x="123" y="421"/>
                  <a:pt x="123" y="421"/>
                  <a:pt x="123" y="421"/>
                </a:cubicBezTo>
                <a:cubicBezTo>
                  <a:pt x="144" y="424"/>
                  <a:pt x="144" y="424"/>
                  <a:pt x="144" y="424"/>
                </a:cubicBezTo>
                <a:cubicBezTo>
                  <a:pt x="146" y="424"/>
                  <a:pt x="146" y="424"/>
                  <a:pt x="146" y="424"/>
                </a:cubicBezTo>
                <a:cubicBezTo>
                  <a:pt x="146" y="424"/>
                  <a:pt x="146" y="424"/>
                  <a:pt x="146" y="424"/>
                </a:cubicBezTo>
                <a:cubicBezTo>
                  <a:pt x="177" y="437"/>
                  <a:pt x="177" y="437"/>
                  <a:pt x="177" y="437"/>
                </a:cubicBezTo>
                <a:cubicBezTo>
                  <a:pt x="212" y="437"/>
                  <a:pt x="212" y="437"/>
                  <a:pt x="212" y="437"/>
                </a:cubicBezTo>
                <a:cubicBezTo>
                  <a:pt x="222" y="424"/>
                  <a:pt x="222" y="424"/>
                  <a:pt x="222" y="424"/>
                </a:cubicBezTo>
                <a:cubicBezTo>
                  <a:pt x="223" y="423"/>
                  <a:pt x="223" y="423"/>
                  <a:pt x="223" y="423"/>
                </a:cubicBezTo>
                <a:cubicBezTo>
                  <a:pt x="224" y="422"/>
                  <a:pt x="224" y="422"/>
                  <a:pt x="224" y="422"/>
                </a:cubicBezTo>
                <a:cubicBezTo>
                  <a:pt x="242" y="414"/>
                  <a:pt x="242" y="414"/>
                  <a:pt x="242" y="414"/>
                </a:cubicBezTo>
                <a:cubicBezTo>
                  <a:pt x="258" y="399"/>
                  <a:pt x="258" y="399"/>
                  <a:pt x="258" y="399"/>
                </a:cubicBezTo>
                <a:cubicBezTo>
                  <a:pt x="261" y="398"/>
                  <a:pt x="261" y="398"/>
                  <a:pt x="261" y="398"/>
                </a:cubicBezTo>
                <a:cubicBezTo>
                  <a:pt x="261" y="398"/>
                  <a:pt x="261" y="398"/>
                  <a:pt x="261" y="398"/>
                </a:cubicBezTo>
                <a:cubicBezTo>
                  <a:pt x="273" y="394"/>
                  <a:pt x="273" y="394"/>
                  <a:pt x="273" y="394"/>
                </a:cubicBezTo>
                <a:cubicBezTo>
                  <a:pt x="287" y="383"/>
                  <a:pt x="287" y="383"/>
                  <a:pt x="287" y="383"/>
                </a:cubicBezTo>
                <a:cubicBezTo>
                  <a:pt x="303" y="362"/>
                  <a:pt x="303" y="362"/>
                  <a:pt x="303" y="362"/>
                </a:cubicBezTo>
                <a:cubicBezTo>
                  <a:pt x="325" y="370"/>
                  <a:pt x="325" y="370"/>
                  <a:pt x="325" y="370"/>
                </a:cubicBezTo>
                <a:cubicBezTo>
                  <a:pt x="328" y="371"/>
                  <a:pt x="328" y="371"/>
                  <a:pt x="328" y="371"/>
                </a:cubicBezTo>
                <a:cubicBezTo>
                  <a:pt x="328" y="372"/>
                  <a:pt x="328" y="372"/>
                  <a:pt x="328" y="372"/>
                </a:cubicBezTo>
                <a:cubicBezTo>
                  <a:pt x="329" y="374"/>
                  <a:pt x="329" y="374"/>
                  <a:pt x="329" y="374"/>
                </a:cubicBezTo>
                <a:cubicBezTo>
                  <a:pt x="332" y="382"/>
                  <a:pt x="335" y="386"/>
                  <a:pt x="339" y="387"/>
                </a:cubicBezTo>
                <a:cubicBezTo>
                  <a:pt x="352" y="385"/>
                  <a:pt x="352" y="385"/>
                  <a:pt x="352" y="385"/>
                </a:cubicBezTo>
                <a:cubicBezTo>
                  <a:pt x="356" y="385"/>
                  <a:pt x="356" y="385"/>
                  <a:pt x="356" y="385"/>
                </a:cubicBezTo>
                <a:cubicBezTo>
                  <a:pt x="363" y="387"/>
                  <a:pt x="363" y="387"/>
                  <a:pt x="363" y="387"/>
                </a:cubicBezTo>
                <a:cubicBezTo>
                  <a:pt x="364" y="387"/>
                  <a:pt x="364" y="387"/>
                  <a:pt x="364" y="387"/>
                </a:cubicBezTo>
                <a:cubicBezTo>
                  <a:pt x="364" y="388"/>
                  <a:pt x="364" y="388"/>
                  <a:pt x="364" y="388"/>
                </a:cubicBezTo>
                <a:cubicBezTo>
                  <a:pt x="382" y="395"/>
                  <a:pt x="382" y="395"/>
                  <a:pt x="382" y="395"/>
                </a:cubicBezTo>
                <a:cubicBezTo>
                  <a:pt x="387" y="395"/>
                  <a:pt x="387" y="395"/>
                  <a:pt x="387" y="395"/>
                </a:cubicBezTo>
                <a:cubicBezTo>
                  <a:pt x="388" y="390"/>
                  <a:pt x="388" y="390"/>
                  <a:pt x="388" y="390"/>
                </a:cubicBezTo>
                <a:cubicBezTo>
                  <a:pt x="390" y="384"/>
                  <a:pt x="390" y="384"/>
                  <a:pt x="390" y="384"/>
                </a:cubicBezTo>
                <a:cubicBezTo>
                  <a:pt x="390" y="383"/>
                  <a:pt x="390" y="383"/>
                  <a:pt x="390" y="383"/>
                </a:cubicBezTo>
                <a:cubicBezTo>
                  <a:pt x="391" y="382"/>
                  <a:pt x="391" y="382"/>
                  <a:pt x="391" y="382"/>
                </a:cubicBezTo>
                <a:cubicBezTo>
                  <a:pt x="392" y="381"/>
                  <a:pt x="392" y="381"/>
                  <a:pt x="392" y="381"/>
                </a:cubicBezTo>
                <a:cubicBezTo>
                  <a:pt x="392" y="380"/>
                  <a:pt x="392" y="380"/>
                  <a:pt x="392" y="380"/>
                </a:cubicBezTo>
                <a:cubicBezTo>
                  <a:pt x="399" y="376"/>
                  <a:pt x="399" y="376"/>
                  <a:pt x="399" y="376"/>
                </a:cubicBezTo>
                <a:cubicBezTo>
                  <a:pt x="400" y="375"/>
                  <a:pt x="400" y="375"/>
                  <a:pt x="400" y="375"/>
                </a:cubicBezTo>
                <a:cubicBezTo>
                  <a:pt x="411" y="365"/>
                  <a:pt x="411" y="365"/>
                  <a:pt x="411" y="365"/>
                </a:cubicBezTo>
                <a:cubicBezTo>
                  <a:pt x="413" y="365"/>
                  <a:pt x="413" y="365"/>
                  <a:pt x="413" y="365"/>
                </a:cubicBezTo>
                <a:cubicBezTo>
                  <a:pt x="414" y="364"/>
                  <a:pt x="414" y="364"/>
                  <a:pt x="414" y="364"/>
                </a:cubicBezTo>
                <a:cubicBezTo>
                  <a:pt x="416" y="364"/>
                  <a:pt x="416" y="364"/>
                  <a:pt x="416" y="364"/>
                </a:cubicBezTo>
                <a:cubicBezTo>
                  <a:pt x="426" y="365"/>
                  <a:pt x="426" y="365"/>
                  <a:pt x="426" y="365"/>
                </a:cubicBezTo>
                <a:cubicBezTo>
                  <a:pt x="426" y="359"/>
                  <a:pt x="429" y="352"/>
                  <a:pt x="436" y="346"/>
                </a:cubicBezTo>
                <a:cubicBezTo>
                  <a:pt x="443" y="341"/>
                  <a:pt x="448" y="338"/>
                  <a:pt x="452" y="339"/>
                </a:cubicBezTo>
                <a:cubicBezTo>
                  <a:pt x="458" y="335"/>
                  <a:pt x="458" y="335"/>
                  <a:pt x="458" y="335"/>
                </a:cubicBezTo>
                <a:cubicBezTo>
                  <a:pt x="459" y="335"/>
                  <a:pt x="459" y="335"/>
                  <a:pt x="459" y="335"/>
                </a:cubicBezTo>
                <a:cubicBezTo>
                  <a:pt x="459" y="333"/>
                  <a:pt x="459" y="333"/>
                  <a:pt x="459" y="333"/>
                </a:cubicBezTo>
                <a:cubicBezTo>
                  <a:pt x="464" y="328"/>
                  <a:pt x="464" y="328"/>
                  <a:pt x="464" y="328"/>
                </a:cubicBezTo>
                <a:cubicBezTo>
                  <a:pt x="464" y="327"/>
                  <a:pt x="464" y="327"/>
                  <a:pt x="464" y="327"/>
                </a:cubicBezTo>
                <a:cubicBezTo>
                  <a:pt x="465" y="327"/>
                  <a:pt x="465" y="327"/>
                  <a:pt x="465" y="327"/>
                </a:cubicBezTo>
                <a:cubicBezTo>
                  <a:pt x="466" y="326"/>
                  <a:pt x="466" y="326"/>
                  <a:pt x="466" y="326"/>
                </a:cubicBezTo>
                <a:cubicBezTo>
                  <a:pt x="467" y="326"/>
                  <a:pt x="467" y="326"/>
                  <a:pt x="467" y="326"/>
                </a:cubicBezTo>
                <a:cubicBezTo>
                  <a:pt x="484" y="322"/>
                  <a:pt x="484" y="322"/>
                  <a:pt x="484" y="322"/>
                </a:cubicBezTo>
                <a:cubicBezTo>
                  <a:pt x="494" y="322"/>
                  <a:pt x="494" y="322"/>
                  <a:pt x="494" y="322"/>
                </a:cubicBezTo>
                <a:cubicBezTo>
                  <a:pt x="498" y="319"/>
                  <a:pt x="498" y="319"/>
                  <a:pt x="498" y="319"/>
                </a:cubicBezTo>
                <a:cubicBezTo>
                  <a:pt x="501" y="312"/>
                  <a:pt x="501" y="312"/>
                  <a:pt x="501" y="312"/>
                </a:cubicBezTo>
                <a:cubicBezTo>
                  <a:pt x="501" y="312"/>
                  <a:pt x="501" y="312"/>
                  <a:pt x="501" y="312"/>
                </a:cubicBezTo>
                <a:cubicBezTo>
                  <a:pt x="506" y="302"/>
                  <a:pt x="506" y="302"/>
                  <a:pt x="506" y="302"/>
                </a:cubicBezTo>
                <a:cubicBezTo>
                  <a:pt x="504" y="301"/>
                  <a:pt x="504" y="301"/>
                  <a:pt x="504" y="301"/>
                </a:cubicBezTo>
                <a:cubicBezTo>
                  <a:pt x="498" y="293"/>
                  <a:pt x="494" y="285"/>
                  <a:pt x="492" y="273"/>
                </a:cubicBezTo>
                <a:cubicBezTo>
                  <a:pt x="491" y="272"/>
                  <a:pt x="491" y="272"/>
                  <a:pt x="491" y="272"/>
                </a:cubicBezTo>
                <a:cubicBezTo>
                  <a:pt x="491" y="272"/>
                  <a:pt x="491" y="272"/>
                  <a:pt x="491" y="272"/>
                </a:cubicBezTo>
                <a:cubicBezTo>
                  <a:pt x="492" y="272"/>
                  <a:pt x="492" y="272"/>
                  <a:pt x="492" y="272"/>
                </a:cubicBezTo>
                <a:cubicBezTo>
                  <a:pt x="492" y="271"/>
                  <a:pt x="492" y="271"/>
                  <a:pt x="492" y="271"/>
                </a:cubicBezTo>
                <a:cubicBezTo>
                  <a:pt x="496" y="248"/>
                  <a:pt x="496" y="248"/>
                  <a:pt x="496" y="248"/>
                </a:cubicBezTo>
                <a:cubicBezTo>
                  <a:pt x="496" y="241"/>
                  <a:pt x="498" y="235"/>
                  <a:pt x="503" y="230"/>
                </a:cubicBezTo>
                <a:cubicBezTo>
                  <a:pt x="501" y="211"/>
                  <a:pt x="501" y="211"/>
                  <a:pt x="501" y="211"/>
                </a:cubicBezTo>
                <a:cubicBezTo>
                  <a:pt x="500" y="209"/>
                  <a:pt x="498" y="207"/>
                  <a:pt x="493" y="206"/>
                </a:cubicBezTo>
                <a:cubicBezTo>
                  <a:pt x="459" y="219"/>
                  <a:pt x="459" y="219"/>
                  <a:pt x="459" y="219"/>
                </a:cubicBezTo>
                <a:cubicBezTo>
                  <a:pt x="461" y="185"/>
                  <a:pt x="461" y="185"/>
                  <a:pt x="461" y="185"/>
                </a:cubicBezTo>
                <a:cubicBezTo>
                  <a:pt x="462" y="179"/>
                  <a:pt x="473" y="170"/>
                  <a:pt x="493" y="158"/>
                </a:cubicBezTo>
                <a:cubicBezTo>
                  <a:pt x="483" y="121"/>
                  <a:pt x="483" y="121"/>
                  <a:pt x="483" y="121"/>
                </a:cubicBezTo>
                <a:cubicBezTo>
                  <a:pt x="481" y="109"/>
                  <a:pt x="484" y="99"/>
                  <a:pt x="493" y="91"/>
                </a:cubicBezTo>
                <a:cubicBezTo>
                  <a:pt x="491" y="84"/>
                  <a:pt x="491" y="84"/>
                  <a:pt x="491" y="84"/>
                </a:cubicBezTo>
                <a:cubicBezTo>
                  <a:pt x="480" y="84"/>
                  <a:pt x="480" y="84"/>
                  <a:pt x="480" y="84"/>
                </a:cubicBezTo>
                <a:cubicBezTo>
                  <a:pt x="477" y="85"/>
                  <a:pt x="477" y="85"/>
                  <a:pt x="477" y="85"/>
                </a:cubicBezTo>
                <a:cubicBezTo>
                  <a:pt x="472" y="100"/>
                  <a:pt x="472" y="100"/>
                  <a:pt x="472" y="100"/>
                </a:cubicBezTo>
                <a:cubicBezTo>
                  <a:pt x="467" y="105"/>
                  <a:pt x="463" y="109"/>
                  <a:pt x="459" y="109"/>
                </a:cubicBezTo>
                <a:cubicBezTo>
                  <a:pt x="457" y="109"/>
                  <a:pt x="457" y="109"/>
                  <a:pt x="457" y="109"/>
                </a:cubicBezTo>
                <a:cubicBezTo>
                  <a:pt x="446" y="101"/>
                  <a:pt x="446" y="101"/>
                  <a:pt x="446" y="101"/>
                </a:cubicBezTo>
                <a:cubicBezTo>
                  <a:pt x="445" y="101"/>
                  <a:pt x="445" y="101"/>
                  <a:pt x="445" y="101"/>
                </a:cubicBezTo>
                <a:cubicBezTo>
                  <a:pt x="444" y="101"/>
                  <a:pt x="444" y="101"/>
                  <a:pt x="444" y="101"/>
                </a:cubicBezTo>
                <a:cubicBezTo>
                  <a:pt x="444" y="100"/>
                  <a:pt x="444" y="100"/>
                  <a:pt x="444" y="100"/>
                </a:cubicBezTo>
                <a:cubicBezTo>
                  <a:pt x="444" y="98"/>
                  <a:pt x="444" y="98"/>
                  <a:pt x="444" y="98"/>
                </a:cubicBezTo>
                <a:cubicBezTo>
                  <a:pt x="441" y="91"/>
                  <a:pt x="441" y="91"/>
                  <a:pt x="441" y="91"/>
                </a:cubicBezTo>
                <a:cubicBezTo>
                  <a:pt x="440" y="80"/>
                  <a:pt x="440" y="80"/>
                  <a:pt x="440" y="80"/>
                </a:cubicBezTo>
                <a:cubicBezTo>
                  <a:pt x="440" y="79"/>
                  <a:pt x="440" y="79"/>
                  <a:pt x="440" y="79"/>
                </a:cubicBezTo>
                <a:cubicBezTo>
                  <a:pt x="439" y="81"/>
                  <a:pt x="439" y="81"/>
                  <a:pt x="439" y="81"/>
                </a:cubicBezTo>
                <a:cubicBezTo>
                  <a:pt x="438" y="84"/>
                  <a:pt x="438" y="84"/>
                  <a:pt x="438" y="84"/>
                </a:cubicBezTo>
                <a:cubicBezTo>
                  <a:pt x="419" y="84"/>
                  <a:pt x="419" y="84"/>
                  <a:pt x="419" y="84"/>
                </a:cubicBezTo>
                <a:cubicBezTo>
                  <a:pt x="417" y="80"/>
                  <a:pt x="417" y="80"/>
                  <a:pt x="417" y="80"/>
                </a:cubicBezTo>
                <a:cubicBezTo>
                  <a:pt x="414" y="69"/>
                  <a:pt x="414" y="69"/>
                  <a:pt x="414" y="69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02" y="33"/>
                  <a:pt x="402" y="33"/>
                  <a:pt x="402" y="33"/>
                </a:cubicBezTo>
                <a:cubicBezTo>
                  <a:pt x="402" y="16"/>
                  <a:pt x="402" y="16"/>
                  <a:pt x="402" y="16"/>
                </a:cubicBezTo>
                <a:lnTo>
                  <a:pt x="398" y="8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14"/>
          <p:cNvSpPr/>
          <p:nvPr/>
        </p:nvSpPr>
        <p:spPr>
          <a:xfrm>
            <a:off x="2668680" y="3765600"/>
            <a:ext cx="625320" cy="468360"/>
          </a:xfrm>
          <a:custGeom>
            <a:avLst/>
            <a:gdLst/>
            <a:ahLst/>
            <a:rect l="l" t="t" r="r" b="b"/>
            <a:pathLst>
              <a:path w="662" h="506">
                <a:moveTo>
                  <a:pt x="530" y="13"/>
                </a:moveTo>
                <a:cubicBezTo>
                  <a:pt x="531" y="14"/>
                  <a:pt x="531" y="14"/>
                  <a:pt x="531" y="14"/>
                </a:cubicBezTo>
                <a:cubicBezTo>
                  <a:pt x="533" y="16"/>
                  <a:pt x="533" y="16"/>
                  <a:pt x="533" y="16"/>
                </a:cubicBezTo>
                <a:cubicBezTo>
                  <a:pt x="519" y="37"/>
                  <a:pt x="519" y="37"/>
                  <a:pt x="519" y="37"/>
                </a:cubicBezTo>
                <a:cubicBezTo>
                  <a:pt x="514" y="43"/>
                  <a:pt x="507" y="48"/>
                  <a:pt x="498" y="48"/>
                </a:cubicBezTo>
                <a:cubicBezTo>
                  <a:pt x="496" y="48"/>
                  <a:pt x="496" y="48"/>
                  <a:pt x="496" y="48"/>
                </a:cubicBezTo>
                <a:cubicBezTo>
                  <a:pt x="486" y="41"/>
                  <a:pt x="486" y="41"/>
                  <a:pt x="486" y="41"/>
                </a:cubicBezTo>
                <a:cubicBezTo>
                  <a:pt x="475" y="42"/>
                  <a:pt x="475" y="42"/>
                  <a:pt x="475" y="42"/>
                </a:cubicBezTo>
                <a:cubicBezTo>
                  <a:pt x="454" y="58"/>
                  <a:pt x="454" y="58"/>
                  <a:pt x="454" y="58"/>
                </a:cubicBezTo>
                <a:cubicBezTo>
                  <a:pt x="449" y="60"/>
                  <a:pt x="442" y="55"/>
                  <a:pt x="433" y="42"/>
                </a:cubicBezTo>
                <a:cubicBezTo>
                  <a:pt x="427" y="56"/>
                  <a:pt x="427" y="56"/>
                  <a:pt x="427" y="56"/>
                </a:cubicBezTo>
                <a:cubicBezTo>
                  <a:pt x="426" y="56"/>
                  <a:pt x="426" y="56"/>
                  <a:pt x="426" y="56"/>
                </a:cubicBezTo>
                <a:cubicBezTo>
                  <a:pt x="426" y="56"/>
                  <a:pt x="426" y="56"/>
                  <a:pt x="426" y="56"/>
                </a:cubicBezTo>
                <a:cubicBezTo>
                  <a:pt x="424" y="57"/>
                  <a:pt x="424" y="57"/>
                  <a:pt x="424" y="57"/>
                </a:cubicBezTo>
                <a:cubicBezTo>
                  <a:pt x="424" y="57"/>
                  <a:pt x="424" y="57"/>
                  <a:pt x="424" y="57"/>
                </a:cubicBezTo>
                <a:cubicBezTo>
                  <a:pt x="417" y="64"/>
                  <a:pt x="417" y="64"/>
                  <a:pt x="417" y="64"/>
                </a:cubicBezTo>
                <a:cubicBezTo>
                  <a:pt x="403" y="64"/>
                  <a:pt x="403" y="64"/>
                  <a:pt x="403" y="64"/>
                </a:cubicBezTo>
                <a:cubicBezTo>
                  <a:pt x="390" y="69"/>
                  <a:pt x="390" y="69"/>
                  <a:pt x="390" y="69"/>
                </a:cubicBezTo>
                <a:cubicBezTo>
                  <a:pt x="373" y="81"/>
                  <a:pt x="373" y="81"/>
                  <a:pt x="373" y="81"/>
                </a:cubicBezTo>
                <a:cubicBezTo>
                  <a:pt x="367" y="81"/>
                  <a:pt x="367" y="81"/>
                  <a:pt x="367" y="81"/>
                </a:cubicBezTo>
                <a:cubicBezTo>
                  <a:pt x="361" y="86"/>
                  <a:pt x="361" y="86"/>
                  <a:pt x="361" y="86"/>
                </a:cubicBezTo>
                <a:cubicBezTo>
                  <a:pt x="356" y="91"/>
                  <a:pt x="354" y="95"/>
                  <a:pt x="357" y="99"/>
                </a:cubicBezTo>
                <a:cubicBezTo>
                  <a:pt x="364" y="110"/>
                  <a:pt x="364" y="110"/>
                  <a:pt x="364" y="110"/>
                </a:cubicBezTo>
                <a:cubicBezTo>
                  <a:pt x="335" y="107"/>
                  <a:pt x="335" y="107"/>
                  <a:pt x="335" y="107"/>
                </a:cubicBezTo>
                <a:cubicBezTo>
                  <a:pt x="319" y="119"/>
                  <a:pt x="319" y="119"/>
                  <a:pt x="319" y="119"/>
                </a:cubicBezTo>
                <a:cubicBezTo>
                  <a:pt x="317" y="125"/>
                  <a:pt x="317" y="125"/>
                  <a:pt x="317" y="125"/>
                </a:cubicBezTo>
                <a:cubicBezTo>
                  <a:pt x="317" y="126"/>
                  <a:pt x="317" y="126"/>
                  <a:pt x="317" y="126"/>
                </a:cubicBezTo>
                <a:cubicBezTo>
                  <a:pt x="314" y="134"/>
                  <a:pt x="314" y="134"/>
                  <a:pt x="314" y="134"/>
                </a:cubicBezTo>
                <a:cubicBezTo>
                  <a:pt x="313" y="135"/>
                  <a:pt x="313" y="135"/>
                  <a:pt x="313" y="135"/>
                </a:cubicBezTo>
                <a:cubicBezTo>
                  <a:pt x="312" y="136"/>
                  <a:pt x="312" y="136"/>
                  <a:pt x="312" y="136"/>
                </a:cubicBezTo>
                <a:cubicBezTo>
                  <a:pt x="297" y="136"/>
                  <a:pt x="297" y="136"/>
                  <a:pt x="297" y="136"/>
                </a:cubicBezTo>
                <a:cubicBezTo>
                  <a:pt x="278" y="129"/>
                  <a:pt x="278" y="129"/>
                  <a:pt x="278" y="129"/>
                </a:cubicBezTo>
                <a:cubicBezTo>
                  <a:pt x="271" y="128"/>
                  <a:pt x="271" y="128"/>
                  <a:pt x="271" y="128"/>
                </a:cubicBezTo>
                <a:cubicBezTo>
                  <a:pt x="257" y="130"/>
                  <a:pt x="257" y="130"/>
                  <a:pt x="257" y="130"/>
                </a:cubicBezTo>
                <a:cubicBezTo>
                  <a:pt x="250" y="130"/>
                  <a:pt x="243" y="122"/>
                  <a:pt x="237" y="111"/>
                </a:cubicBezTo>
                <a:cubicBezTo>
                  <a:pt x="224" y="106"/>
                  <a:pt x="224" y="106"/>
                  <a:pt x="224" y="106"/>
                </a:cubicBezTo>
                <a:cubicBezTo>
                  <a:pt x="213" y="121"/>
                  <a:pt x="213" y="121"/>
                  <a:pt x="213" y="121"/>
                </a:cubicBezTo>
                <a:cubicBezTo>
                  <a:pt x="213" y="121"/>
                  <a:pt x="213" y="121"/>
                  <a:pt x="213" y="121"/>
                </a:cubicBezTo>
                <a:cubicBezTo>
                  <a:pt x="212" y="121"/>
                  <a:pt x="212" y="121"/>
                  <a:pt x="212" y="121"/>
                </a:cubicBezTo>
                <a:cubicBezTo>
                  <a:pt x="198" y="134"/>
                  <a:pt x="198" y="134"/>
                  <a:pt x="198" y="134"/>
                </a:cubicBezTo>
                <a:cubicBezTo>
                  <a:pt x="196" y="134"/>
                  <a:pt x="196" y="134"/>
                  <a:pt x="196" y="134"/>
                </a:cubicBezTo>
                <a:cubicBezTo>
                  <a:pt x="196" y="135"/>
                  <a:pt x="196" y="135"/>
                  <a:pt x="196" y="135"/>
                </a:cubicBezTo>
                <a:cubicBezTo>
                  <a:pt x="194" y="135"/>
                  <a:pt x="194" y="135"/>
                  <a:pt x="194" y="135"/>
                </a:cubicBezTo>
                <a:cubicBezTo>
                  <a:pt x="183" y="138"/>
                  <a:pt x="183" y="138"/>
                  <a:pt x="183" y="138"/>
                </a:cubicBezTo>
                <a:cubicBezTo>
                  <a:pt x="166" y="153"/>
                  <a:pt x="166" y="153"/>
                  <a:pt x="166" y="153"/>
                </a:cubicBezTo>
                <a:cubicBezTo>
                  <a:pt x="166" y="153"/>
                  <a:pt x="166" y="153"/>
                  <a:pt x="166" y="153"/>
                </a:cubicBezTo>
                <a:cubicBezTo>
                  <a:pt x="148" y="162"/>
                  <a:pt x="148" y="162"/>
                  <a:pt x="148" y="162"/>
                </a:cubicBezTo>
                <a:cubicBezTo>
                  <a:pt x="135" y="178"/>
                  <a:pt x="135" y="178"/>
                  <a:pt x="135" y="178"/>
                </a:cubicBezTo>
                <a:cubicBezTo>
                  <a:pt x="93" y="178"/>
                  <a:pt x="93" y="178"/>
                  <a:pt x="93" y="178"/>
                </a:cubicBezTo>
                <a:cubicBezTo>
                  <a:pt x="93" y="178"/>
                  <a:pt x="93" y="178"/>
                  <a:pt x="93" y="178"/>
                </a:cubicBezTo>
                <a:cubicBezTo>
                  <a:pt x="60" y="166"/>
                  <a:pt x="60" y="166"/>
                  <a:pt x="60" y="166"/>
                </a:cubicBezTo>
                <a:cubicBezTo>
                  <a:pt x="42" y="164"/>
                  <a:pt x="42" y="164"/>
                  <a:pt x="42" y="164"/>
                </a:cubicBezTo>
                <a:cubicBezTo>
                  <a:pt x="27" y="172"/>
                  <a:pt x="27" y="172"/>
                  <a:pt x="27" y="172"/>
                </a:cubicBezTo>
                <a:cubicBezTo>
                  <a:pt x="26" y="172"/>
                  <a:pt x="26" y="172"/>
                  <a:pt x="26" y="172"/>
                </a:cubicBezTo>
                <a:cubicBezTo>
                  <a:pt x="26" y="172"/>
                  <a:pt x="26" y="172"/>
                  <a:pt x="26" y="172"/>
                </a:cubicBezTo>
                <a:cubicBezTo>
                  <a:pt x="15" y="176"/>
                  <a:pt x="15" y="176"/>
                  <a:pt x="15" y="176"/>
                </a:cubicBezTo>
                <a:cubicBezTo>
                  <a:pt x="10" y="178"/>
                  <a:pt x="5" y="182"/>
                  <a:pt x="2" y="183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201"/>
                  <a:pt x="0" y="201"/>
                  <a:pt x="0" y="201"/>
                </a:cubicBezTo>
                <a:cubicBezTo>
                  <a:pt x="5" y="209"/>
                  <a:pt x="5" y="209"/>
                  <a:pt x="5" y="209"/>
                </a:cubicBezTo>
                <a:cubicBezTo>
                  <a:pt x="31" y="201"/>
                  <a:pt x="31" y="201"/>
                  <a:pt x="31" y="201"/>
                </a:cubicBezTo>
                <a:cubicBezTo>
                  <a:pt x="36" y="201"/>
                  <a:pt x="43" y="204"/>
                  <a:pt x="53" y="209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1"/>
                  <a:pt x="56" y="211"/>
                  <a:pt x="56" y="211"/>
                </a:cubicBezTo>
                <a:cubicBezTo>
                  <a:pt x="57" y="247"/>
                  <a:pt x="57" y="247"/>
                  <a:pt x="57" y="247"/>
                </a:cubicBezTo>
                <a:cubicBezTo>
                  <a:pt x="62" y="248"/>
                  <a:pt x="62" y="248"/>
                  <a:pt x="62" y="248"/>
                </a:cubicBezTo>
                <a:cubicBezTo>
                  <a:pt x="85" y="248"/>
                  <a:pt x="85" y="248"/>
                  <a:pt x="85" y="248"/>
                </a:cubicBezTo>
                <a:cubicBezTo>
                  <a:pt x="98" y="245"/>
                  <a:pt x="98" y="245"/>
                  <a:pt x="98" y="245"/>
                </a:cubicBezTo>
                <a:cubicBezTo>
                  <a:pt x="100" y="243"/>
                  <a:pt x="100" y="243"/>
                  <a:pt x="100" y="243"/>
                </a:cubicBezTo>
                <a:cubicBezTo>
                  <a:pt x="109" y="239"/>
                  <a:pt x="116" y="235"/>
                  <a:pt x="126" y="234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32" y="236"/>
                  <a:pt x="132" y="236"/>
                  <a:pt x="132" y="236"/>
                </a:cubicBezTo>
                <a:cubicBezTo>
                  <a:pt x="138" y="249"/>
                  <a:pt x="138" y="249"/>
                  <a:pt x="138" y="249"/>
                </a:cubicBezTo>
                <a:cubicBezTo>
                  <a:pt x="138" y="250"/>
                  <a:pt x="138" y="250"/>
                  <a:pt x="138" y="250"/>
                </a:cubicBezTo>
                <a:cubicBezTo>
                  <a:pt x="142" y="285"/>
                  <a:pt x="142" y="285"/>
                  <a:pt x="142" y="285"/>
                </a:cubicBezTo>
                <a:cubicBezTo>
                  <a:pt x="142" y="288"/>
                  <a:pt x="142" y="288"/>
                  <a:pt x="142" y="288"/>
                </a:cubicBezTo>
                <a:cubicBezTo>
                  <a:pt x="123" y="308"/>
                  <a:pt x="123" y="308"/>
                  <a:pt x="123" y="308"/>
                </a:cubicBezTo>
                <a:cubicBezTo>
                  <a:pt x="122" y="308"/>
                  <a:pt x="122" y="308"/>
                  <a:pt x="122" y="308"/>
                </a:cubicBezTo>
                <a:cubicBezTo>
                  <a:pt x="122" y="309"/>
                  <a:pt x="122" y="309"/>
                  <a:pt x="122" y="309"/>
                </a:cubicBezTo>
                <a:cubicBezTo>
                  <a:pt x="99" y="320"/>
                  <a:pt x="99" y="320"/>
                  <a:pt x="99" y="320"/>
                </a:cubicBezTo>
                <a:cubicBezTo>
                  <a:pt x="92" y="328"/>
                  <a:pt x="92" y="328"/>
                  <a:pt x="92" y="328"/>
                </a:cubicBezTo>
                <a:cubicBezTo>
                  <a:pt x="95" y="335"/>
                  <a:pt x="95" y="335"/>
                  <a:pt x="95" y="335"/>
                </a:cubicBezTo>
                <a:cubicBezTo>
                  <a:pt x="141" y="339"/>
                  <a:pt x="141" y="339"/>
                  <a:pt x="141" y="339"/>
                </a:cubicBezTo>
                <a:cubicBezTo>
                  <a:pt x="142" y="340"/>
                  <a:pt x="142" y="340"/>
                  <a:pt x="142" y="340"/>
                </a:cubicBezTo>
                <a:cubicBezTo>
                  <a:pt x="142" y="340"/>
                  <a:pt x="142" y="340"/>
                  <a:pt x="142" y="340"/>
                </a:cubicBezTo>
                <a:cubicBezTo>
                  <a:pt x="143" y="341"/>
                  <a:pt x="143" y="341"/>
                  <a:pt x="143" y="341"/>
                </a:cubicBezTo>
                <a:cubicBezTo>
                  <a:pt x="161" y="352"/>
                  <a:pt x="161" y="352"/>
                  <a:pt x="161" y="352"/>
                </a:cubicBezTo>
                <a:cubicBezTo>
                  <a:pt x="201" y="350"/>
                  <a:pt x="201" y="350"/>
                  <a:pt x="201" y="350"/>
                </a:cubicBezTo>
                <a:cubicBezTo>
                  <a:pt x="201" y="356"/>
                  <a:pt x="201" y="356"/>
                  <a:pt x="201" y="356"/>
                </a:cubicBezTo>
                <a:cubicBezTo>
                  <a:pt x="203" y="376"/>
                  <a:pt x="203" y="376"/>
                  <a:pt x="203" y="376"/>
                </a:cubicBezTo>
                <a:cubicBezTo>
                  <a:pt x="203" y="378"/>
                  <a:pt x="203" y="378"/>
                  <a:pt x="203" y="378"/>
                </a:cubicBezTo>
                <a:cubicBezTo>
                  <a:pt x="204" y="378"/>
                  <a:pt x="204" y="378"/>
                  <a:pt x="204" y="378"/>
                </a:cubicBezTo>
                <a:cubicBezTo>
                  <a:pt x="186" y="396"/>
                  <a:pt x="186" y="396"/>
                  <a:pt x="186" y="396"/>
                </a:cubicBezTo>
                <a:cubicBezTo>
                  <a:pt x="184" y="419"/>
                  <a:pt x="188" y="433"/>
                  <a:pt x="198" y="436"/>
                </a:cubicBezTo>
                <a:cubicBezTo>
                  <a:pt x="231" y="454"/>
                  <a:pt x="231" y="454"/>
                  <a:pt x="231" y="454"/>
                </a:cubicBezTo>
                <a:cubicBezTo>
                  <a:pt x="258" y="472"/>
                  <a:pt x="258" y="472"/>
                  <a:pt x="258" y="472"/>
                </a:cubicBezTo>
                <a:cubicBezTo>
                  <a:pt x="280" y="461"/>
                  <a:pt x="280" y="461"/>
                  <a:pt x="280" y="461"/>
                </a:cubicBezTo>
                <a:cubicBezTo>
                  <a:pt x="282" y="460"/>
                  <a:pt x="282" y="460"/>
                  <a:pt x="282" y="460"/>
                </a:cubicBezTo>
                <a:cubicBezTo>
                  <a:pt x="284" y="459"/>
                  <a:pt x="284" y="459"/>
                  <a:pt x="284" y="459"/>
                </a:cubicBezTo>
                <a:cubicBezTo>
                  <a:pt x="285" y="460"/>
                  <a:pt x="285" y="460"/>
                  <a:pt x="285" y="460"/>
                </a:cubicBezTo>
                <a:cubicBezTo>
                  <a:pt x="319" y="486"/>
                  <a:pt x="319" y="486"/>
                  <a:pt x="319" y="486"/>
                </a:cubicBezTo>
                <a:cubicBezTo>
                  <a:pt x="324" y="488"/>
                  <a:pt x="324" y="488"/>
                  <a:pt x="324" y="488"/>
                </a:cubicBezTo>
                <a:cubicBezTo>
                  <a:pt x="333" y="477"/>
                  <a:pt x="333" y="477"/>
                  <a:pt x="333" y="477"/>
                </a:cubicBezTo>
                <a:cubicBezTo>
                  <a:pt x="335" y="475"/>
                  <a:pt x="335" y="475"/>
                  <a:pt x="335" y="475"/>
                </a:cubicBezTo>
                <a:cubicBezTo>
                  <a:pt x="336" y="474"/>
                  <a:pt x="336" y="474"/>
                  <a:pt x="336" y="474"/>
                </a:cubicBezTo>
                <a:cubicBezTo>
                  <a:pt x="337" y="474"/>
                  <a:pt x="337" y="474"/>
                  <a:pt x="337" y="474"/>
                </a:cubicBezTo>
                <a:cubicBezTo>
                  <a:pt x="338" y="474"/>
                  <a:pt x="338" y="474"/>
                  <a:pt x="338" y="474"/>
                </a:cubicBezTo>
                <a:cubicBezTo>
                  <a:pt x="358" y="477"/>
                  <a:pt x="358" y="477"/>
                  <a:pt x="358" y="477"/>
                </a:cubicBezTo>
                <a:cubicBezTo>
                  <a:pt x="362" y="442"/>
                  <a:pt x="362" y="442"/>
                  <a:pt x="362" y="442"/>
                </a:cubicBezTo>
                <a:cubicBezTo>
                  <a:pt x="388" y="488"/>
                  <a:pt x="388" y="488"/>
                  <a:pt x="388" y="488"/>
                </a:cubicBezTo>
                <a:cubicBezTo>
                  <a:pt x="409" y="489"/>
                  <a:pt x="409" y="489"/>
                  <a:pt x="409" y="489"/>
                </a:cubicBezTo>
                <a:cubicBezTo>
                  <a:pt x="412" y="490"/>
                  <a:pt x="412" y="490"/>
                  <a:pt x="412" y="490"/>
                </a:cubicBezTo>
                <a:cubicBezTo>
                  <a:pt x="414" y="490"/>
                  <a:pt x="414" y="490"/>
                  <a:pt x="414" y="490"/>
                </a:cubicBezTo>
                <a:cubicBezTo>
                  <a:pt x="414" y="492"/>
                  <a:pt x="414" y="492"/>
                  <a:pt x="414" y="492"/>
                </a:cubicBezTo>
                <a:cubicBezTo>
                  <a:pt x="414" y="506"/>
                  <a:pt x="414" y="506"/>
                  <a:pt x="414" y="506"/>
                </a:cubicBezTo>
                <a:cubicBezTo>
                  <a:pt x="422" y="503"/>
                  <a:pt x="422" y="503"/>
                  <a:pt x="422" y="503"/>
                </a:cubicBezTo>
                <a:cubicBezTo>
                  <a:pt x="457" y="457"/>
                  <a:pt x="457" y="457"/>
                  <a:pt x="457" y="457"/>
                </a:cubicBezTo>
                <a:cubicBezTo>
                  <a:pt x="472" y="479"/>
                  <a:pt x="472" y="479"/>
                  <a:pt x="472" y="479"/>
                </a:cubicBezTo>
                <a:cubicBezTo>
                  <a:pt x="472" y="472"/>
                  <a:pt x="472" y="472"/>
                  <a:pt x="472" y="472"/>
                </a:cubicBezTo>
                <a:cubicBezTo>
                  <a:pt x="472" y="472"/>
                  <a:pt x="472" y="472"/>
                  <a:pt x="472" y="472"/>
                </a:cubicBezTo>
                <a:cubicBezTo>
                  <a:pt x="472" y="471"/>
                  <a:pt x="472" y="471"/>
                  <a:pt x="472" y="471"/>
                </a:cubicBezTo>
                <a:cubicBezTo>
                  <a:pt x="472" y="470"/>
                  <a:pt x="472" y="470"/>
                  <a:pt x="472" y="470"/>
                </a:cubicBezTo>
                <a:cubicBezTo>
                  <a:pt x="483" y="449"/>
                  <a:pt x="483" y="449"/>
                  <a:pt x="483" y="449"/>
                </a:cubicBezTo>
                <a:cubicBezTo>
                  <a:pt x="492" y="433"/>
                  <a:pt x="492" y="433"/>
                  <a:pt x="492" y="433"/>
                </a:cubicBezTo>
                <a:cubicBezTo>
                  <a:pt x="518" y="433"/>
                  <a:pt x="518" y="433"/>
                  <a:pt x="518" y="433"/>
                </a:cubicBezTo>
                <a:cubicBezTo>
                  <a:pt x="523" y="403"/>
                  <a:pt x="523" y="403"/>
                  <a:pt x="523" y="403"/>
                </a:cubicBezTo>
                <a:cubicBezTo>
                  <a:pt x="526" y="403"/>
                  <a:pt x="526" y="403"/>
                  <a:pt x="526" y="403"/>
                </a:cubicBezTo>
                <a:cubicBezTo>
                  <a:pt x="528" y="404"/>
                  <a:pt x="528" y="404"/>
                  <a:pt x="528" y="404"/>
                </a:cubicBezTo>
                <a:cubicBezTo>
                  <a:pt x="548" y="407"/>
                  <a:pt x="548" y="407"/>
                  <a:pt x="548" y="407"/>
                </a:cubicBezTo>
                <a:cubicBezTo>
                  <a:pt x="550" y="397"/>
                  <a:pt x="550" y="397"/>
                  <a:pt x="550" y="397"/>
                </a:cubicBezTo>
                <a:cubicBezTo>
                  <a:pt x="543" y="380"/>
                  <a:pt x="543" y="380"/>
                  <a:pt x="543" y="380"/>
                </a:cubicBezTo>
                <a:cubicBezTo>
                  <a:pt x="543" y="378"/>
                  <a:pt x="543" y="378"/>
                  <a:pt x="543" y="378"/>
                </a:cubicBezTo>
                <a:cubicBezTo>
                  <a:pt x="547" y="366"/>
                  <a:pt x="547" y="366"/>
                  <a:pt x="547" y="366"/>
                </a:cubicBezTo>
                <a:cubicBezTo>
                  <a:pt x="547" y="364"/>
                  <a:pt x="547" y="364"/>
                  <a:pt x="547" y="364"/>
                </a:cubicBezTo>
                <a:cubicBezTo>
                  <a:pt x="548" y="363"/>
                  <a:pt x="548" y="363"/>
                  <a:pt x="548" y="363"/>
                </a:cubicBezTo>
                <a:cubicBezTo>
                  <a:pt x="549" y="363"/>
                  <a:pt x="549" y="363"/>
                  <a:pt x="549" y="363"/>
                </a:cubicBezTo>
                <a:cubicBezTo>
                  <a:pt x="549" y="362"/>
                  <a:pt x="549" y="362"/>
                  <a:pt x="549" y="362"/>
                </a:cubicBezTo>
                <a:cubicBezTo>
                  <a:pt x="604" y="333"/>
                  <a:pt x="604" y="333"/>
                  <a:pt x="604" y="333"/>
                </a:cubicBezTo>
                <a:cubicBezTo>
                  <a:pt x="602" y="304"/>
                  <a:pt x="602" y="304"/>
                  <a:pt x="602" y="304"/>
                </a:cubicBezTo>
                <a:cubicBezTo>
                  <a:pt x="602" y="304"/>
                  <a:pt x="602" y="304"/>
                  <a:pt x="602" y="304"/>
                </a:cubicBezTo>
                <a:cubicBezTo>
                  <a:pt x="602" y="303"/>
                  <a:pt x="602" y="303"/>
                  <a:pt x="602" y="303"/>
                </a:cubicBezTo>
                <a:cubicBezTo>
                  <a:pt x="612" y="282"/>
                  <a:pt x="612" y="282"/>
                  <a:pt x="612" y="282"/>
                </a:cubicBezTo>
                <a:cubicBezTo>
                  <a:pt x="614" y="278"/>
                  <a:pt x="614" y="278"/>
                  <a:pt x="614" y="278"/>
                </a:cubicBezTo>
                <a:cubicBezTo>
                  <a:pt x="614" y="278"/>
                  <a:pt x="614" y="278"/>
                  <a:pt x="614" y="278"/>
                </a:cubicBezTo>
                <a:cubicBezTo>
                  <a:pt x="631" y="239"/>
                  <a:pt x="631" y="239"/>
                  <a:pt x="631" y="239"/>
                </a:cubicBezTo>
                <a:cubicBezTo>
                  <a:pt x="632" y="238"/>
                  <a:pt x="632" y="238"/>
                  <a:pt x="632" y="238"/>
                </a:cubicBezTo>
                <a:cubicBezTo>
                  <a:pt x="632" y="238"/>
                  <a:pt x="632" y="238"/>
                  <a:pt x="632" y="238"/>
                </a:cubicBezTo>
                <a:cubicBezTo>
                  <a:pt x="646" y="224"/>
                  <a:pt x="646" y="224"/>
                  <a:pt x="646" y="224"/>
                </a:cubicBezTo>
                <a:cubicBezTo>
                  <a:pt x="655" y="208"/>
                  <a:pt x="655" y="208"/>
                  <a:pt x="655" y="208"/>
                </a:cubicBezTo>
                <a:cubicBezTo>
                  <a:pt x="655" y="206"/>
                  <a:pt x="655" y="206"/>
                  <a:pt x="655" y="206"/>
                </a:cubicBezTo>
                <a:cubicBezTo>
                  <a:pt x="655" y="206"/>
                  <a:pt x="655" y="206"/>
                  <a:pt x="655" y="206"/>
                </a:cubicBezTo>
                <a:cubicBezTo>
                  <a:pt x="662" y="193"/>
                  <a:pt x="662" y="193"/>
                  <a:pt x="662" y="193"/>
                </a:cubicBezTo>
                <a:cubicBezTo>
                  <a:pt x="656" y="177"/>
                  <a:pt x="656" y="177"/>
                  <a:pt x="656" y="177"/>
                </a:cubicBezTo>
                <a:cubicBezTo>
                  <a:pt x="656" y="176"/>
                  <a:pt x="656" y="176"/>
                  <a:pt x="656" y="176"/>
                </a:cubicBezTo>
                <a:cubicBezTo>
                  <a:pt x="655" y="176"/>
                  <a:pt x="655" y="176"/>
                  <a:pt x="655" y="176"/>
                </a:cubicBezTo>
                <a:cubicBezTo>
                  <a:pt x="655" y="159"/>
                  <a:pt x="655" y="159"/>
                  <a:pt x="655" y="159"/>
                </a:cubicBezTo>
                <a:cubicBezTo>
                  <a:pt x="646" y="159"/>
                  <a:pt x="646" y="159"/>
                  <a:pt x="646" y="159"/>
                </a:cubicBezTo>
                <a:cubicBezTo>
                  <a:pt x="630" y="167"/>
                  <a:pt x="630" y="167"/>
                  <a:pt x="630" y="167"/>
                </a:cubicBezTo>
                <a:cubicBezTo>
                  <a:pt x="623" y="172"/>
                  <a:pt x="612" y="170"/>
                  <a:pt x="599" y="162"/>
                </a:cubicBezTo>
                <a:cubicBezTo>
                  <a:pt x="593" y="157"/>
                  <a:pt x="593" y="147"/>
                  <a:pt x="596" y="131"/>
                </a:cubicBezTo>
                <a:cubicBezTo>
                  <a:pt x="588" y="130"/>
                  <a:pt x="588" y="130"/>
                  <a:pt x="588" y="130"/>
                </a:cubicBezTo>
                <a:cubicBezTo>
                  <a:pt x="584" y="135"/>
                  <a:pt x="584" y="135"/>
                  <a:pt x="584" y="135"/>
                </a:cubicBezTo>
                <a:cubicBezTo>
                  <a:pt x="574" y="146"/>
                  <a:pt x="567" y="152"/>
                  <a:pt x="565" y="152"/>
                </a:cubicBezTo>
                <a:cubicBezTo>
                  <a:pt x="563" y="152"/>
                  <a:pt x="562" y="152"/>
                  <a:pt x="560" y="151"/>
                </a:cubicBezTo>
                <a:cubicBezTo>
                  <a:pt x="559" y="148"/>
                  <a:pt x="556" y="143"/>
                  <a:pt x="556" y="134"/>
                </a:cubicBezTo>
                <a:cubicBezTo>
                  <a:pt x="556" y="125"/>
                  <a:pt x="556" y="118"/>
                  <a:pt x="560" y="116"/>
                </a:cubicBezTo>
                <a:cubicBezTo>
                  <a:pt x="562" y="113"/>
                  <a:pt x="564" y="112"/>
                  <a:pt x="566" y="114"/>
                </a:cubicBezTo>
                <a:cubicBezTo>
                  <a:pt x="586" y="77"/>
                  <a:pt x="586" y="77"/>
                  <a:pt x="586" y="77"/>
                </a:cubicBezTo>
                <a:cubicBezTo>
                  <a:pt x="591" y="63"/>
                  <a:pt x="591" y="63"/>
                  <a:pt x="591" y="63"/>
                </a:cubicBezTo>
                <a:cubicBezTo>
                  <a:pt x="594" y="48"/>
                  <a:pt x="594" y="48"/>
                  <a:pt x="594" y="48"/>
                </a:cubicBezTo>
                <a:cubicBezTo>
                  <a:pt x="583" y="38"/>
                  <a:pt x="583" y="38"/>
                  <a:pt x="583" y="38"/>
                </a:cubicBezTo>
                <a:cubicBezTo>
                  <a:pt x="580" y="35"/>
                  <a:pt x="579" y="28"/>
                  <a:pt x="581" y="17"/>
                </a:cubicBezTo>
                <a:cubicBezTo>
                  <a:pt x="581" y="11"/>
                  <a:pt x="581" y="11"/>
                  <a:pt x="581" y="11"/>
                </a:cubicBezTo>
                <a:cubicBezTo>
                  <a:pt x="581" y="7"/>
                  <a:pt x="579" y="3"/>
                  <a:pt x="574" y="0"/>
                </a:cubicBezTo>
                <a:cubicBezTo>
                  <a:pt x="572" y="0"/>
                  <a:pt x="572" y="0"/>
                  <a:pt x="572" y="0"/>
                </a:cubicBezTo>
                <a:cubicBezTo>
                  <a:pt x="571" y="3"/>
                  <a:pt x="571" y="3"/>
                  <a:pt x="571" y="3"/>
                </a:cubicBezTo>
                <a:cubicBezTo>
                  <a:pt x="568" y="12"/>
                  <a:pt x="561" y="16"/>
                  <a:pt x="549" y="13"/>
                </a:cubicBezTo>
                <a:cubicBezTo>
                  <a:pt x="544" y="11"/>
                  <a:pt x="537" y="11"/>
                  <a:pt x="530" y="13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5"/>
          <p:cNvSpPr/>
          <p:nvPr/>
        </p:nvSpPr>
        <p:spPr>
          <a:xfrm>
            <a:off x="2755800" y="3252960"/>
            <a:ext cx="354240" cy="353880"/>
          </a:xfrm>
          <a:custGeom>
            <a:avLst/>
            <a:gdLst/>
            <a:ahLst/>
            <a:rect l="l" t="t" r="r" b="b"/>
            <a:pathLst>
              <a:path w="374" h="381">
                <a:moveTo>
                  <a:pt x="374" y="77"/>
                </a:moveTo>
                <a:cubicBezTo>
                  <a:pt x="366" y="60"/>
                  <a:pt x="366" y="60"/>
                  <a:pt x="366" y="60"/>
                </a:cubicBezTo>
                <a:cubicBezTo>
                  <a:pt x="355" y="43"/>
                  <a:pt x="355" y="43"/>
                  <a:pt x="355" y="43"/>
                </a:cubicBezTo>
                <a:cubicBezTo>
                  <a:pt x="342" y="40"/>
                  <a:pt x="342" y="40"/>
                  <a:pt x="342" y="40"/>
                </a:cubicBezTo>
                <a:cubicBezTo>
                  <a:pt x="341" y="40"/>
                  <a:pt x="341" y="40"/>
                  <a:pt x="341" y="40"/>
                </a:cubicBezTo>
                <a:cubicBezTo>
                  <a:pt x="341" y="39"/>
                  <a:pt x="341" y="39"/>
                  <a:pt x="341" y="39"/>
                </a:cubicBezTo>
                <a:cubicBezTo>
                  <a:pt x="340" y="39"/>
                  <a:pt x="340" y="39"/>
                  <a:pt x="340" y="39"/>
                </a:cubicBezTo>
                <a:cubicBezTo>
                  <a:pt x="329" y="34"/>
                  <a:pt x="329" y="34"/>
                  <a:pt x="329" y="34"/>
                </a:cubicBezTo>
                <a:cubicBezTo>
                  <a:pt x="329" y="34"/>
                  <a:pt x="329" y="34"/>
                  <a:pt x="329" y="34"/>
                </a:cubicBezTo>
                <a:cubicBezTo>
                  <a:pt x="327" y="34"/>
                  <a:pt x="327" y="34"/>
                  <a:pt x="327" y="34"/>
                </a:cubicBezTo>
                <a:cubicBezTo>
                  <a:pt x="323" y="35"/>
                  <a:pt x="323" y="35"/>
                  <a:pt x="323" y="35"/>
                </a:cubicBezTo>
                <a:cubicBezTo>
                  <a:pt x="309" y="37"/>
                  <a:pt x="309" y="37"/>
                  <a:pt x="309" y="37"/>
                </a:cubicBezTo>
                <a:cubicBezTo>
                  <a:pt x="308" y="37"/>
                  <a:pt x="308" y="37"/>
                  <a:pt x="308" y="37"/>
                </a:cubicBezTo>
                <a:cubicBezTo>
                  <a:pt x="306" y="36"/>
                  <a:pt x="306" y="36"/>
                  <a:pt x="306" y="36"/>
                </a:cubicBezTo>
                <a:cubicBezTo>
                  <a:pt x="292" y="31"/>
                  <a:pt x="292" y="31"/>
                  <a:pt x="292" y="31"/>
                </a:cubicBezTo>
                <a:cubicBezTo>
                  <a:pt x="292" y="30"/>
                  <a:pt x="292" y="30"/>
                  <a:pt x="292" y="30"/>
                </a:cubicBezTo>
                <a:cubicBezTo>
                  <a:pt x="291" y="30"/>
                  <a:pt x="291" y="30"/>
                  <a:pt x="291" y="30"/>
                </a:cubicBezTo>
                <a:cubicBezTo>
                  <a:pt x="291" y="28"/>
                  <a:pt x="291" y="28"/>
                  <a:pt x="291" y="28"/>
                </a:cubicBezTo>
                <a:cubicBezTo>
                  <a:pt x="291" y="28"/>
                  <a:pt x="291" y="28"/>
                  <a:pt x="291" y="28"/>
                </a:cubicBezTo>
                <a:cubicBezTo>
                  <a:pt x="281" y="18"/>
                  <a:pt x="281" y="18"/>
                  <a:pt x="281" y="18"/>
                </a:cubicBezTo>
                <a:cubicBezTo>
                  <a:pt x="269" y="6"/>
                  <a:pt x="269" y="6"/>
                  <a:pt x="269" y="6"/>
                </a:cubicBezTo>
                <a:cubicBezTo>
                  <a:pt x="259" y="0"/>
                  <a:pt x="259" y="0"/>
                  <a:pt x="259" y="0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32" y="21"/>
                  <a:pt x="232" y="21"/>
                  <a:pt x="232" y="21"/>
                </a:cubicBezTo>
                <a:cubicBezTo>
                  <a:pt x="228" y="53"/>
                  <a:pt x="228" y="53"/>
                  <a:pt x="228" y="53"/>
                </a:cubicBezTo>
                <a:cubicBezTo>
                  <a:pt x="228" y="54"/>
                  <a:pt x="228" y="54"/>
                  <a:pt x="228" y="54"/>
                </a:cubicBezTo>
                <a:cubicBezTo>
                  <a:pt x="228" y="54"/>
                  <a:pt x="228" y="54"/>
                  <a:pt x="228" y="54"/>
                </a:cubicBezTo>
                <a:cubicBezTo>
                  <a:pt x="214" y="77"/>
                  <a:pt x="214" y="77"/>
                  <a:pt x="214" y="77"/>
                </a:cubicBezTo>
                <a:cubicBezTo>
                  <a:pt x="214" y="79"/>
                  <a:pt x="214" y="79"/>
                  <a:pt x="214" y="79"/>
                </a:cubicBezTo>
                <a:cubicBezTo>
                  <a:pt x="213" y="79"/>
                  <a:pt x="213" y="79"/>
                  <a:pt x="213" y="79"/>
                </a:cubicBezTo>
                <a:cubicBezTo>
                  <a:pt x="203" y="90"/>
                  <a:pt x="203" y="90"/>
                  <a:pt x="203" y="90"/>
                </a:cubicBezTo>
                <a:cubicBezTo>
                  <a:pt x="190" y="114"/>
                  <a:pt x="190" y="114"/>
                  <a:pt x="190" y="114"/>
                </a:cubicBezTo>
                <a:cubicBezTo>
                  <a:pt x="190" y="114"/>
                  <a:pt x="190" y="114"/>
                  <a:pt x="190" y="114"/>
                </a:cubicBezTo>
                <a:cubicBezTo>
                  <a:pt x="189" y="116"/>
                  <a:pt x="189" y="116"/>
                  <a:pt x="189" y="116"/>
                </a:cubicBezTo>
                <a:cubicBezTo>
                  <a:pt x="179" y="123"/>
                  <a:pt x="171" y="131"/>
                  <a:pt x="163" y="137"/>
                </a:cubicBezTo>
                <a:cubicBezTo>
                  <a:pt x="152" y="156"/>
                  <a:pt x="152" y="156"/>
                  <a:pt x="152" y="156"/>
                </a:cubicBezTo>
                <a:cubicBezTo>
                  <a:pt x="150" y="161"/>
                  <a:pt x="141" y="168"/>
                  <a:pt x="126" y="174"/>
                </a:cubicBezTo>
                <a:cubicBezTo>
                  <a:pt x="115" y="192"/>
                  <a:pt x="115" y="192"/>
                  <a:pt x="115" y="192"/>
                </a:cubicBezTo>
                <a:cubicBezTo>
                  <a:pt x="115" y="192"/>
                  <a:pt x="115" y="192"/>
                  <a:pt x="115" y="192"/>
                </a:cubicBezTo>
                <a:cubicBezTo>
                  <a:pt x="97" y="216"/>
                  <a:pt x="97" y="216"/>
                  <a:pt x="97" y="216"/>
                </a:cubicBezTo>
                <a:cubicBezTo>
                  <a:pt x="96" y="216"/>
                  <a:pt x="96" y="216"/>
                  <a:pt x="96" y="216"/>
                </a:cubicBezTo>
                <a:cubicBezTo>
                  <a:pt x="96" y="217"/>
                  <a:pt x="96" y="217"/>
                  <a:pt x="96" y="217"/>
                </a:cubicBezTo>
                <a:cubicBezTo>
                  <a:pt x="94" y="217"/>
                  <a:pt x="94" y="217"/>
                  <a:pt x="94" y="217"/>
                </a:cubicBezTo>
                <a:cubicBezTo>
                  <a:pt x="10" y="212"/>
                  <a:pt x="10" y="212"/>
                  <a:pt x="10" y="212"/>
                </a:cubicBezTo>
                <a:cubicBezTo>
                  <a:pt x="0" y="222"/>
                  <a:pt x="0" y="222"/>
                  <a:pt x="0" y="222"/>
                </a:cubicBezTo>
                <a:cubicBezTo>
                  <a:pt x="0" y="240"/>
                  <a:pt x="0" y="240"/>
                  <a:pt x="0" y="240"/>
                </a:cubicBezTo>
                <a:cubicBezTo>
                  <a:pt x="9" y="274"/>
                  <a:pt x="9" y="274"/>
                  <a:pt x="9" y="274"/>
                </a:cubicBezTo>
                <a:cubicBezTo>
                  <a:pt x="26" y="300"/>
                  <a:pt x="26" y="300"/>
                  <a:pt x="26" y="300"/>
                </a:cubicBezTo>
                <a:cubicBezTo>
                  <a:pt x="41" y="308"/>
                  <a:pt x="41" y="308"/>
                  <a:pt x="41" y="308"/>
                </a:cubicBezTo>
                <a:cubicBezTo>
                  <a:pt x="41" y="309"/>
                  <a:pt x="41" y="309"/>
                  <a:pt x="41" y="309"/>
                </a:cubicBezTo>
                <a:cubicBezTo>
                  <a:pt x="42" y="309"/>
                  <a:pt x="42" y="309"/>
                  <a:pt x="42" y="309"/>
                </a:cubicBezTo>
                <a:cubicBezTo>
                  <a:pt x="42" y="309"/>
                  <a:pt x="42" y="309"/>
                  <a:pt x="42" y="309"/>
                </a:cubicBezTo>
                <a:cubicBezTo>
                  <a:pt x="51" y="320"/>
                  <a:pt x="55" y="327"/>
                  <a:pt x="55" y="332"/>
                </a:cubicBezTo>
                <a:cubicBezTo>
                  <a:pt x="55" y="346"/>
                  <a:pt x="55" y="346"/>
                  <a:pt x="55" y="346"/>
                </a:cubicBezTo>
                <a:cubicBezTo>
                  <a:pt x="50" y="351"/>
                  <a:pt x="50" y="351"/>
                  <a:pt x="50" y="351"/>
                </a:cubicBezTo>
                <a:cubicBezTo>
                  <a:pt x="53" y="354"/>
                  <a:pt x="53" y="354"/>
                  <a:pt x="53" y="354"/>
                </a:cubicBezTo>
                <a:cubicBezTo>
                  <a:pt x="57" y="354"/>
                  <a:pt x="57" y="354"/>
                  <a:pt x="57" y="354"/>
                </a:cubicBezTo>
                <a:cubicBezTo>
                  <a:pt x="63" y="341"/>
                  <a:pt x="63" y="341"/>
                  <a:pt x="63" y="341"/>
                </a:cubicBezTo>
                <a:cubicBezTo>
                  <a:pt x="66" y="341"/>
                  <a:pt x="66" y="341"/>
                  <a:pt x="66" y="341"/>
                </a:cubicBezTo>
                <a:cubicBezTo>
                  <a:pt x="82" y="346"/>
                  <a:pt x="82" y="346"/>
                  <a:pt x="82" y="346"/>
                </a:cubicBezTo>
                <a:cubicBezTo>
                  <a:pt x="83" y="351"/>
                  <a:pt x="83" y="351"/>
                  <a:pt x="83" y="351"/>
                </a:cubicBezTo>
                <a:cubicBezTo>
                  <a:pt x="92" y="351"/>
                  <a:pt x="92" y="351"/>
                  <a:pt x="92" y="351"/>
                </a:cubicBezTo>
                <a:cubicBezTo>
                  <a:pt x="92" y="351"/>
                  <a:pt x="92" y="351"/>
                  <a:pt x="92" y="351"/>
                </a:cubicBezTo>
                <a:cubicBezTo>
                  <a:pt x="90" y="345"/>
                  <a:pt x="90" y="345"/>
                  <a:pt x="90" y="345"/>
                </a:cubicBezTo>
                <a:cubicBezTo>
                  <a:pt x="89" y="343"/>
                  <a:pt x="89" y="343"/>
                  <a:pt x="89" y="343"/>
                </a:cubicBezTo>
                <a:cubicBezTo>
                  <a:pt x="100" y="325"/>
                  <a:pt x="100" y="325"/>
                  <a:pt x="100" y="325"/>
                </a:cubicBezTo>
                <a:cubicBezTo>
                  <a:pt x="102" y="320"/>
                  <a:pt x="108" y="318"/>
                  <a:pt x="115" y="320"/>
                </a:cubicBezTo>
                <a:cubicBezTo>
                  <a:pt x="134" y="321"/>
                  <a:pt x="134" y="321"/>
                  <a:pt x="134" y="321"/>
                </a:cubicBezTo>
                <a:cubicBezTo>
                  <a:pt x="145" y="307"/>
                  <a:pt x="145" y="307"/>
                  <a:pt x="145" y="307"/>
                </a:cubicBezTo>
                <a:cubicBezTo>
                  <a:pt x="145" y="294"/>
                  <a:pt x="145" y="294"/>
                  <a:pt x="145" y="294"/>
                </a:cubicBezTo>
                <a:cubicBezTo>
                  <a:pt x="149" y="281"/>
                  <a:pt x="149" y="281"/>
                  <a:pt x="149" y="281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79"/>
                  <a:pt x="150" y="279"/>
                  <a:pt x="150" y="279"/>
                </a:cubicBezTo>
                <a:cubicBezTo>
                  <a:pt x="151" y="278"/>
                  <a:pt x="151" y="278"/>
                  <a:pt x="151" y="278"/>
                </a:cubicBezTo>
                <a:cubicBezTo>
                  <a:pt x="158" y="273"/>
                  <a:pt x="158" y="273"/>
                  <a:pt x="158" y="273"/>
                </a:cubicBezTo>
                <a:cubicBezTo>
                  <a:pt x="158" y="272"/>
                  <a:pt x="158" y="272"/>
                  <a:pt x="158" y="272"/>
                </a:cubicBezTo>
                <a:cubicBezTo>
                  <a:pt x="159" y="272"/>
                  <a:pt x="159" y="272"/>
                  <a:pt x="159" y="272"/>
                </a:cubicBezTo>
                <a:cubicBezTo>
                  <a:pt x="160" y="273"/>
                  <a:pt x="160" y="273"/>
                  <a:pt x="160" y="273"/>
                </a:cubicBezTo>
                <a:cubicBezTo>
                  <a:pt x="176" y="275"/>
                  <a:pt x="176" y="275"/>
                  <a:pt x="176" y="275"/>
                </a:cubicBezTo>
                <a:cubicBezTo>
                  <a:pt x="176" y="278"/>
                  <a:pt x="176" y="278"/>
                  <a:pt x="176" y="278"/>
                </a:cubicBezTo>
                <a:cubicBezTo>
                  <a:pt x="179" y="290"/>
                  <a:pt x="179" y="290"/>
                  <a:pt x="179" y="290"/>
                </a:cubicBezTo>
                <a:cubicBezTo>
                  <a:pt x="179" y="297"/>
                  <a:pt x="179" y="297"/>
                  <a:pt x="179" y="297"/>
                </a:cubicBezTo>
                <a:cubicBezTo>
                  <a:pt x="182" y="306"/>
                  <a:pt x="182" y="306"/>
                  <a:pt x="182" y="306"/>
                </a:cubicBezTo>
                <a:cubicBezTo>
                  <a:pt x="186" y="307"/>
                  <a:pt x="186" y="307"/>
                  <a:pt x="186" y="307"/>
                </a:cubicBezTo>
                <a:cubicBezTo>
                  <a:pt x="191" y="300"/>
                  <a:pt x="191" y="300"/>
                  <a:pt x="191" y="300"/>
                </a:cubicBezTo>
                <a:cubicBezTo>
                  <a:pt x="191" y="299"/>
                  <a:pt x="191" y="299"/>
                  <a:pt x="191" y="299"/>
                </a:cubicBezTo>
                <a:cubicBezTo>
                  <a:pt x="200" y="287"/>
                  <a:pt x="200" y="287"/>
                  <a:pt x="200" y="287"/>
                </a:cubicBezTo>
                <a:cubicBezTo>
                  <a:pt x="201" y="285"/>
                  <a:pt x="201" y="285"/>
                  <a:pt x="201" y="285"/>
                </a:cubicBezTo>
                <a:cubicBezTo>
                  <a:pt x="212" y="280"/>
                  <a:pt x="212" y="280"/>
                  <a:pt x="212" y="280"/>
                </a:cubicBezTo>
                <a:cubicBezTo>
                  <a:pt x="213" y="280"/>
                  <a:pt x="213" y="280"/>
                  <a:pt x="213" y="280"/>
                </a:cubicBezTo>
                <a:cubicBezTo>
                  <a:pt x="214" y="279"/>
                  <a:pt x="214" y="279"/>
                  <a:pt x="214" y="279"/>
                </a:cubicBezTo>
                <a:cubicBezTo>
                  <a:pt x="228" y="283"/>
                  <a:pt x="228" y="283"/>
                  <a:pt x="228" y="283"/>
                </a:cubicBezTo>
                <a:cubicBezTo>
                  <a:pt x="229" y="283"/>
                  <a:pt x="229" y="283"/>
                  <a:pt x="229" y="283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313"/>
                  <a:pt x="239" y="313"/>
                  <a:pt x="239" y="313"/>
                </a:cubicBezTo>
                <a:cubicBezTo>
                  <a:pt x="249" y="333"/>
                  <a:pt x="249" y="333"/>
                  <a:pt x="249" y="333"/>
                </a:cubicBezTo>
                <a:cubicBezTo>
                  <a:pt x="249" y="333"/>
                  <a:pt x="249" y="333"/>
                  <a:pt x="249" y="333"/>
                </a:cubicBezTo>
                <a:cubicBezTo>
                  <a:pt x="249" y="336"/>
                  <a:pt x="249" y="336"/>
                  <a:pt x="249" y="336"/>
                </a:cubicBezTo>
                <a:cubicBezTo>
                  <a:pt x="249" y="350"/>
                  <a:pt x="249" y="350"/>
                  <a:pt x="249" y="350"/>
                </a:cubicBezTo>
                <a:cubicBezTo>
                  <a:pt x="252" y="357"/>
                  <a:pt x="252" y="357"/>
                  <a:pt x="252" y="357"/>
                </a:cubicBezTo>
                <a:cubicBezTo>
                  <a:pt x="255" y="357"/>
                  <a:pt x="255" y="357"/>
                  <a:pt x="255" y="357"/>
                </a:cubicBezTo>
                <a:cubicBezTo>
                  <a:pt x="260" y="351"/>
                  <a:pt x="260" y="351"/>
                  <a:pt x="260" y="351"/>
                </a:cubicBezTo>
                <a:cubicBezTo>
                  <a:pt x="261" y="349"/>
                  <a:pt x="261" y="349"/>
                  <a:pt x="261" y="349"/>
                </a:cubicBezTo>
                <a:cubicBezTo>
                  <a:pt x="273" y="357"/>
                  <a:pt x="273" y="357"/>
                  <a:pt x="273" y="357"/>
                </a:cubicBezTo>
                <a:cubicBezTo>
                  <a:pt x="274" y="357"/>
                  <a:pt x="274" y="357"/>
                  <a:pt x="274" y="357"/>
                </a:cubicBezTo>
                <a:cubicBezTo>
                  <a:pt x="276" y="357"/>
                  <a:pt x="276" y="357"/>
                  <a:pt x="276" y="357"/>
                </a:cubicBezTo>
                <a:cubicBezTo>
                  <a:pt x="276" y="359"/>
                  <a:pt x="276" y="359"/>
                  <a:pt x="276" y="359"/>
                </a:cubicBezTo>
                <a:cubicBezTo>
                  <a:pt x="276" y="360"/>
                  <a:pt x="276" y="360"/>
                  <a:pt x="276" y="360"/>
                </a:cubicBezTo>
                <a:cubicBezTo>
                  <a:pt x="280" y="378"/>
                  <a:pt x="280" y="378"/>
                  <a:pt x="280" y="378"/>
                </a:cubicBezTo>
                <a:cubicBezTo>
                  <a:pt x="285" y="381"/>
                  <a:pt x="285" y="381"/>
                  <a:pt x="285" y="381"/>
                </a:cubicBezTo>
                <a:cubicBezTo>
                  <a:pt x="286" y="379"/>
                  <a:pt x="286" y="379"/>
                  <a:pt x="286" y="379"/>
                </a:cubicBezTo>
                <a:cubicBezTo>
                  <a:pt x="291" y="365"/>
                  <a:pt x="291" y="365"/>
                  <a:pt x="291" y="365"/>
                </a:cubicBezTo>
                <a:cubicBezTo>
                  <a:pt x="291" y="364"/>
                  <a:pt x="291" y="364"/>
                  <a:pt x="291" y="364"/>
                </a:cubicBezTo>
                <a:cubicBezTo>
                  <a:pt x="292" y="362"/>
                  <a:pt x="292" y="362"/>
                  <a:pt x="292" y="362"/>
                </a:cubicBezTo>
                <a:cubicBezTo>
                  <a:pt x="293" y="362"/>
                  <a:pt x="293" y="362"/>
                  <a:pt x="293" y="362"/>
                </a:cubicBezTo>
                <a:cubicBezTo>
                  <a:pt x="295" y="362"/>
                  <a:pt x="295" y="362"/>
                  <a:pt x="295" y="362"/>
                </a:cubicBezTo>
                <a:cubicBezTo>
                  <a:pt x="302" y="358"/>
                  <a:pt x="302" y="358"/>
                  <a:pt x="302" y="358"/>
                </a:cubicBezTo>
                <a:cubicBezTo>
                  <a:pt x="303" y="358"/>
                  <a:pt x="303" y="358"/>
                  <a:pt x="303" y="358"/>
                </a:cubicBezTo>
                <a:cubicBezTo>
                  <a:pt x="303" y="357"/>
                  <a:pt x="303" y="357"/>
                  <a:pt x="303" y="357"/>
                </a:cubicBezTo>
                <a:cubicBezTo>
                  <a:pt x="312" y="357"/>
                  <a:pt x="312" y="357"/>
                  <a:pt x="312" y="357"/>
                </a:cubicBezTo>
                <a:cubicBezTo>
                  <a:pt x="310" y="351"/>
                  <a:pt x="310" y="351"/>
                  <a:pt x="310" y="351"/>
                </a:cubicBezTo>
                <a:cubicBezTo>
                  <a:pt x="310" y="349"/>
                  <a:pt x="310" y="349"/>
                  <a:pt x="310" y="349"/>
                </a:cubicBezTo>
                <a:cubicBezTo>
                  <a:pt x="305" y="300"/>
                  <a:pt x="305" y="300"/>
                  <a:pt x="305" y="300"/>
                </a:cubicBezTo>
                <a:cubicBezTo>
                  <a:pt x="285" y="267"/>
                  <a:pt x="285" y="267"/>
                  <a:pt x="285" y="267"/>
                </a:cubicBezTo>
                <a:cubicBezTo>
                  <a:pt x="247" y="223"/>
                  <a:pt x="247" y="223"/>
                  <a:pt x="247" y="223"/>
                </a:cubicBezTo>
                <a:cubicBezTo>
                  <a:pt x="246" y="222"/>
                  <a:pt x="246" y="222"/>
                  <a:pt x="246" y="222"/>
                </a:cubicBezTo>
                <a:cubicBezTo>
                  <a:pt x="244" y="193"/>
                  <a:pt x="244" y="193"/>
                  <a:pt x="244" y="193"/>
                </a:cubicBezTo>
                <a:cubicBezTo>
                  <a:pt x="231" y="171"/>
                  <a:pt x="231" y="171"/>
                  <a:pt x="231" y="171"/>
                </a:cubicBezTo>
                <a:cubicBezTo>
                  <a:pt x="231" y="170"/>
                  <a:pt x="231" y="170"/>
                  <a:pt x="231" y="170"/>
                </a:cubicBezTo>
                <a:cubicBezTo>
                  <a:pt x="230" y="169"/>
                  <a:pt x="230" y="169"/>
                  <a:pt x="230" y="169"/>
                </a:cubicBezTo>
                <a:cubicBezTo>
                  <a:pt x="230" y="169"/>
                  <a:pt x="230" y="169"/>
                  <a:pt x="230" y="169"/>
                </a:cubicBezTo>
                <a:cubicBezTo>
                  <a:pt x="231" y="167"/>
                  <a:pt x="231" y="167"/>
                  <a:pt x="231" y="167"/>
                </a:cubicBezTo>
                <a:cubicBezTo>
                  <a:pt x="238" y="139"/>
                  <a:pt x="238" y="139"/>
                  <a:pt x="238" y="139"/>
                </a:cubicBezTo>
                <a:cubicBezTo>
                  <a:pt x="240" y="139"/>
                  <a:pt x="240" y="139"/>
                  <a:pt x="240" y="139"/>
                </a:cubicBezTo>
                <a:cubicBezTo>
                  <a:pt x="242" y="139"/>
                  <a:pt x="242" y="139"/>
                  <a:pt x="242" y="139"/>
                </a:cubicBezTo>
                <a:cubicBezTo>
                  <a:pt x="308" y="135"/>
                  <a:pt x="308" y="135"/>
                  <a:pt x="308" y="135"/>
                </a:cubicBezTo>
                <a:cubicBezTo>
                  <a:pt x="344" y="116"/>
                  <a:pt x="344" y="116"/>
                  <a:pt x="344" y="116"/>
                </a:cubicBezTo>
                <a:cubicBezTo>
                  <a:pt x="344" y="116"/>
                  <a:pt x="344" y="116"/>
                  <a:pt x="344" y="116"/>
                </a:cubicBezTo>
                <a:cubicBezTo>
                  <a:pt x="345" y="115"/>
                  <a:pt x="345" y="115"/>
                  <a:pt x="345" y="115"/>
                </a:cubicBezTo>
                <a:cubicBezTo>
                  <a:pt x="358" y="111"/>
                  <a:pt x="366" y="106"/>
                  <a:pt x="368" y="100"/>
                </a:cubicBezTo>
                <a:cubicBezTo>
                  <a:pt x="372" y="95"/>
                  <a:pt x="374" y="88"/>
                  <a:pt x="374" y="77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16"/>
          <p:cNvSpPr/>
          <p:nvPr/>
        </p:nvSpPr>
        <p:spPr>
          <a:xfrm>
            <a:off x="2755800" y="2570040"/>
            <a:ext cx="403200" cy="706680"/>
          </a:xfrm>
          <a:custGeom>
            <a:avLst/>
            <a:gdLst/>
            <a:ahLst/>
            <a:rect l="l" t="t" r="r" b="b"/>
            <a:pathLst>
              <a:path w="425" h="763">
                <a:moveTo>
                  <a:pt x="142" y="174"/>
                </a:moveTo>
                <a:cubicBezTo>
                  <a:pt x="135" y="173"/>
                  <a:pt x="135" y="173"/>
                  <a:pt x="135" y="173"/>
                </a:cubicBezTo>
                <a:cubicBezTo>
                  <a:pt x="125" y="238"/>
                  <a:pt x="125" y="238"/>
                  <a:pt x="125" y="238"/>
                </a:cubicBezTo>
                <a:cubicBezTo>
                  <a:pt x="143" y="259"/>
                  <a:pt x="143" y="259"/>
                  <a:pt x="143" y="259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61" y="266"/>
                  <a:pt x="161" y="266"/>
                  <a:pt x="161" y="266"/>
                </a:cubicBezTo>
                <a:cubicBezTo>
                  <a:pt x="162" y="267"/>
                  <a:pt x="162" y="267"/>
                  <a:pt x="162" y="267"/>
                </a:cubicBezTo>
                <a:cubicBezTo>
                  <a:pt x="184" y="285"/>
                  <a:pt x="184" y="285"/>
                  <a:pt x="184" y="285"/>
                </a:cubicBezTo>
                <a:cubicBezTo>
                  <a:pt x="214" y="293"/>
                  <a:pt x="214" y="293"/>
                  <a:pt x="214" y="293"/>
                </a:cubicBezTo>
                <a:cubicBezTo>
                  <a:pt x="215" y="293"/>
                  <a:pt x="215" y="293"/>
                  <a:pt x="215" y="293"/>
                </a:cubicBezTo>
                <a:cubicBezTo>
                  <a:pt x="231" y="303"/>
                  <a:pt x="231" y="303"/>
                  <a:pt x="231" y="303"/>
                </a:cubicBezTo>
                <a:cubicBezTo>
                  <a:pt x="232" y="303"/>
                  <a:pt x="232" y="303"/>
                  <a:pt x="232" y="303"/>
                </a:cubicBezTo>
                <a:cubicBezTo>
                  <a:pt x="232" y="303"/>
                  <a:pt x="232" y="303"/>
                  <a:pt x="232" y="303"/>
                </a:cubicBezTo>
                <a:cubicBezTo>
                  <a:pt x="232" y="305"/>
                  <a:pt x="232" y="305"/>
                  <a:pt x="232" y="305"/>
                </a:cubicBezTo>
                <a:cubicBezTo>
                  <a:pt x="244" y="322"/>
                  <a:pt x="244" y="322"/>
                  <a:pt x="244" y="322"/>
                </a:cubicBezTo>
                <a:cubicBezTo>
                  <a:pt x="246" y="324"/>
                  <a:pt x="246" y="324"/>
                  <a:pt x="246" y="324"/>
                </a:cubicBezTo>
                <a:cubicBezTo>
                  <a:pt x="245" y="326"/>
                  <a:pt x="245" y="326"/>
                  <a:pt x="245" y="326"/>
                </a:cubicBezTo>
                <a:cubicBezTo>
                  <a:pt x="234" y="343"/>
                  <a:pt x="234" y="343"/>
                  <a:pt x="234" y="343"/>
                </a:cubicBezTo>
                <a:cubicBezTo>
                  <a:pt x="232" y="345"/>
                  <a:pt x="232" y="351"/>
                  <a:pt x="232" y="359"/>
                </a:cubicBezTo>
                <a:cubicBezTo>
                  <a:pt x="233" y="359"/>
                  <a:pt x="233" y="359"/>
                  <a:pt x="233" y="359"/>
                </a:cubicBezTo>
                <a:cubicBezTo>
                  <a:pt x="233" y="379"/>
                  <a:pt x="233" y="379"/>
                  <a:pt x="233" y="379"/>
                </a:cubicBezTo>
                <a:cubicBezTo>
                  <a:pt x="232" y="380"/>
                  <a:pt x="232" y="380"/>
                  <a:pt x="232" y="380"/>
                </a:cubicBezTo>
                <a:cubicBezTo>
                  <a:pt x="232" y="380"/>
                  <a:pt x="232" y="380"/>
                  <a:pt x="232" y="380"/>
                </a:cubicBezTo>
                <a:cubicBezTo>
                  <a:pt x="223" y="412"/>
                  <a:pt x="223" y="412"/>
                  <a:pt x="223" y="412"/>
                </a:cubicBezTo>
                <a:cubicBezTo>
                  <a:pt x="222" y="417"/>
                  <a:pt x="222" y="417"/>
                  <a:pt x="222" y="417"/>
                </a:cubicBezTo>
                <a:cubicBezTo>
                  <a:pt x="220" y="417"/>
                  <a:pt x="220" y="417"/>
                  <a:pt x="220" y="417"/>
                </a:cubicBezTo>
                <a:cubicBezTo>
                  <a:pt x="216" y="416"/>
                  <a:pt x="216" y="416"/>
                  <a:pt x="216" y="416"/>
                </a:cubicBezTo>
                <a:cubicBezTo>
                  <a:pt x="203" y="413"/>
                  <a:pt x="203" y="413"/>
                  <a:pt x="203" y="413"/>
                </a:cubicBezTo>
                <a:cubicBezTo>
                  <a:pt x="185" y="414"/>
                  <a:pt x="185" y="414"/>
                  <a:pt x="185" y="414"/>
                </a:cubicBezTo>
                <a:cubicBezTo>
                  <a:pt x="169" y="419"/>
                  <a:pt x="169" y="419"/>
                  <a:pt x="169" y="419"/>
                </a:cubicBezTo>
                <a:cubicBezTo>
                  <a:pt x="151" y="434"/>
                  <a:pt x="151" y="434"/>
                  <a:pt x="151" y="434"/>
                </a:cubicBezTo>
                <a:cubicBezTo>
                  <a:pt x="147" y="438"/>
                  <a:pt x="147" y="438"/>
                  <a:pt x="147" y="438"/>
                </a:cubicBezTo>
                <a:cubicBezTo>
                  <a:pt x="170" y="450"/>
                  <a:pt x="170" y="450"/>
                  <a:pt x="170" y="450"/>
                </a:cubicBezTo>
                <a:cubicBezTo>
                  <a:pt x="168" y="454"/>
                  <a:pt x="168" y="454"/>
                  <a:pt x="168" y="454"/>
                </a:cubicBezTo>
                <a:cubicBezTo>
                  <a:pt x="167" y="459"/>
                  <a:pt x="162" y="465"/>
                  <a:pt x="153" y="468"/>
                </a:cubicBezTo>
                <a:cubicBezTo>
                  <a:pt x="138" y="469"/>
                  <a:pt x="138" y="469"/>
                  <a:pt x="138" y="469"/>
                </a:cubicBezTo>
                <a:cubicBezTo>
                  <a:pt x="114" y="459"/>
                  <a:pt x="114" y="459"/>
                  <a:pt x="114" y="459"/>
                </a:cubicBezTo>
                <a:cubicBezTo>
                  <a:pt x="114" y="459"/>
                  <a:pt x="114" y="459"/>
                  <a:pt x="114" y="459"/>
                </a:cubicBezTo>
                <a:cubicBezTo>
                  <a:pt x="114" y="459"/>
                  <a:pt x="114" y="459"/>
                  <a:pt x="114" y="459"/>
                </a:cubicBezTo>
                <a:cubicBezTo>
                  <a:pt x="92" y="447"/>
                  <a:pt x="92" y="447"/>
                  <a:pt x="92" y="447"/>
                </a:cubicBezTo>
                <a:cubicBezTo>
                  <a:pt x="82" y="447"/>
                  <a:pt x="82" y="447"/>
                  <a:pt x="82" y="447"/>
                </a:cubicBezTo>
                <a:cubicBezTo>
                  <a:pt x="56" y="485"/>
                  <a:pt x="56" y="485"/>
                  <a:pt x="56" y="485"/>
                </a:cubicBezTo>
                <a:cubicBezTo>
                  <a:pt x="51" y="497"/>
                  <a:pt x="51" y="497"/>
                  <a:pt x="51" y="497"/>
                </a:cubicBezTo>
                <a:cubicBezTo>
                  <a:pt x="51" y="519"/>
                  <a:pt x="51" y="519"/>
                  <a:pt x="51" y="519"/>
                </a:cubicBezTo>
                <a:cubicBezTo>
                  <a:pt x="61" y="537"/>
                  <a:pt x="61" y="537"/>
                  <a:pt x="61" y="537"/>
                </a:cubicBezTo>
                <a:cubicBezTo>
                  <a:pt x="61" y="538"/>
                  <a:pt x="61" y="538"/>
                  <a:pt x="61" y="538"/>
                </a:cubicBezTo>
                <a:cubicBezTo>
                  <a:pt x="61" y="538"/>
                  <a:pt x="61" y="538"/>
                  <a:pt x="61" y="538"/>
                </a:cubicBezTo>
                <a:cubicBezTo>
                  <a:pt x="61" y="538"/>
                  <a:pt x="61" y="538"/>
                  <a:pt x="61" y="538"/>
                </a:cubicBezTo>
                <a:cubicBezTo>
                  <a:pt x="68" y="555"/>
                  <a:pt x="68" y="555"/>
                  <a:pt x="68" y="555"/>
                </a:cubicBezTo>
                <a:cubicBezTo>
                  <a:pt x="68" y="557"/>
                  <a:pt x="68" y="557"/>
                  <a:pt x="68" y="557"/>
                </a:cubicBezTo>
                <a:cubicBezTo>
                  <a:pt x="69" y="582"/>
                  <a:pt x="69" y="582"/>
                  <a:pt x="69" y="582"/>
                </a:cubicBezTo>
                <a:cubicBezTo>
                  <a:pt x="69" y="585"/>
                  <a:pt x="69" y="585"/>
                  <a:pt x="69" y="585"/>
                </a:cubicBezTo>
                <a:cubicBezTo>
                  <a:pt x="70" y="587"/>
                  <a:pt x="70" y="587"/>
                  <a:pt x="70" y="587"/>
                </a:cubicBezTo>
                <a:cubicBezTo>
                  <a:pt x="53" y="590"/>
                  <a:pt x="53" y="590"/>
                  <a:pt x="53" y="590"/>
                </a:cubicBezTo>
                <a:cubicBezTo>
                  <a:pt x="21" y="590"/>
                  <a:pt x="21" y="590"/>
                  <a:pt x="21" y="590"/>
                </a:cubicBezTo>
                <a:cubicBezTo>
                  <a:pt x="6" y="600"/>
                  <a:pt x="6" y="600"/>
                  <a:pt x="6" y="600"/>
                </a:cubicBezTo>
                <a:cubicBezTo>
                  <a:pt x="0" y="610"/>
                  <a:pt x="0" y="610"/>
                  <a:pt x="0" y="610"/>
                </a:cubicBezTo>
                <a:cubicBezTo>
                  <a:pt x="1" y="611"/>
                  <a:pt x="1" y="611"/>
                  <a:pt x="1" y="611"/>
                </a:cubicBezTo>
                <a:cubicBezTo>
                  <a:pt x="8" y="643"/>
                  <a:pt x="8" y="643"/>
                  <a:pt x="8" y="643"/>
                </a:cubicBezTo>
                <a:cubicBezTo>
                  <a:pt x="9" y="643"/>
                  <a:pt x="9" y="643"/>
                  <a:pt x="9" y="643"/>
                </a:cubicBezTo>
                <a:cubicBezTo>
                  <a:pt x="9" y="656"/>
                  <a:pt x="9" y="656"/>
                  <a:pt x="9" y="656"/>
                </a:cubicBezTo>
                <a:cubicBezTo>
                  <a:pt x="16" y="670"/>
                  <a:pt x="16" y="670"/>
                  <a:pt x="16" y="670"/>
                </a:cubicBezTo>
                <a:cubicBezTo>
                  <a:pt x="38" y="685"/>
                  <a:pt x="38" y="685"/>
                  <a:pt x="38" y="685"/>
                </a:cubicBezTo>
                <a:cubicBezTo>
                  <a:pt x="71" y="678"/>
                  <a:pt x="71" y="678"/>
                  <a:pt x="71" y="678"/>
                </a:cubicBezTo>
                <a:cubicBezTo>
                  <a:pt x="87" y="667"/>
                  <a:pt x="87" y="667"/>
                  <a:pt x="87" y="667"/>
                </a:cubicBezTo>
                <a:cubicBezTo>
                  <a:pt x="89" y="666"/>
                  <a:pt x="89" y="666"/>
                  <a:pt x="89" y="666"/>
                </a:cubicBezTo>
                <a:cubicBezTo>
                  <a:pt x="104" y="666"/>
                  <a:pt x="104" y="666"/>
                  <a:pt x="104" y="666"/>
                </a:cubicBezTo>
                <a:cubicBezTo>
                  <a:pt x="112" y="686"/>
                  <a:pt x="112" y="686"/>
                  <a:pt x="112" y="686"/>
                </a:cubicBezTo>
                <a:cubicBezTo>
                  <a:pt x="117" y="691"/>
                  <a:pt x="121" y="697"/>
                  <a:pt x="124" y="703"/>
                </a:cubicBezTo>
                <a:cubicBezTo>
                  <a:pt x="131" y="702"/>
                  <a:pt x="131" y="702"/>
                  <a:pt x="131" y="702"/>
                </a:cubicBezTo>
                <a:cubicBezTo>
                  <a:pt x="133" y="702"/>
                  <a:pt x="133" y="702"/>
                  <a:pt x="133" y="702"/>
                </a:cubicBezTo>
                <a:cubicBezTo>
                  <a:pt x="135" y="702"/>
                  <a:pt x="135" y="702"/>
                  <a:pt x="135" y="702"/>
                </a:cubicBezTo>
                <a:cubicBezTo>
                  <a:pt x="136" y="700"/>
                  <a:pt x="136" y="700"/>
                  <a:pt x="136" y="700"/>
                </a:cubicBezTo>
                <a:cubicBezTo>
                  <a:pt x="151" y="688"/>
                  <a:pt x="151" y="688"/>
                  <a:pt x="151" y="688"/>
                </a:cubicBezTo>
                <a:cubicBezTo>
                  <a:pt x="165" y="713"/>
                  <a:pt x="165" y="713"/>
                  <a:pt x="165" y="713"/>
                </a:cubicBezTo>
                <a:cubicBezTo>
                  <a:pt x="180" y="722"/>
                  <a:pt x="180" y="722"/>
                  <a:pt x="180" y="722"/>
                </a:cubicBezTo>
                <a:cubicBezTo>
                  <a:pt x="201" y="722"/>
                  <a:pt x="201" y="722"/>
                  <a:pt x="201" y="722"/>
                </a:cubicBezTo>
                <a:cubicBezTo>
                  <a:pt x="216" y="720"/>
                  <a:pt x="216" y="720"/>
                  <a:pt x="216" y="720"/>
                </a:cubicBezTo>
                <a:cubicBezTo>
                  <a:pt x="220" y="720"/>
                  <a:pt x="220" y="720"/>
                  <a:pt x="220" y="720"/>
                </a:cubicBezTo>
                <a:cubicBezTo>
                  <a:pt x="258" y="725"/>
                  <a:pt x="258" y="725"/>
                  <a:pt x="258" y="725"/>
                </a:cubicBezTo>
                <a:cubicBezTo>
                  <a:pt x="259" y="725"/>
                  <a:pt x="259" y="725"/>
                  <a:pt x="259" y="725"/>
                </a:cubicBezTo>
                <a:cubicBezTo>
                  <a:pt x="259" y="726"/>
                  <a:pt x="259" y="726"/>
                  <a:pt x="259" y="726"/>
                </a:cubicBezTo>
                <a:cubicBezTo>
                  <a:pt x="275" y="736"/>
                  <a:pt x="275" y="736"/>
                  <a:pt x="275" y="736"/>
                </a:cubicBezTo>
                <a:cubicBezTo>
                  <a:pt x="275" y="736"/>
                  <a:pt x="275" y="736"/>
                  <a:pt x="275" y="736"/>
                </a:cubicBezTo>
                <a:cubicBezTo>
                  <a:pt x="275" y="736"/>
                  <a:pt x="275" y="736"/>
                  <a:pt x="275" y="736"/>
                </a:cubicBezTo>
                <a:cubicBezTo>
                  <a:pt x="275" y="737"/>
                  <a:pt x="275" y="737"/>
                  <a:pt x="275" y="737"/>
                </a:cubicBezTo>
                <a:cubicBezTo>
                  <a:pt x="288" y="747"/>
                  <a:pt x="288" y="747"/>
                  <a:pt x="288" y="747"/>
                </a:cubicBezTo>
                <a:cubicBezTo>
                  <a:pt x="288" y="748"/>
                  <a:pt x="288" y="748"/>
                  <a:pt x="288" y="748"/>
                </a:cubicBezTo>
                <a:cubicBezTo>
                  <a:pt x="298" y="759"/>
                  <a:pt x="298" y="759"/>
                  <a:pt x="298" y="759"/>
                </a:cubicBezTo>
                <a:cubicBezTo>
                  <a:pt x="308" y="763"/>
                  <a:pt x="308" y="763"/>
                  <a:pt x="308" y="763"/>
                </a:cubicBezTo>
                <a:cubicBezTo>
                  <a:pt x="325" y="761"/>
                  <a:pt x="325" y="761"/>
                  <a:pt x="325" y="761"/>
                </a:cubicBezTo>
                <a:cubicBezTo>
                  <a:pt x="325" y="739"/>
                  <a:pt x="325" y="739"/>
                  <a:pt x="325" y="739"/>
                </a:cubicBezTo>
                <a:cubicBezTo>
                  <a:pt x="317" y="724"/>
                  <a:pt x="317" y="724"/>
                  <a:pt x="317" y="724"/>
                </a:cubicBezTo>
                <a:cubicBezTo>
                  <a:pt x="316" y="724"/>
                  <a:pt x="316" y="724"/>
                  <a:pt x="316" y="724"/>
                </a:cubicBezTo>
                <a:cubicBezTo>
                  <a:pt x="316" y="723"/>
                  <a:pt x="316" y="723"/>
                  <a:pt x="316" y="723"/>
                </a:cubicBezTo>
                <a:cubicBezTo>
                  <a:pt x="309" y="696"/>
                  <a:pt x="309" y="696"/>
                  <a:pt x="309" y="696"/>
                </a:cubicBezTo>
                <a:cubicBezTo>
                  <a:pt x="324" y="681"/>
                  <a:pt x="324" y="681"/>
                  <a:pt x="324" y="681"/>
                </a:cubicBezTo>
                <a:cubicBezTo>
                  <a:pt x="325" y="680"/>
                  <a:pt x="325" y="680"/>
                  <a:pt x="325" y="680"/>
                </a:cubicBezTo>
                <a:cubicBezTo>
                  <a:pt x="326" y="680"/>
                  <a:pt x="326" y="680"/>
                  <a:pt x="326" y="680"/>
                </a:cubicBezTo>
                <a:cubicBezTo>
                  <a:pt x="339" y="678"/>
                  <a:pt x="339" y="678"/>
                  <a:pt x="339" y="678"/>
                </a:cubicBezTo>
                <a:cubicBezTo>
                  <a:pt x="353" y="678"/>
                  <a:pt x="353" y="678"/>
                  <a:pt x="353" y="678"/>
                </a:cubicBezTo>
                <a:cubicBezTo>
                  <a:pt x="357" y="672"/>
                  <a:pt x="357" y="672"/>
                  <a:pt x="357" y="672"/>
                </a:cubicBezTo>
                <a:cubicBezTo>
                  <a:pt x="348" y="661"/>
                  <a:pt x="348" y="661"/>
                  <a:pt x="348" y="661"/>
                </a:cubicBezTo>
                <a:cubicBezTo>
                  <a:pt x="318" y="641"/>
                  <a:pt x="318" y="641"/>
                  <a:pt x="318" y="641"/>
                </a:cubicBezTo>
                <a:cubicBezTo>
                  <a:pt x="310" y="629"/>
                  <a:pt x="310" y="629"/>
                  <a:pt x="310" y="629"/>
                </a:cubicBezTo>
                <a:cubicBezTo>
                  <a:pt x="309" y="628"/>
                  <a:pt x="309" y="628"/>
                  <a:pt x="309" y="628"/>
                </a:cubicBezTo>
                <a:cubicBezTo>
                  <a:pt x="308" y="627"/>
                  <a:pt x="308" y="627"/>
                  <a:pt x="308" y="627"/>
                </a:cubicBezTo>
                <a:cubicBezTo>
                  <a:pt x="309" y="625"/>
                  <a:pt x="309" y="625"/>
                  <a:pt x="309" y="625"/>
                </a:cubicBezTo>
                <a:cubicBezTo>
                  <a:pt x="318" y="609"/>
                  <a:pt x="318" y="609"/>
                  <a:pt x="318" y="609"/>
                </a:cubicBezTo>
                <a:cubicBezTo>
                  <a:pt x="320" y="611"/>
                  <a:pt x="320" y="611"/>
                  <a:pt x="320" y="611"/>
                </a:cubicBezTo>
                <a:cubicBezTo>
                  <a:pt x="341" y="617"/>
                  <a:pt x="341" y="617"/>
                  <a:pt x="341" y="617"/>
                </a:cubicBezTo>
                <a:cubicBezTo>
                  <a:pt x="397" y="614"/>
                  <a:pt x="397" y="614"/>
                  <a:pt x="397" y="614"/>
                </a:cubicBezTo>
                <a:cubicBezTo>
                  <a:pt x="398" y="615"/>
                  <a:pt x="398" y="615"/>
                  <a:pt x="398" y="615"/>
                </a:cubicBezTo>
                <a:cubicBezTo>
                  <a:pt x="399" y="615"/>
                  <a:pt x="399" y="615"/>
                  <a:pt x="399" y="615"/>
                </a:cubicBezTo>
                <a:cubicBezTo>
                  <a:pt x="415" y="621"/>
                  <a:pt x="415" y="621"/>
                  <a:pt x="415" y="621"/>
                </a:cubicBezTo>
                <a:cubicBezTo>
                  <a:pt x="425" y="611"/>
                  <a:pt x="425" y="611"/>
                  <a:pt x="425" y="611"/>
                </a:cubicBezTo>
                <a:cubicBezTo>
                  <a:pt x="420" y="579"/>
                  <a:pt x="420" y="579"/>
                  <a:pt x="420" y="579"/>
                </a:cubicBezTo>
                <a:cubicBezTo>
                  <a:pt x="400" y="566"/>
                  <a:pt x="400" y="566"/>
                  <a:pt x="400" y="566"/>
                </a:cubicBezTo>
                <a:cubicBezTo>
                  <a:pt x="383" y="556"/>
                  <a:pt x="378" y="533"/>
                  <a:pt x="381" y="495"/>
                </a:cubicBezTo>
                <a:cubicBezTo>
                  <a:pt x="364" y="487"/>
                  <a:pt x="364" y="487"/>
                  <a:pt x="364" y="487"/>
                </a:cubicBezTo>
                <a:cubicBezTo>
                  <a:pt x="362" y="486"/>
                  <a:pt x="362" y="486"/>
                  <a:pt x="362" y="486"/>
                </a:cubicBezTo>
                <a:cubicBezTo>
                  <a:pt x="360" y="486"/>
                  <a:pt x="360" y="486"/>
                  <a:pt x="360" y="486"/>
                </a:cubicBezTo>
                <a:cubicBezTo>
                  <a:pt x="360" y="484"/>
                  <a:pt x="360" y="484"/>
                  <a:pt x="360" y="484"/>
                </a:cubicBezTo>
                <a:cubicBezTo>
                  <a:pt x="360" y="483"/>
                  <a:pt x="360" y="483"/>
                  <a:pt x="360" y="483"/>
                </a:cubicBezTo>
                <a:cubicBezTo>
                  <a:pt x="357" y="455"/>
                  <a:pt x="357" y="455"/>
                  <a:pt x="357" y="455"/>
                </a:cubicBezTo>
                <a:cubicBezTo>
                  <a:pt x="380" y="347"/>
                  <a:pt x="380" y="347"/>
                  <a:pt x="380" y="347"/>
                </a:cubicBezTo>
                <a:cubicBezTo>
                  <a:pt x="371" y="316"/>
                  <a:pt x="365" y="295"/>
                  <a:pt x="365" y="284"/>
                </a:cubicBezTo>
                <a:cubicBezTo>
                  <a:pt x="363" y="252"/>
                  <a:pt x="363" y="252"/>
                  <a:pt x="363" y="252"/>
                </a:cubicBezTo>
                <a:cubicBezTo>
                  <a:pt x="365" y="218"/>
                  <a:pt x="365" y="218"/>
                  <a:pt x="365" y="218"/>
                </a:cubicBezTo>
                <a:cubicBezTo>
                  <a:pt x="365" y="215"/>
                  <a:pt x="365" y="215"/>
                  <a:pt x="365" y="215"/>
                </a:cubicBezTo>
                <a:cubicBezTo>
                  <a:pt x="367" y="213"/>
                  <a:pt x="367" y="213"/>
                  <a:pt x="367" y="213"/>
                </a:cubicBezTo>
                <a:cubicBezTo>
                  <a:pt x="367" y="213"/>
                  <a:pt x="367" y="213"/>
                  <a:pt x="367" y="213"/>
                </a:cubicBezTo>
                <a:cubicBezTo>
                  <a:pt x="389" y="198"/>
                  <a:pt x="389" y="198"/>
                  <a:pt x="389" y="198"/>
                </a:cubicBezTo>
                <a:cubicBezTo>
                  <a:pt x="389" y="181"/>
                  <a:pt x="389" y="181"/>
                  <a:pt x="389" y="181"/>
                </a:cubicBezTo>
                <a:cubicBezTo>
                  <a:pt x="389" y="176"/>
                  <a:pt x="386" y="170"/>
                  <a:pt x="381" y="162"/>
                </a:cubicBezTo>
                <a:cubicBezTo>
                  <a:pt x="367" y="147"/>
                  <a:pt x="367" y="147"/>
                  <a:pt x="367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4"/>
                  <a:pt x="365" y="144"/>
                  <a:pt x="365" y="144"/>
                </a:cubicBezTo>
                <a:cubicBezTo>
                  <a:pt x="363" y="118"/>
                  <a:pt x="363" y="118"/>
                  <a:pt x="363" y="118"/>
                </a:cubicBezTo>
                <a:cubicBezTo>
                  <a:pt x="363" y="117"/>
                  <a:pt x="363" y="117"/>
                  <a:pt x="363" y="117"/>
                </a:cubicBezTo>
                <a:cubicBezTo>
                  <a:pt x="362" y="116"/>
                  <a:pt x="362" y="116"/>
                  <a:pt x="362" y="116"/>
                </a:cubicBezTo>
                <a:cubicBezTo>
                  <a:pt x="364" y="115"/>
                  <a:pt x="364" y="115"/>
                  <a:pt x="364" y="115"/>
                </a:cubicBezTo>
                <a:cubicBezTo>
                  <a:pt x="364" y="114"/>
                  <a:pt x="364" y="114"/>
                  <a:pt x="364" y="114"/>
                </a:cubicBezTo>
                <a:cubicBezTo>
                  <a:pt x="392" y="79"/>
                  <a:pt x="392" y="79"/>
                  <a:pt x="392" y="79"/>
                </a:cubicBezTo>
                <a:cubicBezTo>
                  <a:pt x="392" y="65"/>
                  <a:pt x="392" y="65"/>
                  <a:pt x="392" y="65"/>
                </a:cubicBezTo>
                <a:cubicBezTo>
                  <a:pt x="383" y="49"/>
                  <a:pt x="383" y="49"/>
                  <a:pt x="383" y="49"/>
                </a:cubicBezTo>
                <a:cubicBezTo>
                  <a:pt x="383" y="48"/>
                  <a:pt x="383" y="48"/>
                  <a:pt x="383" y="48"/>
                </a:cubicBezTo>
                <a:cubicBezTo>
                  <a:pt x="382" y="46"/>
                  <a:pt x="382" y="46"/>
                  <a:pt x="382" y="46"/>
                </a:cubicBezTo>
                <a:cubicBezTo>
                  <a:pt x="396" y="29"/>
                  <a:pt x="396" y="29"/>
                  <a:pt x="396" y="29"/>
                </a:cubicBezTo>
                <a:cubicBezTo>
                  <a:pt x="396" y="28"/>
                  <a:pt x="396" y="28"/>
                  <a:pt x="396" y="28"/>
                </a:cubicBezTo>
                <a:cubicBezTo>
                  <a:pt x="397" y="28"/>
                  <a:pt x="397" y="28"/>
                  <a:pt x="397" y="28"/>
                </a:cubicBezTo>
                <a:cubicBezTo>
                  <a:pt x="412" y="16"/>
                  <a:pt x="412" y="16"/>
                  <a:pt x="412" y="16"/>
                </a:cubicBezTo>
                <a:cubicBezTo>
                  <a:pt x="410" y="2"/>
                  <a:pt x="410" y="2"/>
                  <a:pt x="410" y="2"/>
                </a:cubicBezTo>
                <a:cubicBezTo>
                  <a:pt x="402" y="2"/>
                  <a:pt x="402" y="2"/>
                  <a:pt x="402" y="2"/>
                </a:cubicBezTo>
                <a:cubicBezTo>
                  <a:pt x="391" y="0"/>
                  <a:pt x="391" y="0"/>
                  <a:pt x="391" y="0"/>
                </a:cubicBezTo>
                <a:cubicBezTo>
                  <a:pt x="384" y="26"/>
                  <a:pt x="384" y="26"/>
                  <a:pt x="384" y="26"/>
                </a:cubicBezTo>
                <a:cubicBezTo>
                  <a:pt x="381" y="24"/>
                  <a:pt x="381" y="24"/>
                  <a:pt x="381" y="24"/>
                </a:cubicBezTo>
                <a:cubicBezTo>
                  <a:pt x="354" y="14"/>
                  <a:pt x="354" y="14"/>
                  <a:pt x="354" y="14"/>
                </a:cubicBezTo>
                <a:cubicBezTo>
                  <a:pt x="337" y="11"/>
                  <a:pt x="337" y="11"/>
                  <a:pt x="337" y="11"/>
                </a:cubicBezTo>
                <a:cubicBezTo>
                  <a:pt x="343" y="37"/>
                  <a:pt x="343" y="37"/>
                  <a:pt x="343" y="37"/>
                </a:cubicBezTo>
                <a:cubicBezTo>
                  <a:pt x="320" y="45"/>
                  <a:pt x="320" y="45"/>
                  <a:pt x="320" y="45"/>
                </a:cubicBezTo>
                <a:cubicBezTo>
                  <a:pt x="286" y="62"/>
                  <a:pt x="286" y="62"/>
                  <a:pt x="286" y="62"/>
                </a:cubicBezTo>
                <a:cubicBezTo>
                  <a:pt x="276" y="76"/>
                  <a:pt x="276" y="76"/>
                  <a:pt x="276" y="76"/>
                </a:cubicBezTo>
                <a:cubicBezTo>
                  <a:pt x="276" y="76"/>
                  <a:pt x="276" y="76"/>
                  <a:pt x="276" y="76"/>
                </a:cubicBezTo>
                <a:cubicBezTo>
                  <a:pt x="276" y="77"/>
                  <a:pt x="276" y="77"/>
                  <a:pt x="276" y="77"/>
                </a:cubicBezTo>
                <a:cubicBezTo>
                  <a:pt x="275" y="77"/>
                  <a:pt x="275" y="77"/>
                  <a:pt x="275" y="77"/>
                </a:cubicBezTo>
                <a:cubicBezTo>
                  <a:pt x="257" y="93"/>
                  <a:pt x="257" y="93"/>
                  <a:pt x="257" y="93"/>
                </a:cubicBezTo>
                <a:cubicBezTo>
                  <a:pt x="253" y="118"/>
                  <a:pt x="253" y="118"/>
                  <a:pt x="253" y="118"/>
                </a:cubicBezTo>
                <a:cubicBezTo>
                  <a:pt x="253" y="121"/>
                  <a:pt x="253" y="121"/>
                  <a:pt x="253" y="121"/>
                </a:cubicBezTo>
                <a:cubicBezTo>
                  <a:pt x="244" y="156"/>
                  <a:pt x="244" y="156"/>
                  <a:pt x="244" y="156"/>
                </a:cubicBezTo>
                <a:cubicBezTo>
                  <a:pt x="245" y="156"/>
                  <a:pt x="245" y="156"/>
                  <a:pt x="245" y="156"/>
                </a:cubicBezTo>
                <a:cubicBezTo>
                  <a:pt x="241" y="173"/>
                  <a:pt x="241" y="173"/>
                  <a:pt x="241" y="173"/>
                </a:cubicBezTo>
                <a:cubicBezTo>
                  <a:pt x="241" y="174"/>
                  <a:pt x="241" y="174"/>
                  <a:pt x="241" y="174"/>
                </a:cubicBezTo>
                <a:cubicBezTo>
                  <a:pt x="241" y="174"/>
                  <a:pt x="241" y="174"/>
                  <a:pt x="241" y="174"/>
                </a:cubicBezTo>
                <a:cubicBezTo>
                  <a:pt x="240" y="175"/>
                  <a:pt x="240" y="175"/>
                  <a:pt x="240" y="17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7" y="191"/>
                  <a:pt x="227" y="191"/>
                  <a:pt x="227" y="191"/>
                </a:cubicBezTo>
                <a:cubicBezTo>
                  <a:pt x="227" y="192"/>
                  <a:pt x="227" y="192"/>
                  <a:pt x="227" y="192"/>
                </a:cubicBezTo>
                <a:cubicBezTo>
                  <a:pt x="226" y="193"/>
                  <a:pt x="226" y="193"/>
                  <a:pt x="226" y="193"/>
                </a:cubicBezTo>
                <a:cubicBezTo>
                  <a:pt x="225" y="193"/>
                  <a:pt x="225" y="193"/>
                  <a:pt x="225" y="193"/>
                </a:cubicBezTo>
                <a:cubicBezTo>
                  <a:pt x="200" y="196"/>
                  <a:pt x="200" y="196"/>
                  <a:pt x="200" y="196"/>
                </a:cubicBezTo>
                <a:cubicBezTo>
                  <a:pt x="200" y="196"/>
                  <a:pt x="200" y="196"/>
                  <a:pt x="200" y="196"/>
                </a:cubicBezTo>
                <a:cubicBezTo>
                  <a:pt x="200" y="198"/>
                  <a:pt x="200" y="198"/>
                  <a:pt x="200" y="198"/>
                </a:cubicBezTo>
                <a:cubicBezTo>
                  <a:pt x="199" y="196"/>
                  <a:pt x="199" y="196"/>
                  <a:pt x="199" y="196"/>
                </a:cubicBezTo>
                <a:cubicBezTo>
                  <a:pt x="199" y="196"/>
                  <a:pt x="199" y="196"/>
                  <a:pt x="199" y="196"/>
                </a:cubicBezTo>
                <a:cubicBezTo>
                  <a:pt x="161" y="184"/>
                  <a:pt x="161" y="184"/>
                  <a:pt x="161" y="184"/>
                </a:cubicBezTo>
                <a:cubicBezTo>
                  <a:pt x="159" y="183"/>
                  <a:pt x="159" y="183"/>
                  <a:pt x="159" y="183"/>
                </a:cubicBezTo>
                <a:lnTo>
                  <a:pt x="142" y="174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7"/>
          <p:cNvSpPr/>
          <p:nvPr/>
        </p:nvSpPr>
        <p:spPr>
          <a:xfrm>
            <a:off x="3105000" y="2443320"/>
            <a:ext cx="271440" cy="576000"/>
          </a:xfrm>
          <a:custGeom>
            <a:avLst/>
            <a:gdLst/>
            <a:ahLst/>
            <a:rect l="l" t="t" r="r" b="b"/>
            <a:pathLst>
              <a:path w="286" h="625">
                <a:moveTo>
                  <a:pt x="266" y="30"/>
                </a:moveTo>
                <a:cubicBezTo>
                  <a:pt x="271" y="25"/>
                  <a:pt x="271" y="25"/>
                  <a:pt x="271" y="25"/>
                </a:cubicBezTo>
                <a:cubicBezTo>
                  <a:pt x="263" y="8"/>
                  <a:pt x="263" y="8"/>
                  <a:pt x="263" y="8"/>
                </a:cubicBezTo>
                <a:cubicBezTo>
                  <a:pt x="256" y="0"/>
                  <a:pt x="256" y="0"/>
                  <a:pt x="256" y="0"/>
                </a:cubicBezTo>
                <a:cubicBezTo>
                  <a:pt x="247" y="14"/>
                  <a:pt x="247" y="14"/>
                  <a:pt x="247" y="14"/>
                </a:cubicBezTo>
                <a:cubicBezTo>
                  <a:pt x="247" y="15"/>
                  <a:pt x="247" y="15"/>
                  <a:pt x="247" y="15"/>
                </a:cubicBezTo>
                <a:cubicBezTo>
                  <a:pt x="247" y="15"/>
                  <a:pt x="247" y="15"/>
                  <a:pt x="247" y="15"/>
                </a:cubicBezTo>
                <a:cubicBezTo>
                  <a:pt x="247" y="15"/>
                  <a:pt x="247" y="15"/>
                  <a:pt x="247" y="15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1"/>
                  <a:pt x="233" y="31"/>
                  <a:pt x="233" y="31"/>
                </a:cubicBezTo>
                <a:cubicBezTo>
                  <a:pt x="231" y="31"/>
                  <a:pt x="231" y="31"/>
                  <a:pt x="231" y="31"/>
                </a:cubicBezTo>
                <a:cubicBezTo>
                  <a:pt x="205" y="39"/>
                  <a:pt x="205" y="39"/>
                  <a:pt x="205" y="39"/>
                </a:cubicBezTo>
                <a:cubicBezTo>
                  <a:pt x="203" y="39"/>
                  <a:pt x="203" y="39"/>
                  <a:pt x="203" y="39"/>
                </a:cubicBezTo>
                <a:cubicBezTo>
                  <a:pt x="179" y="35"/>
                  <a:pt x="179" y="35"/>
                  <a:pt x="179" y="35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62" y="50"/>
                  <a:pt x="162" y="50"/>
                  <a:pt x="162" y="50"/>
                </a:cubicBezTo>
                <a:cubicBezTo>
                  <a:pt x="162" y="50"/>
                  <a:pt x="162" y="50"/>
                  <a:pt x="162" y="50"/>
                </a:cubicBezTo>
                <a:cubicBezTo>
                  <a:pt x="161" y="53"/>
                  <a:pt x="161" y="53"/>
                  <a:pt x="161" y="53"/>
                </a:cubicBezTo>
                <a:cubicBezTo>
                  <a:pt x="149" y="60"/>
                  <a:pt x="149" y="60"/>
                  <a:pt x="149" y="60"/>
                </a:cubicBezTo>
                <a:cubicBezTo>
                  <a:pt x="147" y="61"/>
                  <a:pt x="147" y="61"/>
                  <a:pt x="147" y="61"/>
                </a:cubicBezTo>
                <a:cubicBezTo>
                  <a:pt x="145" y="61"/>
                  <a:pt x="145" y="61"/>
                  <a:pt x="145" y="61"/>
                </a:cubicBezTo>
                <a:cubicBezTo>
                  <a:pt x="124" y="59"/>
                  <a:pt x="124" y="59"/>
                  <a:pt x="124" y="59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82"/>
                  <a:pt x="123" y="82"/>
                  <a:pt x="123" y="82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0" y="99"/>
                  <a:pt x="110" y="99"/>
                  <a:pt x="110" y="99"/>
                </a:cubicBezTo>
                <a:cubicBezTo>
                  <a:pt x="109" y="99"/>
                  <a:pt x="109" y="99"/>
                  <a:pt x="109" y="99"/>
                </a:cubicBezTo>
                <a:cubicBezTo>
                  <a:pt x="89" y="119"/>
                  <a:pt x="89" y="119"/>
                  <a:pt x="89" y="119"/>
                </a:cubicBezTo>
                <a:cubicBezTo>
                  <a:pt x="88" y="119"/>
                  <a:pt x="88" y="119"/>
                  <a:pt x="88" y="119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66" y="124"/>
                  <a:pt x="66" y="124"/>
                  <a:pt x="66" y="124"/>
                </a:cubicBezTo>
                <a:cubicBezTo>
                  <a:pt x="52" y="139"/>
                  <a:pt x="52" y="139"/>
                  <a:pt x="52" y="139"/>
                </a:cubicBezTo>
                <a:cubicBezTo>
                  <a:pt x="55" y="157"/>
                  <a:pt x="55" y="157"/>
                  <a:pt x="55" y="157"/>
                </a:cubicBezTo>
                <a:cubicBezTo>
                  <a:pt x="55" y="161"/>
                  <a:pt x="55" y="161"/>
                  <a:pt x="55" y="161"/>
                </a:cubicBezTo>
                <a:cubicBezTo>
                  <a:pt x="52" y="162"/>
                  <a:pt x="52" y="162"/>
                  <a:pt x="52" y="162"/>
                </a:cubicBezTo>
                <a:cubicBezTo>
                  <a:pt x="36" y="177"/>
                  <a:pt x="36" y="177"/>
                  <a:pt x="36" y="177"/>
                </a:cubicBezTo>
                <a:cubicBezTo>
                  <a:pt x="28" y="188"/>
                  <a:pt x="28" y="188"/>
                  <a:pt x="28" y="188"/>
                </a:cubicBezTo>
                <a:cubicBezTo>
                  <a:pt x="34" y="201"/>
                  <a:pt x="34" y="201"/>
                  <a:pt x="34" y="201"/>
                </a:cubicBezTo>
                <a:cubicBezTo>
                  <a:pt x="34" y="202"/>
                  <a:pt x="34" y="202"/>
                  <a:pt x="34" y="202"/>
                </a:cubicBezTo>
                <a:cubicBezTo>
                  <a:pt x="34" y="204"/>
                  <a:pt x="34" y="204"/>
                  <a:pt x="34" y="204"/>
                </a:cubicBezTo>
                <a:cubicBezTo>
                  <a:pt x="34" y="224"/>
                  <a:pt x="34" y="224"/>
                  <a:pt x="34" y="224"/>
                </a:cubicBezTo>
                <a:cubicBezTo>
                  <a:pt x="34" y="224"/>
                  <a:pt x="34" y="224"/>
                  <a:pt x="34" y="224"/>
                </a:cubicBezTo>
                <a:cubicBezTo>
                  <a:pt x="34" y="225"/>
                  <a:pt x="34" y="225"/>
                  <a:pt x="34" y="225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7" y="261"/>
                  <a:pt x="7" y="261"/>
                  <a:pt x="7" y="261"/>
                </a:cubicBezTo>
                <a:cubicBezTo>
                  <a:pt x="9" y="282"/>
                  <a:pt x="9" y="282"/>
                  <a:pt x="9" y="282"/>
                </a:cubicBezTo>
                <a:cubicBezTo>
                  <a:pt x="23" y="294"/>
                  <a:pt x="23" y="294"/>
                  <a:pt x="23" y="294"/>
                </a:cubicBezTo>
                <a:cubicBezTo>
                  <a:pt x="23" y="295"/>
                  <a:pt x="23" y="295"/>
                  <a:pt x="23" y="295"/>
                </a:cubicBezTo>
                <a:cubicBezTo>
                  <a:pt x="23" y="295"/>
                  <a:pt x="23" y="295"/>
                  <a:pt x="23" y="295"/>
                </a:cubicBezTo>
                <a:cubicBezTo>
                  <a:pt x="29" y="306"/>
                  <a:pt x="32" y="314"/>
                  <a:pt x="32" y="322"/>
                </a:cubicBezTo>
                <a:cubicBezTo>
                  <a:pt x="32" y="345"/>
                  <a:pt x="32" y="345"/>
                  <a:pt x="32" y="345"/>
                </a:cubicBezTo>
                <a:cubicBezTo>
                  <a:pt x="31" y="345"/>
                  <a:pt x="31" y="345"/>
                  <a:pt x="31" y="345"/>
                </a:cubicBezTo>
                <a:cubicBezTo>
                  <a:pt x="30" y="346"/>
                  <a:pt x="30" y="346"/>
                  <a:pt x="30" y="346"/>
                </a:cubicBezTo>
                <a:cubicBezTo>
                  <a:pt x="9" y="362"/>
                  <a:pt x="9" y="362"/>
                  <a:pt x="9" y="362"/>
                </a:cubicBezTo>
                <a:cubicBezTo>
                  <a:pt x="7" y="393"/>
                  <a:pt x="7" y="393"/>
                  <a:pt x="7" y="393"/>
                </a:cubicBezTo>
                <a:cubicBezTo>
                  <a:pt x="9" y="425"/>
                  <a:pt x="9" y="425"/>
                  <a:pt x="9" y="425"/>
                </a:cubicBezTo>
                <a:cubicBezTo>
                  <a:pt x="9" y="436"/>
                  <a:pt x="13" y="456"/>
                  <a:pt x="24" y="485"/>
                </a:cubicBezTo>
                <a:cubicBezTo>
                  <a:pt x="24" y="486"/>
                  <a:pt x="24" y="486"/>
                  <a:pt x="24" y="486"/>
                </a:cubicBezTo>
                <a:cubicBezTo>
                  <a:pt x="24" y="488"/>
                  <a:pt x="24" y="488"/>
                  <a:pt x="24" y="488"/>
                </a:cubicBezTo>
                <a:cubicBezTo>
                  <a:pt x="0" y="596"/>
                  <a:pt x="0" y="596"/>
                  <a:pt x="0" y="596"/>
                </a:cubicBezTo>
                <a:cubicBezTo>
                  <a:pt x="3" y="617"/>
                  <a:pt x="3" y="617"/>
                  <a:pt x="3" y="617"/>
                </a:cubicBezTo>
                <a:cubicBezTo>
                  <a:pt x="18" y="625"/>
                  <a:pt x="18" y="625"/>
                  <a:pt x="18" y="625"/>
                </a:cubicBezTo>
                <a:cubicBezTo>
                  <a:pt x="44" y="599"/>
                  <a:pt x="44" y="599"/>
                  <a:pt x="44" y="599"/>
                </a:cubicBezTo>
                <a:cubicBezTo>
                  <a:pt x="44" y="599"/>
                  <a:pt x="44" y="599"/>
                  <a:pt x="44" y="599"/>
                </a:cubicBezTo>
                <a:cubicBezTo>
                  <a:pt x="45" y="599"/>
                  <a:pt x="45" y="599"/>
                  <a:pt x="45" y="599"/>
                </a:cubicBezTo>
                <a:cubicBezTo>
                  <a:pt x="126" y="568"/>
                  <a:pt x="126" y="568"/>
                  <a:pt x="126" y="568"/>
                </a:cubicBezTo>
                <a:cubicBezTo>
                  <a:pt x="147" y="549"/>
                  <a:pt x="147" y="549"/>
                  <a:pt x="147" y="549"/>
                </a:cubicBezTo>
                <a:cubicBezTo>
                  <a:pt x="149" y="547"/>
                  <a:pt x="149" y="547"/>
                  <a:pt x="149" y="547"/>
                </a:cubicBezTo>
                <a:cubicBezTo>
                  <a:pt x="150" y="548"/>
                  <a:pt x="150" y="548"/>
                  <a:pt x="150" y="548"/>
                </a:cubicBezTo>
                <a:cubicBezTo>
                  <a:pt x="152" y="548"/>
                  <a:pt x="152" y="548"/>
                  <a:pt x="152" y="548"/>
                </a:cubicBezTo>
                <a:cubicBezTo>
                  <a:pt x="199" y="552"/>
                  <a:pt x="199" y="552"/>
                  <a:pt x="199" y="552"/>
                </a:cubicBezTo>
                <a:cubicBezTo>
                  <a:pt x="205" y="552"/>
                  <a:pt x="219" y="547"/>
                  <a:pt x="239" y="538"/>
                </a:cubicBezTo>
                <a:cubicBezTo>
                  <a:pt x="239" y="516"/>
                  <a:pt x="239" y="516"/>
                  <a:pt x="239" y="516"/>
                </a:cubicBezTo>
                <a:cubicBezTo>
                  <a:pt x="240" y="515"/>
                  <a:pt x="240" y="515"/>
                  <a:pt x="240" y="515"/>
                </a:cubicBezTo>
                <a:cubicBezTo>
                  <a:pt x="241" y="515"/>
                  <a:pt x="241" y="515"/>
                  <a:pt x="241" y="515"/>
                </a:cubicBezTo>
                <a:cubicBezTo>
                  <a:pt x="254" y="503"/>
                  <a:pt x="254" y="503"/>
                  <a:pt x="254" y="503"/>
                </a:cubicBezTo>
                <a:cubicBezTo>
                  <a:pt x="251" y="490"/>
                  <a:pt x="251" y="490"/>
                  <a:pt x="251" y="490"/>
                </a:cubicBezTo>
                <a:cubicBezTo>
                  <a:pt x="251" y="488"/>
                  <a:pt x="251" y="488"/>
                  <a:pt x="251" y="488"/>
                </a:cubicBezTo>
                <a:cubicBezTo>
                  <a:pt x="251" y="487"/>
                  <a:pt x="251" y="487"/>
                  <a:pt x="251" y="487"/>
                </a:cubicBezTo>
                <a:cubicBezTo>
                  <a:pt x="251" y="485"/>
                  <a:pt x="251" y="485"/>
                  <a:pt x="251" y="485"/>
                </a:cubicBezTo>
                <a:cubicBezTo>
                  <a:pt x="252" y="484"/>
                  <a:pt x="252" y="484"/>
                  <a:pt x="252" y="484"/>
                </a:cubicBezTo>
                <a:cubicBezTo>
                  <a:pt x="256" y="480"/>
                  <a:pt x="256" y="476"/>
                  <a:pt x="253" y="473"/>
                </a:cubicBezTo>
                <a:cubicBezTo>
                  <a:pt x="250" y="466"/>
                  <a:pt x="251" y="458"/>
                  <a:pt x="256" y="448"/>
                </a:cubicBezTo>
                <a:cubicBezTo>
                  <a:pt x="261" y="441"/>
                  <a:pt x="261" y="441"/>
                  <a:pt x="261" y="441"/>
                </a:cubicBezTo>
                <a:cubicBezTo>
                  <a:pt x="261" y="441"/>
                  <a:pt x="261" y="441"/>
                  <a:pt x="261" y="441"/>
                </a:cubicBezTo>
                <a:cubicBezTo>
                  <a:pt x="260" y="426"/>
                  <a:pt x="260" y="426"/>
                  <a:pt x="260" y="426"/>
                </a:cubicBezTo>
                <a:cubicBezTo>
                  <a:pt x="244" y="407"/>
                  <a:pt x="244" y="407"/>
                  <a:pt x="244" y="407"/>
                </a:cubicBezTo>
                <a:cubicBezTo>
                  <a:pt x="237" y="402"/>
                  <a:pt x="236" y="395"/>
                  <a:pt x="240" y="387"/>
                </a:cubicBezTo>
                <a:cubicBezTo>
                  <a:pt x="242" y="381"/>
                  <a:pt x="245" y="374"/>
                  <a:pt x="251" y="369"/>
                </a:cubicBezTo>
                <a:cubicBezTo>
                  <a:pt x="255" y="351"/>
                  <a:pt x="255" y="351"/>
                  <a:pt x="255" y="351"/>
                </a:cubicBezTo>
                <a:cubicBezTo>
                  <a:pt x="255" y="351"/>
                  <a:pt x="255" y="351"/>
                  <a:pt x="255" y="351"/>
                </a:cubicBezTo>
                <a:cubicBezTo>
                  <a:pt x="255" y="351"/>
                  <a:pt x="255" y="351"/>
                  <a:pt x="255" y="351"/>
                </a:cubicBezTo>
                <a:cubicBezTo>
                  <a:pt x="266" y="326"/>
                  <a:pt x="266" y="326"/>
                  <a:pt x="266" y="326"/>
                </a:cubicBezTo>
                <a:cubicBezTo>
                  <a:pt x="270" y="314"/>
                  <a:pt x="270" y="314"/>
                  <a:pt x="270" y="314"/>
                </a:cubicBezTo>
                <a:cubicBezTo>
                  <a:pt x="286" y="283"/>
                  <a:pt x="286" y="283"/>
                  <a:pt x="286" y="283"/>
                </a:cubicBezTo>
                <a:cubicBezTo>
                  <a:pt x="275" y="263"/>
                  <a:pt x="275" y="263"/>
                  <a:pt x="275" y="263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0" y="243"/>
                  <a:pt x="240" y="243"/>
                  <a:pt x="240" y="243"/>
                </a:cubicBezTo>
                <a:cubicBezTo>
                  <a:pt x="240" y="240"/>
                  <a:pt x="240" y="240"/>
                  <a:pt x="240" y="240"/>
                </a:cubicBezTo>
                <a:cubicBezTo>
                  <a:pt x="240" y="240"/>
                  <a:pt x="240" y="240"/>
                  <a:pt x="240" y="240"/>
                </a:cubicBezTo>
                <a:cubicBezTo>
                  <a:pt x="234" y="224"/>
                  <a:pt x="234" y="224"/>
                  <a:pt x="234" y="224"/>
                </a:cubicBezTo>
                <a:cubicBezTo>
                  <a:pt x="234" y="223"/>
                  <a:pt x="234" y="223"/>
                  <a:pt x="234" y="223"/>
                </a:cubicBezTo>
                <a:cubicBezTo>
                  <a:pt x="234" y="220"/>
                  <a:pt x="234" y="220"/>
                  <a:pt x="234" y="220"/>
                </a:cubicBezTo>
                <a:cubicBezTo>
                  <a:pt x="237" y="192"/>
                  <a:pt x="237" y="192"/>
                  <a:pt x="237" y="192"/>
                </a:cubicBezTo>
                <a:cubicBezTo>
                  <a:pt x="237" y="192"/>
                  <a:pt x="237" y="192"/>
                  <a:pt x="237" y="192"/>
                </a:cubicBezTo>
                <a:cubicBezTo>
                  <a:pt x="237" y="191"/>
                  <a:pt x="237" y="191"/>
                  <a:pt x="237" y="191"/>
                </a:cubicBezTo>
                <a:cubicBezTo>
                  <a:pt x="244" y="170"/>
                  <a:pt x="244" y="170"/>
                  <a:pt x="244" y="170"/>
                </a:cubicBezTo>
                <a:cubicBezTo>
                  <a:pt x="243" y="162"/>
                  <a:pt x="244" y="157"/>
                  <a:pt x="247" y="153"/>
                </a:cubicBezTo>
                <a:cubicBezTo>
                  <a:pt x="250" y="151"/>
                  <a:pt x="253" y="149"/>
                  <a:pt x="256" y="149"/>
                </a:cubicBezTo>
                <a:cubicBezTo>
                  <a:pt x="276" y="145"/>
                  <a:pt x="276" y="145"/>
                  <a:pt x="276" y="145"/>
                </a:cubicBezTo>
                <a:cubicBezTo>
                  <a:pt x="281" y="134"/>
                  <a:pt x="281" y="134"/>
                  <a:pt x="281" y="134"/>
                </a:cubicBezTo>
                <a:cubicBezTo>
                  <a:pt x="286" y="99"/>
                  <a:pt x="286" y="99"/>
                  <a:pt x="286" y="99"/>
                </a:cubicBezTo>
                <a:cubicBezTo>
                  <a:pt x="282" y="86"/>
                  <a:pt x="282" y="86"/>
                  <a:pt x="282" y="86"/>
                </a:cubicBezTo>
                <a:cubicBezTo>
                  <a:pt x="264" y="82"/>
                  <a:pt x="264" y="82"/>
                  <a:pt x="264" y="82"/>
                </a:cubicBezTo>
                <a:cubicBezTo>
                  <a:pt x="263" y="82"/>
                  <a:pt x="263" y="82"/>
                  <a:pt x="263" y="82"/>
                </a:cubicBezTo>
                <a:cubicBezTo>
                  <a:pt x="263" y="82"/>
                  <a:pt x="263" y="82"/>
                  <a:pt x="263" y="82"/>
                </a:cubicBezTo>
                <a:cubicBezTo>
                  <a:pt x="242" y="72"/>
                  <a:pt x="242" y="72"/>
                  <a:pt x="242" y="72"/>
                </a:cubicBezTo>
                <a:cubicBezTo>
                  <a:pt x="241" y="71"/>
                  <a:pt x="241" y="71"/>
                  <a:pt x="241" y="71"/>
                </a:cubicBezTo>
                <a:cubicBezTo>
                  <a:pt x="241" y="68"/>
                  <a:pt x="241" y="68"/>
                  <a:pt x="241" y="68"/>
                </a:cubicBezTo>
                <a:cubicBezTo>
                  <a:pt x="240" y="67"/>
                  <a:pt x="240" y="67"/>
                  <a:pt x="240" y="67"/>
                </a:cubicBezTo>
                <a:cubicBezTo>
                  <a:pt x="239" y="42"/>
                  <a:pt x="239" y="42"/>
                  <a:pt x="239" y="42"/>
                </a:cubicBezTo>
                <a:cubicBezTo>
                  <a:pt x="239" y="40"/>
                  <a:pt x="239" y="40"/>
                  <a:pt x="239" y="40"/>
                </a:cubicBezTo>
                <a:cubicBezTo>
                  <a:pt x="239" y="37"/>
                  <a:pt x="239" y="37"/>
                  <a:pt x="239" y="37"/>
                </a:cubicBezTo>
                <a:lnTo>
                  <a:pt x="266" y="3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8"/>
          <p:cNvSpPr/>
          <p:nvPr/>
        </p:nvSpPr>
        <p:spPr>
          <a:xfrm>
            <a:off x="3036960" y="3424320"/>
            <a:ext cx="431640" cy="488880"/>
          </a:xfrm>
          <a:custGeom>
            <a:avLst/>
            <a:gdLst/>
            <a:ahLst/>
            <a:rect l="l" t="t" r="r" b="b"/>
            <a:pathLst>
              <a:path w="457" h="529">
                <a:moveTo>
                  <a:pt x="395" y="90"/>
                </a:moveTo>
                <a:cubicBezTo>
                  <a:pt x="396" y="89"/>
                  <a:pt x="396" y="89"/>
                  <a:pt x="396" y="89"/>
                </a:cubicBezTo>
                <a:cubicBezTo>
                  <a:pt x="394" y="89"/>
                  <a:pt x="394" y="89"/>
                  <a:pt x="394" y="89"/>
                </a:cubicBezTo>
                <a:cubicBezTo>
                  <a:pt x="394" y="87"/>
                  <a:pt x="394" y="87"/>
                  <a:pt x="394" y="87"/>
                </a:cubicBezTo>
                <a:cubicBezTo>
                  <a:pt x="386" y="71"/>
                  <a:pt x="386" y="71"/>
                  <a:pt x="386" y="71"/>
                </a:cubicBezTo>
                <a:cubicBezTo>
                  <a:pt x="385" y="70"/>
                  <a:pt x="385" y="70"/>
                  <a:pt x="385" y="70"/>
                </a:cubicBezTo>
                <a:cubicBezTo>
                  <a:pt x="385" y="68"/>
                  <a:pt x="385" y="68"/>
                  <a:pt x="385" y="68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7" y="40"/>
                  <a:pt x="384" y="37"/>
                  <a:pt x="377" y="32"/>
                </a:cubicBezTo>
                <a:cubicBezTo>
                  <a:pt x="371" y="32"/>
                  <a:pt x="371" y="32"/>
                  <a:pt x="371" y="32"/>
                </a:cubicBezTo>
                <a:cubicBezTo>
                  <a:pt x="361" y="45"/>
                  <a:pt x="361" y="45"/>
                  <a:pt x="361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33" y="58"/>
                  <a:pt x="333" y="58"/>
                  <a:pt x="333" y="58"/>
                </a:cubicBezTo>
                <a:cubicBezTo>
                  <a:pt x="329" y="40"/>
                  <a:pt x="329" y="40"/>
                  <a:pt x="329" y="40"/>
                </a:cubicBezTo>
                <a:cubicBezTo>
                  <a:pt x="329" y="38"/>
                  <a:pt x="329" y="38"/>
                  <a:pt x="329" y="38"/>
                </a:cubicBezTo>
                <a:cubicBezTo>
                  <a:pt x="331" y="29"/>
                  <a:pt x="331" y="29"/>
                  <a:pt x="331" y="29"/>
                </a:cubicBezTo>
                <a:cubicBezTo>
                  <a:pt x="329" y="19"/>
                  <a:pt x="329" y="19"/>
                  <a:pt x="329" y="19"/>
                </a:cubicBezTo>
                <a:cubicBezTo>
                  <a:pt x="326" y="18"/>
                  <a:pt x="326" y="18"/>
                  <a:pt x="326" y="18"/>
                </a:cubicBezTo>
                <a:cubicBezTo>
                  <a:pt x="321" y="26"/>
                  <a:pt x="321" y="26"/>
                  <a:pt x="321" y="26"/>
                </a:cubicBezTo>
                <a:cubicBezTo>
                  <a:pt x="320" y="26"/>
                  <a:pt x="320" y="26"/>
                  <a:pt x="320" y="26"/>
                </a:cubicBezTo>
                <a:cubicBezTo>
                  <a:pt x="320" y="27"/>
                  <a:pt x="320" y="27"/>
                  <a:pt x="320" y="27"/>
                </a:cubicBezTo>
                <a:cubicBezTo>
                  <a:pt x="288" y="56"/>
                  <a:pt x="288" y="56"/>
                  <a:pt x="288" y="56"/>
                </a:cubicBezTo>
                <a:cubicBezTo>
                  <a:pt x="287" y="58"/>
                  <a:pt x="287" y="58"/>
                  <a:pt x="287" y="58"/>
                </a:cubicBezTo>
                <a:cubicBezTo>
                  <a:pt x="286" y="58"/>
                  <a:pt x="286" y="58"/>
                  <a:pt x="286" y="58"/>
                </a:cubicBezTo>
                <a:cubicBezTo>
                  <a:pt x="283" y="58"/>
                  <a:pt x="283" y="58"/>
                  <a:pt x="283" y="58"/>
                </a:cubicBezTo>
                <a:cubicBezTo>
                  <a:pt x="281" y="58"/>
                  <a:pt x="281" y="58"/>
                  <a:pt x="281" y="58"/>
                </a:cubicBezTo>
                <a:cubicBezTo>
                  <a:pt x="272" y="53"/>
                  <a:pt x="272" y="53"/>
                  <a:pt x="272" y="53"/>
                </a:cubicBezTo>
                <a:cubicBezTo>
                  <a:pt x="271" y="52"/>
                  <a:pt x="271" y="52"/>
                  <a:pt x="271" y="52"/>
                </a:cubicBezTo>
                <a:cubicBezTo>
                  <a:pt x="260" y="43"/>
                  <a:pt x="260" y="43"/>
                  <a:pt x="260" y="43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2" y="36"/>
                  <a:pt x="242" y="36"/>
                  <a:pt x="242" y="36"/>
                </a:cubicBezTo>
                <a:cubicBezTo>
                  <a:pt x="232" y="28"/>
                  <a:pt x="232" y="28"/>
                  <a:pt x="232" y="28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6" y="21"/>
                  <a:pt x="196" y="21"/>
                  <a:pt x="196" y="21"/>
                </a:cubicBezTo>
                <a:cubicBezTo>
                  <a:pt x="173" y="9"/>
                  <a:pt x="173" y="9"/>
                  <a:pt x="173" y="9"/>
                </a:cubicBezTo>
                <a:cubicBezTo>
                  <a:pt x="173" y="10"/>
                  <a:pt x="173" y="10"/>
                  <a:pt x="173" y="10"/>
                </a:cubicBezTo>
                <a:cubicBezTo>
                  <a:pt x="155" y="2"/>
                  <a:pt x="155" y="2"/>
                  <a:pt x="155" y="2"/>
                </a:cubicBezTo>
                <a:cubicBezTo>
                  <a:pt x="132" y="0"/>
                  <a:pt x="132" y="0"/>
                  <a:pt x="132" y="0"/>
                </a:cubicBezTo>
                <a:cubicBezTo>
                  <a:pt x="123" y="1"/>
                  <a:pt x="123" y="1"/>
                  <a:pt x="123" y="1"/>
                </a:cubicBezTo>
                <a:cubicBezTo>
                  <a:pt x="130" y="40"/>
                  <a:pt x="130" y="40"/>
                  <a:pt x="130" y="40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04" y="42"/>
                  <a:pt x="104" y="42"/>
                  <a:pt x="104" y="42"/>
                </a:cubicBezTo>
                <a:cubicBezTo>
                  <a:pt x="91" y="42"/>
                  <a:pt x="91" y="42"/>
                  <a:pt x="91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78" y="33"/>
                  <a:pt x="78" y="33"/>
                  <a:pt x="78" y="33"/>
                </a:cubicBezTo>
                <a:cubicBezTo>
                  <a:pt x="57" y="43"/>
                  <a:pt x="57" y="43"/>
                  <a:pt x="57" y="43"/>
                </a:cubicBezTo>
                <a:cubicBezTo>
                  <a:pt x="38" y="68"/>
                  <a:pt x="38" y="68"/>
                  <a:pt x="38" y="6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6" y="163"/>
                  <a:pt x="26" y="163"/>
                  <a:pt x="26" y="163"/>
                </a:cubicBezTo>
                <a:cubicBezTo>
                  <a:pt x="33" y="192"/>
                  <a:pt x="33" y="192"/>
                  <a:pt x="33" y="192"/>
                </a:cubicBezTo>
                <a:cubicBezTo>
                  <a:pt x="34" y="195"/>
                  <a:pt x="34" y="196"/>
                  <a:pt x="33" y="197"/>
                </a:cubicBezTo>
                <a:cubicBezTo>
                  <a:pt x="30" y="198"/>
                  <a:pt x="30" y="198"/>
                  <a:pt x="30" y="198"/>
                </a:cubicBezTo>
                <a:cubicBezTo>
                  <a:pt x="25" y="201"/>
                  <a:pt x="23" y="209"/>
                  <a:pt x="24" y="219"/>
                </a:cubicBezTo>
                <a:cubicBezTo>
                  <a:pt x="34" y="262"/>
                  <a:pt x="34" y="262"/>
                  <a:pt x="34" y="262"/>
                </a:cubicBezTo>
                <a:cubicBezTo>
                  <a:pt x="31" y="265"/>
                  <a:pt x="31" y="265"/>
                  <a:pt x="31" y="265"/>
                </a:cubicBezTo>
                <a:cubicBezTo>
                  <a:pt x="12" y="275"/>
                  <a:pt x="3" y="284"/>
                  <a:pt x="2" y="288"/>
                </a:cubicBezTo>
                <a:cubicBezTo>
                  <a:pt x="0" y="303"/>
                  <a:pt x="0" y="303"/>
                  <a:pt x="0" y="303"/>
                </a:cubicBezTo>
                <a:cubicBezTo>
                  <a:pt x="18" y="295"/>
                  <a:pt x="18" y="295"/>
                  <a:pt x="18" y="295"/>
                </a:cubicBezTo>
                <a:cubicBezTo>
                  <a:pt x="19" y="294"/>
                  <a:pt x="19" y="294"/>
                  <a:pt x="19" y="294"/>
                </a:cubicBezTo>
                <a:cubicBezTo>
                  <a:pt x="20" y="294"/>
                  <a:pt x="20" y="294"/>
                  <a:pt x="20" y="294"/>
                </a:cubicBezTo>
                <a:cubicBezTo>
                  <a:pt x="32" y="294"/>
                  <a:pt x="40" y="298"/>
                  <a:pt x="41" y="309"/>
                </a:cubicBezTo>
                <a:cubicBezTo>
                  <a:pt x="44" y="332"/>
                  <a:pt x="44" y="332"/>
                  <a:pt x="44" y="332"/>
                </a:cubicBezTo>
                <a:cubicBezTo>
                  <a:pt x="43" y="335"/>
                  <a:pt x="43" y="335"/>
                  <a:pt x="43" y="335"/>
                </a:cubicBezTo>
                <a:cubicBezTo>
                  <a:pt x="41" y="337"/>
                  <a:pt x="41" y="337"/>
                  <a:pt x="41" y="337"/>
                </a:cubicBezTo>
                <a:cubicBezTo>
                  <a:pt x="38" y="341"/>
                  <a:pt x="35" y="344"/>
                  <a:pt x="35" y="348"/>
                </a:cubicBezTo>
                <a:cubicBezTo>
                  <a:pt x="32" y="372"/>
                  <a:pt x="32" y="372"/>
                  <a:pt x="32" y="372"/>
                </a:cubicBezTo>
                <a:cubicBezTo>
                  <a:pt x="33" y="381"/>
                  <a:pt x="37" y="387"/>
                  <a:pt x="41" y="390"/>
                </a:cubicBezTo>
                <a:cubicBezTo>
                  <a:pt x="63" y="417"/>
                  <a:pt x="63" y="417"/>
                  <a:pt x="63" y="417"/>
                </a:cubicBezTo>
                <a:cubicBezTo>
                  <a:pt x="83" y="401"/>
                  <a:pt x="83" y="401"/>
                  <a:pt x="83" y="401"/>
                </a:cubicBezTo>
                <a:cubicBezTo>
                  <a:pt x="99" y="399"/>
                  <a:pt x="99" y="399"/>
                  <a:pt x="99" y="399"/>
                </a:cubicBezTo>
                <a:cubicBezTo>
                  <a:pt x="100" y="399"/>
                  <a:pt x="100" y="399"/>
                  <a:pt x="100" y="399"/>
                </a:cubicBezTo>
                <a:cubicBezTo>
                  <a:pt x="101" y="401"/>
                  <a:pt x="101" y="401"/>
                  <a:pt x="101" y="401"/>
                </a:cubicBezTo>
                <a:cubicBezTo>
                  <a:pt x="111" y="404"/>
                  <a:pt x="111" y="404"/>
                  <a:pt x="111" y="404"/>
                </a:cubicBezTo>
                <a:cubicBezTo>
                  <a:pt x="115" y="404"/>
                  <a:pt x="118" y="403"/>
                  <a:pt x="121" y="400"/>
                </a:cubicBezTo>
                <a:cubicBezTo>
                  <a:pt x="130" y="386"/>
                  <a:pt x="130" y="386"/>
                  <a:pt x="130" y="386"/>
                </a:cubicBezTo>
                <a:cubicBezTo>
                  <a:pt x="128" y="378"/>
                  <a:pt x="128" y="378"/>
                  <a:pt x="128" y="378"/>
                </a:cubicBezTo>
                <a:cubicBezTo>
                  <a:pt x="130" y="374"/>
                  <a:pt x="134" y="372"/>
                  <a:pt x="138" y="370"/>
                </a:cubicBezTo>
                <a:cubicBezTo>
                  <a:pt x="163" y="370"/>
                  <a:pt x="163" y="370"/>
                  <a:pt x="163" y="370"/>
                </a:cubicBezTo>
                <a:cubicBezTo>
                  <a:pt x="167" y="372"/>
                  <a:pt x="171" y="371"/>
                  <a:pt x="171" y="369"/>
                </a:cubicBezTo>
                <a:cubicBezTo>
                  <a:pt x="174" y="362"/>
                  <a:pt x="177" y="359"/>
                  <a:pt x="180" y="356"/>
                </a:cubicBezTo>
                <a:cubicBezTo>
                  <a:pt x="183" y="356"/>
                  <a:pt x="188" y="357"/>
                  <a:pt x="192" y="361"/>
                </a:cubicBezTo>
                <a:cubicBezTo>
                  <a:pt x="199" y="367"/>
                  <a:pt x="204" y="372"/>
                  <a:pt x="204" y="380"/>
                </a:cubicBezTo>
                <a:cubicBezTo>
                  <a:pt x="202" y="399"/>
                  <a:pt x="202" y="399"/>
                  <a:pt x="202" y="399"/>
                </a:cubicBezTo>
                <a:cubicBezTo>
                  <a:pt x="206" y="402"/>
                  <a:pt x="206" y="402"/>
                  <a:pt x="206" y="402"/>
                </a:cubicBezTo>
                <a:cubicBezTo>
                  <a:pt x="213" y="407"/>
                  <a:pt x="217" y="412"/>
                  <a:pt x="217" y="417"/>
                </a:cubicBezTo>
                <a:cubicBezTo>
                  <a:pt x="213" y="436"/>
                  <a:pt x="213" y="436"/>
                  <a:pt x="213" y="436"/>
                </a:cubicBezTo>
                <a:cubicBezTo>
                  <a:pt x="210" y="446"/>
                  <a:pt x="206" y="453"/>
                  <a:pt x="202" y="456"/>
                </a:cubicBezTo>
                <a:cubicBezTo>
                  <a:pt x="202" y="455"/>
                  <a:pt x="202" y="455"/>
                  <a:pt x="202" y="455"/>
                </a:cubicBezTo>
                <a:cubicBezTo>
                  <a:pt x="186" y="488"/>
                  <a:pt x="186" y="488"/>
                  <a:pt x="186" y="488"/>
                </a:cubicBezTo>
                <a:cubicBezTo>
                  <a:pt x="192" y="490"/>
                  <a:pt x="192" y="490"/>
                  <a:pt x="192" y="490"/>
                </a:cubicBezTo>
                <a:cubicBezTo>
                  <a:pt x="217" y="491"/>
                  <a:pt x="217" y="491"/>
                  <a:pt x="217" y="491"/>
                </a:cubicBezTo>
                <a:cubicBezTo>
                  <a:pt x="222" y="494"/>
                  <a:pt x="222" y="494"/>
                  <a:pt x="222" y="494"/>
                </a:cubicBezTo>
                <a:cubicBezTo>
                  <a:pt x="220" y="498"/>
                  <a:pt x="220" y="498"/>
                  <a:pt x="220" y="498"/>
                </a:cubicBezTo>
                <a:cubicBezTo>
                  <a:pt x="217" y="508"/>
                  <a:pt x="216" y="516"/>
                  <a:pt x="217" y="521"/>
                </a:cubicBezTo>
                <a:cubicBezTo>
                  <a:pt x="225" y="526"/>
                  <a:pt x="231" y="529"/>
                  <a:pt x="234" y="526"/>
                </a:cubicBezTo>
                <a:cubicBezTo>
                  <a:pt x="249" y="520"/>
                  <a:pt x="249" y="520"/>
                  <a:pt x="249" y="520"/>
                </a:cubicBezTo>
                <a:cubicBezTo>
                  <a:pt x="256" y="517"/>
                  <a:pt x="256" y="517"/>
                  <a:pt x="256" y="517"/>
                </a:cubicBezTo>
                <a:cubicBezTo>
                  <a:pt x="270" y="517"/>
                  <a:pt x="270" y="517"/>
                  <a:pt x="270" y="517"/>
                </a:cubicBezTo>
                <a:cubicBezTo>
                  <a:pt x="283" y="502"/>
                  <a:pt x="283" y="502"/>
                  <a:pt x="283" y="502"/>
                </a:cubicBezTo>
                <a:cubicBezTo>
                  <a:pt x="283" y="484"/>
                  <a:pt x="283" y="484"/>
                  <a:pt x="283" y="484"/>
                </a:cubicBezTo>
                <a:cubicBezTo>
                  <a:pt x="282" y="478"/>
                  <a:pt x="283" y="474"/>
                  <a:pt x="286" y="470"/>
                </a:cubicBezTo>
                <a:cubicBezTo>
                  <a:pt x="290" y="467"/>
                  <a:pt x="298" y="467"/>
                  <a:pt x="311" y="475"/>
                </a:cubicBezTo>
                <a:cubicBezTo>
                  <a:pt x="336" y="490"/>
                  <a:pt x="336" y="490"/>
                  <a:pt x="336" y="490"/>
                </a:cubicBezTo>
                <a:cubicBezTo>
                  <a:pt x="345" y="497"/>
                  <a:pt x="351" y="499"/>
                  <a:pt x="355" y="499"/>
                </a:cubicBezTo>
                <a:cubicBezTo>
                  <a:pt x="355" y="498"/>
                  <a:pt x="355" y="498"/>
                  <a:pt x="355" y="498"/>
                </a:cubicBezTo>
                <a:cubicBezTo>
                  <a:pt x="357" y="494"/>
                  <a:pt x="355" y="485"/>
                  <a:pt x="350" y="475"/>
                </a:cubicBezTo>
                <a:cubicBezTo>
                  <a:pt x="336" y="453"/>
                  <a:pt x="336" y="453"/>
                  <a:pt x="336" y="453"/>
                </a:cubicBezTo>
                <a:cubicBezTo>
                  <a:pt x="336" y="451"/>
                  <a:pt x="336" y="451"/>
                  <a:pt x="336" y="451"/>
                </a:cubicBezTo>
                <a:cubicBezTo>
                  <a:pt x="337" y="451"/>
                  <a:pt x="337" y="451"/>
                  <a:pt x="337" y="451"/>
                </a:cubicBezTo>
                <a:cubicBezTo>
                  <a:pt x="338" y="449"/>
                  <a:pt x="338" y="449"/>
                  <a:pt x="338" y="449"/>
                </a:cubicBezTo>
                <a:cubicBezTo>
                  <a:pt x="352" y="430"/>
                  <a:pt x="367" y="424"/>
                  <a:pt x="384" y="430"/>
                </a:cubicBezTo>
                <a:cubicBezTo>
                  <a:pt x="423" y="448"/>
                  <a:pt x="423" y="448"/>
                  <a:pt x="423" y="448"/>
                </a:cubicBezTo>
                <a:cubicBezTo>
                  <a:pt x="439" y="438"/>
                  <a:pt x="439" y="438"/>
                  <a:pt x="439" y="438"/>
                </a:cubicBezTo>
                <a:cubicBezTo>
                  <a:pt x="440" y="438"/>
                  <a:pt x="440" y="438"/>
                  <a:pt x="440" y="438"/>
                </a:cubicBezTo>
                <a:cubicBezTo>
                  <a:pt x="440" y="437"/>
                  <a:pt x="440" y="437"/>
                  <a:pt x="440" y="437"/>
                </a:cubicBezTo>
                <a:cubicBezTo>
                  <a:pt x="440" y="436"/>
                  <a:pt x="440" y="436"/>
                  <a:pt x="440" y="436"/>
                </a:cubicBezTo>
                <a:cubicBezTo>
                  <a:pt x="438" y="433"/>
                  <a:pt x="438" y="433"/>
                  <a:pt x="438" y="433"/>
                </a:cubicBezTo>
                <a:cubicBezTo>
                  <a:pt x="439" y="432"/>
                  <a:pt x="439" y="432"/>
                  <a:pt x="439" y="432"/>
                </a:cubicBezTo>
                <a:cubicBezTo>
                  <a:pt x="440" y="430"/>
                  <a:pt x="440" y="430"/>
                  <a:pt x="440" y="430"/>
                </a:cubicBezTo>
                <a:cubicBezTo>
                  <a:pt x="452" y="409"/>
                  <a:pt x="457" y="393"/>
                  <a:pt x="452" y="385"/>
                </a:cubicBezTo>
                <a:cubicBezTo>
                  <a:pt x="449" y="378"/>
                  <a:pt x="444" y="374"/>
                  <a:pt x="440" y="374"/>
                </a:cubicBezTo>
                <a:cubicBezTo>
                  <a:pt x="437" y="374"/>
                  <a:pt x="437" y="374"/>
                  <a:pt x="437" y="374"/>
                </a:cubicBezTo>
                <a:cubicBezTo>
                  <a:pt x="434" y="364"/>
                  <a:pt x="434" y="364"/>
                  <a:pt x="434" y="364"/>
                </a:cubicBezTo>
                <a:cubicBezTo>
                  <a:pt x="437" y="364"/>
                  <a:pt x="437" y="364"/>
                  <a:pt x="437" y="364"/>
                </a:cubicBezTo>
                <a:cubicBezTo>
                  <a:pt x="444" y="361"/>
                  <a:pt x="448" y="357"/>
                  <a:pt x="449" y="353"/>
                </a:cubicBezTo>
                <a:cubicBezTo>
                  <a:pt x="446" y="348"/>
                  <a:pt x="446" y="348"/>
                  <a:pt x="446" y="348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1"/>
                  <a:pt x="429" y="331"/>
                  <a:pt x="429" y="331"/>
                </a:cubicBezTo>
                <a:cubicBezTo>
                  <a:pt x="421" y="308"/>
                  <a:pt x="421" y="308"/>
                  <a:pt x="421" y="308"/>
                </a:cubicBezTo>
                <a:cubicBezTo>
                  <a:pt x="418" y="290"/>
                  <a:pt x="415" y="274"/>
                  <a:pt x="418" y="259"/>
                </a:cubicBezTo>
                <a:cubicBezTo>
                  <a:pt x="418" y="249"/>
                  <a:pt x="418" y="249"/>
                  <a:pt x="418" y="249"/>
                </a:cubicBezTo>
                <a:cubicBezTo>
                  <a:pt x="407" y="258"/>
                  <a:pt x="407" y="258"/>
                  <a:pt x="407" y="258"/>
                </a:cubicBezTo>
                <a:cubicBezTo>
                  <a:pt x="397" y="269"/>
                  <a:pt x="397" y="269"/>
                  <a:pt x="397" y="269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2"/>
                  <a:pt x="394" y="222"/>
                  <a:pt x="394" y="222"/>
                </a:cubicBezTo>
                <a:cubicBezTo>
                  <a:pt x="395" y="222"/>
                  <a:pt x="395" y="222"/>
                  <a:pt x="395" y="222"/>
                </a:cubicBezTo>
                <a:cubicBezTo>
                  <a:pt x="419" y="189"/>
                  <a:pt x="434" y="169"/>
                  <a:pt x="440" y="163"/>
                </a:cubicBezTo>
                <a:cubicBezTo>
                  <a:pt x="429" y="132"/>
                  <a:pt x="429" y="132"/>
                  <a:pt x="429" y="132"/>
                </a:cubicBezTo>
                <a:cubicBezTo>
                  <a:pt x="426" y="116"/>
                  <a:pt x="424" y="106"/>
                  <a:pt x="424" y="102"/>
                </a:cubicBezTo>
                <a:cubicBezTo>
                  <a:pt x="405" y="94"/>
                  <a:pt x="405" y="94"/>
                  <a:pt x="405" y="94"/>
                </a:cubicBezTo>
                <a:lnTo>
                  <a:pt x="395" y="9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2986200" y="3146400"/>
            <a:ext cx="609480" cy="371520"/>
          </a:xfrm>
          <a:custGeom>
            <a:avLst/>
            <a:gdLst/>
            <a:ahLst/>
            <a:rect l="l" t="t" r="r" b="b"/>
            <a:pathLst>
              <a:path w="645" h="402">
                <a:moveTo>
                  <a:pt x="81" y="1"/>
                </a:moveTo>
                <a:cubicBezTo>
                  <a:pt x="80" y="5"/>
                  <a:pt x="80" y="5"/>
                  <a:pt x="80" y="5"/>
                </a:cubicBezTo>
                <a:cubicBezTo>
                  <a:pt x="85" y="11"/>
                  <a:pt x="85" y="11"/>
                  <a:pt x="85" y="11"/>
                </a:cubicBezTo>
                <a:cubicBezTo>
                  <a:pt x="113" y="30"/>
                  <a:pt x="113" y="30"/>
                  <a:pt x="113" y="30"/>
                </a:cubicBezTo>
                <a:cubicBezTo>
                  <a:pt x="113" y="30"/>
                  <a:pt x="113" y="30"/>
                  <a:pt x="113" y="30"/>
                </a:cubicBezTo>
                <a:cubicBezTo>
                  <a:pt x="113" y="31"/>
                  <a:pt x="113" y="31"/>
                  <a:pt x="113" y="31"/>
                </a:cubicBezTo>
                <a:cubicBezTo>
                  <a:pt x="114" y="31"/>
                  <a:pt x="114" y="31"/>
                  <a:pt x="114" y="31"/>
                </a:cubicBezTo>
                <a:cubicBezTo>
                  <a:pt x="131" y="50"/>
                  <a:pt x="131" y="50"/>
                  <a:pt x="131" y="50"/>
                </a:cubicBezTo>
                <a:cubicBezTo>
                  <a:pt x="129" y="53"/>
                  <a:pt x="129" y="53"/>
                  <a:pt x="129" y="53"/>
                </a:cubicBezTo>
                <a:cubicBezTo>
                  <a:pt x="118" y="65"/>
                  <a:pt x="118" y="65"/>
                  <a:pt x="118" y="65"/>
                </a:cubicBezTo>
                <a:cubicBezTo>
                  <a:pt x="117" y="66"/>
                  <a:pt x="117" y="66"/>
                  <a:pt x="117" y="66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98" y="68"/>
                  <a:pt x="98" y="68"/>
                  <a:pt x="98" y="68"/>
                </a:cubicBezTo>
                <a:cubicBezTo>
                  <a:pt x="87" y="69"/>
                  <a:pt x="87" y="69"/>
                  <a:pt x="87" y="69"/>
                </a:cubicBezTo>
                <a:cubicBezTo>
                  <a:pt x="80" y="77"/>
                  <a:pt x="80" y="77"/>
                  <a:pt x="80" y="77"/>
                </a:cubicBezTo>
                <a:cubicBezTo>
                  <a:pt x="83" y="86"/>
                  <a:pt x="83" y="86"/>
                  <a:pt x="83" y="86"/>
                </a:cubicBezTo>
                <a:cubicBezTo>
                  <a:pt x="83" y="87"/>
                  <a:pt x="83" y="87"/>
                  <a:pt x="83" y="87"/>
                </a:cubicBezTo>
                <a:cubicBezTo>
                  <a:pt x="84" y="98"/>
                  <a:pt x="84" y="98"/>
                  <a:pt x="84" y="98"/>
                </a:cubicBezTo>
                <a:cubicBezTo>
                  <a:pt x="94" y="112"/>
                  <a:pt x="94" y="112"/>
                  <a:pt x="94" y="112"/>
                </a:cubicBezTo>
                <a:cubicBezTo>
                  <a:pt x="94" y="113"/>
                  <a:pt x="94" y="113"/>
                  <a:pt x="94" y="113"/>
                </a:cubicBezTo>
                <a:cubicBezTo>
                  <a:pt x="94" y="142"/>
                  <a:pt x="94" y="142"/>
                  <a:pt x="94" y="142"/>
                </a:cubicBezTo>
                <a:cubicBezTo>
                  <a:pt x="102" y="145"/>
                  <a:pt x="102" y="145"/>
                  <a:pt x="102" y="145"/>
                </a:cubicBezTo>
                <a:cubicBezTo>
                  <a:pt x="117" y="150"/>
                  <a:pt x="117" y="150"/>
                  <a:pt x="117" y="150"/>
                </a:cubicBezTo>
                <a:cubicBezTo>
                  <a:pt x="118" y="150"/>
                  <a:pt x="118" y="150"/>
                  <a:pt x="118" y="150"/>
                </a:cubicBezTo>
                <a:cubicBezTo>
                  <a:pt x="118" y="150"/>
                  <a:pt x="118" y="150"/>
                  <a:pt x="118" y="150"/>
                </a:cubicBezTo>
                <a:cubicBezTo>
                  <a:pt x="119" y="151"/>
                  <a:pt x="119" y="151"/>
                  <a:pt x="119" y="151"/>
                </a:cubicBezTo>
                <a:cubicBezTo>
                  <a:pt x="120" y="152"/>
                  <a:pt x="120" y="152"/>
                  <a:pt x="120" y="152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2"/>
                  <a:pt x="134" y="172"/>
                  <a:pt x="134" y="172"/>
                </a:cubicBezTo>
                <a:cubicBezTo>
                  <a:pt x="134" y="172"/>
                  <a:pt x="134" y="172"/>
                  <a:pt x="134" y="172"/>
                </a:cubicBezTo>
                <a:cubicBezTo>
                  <a:pt x="141" y="191"/>
                  <a:pt x="141" y="191"/>
                  <a:pt x="141" y="191"/>
                </a:cubicBezTo>
                <a:cubicBezTo>
                  <a:pt x="141" y="192"/>
                  <a:pt x="141" y="192"/>
                  <a:pt x="141" y="192"/>
                </a:cubicBezTo>
                <a:cubicBezTo>
                  <a:pt x="141" y="192"/>
                  <a:pt x="141" y="192"/>
                  <a:pt x="141" y="192"/>
                </a:cubicBezTo>
                <a:cubicBezTo>
                  <a:pt x="141" y="205"/>
                  <a:pt x="141" y="205"/>
                  <a:pt x="141" y="205"/>
                </a:cubicBezTo>
                <a:cubicBezTo>
                  <a:pt x="140" y="212"/>
                  <a:pt x="138" y="218"/>
                  <a:pt x="136" y="223"/>
                </a:cubicBezTo>
                <a:cubicBezTo>
                  <a:pt x="131" y="230"/>
                  <a:pt x="121" y="236"/>
                  <a:pt x="106" y="243"/>
                </a:cubicBezTo>
                <a:cubicBezTo>
                  <a:pt x="71" y="264"/>
                  <a:pt x="71" y="264"/>
                  <a:pt x="71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4" y="268"/>
                  <a:pt x="4" y="268"/>
                  <a:pt x="4" y="268"/>
                </a:cubicBezTo>
                <a:cubicBezTo>
                  <a:pt x="0" y="284"/>
                  <a:pt x="0" y="284"/>
                  <a:pt x="0" y="284"/>
                </a:cubicBezTo>
                <a:cubicBezTo>
                  <a:pt x="11" y="305"/>
                  <a:pt x="11" y="305"/>
                  <a:pt x="11" y="305"/>
                </a:cubicBezTo>
                <a:cubicBezTo>
                  <a:pt x="11" y="306"/>
                  <a:pt x="11" y="306"/>
                  <a:pt x="11" y="306"/>
                </a:cubicBezTo>
                <a:cubicBezTo>
                  <a:pt x="11" y="307"/>
                  <a:pt x="11" y="307"/>
                  <a:pt x="11" y="307"/>
                </a:cubicBezTo>
                <a:cubicBezTo>
                  <a:pt x="15" y="334"/>
                  <a:pt x="15" y="334"/>
                  <a:pt x="15" y="334"/>
                </a:cubicBezTo>
                <a:cubicBezTo>
                  <a:pt x="50" y="377"/>
                  <a:pt x="50" y="377"/>
                  <a:pt x="50" y="377"/>
                </a:cubicBezTo>
                <a:cubicBezTo>
                  <a:pt x="52" y="377"/>
                  <a:pt x="52" y="377"/>
                  <a:pt x="52" y="377"/>
                </a:cubicBezTo>
                <a:cubicBezTo>
                  <a:pt x="52" y="377"/>
                  <a:pt x="52" y="377"/>
                  <a:pt x="52" y="377"/>
                </a:cubicBezTo>
                <a:cubicBezTo>
                  <a:pt x="52" y="378"/>
                  <a:pt x="52" y="378"/>
                  <a:pt x="52" y="378"/>
                </a:cubicBezTo>
                <a:cubicBezTo>
                  <a:pt x="66" y="402"/>
                  <a:pt x="66" y="402"/>
                  <a:pt x="66" y="402"/>
                </a:cubicBezTo>
                <a:cubicBezTo>
                  <a:pt x="67" y="399"/>
                  <a:pt x="67" y="399"/>
                  <a:pt x="67" y="399"/>
                </a:cubicBezTo>
                <a:cubicBezTo>
                  <a:pt x="67" y="398"/>
                  <a:pt x="67" y="398"/>
                  <a:pt x="67" y="398"/>
                </a:cubicBezTo>
                <a:cubicBezTo>
                  <a:pt x="79" y="365"/>
                  <a:pt x="79" y="365"/>
                  <a:pt x="79" y="365"/>
                </a:cubicBezTo>
                <a:cubicBezTo>
                  <a:pt x="79" y="365"/>
                  <a:pt x="79" y="365"/>
                  <a:pt x="79" y="365"/>
                </a:cubicBezTo>
                <a:cubicBezTo>
                  <a:pt x="80" y="364"/>
                  <a:pt x="80" y="364"/>
                  <a:pt x="80" y="364"/>
                </a:cubicBezTo>
                <a:cubicBezTo>
                  <a:pt x="80" y="364"/>
                  <a:pt x="80" y="364"/>
                  <a:pt x="80" y="364"/>
                </a:cubicBezTo>
                <a:cubicBezTo>
                  <a:pt x="101" y="336"/>
                  <a:pt x="101" y="336"/>
                  <a:pt x="101" y="336"/>
                </a:cubicBezTo>
                <a:cubicBezTo>
                  <a:pt x="102" y="335"/>
                  <a:pt x="102" y="335"/>
                  <a:pt x="102" y="335"/>
                </a:cubicBezTo>
                <a:cubicBezTo>
                  <a:pt x="129" y="323"/>
                  <a:pt x="129" y="323"/>
                  <a:pt x="129" y="323"/>
                </a:cubicBezTo>
                <a:cubicBezTo>
                  <a:pt x="131" y="323"/>
                  <a:pt x="131" y="323"/>
                  <a:pt x="131" y="323"/>
                </a:cubicBezTo>
                <a:cubicBezTo>
                  <a:pt x="148" y="333"/>
                  <a:pt x="148" y="333"/>
                  <a:pt x="148" y="333"/>
                </a:cubicBezTo>
                <a:cubicBezTo>
                  <a:pt x="170" y="331"/>
                  <a:pt x="170" y="331"/>
                  <a:pt x="170" y="331"/>
                </a:cubicBezTo>
                <a:cubicBezTo>
                  <a:pt x="162" y="294"/>
                  <a:pt x="162" y="294"/>
                  <a:pt x="162" y="294"/>
                </a:cubicBezTo>
                <a:cubicBezTo>
                  <a:pt x="167" y="293"/>
                  <a:pt x="167" y="293"/>
                  <a:pt x="167" y="293"/>
                </a:cubicBezTo>
                <a:cubicBezTo>
                  <a:pt x="187" y="291"/>
                  <a:pt x="187" y="291"/>
                  <a:pt x="187" y="291"/>
                </a:cubicBezTo>
                <a:cubicBezTo>
                  <a:pt x="208" y="292"/>
                  <a:pt x="208" y="292"/>
                  <a:pt x="208" y="292"/>
                </a:cubicBezTo>
                <a:cubicBezTo>
                  <a:pt x="210" y="292"/>
                  <a:pt x="210" y="292"/>
                  <a:pt x="210" y="292"/>
                </a:cubicBezTo>
                <a:cubicBezTo>
                  <a:pt x="210" y="293"/>
                  <a:pt x="210" y="293"/>
                  <a:pt x="210" y="293"/>
                </a:cubicBezTo>
                <a:cubicBezTo>
                  <a:pt x="252" y="312"/>
                  <a:pt x="252" y="312"/>
                  <a:pt x="252" y="312"/>
                </a:cubicBezTo>
                <a:cubicBezTo>
                  <a:pt x="288" y="320"/>
                  <a:pt x="288" y="320"/>
                  <a:pt x="288" y="320"/>
                </a:cubicBezTo>
                <a:cubicBezTo>
                  <a:pt x="289" y="320"/>
                  <a:pt x="289" y="320"/>
                  <a:pt x="289" y="320"/>
                </a:cubicBezTo>
                <a:cubicBezTo>
                  <a:pt x="289" y="320"/>
                  <a:pt x="289" y="320"/>
                  <a:pt x="289" y="320"/>
                </a:cubicBezTo>
                <a:cubicBezTo>
                  <a:pt x="290" y="320"/>
                  <a:pt x="290" y="320"/>
                  <a:pt x="290" y="320"/>
                </a:cubicBezTo>
                <a:cubicBezTo>
                  <a:pt x="302" y="328"/>
                  <a:pt x="302" y="328"/>
                  <a:pt x="302" y="328"/>
                </a:cubicBezTo>
                <a:cubicBezTo>
                  <a:pt x="319" y="334"/>
                  <a:pt x="319" y="334"/>
                  <a:pt x="319" y="334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29" y="345"/>
                  <a:pt x="329" y="345"/>
                  <a:pt x="329" y="345"/>
                </a:cubicBezTo>
                <a:cubicBezTo>
                  <a:pt x="335" y="347"/>
                  <a:pt x="335" y="347"/>
                  <a:pt x="335" y="347"/>
                </a:cubicBezTo>
                <a:cubicBezTo>
                  <a:pt x="347" y="336"/>
                  <a:pt x="347" y="336"/>
                  <a:pt x="347" y="336"/>
                </a:cubicBezTo>
                <a:cubicBezTo>
                  <a:pt x="347" y="335"/>
                  <a:pt x="347" y="335"/>
                  <a:pt x="347" y="335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74" y="304"/>
                  <a:pt x="374" y="304"/>
                  <a:pt x="374" y="304"/>
                </a:cubicBezTo>
                <a:cubicBezTo>
                  <a:pt x="391" y="313"/>
                  <a:pt x="391" y="313"/>
                  <a:pt x="391" y="313"/>
                </a:cubicBezTo>
                <a:cubicBezTo>
                  <a:pt x="391" y="314"/>
                  <a:pt x="391" y="314"/>
                  <a:pt x="391" y="314"/>
                </a:cubicBezTo>
                <a:cubicBezTo>
                  <a:pt x="391" y="315"/>
                  <a:pt x="391" y="315"/>
                  <a:pt x="391" y="315"/>
                </a:cubicBezTo>
                <a:cubicBezTo>
                  <a:pt x="396" y="329"/>
                  <a:pt x="396" y="329"/>
                  <a:pt x="396" y="329"/>
                </a:cubicBezTo>
                <a:cubicBezTo>
                  <a:pt x="396" y="332"/>
                  <a:pt x="396" y="332"/>
                  <a:pt x="396" y="332"/>
                </a:cubicBezTo>
                <a:cubicBezTo>
                  <a:pt x="393" y="341"/>
                  <a:pt x="393" y="341"/>
                  <a:pt x="393" y="341"/>
                </a:cubicBezTo>
                <a:cubicBezTo>
                  <a:pt x="395" y="343"/>
                  <a:pt x="395" y="343"/>
                  <a:pt x="395" y="343"/>
                </a:cubicBezTo>
                <a:cubicBezTo>
                  <a:pt x="405" y="338"/>
                  <a:pt x="405" y="338"/>
                  <a:pt x="405" y="338"/>
                </a:cubicBezTo>
                <a:cubicBezTo>
                  <a:pt x="420" y="323"/>
                  <a:pt x="420" y="323"/>
                  <a:pt x="420" y="323"/>
                </a:cubicBezTo>
                <a:cubicBezTo>
                  <a:pt x="434" y="323"/>
                  <a:pt x="434" y="323"/>
                  <a:pt x="434" y="323"/>
                </a:cubicBezTo>
                <a:cubicBezTo>
                  <a:pt x="434" y="324"/>
                  <a:pt x="434" y="324"/>
                  <a:pt x="434" y="324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44" y="330"/>
                  <a:pt x="444" y="330"/>
                  <a:pt x="444" y="330"/>
                </a:cubicBezTo>
                <a:cubicBezTo>
                  <a:pt x="450" y="336"/>
                  <a:pt x="453" y="342"/>
                  <a:pt x="450" y="347"/>
                </a:cubicBezTo>
                <a:cubicBezTo>
                  <a:pt x="449" y="370"/>
                  <a:pt x="449" y="370"/>
                  <a:pt x="449" y="370"/>
                </a:cubicBezTo>
                <a:cubicBezTo>
                  <a:pt x="456" y="382"/>
                  <a:pt x="456" y="382"/>
                  <a:pt x="456" y="382"/>
                </a:cubicBezTo>
                <a:cubicBezTo>
                  <a:pt x="458" y="383"/>
                  <a:pt x="458" y="383"/>
                  <a:pt x="458" y="383"/>
                </a:cubicBezTo>
                <a:cubicBezTo>
                  <a:pt x="483" y="355"/>
                  <a:pt x="500" y="342"/>
                  <a:pt x="511" y="342"/>
                </a:cubicBezTo>
                <a:cubicBezTo>
                  <a:pt x="539" y="342"/>
                  <a:pt x="539" y="342"/>
                  <a:pt x="539" y="342"/>
                </a:cubicBezTo>
                <a:cubicBezTo>
                  <a:pt x="545" y="328"/>
                  <a:pt x="545" y="328"/>
                  <a:pt x="545" y="328"/>
                </a:cubicBezTo>
                <a:cubicBezTo>
                  <a:pt x="568" y="318"/>
                  <a:pt x="568" y="318"/>
                  <a:pt x="568" y="318"/>
                </a:cubicBezTo>
                <a:cubicBezTo>
                  <a:pt x="569" y="318"/>
                  <a:pt x="569" y="318"/>
                  <a:pt x="569" y="318"/>
                </a:cubicBezTo>
                <a:cubicBezTo>
                  <a:pt x="596" y="315"/>
                  <a:pt x="596" y="315"/>
                  <a:pt x="596" y="315"/>
                </a:cubicBezTo>
                <a:cubicBezTo>
                  <a:pt x="625" y="301"/>
                  <a:pt x="625" y="301"/>
                  <a:pt x="625" y="301"/>
                </a:cubicBezTo>
                <a:cubicBezTo>
                  <a:pt x="625" y="300"/>
                  <a:pt x="625" y="300"/>
                  <a:pt x="625" y="300"/>
                </a:cubicBezTo>
                <a:cubicBezTo>
                  <a:pt x="643" y="300"/>
                  <a:pt x="643" y="300"/>
                  <a:pt x="643" y="300"/>
                </a:cubicBezTo>
                <a:cubicBezTo>
                  <a:pt x="639" y="291"/>
                  <a:pt x="639" y="291"/>
                  <a:pt x="639" y="291"/>
                </a:cubicBezTo>
                <a:cubicBezTo>
                  <a:pt x="640" y="289"/>
                  <a:pt x="640" y="289"/>
                  <a:pt x="640" y="289"/>
                </a:cubicBezTo>
                <a:cubicBezTo>
                  <a:pt x="645" y="285"/>
                  <a:pt x="645" y="285"/>
                  <a:pt x="645" y="285"/>
                </a:cubicBezTo>
                <a:cubicBezTo>
                  <a:pt x="606" y="201"/>
                  <a:pt x="606" y="201"/>
                  <a:pt x="606" y="201"/>
                </a:cubicBezTo>
                <a:cubicBezTo>
                  <a:pt x="606" y="199"/>
                  <a:pt x="606" y="199"/>
                  <a:pt x="606" y="199"/>
                </a:cubicBezTo>
                <a:cubicBezTo>
                  <a:pt x="605" y="198"/>
                  <a:pt x="605" y="198"/>
                  <a:pt x="605" y="198"/>
                </a:cubicBezTo>
                <a:cubicBezTo>
                  <a:pt x="621" y="175"/>
                  <a:pt x="621" y="175"/>
                  <a:pt x="621" y="175"/>
                </a:cubicBezTo>
                <a:cubicBezTo>
                  <a:pt x="616" y="170"/>
                  <a:pt x="616" y="170"/>
                  <a:pt x="616" y="170"/>
                </a:cubicBezTo>
                <a:cubicBezTo>
                  <a:pt x="588" y="164"/>
                  <a:pt x="588" y="164"/>
                  <a:pt x="588" y="164"/>
                </a:cubicBezTo>
                <a:cubicBezTo>
                  <a:pt x="585" y="164"/>
                  <a:pt x="585" y="164"/>
                  <a:pt x="585" y="164"/>
                </a:cubicBezTo>
                <a:cubicBezTo>
                  <a:pt x="585" y="164"/>
                  <a:pt x="585" y="164"/>
                  <a:pt x="585" y="164"/>
                </a:cubicBezTo>
                <a:cubicBezTo>
                  <a:pt x="585" y="162"/>
                  <a:pt x="585" y="162"/>
                  <a:pt x="585" y="162"/>
                </a:cubicBezTo>
                <a:cubicBezTo>
                  <a:pt x="567" y="143"/>
                  <a:pt x="567" y="143"/>
                  <a:pt x="567" y="143"/>
                </a:cubicBezTo>
                <a:cubicBezTo>
                  <a:pt x="568" y="139"/>
                  <a:pt x="568" y="139"/>
                  <a:pt x="568" y="139"/>
                </a:cubicBezTo>
                <a:cubicBezTo>
                  <a:pt x="567" y="140"/>
                  <a:pt x="567" y="140"/>
                  <a:pt x="567" y="140"/>
                </a:cubicBezTo>
                <a:cubicBezTo>
                  <a:pt x="566" y="141"/>
                  <a:pt x="566" y="141"/>
                  <a:pt x="566" y="141"/>
                </a:cubicBezTo>
                <a:cubicBezTo>
                  <a:pt x="550" y="131"/>
                  <a:pt x="550" y="131"/>
                  <a:pt x="550" y="131"/>
                </a:cubicBezTo>
                <a:cubicBezTo>
                  <a:pt x="542" y="140"/>
                  <a:pt x="535" y="147"/>
                  <a:pt x="526" y="149"/>
                </a:cubicBezTo>
                <a:cubicBezTo>
                  <a:pt x="519" y="152"/>
                  <a:pt x="507" y="143"/>
                  <a:pt x="492" y="124"/>
                </a:cubicBezTo>
                <a:cubicBezTo>
                  <a:pt x="483" y="114"/>
                  <a:pt x="483" y="114"/>
                  <a:pt x="483" y="114"/>
                </a:cubicBezTo>
                <a:cubicBezTo>
                  <a:pt x="482" y="112"/>
                  <a:pt x="475" y="114"/>
                  <a:pt x="463" y="118"/>
                </a:cubicBezTo>
                <a:cubicBezTo>
                  <a:pt x="445" y="124"/>
                  <a:pt x="434" y="125"/>
                  <a:pt x="428" y="122"/>
                </a:cubicBezTo>
                <a:cubicBezTo>
                  <a:pt x="423" y="117"/>
                  <a:pt x="421" y="106"/>
                  <a:pt x="423" y="93"/>
                </a:cubicBezTo>
                <a:cubicBezTo>
                  <a:pt x="424" y="81"/>
                  <a:pt x="423" y="75"/>
                  <a:pt x="421" y="72"/>
                </a:cubicBezTo>
                <a:cubicBezTo>
                  <a:pt x="284" y="64"/>
                  <a:pt x="284" y="64"/>
                  <a:pt x="284" y="64"/>
                </a:cubicBezTo>
                <a:cubicBezTo>
                  <a:pt x="271" y="59"/>
                  <a:pt x="260" y="54"/>
                  <a:pt x="255" y="48"/>
                </a:cubicBezTo>
                <a:cubicBezTo>
                  <a:pt x="234" y="43"/>
                  <a:pt x="234" y="43"/>
                  <a:pt x="234" y="43"/>
                </a:cubicBezTo>
                <a:cubicBezTo>
                  <a:pt x="226" y="40"/>
                  <a:pt x="210" y="26"/>
                  <a:pt x="189" y="0"/>
                </a:cubicBezTo>
                <a:cubicBezTo>
                  <a:pt x="175" y="11"/>
                  <a:pt x="175" y="11"/>
                  <a:pt x="175" y="11"/>
                </a:cubicBezTo>
                <a:cubicBezTo>
                  <a:pt x="154" y="5"/>
                  <a:pt x="154" y="5"/>
                  <a:pt x="154" y="5"/>
                </a:cubicBezTo>
                <a:cubicBezTo>
                  <a:pt x="97" y="6"/>
                  <a:pt x="97" y="6"/>
                  <a:pt x="97" y="6"/>
                </a:cubicBezTo>
                <a:cubicBezTo>
                  <a:pt x="97" y="6"/>
                  <a:pt x="97" y="6"/>
                  <a:pt x="97" y="6"/>
                </a:cubicBezTo>
                <a:cubicBezTo>
                  <a:pt x="97" y="6"/>
                  <a:pt x="97" y="6"/>
                  <a:pt x="97" y="6"/>
                </a:cubicBezTo>
                <a:lnTo>
                  <a:pt x="81" y="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0"/>
          <p:cNvSpPr/>
          <p:nvPr/>
        </p:nvSpPr>
        <p:spPr>
          <a:xfrm>
            <a:off x="3121200" y="3830760"/>
            <a:ext cx="633240" cy="492120"/>
          </a:xfrm>
          <a:custGeom>
            <a:avLst/>
            <a:gdLst/>
            <a:ahLst/>
            <a:rect l="l" t="t" r="r" b="b"/>
            <a:pathLst>
              <a:path w="669" h="532">
                <a:moveTo>
                  <a:pt x="628" y="182"/>
                </a:moveTo>
                <a:cubicBezTo>
                  <a:pt x="638" y="181"/>
                  <a:pt x="643" y="177"/>
                  <a:pt x="645" y="172"/>
                </a:cubicBezTo>
                <a:cubicBezTo>
                  <a:pt x="645" y="171"/>
                  <a:pt x="645" y="171"/>
                  <a:pt x="645" y="171"/>
                </a:cubicBezTo>
                <a:cubicBezTo>
                  <a:pt x="646" y="167"/>
                  <a:pt x="646" y="167"/>
                  <a:pt x="646" y="167"/>
                </a:cubicBezTo>
                <a:cubicBezTo>
                  <a:pt x="650" y="167"/>
                  <a:pt x="650" y="167"/>
                  <a:pt x="650" y="167"/>
                </a:cubicBezTo>
                <a:cubicBezTo>
                  <a:pt x="669" y="166"/>
                  <a:pt x="669" y="166"/>
                  <a:pt x="669" y="166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4" y="153"/>
                  <a:pt x="659" y="151"/>
                  <a:pt x="654" y="146"/>
                </a:cubicBezTo>
                <a:cubicBezTo>
                  <a:pt x="622" y="118"/>
                  <a:pt x="622" y="118"/>
                  <a:pt x="622" y="118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08" y="77"/>
                  <a:pt x="608" y="77"/>
                  <a:pt x="608" y="77"/>
                </a:cubicBezTo>
                <a:cubicBezTo>
                  <a:pt x="589" y="58"/>
                  <a:pt x="589" y="58"/>
                  <a:pt x="589" y="58"/>
                </a:cubicBezTo>
                <a:cubicBezTo>
                  <a:pt x="566" y="57"/>
                  <a:pt x="548" y="57"/>
                  <a:pt x="535" y="58"/>
                </a:cubicBezTo>
                <a:cubicBezTo>
                  <a:pt x="531" y="59"/>
                  <a:pt x="531" y="59"/>
                  <a:pt x="531" y="59"/>
                </a:cubicBezTo>
                <a:cubicBezTo>
                  <a:pt x="532" y="71"/>
                  <a:pt x="532" y="71"/>
                  <a:pt x="532" y="71"/>
                </a:cubicBezTo>
                <a:cubicBezTo>
                  <a:pt x="532" y="74"/>
                  <a:pt x="532" y="74"/>
                  <a:pt x="532" y="74"/>
                </a:cubicBezTo>
                <a:cubicBezTo>
                  <a:pt x="532" y="77"/>
                  <a:pt x="532" y="77"/>
                  <a:pt x="532" y="77"/>
                </a:cubicBezTo>
                <a:cubicBezTo>
                  <a:pt x="529" y="77"/>
                  <a:pt x="529" y="77"/>
                  <a:pt x="529" y="77"/>
                </a:cubicBezTo>
                <a:cubicBezTo>
                  <a:pt x="512" y="84"/>
                  <a:pt x="512" y="84"/>
                  <a:pt x="512" y="84"/>
                </a:cubicBezTo>
                <a:cubicBezTo>
                  <a:pt x="509" y="82"/>
                  <a:pt x="509" y="82"/>
                  <a:pt x="509" y="82"/>
                </a:cubicBezTo>
                <a:cubicBezTo>
                  <a:pt x="495" y="68"/>
                  <a:pt x="487" y="63"/>
                  <a:pt x="482" y="66"/>
                </a:cubicBezTo>
                <a:cubicBezTo>
                  <a:pt x="445" y="84"/>
                  <a:pt x="424" y="93"/>
                  <a:pt x="417" y="88"/>
                </a:cubicBezTo>
                <a:cubicBezTo>
                  <a:pt x="413" y="89"/>
                  <a:pt x="408" y="94"/>
                  <a:pt x="400" y="101"/>
                </a:cubicBezTo>
                <a:cubicBezTo>
                  <a:pt x="397" y="105"/>
                  <a:pt x="397" y="105"/>
                  <a:pt x="397" y="105"/>
                </a:cubicBezTo>
                <a:cubicBezTo>
                  <a:pt x="393" y="101"/>
                  <a:pt x="393" y="101"/>
                  <a:pt x="393" y="101"/>
                </a:cubicBezTo>
                <a:cubicBezTo>
                  <a:pt x="382" y="91"/>
                  <a:pt x="377" y="83"/>
                  <a:pt x="377" y="77"/>
                </a:cubicBezTo>
                <a:cubicBezTo>
                  <a:pt x="377" y="72"/>
                  <a:pt x="384" y="64"/>
                  <a:pt x="397" y="50"/>
                </a:cubicBezTo>
                <a:cubicBezTo>
                  <a:pt x="412" y="33"/>
                  <a:pt x="419" y="24"/>
                  <a:pt x="419" y="22"/>
                </a:cubicBezTo>
                <a:cubicBezTo>
                  <a:pt x="416" y="17"/>
                  <a:pt x="416" y="17"/>
                  <a:pt x="416" y="17"/>
                </a:cubicBezTo>
                <a:cubicBezTo>
                  <a:pt x="412" y="14"/>
                  <a:pt x="403" y="19"/>
                  <a:pt x="393" y="27"/>
                </a:cubicBezTo>
                <a:cubicBezTo>
                  <a:pt x="382" y="34"/>
                  <a:pt x="376" y="38"/>
                  <a:pt x="372" y="37"/>
                </a:cubicBezTo>
                <a:cubicBezTo>
                  <a:pt x="370" y="37"/>
                  <a:pt x="368" y="33"/>
                  <a:pt x="367" y="28"/>
                </a:cubicBezTo>
                <a:cubicBezTo>
                  <a:pt x="365" y="26"/>
                  <a:pt x="365" y="26"/>
                  <a:pt x="365" y="26"/>
                </a:cubicBezTo>
                <a:cubicBezTo>
                  <a:pt x="356" y="9"/>
                  <a:pt x="356" y="9"/>
                  <a:pt x="356" y="9"/>
                </a:cubicBezTo>
                <a:cubicBezTo>
                  <a:pt x="336" y="22"/>
                  <a:pt x="336" y="22"/>
                  <a:pt x="336" y="22"/>
                </a:cubicBezTo>
                <a:cubicBezTo>
                  <a:pt x="334" y="24"/>
                  <a:pt x="334" y="24"/>
                  <a:pt x="334" y="24"/>
                </a:cubicBezTo>
                <a:cubicBezTo>
                  <a:pt x="333" y="22"/>
                  <a:pt x="333" y="22"/>
                  <a:pt x="333" y="22"/>
                </a:cubicBezTo>
                <a:cubicBezTo>
                  <a:pt x="332" y="22"/>
                  <a:pt x="332" y="22"/>
                  <a:pt x="332" y="22"/>
                </a:cubicBezTo>
                <a:cubicBezTo>
                  <a:pt x="317" y="13"/>
                  <a:pt x="303" y="8"/>
                  <a:pt x="289" y="3"/>
                </a:cubicBezTo>
                <a:cubicBezTo>
                  <a:pt x="280" y="0"/>
                  <a:pt x="270" y="4"/>
                  <a:pt x="261" y="15"/>
                </a:cubicBezTo>
                <a:cubicBezTo>
                  <a:pt x="270" y="31"/>
                  <a:pt x="270" y="31"/>
                  <a:pt x="270" y="31"/>
                </a:cubicBezTo>
                <a:cubicBezTo>
                  <a:pt x="277" y="47"/>
                  <a:pt x="280" y="58"/>
                  <a:pt x="277" y="65"/>
                </a:cubicBezTo>
                <a:cubicBezTo>
                  <a:pt x="276" y="68"/>
                  <a:pt x="273" y="71"/>
                  <a:pt x="268" y="71"/>
                </a:cubicBezTo>
                <a:cubicBezTo>
                  <a:pt x="262" y="74"/>
                  <a:pt x="253" y="71"/>
                  <a:pt x="241" y="62"/>
                </a:cubicBezTo>
                <a:cubicBezTo>
                  <a:pt x="231" y="56"/>
                  <a:pt x="224" y="50"/>
                  <a:pt x="218" y="47"/>
                </a:cubicBezTo>
                <a:cubicBezTo>
                  <a:pt x="205" y="42"/>
                  <a:pt x="205" y="42"/>
                  <a:pt x="205" y="42"/>
                </a:cubicBezTo>
                <a:cubicBezTo>
                  <a:pt x="205" y="43"/>
                  <a:pt x="205" y="43"/>
                  <a:pt x="205" y="43"/>
                </a:cubicBezTo>
                <a:cubicBezTo>
                  <a:pt x="205" y="43"/>
                  <a:pt x="205" y="43"/>
                  <a:pt x="205" y="43"/>
                </a:cubicBezTo>
                <a:cubicBezTo>
                  <a:pt x="206" y="45"/>
                  <a:pt x="206" y="45"/>
                  <a:pt x="206" y="45"/>
                </a:cubicBezTo>
                <a:cubicBezTo>
                  <a:pt x="206" y="68"/>
                  <a:pt x="206" y="68"/>
                  <a:pt x="206" y="68"/>
                </a:cubicBezTo>
                <a:cubicBezTo>
                  <a:pt x="189" y="87"/>
                  <a:pt x="189" y="87"/>
                  <a:pt x="189" y="87"/>
                </a:cubicBezTo>
                <a:cubicBezTo>
                  <a:pt x="189" y="105"/>
                  <a:pt x="189" y="105"/>
                  <a:pt x="189" y="105"/>
                </a:cubicBezTo>
                <a:cubicBezTo>
                  <a:pt x="197" y="124"/>
                  <a:pt x="197" y="124"/>
                  <a:pt x="197" y="124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186" y="143"/>
                  <a:pt x="186" y="143"/>
                  <a:pt x="186" y="143"/>
                </a:cubicBezTo>
                <a:cubicBezTo>
                  <a:pt x="179" y="160"/>
                  <a:pt x="179" y="160"/>
                  <a:pt x="179" y="160"/>
                </a:cubicBezTo>
                <a:cubicBezTo>
                  <a:pt x="179" y="161"/>
                  <a:pt x="179" y="161"/>
                  <a:pt x="179" y="161"/>
                </a:cubicBezTo>
                <a:cubicBezTo>
                  <a:pt x="163" y="177"/>
                  <a:pt x="163" y="177"/>
                  <a:pt x="163" y="177"/>
                </a:cubicBezTo>
                <a:cubicBezTo>
                  <a:pt x="136" y="237"/>
                  <a:pt x="136" y="237"/>
                  <a:pt x="136" y="237"/>
                </a:cubicBezTo>
                <a:cubicBezTo>
                  <a:pt x="137" y="270"/>
                  <a:pt x="137" y="270"/>
                  <a:pt x="137" y="270"/>
                </a:cubicBezTo>
                <a:cubicBezTo>
                  <a:pt x="136" y="271"/>
                  <a:pt x="136" y="271"/>
                  <a:pt x="136" y="271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76" y="310"/>
                  <a:pt x="76" y="310"/>
                  <a:pt x="76" y="310"/>
                </a:cubicBezTo>
                <a:cubicBezTo>
                  <a:pt x="84" y="327"/>
                  <a:pt x="84" y="327"/>
                  <a:pt x="84" y="327"/>
                </a:cubicBezTo>
                <a:cubicBezTo>
                  <a:pt x="84" y="328"/>
                  <a:pt x="84" y="328"/>
                  <a:pt x="84" y="328"/>
                </a:cubicBezTo>
                <a:cubicBezTo>
                  <a:pt x="84" y="329"/>
                  <a:pt x="84" y="329"/>
                  <a:pt x="84" y="329"/>
                </a:cubicBezTo>
                <a:cubicBezTo>
                  <a:pt x="78" y="351"/>
                  <a:pt x="78" y="351"/>
                  <a:pt x="78" y="351"/>
                </a:cubicBezTo>
                <a:cubicBezTo>
                  <a:pt x="55" y="348"/>
                  <a:pt x="55" y="348"/>
                  <a:pt x="55" y="348"/>
                </a:cubicBezTo>
                <a:cubicBezTo>
                  <a:pt x="50" y="376"/>
                  <a:pt x="50" y="376"/>
                  <a:pt x="50" y="376"/>
                </a:cubicBezTo>
                <a:cubicBezTo>
                  <a:pt x="20" y="376"/>
                  <a:pt x="20" y="376"/>
                  <a:pt x="20" y="376"/>
                </a:cubicBezTo>
                <a:cubicBezTo>
                  <a:pt x="14" y="387"/>
                  <a:pt x="14" y="387"/>
                  <a:pt x="14" y="387"/>
                </a:cubicBezTo>
                <a:cubicBezTo>
                  <a:pt x="14" y="387"/>
                  <a:pt x="14" y="387"/>
                  <a:pt x="14" y="387"/>
                </a:cubicBezTo>
                <a:cubicBezTo>
                  <a:pt x="6" y="405"/>
                  <a:pt x="6" y="405"/>
                  <a:pt x="6" y="405"/>
                </a:cubicBezTo>
                <a:cubicBezTo>
                  <a:pt x="0" y="471"/>
                  <a:pt x="0" y="471"/>
                  <a:pt x="0" y="471"/>
                </a:cubicBezTo>
                <a:cubicBezTo>
                  <a:pt x="7" y="485"/>
                  <a:pt x="7" y="485"/>
                  <a:pt x="7" y="485"/>
                </a:cubicBezTo>
                <a:cubicBezTo>
                  <a:pt x="8" y="487"/>
                  <a:pt x="8" y="487"/>
                  <a:pt x="8" y="487"/>
                </a:cubicBezTo>
                <a:cubicBezTo>
                  <a:pt x="8" y="501"/>
                  <a:pt x="8" y="501"/>
                  <a:pt x="8" y="501"/>
                </a:cubicBezTo>
                <a:cubicBezTo>
                  <a:pt x="20" y="517"/>
                  <a:pt x="20" y="517"/>
                  <a:pt x="20" y="517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32"/>
                  <a:pt x="21" y="532"/>
                  <a:pt x="21" y="532"/>
                </a:cubicBezTo>
                <a:cubicBezTo>
                  <a:pt x="55" y="529"/>
                  <a:pt x="55" y="529"/>
                  <a:pt x="55" y="529"/>
                </a:cubicBezTo>
                <a:cubicBezTo>
                  <a:pt x="57" y="526"/>
                  <a:pt x="57" y="526"/>
                  <a:pt x="57" y="526"/>
                </a:cubicBezTo>
                <a:cubicBezTo>
                  <a:pt x="57" y="525"/>
                  <a:pt x="57" y="525"/>
                  <a:pt x="57" y="525"/>
                </a:cubicBezTo>
                <a:cubicBezTo>
                  <a:pt x="58" y="525"/>
                  <a:pt x="58" y="525"/>
                  <a:pt x="58" y="525"/>
                </a:cubicBezTo>
                <a:cubicBezTo>
                  <a:pt x="58" y="524"/>
                  <a:pt x="58" y="524"/>
                  <a:pt x="58" y="524"/>
                </a:cubicBezTo>
                <a:cubicBezTo>
                  <a:pt x="68" y="512"/>
                  <a:pt x="68" y="512"/>
                  <a:pt x="68" y="512"/>
                </a:cubicBezTo>
                <a:cubicBezTo>
                  <a:pt x="47" y="493"/>
                  <a:pt x="47" y="493"/>
                  <a:pt x="47" y="493"/>
                </a:cubicBezTo>
                <a:cubicBezTo>
                  <a:pt x="45" y="490"/>
                  <a:pt x="45" y="490"/>
                  <a:pt x="45" y="490"/>
                </a:cubicBezTo>
                <a:cubicBezTo>
                  <a:pt x="33" y="481"/>
                  <a:pt x="33" y="481"/>
                  <a:pt x="33" y="481"/>
                </a:cubicBezTo>
                <a:cubicBezTo>
                  <a:pt x="32" y="480"/>
                  <a:pt x="32" y="480"/>
                  <a:pt x="32" y="480"/>
                </a:cubicBezTo>
                <a:cubicBezTo>
                  <a:pt x="31" y="479"/>
                  <a:pt x="31" y="479"/>
                  <a:pt x="31" y="479"/>
                </a:cubicBezTo>
                <a:cubicBezTo>
                  <a:pt x="31" y="458"/>
                  <a:pt x="31" y="458"/>
                  <a:pt x="31" y="458"/>
                </a:cubicBezTo>
                <a:cubicBezTo>
                  <a:pt x="49" y="458"/>
                  <a:pt x="49" y="458"/>
                  <a:pt x="49" y="458"/>
                </a:cubicBezTo>
                <a:cubicBezTo>
                  <a:pt x="51" y="450"/>
                  <a:pt x="51" y="450"/>
                  <a:pt x="51" y="450"/>
                </a:cubicBezTo>
                <a:cubicBezTo>
                  <a:pt x="44" y="429"/>
                  <a:pt x="44" y="429"/>
                  <a:pt x="44" y="429"/>
                </a:cubicBezTo>
                <a:cubicBezTo>
                  <a:pt x="85" y="429"/>
                  <a:pt x="85" y="429"/>
                  <a:pt x="85" y="429"/>
                </a:cubicBezTo>
                <a:cubicBezTo>
                  <a:pt x="158" y="394"/>
                  <a:pt x="158" y="394"/>
                  <a:pt x="158" y="394"/>
                </a:cubicBezTo>
                <a:cubicBezTo>
                  <a:pt x="167" y="379"/>
                  <a:pt x="167" y="379"/>
                  <a:pt x="167" y="379"/>
                </a:cubicBezTo>
                <a:cubicBezTo>
                  <a:pt x="169" y="373"/>
                  <a:pt x="169" y="373"/>
                  <a:pt x="169" y="373"/>
                </a:cubicBezTo>
                <a:cubicBezTo>
                  <a:pt x="184" y="380"/>
                  <a:pt x="184" y="380"/>
                  <a:pt x="184" y="380"/>
                </a:cubicBezTo>
                <a:cubicBezTo>
                  <a:pt x="185" y="380"/>
                  <a:pt x="185" y="380"/>
                  <a:pt x="185" y="380"/>
                </a:cubicBezTo>
                <a:cubicBezTo>
                  <a:pt x="186" y="383"/>
                  <a:pt x="186" y="383"/>
                  <a:pt x="186" y="383"/>
                </a:cubicBezTo>
                <a:cubicBezTo>
                  <a:pt x="192" y="390"/>
                  <a:pt x="192" y="390"/>
                  <a:pt x="192" y="390"/>
                </a:cubicBezTo>
                <a:cubicBezTo>
                  <a:pt x="200" y="389"/>
                  <a:pt x="200" y="389"/>
                  <a:pt x="200" y="389"/>
                </a:cubicBezTo>
                <a:cubicBezTo>
                  <a:pt x="198" y="373"/>
                  <a:pt x="198" y="373"/>
                  <a:pt x="198" y="373"/>
                </a:cubicBezTo>
                <a:cubicBezTo>
                  <a:pt x="222" y="373"/>
                  <a:pt x="222" y="373"/>
                  <a:pt x="222" y="373"/>
                </a:cubicBezTo>
                <a:cubicBezTo>
                  <a:pt x="245" y="378"/>
                  <a:pt x="245" y="378"/>
                  <a:pt x="245" y="378"/>
                </a:cubicBezTo>
                <a:cubicBezTo>
                  <a:pt x="255" y="362"/>
                  <a:pt x="255" y="362"/>
                  <a:pt x="255" y="362"/>
                </a:cubicBezTo>
                <a:cubicBezTo>
                  <a:pt x="256" y="361"/>
                  <a:pt x="256" y="361"/>
                  <a:pt x="256" y="361"/>
                </a:cubicBezTo>
                <a:cubicBezTo>
                  <a:pt x="256" y="360"/>
                  <a:pt x="256" y="360"/>
                  <a:pt x="256" y="360"/>
                </a:cubicBezTo>
                <a:cubicBezTo>
                  <a:pt x="258" y="359"/>
                  <a:pt x="258" y="359"/>
                  <a:pt x="258" y="359"/>
                </a:cubicBezTo>
                <a:cubicBezTo>
                  <a:pt x="283" y="351"/>
                  <a:pt x="283" y="351"/>
                  <a:pt x="283" y="351"/>
                </a:cubicBezTo>
                <a:cubicBezTo>
                  <a:pt x="287" y="314"/>
                  <a:pt x="287" y="314"/>
                  <a:pt x="287" y="314"/>
                </a:cubicBezTo>
                <a:cubicBezTo>
                  <a:pt x="314" y="337"/>
                  <a:pt x="314" y="337"/>
                  <a:pt x="314" y="337"/>
                </a:cubicBezTo>
                <a:cubicBezTo>
                  <a:pt x="324" y="340"/>
                  <a:pt x="324" y="340"/>
                  <a:pt x="324" y="340"/>
                </a:cubicBezTo>
                <a:cubicBezTo>
                  <a:pt x="330" y="333"/>
                  <a:pt x="330" y="333"/>
                  <a:pt x="330" y="333"/>
                </a:cubicBezTo>
                <a:cubicBezTo>
                  <a:pt x="326" y="253"/>
                  <a:pt x="326" y="253"/>
                  <a:pt x="326" y="253"/>
                </a:cubicBezTo>
                <a:cubicBezTo>
                  <a:pt x="326" y="251"/>
                  <a:pt x="326" y="251"/>
                  <a:pt x="326" y="251"/>
                </a:cubicBezTo>
                <a:cubicBezTo>
                  <a:pt x="326" y="247"/>
                  <a:pt x="326" y="247"/>
                  <a:pt x="326" y="247"/>
                </a:cubicBezTo>
                <a:cubicBezTo>
                  <a:pt x="344" y="250"/>
                  <a:pt x="344" y="250"/>
                  <a:pt x="344" y="250"/>
                </a:cubicBezTo>
                <a:cubicBezTo>
                  <a:pt x="345" y="250"/>
                  <a:pt x="345" y="250"/>
                  <a:pt x="345" y="250"/>
                </a:cubicBezTo>
                <a:cubicBezTo>
                  <a:pt x="345" y="250"/>
                  <a:pt x="347" y="251"/>
                  <a:pt x="348" y="251"/>
                </a:cubicBezTo>
                <a:cubicBezTo>
                  <a:pt x="348" y="251"/>
                  <a:pt x="348" y="252"/>
                  <a:pt x="349" y="252"/>
                </a:cubicBezTo>
                <a:cubicBezTo>
                  <a:pt x="357" y="264"/>
                  <a:pt x="377" y="304"/>
                  <a:pt x="377" y="304"/>
                </a:cubicBezTo>
                <a:cubicBezTo>
                  <a:pt x="413" y="299"/>
                  <a:pt x="413" y="299"/>
                  <a:pt x="413" y="299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25" y="285"/>
                  <a:pt x="425" y="285"/>
                  <a:pt x="425" y="285"/>
                </a:cubicBezTo>
                <a:cubicBezTo>
                  <a:pt x="414" y="276"/>
                  <a:pt x="414" y="276"/>
                  <a:pt x="414" y="276"/>
                </a:cubicBezTo>
                <a:cubicBezTo>
                  <a:pt x="411" y="272"/>
                  <a:pt x="411" y="272"/>
                  <a:pt x="411" y="272"/>
                </a:cubicBezTo>
                <a:cubicBezTo>
                  <a:pt x="435" y="264"/>
                  <a:pt x="435" y="264"/>
                  <a:pt x="435" y="264"/>
                </a:cubicBezTo>
                <a:cubicBezTo>
                  <a:pt x="437" y="262"/>
                  <a:pt x="437" y="262"/>
                  <a:pt x="437" y="262"/>
                </a:cubicBezTo>
                <a:cubicBezTo>
                  <a:pt x="438" y="261"/>
                  <a:pt x="438" y="261"/>
                  <a:pt x="438" y="261"/>
                </a:cubicBezTo>
                <a:cubicBezTo>
                  <a:pt x="448" y="272"/>
                  <a:pt x="448" y="272"/>
                  <a:pt x="448" y="272"/>
                </a:cubicBezTo>
                <a:cubicBezTo>
                  <a:pt x="456" y="268"/>
                  <a:pt x="456" y="268"/>
                  <a:pt x="456" y="268"/>
                </a:cubicBezTo>
                <a:cubicBezTo>
                  <a:pt x="456" y="252"/>
                  <a:pt x="456" y="252"/>
                  <a:pt x="456" y="252"/>
                </a:cubicBezTo>
                <a:cubicBezTo>
                  <a:pt x="462" y="251"/>
                  <a:pt x="462" y="251"/>
                  <a:pt x="462" y="251"/>
                </a:cubicBezTo>
                <a:cubicBezTo>
                  <a:pt x="479" y="251"/>
                  <a:pt x="479" y="251"/>
                  <a:pt x="479" y="251"/>
                </a:cubicBezTo>
                <a:cubicBezTo>
                  <a:pt x="492" y="252"/>
                  <a:pt x="502" y="258"/>
                  <a:pt x="509" y="268"/>
                </a:cubicBezTo>
                <a:cubicBezTo>
                  <a:pt x="511" y="272"/>
                  <a:pt x="511" y="272"/>
                  <a:pt x="511" y="272"/>
                </a:cubicBezTo>
                <a:cubicBezTo>
                  <a:pt x="518" y="247"/>
                  <a:pt x="518" y="247"/>
                  <a:pt x="518" y="247"/>
                </a:cubicBezTo>
                <a:cubicBezTo>
                  <a:pt x="523" y="240"/>
                  <a:pt x="531" y="239"/>
                  <a:pt x="544" y="245"/>
                </a:cubicBezTo>
                <a:cubicBezTo>
                  <a:pt x="546" y="246"/>
                  <a:pt x="546" y="246"/>
                  <a:pt x="546" y="246"/>
                </a:cubicBezTo>
                <a:cubicBezTo>
                  <a:pt x="546" y="247"/>
                  <a:pt x="546" y="247"/>
                  <a:pt x="546" y="247"/>
                </a:cubicBezTo>
                <a:cubicBezTo>
                  <a:pt x="547" y="248"/>
                  <a:pt x="547" y="248"/>
                  <a:pt x="547" y="248"/>
                </a:cubicBezTo>
                <a:cubicBezTo>
                  <a:pt x="548" y="249"/>
                  <a:pt x="550" y="250"/>
                  <a:pt x="551" y="250"/>
                </a:cubicBezTo>
                <a:cubicBezTo>
                  <a:pt x="556" y="248"/>
                  <a:pt x="575" y="235"/>
                  <a:pt x="606" y="211"/>
                </a:cubicBezTo>
                <a:cubicBezTo>
                  <a:pt x="606" y="195"/>
                  <a:pt x="615" y="186"/>
                  <a:pt x="628" y="182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3419640" y="3406680"/>
            <a:ext cx="382320" cy="503280"/>
          </a:xfrm>
          <a:custGeom>
            <a:avLst/>
            <a:gdLst/>
            <a:ahLst/>
            <a:rect l="l" t="t" r="r" b="b"/>
            <a:pathLst>
              <a:path w="403" h="545">
                <a:moveTo>
                  <a:pt x="316" y="21"/>
                </a:moveTo>
                <a:cubicBezTo>
                  <a:pt x="315" y="20"/>
                  <a:pt x="315" y="20"/>
                  <a:pt x="315" y="20"/>
                </a:cubicBezTo>
                <a:cubicBezTo>
                  <a:pt x="292" y="0"/>
                  <a:pt x="292" y="0"/>
                  <a:pt x="292" y="0"/>
                </a:cubicBezTo>
                <a:cubicBezTo>
                  <a:pt x="280" y="6"/>
                  <a:pt x="280" y="6"/>
                  <a:pt x="280" y="6"/>
                </a:cubicBezTo>
                <a:cubicBezTo>
                  <a:pt x="271" y="25"/>
                  <a:pt x="259" y="37"/>
                  <a:pt x="245" y="42"/>
                </a:cubicBezTo>
                <a:cubicBezTo>
                  <a:pt x="240" y="44"/>
                  <a:pt x="235" y="43"/>
                  <a:pt x="232" y="40"/>
                </a:cubicBezTo>
                <a:cubicBezTo>
                  <a:pt x="228" y="35"/>
                  <a:pt x="230" y="23"/>
                  <a:pt x="237" y="5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1" y="29"/>
                  <a:pt x="201" y="29"/>
                  <a:pt x="201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70" y="29"/>
                  <a:pt x="170" y="29"/>
                  <a:pt x="170" y="29"/>
                </a:cubicBezTo>
                <a:cubicBezTo>
                  <a:pt x="142" y="43"/>
                  <a:pt x="142" y="43"/>
                  <a:pt x="142" y="43"/>
                </a:cubicBezTo>
                <a:cubicBezTo>
                  <a:pt x="142" y="45"/>
                  <a:pt x="142" y="45"/>
                  <a:pt x="142" y="45"/>
                </a:cubicBezTo>
                <a:cubicBezTo>
                  <a:pt x="113" y="46"/>
                  <a:pt x="113" y="46"/>
                  <a:pt x="113" y="46"/>
                </a:cubicBezTo>
                <a:cubicBezTo>
                  <a:pt x="97" y="55"/>
                  <a:pt x="97" y="55"/>
                  <a:pt x="97" y="55"/>
                </a:cubicBezTo>
                <a:cubicBezTo>
                  <a:pt x="90" y="69"/>
                  <a:pt x="90" y="69"/>
                  <a:pt x="90" y="69"/>
                </a:cubicBezTo>
                <a:cubicBezTo>
                  <a:pt x="87" y="71"/>
                  <a:pt x="87" y="71"/>
                  <a:pt x="87" y="71"/>
                </a:cubicBezTo>
                <a:cubicBezTo>
                  <a:pt x="53" y="71"/>
                  <a:pt x="53" y="71"/>
                  <a:pt x="53" y="71"/>
                </a:cubicBezTo>
                <a:cubicBezTo>
                  <a:pt x="46" y="71"/>
                  <a:pt x="33" y="82"/>
                  <a:pt x="10" y="104"/>
                </a:cubicBezTo>
                <a:cubicBezTo>
                  <a:pt x="21" y="108"/>
                  <a:pt x="26" y="113"/>
                  <a:pt x="28" y="116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1"/>
                  <a:pt x="29" y="121"/>
                  <a:pt x="29" y="121"/>
                </a:cubicBezTo>
                <a:cubicBezTo>
                  <a:pt x="45" y="180"/>
                  <a:pt x="45" y="180"/>
                  <a:pt x="45" y="180"/>
                </a:cubicBezTo>
                <a:cubicBezTo>
                  <a:pt x="45" y="180"/>
                  <a:pt x="45" y="180"/>
                  <a:pt x="45" y="180"/>
                </a:cubicBezTo>
                <a:cubicBezTo>
                  <a:pt x="46" y="183"/>
                  <a:pt x="46" y="183"/>
                  <a:pt x="46" y="183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8"/>
                  <a:pt x="45" y="188"/>
                  <a:pt x="45" y="188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2" y="189"/>
                  <a:pt x="42" y="189"/>
                  <a:pt x="42" y="189"/>
                </a:cubicBezTo>
                <a:cubicBezTo>
                  <a:pt x="0" y="247"/>
                  <a:pt x="0" y="247"/>
                  <a:pt x="0" y="247"/>
                </a:cubicBezTo>
                <a:cubicBezTo>
                  <a:pt x="2" y="261"/>
                  <a:pt x="2" y="261"/>
                  <a:pt x="2" y="261"/>
                </a:cubicBezTo>
                <a:cubicBezTo>
                  <a:pt x="8" y="256"/>
                  <a:pt x="14" y="255"/>
                  <a:pt x="18" y="257"/>
                </a:cubicBezTo>
                <a:cubicBezTo>
                  <a:pt x="23" y="259"/>
                  <a:pt x="25" y="268"/>
                  <a:pt x="23" y="280"/>
                </a:cubicBezTo>
                <a:cubicBezTo>
                  <a:pt x="21" y="300"/>
                  <a:pt x="24" y="323"/>
                  <a:pt x="34" y="344"/>
                </a:cubicBezTo>
                <a:cubicBezTo>
                  <a:pt x="48" y="360"/>
                  <a:pt x="48" y="360"/>
                  <a:pt x="48" y="360"/>
                </a:cubicBezTo>
                <a:cubicBezTo>
                  <a:pt x="54" y="365"/>
                  <a:pt x="56" y="370"/>
                  <a:pt x="55" y="375"/>
                </a:cubicBezTo>
                <a:cubicBezTo>
                  <a:pt x="47" y="386"/>
                  <a:pt x="47" y="386"/>
                  <a:pt x="47" y="386"/>
                </a:cubicBezTo>
                <a:cubicBezTo>
                  <a:pt x="57" y="399"/>
                  <a:pt x="57" y="399"/>
                  <a:pt x="57" y="399"/>
                </a:cubicBezTo>
                <a:cubicBezTo>
                  <a:pt x="62" y="409"/>
                  <a:pt x="58" y="427"/>
                  <a:pt x="45" y="452"/>
                </a:cubicBezTo>
                <a:cubicBezTo>
                  <a:pt x="59" y="476"/>
                  <a:pt x="59" y="476"/>
                  <a:pt x="59" y="476"/>
                </a:cubicBezTo>
                <a:cubicBezTo>
                  <a:pt x="61" y="481"/>
                  <a:pt x="61" y="481"/>
                  <a:pt x="61" y="481"/>
                </a:cubicBezTo>
                <a:cubicBezTo>
                  <a:pt x="70" y="476"/>
                  <a:pt x="70" y="476"/>
                  <a:pt x="70" y="476"/>
                </a:cubicBezTo>
                <a:cubicBezTo>
                  <a:pt x="83" y="463"/>
                  <a:pt x="95" y="460"/>
                  <a:pt x="104" y="463"/>
                </a:cubicBezTo>
                <a:cubicBezTo>
                  <a:pt x="111" y="465"/>
                  <a:pt x="114" y="470"/>
                  <a:pt x="115" y="476"/>
                </a:cubicBezTo>
                <a:cubicBezTo>
                  <a:pt x="116" y="483"/>
                  <a:pt x="108" y="496"/>
                  <a:pt x="89" y="515"/>
                </a:cubicBezTo>
                <a:cubicBezTo>
                  <a:pt x="74" y="534"/>
                  <a:pt x="74" y="534"/>
                  <a:pt x="74" y="534"/>
                </a:cubicBezTo>
                <a:cubicBezTo>
                  <a:pt x="81" y="545"/>
                  <a:pt x="81" y="545"/>
                  <a:pt x="81" y="545"/>
                </a:cubicBezTo>
                <a:cubicBezTo>
                  <a:pt x="92" y="536"/>
                  <a:pt x="100" y="533"/>
                  <a:pt x="105" y="535"/>
                </a:cubicBezTo>
                <a:cubicBezTo>
                  <a:pt x="112" y="535"/>
                  <a:pt x="130" y="528"/>
                  <a:pt x="160" y="513"/>
                </a:cubicBezTo>
                <a:cubicBezTo>
                  <a:pt x="170" y="507"/>
                  <a:pt x="182" y="513"/>
                  <a:pt x="198" y="528"/>
                </a:cubicBezTo>
                <a:cubicBezTo>
                  <a:pt x="205" y="525"/>
                  <a:pt x="205" y="525"/>
                  <a:pt x="205" y="525"/>
                </a:cubicBezTo>
                <a:cubicBezTo>
                  <a:pt x="204" y="513"/>
                  <a:pt x="204" y="513"/>
                  <a:pt x="204" y="513"/>
                </a:cubicBezTo>
                <a:cubicBezTo>
                  <a:pt x="200" y="510"/>
                  <a:pt x="200" y="510"/>
                  <a:pt x="200" y="510"/>
                </a:cubicBezTo>
                <a:cubicBezTo>
                  <a:pt x="198" y="507"/>
                  <a:pt x="200" y="504"/>
                  <a:pt x="204" y="501"/>
                </a:cubicBezTo>
                <a:cubicBezTo>
                  <a:pt x="198" y="481"/>
                  <a:pt x="198" y="481"/>
                  <a:pt x="198" y="481"/>
                </a:cubicBezTo>
                <a:cubicBezTo>
                  <a:pt x="197" y="478"/>
                  <a:pt x="197" y="474"/>
                  <a:pt x="198" y="470"/>
                </a:cubicBezTo>
                <a:cubicBezTo>
                  <a:pt x="201" y="467"/>
                  <a:pt x="206" y="465"/>
                  <a:pt x="210" y="463"/>
                </a:cubicBezTo>
                <a:cubicBezTo>
                  <a:pt x="219" y="455"/>
                  <a:pt x="219" y="455"/>
                  <a:pt x="219" y="455"/>
                </a:cubicBezTo>
                <a:cubicBezTo>
                  <a:pt x="214" y="442"/>
                  <a:pt x="214" y="442"/>
                  <a:pt x="214" y="442"/>
                </a:cubicBezTo>
                <a:cubicBezTo>
                  <a:pt x="214" y="441"/>
                  <a:pt x="214" y="441"/>
                  <a:pt x="214" y="441"/>
                </a:cubicBezTo>
                <a:cubicBezTo>
                  <a:pt x="215" y="441"/>
                  <a:pt x="215" y="441"/>
                  <a:pt x="215" y="441"/>
                </a:cubicBezTo>
                <a:cubicBezTo>
                  <a:pt x="215" y="440"/>
                  <a:pt x="215" y="440"/>
                  <a:pt x="215" y="440"/>
                </a:cubicBezTo>
                <a:cubicBezTo>
                  <a:pt x="219" y="433"/>
                  <a:pt x="219" y="428"/>
                  <a:pt x="218" y="425"/>
                </a:cubicBezTo>
                <a:cubicBezTo>
                  <a:pt x="214" y="418"/>
                  <a:pt x="217" y="412"/>
                  <a:pt x="226" y="405"/>
                </a:cubicBezTo>
                <a:cubicBezTo>
                  <a:pt x="237" y="394"/>
                  <a:pt x="237" y="394"/>
                  <a:pt x="237" y="394"/>
                </a:cubicBezTo>
                <a:cubicBezTo>
                  <a:pt x="235" y="392"/>
                  <a:pt x="235" y="392"/>
                  <a:pt x="235" y="392"/>
                </a:cubicBezTo>
                <a:cubicBezTo>
                  <a:pt x="232" y="389"/>
                  <a:pt x="232" y="389"/>
                  <a:pt x="232" y="389"/>
                </a:cubicBezTo>
                <a:cubicBezTo>
                  <a:pt x="246" y="383"/>
                  <a:pt x="246" y="383"/>
                  <a:pt x="246" y="383"/>
                </a:cubicBezTo>
                <a:cubicBezTo>
                  <a:pt x="246" y="366"/>
                  <a:pt x="246" y="366"/>
                  <a:pt x="246" y="366"/>
                </a:cubicBezTo>
                <a:cubicBezTo>
                  <a:pt x="246" y="360"/>
                  <a:pt x="251" y="351"/>
                  <a:pt x="266" y="341"/>
                </a:cubicBezTo>
                <a:cubicBezTo>
                  <a:pt x="272" y="335"/>
                  <a:pt x="272" y="335"/>
                  <a:pt x="272" y="335"/>
                </a:cubicBezTo>
                <a:cubicBezTo>
                  <a:pt x="272" y="335"/>
                  <a:pt x="272" y="335"/>
                  <a:pt x="272" y="335"/>
                </a:cubicBezTo>
                <a:cubicBezTo>
                  <a:pt x="256" y="317"/>
                  <a:pt x="256" y="317"/>
                  <a:pt x="256" y="317"/>
                </a:cubicBezTo>
                <a:cubicBezTo>
                  <a:pt x="251" y="310"/>
                  <a:pt x="253" y="300"/>
                  <a:pt x="263" y="291"/>
                </a:cubicBezTo>
                <a:cubicBezTo>
                  <a:pt x="263" y="289"/>
                  <a:pt x="263" y="289"/>
                  <a:pt x="263" y="289"/>
                </a:cubicBezTo>
                <a:cubicBezTo>
                  <a:pt x="295" y="261"/>
                  <a:pt x="295" y="261"/>
                  <a:pt x="295" y="261"/>
                </a:cubicBezTo>
                <a:cubicBezTo>
                  <a:pt x="296" y="254"/>
                  <a:pt x="296" y="254"/>
                  <a:pt x="296" y="254"/>
                </a:cubicBezTo>
                <a:cubicBezTo>
                  <a:pt x="290" y="252"/>
                  <a:pt x="288" y="240"/>
                  <a:pt x="291" y="222"/>
                </a:cubicBezTo>
                <a:cubicBezTo>
                  <a:pt x="295" y="194"/>
                  <a:pt x="308" y="180"/>
                  <a:pt x="330" y="177"/>
                </a:cubicBezTo>
                <a:cubicBezTo>
                  <a:pt x="330" y="177"/>
                  <a:pt x="330" y="177"/>
                  <a:pt x="330" y="177"/>
                </a:cubicBezTo>
                <a:cubicBezTo>
                  <a:pt x="332" y="177"/>
                  <a:pt x="332" y="177"/>
                  <a:pt x="332" y="177"/>
                </a:cubicBezTo>
                <a:cubicBezTo>
                  <a:pt x="346" y="184"/>
                  <a:pt x="346" y="184"/>
                  <a:pt x="346" y="184"/>
                </a:cubicBezTo>
                <a:cubicBezTo>
                  <a:pt x="361" y="184"/>
                  <a:pt x="361" y="184"/>
                  <a:pt x="361" y="184"/>
                </a:cubicBezTo>
                <a:cubicBezTo>
                  <a:pt x="375" y="167"/>
                  <a:pt x="375" y="167"/>
                  <a:pt x="375" y="167"/>
                </a:cubicBezTo>
                <a:cubicBezTo>
                  <a:pt x="375" y="167"/>
                  <a:pt x="375" y="167"/>
                  <a:pt x="375" y="167"/>
                </a:cubicBezTo>
                <a:cubicBezTo>
                  <a:pt x="375" y="167"/>
                  <a:pt x="375" y="167"/>
                  <a:pt x="375" y="167"/>
                </a:cubicBezTo>
                <a:cubicBezTo>
                  <a:pt x="376" y="166"/>
                  <a:pt x="376" y="166"/>
                  <a:pt x="376" y="166"/>
                </a:cubicBezTo>
                <a:cubicBezTo>
                  <a:pt x="392" y="156"/>
                  <a:pt x="392" y="156"/>
                  <a:pt x="392" y="156"/>
                </a:cubicBezTo>
                <a:cubicBezTo>
                  <a:pt x="390" y="141"/>
                  <a:pt x="390" y="141"/>
                  <a:pt x="390" y="141"/>
                </a:cubicBezTo>
                <a:cubicBezTo>
                  <a:pt x="390" y="138"/>
                  <a:pt x="390" y="138"/>
                  <a:pt x="390" y="138"/>
                </a:cubicBezTo>
                <a:cubicBezTo>
                  <a:pt x="392" y="136"/>
                  <a:pt x="392" y="136"/>
                  <a:pt x="392" y="136"/>
                </a:cubicBezTo>
                <a:cubicBezTo>
                  <a:pt x="397" y="134"/>
                  <a:pt x="397" y="134"/>
                  <a:pt x="397" y="134"/>
                </a:cubicBezTo>
                <a:cubicBezTo>
                  <a:pt x="402" y="127"/>
                  <a:pt x="402" y="127"/>
                  <a:pt x="402" y="127"/>
                </a:cubicBezTo>
                <a:cubicBezTo>
                  <a:pt x="403" y="126"/>
                  <a:pt x="403" y="126"/>
                  <a:pt x="403" y="126"/>
                </a:cubicBezTo>
                <a:cubicBezTo>
                  <a:pt x="392" y="108"/>
                  <a:pt x="392" y="108"/>
                  <a:pt x="392" y="108"/>
                </a:cubicBezTo>
                <a:cubicBezTo>
                  <a:pt x="382" y="95"/>
                  <a:pt x="372" y="82"/>
                  <a:pt x="366" y="67"/>
                </a:cubicBezTo>
                <a:cubicBezTo>
                  <a:pt x="361" y="58"/>
                  <a:pt x="362" y="47"/>
                  <a:pt x="369" y="36"/>
                </a:cubicBezTo>
                <a:cubicBezTo>
                  <a:pt x="350" y="24"/>
                  <a:pt x="350" y="24"/>
                  <a:pt x="350" y="24"/>
                </a:cubicBezTo>
                <a:lnTo>
                  <a:pt x="316" y="2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3618000" y="3540240"/>
            <a:ext cx="350640" cy="419040"/>
          </a:xfrm>
          <a:custGeom>
            <a:avLst/>
            <a:gdLst/>
            <a:ahLst/>
            <a:rect l="l" t="t" r="r" b="b"/>
            <a:pathLst>
              <a:path w="371" h="456">
                <a:moveTo>
                  <a:pt x="194" y="20"/>
                </a:moveTo>
                <a:cubicBezTo>
                  <a:pt x="192" y="21"/>
                  <a:pt x="192" y="21"/>
                  <a:pt x="192" y="21"/>
                </a:cubicBezTo>
                <a:cubicBezTo>
                  <a:pt x="174" y="34"/>
                  <a:pt x="174" y="34"/>
                  <a:pt x="174" y="34"/>
                </a:cubicBezTo>
                <a:cubicBezTo>
                  <a:pt x="158" y="52"/>
                  <a:pt x="158" y="52"/>
                  <a:pt x="158" y="52"/>
                </a:cubicBezTo>
                <a:cubicBezTo>
                  <a:pt x="157" y="52"/>
                  <a:pt x="157" y="52"/>
                  <a:pt x="157" y="52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21" y="47"/>
                  <a:pt x="121" y="47"/>
                  <a:pt x="121" y="47"/>
                </a:cubicBezTo>
                <a:cubicBezTo>
                  <a:pt x="105" y="51"/>
                  <a:pt x="97" y="61"/>
                  <a:pt x="94" y="81"/>
                </a:cubicBezTo>
                <a:cubicBezTo>
                  <a:pt x="93" y="99"/>
                  <a:pt x="93" y="99"/>
                  <a:pt x="93" y="99"/>
                </a:cubicBezTo>
                <a:cubicBezTo>
                  <a:pt x="105" y="88"/>
                  <a:pt x="105" y="88"/>
                  <a:pt x="105" y="88"/>
                </a:cubicBezTo>
                <a:cubicBezTo>
                  <a:pt x="97" y="123"/>
                  <a:pt x="97" y="123"/>
                  <a:pt x="97" y="123"/>
                </a:cubicBezTo>
                <a:cubicBezTo>
                  <a:pt x="97" y="124"/>
                  <a:pt x="97" y="124"/>
                  <a:pt x="97" y="124"/>
                </a:cubicBezTo>
                <a:cubicBezTo>
                  <a:pt x="97" y="125"/>
                  <a:pt x="97" y="125"/>
                  <a:pt x="97" y="125"/>
                </a:cubicBezTo>
                <a:cubicBezTo>
                  <a:pt x="62" y="155"/>
                  <a:pt x="62" y="155"/>
                  <a:pt x="62" y="155"/>
                </a:cubicBezTo>
                <a:cubicBezTo>
                  <a:pt x="57" y="162"/>
                  <a:pt x="55" y="167"/>
                  <a:pt x="57" y="170"/>
                </a:cubicBezTo>
                <a:cubicBezTo>
                  <a:pt x="63" y="177"/>
                  <a:pt x="63" y="177"/>
                  <a:pt x="63" y="177"/>
                </a:cubicBezTo>
                <a:cubicBezTo>
                  <a:pt x="71" y="184"/>
                  <a:pt x="75" y="189"/>
                  <a:pt x="74" y="193"/>
                </a:cubicBezTo>
                <a:cubicBezTo>
                  <a:pt x="74" y="196"/>
                  <a:pt x="73" y="200"/>
                  <a:pt x="71" y="202"/>
                </a:cubicBezTo>
                <a:cubicBezTo>
                  <a:pt x="48" y="221"/>
                  <a:pt x="48" y="221"/>
                  <a:pt x="48" y="221"/>
                </a:cubicBezTo>
                <a:cubicBezTo>
                  <a:pt x="49" y="226"/>
                  <a:pt x="49" y="234"/>
                  <a:pt x="48" y="244"/>
                </a:cubicBezTo>
                <a:cubicBezTo>
                  <a:pt x="48" y="247"/>
                  <a:pt x="48" y="247"/>
                  <a:pt x="48" y="247"/>
                </a:cubicBezTo>
                <a:cubicBezTo>
                  <a:pt x="47" y="248"/>
                  <a:pt x="47" y="248"/>
                  <a:pt x="47" y="248"/>
                </a:cubicBezTo>
                <a:cubicBezTo>
                  <a:pt x="39" y="251"/>
                  <a:pt x="39" y="251"/>
                  <a:pt x="39" y="251"/>
                </a:cubicBezTo>
                <a:cubicBezTo>
                  <a:pt x="39" y="257"/>
                  <a:pt x="37" y="260"/>
                  <a:pt x="31" y="265"/>
                </a:cubicBezTo>
                <a:cubicBezTo>
                  <a:pt x="20" y="277"/>
                  <a:pt x="20" y="277"/>
                  <a:pt x="20" y="277"/>
                </a:cubicBezTo>
                <a:cubicBezTo>
                  <a:pt x="20" y="278"/>
                  <a:pt x="20" y="278"/>
                  <a:pt x="20" y="278"/>
                </a:cubicBezTo>
                <a:cubicBezTo>
                  <a:pt x="22" y="283"/>
                  <a:pt x="22" y="289"/>
                  <a:pt x="18" y="299"/>
                </a:cubicBezTo>
                <a:cubicBezTo>
                  <a:pt x="23" y="309"/>
                  <a:pt x="23" y="317"/>
                  <a:pt x="18" y="320"/>
                </a:cubicBezTo>
                <a:cubicBezTo>
                  <a:pt x="7" y="330"/>
                  <a:pt x="7" y="330"/>
                  <a:pt x="7" y="330"/>
                </a:cubicBezTo>
                <a:cubicBezTo>
                  <a:pt x="5" y="332"/>
                  <a:pt x="5" y="332"/>
                  <a:pt x="5" y="332"/>
                </a:cubicBezTo>
                <a:cubicBezTo>
                  <a:pt x="0" y="334"/>
                  <a:pt x="0" y="334"/>
                  <a:pt x="0" y="334"/>
                </a:cubicBezTo>
                <a:cubicBezTo>
                  <a:pt x="0" y="336"/>
                  <a:pt x="0" y="336"/>
                  <a:pt x="0" y="336"/>
                </a:cubicBezTo>
                <a:cubicBezTo>
                  <a:pt x="7" y="361"/>
                  <a:pt x="7" y="361"/>
                  <a:pt x="7" y="361"/>
                </a:cubicBezTo>
                <a:cubicBezTo>
                  <a:pt x="9" y="361"/>
                  <a:pt x="9" y="361"/>
                  <a:pt x="9" y="361"/>
                </a:cubicBezTo>
                <a:cubicBezTo>
                  <a:pt x="27" y="359"/>
                  <a:pt x="46" y="359"/>
                  <a:pt x="67" y="361"/>
                </a:cubicBezTo>
                <a:cubicBezTo>
                  <a:pt x="69" y="361"/>
                  <a:pt x="69" y="361"/>
                  <a:pt x="69" y="361"/>
                </a:cubicBezTo>
                <a:cubicBezTo>
                  <a:pt x="69" y="362"/>
                  <a:pt x="69" y="362"/>
                  <a:pt x="69" y="362"/>
                </a:cubicBezTo>
                <a:cubicBezTo>
                  <a:pt x="93" y="385"/>
                  <a:pt x="93" y="385"/>
                  <a:pt x="93" y="385"/>
                </a:cubicBezTo>
                <a:cubicBezTo>
                  <a:pt x="93" y="386"/>
                  <a:pt x="93" y="386"/>
                  <a:pt x="93" y="386"/>
                </a:cubicBezTo>
                <a:cubicBezTo>
                  <a:pt x="94" y="386"/>
                  <a:pt x="94" y="386"/>
                  <a:pt x="94" y="386"/>
                </a:cubicBezTo>
                <a:cubicBezTo>
                  <a:pt x="107" y="425"/>
                  <a:pt x="107" y="425"/>
                  <a:pt x="107" y="425"/>
                </a:cubicBezTo>
                <a:cubicBezTo>
                  <a:pt x="136" y="452"/>
                  <a:pt x="136" y="452"/>
                  <a:pt x="136" y="452"/>
                </a:cubicBezTo>
                <a:cubicBezTo>
                  <a:pt x="148" y="456"/>
                  <a:pt x="148" y="456"/>
                  <a:pt x="148" y="456"/>
                </a:cubicBezTo>
                <a:cubicBezTo>
                  <a:pt x="149" y="423"/>
                  <a:pt x="149" y="423"/>
                  <a:pt x="149" y="423"/>
                </a:cubicBezTo>
                <a:cubicBezTo>
                  <a:pt x="175" y="450"/>
                  <a:pt x="175" y="450"/>
                  <a:pt x="175" y="450"/>
                </a:cubicBezTo>
                <a:cubicBezTo>
                  <a:pt x="179" y="446"/>
                  <a:pt x="179" y="446"/>
                  <a:pt x="179" y="446"/>
                </a:cubicBezTo>
                <a:cubicBezTo>
                  <a:pt x="198" y="406"/>
                  <a:pt x="198" y="406"/>
                  <a:pt x="198" y="406"/>
                </a:cubicBezTo>
                <a:cubicBezTo>
                  <a:pt x="201" y="384"/>
                  <a:pt x="201" y="384"/>
                  <a:pt x="201" y="384"/>
                </a:cubicBezTo>
                <a:cubicBezTo>
                  <a:pt x="205" y="385"/>
                  <a:pt x="205" y="385"/>
                  <a:pt x="205" y="385"/>
                </a:cubicBezTo>
                <a:cubicBezTo>
                  <a:pt x="207" y="385"/>
                  <a:pt x="207" y="385"/>
                  <a:pt x="207" y="385"/>
                </a:cubicBezTo>
                <a:cubicBezTo>
                  <a:pt x="227" y="386"/>
                  <a:pt x="227" y="386"/>
                  <a:pt x="227" y="386"/>
                </a:cubicBezTo>
                <a:cubicBezTo>
                  <a:pt x="226" y="371"/>
                  <a:pt x="226" y="371"/>
                  <a:pt x="226" y="371"/>
                </a:cubicBezTo>
                <a:cubicBezTo>
                  <a:pt x="226" y="367"/>
                  <a:pt x="226" y="367"/>
                  <a:pt x="226" y="367"/>
                </a:cubicBezTo>
                <a:cubicBezTo>
                  <a:pt x="226" y="365"/>
                  <a:pt x="226" y="365"/>
                  <a:pt x="226" y="365"/>
                </a:cubicBezTo>
                <a:cubicBezTo>
                  <a:pt x="229" y="365"/>
                  <a:pt x="229" y="365"/>
                  <a:pt x="229" y="365"/>
                </a:cubicBezTo>
                <a:cubicBezTo>
                  <a:pt x="255" y="366"/>
                  <a:pt x="255" y="366"/>
                  <a:pt x="255" y="366"/>
                </a:cubicBezTo>
                <a:cubicBezTo>
                  <a:pt x="269" y="353"/>
                  <a:pt x="275" y="341"/>
                  <a:pt x="275" y="332"/>
                </a:cubicBezTo>
                <a:cubicBezTo>
                  <a:pt x="271" y="294"/>
                  <a:pt x="271" y="294"/>
                  <a:pt x="271" y="294"/>
                </a:cubicBezTo>
                <a:cubicBezTo>
                  <a:pt x="294" y="301"/>
                  <a:pt x="294" y="301"/>
                  <a:pt x="294" y="301"/>
                </a:cubicBezTo>
                <a:cubicBezTo>
                  <a:pt x="301" y="290"/>
                  <a:pt x="301" y="290"/>
                  <a:pt x="301" y="290"/>
                </a:cubicBezTo>
                <a:cubicBezTo>
                  <a:pt x="290" y="280"/>
                  <a:pt x="290" y="280"/>
                  <a:pt x="290" y="280"/>
                </a:cubicBezTo>
                <a:cubicBezTo>
                  <a:pt x="287" y="276"/>
                  <a:pt x="287" y="276"/>
                  <a:pt x="287" y="276"/>
                </a:cubicBezTo>
                <a:cubicBezTo>
                  <a:pt x="308" y="255"/>
                  <a:pt x="308" y="255"/>
                  <a:pt x="308" y="255"/>
                </a:cubicBezTo>
                <a:cubicBezTo>
                  <a:pt x="309" y="257"/>
                  <a:pt x="309" y="257"/>
                  <a:pt x="309" y="257"/>
                </a:cubicBezTo>
                <a:cubicBezTo>
                  <a:pt x="311" y="257"/>
                  <a:pt x="311" y="257"/>
                  <a:pt x="311" y="257"/>
                </a:cubicBezTo>
                <a:cubicBezTo>
                  <a:pt x="324" y="264"/>
                  <a:pt x="324" y="264"/>
                  <a:pt x="324" y="264"/>
                </a:cubicBezTo>
                <a:cubicBezTo>
                  <a:pt x="324" y="261"/>
                  <a:pt x="324" y="261"/>
                  <a:pt x="324" y="261"/>
                </a:cubicBezTo>
                <a:cubicBezTo>
                  <a:pt x="315" y="242"/>
                  <a:pt x="315" y="242"/>
                  <a:pt x="315" y="242"/>
                </a:cubicBezTo>
                <a:cubicBezTo>
                  <a:pt x="319" y="239"/>
                  <a:pt x="319" y="239"/>
                  <a:pt x="319" y="239"/>
                </a:cubicBezTo>
                <a:cubicBezTo>
                  <a:pt x="324" y="236"/>
                  <a:pt x="324" y="236"/>
                  <a:pt x="324" y="236"/>
                </a:cubicBezTo>
                <a:cubicBezTo>
                  <a:pt x="322" y="228"/>
                  <a:pt x="322" y="228"/>
                  <a:pt x="322" y="228"/>
                </a:cubicBezTo>
                <a:cubicBezTo>
                  <a:pt x="311" y="208"/>
                  <a:pt x="311" y="208"/>
                  <a:pt x="311" y="208"/>
                </a:cubicBezTo>
                <a:cubicBezTo>
                  <a:pt x="313" y="207"/>
                  <a:pt x="313" y="207"/>
                  <a:pt x="313" y="207"/>
                </a:cubicBezTo>
                <a:cubicBezTo>
                  <a:pt x="315" y="205"/>
                  <a:pt x="315" y="205"/>
                  <a:pt x="315" y="205"/>
                </a:cubicBezTo>
                <a:cubicBezTo>
                  <a:pt x="344" y="189"/>
                  <a:pt x="344" y="189"/>
                  <a:pt x="344" y="189"/>
                </a:cubicBezTo>
                <a:cubicBezTo>
                  <a:pt x="345" y="177"/>
                  <a:pt x="345" y="177"/>
                  <a:pt x="345" y="177"/>
                </a:cubicBezTo>
                <a:cubicBezTo>
                  <a:pt x="321" y="165"/>
                  <a:pt x="308" y="154"/>
                  <a:pt x="310" y="149"/>
                </a:cubicBezTo>
                <a:cubicBezTo>
                  <a:pt x="311" y="145"/>
                  <a:pt x="313" y="144"/>
                  <a:pt x="319" y="144"/>
                </a:cubicBezTo>
                <a:cubicBezTo>
                  <a:pt x="350" y="149"/>
                  <a:pt x="350" y="149"/>
                  <a:pt x="350" y="149"/>
                </a:cubicBezTo>
                <a:cubicBezTo>
                  <a:pt x="351" y="130"/>
                  <a:pt x="351" y="130"/>
                  <a:pt x="351" y="130"/>
                </a:cubicBezTo>
                <a:cubicBezTo>
                  <a:pt x="351" y="128"/>
                  <a:pt x="351" y="128"/>
                  <a:pt x="351" y="128"/>
                </a:cubicBezTo>
                <a:cubicBezTo>
                  <a:pt x="367" y="112"/>
                  <a:pt x="367" y="112"/>
                  <a:pt x="367" y="112"/>
                </a:cubicBezTo>
                <a:cubicBezTo>
                  <a:pt x="371" y="100"/>
                  <a:pt x="371" y="100"/>
                  <a:pt x="371" y="100"/>
                </a:cubicBezTo>
                <a:cubicBezTo>
                  <a:pt x="365" y="98"/>
                  <a:pt x="361" y="94"/>
                  <a:pt x="357" y="90"/>
                </a:cubicBezTo>
                <a:cubicBezTo>
                  <a:pt x="356" y="88"/>
                  <a:pt x="356" y="88"/>
                  <a:pt x="356" y="88"/>
                </a:cubicBezTo>
                <a:cubicBezTo>
                  <a:pt x="356" y="86"/>
                  <a:pt x="356" y="86"/>
                  <a:pt x="356" y="86"/>
                </a:cubicBezTo>
                <a:cubicBezTo>
                  <a:pt x="357" y="80"/>
                  <a:pt x="357" y="80"/>
                  <a:pt x="357" y="80"/>
                </a:cubicBezTo>
                <a:cubicBezTo>
                  <a:pt x="356" y="78"/>
                  <a:pt x="356" y="78"/>
                  <a:pt x="356" y="78"/>
                </a:cubicBezTo>
                <a:cubicBezTo>
                  <a:pt x="353" y="77"/>
                  <a:pt x="353" y="77"/>
                  <a:pt x="353" y="77"/>
                </a:cubicBezTo>
                <a:cubicBezTo>
                  <a:pt x="352" y="78"/>
                  <a:pt x="352" y="78"/>
                  <a:pt x="352" y="78"/>
                </a:cubicBezTo>
                <a:cubicBezTo>
                  <a:pt x="350" y="82"/>
                  <a:pt x="345" y="86"/>
                  <a:pt x="338" y="86"/>
                </a:cubicBezTo>
                <a:cubicBezTo>
                  <a:pt x="326" y="86"/>
                  <a:pt x="316" y="80"/>
                  <a:pt x="309" y="73"/>
                </a:cubicBezTo>
                <a:cubicBezTo>
                  <a:pt x="309" y="72"/>
                  <a:pt x="309" y="72"/>
                  <a:pt x="309" y="72"/>
                </a:cubicBezTo>
                <a:cubicBezTo>
                  <a:pt x="308" y="72"/>
                  <a:pt x="308" y="72"/>
                  <a:pt x="308" y="72"/>
                </a:cubicBezTo>
                <a:cubicBezTo>
                  <a:pt x="300" y="57"/>
                  <a:pt x="300" y="57"/>
                  <a:pt x="300" y="57"/>
                </a:cubicBezTo>
                <a:cubicBezTo>
                  <a:pt x="297" y="59"/>
                  <a:pt x="297" y="59"/>
                  <a:pt x="297" y="59"/>
                </a:cubicBezTo>
                <a:cubicBezTo>
                  <a:pt x="296" y="66"/>
                  <a:pt x="292" y="72"/>
                  <a:pt x="285" y="77"/>
                </a:cubicBezTo>
                <a:cubicBezTo>
                  <a:pt x="271" y="84"/>
                  <a:pt x="258" y="86"/>
                  <a:pt x="246" y="80"/>
                </a:cubicBezTo>
                <a:cubicBezTo>
                  <a:pt x="237" y="77"/>
                  <a:pt x="232" y="71"/>
                  <a:pt x="229" y="61"/>
                </a:cubicBezTo>
                <a:cubicBezTo>
                  <a:pt x="226" y="40"/>
                  <a:pt x="226" y="40"/>
                  <a:pt x="226" y="40"/>
                </a:cubicBezTo>
                <a:cubicBezTo>
                  <a:pt x="223" y="20"/>
                  <a:pt x="218" y="9"/>
                  <a:pt x="212" y="5"/>
                </a:cubicBezTo>
                <a:cubicBezTo>
                  <a:pt x="206" y="1"/>
                  <a:pt x="199" y="0"/>
                  <a:pt x="194" y="1"/>
                </a:cubicBezTo>
                <a:cubicBezTo>
                  <a:pt x="195" y="19"/>
                  <a:pt x="195" y="19"/>
                  <a:pt x="195" y="19"/>
                </a:cubicBezTo>
                <a:lnTo>
                  <a:pt x="194" y="2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3770280" y="3273480"/>
            <a:ext cx="306360" cy="342720"/>
          </a:xfrm>
          <a:custGeom>
            <a:avLst/>
            <a:gdLst/>
            <a:ahLst/>
            <a:rect l="l" t="t" r="r" b="b"/>
            <a:pathLst>
              <a:path w="322" h="372">
                <a:moveTo>
                  <a:pt x="198" y="5"/>
                </a:moveTo>
                <a:cubicBezTo>
                  <a:pt x="186" y="11"/>
                  <a:pt x="177" y="15"/>
                  <a:pt x="169" y="16"/>
                </a:cubicBezTo>
                <a:cubicBezTo>
                  <a:pt x="163" y="16"/>
                  <a:pt x="152" y="14"/>
                  <a:pt x="138" y="9"/>
                </a:cubicBezTo>
                <a:cubicBezTo>
                  <a:pt x="113" y="5"/>
                  <a:pt x="113" y="5"/>
                  <a:pt x="113" y="5"/>
                </a:cubicBezTo>
                <a:cubicBezTo>
                  <a:pt x="106" y="9"/>
                  <a:pt x="98" y="19"/>
                  <a:pt x="86" y="37"/>
                </a:cubicBezTo>
                <a:cubicBezTo>
                  <a:pt x="102" y="71"/>
                  <a:pt x="102" y="71"/>
                  <a:pt x="102" y="71"/>
                </a:cubicBezTo>
                <a:cubicBezTo>
                  <a:pt x="75" y="86"/>
                  <a:pt x="75" y="86"/>
                  <a:pt x="75" y="86"/>
                </a:cubicBezTo>
                <a:cubicBezTo>
                  <a:pt x="74" y="86"/>
                  <a:pt x="74" y="86"/>
                  <a:pt x="74" y="86"/>
                </a:cubicBezTo>
                <a:cubicBezTo>
                  <a:pt x="53" y="79"/>
                  <a:pt x="53" y="79"/>
                  <a:pt x="53" y="79"/>
                </a:cubicBezTo>
                <a:cubicBezTo>
                  <a:pt x="62" y="95"/>
                  <a:pt x="64" y="105"/>
                  <a:pt x="61" y="109"/>
                </a:cubicBezTo>
                <a:cubicBezTo>
                  <a:pt x="58" y="117"/>
                  <a:pt x="58" y="117"/>
                  <a:pt x="58" y="117"/>
                </a:cubicBezTo>
                <a:cubicBezTo>
                  <a:pt x="53" y="130"/>
                  <a:pt x="49" y="137"/>
                  <a:pt x="45" y="141"/>
                </a:cubicBezTo>
                <a:cubicBezTo>
                  <a:pt x="8" y="174"/>
                  <a:pt x="8" y="174"/>
                  <a:pt x="8" y="174"/>
                </a:cubicBezTo>
                <a:cubicBezTo>
                  <a:pt x="17" y="180"/>
                  <a:pt x="17" y="180"/>
                  <a:pt x="17" y="180"/>
                </a:cubicBezTo>
                <a:cubicBezTo>
                  <a:pt x="11" y="185"/>
                  <a:pt x="11" y="185"/>
                  <a:pt x="11" y="185"/>
                </a:cubicBezTo>
                <a:cubicBezTo>
                  <a:pt x="3" y="192"/>
                  <a:pt x="0" y="201"/>
                  <a:pt x="5" y="207"/>
                </a:cubicBezTo>
                <a:cubicBezTo>
                  <a:pt x="30" y="246"/>
                  <a:pt x="30" y="246"/>
                  <a:pt x="30" y="246"/>
                </a:cubicBezTo>
                <a:cubicBezTo>
                  <a:pt x="31" y="246"/>
                  <a:pt x="31" y="246"/>
                  <a:pt x="31" y="246"/>
                </a:cubicBezTo>
                <a:cubicBezTo>
                  <a:pt x="31" y="247"/>
                  <a:pt x="31" y="247"/>
                  <a:pt x="31" y="247"/>
                </a:cubicBezTo>
                <a:cubicBezTo>
                  <a:pt x="43" y="268"/>
                  <a:pt x="43" y="268"/>
                  <a:pt x="43" y="268"/>
                </a:cubicBezTo>
                <a:cubicBezTo>
                  <a:pt x="43" y="269"/>
                  <a:pt x="43" y="269"/>
                  <a:pt x="43" y="269"/>
                </a:cubicBezTo>
                <a:cubicBezTo>
                  <a:pt x="44" y="270"/>
                  <a:pt x="44" y="270"/>
                  <a:pt x="44" y="270"/>
                </a:cubicBezTo>
                <a:cubicBezTo>
                  <a:pt x="43" y="272"/>
                  <a:pt x="43" y="272"/>
                  <a:pt x="43" y="272"/>
                </a:cubicBezTo>
                <a:cubicBezTo>
                  <a:pt x="43" y="274"/>
                  <a:pt x="43" y="274"/>
                  <a:pt x="43" y="274"/>
                </a:cubicBezTo>
                <a:cubicBezTo>
                  <a:pt x="43" y="276"/>
                  <a:pt x="43" y="276"/>
                  <a:pt x="43" y="276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6" y="278"/>
                  <a:pt x="50" y="280"/>
                  <a:pt x="55" y="283"/>
                </a:cubicBezTo>
                <a:cubicBezTo>
                  <a:pt x="64" y="288"/>
                  <a:pt x="70" y="303"/>
                  <a:pt x="73" y="325"/>
                </a:cubicBezTo>
                <a:cubicBezTo>
                  <a:pt x="77" y="346"/>
                  <a:pt x="77" y="346"/>
                  <a:pt x="77" y="346"/>
                </a:cubicBezTo>
                <a:cubicBezTo>
                  <a:pt x="80" y="352"/>
                  <a:pt x="82" y="355"/>
                  <a:pt x="87" y="357"/>
                </a:cubicBezTo>
                <a:cubicBezTo>
                  <a:pt x="95" y="361"/>
                  <a:pt x="106" y="360"/>
                  <a:pt x="115" y="354"/>
                </a:cubicBezTo>
                <a:cubicBezTo>
                  <a:pt x="121" y="350"/>
                  <a:pt x="124" y="347"/>
                  <a:pt x="123" y="344"/>
                </a:cubicBezTo>
                <a:cubicBezTo>
                  <a:pt x="122" y="343"/>
                  <a:pt x="122" y="343"/>
                  <a:pt x="122" y="343"/>
                </a:cubicBezTo>
                <a:cubicBezTo>
                  <a:pt x="122" y="341"/>
                  <a:pt x="122" y="341"/>
                  <a:pt x="122" y="341"/>
                </a:cubicBezTo>
                <a:cubicBezTo>
                  <a:pt x="140" y="328"/>
                  <a:pt x="140" y="328"/>
                  <a:pt x="140" y="328"/>
                </a:cubicBezTo>
                <a:cubicBezTo>
                  <a:pt x="142" y="330"/>
                  <a:pt x="142" y="330"/>
                  <a:pt x="142" y="330"/>
                </a:cubicBezTo>
                <a:cubicBezTo>
                  <a:pt x="156" y="354"/>
                  <a:pt x="156" y="354"/>
                  <a:pt x="156" y="354"/>
                </a:cubicBezTo>
                <a:cubicBezTo>
                  <a:pt x="161" y="358"/>
                  <a:pt x="166" y="360"/>
                  <a:pt x="175" y="360"/>
                </a:cubicBezTo>
                <a:cubicBezTo>
                  <a:pt x="180" y="359"/>
                  <a:pt x="180" y="359"/>
                  <a:pt x="180" y="359"/>
                </a:cubicBezTo>
                <a:cubicBezTo>
                  <a:pt x="180" y="359"/>
                  <a:pt x="180" y="359"/>
                  <a:pt x="180" y="359"/>
                </a:cubicBezTo>
                <a:cubicBezTo>
                  <a:pt x="176" y="346"/>
                  <a:pt x="176" y="346"/>
                  <a:pt x="176" y="346"/>
                </a:cubicBezTo>
                <a:cubicBezTo>
                  <a:pt x="196" y="355"/>
                  <a:pt x="196" y="355"/>
                  <a:pt x="196" y="355"/>
                </a:cubicBezTo>
                <a:cubicBezTo>
                  <a:pt x="201" y="355"/>
                  <a:pt x="201" y="355"/>
                  <a:pt x="201" y="355"/>
                </a:cubicBezTo>
                <a:cubicBezTo>
                  <a:pt x="202" y="355"/>
                  <a:pt x="202" y="355"/>
                  <a:pt x="202" y="355"/>
                </a:cubicBezTo>
                <a:cubicBezTo>
                  <a:pt x="203" y="357"/>
                  <a:pt x="203" y="357"/>
                  <a:pt x="203" y="357"/>
                </a:cubicBezTo>
                <a:cubicBezTo>
                  <a:pt x="222" y="372"/>
                  <a:pt x="222" y="372"/>
                  <a:pt x="222" y="372"/>
                </a:cubicBezTo>
                <a:cubicBezTo>
                  <a:pt x="227" y="363"/>
                  <a:pt x="227" y="363"/>
                  <a:pt x="227" y="363"/>
                </a:cubicBezTo>
                <a:cubicBezTo>
                  <a:pt x="226" y="327"/>
                  <a:pt x="226" y="327"/>
                  <a:pt x="226" y="327"/>
                </a:cubicBezTo>
                <a:cubicBezTo>
                  <a:pt x="227" y="326"/>
                  <a:pt x="227" y="326"/>
                  <a:pt x="227" y="326"/>
                </a:cubicBezTo>
                <a:cubicBezTo>
                  <a:pt x="227" y="326"/>
                  <a:pt x="227" y="326"/>
                  <a:pt x="227" y="326"/>
                </a:cubicBezTo>
                <a:cubicBezTo>
                  <a:pt x="240" y="310"/>
                  <a:pt x="240" y="310"/>
                  <a:pt x="240" y="310"/>
                </a:cubicBezTo>
                <a:cubicBezTo>
                  <a:pt x="241" y="308"/>
                  <a:pt x="240" y="304"/>
                  <a:pt x="235" y="299"/>
                </a:cubicBezTo>
                <a:cubicBezTo>
                  <a:pt x="232" y="296"/>
                  <a:pt x="232" y="296"/>
                  <a:pt x="232" y="296"/>
                </a:cubicBezTo>
                <a:cubicBezTo>
                  <a:pt x="234" y="293"/>
                  <a:pt x="234" y="293"/>
                  <a:pt x="234" y="293"/>
                </a:cubicBezTo>
                <a:cubicBezTo>
                  <a:pt x="235" y="291"/>
                  <a:pt x="235" y="291"/>
                  <a:pt x="235" y="291"/>
                </a:cubicBezTo>
                <a:cubicBezTo>
                  <a:pt x="238" y="290"/>
                  <a:pt x="238" y="290"/>
                  <a:pt x="238" y="290"/>
                </a:cubicBezTo>
                <a:cubicBezTo>
                  <a:pt x="264" y="247"/>
                  <a:pt x="264" y="247"/>
                  <a:pt x="264" y="247"/>
                </a:cubicBezTo>
                <a:cubicBezTo>
                  <a:pt x="266" y="248"/>
                  <a:pt x="266" y="248"/>
                  <a:pt x="266" y="248"/>
                </a:cubicBezTo>
                <a:cubicBezTo>
                  <a:pt x="272" y="249"/>
                  <a:pt x="272" y="249"/>
                  <a:pt x="272" y="249"/>
                </a:cubicBezTo>
                <a:cubicBezTo>
                  <a:pt x="274" y="250"/>
                  <a:pt x="274" y="250"/>
                  <a:pt x="274" y="250"/>
                </a:cubicBezTo>
                <a:cubicBezTo>
                  <a:pt x="274" y="252"/>
                  <a:pt x="274" y="252"/>
                  <a:pt x="274" y="252"/>
                </a:cubicBezTo>
                <a:cubicBezTo>
                  <a:pt x="272" y="269"/>
                  <a:pt x="272" y="269"/>
                  <a:pt x="272" y="269"/>
                </a:cubicBezTo>
                <a:cubicBezTo>
                  <a:pt x="274" y="269"/>
                  <a:pt x="274" y="269"/>
                  <a:pt x="274" y="269"/>
                </a:cubicBezTo>
                <a:cubicBezTo>
                  <a:pt x="303" y="243"/>
                  <a:pt x="303" y="243"/>
                  <a:pt x="303" y="243"/>
                </a:cubicBezTo>
                <a:cubicBezTo>
                  <a:pt x="301" y="229"/>
                  <a:pt x="301" y="229"/>
                  <a:pt x="301" y="229"/>
                </a:cubicBezTo>
                <a:cubicBezTo>
                  <a:pt x="296" y="229"/>
                  <a:pt x="296" y="229"/>
                  <a:pt x="296" y="229"/>
                </a:cubicBezTo>
                <a:cubicBezTo>
                  <a:pt x="285" y="230"/>
                  <a:pt x="285" y="230"/>
                  <a:pt x="285" y="230"/>
                </a:cubicBezTo>
                <a:cubicBezTo>
                  <a:pt x="303" y="182"/>
                  <a:pt x="303" y="182"/>
                  <a:pt x="303" y="182"/>
                </a:cubicBezTo>
                <a:cubicBezTo>
                  <a:pt x="287" y="180"/>
                  <a:pt x="287" y="180"/>
                  <a:pt x="287" y="180"/>
                </a:cubicBezTo>
                <a:cubicBezTo>
                  <a:pt x="287" y="180"/>
                  <a:pt x="287" y="180"/>
                  <a:pt x="287" y="180"/>
                </a:cubicBezTo>
                <a:cubicBezTo>
                  <a:pt x="285" y="180"/>
                  <a:pt x="285" y="180"/>
                  <a:pt x="285" y="180"/>
                </a:cubicBezTo>
                <a:cubicBezTo>
                  <a:pt x="285" y="177"/>
                  <a:pt x="285" y="177"/>
                  <a:pt x="285" y="177"/>
                </a:cubicBezTo>
                <a:cubicBezTo>
                  <a:pt x="280" y="171"/>
                  <a:pt x="280" y="171"/>
                  <a:pt x="280" y="171"/>
                </a:cubicBezTo>
                <a:cubicBezTo>
                  <a:pt x="277" y="165"/>
                  <a:pt x="277" y="159"/>
                  <a:pt x="281" y="154"/>
                </a:cubicBezTo>
                <a:cubicBezTo>
                  <a:pt x="306" y="153"/>
                  <a:pt x="306" y="153"/>
                  <a:pt x="306" y="153"/>
                </a:cubicBezTo>
                <a:cubicBezTo>
                  <a:pt x="322" y="153"/>
                  <a:pt x="322" y="153"/>
                  <a:pt x="322" y="153"/>
                </a:cubicBezTo>
                <a:cubicBezTo>
                  <a:pt x="322" y="148"/>
                  <a:pt x="319" y="138"/>
                  <a:pt x="310" y="123"/>
                </a:cubicBezTo>
                <a:cubicBezTo>
                  <a:pt x="287" y="115"/>
                  <a:pt x="287" y="115"/>
                  <a:pt x="287" y="115"/>
                </a:cubicBezTo>
                <a:cubicBezTo>
                  <a:pt x="311" y="93"/>
                  <a:pt x="311" y="93"/>
                  <a:pt x="311" y="93"/>
                </a:cubicBezTo>
                <a:cubicBezTo>
                  <a:pt x="311" y="88"/>
                  <a:pt x="311" y="88"/>
                  <a:pt x="311" y="88"/>
                </a:cubicBezTo>
                <a:cubicBezTo>
                  <a:pt x="299" y="90"/>
                  <a:pt x="299" y="90"/>
                  <a:pt x="299" y="90"/>
                </a:cubicBezTo>
                <a:cubicBezTo>
                  <a:pt x="295" y="90"/>
                  <a:pt x="295" y="90"/>
                  <a:pt x="295" y="90"/>
                </a:cubicBezTo>
                <a:cubicBezTo>
                  <a:pt x="295" y="89"/>
                  <a:pt x="295" y="89"/>
                  <a:pt x="295" y="89"/>
                </a:cubicBezTo>
                <a:cubicBezTo>
                  <a:pt x="294" y="88"/>
                  <a:pt x="294" y="88"/>
                  <a:pt x="294" y="88"/>
                </a:cubicBezTo>
                <a:cubicBezTo>
                  <a:pt x="293" y="86"/>
                  <a:pt x="293" y="86"/>
                  <a:pt x="293" y="86"/>
                </a:cubicBezTo>
                <a:cubicBezTo>
                  <a:pt x="290" y="75"/>
                  <a:pt x="283" y="67"/>
                  <a:pt x="274" y="63"/>
                </a:cubicBezTo>
                <a:cubicBezTo>
                  <a:pt x="232" y="64"/>
                  <a:pt x="232" y="64"/>
                  <a:pt x="232" y="64"/>
                </a:cubicBezTo>
                <a:cubicBezTo>
                  <a:pt x="214" y="86"/>
                  <a:pt x="214" y="86"/>
                  <a:pt x="214" y="86"/>
                </a:cubicBezTo>
                <a:cubicBezTo>
                  <a:pt x="214" y="87"/>
                  <a:pt x="214" y="87"/>
                  <a:pt x="214" y="87"/>
                </a:cubicBezTo>
                <a:cubicBezTo>
                  <a:pt x="208" y="86"/>
                  <a:pt x="208" y="86"/>
                  <a:pt x="208" y="86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206" y="48"/>
                  <a:pt x="206" y="48"/>
                  <a:pt x="206" y="48"/>
                </a:cubicBezTo>
                <a:cubicBezTo>
                  <a:pt x="210" y="48"/>
                  <a:pt x="221" y="37"/>
                  <a:pt x="239" y="16"/>
                </a:cubicBezTo>
                <a:cubicBezTo>
                  <a:pt x="217" y="0"/>
                  <a:pt x="217" y="0"/>
                  <a:pt x="217" y="0"/>
                </a:cubicBezTo>
                <a:lnTo>
                  <a:pt x="198" y="5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3479760" y="2979720"/>
            <a:ext cx="382680" cy="455760"/>
          </a:xfrm>
          <a:custGeom>
            <a:avLst/>
            <a:gdLst/>
            <a:ahLst/>
            <a:rect l="l" t="t" r="r" b="b"/>
            <a:pathLst>
              <a:path w="403" h="494">
                <a:moveTo>
                  <a:pt x="255" y="140"/>
                </a:moveTo>
                <a:cubicBezTo>
                  <a:pt x="254" y="140"/>
                  <a:pt x="254" y="140"/>
                  <a:pt x="254" y="140"/>
                </a:cubicBezTo>
                <a:cubicBezTo>
                  <a:pt x="254" y="139"/>
                  <a:pt x="254" y="139"/>
                  <a:pt x="254" y="139"/>
                </a:cubicBezTo>
                <a:cubicBezTo>
                  <a:pt x="242" y="99"/>
                  <a:pt x="231" y="76"/>
                  <a:pt x="224" y="73"/>
                </a:cubicBezTo>
                <a:cubicBezTo>
                  <a:pt x="187" y="61"/>
                  <a:pt x="187" y="61"/>
                  <a:pt x="187" y="61"/>
                </a:cubicBezTo>
                <a:cubicBezTo>
                  <a:pt x="166" y="54"/>
                  <a:pt x="151" y="50"/>
                  <a:pt x="145" y="46"/>
                </a:cubicBezTo>
                <a:cubicBezTo>
                  <a:pt x="134" y="39"/>
                  <a:pt x="121" y="25"/>
                  <a:pt x="105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9" y="1"/>
                  <a:pt x="99" y="1"/>
                  <a:pt x="99" y="1"/>
                </a:cubicBezTo>
                <a:cubicBezTo>
                  <a:pt x="102" y="10"/>
                  <a:pt x="110" y="25"/>
                  <a:pt x="128" y="46"/>
                </a:cubicBezTo>
                <a:cubicBezTo>
                  <a:pt x="129" y="47"/>
                  <a:pt x="129" y="47"/>
                  <a:pt x="129" y="47"/>
                </a:cubicBezTo>
                <a:cubicBezTo>
                  <a:pt x="130" y="49"/>
                  <a:pt x="130" y="49"/>
                  <a:pt x="130" y="49"/>
                </a:cubicBezTo>
                <a:cubicBezTo>
                  <a:pt x="113" y="80"/>
                  <a:pt x="113" y="80"/>
                  <a:pt x="113" y="80"/>
                </a:cubicBezTo>
                <a:cubicBezTo>
                  <a:pt x="107" y="91"/>
                  <a:pt x="101" y="96"/>
                  <a:pt x="94" y="94"/>
                </a:cubicBezTo>
                <a:cubicBezTo>
                  <a:pt x="90" y="92"/>
                  <a:pt x="82" y="83"/>
                  <a:pt x="68" y="65"/>
                </a:cubicBezTo>
                <a:cubicBezTo>
                  <a:pt x="50" y="60"/>
                  <a:pt x="50" y="60"/>
                  <a:pt x="50" y="60"/>
                </a:cubicBezTo>
                <a:cubicBezTo>
                  <a:pt x="50" y="65"/>
                  <a:pt x="53" y="75"/>
                  <a:pt x="60" y="92"/>
                </a:cubicBezTo>
                <a:cubicBezTo>
                  <a:pt x="60" y="93"/>
                  <a:pt x="60" y="93"/>
                  <a:pt x="60" y="93"/>
                </a:cubicBezTo>
                <a:cubicBezTo>
                  <a:pt x="60" y="94"/>
                  <a:pt x="60" y="94"/>
                  <a:pt x="60" y="94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6"/>
                  <a:pt x="60" y="96"/>
                  <a:pt x="60" y="96"/>
                </a:cubicBezTo>
                <a:cubicBezTo>
                  <a:pt x="57" y="108"/>
                  <a:pt x="57" y="108"/>
                  <a:pt x="57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2" y="119"/>
                  <a:pt x="32" y="119"/>
                  <a:pt x="32" y="119"/>
                </a:cubicBezTo>
                <a:cubicBezTo>
                  <a:pt x="29" y="122"/>
                  <a:pt x="29" y="127"/>
                  <a:pt x="30" y="133"/>
                </a:cubicBezTo>
                <a:cubicBezTo>
                  <a:pt x="32" y="149"/>
                  <a:pt x="31" y="159"/>
                  <a:pt x="28" y="163"/>
                </a:cubicBezTo>
                <a:cubicBezTo>
                  <a:pt x="26" y="165"/>
                  <a:pt x="25" y="165"/>
                  <a:pt x="22" y="165"/>
                </a:cubicBezTo>
                <a:cubicBezTo>
                  <a:pt x="21" y="165"/>
                  <a:pt x="21" y="165"/>
                  <a:pt x="21" y="165"/>
                </a:cubicBezTo>
                <a:cubicBezTo>
                  <a:pt x="21" y="165"/>
                  <a:pt x="21" y="165"/>
                  <a:pt x="21" y="165"/>
                </a:cubicBezTo>
                <a:cubicBezTo>
                  <a:pt x="0" y="161"/>
                  <a:pt x="0" y="161"/>
                  <a:pt x="0" y="161"/>
                </a:cubicBezTo>
                <a:cubicBezTo>
                  <a:pt x="1" y="165"/>
                  <a:pt x="4" y="169"/>
                  <a:pt x="10" y="172"/>
                </a:cubicBezTo>
                <a:cubicBezTo>
                  <a:pt x="20" y="182"/>
                  <a:pt x="29" y="196"/>
                  <a:pt x="37" y="211"/>
                </a:cubicBezTo>
                <a:cubicBezTo>
                  <a:pt x="38" y="215"/>
                  <a:pt x="38" y="215"/>
                  <a:pt x="38" y="215"/>
                </a:cubicBezTo>
                <a:cubicBezTo>
                  <a:pt x="38" y="215"/>
                  <a:pt x="38" y="215"/>
                  <a:pt x="38" y="215"/>
                </a:cubicBezTo>
                <a:cubicBezTo>
                  <a:pt x="48" y="213"/>
                  <a:pt x="48" y="213"/>
                  <a:pt x="48" y="213"/>
                </a:cubicBezTo>
                <a:cubicBezTo>
                  <a:pt x="59" y="210"/>
                  <a:pt x="70" y="213"/>
                  <a:pt x="80" y="220"/>
                </a:cubicBezTo>
                <a:cubicBezTo>
                  <a:pt x="92" y="234"/>
                  <a:pt x="92" y="234"/>
                  <a:pt x="92" y="234"/>
                </a:cubicBezTo>
                <a:cubicBezTo>
                  <a:pt x="93" y="235"/>
                  <a:pt x="93" y="235"/>
                  <a:pt x="93" y="235"/>
                </a:cubicBezTo>
                <a:cubicBezTo>
                  <a:pt x="93" y="236"/>
                  <a:pt x="93" y="236"/>
                  <a:pt x="93" y="236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1" y="263"/>
                  <a:pt x="91" y="263"/>
                  <a:pt x="91" y="263"/>
                </a:cubicBezTo>
                <a:cubicBezTo>
                  <a:pt x="94" y="267"/>
                  <a:pt x="96" y="273"/>
                  <a:pt x="94" y="277"/>
                </a:cubicBezTo>
                <a:cubicBezTo>
                  <a:pt x="92" y="282"/>
                  <a:pt x="88" y="285"/>
                  <a:pt x="80" y="286"/>
                </a:cubicBezTo>
                <a:cubicBezTo>
                  <a:pt x="72" y="286"/>
                  <a:pt x="68" y="292"/>
                  <a:pt x="66" y="302"/>
                </a:cubicBezTo>
                <a:cubicBezTo>
                  <a:pt x="66" y="302"/>
                  <a:pt x="66" y="302"/>
                  <a:pt x="66" y="302"/>
                </a:cubicBezTo>
                <a:cubicBezTo>
                  <a:pt x="66" y="302"/>
                  <a:pt x="66" y="302"/>
                  <a:pt x="66" y="302"/>
                </a:cubicBezTo>
                <a:cubicBezTo>
                  <a:pt x="66" y="303"/>
                  <a:pt x="66" y="303"/>
                  <a:pt x="66" y="303"/>
                </a:cubicBezTo>
                <a:cubicBezTo>
                  <a:pt x="57" y="321"/>
                  <a:pt x="57" y="321"/>
                  <a:pt x="57" y="321"/>
                </a:cubicBezTo>
                <a:cubicBezTo>
                  <a:pt x="70" y="334"/>
                  <a:pt x="70" y="334"/>
                  <a:pt x="70" y="334"/>
                </a:cubicBezTo>
                <a:cubicBezTo>
                  <a:pt x="97" y="339"/>
                  <a:pt x="97" y="339"/>
                  <a:pt x="97" y="339"/>
                </a:cubicBezTo>
                <a:cubicBezTo>
                  <a:pt x="99" y="339"/>
                  <a:pt x="99" y="339"/>
                  <a:pt x="99" y="339"/>
                </a:cubicBezTo>
                <a:cubicBezTo>
                  <a:pt x="99" y="339"/>
                  <a:pt x="99" y="339"/>
                  <a:pt x="99" y="339"/>
                </a:cubicBezTo>
                <a:cubicBezTo>
                  <a:pt x="113" y="354"/>
                  <a:pt x="113" y="354"/>
                  <a:pt x="113" y="354"/>
                </a:cubicBezTo>
                <a:cubicBezTo>
                  <a:pt x="96" y="379"/>
                  <a:pt x="96" y="379"/>
                  <a:pt x="96" y="379"/>
                </a:cubicBezTo>
                <a:cubicBezTo>
                  <a:pt x="135" y="464"/>
                  <a:pt x="135" y="464"/>
                  <a:pt x="135" y="464"/>
                </a:cubicBezTo>
                <a:cubicBezTo>
                  <a:pt x="136" y="466"/>
                  <a:pt x="136" y="466"/>
                  <a:pt x="136" y="466"/>
                </a:cubicBezTo>
                <a:cubicBezTo>
                  <a:pt x="130" y="473"/>
                  <a:pt x="130" y="473"/>
                  <a:pt x="130" y="473"/>
                </a:cubicBezTo>
                <a:cubicBezTo>
                  <a:pt x="132" y="480"/>
                  <a:pt x="132" y="480"/>
                  <a:pt x="132" y="480"/>
                </a:cubicBezTo>
                <a:cubicBezTo>
                  <a:pt x="133" y="480"/>
                  <a:pt x="133" y="480"/>
                  <a:pt x="133" y="480"/>
                </a:cubicBezTo>
                <a:cubicBezTo>
                  <a:pt x="205" y="434"/>
                  <a:pt x="205" y="434"/>
                  <a:pt x="205" y="434"/>
                </a:cubicBezTo>
                <a:cubicBezTo>
                  <a:pt x="193" y="455"/>
                  <a:pt x="193" y="455"/>
                  <a:pt x="193" y="455"/>
                </a:cubicBezTo>
                <a:cubicBezTo>
                  <a:pt x="184" y="471"/>
                  <a:pt x="179" y="485"/>
                  <a:pt x="176" y="494"/>
                </a:cubicBezTo>
                <a:cubicBezTo>
                  <a:pt x="189" y="489"/>
                  <a:pt x="200" y="480"/>
                  <a:pt x="206" y="463"/>
                </a:cubicBezTo>
                <a:cubicBezTo>
                  <a:pt x="207" y="461"/>
                  <a:pt x="207" y="461"/>
                  <a:pt x="207" y="461"/>
                </a:cubicBezTo>
                <a:cubicBezTo>
                  <a:pt x="208" y="461"/>
                  <a:pt x="208" y="461"/>
                  <a:pt x="208" y="461"/>
                </a:cubicBezTo>
                <a:cubicBezTo>
                  <a:pt x="228" y="450"/>
                  <a:pt x="228" y="450"/>
                  <a:pt x="228" y="450"/>
                </a:cubicBezTo>
                <a:cubicBezTo>
                  <a:pt x="229" y="448"/>
                  <a:pt x="229" y="448"/>
                  <a:pt x="229" y="448"/>
                </a:cubicBezTo>
                <a:cubicBezTo>
                  <a:pt x="258" y="473"/>
                  <a:pt x="258" y="473"/>
                  <a:pt x="258" y="473"/>
                </a:cubicBezTo>
                <a:cubicBezTo>
                  <a:pt x="289" y="474"/>
                  <a:pt x="289" y="474"/>
                  <a:pt x="289" y="474"/>
                </a:cubicBezTo>
                <a:cubicBezTo>
                  <a:pt x="290" y="475"/>
                  <a:pt x="290" y="475"/>
                  <a:pt x="290" y="475"/>
                </a:cubicBezTo>
                <a:cubicBezTo>
                  <a:pt x="305" y="485"/>
                  <a:pt x="305" y="485"/>
                  <a:pt x="305" y="485"/>
                </a:cubicBezTo>
                <a:cubicBezTo>
                  <a:pt x="344" y="451"/>
                  <a:pt x="344" y="451"/>
                  <a:pt x="344" y="451"/>
                </a:cubicBezTo>
                <a:cubicBezTo>
                  <a:pt x="347" y="448"/>
                  <a:pt x="351" y="442"/>
                  <a:pt x="355" y="431"/>
                </a:cubicBezTo>
                <a:cubicBezTo>
                  <a:pt x="359" y="423"/>
                  <a:pt x="359" y="423"/>
                  <a:pt x="359" y="423"/>
                </a:cubicBezTo>
                <a:cubicBezTo>
                  <a:pt x="360" y="418"/>
                  <a:pt x="355" y="408"/>
                  <a:pt x="344" y="390"/>
                </a:cubicBezTo>
                <a:cubicBezTo>
                  <a:pt x="335" y="376"/>
                  <a:pt x="335" y="376"/>
                  <a:pt x="335" y="376"/>
                </a:cubicBezTo>
                <a:cubicBezTo>
                  <a:pt x="381" y="392"/>
                  <a:pt x="381" y="392"/>
                  <a:pt x="381" y="392"/>
                </a:cubicBezTo>
                <a:cubicBezTo>
                  <a:pt x="395" y="385"/>
                  <a:pt x="395" y="385"/>
                  <a:pt x="395" y="385"/>
                </a:cubicBezTo>
                <a:cubicBezTo>
                  <a:pt x="381" y="355"/>
                  <a:pt x="381" y="355"/>
                  <a:pt x="381" y="355"/>
                </a:cubicBezTo>
                <a:cubicBezTo>
                  <a:pt x="380" y="354"/>
                  <a:pt x="380" y="354"/>
                  <a:pt x="380" y="354"/>
                </a:cubicBezTo>
                <a:cubicBezTo>
                  <a:pt x="403" y="323"/>
                  <a:pt x="403" y="323"/>
                  <a:pt x="403" y="323"/>
                </a:cubicBezTo>
                <a:cubicBezTo>
                  <a:pt x="394" y="309"/>
                  <a:pt x="394" y="309"/>
                  <a:pt x="394" y="309"/>
                </a:cubicBezTo>
                <a:cubicBezTo>
                  <a:pt x="384" y="298"/>
                  <a:pt x="378" y="293"/>
                  <a:pt x="374" y="293"/>
                </a:cubicBezTo>
                <a:cubicBezTo>
                  <a:pt x="372" y="294"/>
                  <a:pt x="372" y="294"/>
                  <a:pt x="372" y="294"/>
                </a:cubicBezTo>
                <a:cubicBezTo>
                  <a:pt x="360" y="305"/>
                  <a:pt x="360" y="305"/>
                  <a:pt x="360" y="305"/>
                </a:cubicBezTo>
                <a:cubicBezTo>
                  <a:pt x="358" y="304"/>
                  <a:pt x="358" y="304"/>
                  <a:pt x="358" y="304"/>
                </a:cubicBezTo>
                <a:cubicBezTo>
                  <a:pt x="356" y="304"/>
                  <a:pt x="356" y="304"/>
                  <a:pt x="356" y="304"/>
                </a:cubicBezTo>
                <a:cubicBezTo>
                  <a:pt x="337" y="298"/>
                  <a:pt x="337" y="298"/>
                  <a:pt x="337" y="298"/>
                </a:cubicBezTo>
                <a:cubicBezTo>
                  <a:pt x="332" y="281"/>
                  <a:pt x="332" y="281"/>
                  <a:pt x="332" y="281"/>
                </a:cubicBezTo>
                <a:cubicBezTo>
                  <a:pt x="324" y="280"/>
                  <a:pt x="317" y="276"/>
                  <a:pt x="311" y="268"/>
                </a:cubicBezTo>
                <a:cubicBezTo>
                  <a:pt x="299" y="261"/>
                  <a:pt x="299" y="261"/>
                  <a:pt x="299" y="261"/>
                </a:cubicBezTo>
                <a:cubicBezTo>
                  <a:pt x="289" y="257"/>
                  <a:pt x="284" y="252"/>
                  <a:pt x="284" y="246"/>
                </a:cubicBezTo>
                <a:cubicBezTo>
                  <a:pt x="282" y="240"/>
                  <a:pt x="284" y="233"/>
                  <a:pt x="290" y="223"/>
                </a:cubicBezTo>
                <a:cubicBezTo>
                  <a:pt x="302" y="206"/>
                  <a:pt x="308" y="192"/>
                  <a:pt x="308" y="182"/>
                </a:cubicBezTo>
                <a:cubicBezTo>
                  <a:pt x="308" y="168"/>
                  <a:pt x="308" y="168"/>
                  <a:pt x="308" y="168"/>
                </a:cubicBezTo>
                <a:cubicBezTo>
                  <a:pt x="316" y="169"/>
                  <a:pt x="316" y="169"/>
                  <a:pt x="316" y="169"/>
                </a:cubicBezTo>
                <a:cubicBezTo>
                  <a:pt x="340" y="170"/>
                  <a:pt x="340" y="170"/>
                  <a:pt x="340" y="170"/>
                </a:cubicBezTo>
                <a:cubicBezTo>
                  <a:pt x="342" y="168"/>
                  <a:pt x="345" y="158"/>
                  <a:pt x="350" y="139"/>
                </a:cubicBezTo>
                <a:cubicBezTo>
                  <a:pt x="342" y="138"/>
                  <a:pt x="342" y="138"/>
                  <a:pt x="342" y="138"/>
                </a:cubicBezTo>
                <a:cubicBezTo>
                  <a:pt x="325" y="149"/>
                  <a:pt x="313" y="157"/>
                  <a:pt x="303" y="160"/>
                </a:cubicBezTo>
                <a:cubicBezTo>
                  <a:pt x="292" y="163"/>
                  <a:pt x="277" y="157"/>
                  <a:pt x="256" y="142"/>
                </a:cubicBezTo>
                <a:cubicBezTo>
                  <a:pt x="256" y="141"/>
                  <a:pt x="256" y="141"/>
                  <a:pt x="256" y="141"/>
                </a:cubicBezTo>
                <a:lnTo>
                  <a:pt x="255" y="14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3552840" y="2452680"/>
            <a:ext cx="101520" cy="141120"/>
          </a:xfrm>
          <a:custGeom>
            <a:avLst/>
            <a:gdLst/>
            <a:ahLst/>
            <a:rect l="l" t="t" r="r" b="b"/>
            <a:pathLst>
              <a:path w="107" h="154">
                <a:moveTo>
                  <a:pt x="63" y="3"/>
                </a:moveTo>
                <a:cubicBezTo>
                  <a:pt x="59" y="0"/>
                  <a:pt x="59" y="0"/>
                  <a:pt x="59" y="0"/>
                </a:cubicBezTo>
                <a:cubicBezTo>
                  <a:pt x="54" y="0"/>
                  <a:pt x="49" y="6"/>
                  <a:pt x="44" y="17"/>
                </a:cubicBezTo>
                <a:cubicBezTo>
                  <a:pt x="40" y="15"/>
                  <a:pt x="40" y="15"/>
                  <a:pt x="40" y="15"/>
                </a:cubicBezTo>
                <a:cubicBezTo>
                  <a:pt x="39" y="16"/>
                  <a:pt x="39" y="16"/>
                  <a:pt x="39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31" y="27"/>
                  <a:pt x="31" y="27"/>
                  <a:pt x="31" y="27"/>
                </a:cubicBezTo>
                <a:cubicBezTo>
                  <a:pt x="27" y="29"/>
                  <a:pt x="27" y="29"/>
                  <a:pt x="27" y="29"/>
                </a:cubicBezTo>
                <a:cubicBezTo>
                  <a:pt x="15" y="35"/>
                  <a:pt x="15" y="35"/>
                  <a:pt x="15" y="35"/>
                </a:cubicBezTo>
                <a:cubicBezTo>
                  <a:pt x="14" y="43"/>
                  <a:pt x="14" y="43"/>
                  <a:pt x="14" y="43"/>
                </a:cubicBezTo>
                <a:cubicBezTo>
                  <a:pt x="15" y="54"/>
                  <a:pt x="12" y="63"/>
                  <a:pt x="7" y="66"/>
                </a:cubicBezTo>
                <a:cubicBezTo>
                  <a:pt x="2" y="79"/>
                  <a:pt x="2" y="79"/>
                  <a:pt x="2" y="79"/>
                </a:cubicBezTo>
                <a:cubicBezTo>
                  <a:pt x="1" y="82"/>
                  <a:pt x="0" y="90"/>
                  <a:pt x="1" y="102"/>
                </a:cubicBezTo>
                <a:cubicBezTo>
                  <a:pt x="8" y="133"/>
                  <a:pt x="8" y="133"/>
                  <a:pt x="8" y="133"/>
                </a:cubicBezTo>
                <a:cubicBezTo>
                  <a:pt x="10" y="138"/>
                  <a:pt x="15" y="143"/>
                  <a:pt x="26" y="147"/>
                </a:cubicBezTo>
                <a:cubicBezTo>
                  <a:pt x="50" y="154"/>
                  <a:pt x="50" y="154"/>
                  <a:pt x="50" y="154"/>
                </a:cubicBezTo>
                <a:cubicBezTo>
                  <a:pt x="56" y="154"/>
                  <a:pt x="65" y="150"/>
                  <a:pt x="74" y="144"/>
                </a:cubicBezTo>
                <a:cubicBezTo>
                  <a:pt x="68" y="132"/>
                  <a:pt x="68" y="132"/>
                  <a:pt x="68" y="132"/>
                </a:cubicBezTo>
                <a:cubicBezTo>
                  <a:pt x="68" y="130"/>
                  <a:pt x="68" y="130"/>
                  <a:pt x="68" y="130"/>
                </a:cubicBezTo>
                <a:cubicBezTo>
                  <a:pt x="68" y="129"/>
                  <a:pt x="68" y="129"/>
                  <a:pt x="68" y="129"/>
                </a:cubicBezTo>
                <a:cubicBezTo>
                  <a:pt x="70" y="120"/>
                  <a:pt x="70" y="120"/>
                  <a:pt x="70" y="120"/>
                </a:cubicBezTo>
                <a:cubicBezTo>
                  <a:pt x="70" y="119"/>
                  <a:pt x="70" y="119"/>
                  <a:pt x="70" y="119"/>
                </a:cubicBezTo>
                <a:cubicBezTo>
                  <a:pt x="82" y="98"/>
                  <a:pt x="82" y="98"/>
                  <a:pt x="82" y="98"/>
                </a:cubicBezTo>
                <a:cubicBezTo>
                  <a:pt x="102" y="98"/>
                  <a:pt x="102" y="98"/>
                  <a:pt x="102" y="98"/>
                </a:cubicBezTo>
                <a:cubicBezTo>
                  <a:pt x="107" y="97"/>
                  <a:pt x="107" y="97"/>
                  <a:pt x="107" y="97"/>
                </a:cubicBezTo>
                <a:cubicBezTo>
                  <a:pt x="105" y="90"/>
                  <a:pt x="98" y="79"/>
                  <a:pt x="87" y="64"/>
                </a:cubicBezTo>
                <a:cubicBezTo>
                  <a:pt x="79" y="53"/>
                  <a:pt x="79" y="53"/>
                  <a:pt x="79" y="53"/>
                </a:cubicBezTo>
                <a:cubicBezTo>
                  <a:pt x="75" y="45"/>
                  <a:pt x="71" y="35"/>
                  <a:pt x="70" y="23"/>
                </a:cubicBezTo>
                <a:cubicBezTo>
                  <a:pt x="68" y="13"/>
                  <a:pt x="65" y="7"/>
                  <a:pt x="63" y="3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3456000" y="2389320"/>
            <a:ext cx="133200" cy="139680"/>
          </a:xfrm>
          <a:custGeom>
            <a:avLst/>
            <a:gdLst/>
            <a:ahLst/>
            <a:rect l="l" t="t" r="r" b="b"/>
            <a:pathLst>
              <a:path w="141" h="152">
                <a:moveTo>
                  <a:pt x="71" y="31"/>
                </a:moveTo>
                <a:cubicBezTo>
                  <a:pt x="68" y="35"/>
                  <a:pt x="68" y="35"/>
                  <a:pt x="68" y="35"/>
                </a:cubicBezTo>
                <a:cubicBezTo>
                  <a:pt x="65" y="34"/>
                  <a:pt x="65" y="34"/>
                  <a:pt x="65" y="34"/>
                </a:cubicBezTo>
                <a:cubicBezTo>
                  <a:pt x="52" y="31"/>
                  <a:pt x="52" y="31"/>
                  <a:pt x="52" y="31"/>
                </a:cubicBezTo>
                <a:cubicBezTo>
                  <a:pt x="50" y="38"/>
                  <a:pt x="50" y="38"/>
                  <a:pt x="50" y="38"/>
                </a:cubicBezTo>
                <a:cubicBezTo>
                  <a:pt x="50" y="41"/>
                  <a:pt x="50" y="41"/>
                  <a:pt x="50" y="41"/>
                </a:cubicBezTo>
                <a:cubicBezTo>
                  <a:pt x="47" y="41"/>
                  <a:pt x="47" y="41"/>
                  <a:pt x="47" y="41"/>
                </a:cubicBezTo>
                <a:cubicBezTo>
                  <a:pt x="25" y="49"/>
                  <a:pt x="25" y="49"/>
                  <a:pt x="25" y="49"/>
                </a:cubicBezTo>
                <a:cubicBezTo>
                  <a:pt x="24" y="53"/>
                  <a:pt x="24" y="53"/>
                  <a:pt x="24" y="53"/>
                </a:cubicBezTo>
                <a:cubicBezTo>
                  <a:pt x="21" y="60"/>
                  <a:pt x="24" y="66"/>
                  <a:pt x="31" y="75"/>
                </a:cubicBezTo>
                <a:cubicBezTo>
                  <a:pt x="34" y="77"/>
                  <a:pt x="34" y="77"/>
                  <a:pt x="34" y="77"/>
                </a:cubicBezTo>
                <a:cubicBezTo>
                  <a:pt x="31" y="80"/>
                  <a:pt x="31" y="80"/>
                  <a:pt x="31" y="80"/>
                </a:cubicBezTo>
                <a:cubicBezTo>
                  <a:pt x="25" y="91"/>
                  <a:pt x="16" y="101"/>
                  <a:pt x="5" y="109"/>
                </a:cubicBezTo>
                <a:cubicBezTo>
                  <a:pt x="1" y="112"/>
                  <a:pt x="0" y="115"/>
                  <a:pt x="0" y="118"/>
                </a:cubicBezTo>
                <a:cubicBezTo>
                  <a:pt x="7" y="128"/>
                  <a:pt x="7" y="128"/>
                  <a:pt x="7" y="128"/>
                </a:cubicBezTo>
                <a:cubicBezTo>
                  <a:pt x="19" y="132"/>
                  <a:pt x="19" y="132"/>
                  <a:pt x="19" y="132"/>
                </a:cubicBezTo>
                <a:cubicBezTo>
                  <a:pt x="28" y="133"/>
                  <a:pt x="28" y="133"/>
                  <a:pt x="28" y="133"/>
                </a:cubicBezTo>
                <a:cubicBezTo>
                  <a:pt x="41" y="133"/>
                  <a:pt x="49" y="134"/>
                  <a:pt x="53" y="139"/>
                </a:cubicBezTo>
                <a:cubicBezTo>
                  <a:pt x="63" y="147"/>
                  <a:pt x="63" y="147"/>
                  <a:pt x="63" y="147"/>
                </a:cubicBezTo>
                <a:cubicBezTo>
                  <a:pt x="71" y="150"/>
                  <a:pt x="77" y="152"/>
                  <a:pt x="82" y="152"/>
                </a:cubicBezTo>
                <a:cubicBezTo>
                  <a:pt x="86" y="152"/>
                  <a:pt x="92" y="149"/>
                  <a:pt x="96" y="140"/>
                </a:cubicBezTo>
                <a:cubicBezTo>
                  <a:pt x="104" y="131"/>
                  <a:pt x="104" y="131"/>
                  <a:pt x="104" y="131"/>
                </a:cubicBezTo>
                <a:cubicBezTo>
                  <a:pt x="111" y="111"/>
                  <a:pt x="111" y="111"/>
                  <a:pt x="111" y="111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14" y="90"/>
                  <a:pt x="114" y="90"/>
                  <a:pt x="114" y="90"/>
                </a:cubicBezTo>
                <a:cubicBezTo>
                  <a:pt x="128" y="91"/>
                  <a:pt x="128" y="91"/>
                  <a:pt x="128" y="91"/>
                </a:cubicBezTo>
                <a:cubicBezTo>
                  <a:pt x="134" y="86"/>
                  <a:pt x="134" y="86"/>
                  <a:pt x="134" y="86"/>
                </a:cubicBezTo>
                <a:cubicBezTo>
                  <a:pt x="136" y="81"/>
                  <a:pt x="136" y="81"/>
                  <a:pt x="136" y="81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9" y="40"/>
                  <a:pt x="129" y="40"/>
                  <a:pt x="129" y="40"/>
                </a:cubicBezTo>
                <a:cubicBezTo>
                  <a:pt x="132" y="34"/>
                  <a:pt x="136" y="31"/>
                  <a:pt x="140" y="30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14" y="24"/>
                  <a:pt x="114" y="24"/>
                  <a:pt x="114" y="24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91" y="7"/>
                  <a:pt x="91" y="7"/>
                  <a:pt x="91" y="7"/>
                </a:cubicBezTo>
                <a:cubicBezTo>
                  <a:pt x="81" y="1"/>
                  <a:pt x="72" y="0"/>
                  <a:pt x="63" y="2"/>
                </a:cubicBezTo>
                <a:cubicBezTo>
                  <a:pt x="60" y="4"/>
                  <a:pt x="60" y="4"/>
                  <a:pt x="60" y="4"/>
                </a:cubicBezTo>
                <a:cubicBezTo>
                  <a:pt x="58" y="8"/>
                  <a:pt x="60" y="13"/>
                  <a:pt x="66" y="15"/>
                </a:cubicBezTo>
                <a:cubicBezTo>
                  <a:pt x="72" y="19"/>
                  <a:pt x="74" y="24"/>
                  <a:pt x="71" y="31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7"/>
          <p:cNvSpPr/>
          <p:nvPr/>
        </p:nvSpPr>
        <p:spPr>
          <a:xfrm>
            <a:off x="3679920" y="2112840"/>
            <a:ext cx="468360" cy="436680"/>
          </a:xfrm>
          <a:custGeom>
            <a:avLst/>
            <a:gdLst/>
            <a:ahLst/>
            <a:rect l="l" t="t" r="r" b="b"/>
            <a:pathLst>
              <a:path w="496" h="473">
                <a:moveTo>
                  <a:pt x="227" y="62"/>
                </a:moveTo>
                <a:cubicBezTo>
                  <a:pt x="215" y="79"/>
                  <a:pt x="215" y="79"/>
                  <a:pt x="215" y="79"/>
                </a:cubicBezTo>
                <a:cubicBezTo>
                  <a:pt x="212" y="82"/>
                  <a:pt x="211" y="89"/>
                  <a:pt x="213" y="99"/>
                </a:cubicBezTo>
                <a:cubicBezTo>
                  <a:pt x="213" y="106"/>
                  <a:pt x="213" y="106"/>
                  <a:pt x="213" y="106"/>
                </a:cubicBezTo>
                <a:cubicBezTo>
                  <a:pt x="188" y="106"/>
                  <a:pt x="188" y="106"/>
                  <a:pt x="188" y="106"/>
                </a:cubicBezTo>
                <a:cubicBezTo>
                  <a:pt x="187" y="106"/>
                  <a:pt x="187" y="106"/>
                  <a:pt x="187" y="106"/>
                </a:cubicBezTo>
                <a:cubicBezTo>
                  <a:pt x="187" y="106"/>
                  <a:pt x="187" y="106"/>
                  <a:pt x="187" y="106"/>
                </a:cubicBezTo>
                <a:cubicBezTo>
                  <a:pt x="169" y="100"/>
                  <a:pt x="169" y="100"/>
                  <a:pt x="169" y="100"/>
                </a:cubicBezTo>
                <a:cubicBezTo>
                  <a:pt x="155" y="122"/>
                  <a:pt x="155" y="122"/>
                  <a:pt x="155" y="122"/>
                </a:cubicBezTo>
                <a:cubicBezTo>
                  <a:pt x="153" y="124"/>
                  <a:pt x="153" y="124"/>
                  <a:pt x="153" y="124"/>
                </a:cubicBezTo>
                <a:cubicBezTo>
                  <a:pt x="136" y="134"/>
                  <a:pt x="136" y="134"/>
                  <a:pt x="136" y="134"/>
                </a:cubicBezTo>
                <a:cubicBezTo>
                  <a:pt x="122" y="150"/>
                  <a:pt x="122" y="150"/>
                  <a:pt x="122" y="150"/>
                </a:cubicBezTo>
                <a:cubicBezTo>
                  <a:pt x="122" y="150"/>
                  <a:pt x="122" y="150"/>
                  <a:pt x="122" y="150"/>
                </a:cubicBezTo>
                <a:cubicBezTo>
                  <a:pt x="120" y="153"/>
                  <a:pt x="120" y="153"/>
                  <a:pt x="120" y="153"/>
                </a:cubicBezTo>
                <a:cubicBezTo>
                  <a:pt x="120" y="153"/>
                  <a:pt x="120" y="153"/>
                  <a:pt x="120" y="153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3" y="185"/>
                  <a:pt x="93" y="185"/>
                  <a:pt x="93" y="185"/>
                </a:cubicBezTo>
                <a:cubicBezTo>
                  <a:pt x="92" y="185"/>
                  <a:pt x="92" y="185"/>
                  <a:pt x="92" y="18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56" y="185"/>
                  <a:pt x="56" y="185"/>
                  <a:pt x="56" y="185"/>
                </a:cubicBezTo>
                <a:cubicBezTo>
                  <a:pt x="56" y="184"/>
                  <a:pt x="56" y="184"/>
                  <a:pt x="56" y="184"/>
                </a:cubicBezTo>
                <a:cubicBezTo>
                  <a:pt x="56" y="184"/>
                  <a:pt x="56" y="184"/>
                  <a:pt x="56" y="184"/>
                </a:cubicBezTo>
                <a:cubicBezTo>
                  <a:pt x="56" y="184"/>
                  <a:pt x="56" y="184"/>
                  <a:pt x="56" y="184"/>
                </a:cubicBezTo>
                <a:cubicBezTo>
                  <a:pt x="41" y="168"/>
                  <a:pt x="41" y="168"/>
                  <a:pt x="41" y="168"/>
                </a:cubicBezTo>
                <a:cubicBezTo>
                  <a:pt x="32" y="163"/>
                  <a:pt x="32" y="163"/>
                  <a:pt x="32" y="163"/>
                </a:cubicBezTo>
                <a:cubicBezTo>
                  <a:pt x="39" y="206"/>
                  <a:pt x="39" y="206"/>
                  <a:pt x="39" y="206"/>
                </a:cubicBezTo>
                <a:cubicBezTo>
                  <a:pt x="46" y="229"/>
                  <a:pt x="46" y="229"/>
                  <a:pt x="46" y="229"/>
                </a:cubicBezTo>
                <a:cubicBezTo>
                  <a:pt x="30" y="244"/>
                  <a:pt x="30" y="244"/>
                  <a:pt x="30" y="244"/>
                </a:cubicBezTo>
                <a:cubicBezTo>
                  <a:pt x="8" y="277"/>
                  <a:pt x="8" y="277"/>
                  <a:pt x="8" y="277"/>
                </a:cubicBezTo>
                <a:cubicBezTo>
                  <a:pt x="8" y="290"/>
                  <a:pt x="8" y="290"/>
                  <a:pt x="8" y="290"/>
                </a:cubicBezTo>
                <a:cubicBezTo>
                  <a:pt x="7" y="291"/>
                  <a:pt x="7" y="291"/>
                  <a:pt x="7" y="291"/>
                </a:cubicBezTo>
                <a:cubicBezTo>
                  <a:pt x="6" y="291"/>
                  <a:pt x="6" y="291"/>
                  <a:pt x="6" y="291"/>
                </a:cubicBezTo>
                <a:cubicBezTo>
                  <a:pt x="0" y="300"/>
                  <a:pt x="0" y="300"/>
                  <a:pt x="0" y="300"/>
                </a:cubicBezTo>
                <a:cubicBezTo>
                  <a:pt x="4" y="307"/>
                  <a:pt x="4" y="307"/>
                  <a:pt x="4" y="307"/>
                </a:cubicBezTo>
                <a:cubicBezTo>
                  <a:pt x="13" y="307"/>
                  <a:pt x="13" y="307"/>
                  <a:pt x="13" y="307"/>
                </a:cubicBezTo>
                <a:cubicBezTo>
                  <a:pt x="44" y="316"/>
                  <a:pt x="44" y="316"/>
                  <a:pt x="44" y="316"/>
                </a:cubicBezTo>
                <a:cubicBezTo>
                  <a:pt x="45" y="316"/>
                  <a:pt x="45" y="316"/>
                  <a:pt x="45" y="316"/>
                </a:cubicBezTo>
                <a:cubicBezTo>
                  <a:pt x="46" y="316"/>
                  <a:pt x="46" y="316"/>
                  <a:pt x="46" y="316"/>
                </a:cubicBezTo>
                <a:cubicBezTo>
                  <a:pt x="46" y="317"/>
                  <a:pt x="46" y="317"/>
                  <a:pt x="46" y="317"/>
                </a:cubicBezTo>
                <a:cubicBezTo>
                  <a:pt x="47" y="317"/>
                  <a:pt x="47" y="317"/>
                  <a:pt x="47" y="317"/>
                </a:cubicBezTo>
                <a:cubicBezTo>
                  <a:pt x="53" y="323"/>
                  <a:pt x="53" y="323"/>
                  <a:pt x="53" y="323"/>
                </a:cubicBezTo>
                <a:cubicBezTo>
                  <a:pt x="61" y="327"/>
                  <a:pt x="61" y="327"/>
                  <a:pt x="61" y="327"/>
                </a:cubicBezTo>
                <a:cubicBezTo>
                  <a:pt x="61" y="327"/>
                  <a:pt x="61" y="327"/>
                  <a:pt x="61" y="327"/>
                </a:cubicBezTo>
                <a:cubicBezTo>
                  <a:pt x="64" y="327"/>
                  <a:pt x="64" y="327"/>
                  <a:pt x="64" y="327"/>
                </a:cubicBezTo>
                <a:cubicBezTo>
                  <a:pt x="64" y="328"/>
                  <a:pt x="64" y="328"/>
                  <a:pt x="64" y="328"/>
                </a:cubicBezTo>
                <a:cubicBezTo>
                  <a:pt x="67" y="333"/>
                  <a:pt x="69" y="337"/>
                  <a:pt x="69" y="341"/>
                </a:cubicBezTo>
                <a:cubicBezTo>
                  <a:pt x="72" y="351"/>
                  <a:pt x="72" y="351"/>
                  <a:pt x="72" y="351"/>
                </a:cubicBezTo>
                <a:cubicBezTo>
                  <a:pt x="105" y="360"/>
                  <a:pt x="105" y="360"/>
                  <a:pt x="105" y="360"/>
                </a:cubicBezTo>
                <a:cubicBezTo>
                  <a:pt x="114" y="358"/>
                  <a:pt x="114" y="358"/>
                  <a:pt x="114" y="358"/>
                </a:cubicBezTo>
                <a:cubicBezTo>
                  <a:pt x="124" y="345"/>
                  <a:pt x="124" y="345"/>
                  <a:pt x="124" y="345"/>
                </a:cubicBezTo>
                <a:cubicBezTo>
                  <a:pt x="149" y="297"/>
                  <a:pt x="149" y="297"/>
                  <a:pt x="149" y="297"/>
                </a:cubicBezTo>
                <a:cubicBezTo>
                  <a:pt x="150" y="297"/>
                  <a:pt x="150" y="297"/>
                  <a:pt x="150" y="297"/>
                </a:cubicBezTo>
                <a:cubicBezTo>
                  <a:pt x="150" y="296"/>
                  <a:pt x="150" y="296"/>
                  <a:pt x="150" y="296"/>
                </a:cubicBezTo>
                <a:cubicBezTo>
                  <a:pt x="162" y="280"/>
                  <a:pt x="162" y="280"/>
                  <a:pt x="162" y="280"/>
                </a:cubicBezTo>
                <a:cubicBezTo>
                  <a:pt x="163" y="279"/>
                  <a:pt x="163" y="279"/>
                  <a:pt x="163" y="279"/>
                </a:cubicBezTo>
                <a:cubicBezTo>
                  <a:pt x="183" y="269"/>
                  <a:pt x="183" y="269"/>
                  <a:pt x="183" y="269"/>
                </a:cubicBezTo>
                <a:cubicBezTo>
                  <a:pt x="197" y="268"/>
                  <a:pt x="197" y="268"/>
                  <a:pt x="197" y="268"/>
                </a:cubicBezTo>
                <a:cubicBezTo>
                  <a:pt x="202" y="260"/>
                  <a:pt x="206" y="256"/>
                  <a:pt x="211" y="256"/>
                </a:cubicBezTo>
                <a:cubicBezTo>
                  <a:pt x="215" y="256"/>
                  <a:pt x="220" y="258"/>
                  <a:pt x="228" y="262"/>
                </a:cubicBezTo>
                <a:cubicBezTo>
                  <a:pt x="230" y="263"/>
                  <a:pt x="230" y="263"/>
                  <a:pt x="230" y="263"/>
                </a:cubicBezTo>
                <a:cubicBezTo>
                  <a:pt x="230" y="264"/>
                  <a:pt x="230" y="264"/>
                  <a:pt x="230" y="264"/>
                </a:cubicBezTo>
                <a:cubicBezTo>
                  <a:pt x="248" y="291"/>
                  <a:pt x="248" y="291"/>
                  <a:pt x="248" y="291"/>
                </a:cubicBezTo>
                <a:cubicBezTo>
                  <a:pt x="248" y="293"/>
                  <a:pt x="248" y="293"/>
                  <a:pt x="248" y="293"/>
                </a:cubicBezTo>
                <a:cubicBezTo>
                  <a:pt x="249" y="293"/>
                  <a:pt x="249" y="293"/>
                  <a:pt x="249" y="293"/>
                </a:cubicBezTo>
                <a:cubicBezTo>
                  <a:pt x="249" y="295"/>
                  <a:pt x="249" y="295"/>
                  <a:pt x="249" y="295"/>
                </a:cubicBezTo>
                <a:cubicBezTo>
                  <a:pt x="251" y="315"/>
                  <a:pt x="251" y="315"/>
                  <a:pt x="251" y="315"/>
                </a:cubicBezTo>
                <a:cubicBezTo>
                  <a:pt x="250" y="337"/>
                  <a:pt x="250" y="337"/>
                  <a:pt x="250" y="337"/>
                </a:cubicBezTo>
                <a:cubicBezTo>
                  <a:pt x="250" y="337"/>
                  <a:pt x="250" y="337"/>
                  <a:pt x="250" y="337"/>
                </a:cubicBezTo>
                <a:cubicBezTo>
                  <a:pt x="245" y="356"/>
                  <a:pt x="245" y="356"/>
                  <a:pt x="245" y="356"/>
                </a:cubicBezTo>
                <a:cubicBezTo>
                  <a:pt x="245" y="356"/>
                  <a:pt x="245" y="356"/>
                  <a:pt x="245" y="356"/>
                </a:cubicBezTo>
                <a:cubicBezTo>
                  <a:pt x="245" y="358"/>
                  <a:pt x="245" y="358"/>
                  <a:pt x="245" y="358"/>
                </a:cubicBezTo>
                <a:cubicBezTo>
                  <a:pt x="244" y="358"/>
                  <a:pt x="244" y="358"/>
                  <a:pt x="244" y="358"/>
                </a:cubicBezTo>
                <a:cubicBezTo>
                  <a:pt x="230" y="375"/>
                  <a:pt x="230" y="375"/>
                  <a:pt x="230" y="375"/>
                </a:cubicBezTo>
                <a:cubicBezTo>
                  <a:pt x="224" y="389"/>
                  <a:pt x="224" y="389"/>
                  <a:pt x="224" y="389"/>
                </a:cubicBezTo>
                <a:cubicBezTo>
                  <a:pt x="225" y="412"/>
                  <a:pt x="225" y="412"/>
                  <a:pt x="225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35" y="409"/>
                  <a:pt x="235" y="409"/>
                  <a:pt x="235" y="409"/>
                </a:cubicBezTo>
                <a:cubicBezTo>
                  <a:pt x="243" y="401"/>
                  <a:pt x="243" y="401"/>
                  <a:pt x="243" y="401"/>
                </a:cubicBezTo>
                <a:cubicBezTo>
                  <a:pt x="245" y="399"/>
                  <a:pt x="245" y="399"/>
                  <a:pt x="245" y="399"/>
                </a:cubicBezTo>
                <a:cubicBezTo>
                  <a:pt x="246" y="397"/>
                  <a:pt x="246" y="397"/>
                  <a:pt x="246" y="397"/>
                </a:cubicBezTo>
                <a:cubicBezTo>
                  <a:pt x="257" y="406"/>
                  <a:pt x="257" y="406"/>
                  <a:pt x="257" y="406"/>
                </a:cubicBezTo>
                <a:cubicBezTo>
                  <a:pt x="257" y="408"/>
                  <a:pt x="257" y="408"/>
                  <a:pt x="257" y="408"/>
                </a:cubicBezTo>
                <a:cubicBezTo>
                  <a:pt x="257" y="424"/>
                  <a:pt x="257" y="424"/>
                  <a:pt x="257" y="424"/>
                </a:cubicBezTo>
                <a:cubicBezTo>
                  <a:pt x="256" y="424"/>
                  <a:pt x="256" y="424"/>
                  <a:pt x="256" y="424"/>
                </a:cubicBezTo>
                <a:cubicBezTo>
                  <a:pt x="246" y="429"/>
                  <a:pt x="246" y="429"/>
                  <a:pt x="246" y="429"/>
                </a:cubicBezTo>
                <a:cubicBezTo>
                  <a:pt x="243" y="433"/>
                  <a:pt x="243" y="433"/>
                  <a:pt x="243" y="433"/>
                </a:cubicBezTo>
                <a:cubicBezTo>
                  <a:pt x="243" y="442"/>
                  <a:pt x="243" y="442"/>
                  <a:pt x="243" y="442"/>
                </a:cubicBezTo>
                <a:cubicBezTo>
                  <a:pt x="242" y="443"/>
                  <a:pt x="242" y="443"/>
                  <a:pt x="242" y="443"/>
                </a:cubicBezTo>
                <a:cubicBezTo>
                  <a:pt x="242" y="443"/>
                  <a:pt x="242" y="443"/>
                  <a:pt x="242" y="443"/>
                </a:cubicBezTo>
                <a:cubicBezTo>
                  <a:pt x="236" y="455"/>
                  <a:pt x="236" y="455"/>
                  <a:pt x="236" y="455"/>
                </a:cubicBezTo>
                <a:cubicBezTo>
                  <a:pt x="235" y="455"/>
                  <a:pt x="235" y="455"/>
                  <a:pt x="235" y="455"/>
                </a:cubicBezTo>
                <a:cubicBezTo>
                  <a:pt x="232" y="456"/>
                  <a:pt x="232" y="456"/>
                  <a:pt x="232" y="456"/>
                </a:cubicBezTo>
                <a:cubicBezTo>
                  <a:pt x="224" y="457"/>
                  <a:pt x="224" y="457"/>
                  <a:pt x="224" y="457"/>
                </a:cubicBezTo>
                <a:cubicBezTo>
                  <a:pt x="216" y="459"/>
                  <a:pt x="216" y="459"/>
                  <a:pt x="216" y="459"/>
                </a:cubicBezTo>
                <a:cubicBezTo>
                  <a:pt x="209" y="471"/>
                  <a:pt x="209" y="471"/>
                  <a:pt x="209" y="471"/>
                </a:cubicBezTo>
                <a:cubicBezTo>
                  <a:pt x="210" y="473"/>
                  <a:pt x="210" y="473"/>
                  <a:pt x="210" y="473"/>
                </a:cubicBezTo>
                <a:cubicBezTo>
                  <a:pt x="245" y="469"/>
                  <a:pt x="245" y="469"/>
                  <a:pt x="245" y="469"/>
                </a:cubicBezTo>
                <a:cubicBezTo>
                  <a:pt x="251" y="463"/>
                  <a:pt x="251" y="463"/>
                  <a:pt x="251" y="463"/>
                </a:cubicBezTo>
                <a:cubicBezTo>
                  <a:pt x="263" y="433"/>
                  <a:pt x="263" y="433"/>
                  <a:pt x="263" y="433"/>
                </a:cubicBezTo>
                <a:cubicBezTo>
                  <a:pt x="263" y="433"/>
                  <a:pt x="263" y="433"/>
                  <a:pt x="263" y="433"/>
                </a:cubicBezTo>
                <a:cubicBezTo>
                  <a:pt x="341" y="353"/>
                  <a:pt x="341" y="353"/>
                  <a:pt x="341" y="353"/>
                </a:cubicBezTo>
                <a:cubicBezTo>
                  <a:pt x="343" y="353"/>
                  <a:pt x="343" y="353"/>
                  <a:pt x="343" y="353"/>
                </a:cubicBezTo>
                <a:cubicBezTo>
                  <a:pt x="360" y="344"/>
                  <a:pt x="360" y="344"/>
                  <a:pt x="360" y="344"/>
                </a:cubicBezTo>
                <a:cubicBezTo>
                  <a:pt x="361" y="343"/>
                  <a:pt x="361" y="343"/>
                  <a:pt x="361" y="343"/>
                </a:cubicBezTo>
                <a:cubicBezTo>
                  <a:pt x="361" y="344"/>
                  <a:pt x="361" y="344"/>
                  <a:pt x="361" y="344"/>
                </a:cubicBezTo>
                <a:cubicBezTo>
                  <a:pt x="375" y="344"/>
                  <a:pt x="375" y="344"/>
                  <a:pt x="375" y="344"/>
                </a:cubicBezTo>
                <a:cubicBezTo>
                  <a:pt x="389" y="341"/>
                  <a:pt x="389" y="341"/>
                  <a:pt x="389" y="341"/>
                </a:cubicBezTo>
                <a:cubicBezTo>
                  <a:pt x="403" y="335"/>
                  <a:pt x="403" y="335"/>
                  <a:pt x="403" y="335"/>
                </a:cubicBezTo>
                <a:cubicBezTo>
                  <a:pt x="414" y="323"/>
                  <a:pt x="414" y="323"/>
                  <a:pt x="414" y="323"/>
                </a:cubicBezTo>
                <a:cubicBezTo>
                  <a:pt x="431" y="277"/>
                  <a:pt x="431" y="277"/>
                  <a:pt x="431" y="277"/>
                </a:cubicBezTo>
                <a:cubicBezTo>
                  <a:pt x="431" y="277"/>
                  <a:pt x="431" y="277"/>
                  <a:pt x="431" y="277"/>
                </a:cubicBezTo>
                <a:cubicBezTo>
                  <a:pt x="431" y="276"/>
                  <a:pt x="431" y="276"/>
                  <a:pt x="431" y="276"/>
                </a:cubicBezTo>
                <a:cubicBezTo>
                  <a:pt x="496" y="207"/>
                  <a:pt x="496" y="207"/>
                  <a:pt x="496" y="207"/>
                </a:cubicBezTo>
                <a:cubicBezTo>
                  <a:pt x="496" y="206"/>
                  <a:pt x="496" y="206"/>
                  <a:pt x="496" y="206"/>
                </a:cubicBezTo>
                <a:cubicBezTo>
                  <a:pt x="492" y="169"/>
                  <a:pt x="492" y="169"/>
                  <a:pt x="492" y="169"/>
                </a:cubicBezTo>
                <a:cubicBezTo>
                  <a:pt x="489" y="168"/>
                  <a:pt x="485" y="166"/>
                  <a:pt x="483" y="163"/>
                </a:cubicBezTo>
                <a:cubicBezTo>
                  <a:pt x="480" y="161"/>
                  <a:pt x="480" y="161"/>
                  <a:pt x="480" y="161"/>
                </a:cubicBezTo>
                <a:cubicBezTo>
                  <a:pt x="480" y="162"/>
                  <a:pt x="480" y="162"/>
                  <a:pt x="480" y="162"/>
                </a:cubicBezTo>
                <a:cubicBezTo>
                  <a:pt x="470" y="163"/>
                  <a:pt x="470" y="163"/>
                  <a:pt x="470" y="163"/>
                </a:cubicBezTo>
                <a:cubicBezTo>
                  <a:pt x="465" y="161"/>
                  <a:pt x="461" y="158"/>
                  <a:pt x="457" y="153"/>
                </a:cubicBezTo>
                <a:cubicBezTo>
                  <a:pt x="454" y="147"/>
                  <a:pt x="454" y="147"/>
                  <a:pt x="454" y="147"/>
                </a:cubicBezTo>
                <a:cubicBezTo>
                  <a:pt x="454" y="146"/>
                  <a:pt x="454" y="146"/>
                  <a:pt x="454" y="146"/>
                </a:cubicBezTo>
                <a:cubicBezTo>
                  <a:pt x="453" y="145"/>
                  <a:pt x="453" y="145"/>
                  <a:pt x="453" y="145"/>
                </a:cubicBezTo>
                <a:cubicBezTo>
                  <a:pt x="453" y="88"/>
                  <a:pt x="453" y="88"/>
                  <a:pt x="453" y="88"/>
                </a:cubicBezTo>
                <a:cubicBezTo>
                  <a:pt x="447" y="86"/>
                  <a:pt x="440" y="81"/>
                  <a:pt x="433" y="74"/>
                </a:cubicBezTo>
                <a:cubicBezTo>
                  <a:pt x="419" y="59"/>
                  <a:pt x="419" y="59"/>
                  <a:pt x="419" y="59"/>
                </a:cubicBezTo>
                <a:cubicBezTo>
                  <a:pt x="407" y="41"/>
                  <a:pt x="407" y="41"/>
                  <a:pt x="407" y="41"/>
                </a:cubicBezTo>
                <a:cubicBezTo>
                  <a:pt x="404" y="37"/>
                  <a:pt x="404" y="31"/>
                  <a:pt x="406" y="21"/>
                </a:cubicBezTo>
                <a:cubicBezTo>
                  <a:pt x="407" y="16"/>
                  <a:pt x="407" y="16"/>
                  <a:pt x="407" y="16"/>
                </a:cubicBezTo>
                <a:cubicBezTo>
                  <a:pt x="399" y="6"/>
                  <a:pt x="399" y="6"/>
                  <a:pt x="399" y="6"/>
                </a:cubicBezTo>
                <a:cubicBezTo>
                  <a:pt x="398" y="15"/>
                  <a:pt x="398" y="15"/>
                  <a:pt x="398" y="15"/>
                </a:cubicBezTo>
                <a:cubicBezTo>
                  <a:pt x="389" y="33"/>
                  <a:pt x="389" y="33"/>
                  <a:pt x="389" y="33"/>
                </a:cubicBezTo>
                <a:cubicBezTo>
                  <a:pt x="385" y="33"/>
                  <a:pt x="385" y="33"/>
                  <a:pt x="385" y="33"/>
                </a:cubicBezTo>
                <a:cubicBezTo>
                  <a:pt x="378" y="33"/>
                  <a:pt x="370" y="32"/>
                  <a:pt x="363" y="29"/>
                </a:cubicBezTo>
                <a:cubicBezTo>
                  <a:pt x="357" y="27"/>
                  <a:pt x="354" y="21"/>
                  <a:pt x="354" y="15"/>
                </a:cubicBezTo>
                <a:cubicBezTo>
                  <a:pt x="354" y="11"/>
                  <a:pt x="354" y="11"/>
                  <a:pt x="354" y="11"/>
                </a:cubicBezTo>
                <a:cubicBezTo>
                  <a:pt x="349" y="11"/>
                  <a:pt x="349" y="11"/>
                  <a:pt x="349" y="11"/>
                </a:cubicBezTo>
                <a:cubicBezTo>
                  <a:pt x="329" y="16"/>
                  <a:pt x="329" y="16"/>
                  <a:pt x="329" y="16"/>
                </a:cubicBezTo>
                <a:cubicBezTo>
                  <a:pt x="314" y="1"/>
                  <a:pt x="314" y="1"/>
                  <a:pt x="314" y="1"/>
                </a:cubicBezTo>
                <a:cubicBezTo>
                  <a:pt x="308" y="0"/>
                  <a:pt x="308" y="0"/>
                  <a:pt x="308" y="0"/>
                </a:cubicBezTo>
                <a:cubicBezTo>
                  <a:pt x="303" y="5"/>
                  <a:pt x="303" y="5"/>
                  <a:pt x="303" y="5"/>
                </a:cubicBezTo>
                <a:cubicBezTo>
                  <a:pt x="309" y="16"/>
                  <a:pt x="309" y="16"/>
                  <a:pt x="309" y="16"/>
                </a:cubicBezTo>
                <a:cubicBezTo>
                  <a:pt x="312" y="19"/>
                  <a:pt x="312" y="19"/>
                  <a:pt x="312" y="19"/>
                </a:cubicBezTo>
                <a:cubicBezTo>
                  <a:pt x="301" y="41"/>
                  <a:pt x="301" y="41"/>
                  <a:pt x="301" y="41"/>
                </a:cubicBezTo>
                <a:cubicBezTo>
                  <a:pt x="300" y="41"/>
                  <a:pt x="300" y="41"/>
                  <a:pt x="300" y="41"/>
                </a:cubicBezTo>
                <a:cubicBezTo>
                  <a:pt x="300" y="42"/>
                  <a:pt x="300" y="42"/>
                  <a:pt x="300" y="42"/>
                </a:cubicBezTo>
                <a:cubicBezTo>
                  <a:pt x="299" y="42"/>
                  <a:pt x="299" y="42"/>
                  <a:pt x="299" y="42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79" y="65"/>
                  <a:pt x="279" y="65"/>
                  <a:pt x="279" y="65"/>
                </a:cubicBezTo>
                <a:cubicBezTo>
                  <a:pt x="277" y="65"/>
                  <a:pt x="277" y="65"/>
                  <a:pt x="277" y="65"/>
                </a:cubicBezTo>
                <a:cubicBezTo>
                  <a:pt x="247" y="68"/>
                  <a:pt x="247" y="68"/>
                  <a:pt x="247" y="68"/>
                </a:cubicBezTo>
                <a:lnTo>
                  <a:pt x="227" y="62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8"/>
          <p:cNvSpPr/>
          <p:nvPr/>
        </p:nvSpPr>
        <p:spPr>
          <a:xfrm>
            <a:off x="3786120" y="1851120"/>
            <a:ext cx="668520" cy="446040"/>
          </a:xfrm>
          <a:custGeom>
            <a:avLst/>
            <a:gdLst/>
            <a:ahLst/>
            <a:rect l="l" t="t" r="r" b="b"/>
            <a:pathLst>
              <a:path w="707" h="481">
                <a:moveTo>
                  <a:pt x="137" y="22"/>
                </a:moveTo>
                <a:cubicBezTo>
                  <a:pt x="133" y="0"/>
                  <a:pt x="133" y="0"/>
                  <a:pt x="133" y="0"/>
                </a:cubicBezTo>
                <a:cubicBezTo>
                  <a:pt x="123" y="7"/>
                  <a:pt x="123" y="7"/>
                  <a:pt x="123" y="7"/>
                </a:cubicBezTo>
                <a:cubicBezTo>
                  <a:pt x="122" y="7"/>
                  <a:pt x="122" y="7"/>
                  <a:pt x="122" y="7"/>
                </a:cubicBezTo>
                <a:cubicBezTo>
                  <a:pt x="96" y="16"/>
                  <a:pt x="96" y="16"/>
                  <a:pt x="96" y="16"/>
                </a:cubicBezTo>
                <a:cubicBezTo>
                  <a:pt x="95" y="14"/>
                  <a:pt x="95" y="14"/>
                  <a:pt x="95" y="14"/>
                </a:cubicBezTo>
                <a:cubicBezTo>
                  <a:pt x="91" y="13"/>
                  <a:pt x="91" y="13"/>
                  <a:pt x="91" y="13"/>
                </a:cubicBezTo>
                <a:cubicBezTo>
                  <a:pt x="91" y="25"/>
                  <a:pt x="91" y="25"/>
                  <a:pt x="91" y="25"/>
                </a:cubicBezTo>
                <a:cubicBezTo>
                  <a:pt x="90" y="26"/>
                  <a:pt x="90" y="26"/>
                  <a:pt x="90" y="26"/>
                </a:cubicBezTo>
                <a:cubicBezTo>
                  <a:pt x="77" y="45"/>
                  <a:pt x="77" y="45"/>
                  <a:pt x="77" y="45"/>
                </a:cubicBezTo>
                <a:cubicBezTo>
                  <a:pt x="76" y="45"/>
                  <a:pt x="76" y="45"/>
                  <a:pt x="76" y="45"/>
                </a:cubicBezTo>
                <a:cubicBezTo>
                  <a:pt x="76" y="46"/>
                  <a:pt x="76" y="46"/>
                  <a:pt x="76" y="46"/>
                </a:cubicBezTo>
                <a:cubicBezTo>
                  <a:pt x="75" y="46"/>
                  <a:pt x="75" y="46"/>
                  <a:pt x="75" y="46"/>
                </a:cubicBezTo>
                <a:cubicBezTo>
                  <a:pt x="56" y="62"/>
                  <a:pt x="56" y="62"/>
                  <a:pt x="56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64"/>
                  <a:pt x="54" y="64"/>
                  <a:pt x="54" y="64"/>
                </a:cubicBezTo>
                <a:cubicBezTo>
                  <a:pt x="51" y="62"/>
                  <a:pt x="51" y="62"/>
                  <a:pt x="51" y="62"/>
                </a:cubicBezTo>
                <a:cubicBezTo>
                  <a:pt x="38" y="56"/>
                  <a:pt x="30" y="50"/>
                  <a:pt x="28" y="45"/>
                </a:cubicBezTo>
                <a:cubicBezTo>
                  <a:pt x="26" y="43"/>
                  <a:pt x="24" y="43"/>
                  <a:pt x="22" y="41"/>
                </a:cubicBezTo>
                <a:cubicBezTo>
                  <a:pt x="9" y="44"/>
                  <a:pt x="9" y="44"/>
                  <a:pt x="9" y="44"/>
                </a:cubicBezTo>
                <a:cubicBezTo>
                  <a:pt x="0" y="52"/>
                  <a:pt x="0" y="52"/>
                  <a:pt x="0" y="52"/>
                </a:cubicBezTo>
                <a:cubicBezTo>
                  <a:pt x="22" y="71"/>
                  <a:pt x="22" y="71"/>
                  <a:pt x="22" y="71"/>
                </a:cubicBezTo>
                <a:cubicBezTo>
                  <a:pt x="40" y="78"/>
                  <a:pt x="40" y="78"/>
                  <a:pt x="40" y="78"/>
                </a:cubicBezTo>
                <a:cubicBezTo>
                  <a:pt x="41" y="79"/>
                  <a:pt x="41" y="79"/>
                  <a:pt x="41" y="79"/>
                </a:cubicBezTo>
                <a:cubicBezTo>
                  <a:pt x="42" y="79"/>
                  <a:pt x="42" y="79"/>
                  <a:pt x="42" y="79"/>
                </a:cubicBezTo>
                <a:cubicBezTo>
                  <a:pt x="43" y="82"/>
                  <a:pt x="43" y="82"/>
                  <a:pt x="43" y="82"/>
                </a:cubicBezTo>
                <a:cubicBezTo>
                  <a:pt x="43" y="83"/>
                  <a:pt x="43" y="83"/>
                  <a:pt x="43" y="83"/>
                </a:cubicBezTo>
                <a:cubicBezTo>
                  <a:pt x="47" y="104"/>
                  <a:pt x="47" y="104"/>
                  <a:pt x="47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36"/>
                  <a:pt x="48" y="136"/>
                  <a:pt x="48" y="136"/>
                </a:cubicBezTo>
                <a:cubicBezTo>
                  <a:pt x="52" y="155"/>
                  <a:pt x="52" y="155"/>
                  <a:pt x="52" y="155"/>
                </a:cubicBezTo>
                <a:cubicBezTo>
                  <a:pt x="65" y="185"/>
                  <a:pt x="65" y="185"/>
                  <a:pt x="65" y="185"/>
                </a:cubicBezTo>
                <a:cubicBezTo>
                  <a:pt x="79" y="199"/>
                  <a:pt x="79" y="199"/>
                  <a:pt x="79" y="199"/>
                </a:cubicBezTo>
                <a:cubicBezTo>
                  <a:pt x="91" y="190"/>
                  <a:pt x="91" y="190"/>
                  <a:pt x="91" y="190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9" y="179"/>
                  <a:pt x="99" y="179"/>
                  <a:pt x="99" y="179"/>
                </a:cubicBezTo>
                <a:cubicBezTo>
                  <a:pt x="100" y="179"/>
                  <a:pt x="100" y="179"/>
                  <a:pt x="100" y="179"/>
                </a:cubicBezTo>
                <a:cubicBezTo>
                  <a:pt x="115" y="161"/>
                  <a:pt x="115" y="161"/>
                  <a:pt x="115" y="161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3"/>
                  <a:pt x="128" y="173"/>
                  <a:pt x="128" y="173"/>
                </a:cubicBezTo>
                <a:cubicBezTo>
                  <a:pt x="128" y="173"/>
                  <a:pt x="128" y="173"/>
                  <a:pt x="128" y="173"/>
                </a:cubicBezTo>
                <a:cubicBezTo>
                  <a:pt x="128" y="173"/>
                  <a:pt x="128" y="173"/>
                  <a:pt x="128" y="173"/>
                </a:cubicBezTo>
                <a:cubicBezTo>
                  <a:pt x="128" y="174"/>
                  <a:pt x="128" y="174"/>
                  <a:pt x="128" y="174"/>
                </a:cubicBezTo>
                <a:cubicBezTo>
                  <a:pt x="141" y="199"/>
                  <a:pt x="141" y="199"/>
                  <a:pt x="141" y="199"/>
                </a:cubicBezTo>
                <a:cubicBezTo>
                  <a:pt x="156" y="205"/>
                  <a:pt x="156" y="205"/>
                  <a:pt x="156" y="205"/>
                </a:cubicBezTo>
                <a:cubicBezTo>
                  <a:pt x="165" y="230"/>
                  <a:pt x="165" y="230"/>
                  <a:pt x="165" y="230"/>
                </a:cubicBezTo>
                <a:cubicBezTo>
                  <a:pt x="165" y="231"/>
                  <a:pt x="165" y="231"/>
                  <a:pt x="165" y="231"/>
                </a:cubicBezTo>
                <a:cubicBezTo>
                  <a:pt x="165" y="232"/>
                  <a:pt x="165" y="232"/>
                  <a:pt x="165" y="232"/>
                </a:cubicBezTo>
                <a:cubicBezTo>
                  <a:pt x="164" y="256"/>
                  <a:pt x="164" y="256"/>
                  <a:pt x="164" y="256"/>
                </a:cubicBezTo>
                <a:cubicBezTo>
                  <a:pt x="164" y="257"/>
                  <a:pt x="164" y="257"/>
                  <a:pt x="164" y="257"/>
                </a:cubicBezTo>
                <a:cubicBezTo>
                  <a:pt x="163" y="257"/>
                  <a:pt x="163" y="257"/>
                  <a:pt x="163" y="257"/>
                </a:cubicBezTo>
                <a:cubicBezTo>
                  <a:pt x="156" y="278"/>
                  <a:pt x="156" y="278"/>
                  <a:pt x="156" y="278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81" y="282"/>
                  <a:pt x="181" y="282"/>
                  <a:pt x="181" y="282"/>
                </a:cubicBezTo>
                <a:cubicBezTo>
                  <a:pt x="193" y="269"/>
                  <a:pt x="193" y="269"/>
                  <a:pt x="193" y="269"/>
                </a:cubicBezTo>
                <a:cubicBezTo>
                  <a:pt x="196" y="272"/>
                  <a:pt x="196" y="272"/>
                  <a:pt x="196" y="272"/>
                </a:cubicBezTo>
                <a:cubicBezTo>
                  <a:pt x="207" y="275"/>
                  <a:pt x="207" y="275"/>
                  <a:pt x="207" y="275"/>
                </a:cubicBezTo>
                <a:cubicBezTo>
                  <a:pt x="207" y="275"/>
                  <a:pt x="207" y="275"/>
                  <a:pt x="207" y="275"/>
                </a:cubicBezTo>
                <a:cubicBezTo>
                  <a:pt x="207" y="275"/>
                  <a:pt x="207" y="275"/>
                  <a:pt x="207" y="275"/>
                </a:cubicBezTo>
                <a:cubicBezTo>
                  <a:pt x="220" y="286"/>
                  <a:pt x="220" y="286"/>
                  <a:pt x="220" y="286"/>
                </a:cubicBezTo>
                <a:cubicBezTo>
                  <a:pt x="233" y="283"/>
                  <a:pt x="233" y="283"/>
                  <a:pt x="233" y="283"/>
                </a:cubicBezTo>
                <a:cubicBezTo>
                  <a:pt x="244" y="280"/>
                  <a:pt x="249" y="283"/>
                  <a:pt x="252" y="291"/>
                </a:cubicBezTo>
                <a:cubicBezTo>
                  <a:pt x="252" y="300"/>
                  <a:pt x="252" y="300"/>
                  <a:pt x="252" y="300"/>
                </a:cubicBezTo>
                <a:cubicBezTo>
                  <a:pt x="255" y="301"/>
                  <a:pt x="255" y="301"/>
                  <a:pt x="255" y="301"/>
                </a:cubicBezTo>
                <a:cubicBezTo>
                  <a:pt x="269" y="305"/>
                  <a:pt x="269" y="305"/>
                  <a:pt x="269" y="305"/>
                </a:cubicBezTo>
                <a:cubicBezTo>
                  <a:pt x="276" y="292"/>
                  <a:pt x="276" y="292"/>
                  <a:pt x="276" y="292"/>
                </a:cubicBezTo>
                <a:cubicBezTo>
                  <a:pt x="276" y="286"/>
                  <a:pt x="276" y="286"/>
                  <a:pt x="276" y="286"/>
                </a:cubicBezTo>
                <a:cubicBezTo>
                  <a:pt x="276" y="282"/>
                  <a:pt x="277" y="278"/>
                  <a:pt x="280" y="277"/>
                </a:cubicBezTo>
                <a:cubicBezTo>
                  <a:pt x="288" y="278"/>
                  <a:pt x="288" y="278"/>
                  <a:pt x="288" y="278"/>
                </a:cubicBezTo>
                <a:cubicBezTo>
                  <a:pt x="300" y="283"/>
                  <a:pt x="305" y="291"/>
                  <a:pt x="305" y="299"/>
                </a:cubicBezTo>
                <a:cubicBezTo>
                  <a:pt x="304" y="306"/>
                  <a:pt x="304" y="306"/>
                  <a:pt x="304" y="306"/>
                </a:cubicBezTo>
                <a:cubicBezTo>
                  <a:pt x="304" y="319"/>
                  <a:pt x="304" y="319"/>
                  <a:pt x="304" y="319"/>
                </a:cubicBezTo>
                <a:cubicBezTo>
                  <a:pt x="316" y="336"/>
                  <a:pt x="316" y="336"/>
                  <a:pt x="316" y="336"/>
                </a:cubicBezTo>
                <a:cubicBezTo>
                  <a:pt x="329" y="351"/>
                  <a:pt x="329" y="351"/>
                  <a:pt x="329" y="351"/>
                </a:cubicBezTo>
                <a:cubicBezTo>
                  <a:pt x="334" y="356"/>
                  <a:pt x="339" y="358"/>
                  <a:pt x="344" y="360"/>
                </a:cubicBezTo>
                <a:cubicBezTo>
                  <a:pt x="346" y="360"/>
                  <a:pt x="346" y="360"/>
                  <a:pt x="346" y="360"/>
                </a:cubicBezTo>
                <a:cubicBezTo>
                  <a:pt x="350" y="362"/>
                  <a:pt x="352" y="368"/>
                  <a:pt x="352" y="379"/>
                </a:cubicBezTo>
                <a:cubicBezTo>
                  <a:pt x="352" y="427"/>
                  <a:pt x="352" y="427"/>
                  <a:pt x="352" y="427"/>
                </a:cubicBezTo>
                <a:cubicBezTo>
                  <a:pt x="354" y="431"/>
                  <a:pt x="357" y="434"/>
                  <a:pt x="360" y="435"/>
                </a:cubicBezTo>
                <a:cubicBezTo>
                  <a:pt x="362" y="435"/>
                  <a:pt x="362" y="435"/>
                  <a:pt x="362" y="435"/>
                </a:cubicBezTo>
                <a:cubicBezTo>
                  <a:pt x="369" y="432"/>
                  <a:pt x="373" y="433"/>
                  <a:pt x="378" y="438"/>
                </a:cubicBezTo>
                <a:cubicBezTo>
                  <a:pt x="381" y="440"/>
                  <a:pt x="381" y="440"/>
                  <a:pt x="381" y="440"/>
                </a:cubicBezTo>
                <a:cubicBezTo>
                  <a:pt x="386" y="441"/>
                  <a:pt x="391" y="446"/>
                  <a:pt x="392" y="454"/>
                </a:cubicBezTo>
                <a:cubicBezTo>
                  <a:pt x="394" y="481"/>
                  <a:pt x="394" y="481"/>
                  <a:pt x="394" y="48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26" y="405"/>
                  <a:pt x="434" y="389"/>
                  <a:pt x="446" y="387"/>
                </a:cubicBezTo>
                <a:cubicBezTo>
                  <a:pt x="455" y="383"/>
                  <a:pt x="470" y="389"/>
                  <a:pt x="489" y="399"/>
                </a:cubicBezTo>
                <a:cubicBezTo>
                  <a:pt x="557" y="405"/>
                  <a:pt x="557" y="405"/>
                  <a:pt x="557" y="405"/>
                </a:cubicBezTo>
                <a:cubicBezTo>
                  <a:pt x="560" y="390"/>
                  <a:pt x="560" y="390"/>
                  <a:pt x="560" y="390"/>
                </a:cubicBezTo>
                <a:cubicBezTo>
                  <a:pt x="528" y="359"/>
                  <a:pt x="528" y="359"/>
                  <a:pt x="528" y="359"/>
                </a:cubicBezTo>
                <a:cubicBezTo>
                  <a:pt x="513" y="351"/>
                  <a:pt x="507" y="344"/>
                  <a:pt x="509" y="340"/>
                </a:cubicBezTo>
                <a:cubicBezTo>
                  <a:pt x="533" y="341"/>
                  <a:pt x="533" y="341"/>
                  <a:pt x="533" y="341"/>
                </a:cubicBezTo>
                <a:cubicBezTo>
                  <a:pt x="555" y="349"/>
                  <a:pt x="576" y="336"/>
                  <a:pt x="596" y="300"/>
                </a:cubicBezTo>
                <a:cubicBezTo>
                  <a:pt x="596" y="300"/>
                  <a:pt x="596" y="300"/>
                  <a:pt x="596" y="300"/>
                </a:cubicBezTo>
                <a:cubicBezTo>
                  <a:pt x="598" y="300"/>
                  <a:pt x="598" y="300"/>
                  <a:pt x="598" y="300"/>
                </a:cubicBezTo>
                <a:cubicBezTo>
                  <a:pt x="621" y="278"/>
                  <a:pt x="621" y="278"/>
                  <a:pt x="621" y="278"/>
                </a:cubicBezTo>
                <a:cubicBezTo>
                  <a:pt x="624" y="229"/>
                  <a:pt x="624" y="229"/>
                  <a:pt x="624" y="229"/>
                </a:cubicBezTo>
                <a:cubicBezTo>
                  <a:pt x="624" y="224"/>
                  <a:pt x="624" y="224"/>
                  <a:pt x="624" y="224"/>
                </a:cubicBezTo>
                <a:cubicBezTo>
                  <a:pt x="627" y="224"/>
                  <a:pt x="627" y="224"/>
                  <a:pt x="627" y="224"/>
                </a:cubicBezTo>
                <a:cubicBezTo>
                  <a:pt x="629" y="224"/>
                  <a:pt x="629" y="224"/>
                  <a:pt x="629" y="224"/>
                </a:cubicBezTo>
                <a:cubicBezTo>
                  <a:pt x="647" y="220"/>
                  <a:pt x="647" y="220"/>
                  <a:pt x="647" y="220"/>
                </a:cubicBezTo>
                <a:cubicBezTo>
                  <a:pt x="650" y="220"/>
                  <a:pt x="650" y="220"/>
                  <a:pt x="650" y="220"/>
                </a:cubicBezTo>
                <a:cubicBezTo>
                  <a:pt x="652" y="221"/>
                  <a:pt x="652" y="221"/>
                  <a:pt x="652" y="221"/>
                </a:cubicBezTo>
                <a:cubicBezTo>
                  <a:pt x="652" y="222"/>
                  <a:pt x="652" y="222"/>
                  <a:pt x="652" y="222"/>
                </a:cubicBezTo>
                <a:cubicBezTo>
                  <a:pt x="689" y="261"/>
                  <a:pt x="689" y="261"/>
                  <a:pt x="689" y="261"/>
                </a:cubicBezTo>
                <a:cubicBezTo>
                  <a:pt x="700" y="257"/>
                  <a:pt x="700" y="257"/>
                  <a:pt x="700" y="257"/>
                </a:cubicBezTo>
                <a:cubicBezTo>
                  <a:pt x="702" y="250"/>
                  <a:pt x="702" y="250"/>
                  <a:pt x="702" y="250"/>
                </a:cubicBezTo>
                <a:cubicBezTo>
                  <a:pt x="682" y="231"/>
                  <a:pt x="682" y="231"/>
                  <a:pt x="682" y="231"/>
                </a:cubicBezTo>
                <a:cubicBezTo>
                  <a:pt x="679" y="229"/>
                  <a:pt x="679" y="229"/>
                  <a:pt x="679" y="229"/>
                </a:cubicBezTo>
                <a:cubicBezTo>
                  <a:pt x="677" y="226"/>
                  <a:pt x="677" y="226"/>
                  <a:pt x="677" y="226"/>
                </a:cubicBezTo>
                <a:cubicBezTo>
                  <a:pt x="707" y="208"/>
                  <a:pt x="707" y="208"/>
                  <a:pt x="707" y="208"/>
                </a:cubicBezTo>
                <a:cubicBezTo>
                  <a:pt x="705" y="164"/>
                  <a:pt x="705" y="164"/>
                  <a:pt x="705" y="164"/>
                </a:cubicBezTo>
                <a:cubicBezTo>
                  <a:pt x="693" y="166"/>
                  <a:pt x="693" y="166"/>
                  <a:pt x="693" y="166"/>
                </a:cubicBezTo>
                <a:cubicBezTo>
                  <a:pt x="693" y="166"/>
                  <a:pt x="693" y="166"/>
                  <a:pt x="693" y="166"/>
                </a:cubicBezTo>
                <a:cubicBezTo>
                  <a:pt x="691" y="166"/>
                  <a:pt x="691" y="166"/>
                  <a:pt x="691" y="166"/>
                </a:cubicBezTo>
                <a:cubicBezTo>
                  <a:pt x="675" y="158"/>
                  <a:pt x="675" y="158"/>
                  <a:pt x="675" y="158"/>
                </a:cubicBezTo>
                <a:cubicBezTo>
                  <a:pt x="668" y="157"/>
                  <a:pt x="660" y="152"/>
                  <a:pt x="647" y="145"/>
                </a:cubicBezTo>
                <a:cubicBezTo>
                  <a:pt x="641" y="142"/>
                  <a:pt x="637" y="139"/>
                  <a:pt x="637" y="134"/>
                </a:cubicBezTo>
                <a:cubicBezTo>
                  <a:pt x="637" y="135"/>
                  <a:pt x="637" y="135"/>
                  <a:pt x="637" y="135"/>
                </a:cubicBezTo>
                <a:cubicBezTo>
                  <a:pt x="637" y="140"/>
                  <a:pt x="636" y="142"/>
                  <a:pt x="633" y="143"/>
                </a:cubicBezTo>
                <a:cubicBezTo>
                  <a:pt x="630" y="145"/>
                  <a:pt x="626" y="146"/>
                  <a:pt x="619" y="146"/>
                </a:cubicBezTo>
                <a:cubicBezTo>
                  <a:pt x="618" y="146"/>
                  <a:pt x="618" y="146"/>
                  <a:pt x="618" y="146"/>
                </a:cubicBezTo>
                <a:cubicBezTo>
                  <a:pt x="617" y="145"/>
                  <a:pt x="617" y="145"/>
                  <a:pt x="617" y="145"/>
                </a:cubicBezTo>
                <a:cubicBezTo>
                  <a:pt x="615" y="145"/>
                  <a:pt x="615" y="145"/>
                  <a:pt x="615" y="145"/>
                </a:cubicBezTo>
                <a:cubicBezTo>
                  <a:pt x="601" y="134"/>
                  <a:pt x="601" y="134"/>
                  <a:pt x="601" y="134"/>
                </a:cubicBezTo>
                <a:cubicBezTo>
                  <a:pt x="588" y="145"/>
                  <a:pt x="588" y="145"/>
                  <a:pt x="588" y="145"/>
                </a:cubicBezTo>
                <a:cubicBezTo>
                  <a:pt x="582" y="150"/>
                  <a:pt x="577" y="154"/>
                  <a:pt x="577" y="159"/>
                </a:cubicBezTo>
                <a:cubicBezTo>
                  <a:pt x="584" y="172"/>
                  <a:pt x="584" y="172"/>
                  <a:pt x="584" y="172"/>
                </a:cubicBezTo>
                <a:cubicBezTo>
                  <a:pt x="587" y="177"/>
                  <a:pt x="587" y="179"/>
                  <a:pt x="586" y="182"/>
                </a:cubicBezTo>
                <a:cubicBezTo>
                  <a:pt x="584" y="185"/>
                  <a:pt x="579" y="188"/>
                  <a:pt x="571" y="189"/>
                </a:cubicBezTo>
                <a:cubicBezTo>
                  <a:pt x="565" y="192"/>
                  <a:pt x="565" y="192"/>
                  <a:pt x="565" y="192"/>
                </a:cubicBezTo>
                <a:cubicBezTo>
                  <a:pt x="557" y="194"/>
                  <a:pt x="551" y="193"/>
                  <a:pt x="547" y="188"/>
                </a:cubicBezTo>
                <a:cubicBezTo>
                  <a:pt x="545" y="185"/>
                  <a:pt x="545" y="185"/>
                  <a:pt x="545" y="185"/>
                </a:cubicBezTo>
                <a:cubicBezTo>
                  <a:pt x="517" y="157"/>
                  <a:pt x="517" y="157"/>
                  <a:pt x="517" y="157"/>
                </a:cubicBezTo>
                <a:cubicBezTo>
                  <a:pt x="505" y="152"/>
                  <a:pt x="497" y="147"/>
                  <a:pt x="494" y="141"/>
                </a:cubicBezTo>
                <a:cubicBezTo>
                  <a:pt x="492" y="138"/>
                  <a:pt x="491" y="134"/>
                  <a:pt x="492" y="132"/>
                </a:cubicBezTo>
                <a:cubicBezTo>
                  <a:pt x="491" y="123"/>
                  <a:pt x="489" y="116"/>
                  <a:pt x="487" y="113"/>
                </a:cubicBezTo>
                <a:cubicBezTo>
                  <a:pt x="481" y="116"/>
                  <a:pt x="481" y="116"/>
                  <a:pt x="481" y="116"/>
                </a:cubicBezTo>
                <a:cubicBezTo>
                  <a:pt x="480" y="118"/>
                  <a:pt x="480" y="118"/>
                  <a:pt x="480" y="118"/>
                </a:cubicBezTo>
                <a:cubicBezTo>
                  <a:pt x="480" y="122"/>
                  <a:pt x="481" y="125"/>
                  <a:pt x="485" y="129"/>
                </a:cubicBezTo>
                <a:cubicBezTo>
                  <a:pt x="486" y="131"/>
                  <a:pt x="486" y="131"/>
                  <a:pt x="486" y="131"/>
                </a:cubicBezTo>
                <a:cubicBezTo>
                  <a:pt x="487" y="132"/>
                  <a:pt x="487" y="132"/>
                  <a:pt x="487" y="132"/>
                </a:cubicBezTo>
                <a:cubicBezTo>
                  <a:pt x="486" y="134"/>
                  <a:pt x="486" y="134"/>
                  <a:pt x="486" y="134"/>
                </a:cubicBezTo>
                <a:cubicBezTo>
                  <a:pt x="471" y="159"/>
                  <a:pt x="471" y="159"/>
                  <a:pt x="471" y="159"/>
                </a:cubicBezTo>
                <a:cubicBezTo>
                  <a:pt x="447" y="153"/>
                  <a:pt x="447" y="153"/>
                  <a:pt x="447" y="153"/>
                </a:cubicBezTo>
                <a:cubicBezTo>
                  <a:pt x="441" y="150"/>
                  <a:pt x="441" y="150"/>
                  <a:pt x="441" y="150"/>
                </a:cubicBezTo>
                <a:cubicBezTo>
                  <a:pt x="441" y="150"/>
                  <a:pt x="441" y="150"/>
                  <a:pt x="441" y="150"/>
                </a:cubicBezTo>
                <a:cubicBezTo>
                  <a:pt x="441" y="147"/>
                  <a:pt x="441" y="147"/>
                  <a:pt x="441" y="147"/>
                </a:cubicBezTo>
                <a:cubicBezTo>
                  <a:pt x="443" y="143"/>
                  <a:pt x="443" y="138"/>
                  <a:pt x="441" y="132"/>
                </a:cubicBezTo>
                <a:cubicBezTo>
                  <a:pt x="438" y="124"/>
                  <a:pt x="438" y="124"/>
                  <a:pt x="438" y="124"/>
                </a:cubicBezTo>
                <a:cubicBezTo>
                  <a:pt x="418" y="109"/>
                  <a:pt x="418" y="109"/>
                  <a:pt x="418" y="109"/>
                </a:cubicBezTo>
                <a:cubicBezTo>
                  <a:pt x="417" y="108"/>
                  <a:pt x="417" y="108"/>
                  <a:pt x="417" y="108"/>
                </a:cubicBezTo>
                <a:cubicBezTo>
                  <a:pt x="415" y="111"/>
                  <a:pt x="413" y="111"/>
                  <a:pt x="411" y="112"/>
                </a:cubicBezTo>
                <a:cubicBezTo>
                  <a:pt x="392" y="110"/>
                  <a:pt x="392" y="110"/>
                  <a:pt x="392" y="110"/>
                </a:cubicBezTo>
                <a:cubicBezTo>
                  <a:pt x="385" y="109"/>
                  <a:pt x="381" y="108"/>
                  <a:pt x="379" y="104"/>
                </a:cubicBezTo>
                <a:cubicBezTo>
                  <a:pt x="378" y="102"/>
                  <a:pt x="378" y="97"/>
                  <a:pt x="380" y="92"/>
                </a:cubicBezTo>
                <a:cubicBezTo>
                  <a:pt x="381" y="89"/>
                  <a:pt x="381" y="89"/>
                  <a:pt x="381" y="89"/>
                </a:cubicBezTo>
                <a:cubicBezTo>
                  <a:pt x="373" y="74"/>
                  <a:pt x="373" y="74"/>
                  <a:pt x="373" y="74"/>
                </a:cubicBezTo>
                <a:cubicBezTo>
                  <a:pt x="336" y="76"/>
                  <a:pt x="336" y="76"/>
                  <a:pt x="336" y="76"/>
                </a:cubicBezTo>
                <a:cubicBezTo>
                  <a:pt x="337" y="82"/>
                  <a:pt x="336" y="85"/>
                  <a:pt x="334" y="89"/>
                </a:cubicBezTo>
                <a:cubicBezTo>
                  <a:pt x="333" y="92"/>
                  <a:pt x="328" y="93"/>
                  <a:pt x="325" y="93"/>
                </a:cubicBezTo>
                <a:cubicBezTo>
                  <a:pt x="320" y="95"/>
                  <a:pt x="314" y="93"/>
                  <a:pt x="308" y="88"/>
                </a:cubicBezTo>
                <a:cubicBezTo>
                  <a:pt x="308" y="87"/>
                  <a:pt x="308" y="87"/>
                  <a:pt x="308" y="87"/>
                </a:cubicBezTo>
                <a:cubicBezTo>
                  <a:pt x="307" y="87"/>
                  <a:pt x="307" y="87"/>
                  <a:pt x="307" y="87"/>
                </a:cubicBezTo>
                <a:cubicBezTo>
                  <a:pt x="299" y="77"/>
                  <a:pt x="296" y="70"/>
                  <a:pt x="296" y="64"/>
                </a:cubicBezTo>
                <a:cubicBezTo>
                  <a:pt x="288" y="53"/>
                  <a:pt x="288" y="53"/>
                  <a:pt x="288" y="53"/>
                </a:cubicBezTo>
                <a:cubicBezTo>
                  <a:pt x="278" y="60"/>
                  <a:pt x="278" y="60"/>
                  <a:pt x="278" y="60"/>
                </a:cubicBezTo>
                <a:cubicBezTo>
                  <a:pt x="268" y="66"/>
                  <a:pt x="262" y="66"/>
                  <a:pt x="259" y="62"/>
                </a:cubicBezTo>
                <a:cubicBezTo>
                  <a:pt x="255" y="60"/>
                  <a:pt x="255" y="60"/>
                  <a:pt x="255" y="60"/>
                </a:cubicBezTo>
                <a:cubicBezTo>
                  <a:pt x="244" y="62"/>
                  <a:pt x="244" y="62"/>
                  <a:pt x="244" y="62"/>
                </a:cubicBezTo>
                <a:cubicBezTo>
                  <a:pt x="216" y="71"/>
                  <a:pt x="216" y="71"/>
                  <a:pt x="216" y="71"/>
                </a:cubicBezTo>
                <a:cubicBezTo>
                  <a:pt x="209" y="75"/>
                  <a:pt x="204" y="76"/>
                  <a:pt x="200" y="76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86" y="76"/>
                  <a:pt x="180" y="73"/>
                  <a:pt x="175" y="69"/>
                </a:cubicBezTo>
                <a:cubicBezTo>
                  <a:pt x="159" y="55"/>
                  <a:pt x="159" y="55"/>
                  <a:pt x="159" y="55"/>
                </a:cubicBezTo>
                <a:lnTo>
                  <a:pt x="137" y="22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30"/>
          <p:cNvSpPr/>
          <p:nvPr/>
        </p:nvSpPr>
        <p:spPr>
          <a:xfrm>
            <a:off x="3463920" y="2649600"/>
            <a:ext cx="542880" cy="333360"/>
          </a:xfrm>
          <a:custGeom>
            <a:avLst/>
            <a:gdLst/>
            <a:ahLst/>
            <a:rect l="l" t="t" r="r" b="b"/>
            <a:pathLst>
              <a:path w="573" h="361">
                <a:moveTo>
                  <a:pt x="525" y="11"/>
                </a:moveTo>
                <a:cubicBezTo>
                  <a:pt x="523" y="12"/>
                  <a:pt x="523" y="12"/>
                  <a:pt x="523" y="12"/>
                </a:cubicBezTo>
                <a:cubicBezTo>
                  <a:pt x="523" y="18"/>
                  <a:pt x="520" y="21"/>
                  <a:pt x="514" y="21"/>
                </a:cubicBezTo>
                <a:cubicBezTo>
                  <a:pt x="473" y="16"/>
                  <a:pt x="473" y="16"/>
                  <a:pt x="473" y="16"/>
                </a:cubicBezTo>
                <a:cubicBezTo>
                  <a:pt x="445" y="11"/>
                  <a:pt x="427" y="0"/>
                  <a:pt x="416" y="2"/>
                </a:cubicBezTo>
                <a:cubicBezTo>
                  <a:pt x="396" y="4"/>
                  <a:pt x="358" y="57"/>
                  <a:pt x="358" y="57"/>
                </a:cubicBezTo>
                <a:cubicBezTo>
                  <a:pt x="360" y="80"/>
                  <a:pt x="360" y="80"/>
                  <a:pt x="360" y="80"/>
                </a:cubicBezTo>
                <a:cubicBezTo>
                  <a:pt x="360" y="82"/>
                  <a:pt x="360" y="82"/>
                  <a:pt x="360" y="82"/>
                </a:cubicBezTo>
                <a:cubicBezTo>
                  <a:pt x="355" y="83"/>
                  <a:pt x="355" y="83"/>
                  <a:pt x="355" y="83"/>
                </a:cubicBezTo>
                <a:cubicBezTo>
                  <a:pt x="310" y="89"/>
                  <a:pt x="285" y="85"/>
                  <a:pt x="282" y="70"/>
                </a:cubicBezTo>
                <a:cubicBezTo>
                  <a:pt x="277" y="5"/>
                  <a:pt x="277" y="5"/>
                  <a:pt x="277" y="5"/>
                </a:cubicBezTo>
                <a:cubicBezTo>
                  <a:pt x="224" y="2"/>
                  <a:pt x="224" y="2"/>
                  <a:pt x="224" y="2"/>
                </a:cubicBezTo>
                <a:cubicBezTo>
                  <a:pt x="202" y="48"/>
                  <a:pt x="202" y="48"/>
                  <a:pt x="202" y="48"/>
                </a:cubicBezTo>
                <a:cubicBezTo>
                  <a:pt x="200" y="28"/>
                  <a:pt x="200" y="28"/>
                  <a:pt x="200" y="28"/>
                </a:cubicBezTo>
                <a:cubicBezTo>
                  <a:pt x="199" y="12"/>
                  <a:pt x="196" y="3"/>
                  <a:pt x="192" y="1"/>
                </a:cubicBezTo>
                <a:cubicBezTo>
                  <a:pt x="169" y="12"/>
                  <a:pt x="169" y="12"/>
                  <a:pt x="169" y="12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58" y="27"/>
                  <a:pt x="158" y="27"/>
                  <a:pt x="158" y="27"/>
                </a:cubicBezTo>
                <a:cubicBezTo>
                  <a:pt x="157" y="27"/>
                  <a:pt x="157" y="27"/>
                  <a:pt x="157" y="27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12" y="53"/>
                  <a:pt x="92" y="73"/>
                  <a:pt x="74" y="95"/>
                </a:cubicBezTo>
                <a:cubicBezTo>
                  <a:pt x="18" y="171"/>
                  <a:pt x="18" y="171"/>
                  <a:pt x="18" y="171"/>
                </a:cubicBezTo>
                <a:cubicBezTo>
                  <a:pt x="30" y="197"/>
                  <a:pt x="30" y="197"/>
                  <a:pt x="30" y="197"/>
                </a:cubicBezTo>
                <a:cubicBezTo>
                  <a:pt x="30" y="201"/>
                  <a:pt x="30" y="201"/>
                  <a:pt x="30" y="201"/>
                </a:cubicBezTo>
                <a:cubicBezTo>
                  <a:pt x="30" y="201"/>
                  <a:pt x="30" y="201"/>
                  <a:pt x="30" y="201"/>
                </a:cubicBezTo>
                <a:cubicBezTo>
                  <a:pt x="29" y="202"/>
                  <a:pt x="29" y="202"/>
                  <a:pt x="29" y="202"/>
                </a:cubicBezTo>
                <a:cubicBezTo>
                  <a:pt x="25" y="209"/>
                  <a:pt x="27" y="218"/>
                  <a:pt x="33" y="229"/>
                </a:cubicBezTo>
                <a:cubicBezTo>
                  <a:pt x="40" y="242"/>
                  <a:pt x="46" y="257"/>
                  <a:pt x="46" y="274"/>
                </a:cubicBezTo>
                <a:cubicBezTo>
                  <a:pt x="46" y="277"/>
                  <a:pt x="46" y="277"/>
                  <a:pt x="46" y="277"/>
                </a:cubicBezTo>
                <a:cubicBezTo>
                  <a:pt x="0" y="304"/>
                  <a:pt x="0" y="304"/>
                  <a:pt x="0" y="304"/>
                </a:cubicBezTo>
                <a:cubicBezTo>
                  <a:pt x="0" y="314"/>
                  <a:pt x="0" y="314"/>
                  <a:pt x="0" y="314"/>
                </a:cubicBezTo>
                <a:cubicBezTo>
                  <a:pt x="21" y="324"/>
                  <a:pt x="21" y="324"/>
                  <a:pt x="21" y="324"/>
                </a:cubicBezTo>
                <a:cubicBezTo>
                  <a:pt x="24" y="325"/>
                  <a:pt x="25" y="327"/>
                  <a:pt x="25" y="328"/>
                </a:cubicBezTo>
                <a:cubicBezTo>
                  <a:pt x="25" y="330"/>
                  <a:pt x="25" y="330"/>
                  <a:pt x="25" y="330"/>
                </a:cubicBezTo>
                <a:cubicBezTo>
                  <a:pt x="24" y="335"/>
                  <a:pt x="32" y="343"/>
                  <a:pt x="48" y="350"/>
                </a:cubicBezTo>
                <a:cubicBezTo>
                  <a:pt x="87" y="361"/>
                  <a:pt x="87" y="361"/>
                  <a:pt x="87" y="361"/>
                </a:cubicBezTo>
                <a:cubicBezTo>
                  <a:pt x="99" y="353"/>
                  <a:pt x="99" y="353"/>
                  <a:pt x="99" y="353"/>
                </a:cubicBezTo>
                <a:cubicBezTo>
                  <a:pt x="111" y="335"/>
                  <a:pt x="111" y="335"/>
                  <a:pt x="111" y="335"/>
                </a:cubicBezTo>
                <a:cubicBezTo>
                  <a:pt x="122" y="305"/>
                  <a:pt x="122" y="305"/>
                  <a:pt x="122" y="305"/>
                </a:cubicBezTo>
                <a:cubicBezTo>
                  <a:pt x="152" y="316"/>
                  <a:pt x="152" y="316"/>
                  <a:pt x="152" y="316"/>
                </a:cubicBezTo>
                <a:cubicBezTo>
                  <a:pt x="157" y="319"/>
                  <a:pt x="157" y="319"/>
                  <a:pt x="157" y="319"/>
                </a:cubicBezTo>
                <a:cubicBezTo>
                  <a:pt x="157" y="321"/>
                  <a:pt x="157" y="321"/>
                  <a:pt x="157" y="321"/>
                </a:cubicBezTo>
                <a:cubicBezTo>
                  <a:pt x="157" y="321"/>
                  <a:pt x="157" y="321"/>
                  <a:pt x="157" y="321"/>
                </a:cubicBezTo>
                <a:cubicBezTo>
                  <a:pt x="157" y="323"/>
                  <a:pt x="157" y="323"/>
                  <a:pt x="157" y="323"/>
                </a:cubicBezTo>
                <a:cubicBezTo>
                  <a:pt x="151" y="335"/>
                  <a:pt x="154" y="344"/>
                  <a:pt x="164" y="349"/>
                </a:cubicBezTo>
                <a:cubicBezTo>
                  <a:pt x="198" y="350"/>
                  <a:pt x="198" y="350"/>
                  <a:pt x="198" y="350"/>
                </a:cubicBezTo>
                <a:cubicBezTo>
                  <a:pt x="209" y="348"/>
                  <a:pt x="219" y="344"/>
                  <a:pt x="225" y="338"/>
                </a:cubicBezTo>
                <a:cubicBezTo>
                  <a:pt x="229" y="333"/>
                  <a:pt x="236" y="332"/>
                  <a:pt x="245" y="333"/>
                </a:cubicBezTo>
                <a:cubicBezTo>
                  <a:pt x="257" y="335"/>
                  <a:pt x="267" y="339"/>
                  <a:pt x="275" y="349"/>
                </a:cubicBezTo>
                <a:cubicBezTo>
                  <a:pt x="282" y="331"/>
                  <a:pt x="282" y="331"/>
                  <a:pt x="282" y="331"/>
                </a:cubicBezTo>
                <a:cubicBezTo>
                  <a:pt x="284" y="328"/>
                  <a:pt x="284" y="328"/>
                  <a:pt x="284" y="328"/>
                </a:cubicBezTo>
                <a:cubicBezTo>
                  <a:pt x="285" y="328"/>
                  <a:pt x="285" y="328"/>
                  <a:pt x="285" y="328"/>
                </a:cubicBezTo>
                <a:cubicBezTo>
                  <a:pt x="291" y="325"/>
                  <a:pt x="294" y="319"/>
                  <a:pt x="298" y="312"/>
                </a:cubicBezTo>
                <a:cubicBezTo>
                  <a:pt x="301" y="305"/>
                  <a:pt x="306" y="297"/>
                  <a:pt x="315" y="292"/>
                </a:cubicBezTo>
                <a:cubicBezTo>
                  <a:pt x="330" y="283"/>
                  <a:pt x="330" y="283"/>
                  <a:pt x="330" y="283"/>
                </a:cubicBezTo>
                <a:cubicBezTo>
                  <a:pt x="331" y="282"/>
                  <a:pt x="331" y="282"/>
                  <a:pt x="331" y="282"/>
                </a:cubicBezTo>
                <a:cubicBezTo>
                  <a:pt x="332" y="283"/>
                  <a:pt x="332" y="283"/>
                  <a:pt x="332" y="283"/>
                </a:cubicBezTo>
                <a:cubicBezTo>
                  <a:pt x="333" y="283"/>
                  <a:pt x="333" y="283"/>
                  <a:pt x="333" y="283"/>
                </a:cubicBezTo>
                <a:cubicBezTo>
                  <a:pt x="341" y="286"/>
                  <a:pt x="341" y="286"/>
                  <a:pt x="341" y="286"/>
                </a:cubicBezTo>
                <a:cubicBezTo>
                  <a:pt x="341" y="286"/>
                  <a:pt x="341" y="286"/>
                  <a:pt x="341" y="286"/>
                </a:cubicBezTo>
                <a:cubicBezTo>
                  <a:pt x="343" y="287"/>
                  <a:pt x="343" y="287"/>
                  <a:pt x="343" y="287"/>
                </a:cubicBezTo>
                <a:cubicBezTo>
                  <a:pt x="355" y="234"/>
                  <a:pt x="355" y="234"/>
                  <a:pt x="355" y="234"/>
                </a:cubicBezTo>
                <a:cubicBezTo>
                  <a:pt x="355" y="233"/>
                  <a:pt x="355" y="233"/>
                  <a:pt x="355" y="233"/>
                </a:cubicBezTo>
                <a:cubicBezTo>
                  <a:pt x="372" y="230"/>
                  <a:pt x="372" y="230"/>
                  <a:pt x="372" y="230"/>
                </a:cubicBezTo>
                <a:cubicBezTo>
                  <a:pt x="389" y="218"/>
                  <a:pt x="397" y="209"/>
                  <a:pt x="396" y="200"/>
                </a:cubicBezTo>
                <a:cubicBezTo>
                  <a:pt x="393" y="184"/>
                  <a:pt x="393" y="184"/>
                  <a:pt x="393" y="184"/>
                </a:cubicBezTo>
                <a:cubicBezTo>
                  <a:pt x="389" y="174"/>
                  <a:pt x="389" y="166"/>
                  <a:pt x="391" y="163"/>
                </a:cubicBezTo>
                <a:cubicBezTo>
                  <a:pt x="394" y="160"/>
                  <a:pt x="396" y="159"/>
                  <a:pt x="399" y="159"/>
                </a:cubicBezTo>
                <a:cubicBezTo>
                  <a:pt x="407" y="159"/>
                  <a:pt x="415" y="161"/>
                  <a:pt x="424" y="165"/>
                </a:cubicBezTo>
                <a:cubicBezTo>
                  <a:pt x="426" y="148"/>
                  <a:pt x="426" y="148"/>
                  <a:pt x="426" y="148"/>
                </a:cubicBezTo>
                <a:cubicBezTo>
                  <a:pt x="426" y="146"/>
                  <a:pt x="426" y="146"/>
                  <a:pt x="426" y="146"/>
                </a:cubicBezTo>
                <a:cubicBezTo>
                  <a:pt x="427" y="145"/>
                  <a:pt x="427" y="145"/>
                  <a:pt x="427" y="145"/>
                </a:cubicBezTo>
                <a:cubicBezTo>
                  <a:pt x="445" y="137"/>
                  <a:pt x="445" y="137"/>
                  <a:pt x="445" y="137"/>
                </a:cubicBezTo>
                <a:cubicBezTo>
                  <a:pt x="447" y="127"/>
                  <a:pt x="447" y="127"/>
                  <a:pt x="447" y="127"/>
                </a:cubicBezTo>
                <a:cubicBezTo>
                  <a:pt x="436" y="127"/>
                  <a:pt x="436" y="127"/>
                  <a:pt x="436" y="127"/>
                </a:cubicBezTo>
                <a:cubicBezTo>
                  <a:pt x="434" y="126"/>
                  <a:pt x="434" y="126"/>
                  <a:pt x="434" y="126"/>
                </a:cubicBezTo>
                <a:cubicBezTo>
                  <a:pt x="435" y="121"/>
                  <a:pt x="435" y="121"/>
                  <a:pt x="435" y="121"/>
                </a:cubicBezTo>
                <a:cubicBezTo>
                  <a:pt x="435" y="118"/>
                  <a:pt x="435" y="118"/>
                  <a:pt x="435" y="118"/>
                </a:cubicBezTo>
                <a:cubicBezTo>
                  <a:pt x="436" y="116"/>
                  <a:pt x="436" y="116"/>
                  <a:pt x="436" y="116"/>
                </a:cubicBezTo>
                <a:cubicBezTo>
                  <a:pt x="439" y="116"/>
                  <a:pt x="439" y="116"/>
                  <a:pt x="439" y="116"/>
                </a:cubicBezTo>
                <a:cubicBezTo>
                  <a:pt x="442" y="116"/>
                  <a:pt x="442" y="116"/>
                  <a:pt x="442" y="116"/>
                </a:cubicBezTo>
                <a:cubicBezTo>
                  <a:pt x="449" y="116"/>
                  <a:pt x="457" y="111"/>
                  <a:pt x="467" y="103"/>
                </a:cubicBezTo>
                <a:cubicBezTo>
                  <a:pt x="533" y="56"/>
                  <a:pt x="533" y="56"/>
                  <a:pt x="533" y="56"/>
                </a:cubicBezTo>
                <a:cubicBezTo>
                  <a:pt x="535" y="56"/>
                  <a:pt x="535" y="56"/>
                  <a:pt x="535" y="56"/>
                </a:cubicBezTo>
                <a:cubicBezTo>
                  <a:pt x="557" y="65"/>
                  <a:pt x="557" y="65"/>
                  <a:pt x="557" y="65"/>
                </a:cubicBezTo>
                <a:cubicBezTo>
                  <a:pt x="565" y="64"/>
                  <a:pt x="565" y="64"/>
                  <a:pt x="565" y="64"/>
                </a:cubicBezTo>
                <a:cubicBezTo>
                  <a:pt x="560" y="42"/>
                  <a:pt x="560" y="42"/>
                  <a:pt x="560" y="42"/>
                </a:cubicBezTo>
                <a:cubicBezTo>
                  <a:pt x="560" y="40"/>
                  <a:pt x="560" y="40"/>
                  <a:pt x="560" y="40"/>
                </a:cubicBezTo>
                <a:cubicBezTo>
                  <a:pt x="561" y="39"/>
                  <a:pt x="561" y="39"/>
                  <a:pt x="561" y="39"/>
                </a:cubicBezTo>
                <a:cubicBezTo>
                  <a:pt x="562" y="38"/>
                  <a:pt x="562" y="38"/>
                  <a:pt x="562" y="38"/>
                </a:cubicBezTo>
                <a:cubicBezTo>
                  <a:pt x="573" y="19"/>
                  <a:pt x="573" y="19"/>
                  <a:pt x="573" y="19"/>
                </a:cubicBezTo>
                <a:cubicBezTo>
                  <a:pt x="570" y="16"/>
                  <a:pt x="570" y="16"/>
                  <a:pt x="570" y="16"/>
                </a:cubicBezTo>
                <a:cubicBezTo>
                  <a:pt x="563" y="19"/>
                  <a:pt x="563" y="19"/>
                  <a:pt x="563" y="19"/>
                </a:cubicBezTo>
                <a:cubicBezTo>
                  <a:pt x="563" y="20"/>
                  <a:pt x="563" y="20"/>
                  <a:pt x="563" y="20"/>
                </a:cubicBezTo>
                <a:cubicBezTo>
                  <a:pt x="562" y="20"/>
                  <a:pt x="562" y="20"/>
                  <a:pt x="562" y="20"/>
                </a:cubicBezTo>
                <a:cubicBezTo>
                  <a:pt x="541" y="23"/>
                  <a:pt x="541" y="23"/>
                  <a:pt x="541" y="23"/>
                </a:cubicBezTo>
                <a:cubicBezTo>
                  <a:pt x="535" y="23"/>
                  <a:pt x="535" y="23"/>
                  <a:pt x="535" y="23"/>
                </a:cubicBezTo>
                <a:cubicBezTo>
                  <a:pt x="534" y="23"/>
                  <a:pt x="534" y="23"/>
                  <a:pt x="534" y="23"/>
                </a:cubicBezTo>
                <a:cubicBezTo>
                  <a:pt x="534" y="22"/>
                  <a:pt x="534" y="22"/>
                  <a:pt x="534" y="22"/>
                </a:cubicBezTo>
                <a:cubicBezTo>
                  <a:pt x="533" y="19"/>
                  <a:pt x="533" y="19"/>
                  <a:pt x="533" y="19"/>
                </a:cubicBezTo>
                <a:cubicBezTo>
                  <a:pt x="529" y="11"/>
                  <a:pt x="529" y="11"/>
                  <a:pt x="529" y="11"/>
                </a:cubicBezTo>
                <a:lnTo>
                  <a:pt x="525" y="1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1"/>
          <p:cNvSpPr/>
          <p:nvPr/>
        </p:nvSpPr>
        <p:spPr>
          <a:xfrm>
            <a:off x="3973680" y="3200400"/>
            <a:ext cx="82440" cy="73080"/>
          </a:xfrm>
          <a:custGeom>
            <a:avLst/>
            <a:gdLst/>
            <a:ahLst/>
            <a:rect l="l" t="t" r="r" b="b"/>
            <a:pathLst>
              <a:path w="88" h="80">
                <a:moveTo>
                  <a:pt x="81" y="43"/>
                </a:moveTo>
                <a:cubicBezTo>
                  <a:pt x="88" y="35"/>
                  <a:pt x="88" y="35"/>
                  <a:pt x="88" y="35"/>
                </a:cubicBezTo>
                <a:cubicBezTo>
                  <a:pt x="88" y="35"/>
                  <a:pt x="88" y="35"/>
                  <a:pt x="88" y="35"/>
                </a:cubicBezTo>
                <a:cubicBezTo>
                  <a:pt x="88" y="35"/>
                  <a:pt x="88" y="35"/>
                  <a:pt x="88" y="35"/>
                </a:cubicBezTo>
                <a:cubicBezTo>
                  <a:pt x="88" y="34"/>
                  <a:pt x="88" y="34"/>
                  <a:pt x="88" y="34"/>
                </a:cubicBezTo>
                <a:cubicBezTo>
                  <a:pt x="62" y="13"/>
                  <a:pt x="62" y="13"/>
                  <a:pt x="62" y="13"/>
                </a:cubicBezTo>
                <a:cubicBezTo>
                  <a:pt x="48" y="3"/>
                  <a:pt x="36" y="0"/>
                  <a:pt x="28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27"/>
                  <a:pt x="16" y="27"/>
                  <a:pt x="16" y="27"/>
                </a:cubicBezTo>
                <a:cubicBezTo>
                  <a:pt x="14" y="35"/>
                  <a:pt x="11" y="43"/>
                  <a:pt x="4" y="49"/>
                </a:cubicBezTo>
                <a:cubicBezTo>
                  <a:pt x="0" y="54"/>
                  <a:pt x="0" y="54"/>
                  <a:pt x="0" y="54"/>
                </a:cubicBezTo>
                <a:cubicBezTo>
                  <a:pt x="10" y="66"/>
                  <a:pt x="10" y="66"/>
                  <a:pt x="10" y="66"/>
                </a:cubicBezTo>
                <a:cubicBezTo>
                  <a:pt x="11" y="66"/>
                  <a:pt x="11" y="66"/>
                  <a:pt x="11" y="66"/>
                </a:cubicBezTo>
                <a:cubicBezTo>
                  <a:pt x="14" y="75"/>
                  <a:pt x="14" y="75"/>
                  <a:pt x="14" y="75"/>
                </a:cubicBezTo>
                <a:cubicBezTo>
                  <a:pt x="27" y="80"/>
                  <a:pt x="27" y="80"/>
                  <a:pt x="27" y="80"/>
                </a:cubicBezTo>
                <a:cubicBezTo>
                  <a:pt x="34" y="75"/>
                  <a:pt x="40" y="73"/>
                  <a:pt x="45" y="74"/>
                </a:cubicBezTo>
                <a:cubicBezTo>
                  <a:pt x="67" y="78"/>
                  <a:pt x="67" y="78"/>
                  <a:pt x="67" y="78"/>
                </a:cubicBezTo>
                <a:cubicBezTo>
                  <a:pt x="68" y="71"/>
                  <a:pt x="68" y="71"/>
                  <a:pt x="68" y="71"/>
                </a:cubicBezTo>
                <a:cubicBezTo>
                  <a:pt x="69" y="56"/>
                  <a:pt x="74" y="47"/>
                  <a:pt x="81" y="43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32"/>
          <p:cNvSpPr/>
          <p:nvPr/>
        </p:nvSpPr>
        <p:spPr>
          <a:xfrm>
            <a:off x="3575160" y="2921040"/>
            <a:ext cx="471240" cy="355680"/>
          </a:xfrm>
          <a:custGeom>
            <a:avLst/>
            <a:gdLst/>
            <a:ahLst/>
            <a:rect l="l" t="t" r="r" b="b"/>
            <a:pathLst>
              <a:path w="498" h="385">
                <a:moveTo>
                  <a:pt x="348" y="112"/>
                </a:moveTo>
                <a:cubicBezTo>
                  <a:pt x="336" y="102"/>
                  <a:pt x="327" y="86"/>
                  <a:pt x="317" y="59"/>
                </a:cubicBezTo>
                <a:cubicBezTo>
                  <a:pt x="287" y="59"/>
                  <a:pt x="269" y="54"/>
                  <a:pt x="260" y="43"/>
                </a:cubicBezTo>
                <a:cubicBezTo>
                  <a:pt x="254" y="34"/>
                  <a:pt x="241" y="28"/>
                  <a:pt x="223" y="22"/>
                </a:cubicBezTo>
                <a:cubicBezTo>
                  <a:pt x="218" y="21"/>
                  <a:pt x="218" y="21"/>
                  <a:pt x="218" y="21"/>
                </a:cubicBezTo>
                <a:cubicBezTo>
                  <a:pt x="223" y="3"/>
                  <a:pt x="223" y="3"/>
                  <a:pt x="223" y="3"/>
                </a:cubicBezTo>
                <a:cubicBezTo>
                  <a:pt x="220" y="1"/>
                  <a:pt x="220" y="1"/>
                  <a:pt x="220" y="1"/>
                </a:cubicBezTo>
                <a:cubicBezTo>
                  <a:pt x="215" y="0"/>
                  <a:pt x="215" y="0"/>
                  <a:pt x="215" y="0"/>
                </a:cubicBezTo>
                <a:cubicBezTo>
                  <a:pt x="202" y="6"/>
                  <a:pt x="194" y="13"/>
                  <a:pt x="191" y="21"/>
                </a:cubicBezTo>
                <a:cubicBezTo>
                  <a:pt x="186" y="30"/>
                  <a:pt x="181" y="37"/>
                  <a:pt x="175" y="42"/>
                </a:cubicBezTo>
                <a:cubicBezTo>
                  <a:pt x="169" y="59"/>
                  <a:pt x="164" y="68"/>
                  <a:pt x="159" y="68"/>
                </a:cubicBezTo>
                <a:cubicBezTo>
                  <a:pt x="156" y="69"/>
                  <a:pt x="154" y="67"/>
                  <a:pt x="151" y="63"/>
                </a:cubicBezTo>
                <a:cubicBezTo>
                  <a:pt x="143" y="56"/>
                  <a:pt x="143" y="56"/>
                  <a:pt x="143" y="56"/>
                </a:cubicBezTo>
                <a:cubicBezTo>
                  <a:pt x="137" y="53"/>
                  <a:pt x="130" y="50"/>
                  <a:pt x="125" y="50"/>
                </a:cubicBezTo>
                <a:cubicBezTo>
                  <a:pt x="115" y="52"/>
                  <a:pt x="115" y="52"/>
                  <a:pt x="115" y="52"/>
                </a:cubicBezTo>
                <a:cubicBezTo>
                  <a:pt x="107" y="59"/>
                  <a:pt x="97" y="64"/>
                  <a:pt x="81" y="67"/>
                </a:cubicBezTo>
                <a:cubicBezTo>
                  <a:pt x="41" y="64"/>
                  <a:pt x="41" y="64"/>
                  <a:pt x="41" y="64"/>
                </a:cubicBezTo>
                <a:cubicBezTo>
                  <a:pt x="28" y="58"/>
                  <a:pt x="23" y="45"/>
                  <a:pt x="26" y="30"/>
                </a:cubicBezTo>
                <a:cubicBezTo>
                  <a:pt x="11" y="24"/>
                  <a:pt x="11" y="24"/>
                  <a:pt x="11" y="24"/>
                </a:cubicBezTo>
                <a:cubicBezTo>
                  <a:pt x="4" y="45"/>
                  <a:pt x="4" y="45"/>
                  <a:pt x="4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4" y="47"/>
                  <a:pt x="4" y="47"/>
                  <a:pt x="4" y="47"/>
                </a:cubicBezTo>
                <a:cubicBezTo>
                  <a:pt x="3" y="48"/>
                  <a:pt x="3" y="48"/>
                  <a:pt x="3" y="48"/>
                </a:cubicBezTo>
                <a:cubicBezTo>
                  <a:pt x="0" y="52"/>
                  <a:pt x="0" y="52"/>
                  <a:pt x="0" y="52"/>
                </a:cubicBezTo>
                <a:cubicBezTo>
                  <a:pt x="9" y="54"/>
                  <a:pt x="9" y="54"/>
                  <a:pt x="9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2" y="55"/>
                  <a:pt x="12" y="55"/>
                  <a:pt x="12" y="55"/>
                </a:cubicBezTo>
                <a:cubicBezTo>
                  <a:pt x="12" y="56"/>
                  <a:pt x="12" y="56"/>
                  <a:pt x="12" y="56"/>
                </a:cubicBezTo>
                <a:cubicBezTo>
                  <a:pt x="30" y="80"/>
                  <a:pt x="44" y="96"/>
                  <a:pt x="51" y="100"/>
                </a:cubicBezTo>
                <a:cubicBezTo>
                  <a:pt x="55" y="102"/>
                  <a:pt x="68" y="107"/>
                  <a:pt x="90" y="113"/>
                </a:cubicBezTo>
                <a:cubicBezTo>
                  <a:pt x="128" y="127"/>
                  <a:pt x="128" y="127"/>
                  <a:pt x="128" y="127"/>
                </a:cubicBezTo>
                <a:cubicBezTo>
                  <a:pt x="140" y="132"/>
                  <a:pt x="151" y="155"/>
                  <a:pt x="164" y="196"/>
                </a:cubicBezTo>
                <a:cubicBezTo>
                  <a:pt x="181" y="208"/>
                  <a:pt x="192" y="213"/>
                  <a:pt x="199" y="212"/>
                </a:cubicBezTo>
                <a:cubicBezTo>
                  <a:pt x="206" y="209"/>
                  <a:pt x="219" y="202"/>
                  <a:pt x="237" y="190"/>
                </a:cubicBezTo>
                <a:cubicBezTo>
                  <a:pt x="238" y="189"/>
                  <a:pt x="238" y="189"/>
                  <a:pt x="238" y="189"/>
                </a:cubicBezTo>
                <a:cubicBezTo>
                  <a:pt x="239" y="188"/>
                  <a:pt x="239" y="188"/>
                  <a:pt x="239" y="188"/>
                </a:cubicBezTo>
                <a:cubicBezTo>
                  <a:pt x="241" y="189"/>
                  <a:pt x="241" y="189"/>
                  <a:pt x="241" y="189"/>
                </a:cubicBezTo>
                <a:cubicBezTo>
                  <a:pt x="260" y="193"/>
                  <a:pt x="260" y="193"/>
                  <a:pt x="260" y="193"/>
                </a:cubicBezTo>
                <a:cubicBezTo>
                  <a:pt x="262" y="193"/>
                  <a:pt x="262" y="193"/>
                  <a:pt x="262" y="193"/>
                </a:cubicBezTo>
                <a:cubicBezTo>
                  <a:pt x="262" y="196"/>
                  <a:pt x="262" y="196"/>
                  <a:pt x="262" y="196"/>
                </a:cubicBezTo>
                <a:cubicBezTo>
                  <a:pt x="261" y="200"/>
                  <a:pt x="261" y="200"/>
                  <a:pt x="261" y="200"/>
                </a:cubicBezTo>
                <a:cubicBezTo>
                  <a:pt x="255" y="225"/>
                  <a:pt x="250" y="240"/>
                  <a:pt x="245" y="244"/>
                </a:cubicBezTo>
                <a:cubicBezTo>
                  <a:pt x="220" y="245"/>
                  <a:pt x="220" y="245"/>
                  <a:pt x="220" y="245"/>
                </a:cubicBezTo>
                <a:cubicBezTo>
                  <a:pt x="220" y="246"/>
                  <a:pt x="220" y="246"/>
                  <a:pt x="220" y="246"/>
                </a:cubicBezTo>
                <a:cubicBezTo>
                  <a:pt x="220" y="257"/>
                  <a:pt x="213" y="272"/>
                  <a:pt x="199" y="292"/>
                </a:cubicBezTo>
                <a:cubicBezTo>
                  <a:pt x="195" y="299"/>
                  <a:pt x="194" y="304"/>
                  <a:pt x="194" y="307"/>
                </a:cubicBezTo>
                <a:cubicBezTo>
                  <a:pt x="218" y="324"/>
                  <a:pt x="218" y="324"/>
                  <a:pt x="218" y="324"/>
                </a:cubicBezTo>
                <a:cubicBezTo>
                  <a:pt x="224" y="331"/>
                  <a:pt x="229" y="334"/>
                  <a:pt x="234" y="334"/>
                </a:cubicBezTo>
                <a:cubicBezTo>
                  <a:pt x="239" y="334"/>
                  <a:pt x="239" y="334"/>
                  <a:pt x="239" y="334"/>
                </a:cubicBezTo>
                <a:cubicBezTo>
                  <a:pt x="244" y="352"/>
                  <a:pt x="244" y="352"/>
                  <a:pt x="244" y="352"/>
                </a:cubicBezTo>
                <a:cubicBezTo>
                  <a:pt x="256" y="356"/>
                  <a:pt x="256" y="356"/>
                  <a:pt x="256" y="356"/>
                </a:cubicBezTo>
                <a:cubicBezTo>
                  <a:pt x="262" y="349"/>
                  <a:pt x="262" y="349"/>
                  <a:pt x="262" y="349"/>
                </a:cubicBezTo>
                <a:cubicBezTo>
                  <a:pt x="265" y="346"/>
                  <a:pt x="270" y="344"/>
                  <a:pt x="273" y="345"/>
                </a:cubicBezTo>
                <a:cubicBezTo>
                  <a:pt x="283" y="345"/>
                  <a:pt x="292" y="352"/>
                  <a:pt x="302" y="365"/>
                </a:cubicBezTo>
                <a:cubicBezTo>
                  <a:pt x="302" y="365"/>
                  <a:pt x="302" y="365"/>
                  <a:pt x="302" y="365"/>
                </a:cubicBezTo>
                <a:cubicBezTo>
                  <a:pt x="312" y="378"/>
                  <a:pt x="312" y="378"/>
                  <a:pt x="312" y="378"/>
                </a:cubicBezTo>
                <a:cubicBezTo>
                  <a:pt x="313" y="377"/>
                  <a:pt x="313" y="377"/>
                  <a:pt x="313" y="377"/>
                </a:cubicBezTo>
                <a:cubicBezTo>
                  <a:pt x="319" y="373"/>
                  <a:pt x="331" y="374"/>
                  <a:pt x="348" y="379"/>
                </a:cubicBezTo>
                <a:cubicBezTo>
                  <a:pt x="375" y="385"/>
                  <a:pt x="375" y="385"/>
                  <a:pt x="375" y="385"/>
                </a:cubicBezTo>
                <a:cubicBezTo>
                  <a:pt x="401" y="377"/>
                  <a:pt x="401" y="377"/>
                  <a:pt x="401" y="377"/>
                </a:cubicBezTo>
                <a:cubicBezTo>
                  <a:pt x="411" y="372"/>
                  <a:pt x="411" y="372"/>
                  <a:pt x="411" y="372"/>
                </a:cubicBezTo>
                <a:cubicBezTo>
                  <a:pt x="418" y="366"/>
                  <a:pt x="418" y="366"/>
                  <a:pt x="418" y="366"/>
                </a:cubicBezTo>
                <a:cubicBezTo>
                  <a:pt x="412" y="359"/>
                  <a:pt x="412" y="359"/>
                  <a:pt x="412" y="359"/>
                </a:cubicBezTo>
                <a:cubicBezTo>
                  <a:pt x="410" y="355"/>
                  <a:pt x="412" y="349"/>
                  <a:pt x="417" y="344"/>
                </a:cubicBezTo>
                <a:cubicBezTo>
                  <a:pt x="424" y="339"/>
                  <a:pt x="428" y="334"/>
                  <a:pt x="428" y="327"/>
                </a:cubicBezTo>
                <a:cubicBezTo>
                  <a:pt x="428" y="315"/>
                  <a:pt x="428" y="315"/>
                  <a:pt x="428" y="315"/>
                </a:cubicBezTo>
                <a:cubicBezTo>
                  <a:pt x="426" y="308"/>
                  <a:pt x="427" y="304"/>
                  <a:pt x="429" y="302"/>
                </a:cubicBezTo>
                <a:cubicBezTo>
                  <a:pt x="431" y="298"/>
                  <a:pt x="439" y="296"/>
                  <a:pt x="447" y="293"/>
                </a:cubicBezTo>
                <a:cubicBezTo>
                  <a:pt x="461" y="291"/>
                  <a:pt x="478" y="298"/>
                  <a:pt x="498" y="315"/>
                </a:cubicBezTo>
                <a:cubicBezTo>
                  <a:pt x="490" y="293"/>
                  <a:pt x="490" y="293"/>
                  <a:pt x="490" y="293"/>
                </a:cubicBezTo>
                <a:cubicBezTo>
                  <a:pt x="479" y="278"/>
                  <a:pt x="479" y="278"/>
                  <a:pt x="479" y="278"/>
                </a:cubicBezTo>
                <a:cubicBezTo>
                  <a:pt x="477" y="259"/>
                  <a:pt x="477" y="259"/>
                  <a:pt x="477" y="259"/>
                </a:cubicBezTo>
                <a:cubicBezTo>
                  <a:pt x="459" y="255"/>
                  <a:pt x="459" y="255"/>
                  <a:pt x="459" y="255"/>
                </a:cubicBezTo>
                <a:cubicBezTo>
                  <a:pt x="458" y="255"/>
                  <a:pt x="458" y="255"/>
                  <a:pt x="458" y="255"/>
                </a:cubicBezTo>
                <a:cubicBezTo>
                  <a:pt x="458" y="254"/>
                  <a:pt x="458" y="254"/>
                  <a:pt x="458" y="254"/>
                </a:cubicBezTo>
                <a:cubicBezTo>
                  <a:pt x="458" y="254"/>
                  <a:pt x="458" y="254"/>
                  <a:pt x="458" y="254"/>
                </a:cubicBezTo>
                <a:cubicBezTo>
                  <a:pt x="458" y="254"/>
                  <a:pt x="458" y="254"/>
                  <a:pt x="458" y="254"/>
                </a:cubicBezTo>
                <a:cubicBezTo>
                  <a:pt x="410" y="227"/>
                  <a:pt x="410" y="227"/>
                  <a:pt x="410" y="227"/>
                </a:cubicBezTo>
                <a:cubicBezTo>
                  <a:pt x="387" y="223"/>
                  <a:pt x="387" y="223"/>
                  <a:pt x="387" y="223"/>
                </a:cubicBezTo>
                <a:cubicBezTo>
                  <a:pt x="387" y="218"/>
                  <a:pt x="387" y="218"/>
                  <a:pt x="387" y="218"/>
                </a:cubicBezTo>
                <a:cubicBezTo>
                  <a:pt x="386" y="193"/>
                  <a:pt x="386" y="193"/>
                  <a:pt x="386" y="193"/>
                </a:cubicBezTo>
                <a:cubicBezTo>
                  <a:pt x="370" y="149"/>
                  <a:pt x="357" y="121"/>
                  <a:pt x="348" y="112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3"/>
          <p:cNvSpPr/>
          <p:nvPr/>
        </p:nvSpPr>
        <p:spPr>
          <a:xfrm>
            <a:off x="3327480" y="2239920"/>
            <a:ext cx="439560" cy="612720"/>
          </a:xfrm>
          <a:custGeom>
            <a:avLst/>
            <a:gdLst/>
            <a:ahLst/>
            <a:rect l="l" t="t" r="r" b="b"/>
            <a:pathLst>
              <a:path w="463" h="662">
                <a:moveTo>
                  <a:pt x="426" y="200"/>
                </a:moveTo>
                <a:cubicBezTo>
                  <a:pt x="418" y="196"/>
                  <a:pt x="418" y="196"/>
                  <a:pt x="418" y="196"/>
                </a:cubicBezTo>
                <a:cubicBezTo>
                  <a:pt x="418" y="196"/>
                  <a:pt x="418" y="196"/>
                  <a:pt x="418" y="196"/>
                </a:cubicBezTo>
                <a:cubicBezTo>
                  <a:pt x="417" y="196"/>
                  <a:pt x="417" y="196"/>
                  <a:pt x="417" y="196"/>
                </a:cubicBezTo>
                <a:cubicBezTo>
                  <a:pt x="410" y="189"/>
                  <a:pt x="410" y="189"/>
                  <a:pt x="410" y="189"/>
                </a:cubicBezTo>
                <a:cubicBezTo>
                  <a:pt x="381" y="181"/>
                  <a:pt x="381" y="181"/>
                  <a:pt x="381" y="181"/>
                </a:cubicBezTo>
                <a:cubicBezTo>
                  <a:pt x="373" y="181"/>
                  <a:pt x="373" y="181"/>
                  <a:pt x="373" y="181"/>
                </a:cubicBezTo>
                <a:cubicBezTo>
                  <a:pt x="368" y="183"/>
                  <a:pt x="368" y="183"/>
                  <a:pt x="368" y="183"/>
                </a:cubicBezTo>
                <a:cubicBezTo>
                  <a:pt x="357" y="161"/>
                  <a:pt x="357" y="161"/>
                  <a:pt x="357" y="161"/>
                </a:cubicBezTo>
                <a:cubicBezTo>
                  <a:pt x="358" y="160"/>
                  <a:pt x="358" y="160"/>
                  <a:pt x="358" y="160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7" y="134"/>
                  <a:pt x="367" y="134"/>
                  <a:pt x="367" y="134"/>
                </a:cubicBezTo>
                <a:cubicBezTo>
                  <a:pt x="372" y="126"/>
                  <a:pt x="372" y="126"/>
                  <a:pt x="372" y="126"/>
                </a:cubicBezTo>
                <a:cubicBezTo>
                  <a:pt x="368" y="124"/>
                  <a:pt x="368" y="124"/>
                  <a:pt x="368" y="124"/>
                </a:cubicBezTo>
                <a:cubicBezTo>
                  <a:pt x="352" y="121"/>
                  <a:pt x="352" y="121"/>
                  <a:pt x="352" y="121"/>
                </a:cubicBezTo>
                <a:cubicBezTo>
                  <a:pt x="352" y="121"/>
                  <a:pt x="352" y="121"/>
                  <a:pt x="352" y="121"/>
                </a:cubicBezTo>
                <a:cubicBezTo>
                  <a:pt x="325" y="116"/>
                  <a:pt x="325" y="116"/>
                  <a:pt x="325" y="116"/>
                </a:cubicBezTo>
                <a:cubicBezTo>
                  <a:pt x="323" y="116"/>
                  <a:pt x="323" y="116"/>
                  <a:pt x="323" y="116"/>
                </a:cubicBezTo>
                <a:cubicBezTo>
                  <a:pt x="307" y="101"/>
                  <a:pt x="307" y="101"/>
                  <a:pt x="307" y="101"/>
                </a:cubicBezTo>
                <a:cubicBezTo>
                  <a:pt x="307" y="100"/>
                  <a:pt x="307" y="100"/>
                  <a:pt x="307" y="100"/>
                </a:cubicBezTo>
                <a:cubicBezTo>
                  <a:pt x="302" y="89"/>
                  <a:pt x="302" y="89"/>
                  <a:pt x="302" y="89"/>
                </a:cubicBezTo>
                <a:cubicBezTo>
                  <a:pt x="301" y="86"/>
                  <a:pt x="301" y="86"/>
                  <a:pt x="301" y="86"/>
                </a:cubicBezTo>
                <a:cubicBezTo>
                  <a:pt x="309" y="64"/>
                  <a:pt x="309" y="64"/>
                  <a:pt x="309" y="64"/>
                </a:cubicBezTo>
                <a:cubicBezTo>
                  <a:pt x="309" y="48"/>
                  <a:pt x="309" y="48"/>
                  <a:pt x="309" y="48"/>
                </a:cubicBezTo>
                <a:cubicBezTo>
                  <a:pt x="308" y="44"/>
                  <a:pt x="308" y="44"/>
                  <a:pt x="308" y="44"/>
                </a:cubicBezTo>
                <a:cubicBezTo>
                  <a:pt x="300" y="52"/>
                  <a:pt x="300" y="52"/>
                  <a:pt x="300" y="52"/>
                </a:cubicBezTo>
                <a:cubicBezTo>
                  <a:pt x="298" y="53"/>
                  <a:pt x="298" y="53"/>
                  <a:pt x="298" y="53"/>
                </a:cubicBezTo>
                <a:cubicBezTo>
                  <a:pt x="296" y="56"/>
                  <a:pt x="296" y="56"/>
                  <a:pt x="296" y="56"/>
                </a:cubicBezTo>
                <a:cubicBezTo>
                  <a:pt x="294" y="53"/>
                  <a:pt x="294" y="53"/>
                  <a:pt x="294" y="53"/>
                </a:cubicBezTo>
                <a:cubicBezTo>
                  <a:pt x="291" y="52"/>
                  <a:pt x="291" y="52"/>
                  <a:pt x="291" y="52"/>
                </a:cubicBezTo>
                <a:cubicBezTo>
                  <a:pt x="275" y="39"/>
                  <a:pt x="275" y="39"/>
                  <a:pt x="275" y="39"/>
                </a:cubicBezTo>
                <a:cubicBezTo>
                  <a:pt x="273" y="37"/>
                  <a:pt x="273" y="37"/>
                  <a:pt x="273" y="37"/>
                </a:cubicBezTo>
                <a:cubicBezTo>
                  <a:pt x="273" y="35"/>
                  <a:pt x="273" y="35"/>
                  <a:pt x="273" y="35"/>
                </a:cubicBezTo>
                <a:cubicBezTo>
                  <a:pt x="270" y="12"/>
                  <a:pt x="270" y="12"/>
                  <a:pt x="270" y="12"/>
                </a:cubicBezTo>
                <a:cubicBezTo>
                  <a:pt x="263" y="0"/>
                  <a:pt x="263" y="0"/>
                  <a:pt x="263" y="0"/>
                </a:cubicBezTo>
                <a:cubicBezTo>
                  <a:pt x="247" y="1"/>
                  <a:pt x="247" y="1"/>
                  <a:pt x="247" y="1"/>
                </a:cubicBezTo>
                <a:cubicBezTo>
                  <a:pt x="237" y="18"/>
                  <a:pt x="237" y="18"/>
                  <a:pt x="237" y="18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35" y="22"/>
                  <a:pt x="235" y="22"/>
                  <a:pt x="235" y="22"/>
                </a:cubicBezTo>
                <a:cubicBezTo>
                  <a:pt x="210" y="16"/>
                  <a:pt x="210" y="16"/>
                  <a:pt x="210" y="16"/>
                </a:cubicBezTo>
                <a:cubicBezTo>
                  <a:pt x="206" y="39"/>
                  <a:pt x="206" y="39"/>
                  <a:pt x="206" y="39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05" y="64"/>
                  <a:pt x="205" y="64"/>
                  <a:pt x="205" y="64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91" y="87"/>
                  <a:pt x="191" y="87"/>
                  <a:pt x="191" y="87"/>
                </a:cubicBezTo>
                <a:cubicBezTo>
                  <a:pt x="189" y="88"/>
                  <a:pt x="189" y="88"/>
                  <a:pt x="189" y="88"/>
                </a:cubicBezTo>
                <a:cubicBezTo>
                  <a:pt x="188" y="88"/>
                  <a:pt x="188" y="88"/>
                  <a:pt x="188" y="88"/>
                </a:cubicBezTo>
                <a:cubicBezTo>
                  <a:pt x="172" y="89"/>
                  <a:pt x="172" y="89"/>
                  <a:pt x="172" y="89"/>
                </a:cubicBezTo>
                <a:cubicBezTo>
                  <a:pt x="156" y="102"/>
                  <a:pt x="156" y="102"/>
                  <a:pt x="156" y="102"/>
                </a:cubicBezTo>
                <a:cubicBezTo>
                  <a:pt x="154" y="104"/>
                  <a:pt x="154" y="104"/>
                  <a:pt x="154" y="104"/>
                </a:cubicBezTo>
                <a:cubicBezTo>
                  <a:pt x="154" y="104"/>
                  <a:pt x="154" y="104"/>
                  <a:pt x="154" y="104"/>
                </a:cubicBezTo>
                <a:cubicBezTo>
                  <a:pt x="152" y="104"/>
                  <a:pt x="152" y="104"/>
                  <a:pt x="152" y="104"/>
                </a:cubicBezTo>
                <a:cubicBezTo>
                  <a:pt x="151" y="103"/>
                  <a:pt x="151" y="103"/>
                  <a:pt x="151" y="103"/>
                </a:cubicBezTo>
                <a:cubicBezTo>
                  <a:pt x="121" y="93"/>
                  <a:pt x="121" y="93"/>
                  <a:pt x="121" y="93"/>
                </a:cubicBezTo>
                <a:cubicBezTo>
                  <a:pt x="117" y="104"/>
                  <a:pt x="117" y="104"/>
                  <a:pt x="117" y="104"/>
                </a:cubicBezTo>
                <a:cubicBezTo>
                  <a:pt x="117" y="105"/>
                  <a:pt x="117" y="105"/>
                  <a:pt x="117" y="105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02" y="130"/>
                  <a:pt x="99" y="132"/>
                  <a:pt x="96" y="133"/>
                </a:cubicBezTo>
                <a:cubicBezTo>
                  <a:pt x="83" y="131"/>
                  <a:pt x="83" y="131"/>
                  <a:pt x="83" y="131"/>
                </a:cubicBezTo>
                <a:cubicBezTo>
                  <a:pt x="66" y="124"/>
                  <a:pt x="66" y="124"/>
                  <a:pt x="66" y="124"/>
                </a:cubicBezTo>
                <a:cubicBezTo>
                  <a:pt x="63" y="122"/>
                  <a:pt x="63" y="122"/>
                  <a:pt x="63" y="122"/>
                </a:cubicBezTo>
                <a:cubicBezTo>
                  <a:pt x="62" y="121"/>
                  <a:pt x="62" y="121"/>
                  <a:pt x="62" y="121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59" y="94"/>
                  <a:pt x="59" y="94"/>
                  <a:pt x="59" y="94"/>
                </a:cubicBezTo>
                <a:cubicBezTo>
                  <a:pt x="54" y="75"/>
                  <a:pt x="54" y="75"/>
                  <a:pt x="54" y="75"/>
                </a:cubicBezTo>
                <a:cubicBezTo>
                  <a:pt x="50" y="70"/>
                  <a:pt x="50" y="70"/>
                  <a:pt x="50" y="70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5"/>
                  <a:pt x="43" y="85"/>
                  <a:pt x="43" y="85"/>
                </a:cubicBezTo>
                <a:cubicBezTo>
                  <a:pt x="30" y="102"/>
                  <a:pt x="30" y="102"/>
                  <a:pt x="30" y="102"/>
                </a:cubicBezTo>
                <a:cubicBezTo>
                  <a:pt x="20" y="126"/>
                  <a:pt x="20" y="126"/>
                  <a:pt x="20" y="126"/>
                </a:cubicBezTo>
                <a:cubicBezTo>
                  <a:pt x="20" y="127"/>
                  <a:pt x="20" y="127"/>
                  <a:pt x="20" y="127"/>
                </a:cubicBezTo>
                <a:cubicBezTo>
                  <a:pt x="20" y="127"/>
                  <a:pt x="20" y="127"/>
                  <a:pt x="20" y="127"/>
                </a:cubicBezTo>
                <a:cubicBezTo>
                  <a:pt x="20" y="128"/>
                  <a:pt x="20" y="128"/>
                  <a:pt x="20" y="128"/>
                </a:cubicBezTo>
                <a:cubicBezTo>
                  <a:pt x="19" y="128"/>
                  <a:pt x="19" y="128"/>
                  <a:pt x="19" y="128"/>
                </a:cubicBezTo>
                <a:cubicBezTo>
                  <a:pt x="9" y="142"/>
                  <a:pt x="9" y="142"/>
                  <a:pt x="9" y="142"/>
                </a:cubicBezTo>
                <a:cubicBezTo>
                  <a:pt x="9" y="146"/>
                  <a:pt x="6" y="152"/>
                  <a:pt x="0" y="162"/>
                </a:cubicBezTo>
                <a:cubicBezTo>
                  <a:pt x="6" y="186"/>
                  <a:pt x="6" y="186"/>
                  <a:pt x="6" y="186"/>
                </a:cubicBezTo>
                <a:cubicBezTo>
                  <a:pt x="38" y="221"/>
                  <a:pt x="38" y="221"/>
                  <a:pt x="38" y="221"/>
                </a:cubicBezTo>
                <a:cubicBezTo>
                  <a:pt x="38" y="221"/>
                  <a:pt x="38" y="221"/>
                  <a:pt x="38" y="221"/>
                </a:cubicBezTo>
                <a:cubicBezTo>
                  <a:pt x="48" y="243"/>
                  <a:pt x="48" y="243"/>
                  <a:pt x="48" y="243"/>
                </a:cubicBezTo>
                <a:cubicBezTo>
                  <a:pt x="48" y="245"/>
                  <a:pt x="48" y="245"/>
                  <a:pt x="48" y="245"/>
                </a:cubicBezTo>
                <a:cubicBezTo>
                  <a:pt x="47" y="247"/>
                  <a:pt x="47" y="247"/>
                  <a:pt x="47" y="247"/>
                </a:cubicBezTo>
                <a:cubicBezTo>
                  <a:pt x="46" y="247"/>
                  <a:pt x="46" y="247"/>
                  <a:pt x="46" y="247"/>
                </a:cubicBezTo>
                <a:cubicBezTo>
                  <a:pt x="38" y="258"/>
                  <a:pt x="38" y="258"/>
                  <a:pt x="38" y="258"/>
                </a:cubicBezTo>
                <a:cubicBezTo>
                  <a:pt x="36" y="260"/>
                  <a:pt x="36" y="260"/>
                  <a:pt x="36" y="260"/>
                </a:cubicBezTo>
                <a:cubicBezTo>
                  <a:pt x="15" y="264"/>
                  <a:pt x="15" y="264"/>
                  <a:pt x="15" y="264"/>
                </a:cubicBezTo>
                <a:cubicBezTo>
                  <a:pt x="17" y="281"/>
                  <a:pt x="17" y="281"/>
                  <a:pt x="17" y="281"/>
                </a:cubicBezTo>
                <a:cubicBezTo>
                  <a:pt x="33" y="290"/>
                  <a:pt x="33" y="290"/>
                  <a:pt x="33" y="290"/>
                </a:cubicBezTo>
                <a:cubicBezTo>
                  <a:pt x="56" y="295"/>
                  <a:pt x="56" y="295"/>
                  <a:pt x="56" y="295"/>
                </a:cubicBezTo>
                <a:cubicBezTo>
                  <a:pt x="62" y="316"/>
                  <a:pt x="62" y="316"/>
                  <a:pt x="62" y="316"/>
                </a:cubicBezTo>
                <a:cubicBezTo>
                  <a:pt x="62" y="316"/>
                  <a:pt x="62" y="316"/>
                  <a:pt x="62" y="316"/>
                </a:cubicBezTo>
                <a:cubicBezTo>
                  <a:pt x="62" y="316"/>
                  <a:pt x="62" y="316"/>
                  <a:pt x="62" y="316"/>
                </a:cubicBezTo>
                <a:cubicBezTo>
                  <a:pt x="62" y="317"/>
                  <a:pt x="62" y="317"/>
                  <a:pt x="62" y="317"/>
                </a:cubicBezTo>
                <a:cubicBezTo>
                  <a:pt x="62" y="318"/>
                  <a:pt x="62" y="318"/>
                  <a:pt x="62" y="318"/>
                </a:cubicBezTo>
                <a:cubicBezTo>
                  <a:pt x="57" y="354"/>
                  <a:pt x="57" y="354"/>
                  <a:pt x="57" y="354"/>
                </a:cubicBezTo>
                <a:cubicBezTo>
                  <a:pt x="57" y="354"/>
                  <a:pt x="57" y="354"/>
                  <a:pt x="57" y="354"/>
                </a:cubicBezTo>
                <a:cubicBezTo>
                  <a:pt x="57" y="355"/>
                  <a:pt x="57" y="355"/>
                  <a:pt x="57" y="355"/>
                </a:cubicBezTo>
                <a:cubicBezTo>
                  <a:pt x="48" y="371"/>
                  <a:pt x="48" y="371"/>
                  <a:pt x="48" y="371"/>
                </a:cubicBezTo>
                <a:cubicBezTo>
                  <a:pt x="48" y="374"/>
                  <a:pt x="48" y="374"/>
                  <a:pt x="48" y="374"/>
                </a:cubicBezTo>
                <a:cubicBezTo>
                  <a:pt x="46" y="374"/>
                  <a:pt x="46" y="374"/>
                  <a:pt x="46" y="374"/>
                </a:cubicBezTo>
                <a:cubicBezTo>
                  <a:pt x="20" y="378"/>
                  <a:pt x="20" y="378"/>
                  <a:pt x="20" y="378"/>
                </a:cubicBezTo>
                <a:cubicBezTo>
                  <a:pt x="20" y="389"/>
                  <a:pt x="20" y="389"/>
                  <a:pt x="20" y="389"/>
                </a:cubicBezTo>
                <a:cubicBezTo>
                  <a:pt x="12" y="412"/>
                  <a:pt x="12" y="412"/>
                  <a:pt x="12" y="412"/>
                </a:cubicBezTo>
                <a:cubicBezTo>
                  <a:pt x="9" y="438"/>
                  <a:pt x="9" y="438"/>
                  <a:pt x="9" y="438"/>
                </a:cubicBezTo>
                <a:cubicBezTo>
                  <a:pt x="15" y="453"/>
                  <a:pt x="15" y="453"/>
                  <a:pt x="15" y="453"/>
                </a:cubicBezTo>
                <a:cubicBezTo>
                  <a:pt x="47" y="473"/>
                  <a:pt x="47" y="473"/>
                  <a:pt x="47" y="473"/>
                </a:cubicBezTo>
                <a:cubicBezTo>
                  <a:pt x="48" y="474"/>
                  <a:pt x="48" y="474"/>
                  <a:pt x="48" y="474"/>
                </a:cubicBezTo>
                <a:cubicBezTo>
                  <a:pt x="62" y="498"/>
                  <a:pt x="62" y="498"/>
                  <a:pt x="62" y="498"/>
                </a:cubicBezTo>
                <a:cubicBezTo>
                  <a:pt x="62" y="499"/>
                  <a:pt x="62" y="499"/>
                  <a:pt x="62" y="499"/>
                </a:cubicBezTo>
                <a:cubicBezTo>
                  <a:pt x="63" y="500"/>
                  <a:pt x="63" y="500"/>
                  <a:pt x="63" y="500"/>
                </a:cubicBezTo>
                <a:cubicBezTo>
                  <a:pt x="62" y="501"/>
                  <a:pt x="62" y="501"/>
                  <a:pt x="62" y="501"/>
                </a:cubicBezTo>
                <a:cubicBezTo>
                  <a:pt x="45" y="538"/>
                  <a:pt x="45" y="538"/>
                  <a:pt x="45" y="538"/>
                </a:cubicBezTo>
                <a:cubicBezTo>
                  <a:pt x="41" y="548"/>
                  <a:pt x="41" y="548"/>
                  <a:pt x="41" y="548"/>
                </a:cubicBezTo>
                <a:cubicBezTo>
                  <a:pt x="41" y="548"/>
                  <a:pt x="41" y="548"/>
                  <a:pt x="41" y="548"/>
                </a:cubicBezTo>
                <a:cubicBezTo>
                  <a:pt x="30" y="572"/>
                  <a:pt x="30" y="572"/>
                  <a:pt x="30" y="572"/>
                </a:cubicBezTo>
                <a:cubicBezTo>
                  <a:pt x="26" y="591"/>
                  <a:pt x="26" y="591"/>
                  <a:pt x="26" y="591"/>
                </a:cubicBezTo>
                <a:cubicBezTo>
                  <a:pt x="25" y="594"/>
                  <a:pt x="25" y="594"/>
                  <a:pt x="25" y="594"/>
                </a:cubicBezTo>
                <a:cubicBezTo>
                  <a:pt x="25" y="595"/>
                  <a:pt x="25" y="595"/>
                  <a:pt x="25" y="595"/>
                </a:cubicBezTo>
                <a:cubicBezTo>
                  <a:pt x="20" y="599"/>
                  <a:pt x="17" y="603"/>
                  <a:pt x="15" y="609"/>
                </a:cubicBezTo>
                <a:cubicBezTo>
                  <a:pt x="14" y="611"/>
                  <a:pt x="14" y="614"/>
                  <a:pt x="16" y="616"/>
                </a:cubicBezTo>
                <a:cubicBezTo>
                  <a:pt x="17" y="617"/>
                  <a:pt x="17" y="617"/>
                  <a:pt x="17" y="617"/>
                </a:cubicBezTo>
                <a:cubicBezTo>
                  <a:pt x="27" y="628"/>
                  <a:pt x="27" y="628"/>
                  <a:pt x="27" y="628"/>
                </a:cubicBezTo>
                <a:cubicBezTo>
                  <a:pt x="27" y="628"/>
                  <a:pt x="27" y="628"/>
                  <a:pt x="27" y="628"/>
                </a:cubicBezTo>
                <a:cubicBezTo>
                  <a:pt x="27" y="628"/>
                  <a:pt x="27" y="628"/>
                  <a:pt x="27" y="628"/>
                </a:cubicBezTo>
                <a:cubicBezTo>
                  <a:pt x="33" y="637"/>
                  <a:pt x="33" y="637"/>
                  <a:pt x="33" y="637"/>
                </a:cubicBezTo>
                <a:cubicBezTo>
                  <a:pt x="35" y="636"/>
                  <a:pt x="35" y="636"/>
                  <a:pt x="35" y="636"/>
                </a:cubicBezTo>
                <a:cubicBezTo>
                  <a:pt x="35" y="636"/>
                  <a:pt x="35" y="636"/>
                  <a:pt x="35" y="636"/>
                </a:cubicBezTo>
                <a:cubicBezTo>
                  <a:pt x="36" y="639"/>
                  <a:pt x="36" y="639"/>
                  <a:pt x="36" y="639"/>
                </a:cubicBezTo>
                <a:cubicBezTo>
                  <a:pt x="36" y="640"/>
                  <a:pt x="36" y="640"/>
                  <a:pt x="36" y="640"/>
                </a:cubicBezTo>
                <a:cubicBezTo>
                  <a:pt x="36" y="643"/>
                  <a:pt x="36" y="643"/>
                  <a:pt x="36" y="643"/>
                </a:cubicBezTo>
                <a:cubicBezTo>
                  <a:pt x="36" y="643"/>
                  <a:pt x="36" y="643"/>
                  <a:pt x="36" y="643"/>
                </a:cubicBezTo>
                <a:cubicBezTo>
                  <a:pt x="36" y="644"/>
                  <a:pt x="36" y="644"/>
                  <a:pt x="36" y="644"/>
                </a:cubicBezTo>
                <a:cubicBezTo>
                  <a:pt x="36" y="644"/>
                  <a:pt x="36" y="644"/>
                  <a:pt x="36" y="644"/>
                </a:cubicBezTo>
                <a:cubicBezTo>
                  <a:pt x="36" y="644"/>
                  <a:pt x="36" y="644"/>
                  <a:pt x="36" y="644"/>
                </a:cubicBezTo>
                <a:cubicBezTo>
                  <a:pt x="38" y="651"/>
                  <a:pt x="38" y="651"/>
                  <a:pt x="38" y="651"/>
                </a:cubicBezTo>
                <a:cubicBezTo>
                  <a:pt x="47" y="654"/>
                  <a:pt x="47" y="654"/>
                  <a:pt x="47" y="654"/>
                </a:cubicBezTo>
                <a:cubicBezTo>
                  <a:pt x="85" y="662"/>
                  <a:pt x="85" y="662"/>
                  <a:pt x="85" y="662"/>
                </a:cubicBezTo>
                <a:cubicBezTo>
                  <a:pt x="98" y="662"/>
                  <a:pt x="110" y="659"/>
                  <a:pt x="122" y="654"/>
                </a:cubicBezTo>
                <a:cubicBezTo>
                  <a:pt x="135" y="648"/>
                  <a:pt x="147" y="647"/>
                  <a:pt x="159" y="649"/>
                </a:cubicBezTo>
                <a:cubicBezTo>
                  <a:pt x="161" y="642"/>
                  <a:pt x="161" y="642"/>
                  <a:pt x="161" y="642"/>
                </a:cubicBezTo>
                <a:cubicBezTo>
                  <a:pt x="149" y="614"/>
                  <a:pt x="149" y="614"/>
                  <a:pt x="149" y="614"/>
                </a:cubicBezTo>
                <a:cubicBezTo>
                  <a:pt x="148" y="611"/>
                  <a:pt x="148" y="611"/>
                  <a:pt x="148" y="611"/>
                </a:cubicBezTo>
                <a:cubicBezTo>
                  <a:pt x="149" y="611"/>
                  <a:pt x="149" y="611"/>
                  <a:pt x="149" y="611"/>
                </a:cubicBezTo>
                <a:cubicBezTo>
                  <a:pt x="209" y="528"/>
                  <a:pt x="209" y="528"/>
                  <a:pt x="209" y="528"/>
                </a:cubicBezTo>
                <a:cubicBezTo>
                  <a:pt x="273" y="466"/>
                  <a:pt x="273" y="466"/>
                  <a:pt x="273" y="466"/>
                </a:cubicBezTo>
                <a:cubicBezTo>
                  <a:pt x="274" y="466"/>
                  <a:pt x="274" y="466"/>
                  <a:pt x="274" y="466"/>
                </a:cubicBezTo>
                <a:cubicBezTo>
                  <a:pt x="294" y="458"/>
                  <a:pt x="294" y="458"/>
                  <a:pt x="294" y="458"/>
                </a:cubicBezTo>
                <a:cubicBezTo>
                  <a:pt x="305" y="447"/>
                  <a:pt x="305" y="447"/>
                  <a:pt x="305" y="447"/>
                </a:cubicBezTo>
                <a:cubicBezTo>
                  <a:pt x="305" y="446"/>
                  <a:pt x="305" y="446"/>
                  <a:pt x="305" y="446"/>
                </a:cubicBezTo>
                <a:cubicBezTo>
                  <a:pt x="313" y="439"/>
                  <a:pt x="321" y="435"/>
                  <a:pt x="329" y="432"/>
                </a:cubicBezTo>
                <a:cubicBezTo>
                  <a:pt x="323" y="427"/>
                  <a:pt x="323" y="427"/>
                  <a:pt x="323" y="427"/>
                </a:cubicBezTo>
                <a:cubicBezTo>
                  <a:pt x="309" y="413"/>
                  <a:pt x="309" y="413"/>
                  <a:pt x="309" y="413"/>
                </a:cubicBezTo>
                <a:cubicBezTo>
                  <a:pt x="309" y="412"/>
                  <a:pt x="309" y="412"/>
                  <a:pt x="309" y="412"/>
                </a:cubicBezTo>
                <a:cubicBezTo>
                  <a:pt x="308" y="412"/>
                  <a:pt x="308" y="412"/>
                  <a:pt x="308" y="412"/>
                </a:cubicBezTo>
                <a:cubicBezTo>
                  <a:pt x="297" y="399"/>
                  <a:pt x="297" y="399"/>
                  <a:pt x="297" y="399"/>
                </a:cubicBezTo>
                <a:cubicBezTo>
                  <a:pt x="296" y="397"/>
                  <a:pt x="296" y="397"/>
                  <a:pt x="296" y="397"/>
                </a:cubicBezTo>
                <a:cubicBezTo>
                  <a:pt x="296" y="395"/>
                  <a:pt x="296" y="395"/>
                  <a:pt x="296" y="395"/>
                </a:cubicBezTo>
                <a:cubicBezTo>
                  <a:pt x="302" y="389"/>
                  <a:pt x="302" y="389"/>
                  <a:pt x="302" y="389"/>
                </a:cubicBezTo>
                <a:cubicBezTo>
                  <a:pt x="288" y="392"/>
                  <a:pt x="288" y="392"/>
                  <a:pt x="288" y="392"/>
                </a:cubicBezTo>
                <a:cubicBezTo>
                  <a:pt x="258" y="385"/>
                  <a:pt x="258" y="385"/>
                  <a:pt x="258" y="385"/>
                </a:cubicBezTo>
                <a:cubicBezTo>
                  <a:pt x="247" y="379"/>
                  <a:pt x="239" y="373"/>
                  <a:pt x="237" y="366"/>
                </a:cubicBezTo>
                <a:cubicBezTo>
                  <a:pt x="231" y="347"/>
                  <a:pt x="229" y="330"/>
                  <a:pt x="230" y="315"/>
                </a:cubicBezTo>
                <a:cubicBezTo>
                  <a:pt x="226" y="320"/>
                  <a:pt x="220" y="321"/>
                  <a:pt x="215" y="321"/>
                </a:cubicBezTo>
                <a:cubicBezTo>
                  <a:pt x="193" y="316"/>
                  <a:pt x="193" y="316"/>
                  <a:pt x="193" y="316"/>
                </a:cubicBezTo>
                <a:cubicBezTo>
                  <a:pt x="178" y="305"/>
                  <a:pt x="178" y="305"/>
                  <a:pt x="178" y="305"/>
                </a:cubicBezTo>
                <a:cubicBezTo>
                  <a:pt x="160" y="301"/>
                  <a:pt x="160" y="301"/>
                  <a:pt x="160" y="301"/>
                </a:cubicBezTo>
                <a:cubicBezTo>
                  <a:pt x="152" y="301"/>
                  <a:pt x="152" y="301"/>
                  <a:pt x="152" y="301"/>
                </a:cubicBezTo>
                <a:cubicBezTo>
                  <a:pt x="147" y="301"/>
                  <a:pt x="140" y="299"/>
                  <a:pt x="136" y="295"/>
                </a:cubicBezTo>
                <a:cubicBezTo>
                  <a:pt x="130" y="291"/>
                  <a:pt x="126" y="286"/>
                  <a:pt x="125" y="282"/>
                </a:cubicBezTo>
                <a:cubicBezTo>
                  <a:pt x="123" y="274"/>
                  <a:pt x="125" y="268"/>
                  <a:pt x="133" y="263"/>
                </a:cubicBezTo>
                <a:cubicBezTo>
                  <a:pt x="140" y="258"/>
                  <a:pt x="149" y="249"/>
                  <a:pt x="156" y="239"/>
                </a:cubicBezTo>
                <a:cubicBezTo>
                  <a:pt x="149" y="229"/>
                  <a:pt x="145" y="220"/>
                  <a:pt x="149" y="210"/>
                </a:cubicBezTo>
                <a:cubicBezTo>
                  <a:pt x="150" y="209"/>
                  <a:pt x="150" y="209"/>
                  <a:pt x="150" y="209"/>
                </a:cubicBezTo>
                <a:cubicBezTo>
                  <a:pt x="151" y="204"/>
                  <a:pt x="159" y="200"/>
                  <a:pt x="175" y="195"/>
                </a:cubicBezTo>
                <a:cubicBezTo>
                  <a:pt x="176" y="189"/>
                  <a:pt x="178" y="186"/>
                  <a:pt x="180" y="185"/>
                </a:cubicBezTo>
                <a:cubicBezTo>
                  <a:pt x="196" y="186"/>
                  <a:pt x="196" y="186"/>
                  <a:pt x="196" y="186"/>
                </a:cubicBezTo>
                <a:cubicBezTo>
                  <a:pt x="194" y="184"/>
                  <a:pt x="194" y="184"/>
                  <a:pt x="194" y="184"/>
                </a:cubicBezTo>
                <a:cubicBezTo>
                  <a:pt x="183" y="178"/>
                  <a:pt x="180" y="170"/>
                  <a:pt x="186" y="162"/>
                </a:cubicBezTo>
                <a:cubicBezTo>
                  <a:pt x="194" y="156"/>
                  <a:pt x="194" y="156"/>
                  <a:pt x="194" y="156"/>
                </a:cubicBezTo>
                <a:cubicBezTo>
                  <a:pt x="204" y="152"/>
                  <a:pt x="215" y="153"/>
                  <a:pt x="227" y="160"/>
                </a:cubicBezTo>
                <a:cubicBezTo>
                  <a:pt x="251" y="177"/>
                  <a:pt x="251" y="177"/>
                  <a:pt x="251" y="177"/>
                </a:cubicBezTo>
                <a:cubicBezTo>
                  <a:pt x="273" y="177"/>
                  <a:pt x="273" y="177"/>
                  <a:pt x="273" y="177"/>
                </a:cubicBezTo>
                <a:cubicBezTo>
                  <a:pt x="281" y="183"/>
                  <a:pt x="281" y="183"/>
                  <a:pt x="281" y="183"/>
                </a:cubicBezTo>
                <a:cubicBezTo>
                  <a:pt x="283" y="191"/>
                  <a:pt x="283" y="191"/>
                  <a:pt x="283" y="191"/>
                </a:cubicBezTo>
                <a:cubicBezTo>
                  <a:pt x="283" y="197"/>
                  <a:pt x="279" y="200"/>
                  <a:pt x="275" y="200"/>
                </a:cubicBezTo>
                <a:cubicBezTo>
                  <a:pt x="270" y="200"/>
                  <a:pt x="268" y="205"/>
                  <a:pt x="267" y="211"/>
                </a:cubicBezTo>
                <a:cubicBezTo>
                  <a:pt x="277" y="237"/>
                  <a:pt x="277" y="237"/>
                  <a:pt x="277" y="237"/>
                </a:cubicBezTo>
                <a:cubicBezTo>
                  <a:pt x="284" y="227"/>
                  <a:pt x="290" y="222"/>
                  <a:pt x="296" y="221"/>
                </a:cubicBezTo>
                <a:cubicBezTo>
                  <a:pt x="300" y="221"/>
                  <a:pt x="304" y="223"/>
                  <a:pt x="307" y="227"/>
                </a:cubicBezTo>
                <a:cubicBezTo>
                  <a:pt x="310" y="233"/>
                  <a:pt x="313" y="242"/>
                  <a:pt x="315" y="252"/>
                </a:cubicBezTo>
                <a:cubicBezTo>
                  <a:pt x="316" y="263"/>
                  <a:pt x="320" y="273"/>
                  <a:pt x="323" y="278"/>
                </a:cubicBezTo>
                <a:cubicBezTo>
                  <a:pt x="331" y="290"/>
                  <a:pt x="331" y="290"/>
                  <a:pt x="331" y="290"/>
                </a:cubicBezTo>
                <a:cubicBezTo>
                  <a:pt x="344" y="305"/>
                  <a:pt x="351" y="317"/>
                  <a:pt x="353" y="327"/>
                </a:cubicBezTo>
                <a:cubicBezTo>
                  <a:pt x="395" y="321"/>
                  <a:pt x="395" y="321"/>
                  <a:pt x="395" y="321"/>
                </a:cubicBezTo>
                <a:cubicBezTo>
                  <a:pt x="412" y="312"/>
                  <a:pt x="412" y="312"/>
                  <a:pt x="412" y="312"/>
                </a:cubicBezTo>
                <a:cubicBezTo>
                  <a:pt x="429" y="291"/>
                  <a:pt x="429" y="291"/>
                  <a:pt x="429" y="29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7" y="270"/>
                  <a:pt x="437" y="270"/>
                  <a:pt x="437" y="270"/>
                </a:cubicBezTo>
                <a:cubicBezTo>
                  <a:pt x="437" y="268"/>
                  <a:pt x="437" y="268"/>
                  <a:pt x="437" y="268"/>
                </a:cubicBezTo>
                <a:cubicBezTo>
                  <a:pt x="442" y="247"/>
                  <a:pt x="442" y="247"/>
                  <a:pt x="442" y="247"/>
                </a:cubicBezTo>
                <a:cubicBezTo>
                  <a:pt x="442" y="246"/>
                  <a:pt x="442" y="246"/>
                  <a:pt x="442" y="246"/>
                </a:cubicBezTo>
                <a:cubicBezTo>
                  <a:pt x="443" y="244"/>
                  <a:pt x="443" y="244"/>
                  <a:pt x="443" y="244"/>
                </a:cubicBezTo>
                <a:cubicBezTo>
                  <a:pt x="444" y="244"/>
                  <a:pt x="444" y="244"/>
                  <a:pt x="444" y="244"/>
                </a:cubicBezTo>
                <a:cubicBezTo>
                  <a:pt x="460" y="234"/>
                  <a:pt x="460" y="234"/>
                  <a:pt x="460" y="234"/>
                </a:cubicBezTo>
                <a:cubicBezTo>
                  <a:pt x="463" y="232"/>
                  <a:pt x="463" y="232"/>
                  <a:pt x="463" y="232"/>
                </a:cubicBezTo>
                <a:cubicBezTo>
                  <a:pt x="462" y="230"/>
                  <a:pt x="462" y="230"/>
                  <a:pt x="462" y="230"/>
                </a:cubicBezTo>
                <a:cubicBezTo>
                  <a:pt x="436" y="222"/>
                  <a:pt x="436" y="222"/>
                  <a:pt x="436" y="222"/>
                </a:cubicBezTo>
                <a:cubicBezTo>
                  <a:pt x="434" y="222"/>
                  <a:pt x="434" y="222"/>
                  <a:pt x="434" y="222"/>
                </a:cubicBezTo>
                <a:cubicBezTo>
                  <a:pt x="434" y="221"/>
                  <a:pt x="434" y="221"/>
                  <a:pt x="434" y="221"/>
                </a:cubicBezTo>
                <a:cubicBezTo>
                  <a:pt x="428" y="205"/>
                  <a:pt x="428" y="205"/>
                  <a:pt x="428" y="205"/>
                </a:cubicBezTo>
                <a:lnTo>
                  <a:pt x="426" y="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4"/>
          <p:cNvSpPr/>
          <p:nvPr/>
        </p:nvSpPr>
        <p:spPr>
          <a:xfrm>
            <a:off x="3125880" y="2828880"/>
            <a:ext cx="465120" cy="446040"/>
          </a:xfrm>
          <a:custGeom>
            <a:avLst/>
            <a:gdLst/>
            <a:ahLst/>
            <a:rect l="l" t="t" r="r" b="b"/>
            <a:pathLst>
              <a:path w="491" h="483">
                <a:moveTo>
                  <a:pt x="109" y="159"/>
                </a:moveTo>
                <a:cubicBezTo>
                  <a:pt x="108" y="159"/>
                  <a:pt x="108" y="159"/>
                  <a:pt x="108" y="159"/>
                </a:cubicBezTo>
                <a:cubicBezTo>
                  <a:pt x="28" y="192"/>
                  <a:pt x="28" y="192"/>
                  <a:pt x="28" y="192"/>
                </a:cubicBezTo>
                <a:cubicBezTo>
                  <a:pt x="4" y="215"/>
                  <a:pt x="4" y="215"/>
                  <a:pt x="4" y="215"/>
                </a:cubicBezTo>
                <a:cubicBezTo>
                  <a:pt x="0" y="251"/>
                  <a:pt x="4" y="272"/>
                  <a:pt x="16" y="278"/>
                </a:cubicBezTo>
                <a:cubicBezTo>
                  <a:pt x="40" y="293"/>
                  <a:pt x="40" y="293"/>
                  <a:pt x="40" y="293"/>
                </a:cubicBezTo>
                <a:cubicBezTo>
                  <a:pt x="41" y="293"/>
                  <a:pt x="41" y="293"/>
                  <a:pt x="41" y="293"/>
                </a:cubicBezTo>
                <a:cubicBezTo>
                  <a:pt x="41" y="294"/>
                  <a:pt x="41" y="294"/>
                  <a:pt x="41" y="294"/>
                </a:cubicBezTo>
                <a:cubicBezTo>
                  <a:pt x="47" y="333"/>
                  <a:pt x="47" y="333"/>
                  <a:pt x="47" y="333"/>
                </a:cubicBezTo>
                <a:cubicBezTo>
                  <a:pt x="67" y="360"/>
                  <a:pt x="81" y="373"/>
                  <a:pt x="88" y="377"/>
                </a:cubicBezTo>
                <a:cubicBezTo>
                  <a:pt x="111" y="382"/>
                  <a:pt x="111" y="382"/>
                  <a:pt x="111" y="382"/>
                </a:cubicBezTo>
                <a:cubicBezTo>
                  <a:pt x="115" y="383"/>
                  <a:pt x="115" y="383"/>
                  <a:pt x="115" y="383"/>
                </a:cubicBezTo>
                <a:cubicBezTo>
                  <a:pt x="115" y="384"/>
                  <a:pt x="115" y="384"/>
                  <a:pt x="115" y="384"/>
                </a:cubicBezTo>
                <a:cubicBezTo>
                  <a:pt x="118" y="388"/>
                  <a:pt x="125" y="392"/>
                  <a:pt x="139" y="397"/>
                </a:cubicBezTo>
                <a:cubicBezTo>
                  <a:pt x="202" y="400"/>
                  <a:pt x="202" y="400"/>
                  <a:pt x="202" y="400"/>
                </a:cubicBezTo>
                <a:cubicBezTo>
                  <a:pt x="249" y="400"/>
                  <a:pt x="275" y="403"/>
                  <a:pt x="280" y="408"/>
                </a:cubicBezTo>
                <a:cubicBezTo>
                  <a:pt x="286" y="412"/>
                  <a:pt x="287" y="423"/>
                  <a:pt x="286" y="439"/>
                </a:cubicBezTo>
                <a:cubicBezTo>
                  <a:pt x="285" y="449"/>
                  <a:pt x="286" y="456"/>
                  <a:pt x="287" y="457"/>
                </a:cubicBezTo>
                <a:cubicBezTo>
                  <a:pt x="310" y="451"/>
                  <a:pt x="310" y="451"/>
                  <a:pt x="310" y="451"/>
                </a:cubicBezTo>
                <a:cubicBezTo>
                  <a:pt x="328" y="445"/>
                  <a:pt x="338" y="445"/>
                  <a:pt x="344" y="450"/>
                </a:cubicBezTo>
                <a:cubicBezTo>
                  <a:pt x="352" y="461"/>
                  <a:pt x="352" y="461"/>
                  <a:pt x="352" y="461"/>
                </a:cubicBezTo>
                <a:cubicBezTo>
                  <a:pt x="365" y="477"/>
                  <a:pt x="373" y="483"/>
                  <a:pt x="375" y="482"/>
                </a:cubicBezTo>
                <a:cubicBezTo>
                  <a:pt x="382" y="480"/>
                  <a:pt x="389" y="474"/>
                  <a:pt x="396" y="463"/>
                </a:cubicBezTo>
                <a:cubicBezTo>
                  <a:pt x="399" y="460"/>
                  <a:pt x="399" y="460"/>
                  <a:pt x="399" y="460"/>
                </a:cubicBezTo>
                <a:cubicBezTo>
                  <a:pt x="418" y="472"/>
                  <a:pt x="418" y="472"/>
                  <a:pt x="418" y="472"/>
                </a:cubicBezTo>
                <a:cubicBezTo>
                  <a:pt x="429" y="462"/>
                  <a:pt x="429" y="462"/>
                  <a:pt x="429" y="462"/>
                </a:cubicBezTo>
                <a:cubicBezTo>
                  <a:pt x="432" y="447"/>
                  <a:pt x="440" y="440"/>
                  <a:pt x="452" y="439"/>
                </a:cubicBezTo>
                <a:cubicBezTo>
                  <a:pt x="458" y="437"/>
                  <a:pt x="458" y="437"/>
                  <a:pt x="458" y="437"/>
                </a:cubicBezTo>
                <a:cubicBezTo>
                  <a:pt x="456" y="432"/>
                  <a:pt x="456" y="432"/>
                  <a:pt x="456" y="432"/>
                </a:cubicBezTo>
                <a:cubicBezTo>
                  <a:pt x="453" y="430"/>
                  <a:pt x="453" y="430"/>
                  <a:pt x="453" y="430"/>
                </a:cubicBezTo>
                <a:cubicBezTo>
                  <a:pt x="454" y="429"/>
                  <a:pt x="454" y="429"/>
                  <a:pt x="454" y="429"/>
                </a:cubicBezTo>
                <a:cubicBezTo>
                  <a:pt x="456" y="403"/>
                  <a:pt x="456" y="403"/>
                  <a:pt x="456" y="403"/>
                </a:cubicBezTo>
                <a:cubicBezTo>
                  <a:pt x="447" y="390"/>
                  <a:pt x="437" y="386"/>
                  <a:pt x="425" y="388"/>
                </a:cubicBezTo>
                <a:cubicBezTo>
                  <a:pt x="413" y="391"/>
                  <a:pt x="405" y="391"/>
                  <a:pt x="402" y="387"/>
                </a:cubicBezTo>
                <a:cubicBezTo>
                  <a:pt x="400" y="384"/>
                  <a:pt x="400" y="382"/>
                  <a:pt x="400" y="378"/>
                </a:cubicBezTo>
                <a:cubicBezTo>
                  <a:pt x="392" y="365"/>
                  <a:pt x="385" y="354"/>
                  <a:pt x="375" y="345"/>
                </a:cubicBezTo>
                <a:cubicBezTo>
                  <a:pt x="363" y="334"/>
                  <a:pt x="359" y="325"/>
                  <a:pt x="363" y="315"/>
                </a:cubicBezTo>
                <a:cubicBezTo>
                  <a:pt x="365" y="312"/>
                  <a:pt x="365" y="312"/>
                  <a:pt x="365" y="312"/>
                </a:cubicBezTo>
                <a:cubicBezTo>
                  <a:pt x="394" y="317"/>
                  <a:pt x="394" y="317"/>
                  <a:pt x="394" y="317"/>
                </a:cubicBezTo>
                <a:cubicBezTo>
                  <a:pt x="392" y="299"/>
                  <a:pt x="392" y="299"/>
                  <a:pt x="392" y="299"/>
                </a:cubicBezTo>
                <a:cubicBezTo>
                  <a:pt x="391" y="289"/>
                  <a:pt x="392" y="282"/>
                  <a:pt x="397" y="276"/>
                </a:cubicBezTo>
                <a:cubicBezTo>
                  <a:pt x="400" y="272"/>
                  <a:pt x="405" y="270"/>
                  <a:pt x="410" y="269"/>
                </a:cubicBezTo>
                <a:cubicBezTo>
                  <a:pt x="423" y="265"/>
                  <a:pt x="423" y="265"/>
                  <a:pt x="423" y="265"/>
                </a:cubicBezTo>
                <a:cubicBezTo>
                  <a:pt x="423" y="259"/>
                  <a:pt x="423" y="259"/>
                  <a:pt x="423" y="259"/>
                </a:cubicBezTo>
                <a:cubicBezTo>
                  <a:pt x="413" y="239"/>
                  <a:pt x="410" y="225"/>
                  <a:pt x="414" y="218"/>
                </a:cubicBezTo>
                <a:cubicBezTo>
                  <a:pt x="421" y="213"/>
                  <a:pt x="421" y="213"/>
                  <a:pt x="421" y="213"/>
                </a:cubicBezTo>
                <a:cubicBezTo>
                  <a:pt x="424" y="212"/>
                  <a:pt x="434" y="214"/>
                  <a:pt x="449" y="219"/>
                </a:cubicBezTo>
                <a:cubicBezTo>
                  <a:pt x="449" y="219"/>
                  <a:pt x="449" y="219"/>
                  <a:pt x="449" y="219"/>
                </a:cubicBezTo>
                <a:cubicBezTo>
                  <a:pt x="450" y="220"/>
                  <a:pt x="450" y="220"/>
                  <a:pt x="450" y="220"/>
                </a:cubicBezTo>
                <a:cubicBezTo>
                  <a:pt x="450" y="222"/>
                  <a:pt x="450" y="222"/>
                  <a:pt x="450" y="222"/>
                </a:cubicBezTo>
                <a:cubicBezTo>
                  <a:pt x="462" y="236"/>
                  <a:pt x="468" y="245"/>
                  <a:pt x="471" y="247"/>
                </a:cubicBezTo>
                <a:cubicBezTo>
                  <a:pt x="491" y="214"/>
                  <a:pt x="491" y="214"/>
                  <a:pt x="491" y="214"/>
                </a:cubicBezTo>
                <a:cubicBezTo>
                  <a:pt x="473" y="192"/>
                  <a:pt x="464" y="176"/>
                  <a:pt x="461" y="170"/>
                </a:cubicBezTo>
                <a:cubicBezTo>
                  <a:pt x="445" y="180"/>
                  <a:pt x="445" y="180"/>
                  <a:pt x="445" y="180"/>
                </a:cubicBezTo>
                <a:cubicBezTo>
                  <a:pt x="443" y="178"/>
                  <a:pt x="443" y="178"/>
                  <a:pt x="443" y="178"/>
                </a:cubicBezTo>
                <a:cubicBezTo>
                  <a:pt x="401" y="168"/>
                  <a:pt x="401" y="168"/>
                  <a:pt x="401" y="168"/>
                </a:cubicBezTo>
                <a:cubicBezTo>
                  <a:pt x="400" y="168"/>
                  <a:pt x="400" y="168"/>
                  <a:pt x="400" y="168"/>
                </a:cubicBezTo>
                <a:cubicBezTo>
                  <a:pt x="400" y="167"/>
                  <a:pt x="400" y="167"/>
                  <a:pt x="400" y="167"/>
                </a:cubicBezTo>
                <a:cubicBezTo>
                  <a:pt x="382" y="158"/>
                  <a:pt x="371" y="149"/>
                  <a:pt x="370" y="139"/>
                </a:cubicBezTo>
                <a:cubicBezTo>
                  <a:pt x="345" y="127"/>
                  <a:pt x="345" y="127"/>
                  <a:pt x="345" y="127"/>
                </a:cubicBezTo>
                <a:cubicBezTo>
                  <a:pt x="345" y="103"/>
                  <a:pt x="345" y="103"/>
                  <a:pt x="345" y="103"/>
                </a:cubicBezTo>
                <a:cubicBezTo>
                  <a:pt x="391" y="76"/>
                  <a:pt x="391" y="76"/>
                  <a:pt x="391" y="76"/>
                </a:cubicBezTo>
                <a:cubicBezTo>
                  <a:pt x="389" y="63"/>
                  <a:pt x="386" y="50"/>
                  <a:pt x="381" y="40"/>
                </a:cubicBezTo>
                <a:cubicBezTo>
                  <a:pt x="373" y="25"/>
                  <a:pt x="373" y="25"/>
                  <a:pt x="373" y="25"/>
                </a:cubicBezTo>
                <a:cubicBezTo>
                  <a:pt x="342" y="28"/>
                  <a:pt x="342" y="28"/>
                  <a:pt x="342" y="28"/>
                </a:cubicBezTo>
                <a:cubicBezTo>
                  <a:pt x="327" y="35"/>
                  <a:pt x="313" y="38"/>
                  <a:pt x="299" y="38"/>
                </a:cubicBezTo>
                <a:cubicBezTo>
                  <a:pt x="267" y="30"/>
                  <a:pt x="267" y="30"/>
                  <a:pt x="267" y="30"/>
                </a:cubicBezTo>
                <a:cubicBezTo>
                  <a:pt x="267" y="19"/>
                  <a:pt x="267" y="19"/>
                  <a:pt x="267" y="19"/>
                </a:cubicBezTo>
                <a:cubicBezTo>
                  <a:pt x="261" y="18"/>
                  <a:pt x="261" y="18"/>
                  <a:pt x="261" y="18"/>
                </a:cubicBezTo>
                <a:cubicBezTo>
                  <a:pt x="252" y="15"/>
                  <a:pt x="252" y="15"/>
                  <a:pt x="252" y="15"/>
                </a:cubicBezTo>
                <a:cubicBezTo>
                  <a:pt x="250" y="8"/>
                  <a:pt x="250" y="8"/>
                  <a:pt x="250" y="8"/>
                </a:cubicBezTo>
                <a:cubicBezTo>
                  <a:pt x="250" y="8"/>
                  <a:pt x="250" y="8"/>
                  <a:pt x="250" y="8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49" y="4"/>
                  <a:pt x="249" y="4"/>
                  <a:pt x="249" y="4"/>
                </a:cubicBezTo>
                <a:cubicBezTo>
                  <a:pt x="249" y="3"/>
                  <a:pt x="249" y="3"/>
                  <a:pt x="249" y="3"/>
                </a:cubicBezTo>
                <a:cubicBezTo>
                  <a:pt x="249" y="0"/>
                  <a:pt x="249" y="0"/>
                  <a:pt x="249" y="0"/>
                </a:cubicBezTo>
                <a:cubicBezTo>
                  <a:pt x="247" y="1"/>
                  <a:pt x="247" y="1"/>
                  <a:pt x="247" y="1"/>
                </a:cubicBezTo>
                <a:cubicBezTo>
                  <a:pt x="244" y="28"/>
                  <a:pt x="244" y="28"/>
                  <a:pt x="244" y="28"/>
                </a:cubicBezTo>
                <a:cubicBezTo>
                  <a:pt x="243" y="38"/>
                  <a:pt x="243" y="38"/>
                  <a:pt x="243" y="38"/>
                </a:cubicBezTo>
                <a:cubicBezTo>
                  <a:pt x="241" y="43"/>
                  <a:pt x="239" y="46"/>
                  <a:pt x="241" y="48"/>
                </a:cubicBezTo>
                <a:cubicBezTo>
                  <a:pt x="247" y="56"/>
                  <a:pt x="245" y="64"/>
                  <a:pt x="240" y="72"/>
                </a:cubicBezTo>
                <a:cubicBezTo>
                  <a:pt x="244" y="89"/>
                  <a:pt x="244" y="89"/>
                  <a:pt x="244" y="89"/>
                </a:cubicBezTo>
                <a:cubicBezTo>
                  <a:pt x="243" y="91"/>
                  <a:pt x="243" y="91"/>
                  <a:pt x="243" y="91"/>
                </a:cubicBezTo>
                <a:cubicBezTo>
                  <a:pt x="241" y="92"/>
                  <a:pt x="241" y="92"/>
                  <a:pt x="241" y="92"/>
                </a:cubicBezTo>
                <a:cubicBezTo>
                  <a:pt x="229" y="103"/>
                  <a:pt x="229" y="103"/>
                  <a:pt x="229" y="103"/>
                </a:cubicBezTo>
                <a:cubicBezTo>
                  <a:pt x="229" y="127"/>
                  <a:pt x="229" y="127"/>
                  <a:pt x="229" y="127"/>
                </a:cubicBezTo>
                <a:cubicBezTo>
                  <a:pt x="225" y="129"/>
                  <a:pt x="225" y="129"/>
                  <a:pt x="225" y="129"/>
                </a:cubicBezTo>
                <a:cubicBezTo>
                  <a:pt x="202" y="139"/>
                  <a:pt x="186" y="144"/>
                  <a:pt x="177" y="144"/>
                </a:cubicBezTo>
                <a:cubicBezTo>
                  <a:pt x="130" y="141"/>
                  <a:pt x="130" y="141"/>
                  <a:pt x="130" y="141"/>
                </a:cubicBezTo>
                <a:cubicBezTo>
                  <a:pt x="110" y="159"/>
                  <a:pt x="110" y="159"/>
                  <a:pt x="110" y="159"/>
                </a:cubicBezTo>
                <a:lnTo>
                  <a:pt x="109" y="159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5"/>
          <p:cNvSpPr/>
          <p:nvPr/>
        </p:nvSpPr>
        <p:spPr>
          <a:xfrm>
            <a:off x="3995640" y="3782880"/>
            <a:ext cx="133560" cy="311400"/>
          </a:xfrm>
          <a:custGeom>
            <a:avLst/>
            <a:gdLst/>
            <a:ahLst/>
            <a:rect l="l" t="t" r="r" b="b"/>
            <a:pathLst>
              <a:path w="139" h="338">
                <a:moveTo>
                  <a:pt x="105" y="0"/>
                </a:moveTo>
                <a:cubicBezTo>
                  <a:pt x="72" y="24"/>
                  <a:pt x="47" y="55"/>
                  <a:pt x="32" y="92"/>
                </a:cubicBezTo>
                <a:cubicBezTo>
                  <a:pt x="18" y="123"/>
                  <a:pt x="7" y="139"/>
                  <a:pt x="0" y="143"/>
                </a:cubicBezTo>
                <a:cubicBezTo>
                  <a:pt x="7" y="202"/>
                  <a:pt x="7" y="202"/>
                  <a:pt x="7" y="202"/>
                </a:cubicBezTo>
                <a:cubicBezTo>
                  <a:pt x="7" y="203"/>
                  <a:pt x="7" y="203"/>
                  <a:pt x="7" y="203"/>
                </a:cubicBezTo>
                <a:cubicBezTo>
                  <a:pt x="7" y="203"/>
                  <a:pt x="7" y="203"/>
                  <a:pt x="7" y="203"/>
                </a:cubicBezTo>
                <a:cubicBezTo>
                  <a:pt x="2" y="243"/>
                  <a:pt x="2" y="243"/>
                  <a:pt x="2" y="243"/>
                </a:cubicBezTo>
                <a:cubicBezTo>
                  <a:pt x="0" y="255"/>
                  <a:pt x="2" y="264"/>
                  <a:pt x="5" y="266"/>
                </a:cubicBezTo>
                <a:cubicBezTo>
                  <a:pt x="48" y="294"/>
                  <a:pt x="48" y="294"/>
                  <a:pt x="48" y="294"/>
                </a:cubicBezTo>
                <a:cubicBezTo>
                  <a:pt x="48" y="294"/>
                  <a:pt x="48" y="294"/>
                  <a:pt x="48" y="294"/>
                </a:cubicBezTo>
                <a:cubicBezTo>
                  <a:pt x="49" y="294"/>
                  <a:pt x="49" y="294"/>
                  <a:pt x="49" y="294"/>
                </a:cubicBezTo>
                <a:cubicBezTo>
                  <a:pt x="51" y="298"/>
                  <a:pt x="51" y="298"/>
                  <a:pt x="51" y="298"/>
                </a:cubicBezTo>
                <a:cubicBezTo>
                  <a:pt x="51" y="298"/>
                  <a:pt x="51" y="298"/>
                  <a:pt x="51" y="298"/>
                </a:cubicBezTo>
                <a:cubicBezTo>
                  <a:pt x="53" y="307"/>
                  <a:pt x="59" y="316"/>
                  <a:pt x="67" y="326"/>
                </a:cubicBezTo>
                <a:cubicBezTo>
                  <a:pt x="72" y="332"/>
                  <a:pt x="77" y="336"/>
                  <a:pt x="81" y="338"/>
                </a:cubicBezTo>
                <a:cubicBezTo>
                  <a:pt x="87" y="268"/>
                  <a:pt x="87" y="268"/>
                  <a:pt x="87" y="268"/>
                </a:cubicBezTo>
                <a:cubicBezTo>
                  <a:pt x="87" y="266"/>
                  <a:pt x="87" y="266"/>
                  <a:pt x="87" y="266"/>
                </a:cubicBezTo>
                <a:cubicBezTo>
                  <a:pt x="118" y="192"/>
                  <a:pt x="118" y="192"/>
                  <a:pt x="118" y="192"/>
                </a:cubicBezTo>
                <a:cubicBezTo>
                  <a:pt x="129" y="104"/>
                  <a:pt x="129" y="104"/>
                  <a:pt x="129" y="104"/>
                </a:cubicBezTo>
                <a:cubicBezTo>
                  <a:pt x="129" y="103"/>
                  <a:pt x="129" y="103"/>
                  <a:pt x="129" y="103"/>
                </a:cubicBezTo>
                <a:cubicBezTo>
                  <a:pt x="130" y="102"/>
                  <a:pt x="130" y="102"/>
                  <a:pt x="130" y="102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2" y="59"/>
                  <a:pt x="132" y="59"/>
                  <a:pt x="132" y="59"/>
                </a:cubicBezTo>
                <a:cubicBezTo>
                  <a:pt x="132" y="58"/>
                  <a:pt x="132" y="58"/>
                  <a:pt x="132" y="58"/>
                </a:cubicBezTo>
                <a:cubicBezTo>
                  <a:pt x="131" y="58"/>
                  <a:pt x="131" y="58"/>
                  <a:pt x="131" y="58"/>
                </a:cubicBezTo>
                <a:cubicBezTo>
                  <a:pt x="129" y="31"/>
                  <a:pt x="129" y="31"/>
                  <a:pt x="129" y="31"/>
                </a:cubicBezTo>
                <a:cubicBezTo>
                  <a:pt x="130" y="30"/>
                  <a:pt x="130" y="30"/>
                  <a:pt x="130" y="30"/>
                </a:cubicBezTo>
                <a:cubicBezTo>
                  <a:pt x="131" y="28"/>
                  <a:pt x="131" y="28"/>
                  <a:pt x="131" y="28"/>
                </a:cubicBezTo>
                <a:cubicBezTo>
                  <a:pt x="136" y="22"/>
                  <a:pt x="136" y="22"/>
                  <a:pt x="136" y="22"/>
                </a:cubicBezTo>
                <a:cubicBezTo>
                  <a:pt x="139" y="15"/>
                  <a:pt x="139" y="15"/>
                  <a:pt x="139" y="15"/>
                </a:cubicBezTo>
                <a:lnTo>
                  <a:pt x="105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6"/>
          <p:cNvSpPr/>
          <p:nvPr/>
        </p:nvSpPr>
        <p:spPr>
          <a:xfrm>
            <a:off x="3021120" y="4335480"/>
            <a:ext cx="204840" cy="169920"/>
          </a:xfrm>
          <a:custGeom>
            <a:avLst/>
            <a:gdLst/>
            <a:ahLst/>
            <a:rect l="l" t="t" r="r" b="b"/>
            <a:pathLst>
              <a:path w="216" h="184">
                <a:moveTo>
                  <a:pt x="98" y="18"/>
                </a:moveTo>
                <a:cubicBezTo>
                  <a:pt x="95" y="24"/>
                  <a:pt x="95" y="24"/>
                  <a:pt x="95" y="24"/>
                </a:cubicBezTo>
                <a:cubicBezTo>
                  <a:pt x="95" y="25"/>
                  <a:pt x="95" y="25"/>
                  <a:pt x="95" y="25"/>
                </a:cubicBezTo>
                <a:cubicBezTo>
                  <a:pt x="94" y="27"/>
                  <a:pt x="94" y="27"/>
                  <a:pt x="94" y="27"/>
                </a:cubicBezTo>
                <a:cubicBezTo>
                  <a:pt x="50" y="37"/>
                  <a:pt x="50" y="37"/>
                  <a:pt x="50" y="37"/>
                </a:cubicBezTo>
                <a:cubicBezTo>
                  <a:pt x="52" y="43"/>
                  <a:pt x="52" y="43"/>
                  <a:pt x="52" y="43"/>
                </a:cubicBezTo>
                <a:cubicBezTo>
                  <a:pt x="66" y="58"/>
                  <a:pt x="66" y="58"/>
                  <a:pt x="66" y="58"/>
                </a:cubicBezTo>
                <a:cubicBezTo>
                  <a:pt x="65" y="58"/>
                  <a:pt x="63" y="60"/>
                  <a:pt x="62" y="60"/>
                </a:cubicBezTo>
                <a:cubicBezTo>
                  <a:pt x="42" y="70"/>
                  <a:pt x="42" y="70"/>
                  <a:pt x="42" y="70"/>
                </a:cubicBezTo>
                <a:cubicBezTo>
                  <a:pt x="10" y="94"/>
                  <a:pt x="10" y="94"/>
                  <a:pt x="10" y="94"/>
                </a:cubicBezTo>
                <a:cubicBezTo>
                  <a:pt x="0" y="107"/>
                  <a:pt x="2" y="130"/>
                  <a:pt x="18" y="165"/>
                </a:cubicBezTo>
                <a:cubicBezTo>
                  <a:pt x="49" y="168"/>
                  <a:pt x="49" y="168"/>
                  <a:pt x="49" y="168"/>
                </a:cubicBezTo>
                <a:cubicBezTo>
                  <a:pt x="50" y="168"/>
                  <a:pt x="50" y="168"/>
                  <a:pt x="50" y="168"/>
                </a:cubicBezTo>
                <a:cubicBezTo>
                  <a:pt x="50" y="169"/>
                  <a:pt x="50" y="169"/>
                  <a:pt x="50" y="169"/>
                </a:cubicBezTo>
                <a:cubicBezTo>
                  <a:pt x="82" y="184"/>
                  <a:pt x="82" y="184"/>
                  <a:pt x="82" y="184"/>
                </a:cubicBezTo>
                <a:cubicBezTo>
                  <a:pt x="116" y="179"/>
                  <a:pt x="116" y="179"/>
                  <a:pt x="116" y="179"/>
                </a:cubicBezTo>
                <a:cubicBezTo>
                  <a:pt x="130" y="176"/>
                  <a:pt x="145" y="163"/>
                  <a:pt x="165" y="139"/>
                </a:cubicBezTo>
                <a:cubicBezTo>
                  <a:pt x="166" y="139"/>
                  <a:pt x="166" y="139"/>
                  <a:pt x="166" y="139"/>
                </a:cubicBezTo>
                <a:cubicBezTo>
                  <a:pt x="169" y="137"/>
                  <a:pt x="169" y="137"/>
                  <a:pt x="169" y="137"/>
                </a:cubicBezTo>
                <a:cubicBezTo>
                  <a:pt x="183" y="132"/>
                  <a:pt x="183" y="132"/>
                  <a:pt x="183" y="132"/>
                </a:cubicBezTo>
                <a:cubicBezTo>
                  <a:pt x="179" y="88"/>
                  <a:pt x="179" y="88"/>
                  <a:pt x="179" y="88"/>
                </a:cubicBezTo>
                <a:cubicBezTo>
                  <a:pt x="179" y="86"/>
                  <a:pt x="179" y="86"/>
                  <a:pt x="179" y="86"/>
                </a:cubicBezTo>
                <a:cubicBezTo>
                  <a:pt x="198" y="58"/>
                  <a:pt x="198" y="58"/>
                  <a:pt x="198" y="58"/>
                </a:cubicBezTo>
                <a:cubicBezTo>
                  <a:pt x="198" y="57"/>
                  <a:pt x="198" y="57"/>
                  <a:pt x="198" y="57"/>
                </a:cubicBezTo>
                <a:cubicBezTo>
                  <a:pt x="199" y="57"/>
                  <a:pt x="199" y="57"/>
                  <a:pt x="199" y="57"/>
                </a:cubicBezTo>
                <a:cubicBezTo>
                  <a:pt x="214" y="46"/>
                  <a:pt x="214" y="46"/>
                  <a:pt x="214" y="46"/>
                </a:cubicBezTo>
                <a:cubicBezTo>
                  <a:pt x="216" y="33"/>
                  <a:pt x="215" y="22"/>
                  <a:pt x="210" y="12"/>
                </a:cubicBezTo>
                <a:cubicBezTo>
                  <a:pt x="205" y="4"/>
                  <a:pt x="200" y="0"/>
                  <a:pt x="195" y="0"/>
                </a:cubicBezTo>
                <a:cubicBezTo>
                  <a:pt x="197" y="16"/>
                  <a:pt x="197" y="16"/>
                  <a:pt x="197" y="16"/>
                </a:cubicBezTo>
                <a:cubicBezTo>
                  <a:pt x="169" y="11"/>
                  <a:pt x="169" y="11"/>
                  <a:pt x="169" y="11"/>
                </a:cubicBezTo>
                <a:cubicBezTo>
                  <a:pt x="156" y="18"/>
                  <a:pt x="156" y="18"/>
                  <a:pt x="156" y="18"/>
                </a:cubicBezTo>
                <a:cubicBezTo>
                  <a:pt x="155" y="18"/>
                  <a:pt x="155" y="18"/>
                  <a:pt x="155" y="18"/>
                </a:cubicBezTo>
                <a:cubicBezTo>
                  <a:pt x="155" y="18"/>
                  <a:pt x="155" y="18"/>
                  <a:pt x="155" y="18"/>
                </a:cubicBezTo>
                <a:lnTo>
                  <a:pt x="98" y="18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9"/>
          <p:cNvSpPr/>
          <p:nvPr/>
        </p:nvSpPr>
        <p:spPr>
          <a:xfrm>
            <a:off x="3641760" y="1219320"/>
            <a:ext cx="900000" cy="799920"/>
          </a:xfrm>
          <a:custGeom>
            <a:avLst/>
            <a:gdLst/>
            <a:ahLst/>
            <a:rect l="l" t="t" r="r" b="b"/>
            <a:pathLst>
              <a:path w="950" h="866">
                <a:moveTo>
                  <a:pt x="946" y="508"/>
                </a:moveTo>
                <a:cubicBezTo>
                  <a:pt x="930" y="405"/>
                  <a:pt x="930" y="405"/>
                  <a:pt x="930" y="405"/>
                </a:cubicBezTo>
                <a:cubicBezTo>
                  <a:pt x="931" y="403"/>
                  <a:pt x="931" y="403"/>
                  <a:pt x="931" y="403"/>
                </a:cubicBezTo>
                <a:cubicBezTo>
                  <a:pt x="932" y="403"/>
                  <a:pt x="932" y="403"/>
                  <a:pt x="932" y="403"/>
                </a:cubicBezTo>
                <a:cubicBezTo>
                  <a:pt x="940" y="391"/>
                  <a:pt x="944" y="381"/>
                  <a:pt x="942" y="374"/>
                </a:cubicBezTo>
                <a:cubicBezTo>
                  <a:pt x="937" y="368"/>
                  <a:pt x="937" y="368"/>
                  <a:pt x="937" y="368"/>
                </a:cubicBezTo>
                <a:cubicBezTo>
                  <a:pt x="926" y="360"/>
                  <a:pt x="921" y="343"/>
                  <a:pt x="924" y="315"/>
                </a:cubicBezTo>
                <a:cubicBezTo>
                  <a:pt x="914" y="315"/>
                  <a:pt x="914" y="315"/>
                  <a:pt x="914" y="315"/>
                </a:cubicBezTo>
                <a:cubicBezTo>
                  <a:pt x="907" y="314"/>
                  <a:pt x="898" y="317"/>
                  <a:pt x="890" y="322"/>
                </a:cubicBezTo>
                <a:cubicBezTo>
                  <a:pt x="881" y="329"/>
                  <a:pt x="876" y="336"/>
                  <a:pt x="875" y="341"/>
                </a:cubicBezTo>
                <a:cubicBezTo>
                  <a:pt x="871" y="354"/>
                  <a:pt x="857" y="362"/>
                  <a:pt x="834" y="370"/>
                </a:cubicBezTo>
                <a:cubicBezTo>
                  <a:pt x="829" y="403"/>
                  <a:pt x="829" y="403"/>
                  <a:pt x="829" y="403"/>
                </a:cubicBezTo>
                <a:cubicBezTo>
                  <a:pt x="829" y="404"/>
                  <a:pt x="829" y="404"/>
                  <a:pt x="829" y="404"/>
                </a:cubicBezTo>
                <a:cubicBezTo>
                  <a:pt x="828" y="405"/>
                  <a:pt x="828" y="405"/>
                  <a:pt x="828" y="405"/>
                </a:cubicBezTo>
                <a:cubicBezTo>
                  <a:pt x="816" y="426"/>
                  <a:pt x="816" y="426"/>
                  <a:pt x="816" y="426"/>
                </a:cubicBezTo>
                <a:cubicBezTo>
                  <a:pt x="815" y="428"/>
                  <a:pt x="815" y="428"/>
                  <a:pt x="815" y="428"/>
                </a:cubicBezTo>
                <a:cubicBezTo>
                  <a:pt x="814" y="428"/>
                  <a:pt x="814" y="428"/>
                  <a:pt x="814" y="428"/>
                </a:cubicBezTo>
                <a:cubicBezTo>
                  <a:pt x="813" y="428"/>
                  <a:pt x="813" y="428"/>
                  <a:pt x="813" y="428"/>
                </a:cubicBezTo>
                <a:cubicBezTo>
                  <a:pt x="708" y="447"/>
                  <a:pt x="708" y="447"/>
                  <a:pt x="708" y="447"/>
                </a:cubicBezTo>
                <a:cubicBezTo>
                  <a:pt x="707" y="447"/>
                  <a:pt x="707" y="447"/>
                  <a:pt x="707" y="447"/>
                </a:cubicBezTo>
                <a:cubicBezTo>
                  <a:pt x="704" y="447"/>
                  <a:pt x="704" y="447"/>
                  <a:pt x="704" y="447"/>
                </a:cubicBezTo>
                <a:cubicBezTo>
                  <a:pt x="704" y="445"/>
                  <a:pt x="704" y="445"/>
                  <a:pt x="704" y="445"/>
                </a:cubicBezTo>
                <a:cubicBezTo>
                  <a:pt x="674" y="412"/>
                  <a:pt x="674" y="412"/>
                  <a:pt x="674" y="412"/>
                </a:cubicBezTo>
                <a:cubicBezTo>
                  <a:pt x="683" y="403"/>
                  <a:pt x="683" y="403"/>
                  <a:pt x="683" y="403"/>
                </a:cubicBezTo>
                <a:cubicBezTo>
                  <a:pt x="671" y="387"/>
                  <a:pt x="671" y="387"/>
                  <a:pt x="671" y="387"/>
                </a:cubicBezTo>
                <a:cubicBezTo>
                  <a:pt x="657" y="376"/>
                  <a:pt x="657" y="376"/>
                  <a:pt x="657" y="376"/>
                </a:cubicBezTo>
                <a:cubicBezTo>
                  <a:pt x="656" y="375"/>
                  <a:pt x="656" y="375"/>
                  <a:pt x="656" y="375"/>
                </a:cubicBezTo>
                <a:cubicBezTo>
                  <a:pt x="655" y="375"/>
                  <a:pt x="655" y="375"/>
                  <a:pt x="655" y="375"/>
                </a:cubicBezTo>
                <a:cubicBezTo>
                  <a:pt x="655" y="374"/>
                  <a:pt x="655" y="374"/>
                  <a:pt x="655" y="374"/>
                </a:cubicBezTo>
                <a:cubicBezTo>
                  <a:pt x="655" y="373"/>
                  <a:pt x="655" y="373"/>
                  <a:pt x="655" y="373"/>
                </a:cubicBezTo>
                <a:cubicBezTo>
                  <a:pt x="649" y="344"/>
                  <a:pt x="649" y="344"/>
                  <a:pt x="649" y="344"/>
                </a:cubicBezTo>
                <a:cubicBezTo>
                  <a:pt x="622" y="347"/>
                  <a:pt x="622" y="347"/>
                  <a:pt x="622" y="347"/>
                </a:cubicBezTo>
                <a:cubicBezTo>
                  <a:pt x="620" y="344"/>
                  <a:pt x="620" y="344"/>
                  <a:pt x="620" y="344"/>
                </a:cubicBezTo>
                <a:cubicBezTo>
                  <a:pt x="597" y="331"/>
                  <a:pt x="597" y="331"/>
                  <a:pt x="597" y="331"/>
                </a:cubicBezTo>
                <a:cubicBezTo>
                  <a:pt x="513" y="316"/>
                  <a:pt x="513" y="316"/>
                  <a:pt x="513" y="316"/>
                </a:cubicBezTo>
                <a:cubicBezTo>
                  <a:pt x="443" y="313"/>
                  <a:pt x="443" y="313"/>
                  <a:pt x="443" y="313"/>
                </a:cubicBezTo>
                <a:cubicBezTo>
                  <a:pt x="441" y="315"/>
                  <a:pt x="441" y="315"/>
                  <a:pt x="441" y="315"/>
                </a:cubicBezTo>
                <a:cubicBezTo>
                  <a:pt x="438" y="315"/>
                  <a:pt x="436" y="314"/>
                  <a:pt x="435" y="312"/>
                </a:cubicBezTo>
                <a:cubicBezTo>
                  <a:pt x="395" y="221"/>
                  <a:pt x="395" y="221"/>
                  <a:pt x="395" y="221"/>
                </a:cubicBezTo>
                <a:cubicBezTo>
                  <a:pt x="391" y="214"/>
                  <a:pt x="374" y="190"/>
                  <a:pt x="340" y="150"/>
                </a:cubicBezTo>
                <a:cubicBezTo>
                  <a:pt x="308" y="111"/>
                  <a:pt x="290" y="90"/>
                  <a:pt x="285" y="86"/>
                </a:cubicBezTo>
                <a:cubicBezTo>
                  <a:pt x="226" y="28"/>
                  <a:pt x="226" y="28"/>
                  <a:pt x="226" y="28"/>
                </a:cubicBezTo>
                <a:cubicBezTo>
                  <a:pt x="217" y="23"/>
                  <a:pt x="217" y="23"/>
                  <a:pt x="217" y="23"/>
                </a:cubicBezTo>
                <a:cubicBezTo>
                  <a:pt x="143" y="21"/>
                  <a:pt x="143" y="21"/>
                  <a:pt x="143" y="21"/>
                </a:cubicBezTo>
                <a:cubicBezTo>
                  <a:pt x="142" y="21"/>
                  <a:pt x="142" y="21"/>
                  <a:pt x="142" y="21"/>
                </a:cubicBezTo>
                <a:cubicBezTo>
                  <a:pt x="140" y="19"/>
                  <a:pt x="140" y="19"/>
                  <a:pt x="140" y="19"/>
                </a:cubicBezTo>
                <a:cubicBezTo>
                  <a:pt x="132" y="14"/>
                  <a:pt x="122" y="9"/>
                  <a:pt x="106" y="6"/>
                </a:cubicBezTo>
                <a:cubicBezTo>
                  <a:pt x="92" y="0"/>
                  <a:pt x="60" y="11"/>
                  <a:pt x="11" y="37"/>
                </a:cubicBezTo>
                <a:cubicBezTo>
                  <a:pt x="9" y="38"/>
                  <a:pt x="9" y="38"/>
                  <a:pt x="9" y="38"/>
                </a:cubicBezTo>
                <a:cubicBezTo>
                  <a:pt x="11" y="53"/>
                  <a:pt x="11" y="53"/>
                  <a:pt x="11" y="53"/>
                </a:cubicBezTo>
                <a:cubicBezTo>
                  <a:pt x="12" y="53"/>
                  <a:pt x="12" y="53"/>
                  <a:pt x="12" y="53"/>
                </a:cubicBezTo>
                <a:cubicBezTo>
                  <a:pt x="12" y="54"/>
                  <a:pt x="12" y="54"/>
                  <a:pt x="12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56"/>
                  <a:pt x="11" y="56"/>
                  <a:pt x="11" y="56"/>
                </a:cubicBezTo>
                <a:cubicBezTo>
                  <a:pt x="2" y="73"/>
                  <a:pt x="2" y="73"/>
                  <a:pt x="2" y="73"/>
                </a:cubicBezTo>
                <a:cubicBezTo>
                  <a:pt x="2" y="74"/>
                  <a:pt x="2" y="74"/>
                  <a:pt x="2" y="74"/>
                </a:cubicBezTo>
                <a:cubicBezTo>
                  <a:pt x="1" y="74"/>
                  <a:pt x="1" y="74"/>
                  <a:pt x="1" y="74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95"/>
                  <a:pt x="2" y="106"/>
                  <a:pt x="5" y="114"/>
                </a:cubicBezTo>
                <a:cubicBezTo>
                  <a:pt x="13" y="120"/>
                  <a:pt x="13" y="120"/>
                  <a:pt x="13" y="120"/>
                </a:cubicBezTo>
                <a:cubicBezTo>
                  <a:pt x="29" y="119"/>
                  <a:pt x="29" y="119"/>
                  <a:pt x="29" y="119"/>
                </a:cubicBezTo>
                <a:cubicBezTo>
                  <a:pt x="42" y="122"/>
                  <a:pt x="42" y="122"/>
                  <a:pt x="42" y="122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08"/>
                  <a:pt x="51" y="101"/>
                  <a:pt x="55" y="99"/>
                </a:cubicBezTo>
                <a:cubicBezTo>
                  <a:pt x="66" y="99"/>
                  <a:pt x="66" y="99"/>
                  <a:pt x="66" y="99"/>
                </a:cubicBezTo>
                <a:cubicBezTo>
                  <a:pt x="103" y="109"/>
                  <a:pt x="103" y="109"/>
                  <a:pt x="103" y="109"/>
                </a:cubicBezTo>
                <a:cubicBezTo>
                  <a:pt x="111" y="110"/>
                  <a:pt x="111" y="110"/>
                  <a:pt x="111" y="110"/>
                </a:cubicBezTo>
                <a:cubicBezTo>
                  <a:pt x="99" y="130"/>
                  <a:pt x="99" y="130"/>
                  <a:pt x="99" y="130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99" y="160"/>
                  <a:pt x="109" y="172"/>
                  <a:pt x="128" y="190"/>
                </a:cubicBezTo>
                <a:cubicBezTo>
                  <a:pt x="140" y="199"/>
                  <a:pt x="147" y="203"/>
                  <a:pt x="153" y="204"/>
                </a:cubicBezTo>
                <a:cubicBezTo>
                  <a:pt x="159" y="203"/>
                  <a:pt x="159" y="203"/>
                  <a:pt x="159" y="203"/>
                </a:cubicBezTo>
                <a:cubicBezTo>
                  <a:pt x="164" y="201"/>
                  <a:pt x="164" y="201"/>
                  <a:pt x="164" y="201"/>
                </a:cubicBezTo>
                <a:cubicBezTo>
                  <a:pt x="182" y="183"/>
                  <a:pt x="182" y="183"/>
                  <a:pt x="182" y="183"/>
                </a:cubicBezTo>
                <a:cubicBezTo>
                  <a:pt x="195" y="175"/>
                  <a:pt x="195" y="175"/>
                  <a:pt x="195" y="175"/>
                </a:cubicBezTo>
                <a:cubicBezTo>
                  <a:pt x="195" y="173"/>
                  <a:pt x="195" y="173"/>
                  <a:pt x="195" y="173"/>
                </a:cubicBezTo>
                <a:cubicBezTo>
                  <a:pt x="195" y="173"/>
                  <a:pt x="195" y="173"/>
                  <a:pt x="195" y="173"/>
                </a:cubicBezTo>
                <a:cubicBezTo>
                  <a:pt x="224" y="169"/>
                  <a:pt x="224" y="169"/>
                  <a:pt x="224" y="169"/>
                </a:cubicBezTo>
                <a:cubicBezTo>
                  <a:pt x="232" y="151"/>
                  <a:pt x="232" y="151"/>
                  <a:pt x="232" y="151"/>
                </a:cubicBezTo>
                <a:cubicBezTo>
                  <a:pt x="258" y="137"/>
                  <a:pt x="258" y="137"/>
                  <a:pt x="258" y="137"/>
                </a:cubicBezTo>
                <a:cubicBezTo>
                  <a:pt x="280" y="149"/>
                  <a:pt x="280" y="149"/>
                  <a:pt x="280" y="149"/>
                </a:cubicBezTo>
                <a:cubicBezTo>
                  <a:pt x="280" y="150"/>
                  <a:pt x="280" y="150"/>
                  <a:pt x="280" y="150"/>
                </a:cubicBezTo>
                <a:cubicBezTo>
                  <a:pt x="282" y="151"/>
                  <a:pt x="282" y="151"/>
                  <a:pt x="282" y="151"/>
                </a:cubicBezTo>
                <a:cubicBezTo>
                  <a:pt x="303" y="187"/>
                  <a:pt x="303" y="187"/>
                  <a:pt x="303" y="187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5"/>
                  <a:pt x="312" y="215"/>
                  <a:pt x="312" y="215"/>
                </a:cubicBezTo>
                <a:cubicBezTo>
                  <a:pt x="307" y="244"/>
                  <a:pt x="307" y="244"/>
                  <a:pt x="307" y="244"/>
                </a:cubicBezTo>
                <a:cubicBezTo>
                  <a:pt x="316" y="264"/>
                  <a:pt x="316" y="264"/>
                  <a:pt x="316" y="264"/>
                </a:cubicBezTo>
                <a:cubicBezTo>
                  <a:pt x="316" y="267"/>
                  <a:pt x="316" y="267"/>
                  <a:pt x="316" y="267"/>
                </a:cubicBezTo>
                <a:cubicBezTo>
                  <a:pt x="309" y="291"/>
                  <a:pt x="309" y="291"/>
                  <a:pt x="309" y="291"/>
                </a:cubicBezTo>
                <a:cubicBezTo>
                  <a:pt x="309" y="312"/>
                  <a:pt x="309" y="312"/>
                  <a:pt x="309" y="312"/>
                </a:cubicBezTo>
                <a:cubicBezTo>
                  <a:pt x="316" y="331"/>
                  <a:pt x="319" y="343"/>
                  <a:pt x="319" y="347"/>
                </a:cubicBezTo>
                <a:cubicBezTo>
                  <a:pt x="317" y="365"/>
                  <a:pt x="317" y="365"/>
                  <a:pt x="317" y="365"/>
                </a:cubicBezTo>
                <a:cubicBezTo>
                  <a:pt x="317" y="365"/>
                  <a:pt x="317" y="365"/>
                  <a:pt x="317" y="365"/>
                </a:cubicBezTo>
                <a:cubicBezTo>
                  <a:pt x="317" y="366"/>
                  <a:pt x="317" y="366"/>
                  <a:pt x="317" y="366"/>
                </a:cubicBezTo>
                <a:cubicBezTo>
                  <a:pt x="306" y="380"/>
                  <a:pt x="306" y="380"/>
                  <a:pt x="306" y="380"/>
                </a:cubicBezTo>
                <a:cubicBezTo>
                  <a:pt x="306" y="381"/>
                  <a:pt x="306" y="381"/>
                  <a:pt x="306" y="381"/>
                </a:cubicBezTo>
                <a:cubicBezTo>
                  <a:pt x="306" y="381"/>
                  <a:pt x="306" y="381"/>
                  <a:pt x="306" y="381"/>
                </a:cubicBezTo>
                <a:cubicBezTo>
                  <a:pt x="306" y="381"/>
                  <a:pt x="306" y="381"/>
                  <a:pt x="306" y="381"/>
                </a:cubicBezTo>
                <a:cubicBezTo>
                  <a:pt x="296" y="394"/>
                  <a:pt x="296" y="394"/>
                  <a:pt x="296" y="394"/>
                </a:cubicBezTo>
                <a:cubicBezTo>
                  <a:pt x="295" y="417"/>
                  <a:pt x="295" y="417"/>
                  <a:pt x="295" y="417"/>
                </a:cubicBezTo>
                <a:cubicBezTo>
                  <a:pt x="301" y="442"/>
                  <a:pt x="301" y="442"/>
                  <a:pt x="301" y="442"/>
                </a:cubicBezTo>
                <a:cubicBezTo>
                  <a:pt x="301" y="442"/>
                  <a:pt x="301" y="442"/>
                  <a:pt x="301" y="442"/>
                </a:cubicBezTo>
                <a:cubicBezTo>
                  <a:pt x="302" y="443"/>
                  <a:pt x="302" y="443"/>
                  <a:pt x="302" y="443"/>
                </a:cubicBezTo>
                <a:cubicBezTo>
                  <a:pt x="301" y="444"/>
                  <a:pt x="301" y="444"/>
                  <a:pt x="301" y="444"/>
                </a:cubicBezTo>
                <a:cubicBezTo>
                  <a:pt x="301" y="444"/>
                  <a:pt x="301" y="444"/>
                  <a:pt x="301" y="444"/>
                </a:cubicBezTo>
                <a:cubicBezTo>
                  <a:pt x="295" y="481"/>
                  <a:pt x="295" y="481"/>
                  <a:pt x="295" y="481"/>
                </a:cubicBezTo>
                <a:cubicBezTo>
                  <a:pt x="289" y="486"/>
                  <a:pt x="289" y="486"/>
                  <a:pt x="289" y="486"/>
                </a:cubicBezTo>
                <a:cubicBezTo>
                  <a:pt x="285" y="489"/>
                  <a:pt x="280" y="489"/>
                  <a:pt x="274" y="486"/>
                </a:cubicBezTo>
                <a:cubicBezTo>
                  <a:pt x="271" y="486"/>
                  <a:pt x="271" y="486"/>
                  <a:pt x="271" y="486"/>
                </a:cubicBezTo>
                <a:cubicBezTo>
                  <a:pt x="262" y="475"/>
                  <a:pt x="262" y="475"/>
                  <a:pt x="262" y="475"/>
                </a:cubicBezTo>
                <a:cubicBezTo>
                  <a:pt x="251" y="479"/>
                  <a:pt x="251" y="479"/>
                  <a:pt x="251" y="479"/>
                </a:cubicBezTo>
                <a:cubicBezTo>
                  <a:pt x="238" y="493"/>
                  <a:pt x="238" y="493"/>
                  <a:pt x="238" y="493"/>
                </a:cubicBezTo>
                <a:cubicBezTo>
                  <a:pt x="223" y="537"/>
                  <a:pt x="223" y="537"/>
                  <a:pt x="223" y="537"/>
                </a:cubicBezTo>
                <a:cubicBezTo>
                  <a:pt x="223" y="538"/>
                  <a:pt x="223" y="538"/>
                  <a:pt x="223" y="538"/>
                </a:cubicBezTo>
                <a:cubicBezTo>
                  <a:pt x="222" y="539"/>
                  <a:pt x="222" y="539"/>
                  <a:pt x="222" y="539"/>
                </a:cubicBezTo>
                <a:cubicBezTo>
                  <a:pt x="207" y="551"/>
                  <a:pt x="207" y="551"/>
                  <a:pt x="207" y="551"/>
                </a:cubicBezTo>
                <a:cubicBezTo>
                  <a:pt x="205" y="551"/>
                  <a:pt x="205" y="551"/>
                  <a:pt x="205" y="551"/>
                </a:cubicBezTo>
                <a:cubicBezTo>
                  <a:pt x="197" y="552"/>
                  <a:pt x="197" y="552"/>
                  <a:pt x="197" y="552"/>
                </a:cubicBezTo>
                <a:cubicBezTo>
                  <a:pt x="180" y="577"/>
                  <a:pt x="180" y="577"/>
                  <a:pt x="180" y="577"/>
                </a:cubicBezTo>
                <a:cubicBezTo>
                  <a:pt x="188" y="592"/>
                  <a:pt x="188" y="592"/>
                  <a:pt x="188" y="592"/>
                </a:cubicBezTo>
                <a:cubicBezTo>
                  <a:pt x="190" y="595"/>
                  <a:pt x="190" y="595"/>
                  <a:pt x="190" y="595"/>
                </a:cubicBezTo>
                <a:cubicBezTo>
                  <a:pt x="211" y="621"/>
                  <a:pt x="211" y="621"/>
                  <a:pt x="211" y="621"/>
                </a:cubicBezTo>
                <a:cubicBezTo>
                  <a:pt x="211" y="622"/>
                  <a:pt x="211" y="622"/>
                  <a:pt x="211" y="622"/>
                </a:cubicBezTo>
                <a:cubicBezTo>
                  <a:pt x="211" y="630"/>
                  <a:pt x="211" y="630"/>
                  <a:pt x="211" y="630"/>
                </a:cubicBezTo>
                <a:cubicBezTo>
                  <a:pt x="235" y="634"/>
                  <a:pt x="235" y="634"/>
                  <a:pt x="235" y="634"/>
                </a:cubicBezTo>
                <a:cubicBezTo>
                  <a:pt x="239" y="655"/>
                  <a:pt x="239" y="655"/>
                  <a:pt x="239" y="655"/>
                </a:cubicBezTo>
                <a:cubicBezTo>
                  <a:pt x="239" y="656"/>
                  <a:pt x="239" y="656"/>
                  <a:pt x="239" y="656"/>
                </a:cubicBezTo>
                <a:cubicBezTo>
                  <a:pt x="242" y="681"/>
                  <a:pt x="242" y="681"/>
                  <a:pt x="242" y="681"/>
                </a:cubicBezTo>
                <a:cubicBezTo>
                  <a:pt x="248" y="686"/>
                  <a:pt x="248" y="686"/>
                  <a:pt x="248" y="686"/>
                </a:cubicBezTo>
                <a:cubicBezTo>
                  <a:pt x="269" y="680"/>
                  <a:pt x="269" y="680"/>
                  <a:pt x="269" y="680"/>
                </a:cubicBezTo>
                <a:cubicBezTo>
                  <a:pt x="289" y="668"/>
                  <a:pt x="289" y="668"/>
                  <a:pt x="289" y="668"/>
                </a:cubicBezTo>
                <a:cubicBezTo>
                  <a:pt x="293" y="666"/>
                  <a:pt x="293" y="666"/>
                  <a:pt x="293" y="666"/>
                </a:cubicBezTo>
                <a:cubicBezTo>
                  <a:pt x="300" y="702"/>
                  <a:pt x="300" y="702"/>
                  <a:pt x="300" y="702"/>
                </a:cubicBezTo>
                <a:cubicBezTo>
                  <a:pt x="309" y="716"/>
                  <a:pt x="309" y="716"/>
                  <a:pt x="309" y="716"/>
                </a:cubicBezTo>
                <a:cubicBezTo>
                  <a:pt x="312" y="717"/>
                  <a:pt x="312" y="717"/>
                  <a:pt x="312" y="717"/>
                </a:cubicBezTo>
                <a:cubicBezTo>
                  <a:pt x="319" y="732"/>
                  <a:pt x="319" y="732"/>
                  <a:pt x="319" y="732"/>
                </a:cubicBezTo>
                <a:cubicBezTo>
                  <a:pt x="335" y="744"/>
                  <a:pt x="335" y="744"/>
                  <a:pt x="335" y="744"/>
                </a:cubicBezTo>
                <a:cubicBezTo>
                  <a:pt x="337" y="748"/>
                  <a:pt x="342" y="748"/>
                  <a:pt x="347" y="748"/>
                </a:cubicBezTo>
                <a:cubicBezTo>
                  <a:pt x="353" y="749"/>
                  <a:pt x="353" y="749"/>
                  <a:pt x="353" y="749"/>
                </a:cubicBezTo>
                <a:cubicBezTo>
                  <a:pt x="362" y="744"/>
                  <a:pt x="362" y="744"/>
                  <a:pt x="362" y="744"/>
                </a:cubicBezTo>
                <a:cubicBezTo>
                  <a:pt x="370" y="741"/>
                  <a:pt x="377" y="738"/>
                  <a:pt x="385" y="737"/>
                </a:cubicBezTo>
                <a:cubicBezTo>
                  <a:pt x="392" y="734"/>
                  <a:pt x="392" y="734"/>
                  <a:pt x="392" y="734"/>
                </a:cubicBezTo>
                <a:cubicBezTo>
                  <a:pt x="407" y="733"/>
                  <a:pt x="407" y="733"/>
                  <a:pt x="407" y="733"/>
                </a:cubicBezTo>
                <a:cubicBezTo>
                  <a:pt x="412" y="733"/>
                  <a:pt x="414" y="734"/>
                  <a:pt x="417" y="737"/>
                </a:cubicBezTo>
                <a:cubicBezTo>
                  <a:pt x="438" y="723"/>
                  <a:pt x="438" y="723"/>
                  <a:pt x="438" y="723"/>
                </a:cubicBezTo>
                <a:cubicBezTo>
                  <a:pt x="440" y="723"/>
                  <a:pt x="440" y="723"/>
                  <a:pt x="440" y="723"/>
                </a:cubicBezTo>
                <a:cubicBezTo>
                  <a:pt x="442" y="724"/>
                  <a:pt x="442" y="724"/>
                  <a:pt x="442" y="724"/>
                </a:cubicBezTo>
                <a:cubicBezTo>
                  <a:pt x="443" y="723"/>
                  <a:pt x="443" y="723"/>
                  <a:pt x="443" y="723"/>
                </a:cubicBezTo>
                <a:cubicBezTo>
                  <a:pt x="446" y="725"/>
                  <a:pt x="446" y="725"/>
                  <a:pt x="446" y="725"/>
                </a:cubicBezTo>
                <a:cubicBezTo>
                  <a:pt x="454" y="735"/>
                  <a:pt x="458" y="743"/>
                  <a:pt x="458" y="748"/>
                </a:cubicBezTo>
                <a:cubicBezTo>
                  <a:pt x="468" y="763"/>
                  <a:pt x="468" y="763"/>
                  <a:pt x="468" y="763"/>
                </a:cubicBezTo>
                <a:cubicBezTo>
                  <a:pt x="475" y="766"/>
                  <a:pt x="475" y="766"/>
                  <a:pt x="475" y="766"/>
                </a:cubicBezTo>
                <a:cubicBezTo>
                  <a:pt x="476" y="766"/>
                  <a:pt x="476" y="766"/>
                  <a:pt x="476" y="766"/>
                </a:cubicBezTo>
                <a:cubicBezTo>
                  <a:pt x="477" y="766"/>
                  <a:pt x="477" y="766"/>
                  <a:pt x="477" y="766"/>
                </a:cubicBezTo>
                <a:cubicBezTo>
                  <a:pt x="475" y="763"/>
                  <a:pt x="475" y="763"/>
                  <a:pt x="475" y="763"/>
                </a:cubicBezTo>
                <a:cubicBezTo>
                  <a:pt x="474" y="758"/>
                  <a:pt x="474" y="755"/>
                  <a:pt x="475" y="753"/>
                </a:cubicBezTo>
                <a:cubicBezTo>
                  <a:pt x="477" y="750"/>
                  <a:pt x="481" y="748"/>
                  <a:pt x="488" y="748"/>
                </a:cubicBezTo>
                <a:cubicBezTo>
                  <a:pt x="527" y="747"/>
                  <a:pt x="527" y="747"/>
                  <a:pt x="527" y="747"/>
                </a:cubicBezTo>
                <a:cubicBezTo>
                  <a:pt x="528" y="746"/>
                  <a:pt x="528" y="746"/>
                  <a:pt x="528" y="746"/>
                </a:cubicBezTo>
                <a:cubicBezTo>
                  <a:pt x="530" y="746"/>
                  <a:pt x="530" y="746"/>
                  <a:pt x="530" y="746"/>
                </a:cubicBezTo>
                <a:cubicBezTo>
                  <a:pt x="530" y="748"/>
                  <a:pt x="530" y="748"/>
                  <a:pt x="530" y="748"/>
                </a:cubicBezTo>
                <a:cubicBezTo>
                  <a:pt x="532" y="748"/>
                  <a:pt x="532" y="748"/>
                  <a:pt x="532" y="748"/>
                </a:cubicBezTo>
                <a:cubicBezTo>
                  <a:pt x="544" y="770"/>
                  <a:pt x="544" y="770"/>
                  <a:pt x="544" y="770"/>
                </a:cubicBezTo>
                <a:cubicBezTo>
                  <a:pt x="543" y="781"/>
                  <a:pt x="543" y="781"/>
                  <a:pt x="543" y="781"/>
                </a:cubicBezTo>
                <a:cubicBezTo>
                  <a:pt x="542" y="781"/>
                  <a:pt x="542" y="781"/>
                  <a:pt x="542" y="781"/>
                </a:cubicBezTo>
                <a:cubicBezTo>
                  <a:pt x="556" y="785"/>
                  <a:pt x="556" y="785"/>
                  <a:pt x="556" y="785"/>
                </a:cubicBezTo>
                <a:cubicBezTo>
                  <a:pt x="557" y="785"/>
                  <a:pt x="557" y="785"/>
                  <a:pt x="557" y="785"/>
                </a:cubicBezTo>
                <a:cubicBezTo>
                  <a:pt x="556" y="781"/>
                  <a:pt x="556" y="779"/>
                  <a:pt x="559" y="777"/>
                </a:cubicBezTo>
                <a:cubicBezTo>
                  <a:pt x="564" y="776"/>
                  <a:pt x="564" y="776"/>
                  <a:pt x="564" y="776"/>
                </a:cubicBezTo>
                <a:cubicBezTo>
                  <a:pt x="599" y="800"/>
                  <a:pt x="599" y="800"/>
                  <a:pt x="599" y="800"/>
                </a:cubicBezTo>
                <a:cubicBezTo>
                  <a:pt x="602" y="804"/>
                  <a:pt x="604" y="808"/>
                  <a:pt x="605" y="813"/>
                </a:cubicBezTo>
                <a:cubicBezTo>
                  <a:pt x="606" y="828"/>
                  <a:pt x="606" y="828"/>
                  <a:pt x="606" y="828"/>
                </a:cubicBezTo>
                <a:cubicBezTo>
                  <a:pt x="618" y="830"/>
                  <a:pt x="618" y="830"/>
                  <a:pt x="618" y="830"/>
                </a:cubicBezTo>
                <a:cubicBezTo>
                  <a:pt x="625" y="817"/>
                  <a:pt x="625" y="817"/>
                  <a:pt x="625" y="817"/>
                </a:cubicBezTo>
                <a:cubicBezTo>
                  <a:pt x="622" y="811"/>
                  <a:pt x="620" y="805"/>
                  <a:pt x="621" y="800"/>
                </a:cubicBezTo>
                <a:cubicBezTo>
                  <a:pt x="622" y="796"/>
                  <a:pt x="623" y="793"/>
                  <a:pt x="627" y="791"/>
                </a:cubicBezTo>
                <a:cubicBezTo>
                  <a:pt x="630" y="788"/>
                  <a:pt x="630" y="788"/>
                  <a:pt x="630" y="788"/>
                </a:cubicBezTo>
                <a:cubicBezTo>
                  <a:pt x="630" y="786"/>
                  <a:pt x="631" y="785"/>
                  <a:pt x="633" y="784"/>
                </a:cubicBezTo>
                <a:cubicBezTo>
                  <a:pt x="643" y="785"/>
                  <a:pt x="643" y="785"/>
                  <a:pt x="643" y="785"/>
                </a:cubicBezTo>
                <a:cubicBezTo>
                  <a:pt x="648" y="788"/>
                  <a:pt x="652" y="798"/>
                  <a:pt x="655" y="816"/>
                </a:cubicBezTo>
                <a:cubicBezTo>
                  <a:pt x="655" y="818"/>
                  <a:pt x="655" y="818"/>
                  <a:pt x="655" y="818"/>
                </a:cubicBezTo>
                <a:cubicBezTo>
                  <a:pt x="657" y="819"/>
                  <a:pt x="657" y="819"/>
                  <a:pt x="657" y="819"/>
                </a:cubicBezTo>
                <a:cubicBezTo>
                  <a:pt x="658" y="824"/>
                  <a:pt x="664" y="827"/>
                  <a:pt x="674" y="830"/>
                </a:cubicBezTo>
                <a:cubicBezTo>
                  <a:pt x="675" y="830"/>
                  <a:pt x="675" y="830"/>
                  <a:pt x="675" y="830"/>
                </a:cubicBezTo>
                <a:cubicBezTo>
                  <a:pt x="676" y="831"/>
                  <a:pt x="676" y="831"/>
                  <a:pt x="676" y="831"/>
                </a:cubicBezTo>
                <a:cubicBezTo>
                  <a:pt x="709" y="866"/>
                  <a:pt x="709" y="866"/>
                  <a:pt x="709" y="866"/>
                </a:cubicBezTo>
                <a:cubicBezTo>
                  <a:pt x="709" y="866"/>
                  <a:pt x="709" y="866"/>
                  <a:pt x="709" y="866"/>
                </a:cubicBezTo>
                <a:cubicBezTo>
                  <a:pt x="725" y="861"/>
                  <a:pt x="725" y="861"/>
                  <a:pt x="725" y="861"/>
                </a:cubicBezTo>
                <a:cubicBezTo>
                  <a:pt x="723" y="855"/>
                  <a:pt x="723" y="855"/>
                  <a:pt x="723" y="855"/>
                </a:cubicBezTo>
                <a:cubicBezTo>
                  <a:pt x="719" y="850"/>
                  <a:pt x="718" y="845"/>
                  <a:pt x="718" y="842"/>
                </a:cubicBezTo>
                <a:cubicBezTo>
                  <a:pt x="718" y="834"/>
                  <a:pt x="723" y="827"/>
                  <a:pt x="734" y="819"/>
                </a:cubicBezTo>
                <a:cubicBezTo>
                  <a:pt x="752" y="804"/>
                  <a:pt x="752" y="804"/>
                  <a:pt x="752" y="804"/>
                </a:cubicBezTo>
                <a:cubicBezTo>
                  <a:pt x="773" y="818"/>
                  <a:pt x="773" y="818"/>
                  <a:pt x="773" y="818"/>
                </a:cubicBezTo>
                <a:cubicBezTo>
                  <a:pt x="777" y="818"/>
                  <a:pt x="777" y="818"/>
                  <a:pt x="777" y="818"/>
                </a:cubicBezTo>
                <a:cubicBezTo>
                  <a:pt x="781" y="795"/>
                  <a:pt x="781" y="795"/>
                  <a:pt x="781" y="795"/>
                </a:cubicBezTo>
                <a:cubicBezTo>
                  <a:pt x="781" y="791"/>
                  <a:pt x="781" y="791"/>
                  <a:pt x="781" y="791"/>
                </a:cubicBezTo>
                <a:cubicBezTo>
                  <a:pt x="785" y="790"/>
                  <a:pt x="785" y="790"/>
                  <a:pt x="785" y="790"/>
                </a:cubicBezTo>
                <a:cubicBezTo>
                  <a:pt x="802" y="792"/>
                  <a:pt x="802" y="792"/>
                  <a:pt x="802" y="792"/>
                </a:cubicBezTo>
                <a:cubicBezTo>
                  <a:pt x="806" y="795"/>
                  <a:pt x="808" y="798"/>
                  <a:pt x="808" y="804"/>
                </a:cubicBezTo>
                <a:cubicBezTo>
                  <a:pt x="808" y="808"/>
                  <a:pt x="804" y="813"/>
                  <a:pt x="801" y="817"/>
                </a:cubicBezTo>
                <a:cubicBezTo>
                  <a:pt x="804" y="819"/>
                  <a:pt x="804" y="819"/>
                  <a:pt x="804" y="819"/>
                </a:cubicBezTo>
                <a:cubicBezTo>
                  <a:pt x="815" y="825"/>
                  <a:pt x="823" y="829"/>
                  <a:pt x="830" y="830"/>
                </a:cubicBezTo>
                <a:cubicBezTo>
                  <a:pt x="831" y="830"/>
                  <a:pt x="831" y="830"/>
                  <a:pt x="831" y="830"/>
                </a:cubicBezTo>
                <a:cubicBezTo>
                  <a:pt x="831" y="830"/>
                  <a:pt x="831" y="830"/>
                  <a:pt x="831" y="830"/>
                </a:cubicBezTo>
                <a:cubicBezTo>
                  <a:pt x="845" y="837"/>
                  <a:pt x="845" y="837"/>
                  <a:pt x="845" y="837"/>
                </a:cubicBezTo>
                <a:cubicBezTo>
                  <a:pt x="855" y="836"/>
                  <a:pt x="855" y="836"/>
                  <a:pt x="855" y="836"/>
                </a:cubicBezTo>
                <a:cubicBezTo>
                  <a:pt x="839" y="759"/>
                  <a:pt x="839" y="759"/>
                  <a:pt x="839" y="759"/>
                </a:cubicBezTo>
                <a:cubicBezTo>
                  <a:pt x="829" y="753"/>
                  <a:pt x="819" y="740"/>
                  <a:pt x="810" y="725"/>
                </a:cubicBezTo>
                <a:cubicBezTo>
                  <a:pt x="802" y="713"/>
                  <a:pt x="807" y="695"/>
                  <a:pt x="823" y="674"/>
                </a:cubicBezTo>
                <a:cubicBezTo>
                  <a:pt x="833" y="663"/>
                  <a:pt x="845" y="653"/>
                  <a:pt x="857" y="642"/>
                </a:cubicBezTo>
                <a:cubicBezTo>
                  <a:pt x="857" y="642"/>
                  <a:pt x="857" y="642"/>
                  <a:pt x="857" y="642"/>
                </a:cubicBezTo>
                <a:cubicBezTo>
                  <a:pt x="858" y="640"/>
                  <a:pt x="858" y="640"/>
                  <a:pt x="858" y="640"/>
                </a:cubicBezTo>
                <a:cubicBezTo>
                  <a:pt x="873" y="640"/>
                  <a:pt x="873" y="640"/>
                  <a:pt x="873" y="640"/>
                </a:cubicBezTo>
                <a:cubicBezTo>
                  <a:pt x="874" y="642"/>
                  <a:pt x="874" y="642"/>
                  <a:pt x="874" y="642"/>
                </a:cubicBezTo>
                <a:cubicBezTo>
                  <a:pt x="887" y="647"/>
                  <a:pt x="887" y="647"/>
                  <a:pt x="887" y="647"/>
                </a:cubicBezTo>
                <a:cubicBezTo>
                  <a:pt x="913" y="647"/>
                  <a:pt x="913" y="647"/>
                  <a:pt x="913" y="647"/>
                </a:cubicBezTo>
                <a:cubicBezTo>
                  <a:pt x="924" y="642"/>
                  <a:pt x="933" y="626"/>
                  <a:pt x="944" y="601"/>
                </a:cubicBezTo>
                <a:cubicBezTo>
                  <a:pt x="950" y="586"/>
                  <a:pt x="950" y="556"/>
                  <a:pt x="946" y="508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9"/>
          <p:cNvSpPr/>
          <p:nvPr/>
        </p:nvSpPr>
        <p:spPr>
          <a:xfrm>
            <a:off x="4857840" y="1571760"/>
            <a:ext cx="714240" cy="500040"/>
          </a:xfrm>
          <a:custGeom>
            <a:avLst/>
            <a:gdLst/>
            <a:ahLst/>
            <a:rect l="l" t="t" r="r" b="b"/>
            <a:pathLst>
              <a:path w="1071" h="769">
                <a:moveTo>
                  <a:pt x="639" y="40"/>
                </a:moveTo>
                <a:cubicBezTo>
                  <a:pt x="630" y="47"/>
                  <a:pt x="630" y="47"/>
                  <a:pt x="630" y="47"/>
                </a:cubicBezTo>
                <a:cubicBezTo>
                  <a:pt x="630" y="51"/>
                  <a:pt x="632" y="61"/>
                  <a:pt x="635" y="74"/>
                </a:cubicBezTo>
                <a:cubicBezTo>
                  <a:pt x="635" y="76"/>
                  <a:pt x="635" y="76"/>
                  <a:pt x="635" y="76"/>
                </a:cubicBezTo>
                <a:cubicBezTo>
                  <a:pt x="636" y="77"/>
                  <a:pt x="636" y="77"/>
                  <a:pt x="636" y="77"/>
                </a:cubicBezTo>
                <a:cubicBezTo>
                  <a:pt x="635" y="77"/>
                  <a:pt x="635" y="77"/>
                  <a:pt x="635" y="77"/>
                </a:cubicBezTo>
                <a:cubicBezTo>
                  <a:pt x="624" y="103"/>
                  <a:pt x="624" y="103"/>
                  <a:pt x="624" y="103"/>
                </a:cubicBezTo>
                <a:cubicBezTo>
                  <a:pt x="608" y="109"/>
                  <a:pt x="608" y="109"/>
                  <a:pt x="608" y="109"/>
                </a:cubicBezTo>
                <a:cubicBezTo>
                  <a:pt x="605" y="110"/>
                  <a:pt x="605" y="110"/>
                  <a:pt x="605" y="110"/>
                </a:cubicBezTo>
                <a:cubicBezTo>
                  <a:pt x="604" y="110"/>
                  <a:pt x="604" y="110"/>
                  <a:pt x="604" y="110"/>
                </a:cubicBezTo>
                <a:cubicBezTo>
                  <a:pt x="576" y="98"/>
                  <a:pt x="576" y="98"/>
                  <a:pt x="576" y="98"/>
                </a:cubicBezTo>
                <a:cubicBezTo>
                  <a:pt x="575" y="98"/>
                  <a:pt x="575" y="98"/>
                  <a:pt x="575" y="98"/>
                </a:cubicBezTo>
                <a:cubicBezTo>
                  <a:pt x="575" y="97"/>
                  <a:pt x="575" y="97"/>
                  <a:pt x="575" y="97"/>
                </a:cubicBezTo>
                <a:cubicBezTo>
                  <a:pt x="523" y="49"/>
                  <a:pt x="523" y="49"/>
                  <a:pt x="523" y="49"/>
                </a:cubicBezTo>
                <a:cubicBezTo>
                  <a:pt x="503" y="38"/>
                  <a:pt x="503" y="38"/>
                  <a:pt x="503" y="38"/>
                </a:cubicBezTo>
                <a:cubicBezTo>
                  <a:pt x="472" y="26"/>
                  <a:pt x="472" y="26"/>
                  <a:pt x="472" y="26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56" y="14"/>
                  <a:pt x="456" y="14"/>
                  <a:pt x="456" y="14"/>
                </a:cubicBezTo>
                <a:cubicBezTo>
                  <a:pt x="429" y="6"/>
                  <a:pt x="429" y="6"/>
                  <a:pt x="429" y="6"/>
                </a:cubicBezTo>
                <a:cubicBezTo>
                  <a:pt x="415" y="7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380" y="5"/>
                  <a:pt x="380" y="5"/>
                  <a:pt x="380" y="5"/>
                </a:cubicBezTo>
                <a:cubicBezTo>
                  <a:pt x="379" y="5"/>
                  <a:pt x="379" y="5"/>
                  <a:pt x="379" y="5"/>
                </a:cubicBezTo>
                <a:cubicBezTo>
                  <a:pt x="354" y="0"/>
                  <a:pt x="354" y="0"/>
                  <a:pt x="354" y="0"/>
                </a:cubicBezTo>
                <a:cubicBezTo>
                  <a:pt x="340" y="0"/>
                  <a:pt x="340" y="0"/>
                  <a:pt x="340" y="0"/>
                </a:cubicBezTo>
                <a:cubicBezTo>
                  <a:pt x="328" y="8"/>
                  <a:pt x="328" y="8"/>
                  <a:pt x="328" y="8"/>
                </a:cubicBezTo>
                <a:cubicBezTo>
                  <a:pt x="322" y="11"/>
                  <a:pt x="313" y="12"/>
                  <a:pt x="303" y="14"/>
                </a:cubicBezTo>
                <a:cubicBezTo>
                  <a:pt x="281" y="19"/>
                  <a:pt x="281" y="19"/>
                  <a:pt x="281" y="19"/>
                </a:cubicBezTo>
                <a:cubicBezTo>
                  <a:pt x="262" y="25"/>
                  <a:pt x="262" y="25"/>
                  <a:pt x="262" y="25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61" y="27"/>
                  <a:pt x="261" y="27"/>
                  <a:pt x="261" y="27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37" y="28"/>
                  <a:pt x="237" y="28"/>
                  <a:pt x="237" y="2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0" y="38"/>
                  <a:pt x="210" y="38"/>
                  <a:pt x="210" y="38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59" y="40"/>
                  <a:pt x="159" y="40"/>
                  <a:pt x="159" y="40"/>
                </a:cubicBezTo>
                <a:cubicBezTo>
                  <a:pt x="134" y="40"/>
                  <a:pt x="134" y="40"/>
                  <a:pt x="134" y="40"/>
                </a:cubicBezTo>
                <a:cubicBezTo>
                  <a:pt x="123" y="50"/>
                  <a:pt x="123" y="50"/>
                  <a:pt x="123" y="50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5" y="66"/>
                  <a:pt x="115" y="66"/>
                  <a:pt x="115" y="66"/>
                </a:cubicBezTo>
                <a:cubicBezTo>
                  <a:pt x="115" y="86"/>
                  <a:pt x="115" y="86"/>
                  <a:pt x="115" y="86"/>
                </a:cubicBezTo>
                <a:cubicBezTo>
                  <a:pt x="112" y="104"/>
                  <a:pt x="112" y="104"/>
                  <a:pt x="112" y="104"/>
                </a:cubicBezTo>
                <a:cubicBezTo>
                  <a:pt x="130" y="119"/>
                  <a:pt x="130" y="119"/>
                  <a:pt x="130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46" y="136"/>
                  <a:pt x="146" y="136"/>
                  <a:pt x="146" y="136"/>
                </a:cubicBezTo>
                <a:cubicBezTo>
                  <a:pt x="155" y="143"/>
                  <a:pt x="159" y="148"/>
                  <a:pt x="159" y="155"/>
                </a:cubicBezTo>
                <a:cubicBezTo>
                  <a:pt x="164" y="171"/>
                  <a:pt x="164" y="171"/>
                  <a:pt x="164" y="171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1" y="186"/>
                  <a:pt x="171" y="187"/>
                  <a:pt x="170" y="187"/>
                </a:cubicBezTo>
                <a:cubicBezTo>
                  <a:pt x="150" y="202"/>
                  <a:pt x="150" y="202"/>
                  <a:pt x="150" y="202"/>
                </a:cubicBezTo>
                <a:cubicBezTo>
                  <a:pt x="136" y="220"/>
                  <a:pt x="136" y="220"/>
                  <a:pt x="136" y="220"/>
                </a:cubicBezTo>
                <a:cubicBezTo>
                  <a:pt x="139" y="236"/>
                  <a:pt x="139" y="236"/>
                  <a:pt x="139" y="236"/>
                </a:cubicBezTo>
                <a:cubicBezTo>
                  <a:pt x="149" y="258"/>
                  <a:pt x="149" y="258"/>
                  <a:pt x="149" y="258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1"/>
                  <a:pt x="150" y="261"/>
                  <a:pt x="150" y="261"/>
                </a:cubicBezTo>
                <a:cubicBezTo>
                  <a:pt x="148" y="270"/>
                  <a:pt x="148" y="270"/>
                  <a:pt x="148" y="270"/>
                </a:cubicBezTo>
                <a:cubicBezTo>
                  <a:pt x="146" y="275"/>
                  <a:pt x="143" y="279"/>
                  <a:pt x="140" y="281"/>
                </a:cubicBezTo>
                <a:cubicBezTo>
                  <a:pt x="134" y="287"/>
                  <a:pt x="123" y="287"/>
                  <a:pt x="106" y="281"/>
                </a:cubicBezTo>
                <a:cubicBezTo>
                  <a:pt x="80" y="276"/>
                  <a:pt x="80" y="276"/>
                  <a:pt x="80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76"/>
                  <a:pt x="78" y="276"/>
                  <a:pt x="78" y="276"/>
                </a:cubicBezTo>
                <a:cubicBezTo>
                  <a:pt x="59" y="267"/>
                  <a:pt x="59" y="267"/>
                  <a:pt x="59" y="267"/>
                </a:cubicBezTo>
                <a:cubicBezTo>
                  <a:pt x="28" y="265"/>
                  <a:pt x="28" y="265"/>
                  <a:pt x="28" y="265"/>
                </a:cubicBezTo>
                <a:cubicBezTo>
                  <a:pt x="29" y="267"/>
                  <a:pt x="29" y="267"/>
                  <a:pt x="29" y="267"/>
                </a:cubicBezTo>
                <a:cubicBezTo>
                  <a:pt x="26" y="319"/>
                  <a:pt x="26" y="319"/>
                  <a:pt x="26" y="319"/>
                </a:cubicBezTo>
                <a:cubicBezTo>
                  <a:pt x="25" y="327"/>
                  <a:pt x="20" y="330"/>
                  <a:pt x="13" y="331"/>
                </a:cubicBezTo>
                <a:cubicBezTo>
                  <a:pt x="9" y="332"/>
                  <a:pt x="7" y="336"/>
                  <a:pt x="8" y="345"/>
                </a:cubicBezTo>
                <a:cubicBezTo>
                  <a:pt x="8" y="346"/>
                  <a:pt x="8" y="346"/>
                  <a:pt x="8" y="346"/>
                </a:cubicBezTo>
                <a:cubicBezTo>
                  <a:pt x="7" y="346"/>
                  <a:pt x="7" y="346"/>
                  <a:pt x="7" y="346"/>
                </a:cubicBezTo>
                <a:cubicBezTo>
                  <a:pt x="5" y="359"/>
                  <a:pt x="5" y="359"/>
                  <a:pt x="5" y="359"/>
                </a:cubicBezTo>
                <a:cubicBezTo>
                  <a:pt x="13" y="366"/>
                  <a:pt x="18" y="371"/>
                  <a:pt x="20" y="375"/>
                </a:cubicBezTo>
                <a:cubicBezTo>
                  <a:pt x="25" y="401"/>
                  <a:pt x="25" y="401"/>
                  <a:pt x="25" y="401"/>
                </a:cubicBezTo>
                <a:cubicBezTo>
                  <a:pt x="25" y="410"/>
                  <a:pt x="25" y="410"/>
                  <a:pt x="25" y="410"/>
                </a:cubicBezTo>
                <a:cubicBezTo>
                  <a:pt x="24" y="415"/>
                  <a:pt x="23" y="420"/>
                  <a:pt x="21" y="424"/>
                </a:cubicBezTo>
                <a:cubicBezTo>
                  <a:pt x="14" y="445"/>
                  <a:pt x="14" y="445"/>
                  <a:pt x="14" y="445"/>
                </a:cubicBezTo>
                <a:cubicBezTo>
                  <a:pt x="0" y="471"/>
                  <a:pt x="0" y="471"/>
                  <a:pt x="0" y="471"/>
                </a:cubicBezTo>
                <a:cubicBezTo>
                  <a:pt x="0" y="477"/>
                  <a:pt x="0" y="477"/>
                  <a:pt x="0" y="477"/>
                </a:cubicBezTo>
                <a:cubicBezTo>
                  <a:pt x="2" y="489"/>
                  <a:pt x="2" y="489"/>
                  <a:pt x="2" y="489"/>
                </a:cubicBezTo>
                <a:cubicBezTo>
                  <a:pt x="16" y="507"/>
                  <a:pt x="16" y="507"/>
                  <a:pt x="16" y="507"/>
                </a:cubicBezTo>
                <a:cubicBezTo>
                  <a:pt x="20" y="512"/>
                  <a:pt x="22" y="516"/>
                  <a:pt x="23" y="519"/>
                </a:cubicBezTo>
                <a:cubicBezTo>
                  <a:pt x="36" y="537"/>
                  <a:pt x="36" y="537"/>
                  <a:pt x="36" y="537"/>
                </a:cubicBezTo>
                <a:cubicBezTo>
                  <a:pt x="55" y="558"/>
                  <a:pt x="55" y="558"/>
                  <a:pt x="55" y="558"/>
                </a:cubicBezTo>
                <a:cubicBezTo>
                  <a:pt x="62" y="565"/>
                  <a:pt x="67" y="568"/>
                  <a:pt x="70" y="568"/>
                </a:cubicBezTo>
                <a:cubicBezTo>
                  <a:pt x="90" y="556"/>
                  <a:pt x="90" y="556"/>
                  <a:pt x="90" y="556"/>
                </a:cubicBezTo>
                <a:cubicBezTo>
                  <a:pt x="94" y="553"/>
                  <a:pt x="97" y="550"/>
                  <a:pt x="102" y="550"/>
                </a:cubicBezTo>
                <a:cubicBezTo>
                  <a:pt x="106" y="550"/>
                  <a:pt x="113" y="554"/>
                  <a:pt x="122" y="560"/>
                </a:cubicBezTo>
                <a:cubicBezTo>
                  <a:pt x="122" y="560"/>
                  <a:pt x="122" y="560"/>
                  <a:pt x="122" y="560"/>
                </a:cubicBezTo>
                <a:cubicBezTo>
                  <a:pt x="123" y="560"/>
                  <a:pt x="123" y="560"/>
                  <a:pt x="123" y="560"/>
                </a:cubicBezTo>
                <a:cubicBezTo>
                  <a:pt x="123" y="561"/>
                  <a:pt x="123" y="561"/>
                  <a:pt x="123" y="561"/>
                </a:cubicBezTo>
                <a:cubicBezTo>
                  <a:pt x="134" y="574"/>
                  <a:pt x="134" y="574"/>
                  <a:pt x="134" y="574"/>
                </a:cubicBezTo>
                <a:cubicBezTo>
                  <a:pt x="139" y="586"/>
                  <a:pt x="139" y="586"/>
                  <a:pt x="139" y="586"/>
                </a:cubicBezTo>
                <a:cubicBezTo>
                  <a:pt x="143" y="592"/>
                  <a:pt x="143" y="592"/>
                  <a:pt x="143" y="592"/>
                </a:cubicBezTo>
                <a:cubicBezTo>
                  <a:pt x="147" y="594"/>
                  <a:pt x="147" y="594"/>
                  <a:pt x="147" y="594"/>
                </a:cubicBezTo>
                <a:cubicBezTo>
                  <a:pt x="160" y="603"/>
                  <a:pt x="160" y="603"/>
                  <a:pt x="160" y="603"/>
                </a:cubicBezTo>
                <a:cubicBezTo>
                  <a:pt x="168" y="604"/>
                  <a:pt x="168" y="604"/>
                  <a:pt x="168" y="604"/>
                </a:cubicBezTo>
                <a:cubicBezTo>
                  <a:pt x="172" y="605"/>
                  <a:pt x="176" y="609"/>
                  <a:pt x="179" y="613"/>
                </a:cubicBezTo>
                <a:cubicBezTo>
                  <a:pt x="181" y="616"/>
                  <a:pt x="193" y="620"/>
                  <a:pt x="213" y="625"/>
                </a:cubicBezTo>
                <a:cubicBezTo>
                  <a:pt x="214" y="625"/>
                  <a:pt x="214" y="625"/>
                  <a:pt x="214" y="625"/>
                </a:cubicBezTo>
                <a:cubicBezTo>
                  <a:pt x="246" y="637"/>
                  <a:pt x="246" y="637"/>
                  <a:pt x="246" y="637"/>
                </a:cubicBezTo>
                <a:cubicBezTo>
                  <a:pt x="247" y="637"/>
                  <a:pt x="247" y="637"/>
                  <a:pt x="247" y="637"/>
                </a:cubicBezTo>
                <a:cubicBezTo>
                  <a:pt x="248" y="637"/>
                  <a:pt x="248" y="637"/>
                  <a:pt x="248" y="637"/>
                </a:cubicBezTo>
                <a:cubicBezTo>
                  <a:pt x="270" y="648"/>
                  <a:pt x="270" y="648"/>
                  <a:pt x="270" y="648"/>
                </a:cubicBezTo>
                <a:cubicBezTo>
                  <a:pt x="308" y="657"/>
                  <a:pt x="308" y="657"/>
                  <a:pt x="308" y="657"/>
                </a:cubicBezTo>
                <a:cubicBezTo>
                  <a:pt x="309" y="658"/>
                  <a:pt x="309" y="658"/>
                  <a:pt x="309" y="658"/>
                </a:cubicBezTo>
                <a:cubicBezTo>
                  <a:pt x="359" y="660"/>
                  <a:pt x="359" y="660"/>
                  <a:pt x="359" y="660"/>
                </a:cubicBezTo>
                <a:cubicBezTo>
                  <a:pt x="381" y="652"/>
                  <a:pt x="381" y="652"/>
                  <a:pt x="381" y="652"/>
                </a:cubicBezTo>
                <a:cubicBezTo>
                  <a:pt x="401" y="652"/>
                  <a:pt x="401" y="652"/>
                  <a:pt x="401" y="652"/>
                </a:cubicBezTo>
                <a:cubicBezTo>
                  <a:pt x="401" y="653"/>
                  <a:pt x="401" y="653"/>
                  <a:pt x="401" y="653"/>
                </a:cubicBezTo>
                <a:cubicBezTo>
                  <a:pt x="402" y="654"/>
                  <a:pt x="402" y="654"/>
                  <a:pt x="402" y="654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6"/>
                  <a:pt x="419" y="676"/>
                  <a:pt x="419" y="676"/>
                </a:cubicBezTo>
                <a:cubicBezTo>
                  <a:pt x="429" y="693"/>
                  <a:pt x="429" y="693"/>
                  <a:pt x="429" y="693"/>
                </a:cubicBezTo>
                <a:cubicBezTo>
                  <a:pt x="438" y="702"/>
                  <a:pt x="438" y="702"/>
                  <a:pt x="438" y="702"/>
                </a:cubicBezTo>
                <a:cubicBezTo>
                  <a:pt x="449" y="708"/>
                  <a:pt x="449" y="708"/>
                  <a:pt x="449" y="708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2" y="710"/>
                  <a:pt x="452" y="710"/>
                  <a:pt x="452" y="710"/>
                </a:cubicBezTo>
                <a:cubicBezTo>
                  <a:pt x="461" y="731"/>
                  <a:pt x="461" y="731"/>
                  <a:pt x="461" y="731"/>
                </a:cubicBezTo>
                <a:cubicBezTo>
                  <a:pt x="461" y="732"/>
                  <a:pt x="461" y="732"/>
                  <a:pt x="461" y="732"/>
                </a:cubicBezTo>
                <a:cubicBezTo>
                  <a:pt x="462" y="732"/>
                  <a:pt x="462" y="732"/>
                  <a:pt x="462" y="732"/>
                </a:cubicBezTo>
                <a:cubicBezTo>
                  <a:pt x="462" y="733"/>
                  <a:pt x="462" y="733"/>
                  <a:pt x="462" y="733"/>
                </a:cubicBezTo>
                <a:cubicBezTo>
                  <a:pt x="467" y="756"/>
                  <a:pt x="467" y="756"/>
                  <a:pt x="467" y="756"/>
                </a:cubicBezTo>
                <a:cubicBezTo>
                  <a:pt x="482" y="762"/>
                  <a:pt x="482" y="762"/>
                  <a:pt x="482" y="762"/>
                </a:cubicBezTo>
                <a:cubicBezTo>
                  <a:pt x="483" y="762"/>
                  <a:pt x="483" y="762"/>
                  <a:pt x="483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96" y="769"/>
                  <a:pt x="496" y="769"/>
                  <a:pt x="496" y="769"/>
                </a:cubicBezTo>
                <a:cubicBezTo>
                  <a:pt x="512" y="766"/>
                  <a:pt x="512" y="766"/>
                  <a:pt x="512" y="766"/>
                </a:cubicBezTo>
                <a:cubicBezTo>
                  <a:pt x="516" y="750"/>
                  <a:pt x="516" y="750"/>
                  <a:pt x="516" y="750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7" y="748"/>
                  <a:pt x="517" y="748"/>
                  <a:pt x="517" y="748"/>
                </a:cubicBezTo>
                <a:cubicBezTo>
                  <a:pt x="535" y="730"/>
                  <a:pt x="535" y="730"/>
                  <a:pt x="535" y="730"/>
                </a:cubicBezTo>
                <a:cubicBezTo>
                  <a:pt x="555" y="735"/>
                  <a:pt x="555" y="735"/>
                  <a:pt x="555" y="735"/>
                </a:cubicBezTo>
                <a:cubicBezTo>
                  <a:pt x="555" y="737"/>
                  <a:pt x="555" y="737"/>
                  <a:pt x="555" y="737"/>
                </a:cubicBezTo>
                <a:cubicBezTo>
                  <a:pt x="565" y="758"/>
                  <a:pt x="565" y="758"/>
                  <a:pt x="565" y="758"/>
                </a:cubicBezTo>
                <a:cubicBezTo>
                  <a:pt x="585" y="751"/>
                  <a:pt x="585" y="751"/>
                  <a:pt x="585" y="751"/>
                </a:cubicBezTo>
                <a:cubicBezTo>
                  <a:pt x="587" y="731"/>
                  <a:pt x="587" y="731"/>
                  <a:pt x="587" y="731"/>
                </a:cubicBezTo>
                <a:cubicBezTo>
                  <a:pt x="587" y="730"/>
                  <a:pt x="587" y="730"/>
                  <a:pt x="587" y="730"/>
                </a:cubicBezTo>
                <a:cubicBezTo>
                  <a:pt x="587" y="729"/>
                  <a:pt x="587" y="729"/>
                  <a:pt x="587" y="729"/>
                </a:cubicBezTo>
                <a:cubicBezTo>
                  <a:pt x="588" y="728"/>
                  <a:pt x="588" y="728"/>
                  <a:pt x="588" y="728"/>
                </a:cubicBezTo>
                <a:cubicBezTo>
                  <a:pt x="601" y="720"/>
                  <a:pt x="601" y="720"/>
                  <a:pt x="601" y="720"/>
                </a:cubicBezTo>
                <a:cubicBezTo>
                  <a:pt x="598" y="691"/>
                  <a:pt x="598" y="691"/>
                  <a:pt x="598" y="691"/>
                </a:cubicBezTo>
                <a:cubicBezTo>
                  <a:pt x="598" y="689"/>
                  <a:pt x="598" y="689"/>
                  <a:pt x="598" y="689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614" y="655"/>
                  <a:pt x="614" y="655"/>
                  <a:pt x="614" y="655"/>
                </a:cubicBezTo>
                <a:cubicBezTo>
                  <a:pt x="630" y="649"/>
                  <a:pt x="630" y="649"/>
                  <a:pt x="630" y="649"/>
                </a:cubicBezTo>
                <a:cubicBezTo>
                  <a:pt x="624" y="619"/>
                  <a:pt x="624" y="619"/>
                  <a:pt x="624" y="619"/>
                </a:cubicBezTo>
                <a:cubicBezTo>
                  <a:pt x="639" y="619"/>
                  <a:pt x="639" y="619"/>
                  <a:pt x="639" y="619"/>
                </a:cubicBezTo>
                <a:cubicBezTo>
                  <a:pt x="638" y="605"/>
                  <a:pt x="638" y="605"/>
                  <a:pt x="638" y="605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5"/>
                  <a:pt x="630" y="575"/>
                  <a:pt x="630" y="575"/>
                </a:cubicBezTo>
                <a:cubicBezTo>
                  <a:pt x="632" y="555"/>
                  <a:pt x="632" y="555"/>
                  <a:pt x="632" y="555"/>
                </a:cubicBezTo>
                <a:cubicBezTo>
                  <a:pt x="632" y="552"/>
                  <a:pt x="632" y="552"/>
                  <a:pt x="632" y="552"/>
                </a:cubicBezTo>
                <a:cubicBezTo>
                  <a:pt x="634" y="550"/>
                  <a:pt x="634" y="550"/>
                  <a:pt x="634" y="550"/>
                </a:cubicBezTo>
                <a:cubicBezTo>
                  <a:pt x="645" y="537"/>
                  <a:pt x="645" y="537"/>
                  <a:pt x="645" y="537"/>
                </a:cubicBezTo>
                <a:cubicBezTo>
                  <a:pt x="647" y="535"/>
                  <a:pt x="647" y="535"/>
                  <a:pt x="647" y="535"/>
                </a:cubicBezTo>
                <a:cubicBezTo>
                  <a:pt x="650" y="535"/>
                  <a:pt x="650" y="535"/>
                  <a:pt x="650" y="535"/>
                </a:cubicBezTo>
                <a:cubicBezTo>
                  <a:pt x="678" y="540"/>
                  <a:pt x="678" y="540"/>
                  <a:pt x="678" y="540"/>
                </a:cubicBezTo>
                <a:cubicBezTo>
                  <a:pt x="680" y="540"/>
                  <a:pt x="680" y="540"/>
                  <a:pt x="680" y="540"/>
                </a:cubicBezTo>
                <a:cubicBezTo>
                  <a:pt x="703" y="546"/>
                  <a:pt x="703" y="546"/>
                  <a:pt x="703" y="546"/>
                </a:cubicBezTo>
                <a:cubicBezTo>
                  <a:pt x="723" y="540"/>
                  <a:pt x="723" y="540"/>
                  <a:pt x="723" y="540"/>
                </a:cubicBezTo>
                <a:cubicBezTo>
                  <a:pt x="734" y="563"/>
                  <a:pt x="734" y="563"/>
                  <a:pt x="734" y="563"/>
                </a:cubicBezTo>
                <a:cubicBezTo>
                  <a:pt x="735" y="564"/>
                  <a:pt x="735" y="564"/>
                  <a:pt x="735" y="564"/>
                </a:cubicBezTo>
                <a:cubicBezTo>
                  <a:pt x="735" y="581"/>
                  <a:pt x="735" y="581"/>
                  <a:pt x="735" y="581"/>
                </a:cubicBezTo>
                <a:cubicBezTo>
                  <a:pt x="739" y="597"/>
                  <a:pt x="739" y="597"/>
                  <a:pt x="739" y="597"/>
                </a:cubicBezTo>
                <a:cubicBezTo>
                  <a:pt x="741" y="603"/>
                  <a:pt x="745" y="607"/>
                  <a:pt x="749" y="609"/>
                </a:cubicBezTo>
                <a:cubicBezTo>
                  <a:pt x="751" y="609"/>
                  <a:pt x="751" y="609"/>
                  <a:pt x="751" y="609"/>
                </a:cubicBezTo>
                <a:cubicBezTo>
                  <a:pt x="761" y="611"/>
                  <a:pt x="766" y="615"/>
                  <a:pt x="767" y="621"/>
                </a:cubicBezTo>
                <a:cubicBezTo>
                  <a:pt x="768" y="626"/>
                  <a:pt x="772" y="634"/>
                  <a:pt x="780" y="642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7"/>
                  <a:pt x="789" y="657"/>
                  <a:pt x="789" y="657"/>
                </a:cubicBezTo>
                <a:cubicBezTo>
                  <a:pt x="796" y="669"/>
                  <a:pt x="796" y="669"/>
                  <a:pt x="796" y="669"/>
                </a:cubicBezTo>
                <a:cubicBezTo>
                  <a:pt x="805" y="668"/>
                  <a:pt x="805" y="668"/>
                  <a:pt x="805" y="668"/>
                </a:cubicBezTo>
                <a:cubicBezTo>
                  <a:pt x="823" y="652"/>
                  <a:pt x="823" y="652"/>
                  <a:pt x="823" y="652"/>
                </a:cubicBezTo>
                <a:cubicBezTo>
                  <a:pt x="835" y="676"/>
                  <a:pt x="835" y="676"/>
                  <a:pt x="835" y="676"/>
                </a:cubicBezTo>
                <a:cubicBezTo>
                  <a:pt x="858" y="683"/>
                  <a:pt x="858" y="683"/>
                  <a:pt x="858" y="683"/>
                </a:cubicBezTo>
                <a:cubicBezTo>
                  <a:pt x="859" y="683"/>
                  <a:pt x="859" y="683"/>
                  <a:pt x="859" y="683"/>
                </a:cubicBezTo>
                <a:cubicBezTo>
                  <a:pt x="860" y="684"/>
                  <a:pt x="860" y="684"/>
                  <a:pt x="860" y="684"/>
                </a:cubicBezTo>
                <a:cubicBezTo>
                  <a:pt x="872" y="706"/>
                  <a:pt x="872" y="706"/>
                  <a:pt x="872" y="706"/>
                </a:cubicBezTo>
                <a:cubicBezTo>
                  <a:pt x="877" y="709"/>
                  <a:pt x="877" y="709"/>
                  <a:pt x="877" y="709"/>
                </a:cubicBezTo>
                <a:cubicBezTo>
                  <a:pt x="878" y="689"/>
                  <a:pt x="878" y="689"/>
                  <a:pt x="878" y="689"/>
                </a:cubicBezTo>
                <a:cubicBezTo>
                  <a:pt x="878" y="688"/>
                  <a:pt x="878" y="688"/>
                  <a:pt x="878" y="688"/>
                </a:cubicBezTo>
                <a:cubicBezTo>
                  <a:pt x="878" y="684"/>
                  <a:pt x="878" y="684"/>
                  <a:pt x="878" y="684"/>
                </a:cubicBezTo>
                <a:cubicBezTo>
                  <a:pt x="924" y="683"/>
                  <a:pt x="924" y="683"/>
                  <a:pt x="924" y="683"/>
                </a:cubicBezTo>
                <a:cubicBezTo>
                  <a:pt x="925" y="679"/>
                  <a:pt x="925" y="679"/>
                  <a:pt x="925" y="679"/>
                </a:cubicBezTo>
                <a:cubicBezTo>
                  <a:pt x="927" y="677"/>
                  <a:pt x="927" y="673"/>
                  <a:pt x="924" y="670"/>
                </a:cubicBezTo>
                <a:cubicBezTo>
                  <a:pt x="921" y="663"/>
                  <a:pt x="920" y="658"/>
                  <a:pt x="919" y="651"/>
                </a:cubicBezTo>
                <a:cubicBezTo>
                  <a:pt x="918" y="642"/>
                  <a:pt x="919" y="636"/>
                  <a:pt x="921" y="634"/>
                </a:cubicBezTo>
                <a:cubicBezTo>
                  <a:pt x="924" y="630"/>
                  <a:pt x="927" y="630"/>
                  <a:pt x="932" y="631"/>
                </a:cubicBezTo>
                <a:cubicBezTo>
                  <a:pt x="951" y="637"/>
                  <a:pt x="951" y="637"/>
                  <a:pt x="951" y="637"/>
                </a:cubicBezTo>
                <a:cubicBezTo>
                  <a:pt x="953" y="623"/>
                  <a:pt x="953" y="623"/>
                  <a:pt x="953" y="623"/>
                </a:cubicBezTo>
                <a:cubicBezTo>
                  <a:pt x="918" y="607"/>
                  <a:pt x="918" y="607"/>
                  <a:pt x="918" y="607"/>
                </a:cubicBezTo>
                <a:cubicBezTo>
                  <a:pt x="916" y="607"/>
                  <a:pt x="916" y="607"/>
                  <a:pt x="916" y="607"/>
                </a:cubicBezTo>
                <a:cubicBezTo>
                  <a:pt x="915" y="605"/>
                  <a:pt x="915" y="605"/>
                  <a:pt x="915" y="605"/>
                </a:cubicBezTo>
                <a:cubicBezTo>
                  <a:pt x="915" y="604"/>
                  <a:pt x="915" y="604"/>
                  <a:pt x="915" y="604"/>
                </a:cubicBezTo>
                <a:cubicBezTo>
                  <a:pt x="915" y="603"/>
                  <a:pt x="915" y="603"/>
                  <a:pt x="915" y="603"/>
                </a:cubicBezTo>
                <a:cubicBezTo>
                  <a:pt x="910" y="561"/>
                  <a:pt x="910" y="561"/>
                  <a:pt x="910" y="561"/>
                </a:cubicBezTo>
                <a:cubicBezTo>
                  <a:pt x="911" y="535"/>
                  <a:pt x="911" y="535"/>
                  <a:pt x="911" y="535"/>
                </a:cubicBezTo>
                <a:cubicBezTo>
                  <a:pt x="911" y="531"/>
                  <a:pt x="911" y="531"/>
                  <a:pt x="911" y="531"/>
                </a:cubicBezTo>
                <a:cubicBezTo>
                  <a:pt x="911" y="529"/>
                  <a:pt x="911" y="529"/>
                  <a:pt x="911" y="529"/>
                </a:cubicBezTo>
                <a:cubicBezTo>
                  <a:pt x="969" y="537"/>
                  <a:pt x="969" y="537"/>
                  <a:pt x="969" y="537"/>
                </a:cubicBezTo>
                <a:cubicBezTo>
                  <a:pt x="983" y="523"/>
                  <a:pt x="983" y="523"/>
                  <a:pt x="983" y="523"/>
                </a:cubicBezTo>
                <a:cubicBezTo>
                  <a:pt x="987" y="518"/>
                  <a:pt x="986" y="514"/>
                  <a:pt x="983" y="512"/>
                </a:cubicBezTo>
                <a:cubicBezTo>
                  <a:pt x="969" y="507"/>
                  <a:pt x="961" y="501"/>
                  <a:pt x="961" y="495"/>
                </a:cubicBezTo>
                <a:cubicBezTo>
                  <a:pt x="961" y="491"/>
                  <a:pt x="962" y="487"/>
                  <a:pt x="968" y="485"/>
                </a:cubicBezTo>
                <a:cubicBezTo>
                  <a:pt x="992" y="461"/>
                  <a:pt x="992" y="461"/>
                  <a:pt x="992" y="461"/>
                </a:cubicBezTo>
                <a:cubicBezTo>
                  <a:pt x="1018" y="460"/>
                  <a:pt x="1018" y="460"/>
                  <a:pt x="1018" y="460"/>
                </a:cubicBezTo>
                <a:cubicBezTo>
                  <a:pt x="1032" y="436"/>
                  <a:pt x="1032" y="436"/>
                  <a:pt x="1032" y="436"/>
                </a:cubicBezTo>
                <a:cubicBezTo>
                  <a:pt x="1032" y="414"/>
                  <a:pt x="1032" y="414"/>
                  <a:pt x="1032" y="414"/>
                </a:cubicBezTo>
                <a:cubicBezTo>
                  <a:pt x="1052" y="410"/>
                  <a:pt x="1052" y="410"/>
                  <a:pt x="1052" y="410"/>
                </a:cubicBezTo>
                <a:cubicBezTo>
                  <a:pt x="1057" y="394"/>
                  <a:pt x="1061" y="386"/>
                  <a:pt x="1063" y="383"/>
                </a:cubicBezTo>
                <a:cubicBezTo>
                  <a:pt x="1071" y="365"/>
                  <a:pt x="1071" y="365"/>
                  <a:pt x="1071" y="365"/>
                </a:cubicBezTo>
                <a:cubicBezTo>
                  <a:pt x="1056" y="338"/>
                  <a:pt x="1056" y="338"/>
                  <a:pt x="1056" y="338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6"/>
                  <a:pt x="1056" y="336"/>
                  <a:pt x="1056" y="336"/>
                </a:cubicBezTo>
                <a:cubicBezTo>
                  <a:pt x="1047" y="300"/>
                  <a:pt x="1047" y="300"/>
                  <a:pt x="1047" y="300"/>
                </a:cubicBezTo>
                <a:cubicBezTo>
                  <a:pt x="1047" y="299"/>
                  <a:pt x="1047" y="299"/>
                  <a:pt x="1047" y="299"/>
                </a:cubicBezTo>
                <a:cubicBezTo>
                  <a:pt x="1040" y="262"/>
                  <a:pt x="1040" y="262"/>
                  <a:pt x="1040" y="262"/>
                </a:cubicBezTo>
                <a:cubicBezTo>
                  <a:pt x="1028" y="241"/>
                  <a:pt x="1028" y="241"/>
                  <a:pt x="1028" y="241"/>
                </a:cubicBezTo>
                <a:cubicBezTo>
                  <a:pt x="1009" y="222"/>
                  <a:pt x="1009" y="222"/>
                  <a:pt x="1009" y="222"/>
                </a:cubicBezTo>
                <a:cubicBezTo>
                  <a:pt x="1009" y="221"/>
                  <a:pt x="1009" y="221"/>
                  <a:pt x="1009" y="221"/>
                </a:cubicBezTo>
                <a:cubicBezTo>
                  <a:pt x="1009" y="220"/>
                  <a:pt x="1009" y="220"/>
                  <a:pt x="1009" y="220"/>
                </a:cubicBezTo>
                <a:cubicBezTo>
                  <a:pt x="1008" y="219"/>
                  <a:pt x="1008" y="219"/>
                  <a:pt x="1008" y="219"/>
                </a:cubicBezTo>
                <a:cubicBezTo>
                  <a:pt x="1007" y="199"/>
                  <a:pt x="1007" y="199"/>
                  <a:pt x="1007" y="199"/>
                </a:cubicBezTo>
                <a:cubicBezTo>
                  <a:pt x="972" y="210"/>
                  <a:pt x="972" y="210"/>
                  <a:pt x="972" y="210"/>
                </a:cubicBezTo>
                <a:cubicBezTo>
                  <a:pt x="971" y="208"/>
                  <a:pt x="971" y="208"/>
                  <a:pt x="971" y="208"/>
                </a:cubicBezTo>
                <a:cubicBezTo>
                  <a:pt x="955" y="191"/>
                  <a:pt x="955" y="191"/>
                  <a:pt x="955" y="191"/>
                </a:cubicBezTo>
                <a:cubicBezTo>
                  <a:pt x="908" y="155"/>
                  <a:pt x="908" y="155"/>
                  <a:pt x="908" y="155"/>
                </a:cubicBezTo>
                <a:cubicBezTo>
                  <a:pt x="906" y="155"/>
                  <a:pt x="906" y="155"/>
                  <a:pt x="906" y="155"/>
                </a:cubicBezTo>
                <a:cubicBezTo>
                  <a:pt x="889" y="131"/>
                  <a:pt x="889" y="131"/>
                  <a:pt x="889" y="131"/>
                </a:cubicBezTo>
                <a:cubicBezTo>
                  <a:pt x="877" y="124"/>
                  <a:pt x="877" y="124"/>
                  <a:pt x="877" y="124"/>
                </a:cubicBezTo>
                <a:cubicBezTo>
                  <a:pt x="870" y="136"/>
                  <a:pt x="870" y="136"/>
                  <a:pt x="870" y="136"/>
                </a:cubicBezTo>
                <a:cubicBezTo>
                  <a:pt x="870" y="138"/>
                  <a:pt x="870" y="138"/>
                  <a:pt x="870" y="138"/>
                </a:cubicBezTo>
                <a:cubicBezTo>
                  <a:pt x="868" y="139"/>
                  <a:pt x="868" y="139"/>
                  <a:pt x="868" y="139"/>
                </a:cubicBezTo>
                <a:cubicBezTo>
                  <a:pt x="867" y="139"/>
                  <a:pt x="867" y="139"/>
                  <a:pt x="867" y="139"/>
                </a:cubicBezTo>
                <a:cubicBezTo>
                  <a:pt x="865" y="139"/>
                  <a:pt x="865" y="139"/>
                  <a:pt x="865" y="139"/>
                </a:cubicBezTo>
                <a:cubicBezTo>
                  <a:pt x="851" y="140"/>
                  <a:pt x="851" y="140"/>
                  <a:pt x="851" y="140"/>
                </a:cubicBezTo>
                <a:cubicBezTo>
                  <a:pt x="848" y="141"/>
                  <a:pt x="848" y="141"/>
                  <a:pt x="848" y="141"/>
                </a:cubicBezTo>
                <a:cubicBezTo>
                  <a:pt x="847" y="141"/>
                  <a:pt x="847" y="141"/>
                  <a:pt x="847" y="141"/>
                </a:cubicBezTo>
                <a:cubicBezTo>
                  <a:pt x="813" y="103"/>
                  <a:pt x="813" y="103"/>
                  <a:pt x="813" y="103"/>
                </a:cubicBezTo>
                <a:cubicBezTo>
                  <a:pt x="805" y="100"/>
                  <a:pt x="798" y="92"/>
                  <a:pt x="787" y="82"/>
                </a:cubicBezTo>
                <a:cubicBezTo>
                  <a:pt x="771" y="70"/>
                  <a:pt x="771" y="70"/>
                  <a:pt x="771" y="70"/>
                </a:cubicBezTo>
                <a:cubicBezTo>
                  <a:pt x="770" y="69"/>
                  <a:pt x="770" y="69"/>
                  <a:pt x="770" y="69"/>
                </a:cubicBezTo>
                <a:cubicBezTo>
                  <a:pt x="752" y="59"/>
                  <a:pt x="752" y="59"/>
                  <a:pt x="752" y="59"/>
                </a:cubicBezTo>
                <a:cubicBezTo>
                  <a:pt x="742" y="67"/>
                  <a:pt x="742" y="67"/>
                  <a:pt x="742" y="67"/>
                </a:cubicBezTo>
                <a:cubicBezTo>
                  <a:pt x="741" y="69"/>
                  <a:pt x="741" y="69"/>
                  <a:pt x="741" y="69"/>
                </a:cubicBezTo>
                <a:cubicBezTo>
                  <a:pt x="740" y="68"/>
                  <a:pt x="740" y="68"/>
                  <a:pt x="740" y="68"/>
                </a:cubicBezTo>
                <a:cubicBezTo>
                  <a:pt x="739" y="68"/>
                  <a:pt x="739" y="68"/>
                  <a:pt x="739" y="68"/>
                </a:cubicBezTo>
                <a:cubicBezTo>
                  <a:pt x="729" y="66"/>
                  <a:pt x="729" y="66"/>
                  <a:pt x="729" y="66"/>
                </a:cubicBezTo>
                <a:cubicBezTo>
                  <a:pt x="719" y="71"/>
                  <a:pt x="719" y="71"/>
                  <a:pt x="719" y="71"/>
                </a:cubicBezTo>
                <a:cubicBezTo>
                  <a:pt x="718" y="72"/>
                  <a:pt x="718" y="72"/>
                  <a:pt x="718" y="72"/>
                </a:cubicBezTo>
                <a:cubicBezTo>
                  <a:pt x="716" y="73"/>
                  <a:pt x="716" y="73"/>
                  <a:pt x="716" y="73"/>
                </a:cubicBezTo>
                <a:cubicBezTo>
                  <a:pt x="715" y="73"/>
                  <a:pt x="715" y="73"/>
                  <a:pt x="715" y="73"/>
                </a:cubicBezTo>
                <a:cubicBezTo>
                  <a:pt x="701" y="76"/>
                  <a:pt x="701" y="76"/>
                  <a:pt x="701" y="76"/>
                </a:cubicBezTo>
                <a:cubicBezTo>
                  <a:pt x="681" y="64"/>
                  <a:pt x="661" y="52"/>
                  <a:pt x="639" y="40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18"/>
          <p:cNvSpPr/>
          <p:nvPr/>
        </p:nvSpPr>
        <p:spPr>
          <a:xfrm>
            <a:off x="4929120" y="3654360"/>
            <a:ext cx="571680" cy="560520"/>
          </a:xfrm>
          <a:custGeom>
            <a:avLst/>
            <a:gdLst/>
            <a:ahLst/>
            <a:rect l="l" t="t" r="r" b="b"/>
            <a:pathLst>
              <a:path w="457" h="529">
                <a:moveTo>
                  <a:pt x="395" y="90"/>
                </a:moveTo>
                <a:cubicBezTo>
                  <a:pt x="396" y="89"/>
                  <a:pt x="396" y="89"/>
                  <a:pt x="396" y="89"/>
                </a:cubicBezTo>
                <a:cubicBezTo>
                  <a:pt x="394" y="89"/>
                  <a:pt x="394" y="89"/>
                  <a:pt x="394" y="89"/>
                </a:cubicBezTo>
                <a:cubicBezTo>
                  <a:pt x="394" y="87"/>
                  <a:pt x="394" y="87"/>
                  <a:pt x="394" y="87"/>
                </a:cubicBezTo>
                <a:cubicBezTo>
                  <a:pt x="386" y="71"/>
                  <a:pt x="386" y="71"/>
                  <a:pt x="386" y="71"/>
                </a:cubicBezTo>
                <a:cubicBezTo>
                  <a:pt x="385" y="70"/>
                  <a:pt x="385" y="70"/>
                  <a:pt x="385" y="70"/>
                </a:cubicBezTo>
                <a:cubicBezTo>
                  <a:pt x="385" y="68"/>
                  <a:pt x="385" y="68"/>
                  <a:pt x="385" y="68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7" y="40"/>
                  <a:pt x="384" y="37"/>
                  <a:pt x="377" y="32"/>
                </a:cubicBezTo>
                <a:cubicBezTo>
                  <a:pt x="371" y="32"/>
                  <a:pt x="371" y="32"/>
                  <a:pt x="371" y="32"/>
                </a:cubicBezTo>
                <a:cubicBezTo>
                  <a:pt x="361" y="45"/>
                  <a:pt x="361" y="45"/>
                  <a:pt x="361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33" y="58"/>
                  <a:pt x="333" y="58"/>
                  <a:pt x="333" y="58"/>
                </a:cubicBezTo>
                <a:cubicBezTo>
                  <a:pt x="329" y="40"/>
                  <a:pt x="329" y="40"/>
                  <a:pt x="329" y="40"/>
                </a:cubicBezTo>
                <a:cubicBezTo>
                  <a:pt x="329" y="38"/>
                  <a:pt x="329" y="38"/>
                  <a:pt x="329" y="38"/>
                </a:cubicBezTo>
                <a:cubicBezTo>
                  <a:pt x="331" y="29"/>
                  <a:pt x="331" y="29"/>
                  <a:pt x="331" y="29"/>
                </a:cubicBezTo>
                <a:cubicBezTo>
                  <a:pt x="329" y="19"/>
                  <a:pt x="329" y="19"/>
                  <a:pt x="329" y="19"/>
                </a:cubicBezTo>
                <a:cubicBezTo>
                  <a:pt x="326" y="18"/>
                  <a:pt x="326" y="18"/>
                  <a:pt x="326" y="18"/>
                </a:cubicBezTo>
                <a:cubicBezTo>
                  <a:pt x="321" y="26"/>
                  <a:pt x="321" y="26"/>
                  <a:pt x="321" y="26"/>
                </a:cubicBezTo>
                <a:cubicBezTo>
                  <a:pt x="320" y="26"/>
                  <a:pt x="320" y="26"/>
                  <a:pt x="320" y="26"/>
                </a:cubicBezTo>
                <a:cubicBezTo>
                  <a:pt x="320" y="27"/>
                  <a:pt x="320" y="27"/>
                  <a:pt x="320" y="27"/>
                </a:cubicBezTo>
                <a:cubicBezTo>
                  <a:pt x="288" y="56"/>
                  <a:pt x="288" y="56"/>
                  <a:pt x="288" y="56"/>
                </a:cubicBezTo>
                <a:cubicBezTo>
                  <a:pt x="287" y="58"/>
                  <a:pt x="287" y="58"/>
                  <a:pt x="287" y="58"/>
                </a:cubicBezTo>
                <a:cubicBezTo>
                  <a:pt x="286" y="58"/>
                  <a:pt x="286" y="58"/>
                  <a:pt x="286" y="58"/>
                </a:cubicBezTo>
                <a:cubicBezTo>
                  <a:pt x="283" y="58"/>
                  <a:pt x="283" y="58"/>
                  <a:pt x="283" y="58"/>
                </a:cubicBezTo>
                <a:cubicBezTo>
                  <a:pt x="281" y="58"/>
                  <a:pt x="281" y="58"/>
                  <a:pt x="281" y="58"/>
                </a:cubicBezTo>
                <a:cubicBezTo>
                  <a:pt x="272" y="53"/>
                  <a:pt x="272" y="53"/>
                  <a:pt x="272" y="53"/>
                </a:cubicBezTo>
                <a:cubicBezTo>
                  <a:pt x="271" y="52"/>
                  <a:pt x="271" y="52"/>
                  <a:pt x="271" y="52"/>
                </a:cubicBezTo>
                <a:cubicBezTo>
                  <a:pt x="260" y="43"/>
                  <a:pt x="260" y="43"/>
                  <a:pt x="260" y="43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2" y="36"/>
                  <a:pt x="242" y="36"/>
                  <a:pt x="242" y="36"/>
                </a:cubicBezTo>
                <a:cubicBezTo>
                  <a:pt x="232" y="28"/>
                  <a:pt x="232" y="28"/>
                  <a:pt x="232" y="28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6" y="21"/>
                  <a:pt x="196" y="21"/>
                  <a:pt x="196" y="21"/>
                </a:cubicBezTo>
                <a:cubicBezTo>
                  <a:pt x="173" y="9"/>
                  <a:pt x="173" y="9"/>
                  <a:pt x="173" y="9"/>
                </a:cubicBezTo>
                <a:cubicBezTo>
                  <a:pt x="173" y="10"/>
                  <a:pt x="173" y="10"/>
                  <a:pt x="173" y="10"/>
                </a:cubicBezTo>
                <a:cubicBezTo>
                  <a:pt x="155" y="2"/>
                  <a:pt x="155" y="2"/>
                  <a:pt x="155" y="2"/>
                </a:cubicBezTo>
                <a:cubicBezTo>
                  <a:pt x="132" y="0"/>
                  <a:pt x="132" y="0"/>
                  <a:pt x="132" y="0"/>
                </a:cubicBezTo>
                <a:cubicBezTo>
                  <a:pt x="123" y="1"/>
                  <a:pt x="123" y="1"/>
                  <a:pt x="123" y="1"/>
                </a:cubicBezTo>
                <a:cubicBezTo>
                  <a:pt x="130" y="40"/>
                  <a:pt x="130" y="40"/>
                  <a:pt x="130" y="40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04" y="42"/>
                  <a:pt x="104" y="42"/>
                  <a:pt x="104" y="42"/>
                </a:cubicBezTo>
                <a:cubicBezTo>
                  <a:pt x="91" y="42"/>
                  <a:pt x="91" y="42"/>
                  <a:pt x="91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78" y="33"/>
                  <a:pt x="78" y="33"/>
                  <a:pt x="78" y="33"/>
                </a:cubicBezTo>
                <a:cubicBezTo>
                  <a:pt x="57" y="43"/>
                  <a:pt x="57" y="43"/>
                  <a:pt x="57" y="43"/>
                </a:cubicBezTo>
                <a:cubicBezTo>
                  <a:pt x="38" y="68"/>
                  <a:pt x="38" y="68"/>
                  <a:pt x="38" y="6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6" y="163"/>
                  <a:pt x="26" y="163"/>
                  <a:pt x="26" y="163"/>
                </a:cubicBezTo>
                <a:cubicBezTo>
                  <a:pt x="33" y="192"/>
                  <a:pt x="33" y="192"/>
                  <a:pt x="33" y="192"/>
                </a:cubicBezTo>
                <a:cubicBezTo>
                  <a:pt x="34" y="195"/>
                  <a:pt x="34" y="196"/>
                  <a:pt x="33" y="197"/>
                </a:cubicBezTo>
                <a:cubicBezTo>
                  <a:pt x="30" y="198"/>
                  <a:pt x="30" y="198"/>
                  <a:pt x="30" y="198"/>
                </a:cubicBezTo>
                <a:cubicBezTo>
                  <a:pt x="25" y="201"/>
                  <a:pt x="23" y="209"/>
                  <a:pt x="24" y="219"/>
                </a:cubicBezTo>
                <a:cubicBezTo>
                  <a:pt x="34" y="262"/>
                  <a:pt x="34" y="262"/>
                  <a:pt x="34" y="262"/>
                </a:cubicBezTo>
                <a:cubicBezTo>
                  <a:pt x="31" y="265"/>
                  <a:pt x="31" y="265"/>
                  <a:pt x="31" y="265"/>
                </a:cubicBezTo>
                <a:cubicBezTo>
                  <a:pt x="12" y="275"/>
                  <a:pt x="3" y="284"/>
                  <a:pt x="2" y="288"/>
                </a:cubicBezTo>
                <a:cubicBezTo>
                  <a:pt x="0" y="303"/>
                  <a:pt x="0" y="303"/>
                  <a:pt x="0" y="303"/>
                </a:cubicBezTo>
                <a:cubicBezTo>
                  <a:pt x="18" y="295"/>
                  <a:pt x="18" y="295"/>
                  <a:pt x="18" y="295"/>
                </a:cubicBezTo>
                <a:cubicBezTo>
                  <a:pt x="19" y="294"/>
                  <a:pt x="19" y="294"/>
                  <a:pt x="19" y="294"/>
                </a:cubicBezTo>
                <a:cubicBezTo>
                  <a:pt x="20" y="294"/>
                  <a:pt x="20" y="294"/>
                  <a:pt x="20" y="294"/>
                </a:cubicBezTo>
                <a:cubicBezTo>
                  <a:pt x="32" y="294"/>
                  <a:pt x="40" y="298"/>
                  <a:pt x="41" y="309"/>
                </a:cubicBezTo>
                <a:cubicBezTo>
                  <a:pt x="44" y="332"/>
                  <a:pt x="44" y="332"/>
                  <a:pt x="44" y="332"/>
                </a:cubicBezTo>
                <a:cubicBezTo>
                  <a:pt x="43" y="335"/>
                  <a:pt x="43" y="335"/>
                  <a:pt x="43" y="335"/>
                </a:cubicBezTo>
                <a:cubicBezTo>
                  <a:pt x="41" y="337"/>
                  <a:pt x="41" y="337"/>
                  <a:pt x="41" y="337"/>
                </a:cubicBezTo>
                <a:cubicBezTo>
                  <a:pt x="38" y="341"/>
                  <a:pt x="35" y="344"/>
                  <a:pt x="35" y="348"/>
                </a:cubicBezTo>
                <a:cubicBezTo>
                  <a:pt x="32" y="372"/>
                  <a:pt x="32" y="372"/>
                  <a:pt x="32" y="372"/>
                </a:cubicBezTo>
                <a:cubicBezTo>
                  <a:pt x="33" y="381"/>
                  <a:pt x="37" y="387"/>
                  <a:pt x="41" y="390"/>
                </a:cubicBezTo>
                <a:cubicBezTo>
                  <a:pt x="63" y="417"/>
                  <a:pt x="63" y="417"/>
                  <a:pt x="63" y="417"/>
                </a:cubicBezTo>
                <a:cubicBezTo>
                  <a:pt x="83" y="401"/>
                  <a:pt x="83" y="401"/>
                  <a:pt x="83" y="401"/>
                </a:cubicBezTo>
                <a:cubicBezTo>
                  <a:pt x="99" y="399"/>
                  <a:pt x="99" y="399"/>
                  <a:pt x="99" y="399"/>
                </a:cubicBezTo>
                <a:cubicBezTo>
                  <a:pt x="100" y="399"/>
                  <a:pt x="100" y="399"/>
                  <a:pt x="100" y="399"/>
                </a:cubicBezTo>
                <a:cubicBezTo>
                  <a:pt x="101" y="401"/>
                  <a:pt x="101" y="401"/>
                  <a:pt x="101" y="401"/>
                </a:cubicBezTo>
                <a:cubicBezTo>
                  <a:pt x="111" y="404"/>
                  <a:pt x="111" y="404"/>
                  <a:pt x="111" y="404"/>
                </a:cubicBezTo>
                <a:cubicBezTo>
                  <a:pt x="115" y="404"/>
                  <a:pt x="118" y="403"/>
                  <a:pt x="121" y="400"/>
                </a:cubicBezTo>
                <a:cubicBezTo>
                  <a:pt x="130" y="386"/>
                  <a:pt x="130" y="386"/>
                  <a:pt x="130" y="386"/>
                </a:cubicBezTo>
                <a:cubicBezTo>
                  <a:pt x="128" y="378"/>
                  <a:pt x="128" y="378"/>
                  <a:pt x="128" y="378"/>
                </a:cubicBezTo>
                <a:cubicBezTo>
                  <a:pt x="130" y="374"/>
                  <a:pt x="134" y="372"/>
                  <a:pt x="138" y="370"/>
                </a:cubicBezTo>
                <a:cubicBezTo>
                  <a:pt x="163" y="370"/>
                  <a:pt x="163" y="370"/>
                  <a:pt x="163" y="370"/>
                </a:cubicBezTo>
                <a:cubicBezTo>
                  <a:pt x="167" y="372"/>
                  <a:pt x="171" y="371"/>
                  <a:pt x="171" y="369"/>
                </a:cubicBezTo>
                <a:cubicBezTo>
                  <a:pt x="174" y="362"/>
                  <a:pt x="177" y="359"/>
                  <a:pt x="180" y="356"/>
                </a:cubicBezTo>
                <a:cubicBezTo>
                  <a:pt x="183" y="356"/>
                  <a:pt x="188" y="357"/>
                  <a:pt x="192" y="361"/>
                </a:cubicBezTo>
                <a:cubicBezTo>
                  <a:pt x="199" y="367"/>
                  <a:pt x="204" y="372"/>
                  <a:pt x="204" y="380"/>
                </a:cubicBezTo>
                <a:cubicBezTo>
                  <a:pt x="202" y="399"/>
                  <a:pt x="202" y="399"/>
                  <a:pt x="202" y="399"/>
                </a:cubicBezTo>
                <a:cubicBezTo>
                  <a:pt x="206" y="402"/>
                  <a:pt x="206" y="402"/>
                  <a:pt x="206" y="402"/>
                </a:cubicBezTo>
                <a:cubicBezTo>
                  <a:pt x="213" y="407"/>
                  <a:pt x="217" y="412"/>
                  <a:pt x="217" y="417"/>
                </a:cubicBezTo>
                <a:cubicBezTo>
                  <a:pt x="213" y="436"/>
                  <a:pt x="213" y="436"/>
                  <a:pt x="213" y="436"/>
                </a:cubicBezTo>
                <a:cubicBezTo>
                  <a:pt x="210" y="446"/>
                  <a:pt x="206" y="453"/>
                  <a:pt x="202" y="456"/>
                </a:cubicBezTo>
                <a:cubicBezTo>
                  <a:pt x="202" y="455"/>
                  <a:pt x="202" y="455"/>
                  <a:pt x="202" y="455"/>
                </a:cubicBezTo>
                <a:cubicBezTo>
                  <a:pt x="186" y="488"/>
                  <a:pt x="186" y="488"/>
                  <a:pt x="186" y="488"/>
                </a:cubicBezTo>
                <a:cubicBezTo>
                  <a:pt x="192" y="490"/>
                  <a:pt x="192" y="490"/>
                  <a:pt x="192" y="490"/>
                </a:cubicBezTo>
                <a:cubicBezTo>
                  <a:pt x="217" y="491"/>
                  <a:pt x="217" y="491"/>
                  <a:pt x="217" y="491"/>
                </a:cubicBezTo>
                <a:cubicBezTo>
                  <a:pt x="222" y="494"/>
                  <a:pt x="222" y="494"/>
                  <a:pt x="222" y="494"/>
                </a:cubicBezTo>
                <a:cubicBezTo>
                  <a:pt x="220" y="498"/>
                  <a:pt x="220" y="498"/>
                  <a:pt x="220" y="498"/>
                </a:cubicBezTo>
                <a:cubicBezTo>
                  <a:pt x="217" y="508"/>
                  <a:pt x="216" y="516"/>
                  <a:pt x="217" y="521"/>
                </a:cubicBezTo>
                <a:cubicBezTo>
                  <a:pt x="225" y="526"/>
                  <a:pt x="231" y="529"/>
                  <a:pt x="234" y="526"/>
                </a:cubicBezTo>
                <a:cubicBezTo>
                  <a:pt x="249" y="520"/>
                  <a:pt x="249" y="520"/>
                  <a:pt x="249" y="520"/>
                </a:cubicBezTo>
                <a:cubicBezTo>
                  <a:pt x="256" y="517"/>
                  <a:pt x="256" y="517"/>
                  <a:pt x="256" y="517"/>
                </a:cubicBezTo>
                <a:cubicBezTo>
                  <a:pt x="270" y="517"/>
                  <a:pt x="270" y="517"/>
                  <a:pt x="270" y="517"/>
                </a:cubicBezTo>
                <a:cubicBezTo>
                  <a:pt x="283" y="502"/>
                  <a:pt x="283" y="502"/>
                  <a:pt x="283" y="502"/>
                </a:cubicBezTo>
                <a:cubicBezTo>
                  <a:pt x="283" y="484"/>
                  <a:pt x="283" y="484"/>
                  <a:pt x="283" y="484"/>
                </a:cubicBezTo>
                <a:cubicBezTo>
                  <a:pt x="282" y="478"/>
                  <a:pt x="283" y="474"/>
                  <a:pt x="286" y="470"/>
                </a:cubicBezTo>
                <a:cubicBezTo>
                  <a:pt x="290" y="467"/>
                  <a:pt x="298" y="467"/>
                  <a:pt x="311" y="475"/>
                </a:cubicBezTo>
                <a:cubicBezTo>
                  <a:pt x="336" y="490"/>
                  <a:pt x="336" y="490"/>
                  <a:pt x="336" y="490"/>
                </a:cubicBezTo>
                <a:cubicBezTo>
                  <a:pt x="345" y="497"/>
                  <a:pt x="351" y="499"/>
                  <a:pt x="355" y="499"/>
                </a:cubicBezTo>
                <a:cubicBezTo>
                  <a:pt x="355" y="498"/>
                  <a:pt x="355" y="498"/>
                  <a:pt x="355" y="498"/>
                </a:cubicBezTo>
                <a:cubicBezTo>
                  <a:pt x="357" y="494"/>
                  <a:pt x="355" y="485"/>
                  <a:pt x="350" y="475"/>
                </a:cubicBezTo>
                <a:cubicBezTo>
                  <a:pt x="336" y="453"/>
                  <a:pt x="336" y="453"/>
                  <a:pt x="336" y="453"/>
                </a:cubicBezTo>
                <a:cubicBezTo>
                  <a:pt x="336" y="451"/>
                  <a:pt x="336" y="451"/>
                  <a:pt x="336" y="451"/>
                </a:cubicBezTo>
                <a:cubicBezTo>
                  <a:pt x="337" y="451"/>
                  <a:pt x="337" y="451"/>
                  <a:pt x="337" y="451"/>
                </a:cubicBezTo>
                <a:cubicBezTo>
                  <a:pt x="338" y="449"/>
                  <a:pt x="338" y="449"/>
                  <a:pt x="338" y="449"/>
                </a:cubicBezTo>
                <a:cubicBezTo>
                  <a:pt x="352" y="430"/>
                  <a:pt x="367" y="424"/>
                  <a:pt x="384" y="430"/>
                </a:cubicBezTo>
                <a:cubicBezTo>
                  <a:pt x="423" y="448"/>
                  <a:pt x="423" y="448"/>
                  <a:pt x="423" y="448"/>
                </a:cubicBezTo>
                <a:cubicBezTo>
                  <a:pt x="439" y="438"/>
                  <a:pt x="439" y="438"/>
                  <a:pt x="439" y="438"/>
                </a:cubicBezTo>
                <a:cubicBezTo>
                  <a:pt x="440" y="438"/>
                  <a:pt x="440" y="438"/>
                  <a:pt x="440" y="438"/>
                </a:cubicBezTo>
                <a:cubicBezTo>
                  <a:pt x="440" y="437"/>
                  <a:pt x="440" y="437"/>
                  <a:pt x="440" y="437"/>
                </a:cubicBezTo>
                <a:cubicBezTo>
                  <a:pt x="440" y="436"/>
                  <a:pt x="440" y="436"/>
                  <a:pt x="440" y="436"/>
                </a:cubicBezTo>
                <a:cubicBezTo>
                  <a:pt x="438" y="433"/>
                  <a:pt x="438" y="433"/>
                  <a:pt x="438" y="433"/>
                </a:cubicBezTo>
                <a:cubicBezTo>
                  <a:pt x="439" y="432"/>
                  <a:pt x="439" y="432"/>
                  <a:pt x="439" y="432"/>
                </a:cubicBezTo>
                <a:cubicBezTo>
                  <a:pt x="440" y="430"/>
                  <a:pt x="440" y="430"/>
                  <a:pt x="440" y="430"/>
                </a:cubicBezTo>
                <a:cubicBezTo>
                  <a:pt x="452" y="409"/>
                  <a:pt x="457" y="393"/>
                  <a:pt x="452" y="385"/>
                </a:cubicBezTo>
                <a:cubicBezTo>
                  <a:pt x="449" y="378"/>
                  <a:pt x="444" y="374"/>
                  <a:pt x="440" y="374"/>
                </a:cubicBezTo>
                <a:cubicBezTo>
                  <a:pt x="437" y="374"/>
                  <a:pt x="437" y="374"/>
                  <a:pt x="437" y="374"/>
                </a:cubicBezTo>
                <a:cubicBezTo>
                  <a:pt x="434" y="364"/>
                  <a:pt x="434" y="364"/>
                  <a:pt x="434" y="364"/>
                </a:cubicBezTo>
                <a:cubicBezTo>
                  <a:pt x="437" y="364"/>
                  <a:pt x="437" y="364"/>
                  <a:pt x="437" y="364"/>
                </a:cubicBezTo>
                <a:cubicBezTo>
                  <a:pt x="444" y="361"/>
                  <a:pt x="448" y="357"/>
                  <a:pt x="449" y="353"/>
                </a:cubicBezTo>
                <a:cubicBezTo>
                  <a:pt x="446" y="348"/>
                  <a:pt x="446" y="348"/>
                  <a:pt x="446" y="348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1"/>
                  <a:pt x="429" y="331"/>
                  <a:pt x="429" y="331"/>
                </a:cubicBezTo>
                <a:cubicBezTo>
                  <a:pt x="421" y="308"/>
                  <a:pt x="421" y="308"/>
                  <a:pt x="421" y="308"/>
                </a:cubicBezTo>
                <a:cubicBezTo>
                  <a:pt x="418" y="290"/>
                  <a:pt x="415" y="274"/>
                  <a:pt x="418" y="259"/>
                </a:cubicBezTo>
                <a:cubicBezTo>
                  <a:pt x="418" y="249"/>
                  <a:pt x="418" y="249"/>
                  <a:pt x="418" y="249"/>
                </a:cubicBezTo>
                <a:cubicBezTo>
                  <a:pt x="407" y="258"/>
                  <a:pt x="407" y="258"/>
                  <a:pt x="407" y="258"/>
                </a:cubicBezTo>
                <a:cubicBezTo>
                  <a:pt x="397" y="269"/>
                  <a:pt x="397" y="269"/>
                  <a:pt x="397" y="269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2"/>
                  <a:pt x="394" y="222"/>
                  <a:pt x="394" y="222"/>
                </a:cubicBezTo>
                <a:cubicBezTo>
                  <a:pt x="395" y="222"/>
                  <a:pt x="395" y="222"/>
                  <a:pt x="395" y="222"/>
                </a:cubicBezTo>
                <a:cubicBezTo>
                  <a:pt x="419" y="189"/>
                  <a:pt x="434" y="169"/>
                  <a:pt x="440" y="163"/>
                </a:cubicBezTo>
                <a:cubicBezTo>
                  <a:pt x="429" y="132"/>
                  <a:pt x="429" y="132"/>
                  <a:pt x="429" y="132"/>
                </a:cubicBezTo>
                <a:cubicBezTo>
                  <a:pt x="426" y="116"/>
                  <a:pt x="424" y="106"/>
                  <a:pt x="424" y="102"/>
                </a:cubicBezTo>
                <a:cubicBezTo>
                  <a:pt x="405" y="94"/>
                  <a:pt x="405" y="94"/>
                  <a:pt x="405" y="94"/>
                </a:cubicBezTo>
                <a:lnTo>
                  <a:pt x="395" y="9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5"/>
          <p:cNvSpPr/>
          <p:nvPr/>
        </p:nvSpPr>
        <p:spPr>
          <a:xfrm>
            <a:off x="4786200" y="2428920"/>
            <a:ext cx="857520" cy="700200"/>
          </a:xfrm>
          <a:custGeom>
            <a:avLst/>
            <a:gdLst/>
            <a:ahLst/>
            <a:rect l="l" t="t" r="r" b="b"/>
            <a:pathLst>
              <a:path w="1883" h="1607">
                <a:moveTo>
                  <a:pt x="1845" y="171"/>
                </a:moveTo>
                <a:cubicBezTo>
                  <a:pt x="1838" y="147"/>
                  <a:pt x="1838" y="147"/>
                  <a:pt x="1838" y="147"/>
                </a:cubicBezTo>
                <a:cubicBezTo>
                  <a:pt x="1819" y="115"/>
                  <a:pt x="1819" y="115"/>
                  <a:pt x="1819" y="115"/>
                </a:cubicBezTo>
                <a:cubicBezTo>
                  <a:pt x="1803" y="106"/>
                  <a:pt x="1803" y="106"/>
                  <a:pt x="1803" y="106"/>
                </a:cubicBezTo>
                <a:cubicBezTo>
                  <a:pt x="1787" y="115"/>
                  <a:pt x="1787" y="115"/>
                  <a:pt x="1787" y="115"/>
                </a:cubicBezTo>
                <a:cubicBezTo>
                  <a:pt x="1778" y="134"/>
                  <a:pt x="1778" y="134"/>
                  <a:pt x="1778" y="134"/>
                </a:cubicBezTo>
                <a:cubicBezTo>
                  <a:pt x="1777" y="136"/>
                  <a:pt x="1777" y="136"/>
                  <a:pt x="1777" y="136"/>
                </a:cubicBezTo>
                <a:cubicBezTo>
                  <a:pt x="1775" y="136"/>
                  <a:pt x="1775" y="136"/>
                  <a:pt x="1775" y="136"/>
                </a:cubicBezTo>
                <a:cubicBezTo>
                  <a:pt x="1774" y="136"/>
                  <a:pt x="1774" y="136"/>
                  <a:pt x="1774" y="136"/>
                </a:cubicBezTo>
                <a:cubicBezTo>
                  <a:pt x="1744" y="141"/>
                  <a:pt x="1744" y="141"/>
                  <a:pt x="1744" y="141"/>
                </a:cubicBezTo>
                <a:cubicBezTo>
                  <a:pt x="1741" y="143"/>
                  <a:pt x="1738" y="144"/>
                  <a:pt x="1736" y="147"/>
                </a:cubicBezTo>
                <a:cubicBezTo>
                  <a:pt x="1729" y="155"/>
                  <a:pt x="1729" y="155"/>
                  <a:pt x="1729" y="155"/>
                </a:cubicBezTo>
                <a:cubicBezTo>
                  <a:pt x="1714" y="167"/>
                  <a:pt x="1714" y="167"/>
                  <a:pt x="1714" y="167"/>
                </a:cubicBezTo>
                <a:cubicBezTo>
                  <a:pt x="1709" y="170"/>
                  <a:pt x="1709" y="170"/>
                  <a:pt x="1709" y="170"/>
                </a:cubicBezTo>
                <a:cubicBezTo>
                  <a:pt x="1696" y="172"/>
                  <a:pt x="1696" y="172"/>
                  <a:pt x="1696" y="172"/>
                </a:cubicBezTo>
                <a:cubicBezTo>
                  <a:pt x="1689" y="171"/>
                  <a:pt x="1680" y="165"/>
                  <a:pt x="1667" y="156"/>
                </a:cubicBezTo>
                <a:cubicBezTo>
                  <a:pt x="1666" y="155"/>
                  <a:pt x="1666" y="155"/>
                  <a:pt x="1666" y="155"/>
                </a:cubicBezTo>
                <a:cubicBezTo>
                  <a:pt x="1645" y="134"/>
                  <a:pt x="1634" y="119"/>
                  <a:pt x="1634" y="110"/>
                </a:cubicBezTo>
                <a:cubicBezTo>
                  <a:pt x="1634" y="83"/>
                  <a:pt x="1634" y="83"/>
                  <a:pt x="1634" y="83"/>
                </a:cubicBezTo>
                <a:cubicBezTo>
                  <a:pt x="1634" y="82"/>
                  <a:pt x="1634" y="82"/>
                  <a:pt x="1634" y="82"/>
                </a:cubicBezTo>
                <a:cubicBezTo>
                  <a:pt x="1634" y="81"/>
                  <a:pt x="1634" y="81"/>
                  <a:pt x="1634" y="81"/>
                </a:cubicBezTo>
                <a:cubicBezTo>
                  <a:pt x="1638" y="76"/>
                  <a:pt x="1638" y="76"/>
                  <a:pt x="1638" y="76"/>
                </a:cubicBezTo>
                <a:cubicBezTo>
                  <a:pt x="1607" y="65"/>
                  <a:pt x="1607" y="65"/>
                  <a:pt x="1607" y="65"/>
                </a:cubicBezTo>
                <a:cubicBezTo>
                  <a:pt x="1606" y="76"/>
                  <a:pt x="1606" y="76"/>
                  <a:pt x="1606" y="76"/>
                </a:cubicBezTo>
                <a:cubicBezTo>
                  <a:pt x="1606" y="79"/>
                  <a:pt x="1603" y="83"/>
                  <a:pt x="1597" y="86"/>
                </a:cubicBezTo>
                <a:cubicBezTo>
                  <a:pt x="1587" y="90"/>
                  <a:pt x="1587" y="90"/>
                  <a:pt x="1587" y="90"/>
                </a:cubicBezTo>
                <a:cubicBezTo>
                  <a:pt x="1583" y="89"/>
                  <a:pt x="1583" y="89"/>
                  <a:pt x="1583" y="89"/>
                </a:cubicBezTo>
                <a:cubicBezTo>
                  <a:pt x="1583" y="88"/>
                  <a:pt x="1583" y="88"/>
                  <a:pt x="1583" y="88"/>
                </a:cubicBezTo>
                <a:cubicBezTo>
                  <a:pt x="1567" y="85"/>
                  <a:pt x="1567" y="85"/>
                  <a:pt x="1567" y="85"/>
                </a:cubicBezTo>
                <a:cubicBezTo>
                  <a:pt x="1570" y="97"/>
                  <a:pt x="1570" y="97"/>
                  <a:pt x="1570" y="97"/>
                </a:cubicBezTo>
                <a:cubicBezTo>
                  <a:pt x="1543" y="79"/>
                  <a:pt x="1543" y="79"/>
                  <a:pt x="1543" y="79"/>
                </a:cubicBezTo>
                <a:cubicBezTo>
                  <a:pt x="1541" y="79"/>
                  <a:pt x="1541" y="79"/>
                  <a:pt x="1541" y="79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36" y="66"/>
                  <a:pt x="1534" y="55"/>
                  <a:pt x="1534" y="42"/>
                </a:cubicBezTo>
                <a:cubicBezTo>
                  <a:pt x="1534" y="31"/>
                  <a:pt x="1535" y="25"/>
                  <a:pt x="1539" y="21"/>
                </a:cubicBezTo>
                <a:cubicBezTo>
                  <a:pt x="1546" y="9"/>
                  <a:pt x="1546" y="9"/>
                  <a:pt x="1546" y="9"/>
                </a:cubicBezTo>
                <a:cubicBezTo>
                  <a:pt x="1544" y="0"/>
                  <a:pt x="1544" y="0"/>
                  <a:pt x="1544" y="0"/>
                </a:cubicBezTo>
                <a:cubicBezTo>
                  <a:pt x="1516" y="4"/>
                  <a:pt x="1516" y="4"/>
                  <a:pt x="1516" y="4"/>
                </a:cubicBezTo>
                <a:cubicBezTo>
                  <a:pt x="1502" y="5"/>
                  <a:pt x="1493" y="13"/>
                  <a:pt x="1488" y="29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72" y="55"/>
                  <a:pt x="1472" y="55"/>
                  <a:pt x="1472" y="55"/>
                </a:cubicBezTo>
                <a:cubicBezTo>
                  <a:pt x="1488" y="53"/>
                  <a:pt x="1488" y="53"/>
                  <a:pt x="1488" y="53"/>
                </a:cubicBezTo>
                <a:cubicBezTo>
                  <a:pt x="1489" y="53"/>
                  <a:pt x="1489" y="53"/>
                  <a:pt x="1489" y="53"/>
                </a:cubicBezTo>
                <a:cubicBezTo>
                  <a:pt x="1490" y="52"/>
                  <a:pt x="1490" y="52"/>
                  <a:pt x="1490" y="52"/>
                </a:cubicBezTo>
                <a:cubicBezTo>
                  <a:pt x="1491" y="55"/>
                  <a:pt x="1491" y="55"/>
                  <a:pt x="1491" y="55"/>
                </a:cubicBezTo>
                <a:cubicBezTo>
                  <a:pt x="1503" y="60"/>
                  <a:pt x="1503" y="60"/>
                  <a:pt x="1503" y="60"/>
                </a:cubicBezTo>
                <a:cubicBezTo>
                  <a:pt x="1506" y="60"/>
                  <a:pt x="1506" y="60"/>
                  <a:pt x="1506" y="60"/>
                </a:cubicBezTo>
                <a:cubicBezTo>
                  <a:pt x="1508" y="61"/>
                  <a:pt x="1508" y="61"/>
                  <a:pt x="1508" y="61"/>
                </a:cubicBezTo>
                <a:cubicBezTo>
                  <a:pt x="1508" y="64"/>
                  <a:pt x="1508" y="64"/>
                  <a:pt x="1508" y="64"/>
                </a:cubicBezTo>
                <a:cubicBezTo>
                  <a:pt x="1510" y="86"/>
                  <a:pt x="1510" y="86"/>
                  <a:pt x="1510" y="86"/>
                </a:cubicBezTo>
                <a:cubicBezTo>
                  <a:pt x="1516" y="107"/>
                  <a:pt x="1516" y="107"/>
                  <a:pt x="1516" y="107"/>
                </a:cubicBezTo>
                <a:cubicBezTo>
                  <a:pt x="1516" y="108"/>
                  <a:pt x="1516" y="108"/>
                  <a:pt x="1516" y="108"/>
                </a:cubicBezTo>
                <a:cubicBezTo>
                  <a:pt x="1516" y="109"/>
                  <a:pt x="1516" y="109"/>
                  <a:pt x="1516" y="109"/>
                </a:cubicBezTo>
                <a:cubicBezTo>
                  <a:pt x="1516" y="110"/>
                  <a:pt x="1516" y="110"/>
                  <a:pt x="1516" y="110"/>
                </a:cubicBezTo>
                <a:cubicBezTo>
                  <a:pt x="1481" y="179"/>
                  <a:pt x="1481" y="179"/>
                  <a:pt x="1481" y="179"/>
                </a:cubicBezTo>
                <a:cubicBezTo>
                  <a:pt x="1475" y="189"/>
                  <a:pt x="1472" y="214"/>
                  <a:pt x="1470" y="252"/>
                </a:cubicBezTo>
                <a:cubicBezTo>
                  <a:pt x="1470" y="255"/>
                  <a:pt x="1470" y="255"/>
                  <a:pt x="1470" y="255"/>
                </a:cubicBezTo>
                <a:cubicBezTo>
                  <a:pt x="1456" y="281"/>
                  <a:pt x="1456" y="281"/>
                  <a:pt x="1456" y="281"/>
                </a:cubicBezTo>
                <a:cubicBezTo>
                  <a:pt x="1465" y="292"/>
                  <a:pt x="1465" y="292"/>
                  <a:pt x="1465" y="292"/>
                </a:cubicBezTo>
                <a:cubicBezTo>
                  <a:pt x="1465" y="294"/>
                  <a:pt x="1465" y="294"/>
                  <a:pt x="1465" y="294"/>
                </a:cubicBezTo>
                <a:cubicBezTo>
                  <a:pt x="1467" y="310"/>
                  <a:pt x="1465" y="319"/>
                  <a:pt x="1461" y="322"/>
                </a:cubicBezTo>
                <a:cubicBezTo>
                  <a:pt x="1458" y="323"/>
                  <a:pt x="1458" y="323"/>
                  <a:pt x="1458" y="323"/>
                </a:cubicBezTo>
                <a:cubicBezTo>
                  <a:pt x="1451" y="327"/>
                  <a:pt x="1426" y="352"/>
                  <a:pt x="1387" y="400"/>
                </a:cubicBezTo>
                <a:cubicBezTo>
                  <a:pt x="1384" y="403"/>
                  <a:pt x="1384" y="403"/>
                  <a:pt x="1384" y="403"/>
                </a:cubicBezTo>
                <a:cubicBezTo>
                  <a:pt x="1382" y="402"/>
                  <a:pt x="1382" y="402"/>
                  <a:pt x="1382" y="402"/>
                </a:cubicBezTo>
                <a:cubicBezTo>
                  <a:pt x="1379" y="400"/>
                  <a:pt x="1379" y="400"/>
                  <a:pt x="1379" y="400"/>
                </a:cubicBezTo>
                <a:cubicBezTo>
                  <a:pt x="1365" y="390"/>
                  <a:pt x="1353" y="382"/>
                  <a:pt x="1345" y="373"/>
                </a:cubicBezTo>
                <a:cubicBezTo>
                  <a:pt x="1339" y="369"/>
                  <a:pt x="1323" y="366"/>
                  <a:pt x="1297" y="366"/>
                </a:cubicBezTo>
                <a:cubicBezTo>
                  <a:pt x="1296" y="414"/>
                  <a:pt x="1296" y="414"/>
                  <a:pt x="1296" y="414"/>
                </a:cubicBezTo>
                <a:cubicBezTo>
                  <a:pt x="1295" y="415"/>
                  <a:pt x="1295" y="415"/>
                  <a:pt x="1295" y="415"/>
                </a:cubicBezTo>
                <a:cubicBezTo>
                  <a:pt x="1276" y="507"/>
                  <a:pt x="1276" y="507"/>
                  <a:pt x="1276" y="507"/>
                </a:cubicBezTo>
                <a:cubicBezTo>
                  <a:pt x="1271" y="519"/>
                  <a:pt x="1270" y="540"/>
                  <a:pt x="1270" y="572"/>
                </a:cubicBezTo>
                <a:cubicBezTo>
                  <a:pt x="1278" y="581"/>
                  <a:pt x="1278" y="581"/>
                  <a:pt x="1278" y="581"/>
                </a:cubicBezTo>
                <a:cubicBezTo>
                  <a:pt x="1284" y="569"/>
                  <a:pt x="1284" y="569"/>
                  <a:pt x="1284" y="569"/>
                </a:cubicBezTo>
                <a:cubicBezTo>
                  <a:pt x="1285" y="569"/>
                  <a:pt x="1285" y="569"/>
                  <a:pt x="1285" y="569"/>
                </a:cubicBezTo>
                <a:cubicBezTo>
                  <a:pt x="1286" y="566"/>
                  <a:pt x="1286" y="566"/>
                  <a:pt x="1286" y="566"/>
                </a:cubicBezTo>
                <a:cubicBezTo>
                  <a:pt x="1310" y="554"/>
                  <a:pt x="1310" y="554"/>
                  <a:pt x="1310" y="554"/>
                </a:cubicBezTo>
                <a:cubicBezTo>
                  <a:pt x="1378" y="564"/>
                  <a:pt x="1378" y="564"/>
                  <a:pt x="1378" y="564"/>
                </a:cubicBezTo>
                <a:cubicBezTo>
                  <a:pt x="1385" y="556"/>
                  <a:pt x="1385" y="556"/>
                  <a:pt x="1385" y="556"/>
                </a:cubicBezTo>
                <a:cubicBezTo>
                  <a:pt x="1395" y="539"/>
                  <a:pt x="1395" y="539"/>
                  <a:pt x="1395" y="539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8" y="537"/>
                  <a:pt x="1398" y="537"/>
                  <a:pt x="1398" y="537"/>
                </a:cubicBezTo>
                <a:cubicBezTo>
                  <a:pt x="1424" y="532"/>
                  <a:pt x="1424" y="532"/>
                  <a:pt x="1424" y="532"/>
                </a:cubicBezTo>
                <a:cubicBezTo>
                  <a:pt x="1459" y="529"/>
                  <a:pt x="1459" y="529"/>
                  <a:pt x="1459" y="529"/>
                </a:cubicBezTo>
                <a:cubicBezTo>
                  <a:pt x="1470" y="532"/>
                  <a:pt x="1482" y="545"/>
                  <a:pt x="1498" y="566"/>
                </a:cubicBezTo>
                <a:cubicBezTo>
                  <a:pt x="1540" y="588"/>
                  <a:pt x="1564" y="607"/>
                  <a:pt x="1569" y="623"/>
                </a:cubicBezTo>
                <a:cubicBezTo>
                  <a:pt x="1572" y="632"/>
                  <a:pt x="1572" y="638"/>
                  <a:pt x="1569" y="646"/>
                </a:cubicBezTo>
                <a:cubicBezTo>
                  <a:pt x="1566" y="653"/>
                  <a:pt x="1558" y="657"/>
                  <a:pt x="1548" y="658"/>
                </a:cubicBezTo>
                <a:cubicBezTo>
                  <a:pt x="1547" y="658"/>
                  <a:pt x="1547" y="658"/>
                  <a:pt x="1547" y="658"/>
                </a:cubicBezTo>
                <a:cubicBezTo>
                  <a:pt x="1495" y="656"/>
                  <a:pt x="1465" y="656"/>
                  <a:pt x="1455" y="659"/>
                </a:cubicBezTo>
                <a:cubicBezTo>
                  <a:pt x="1430" y="676"/>
                  <a:pt x="1430" y="676"/>
                  <a:pt x="1430" y="676"/>
                </a:cubicBezTo>
                <a:cubicBezTo>
                  <a:pt x="1398" y="699"/>
                  <a:pt x="1377" y="711"/>
                  <a:pt x="1365" y="711"/>
                </a:cubicBezTo>
                <a:cubicBezTo>
                  <a:pt x="1344" y="714"/>
                  <a:pt x="1344" y="714"/>
                  <a:pt x="1344" y="714"/>
                </a:cubicBezTo>
                <a:cubicBezTo>
                  <a:pt x="1331" y="767"/>
                  <a:pt x="1331" y="767"/>
                  <a:pt x="1331" y="767"/>
                </a:cubicBezTo>
                <a:cubicBezTo>
                  <a:pt x="1328" y="783"/>
                  <a:pt x="1323" y="793"/>
                  <a:pt x="1314" y="801"/>
                </a:cubicBezTo>
                <a:cubicBezTo>
                  <a:pt x="1305" y="809"/>
                  <a:pt x="1292" y="814"/>
                  <a:pt x="1276" y="818"/>
                </a:cubicBezTo>
                <a:cubicBezTo>
                  <a:pt x="1255" y="821"/>
                  <a:pt x="1239" y="828"/>
                  <a:pt x="1223" y="838"/>
                </a:cubicBezTo>
                <a:cubicBezTo>
                  <a:pt x="1205" y="876"/>
                  <a:pt x="1205" y="876"/>
                  <a:pt x="1205" y="876"/>
                </a:cubicBezTo>
                <a:cubicBezTo>
                  <a:pt x="1204" y="877"/>
                  <a:pt x="1204" y="877"/>
                  <a:pt x="1204" y="877"/>
                </a:cubicBezTo>
                <a:cubicBezTo>
                  <a:pt x="1203" y="877"/>
                  <a:pt x="1203" y="877"/>
                  <a:pt x="1203" y="877"/>
                </a:cubicBezTo>
                <a:cubicBezTo>
                  <a:pt x="1202" y="877"/>
                  <a:pt x="1202" y="877"/>
                  <a:pt x="1202" y="877"/>
                </a:cubicBezTo>
                <a:cubicBezTo>
                  <a:pt x="1153" y="897"/>
                  <a:pt x="1153" y="897"/>
                  <a:pt x="1153" y="897"/>
                </a:cubicBezTo>
                <a:cubicBezTo>
                  <a:pt x="1150" y="897"/>
                  <a:pt x="1150" y="897"/>
                  <a:pt x="1150" y="897"/>
                </a:cubicBezTo>
                <a:cubicBezTo>
                  <a:pt x="1126" y="891"/>
                  <a:pt x="1126" y="891"/>
                  <a:pt x="1126" y="891"/>
                </a:cubicBezTo>
                <a:cubicBezTo>
                  <a:pt x="1107" y="888"/>
                  <a:pt x="1092" y="883"/>
                  <a:pt x="1082" y="877"/>
                </a:cubicBezTo>
                <a:cubicBezTo>
                  <a:pt x="1070" y="870"/>
                  <a:pt x="1056" y="869"/>
                  <a:pt x="1041" y="874"/>
                </a:cubicBezTo>
                <a:cubicBezTo>
                  <a:pt x="1029" y="891"/>
                  <a:pt x="1022" y="914"/>
                  <a:pt x="1023" y="938"/>
                </a:cubicBezTo>
                <a:cubicBezTo>
                  <a:pt x="1024" y="951"/>
                  <a:pt x="1027" y="959"/>
                  <a:pt x="1031" y="961"/>
                </a:cubicBezTo>
                <a:cubicBezTo>
                  <a:pt x="1038" y="960"/>
                  <a:pt x="1038" y="960"/>
                  <a:pt x="1038" y="960"/>
                </a:cubicBezTo>
                <a:cubicBezTo>
                  <a:pt x="1046" y="955"/>
                  <a:pt x="1046" y="955"/>
                  <a:pt x="1046" y="955"/>
                </a:cubicBezTo>
                <a:cubicBezTo>
                  <a:pt x="1049" y="989"/>
                  <a:pt x="1049" y="989"/>
                  <a:pt x="1049" y="989"/>
                </a:cubicBezTo>
                <a:cubicBezTo>
                  <a:pt x="1049" y="1000"/>
                  <a:pt x="1044" y="1009"/>
                  <a:pt x="1036" y="1015"/>
                </a:cubicBezTo>
                <a:cubicBezTo>
                  <a:pt x="1031" y="1019"/>
                  <a:pt x="1021" y="1023"/>
                  <a:pt x="1007" y="1028"/>
                </a:cubicBezTo>
                <a:cubicBezTo>
                  <a:pt x="999" y="1030"/>
                  <a:pt x="999" y="1030"/>
                  <a:pt x="999" y="1030"/>
                </a:cubicBezTo>
                <a:cubicBezTo>
                  <a:pt x="988" y="1034"/>
                  <a:pt x="966" y="1062"/>
                  <a:pt x="934" y="1114"/>
                </a:cubicBezTo>
                <a:cubicBezTo>
                  <a:pt x="934" y="1115"/>
                  <a:pt x="934" y="1115"/>
                  <a:pt x="934" y="1115"/>
                </a:cubicBezTo>
                <a:cubicBezTo>
                  <a:pt x="933" y="1115"/>
                  <a:pt x="933" y="1115"/>
                  <a:pt x="933" y="1115"/>
                </a:cubicBezTo>
                <a:cubicBezTo>
                  <a:pt x="901" y="1134"/>
                  <a:pt x="901" y="1134"/>
                  <a:pt x="901" y="1134"/>
                </a:cubicBezTo>
                <a:cubicBezTo>
                  <a:pt x="906" y="1134"/>
                  <a:pt x="909" y="1136"/>
                  <a:pt x="908" y="1141"/>
                </a:cubicBezTo>
                <a:cubicBezTo>
                  <a:pt x="907" y="1145"/>
                  <a:pt x="904" y="1146"/>
                  <a:pt x="896" y="1147"/>
                </a:cubicBezTo>
                <a:cubicBezTo>
                  <a:pt x="806" y="1145"/>
                  <a:pt x="806" y="1145"/>
                  <a:pt x="806" y="1145"/>
                </a:cubicBezTo>
                <a:cubicBezTo>
                  <a:pt x="706" y="1142"/>
                  <a:pt x="627" y="1169"/>
                  <a:pt x="572" y="1226"/>
                </a:cubicBezTo>
                <a:cubicBezTo>
                  <a:pt x="570" y="1227"/>
                  <a:pt x="570" y="1227"/>
                  <a:pt x="570" y="1227"/>
                </a:cubicBezTo>
                <a:cubicBezTo>
                  <a:pt x="568" y="1228"/>
                  <a:pt x="568" y="1228"/>
                  <a:pt x="568" y="1228"/>
                </a:cubicBezTo>
                <a:cubicBezTo>
                  <a:pt x="567" y="1228"/>
                  <a:pt x="567" y="1228"/>
                  <a:pt x="567" y="1228"/>
                </a:cubicBezTo>
                <a:cubicBezTo>
                  <a:pt x="530" y="1232"/>
                  <a:pt x="530" y="1232"/>
                  <a:pt x="530" y="1232"/>
                </a:cubicBezTo>
                <a:cubicBezTo>
                  <a:pt x="528" y="1233"/>
                  <a:pt x="528" y="1233"/>
                  <a:pt x="528" y="1233"/>
                </a:cubicBezTo>
                <a:cubicBezTo>
                  <a:pt x="526" y="1233"/>
                  <a:pt x="526" y="1233"/>
                  <a:pt x="526" y="1233"/>
                </a:cubicBezTo>
                <a:cubicBezTo>
                  <a:pt x="516" y="1208"/>
                  <a:pt x="516" y="1208"/>
                  <a:pt x="516" y="1208"/>
                </a:cubicBezTo>
                <a:cubicBezTo>
                  <a:pt x="478" y="1218"/>
                  <a:pt x="478" y="1218"/>
                  <a:pt x="478" y="1218"/>
                </a:cubicBezTo>
                <a:cubicBezTo>
                  <a:pt x="458" y="1219"/>
                  <a:pt x="431" y="1213"/>
                  <a:pt x="402" y="1199"/>
                </a:cubicBezTo>
                <a:cubicBezTo>
                  <a:pt x="374" y="1187"/>
                  <a:pt x="350" y="1171"/>
                  <a:pt x="326" y="1152"/>
                </a:cubicBezTo>
                <a:cubicBezTo>
                  <a:pt x="310" y="1140"/>
                  <a:pt x="290" y="1131"/>
                  <a:pt x="267" y="1127"/>
                </a:cubicBezTo>
                <a:cubicBezTo>
                  <a:pt x="233" y="1124"/>
                  <a:pt x="233" y="1124"/>
                  <a:pt x="233" y="1124"/>
                </a:cubicBezTo>
                <a:cubicBezTo>
                  <a:pt x="195" y="1129"/>
                  <a:pt x="195" y="1129"/>
                  <a:pt x="195" y="1129"/>
                </a:cubicBezTo>
                <a:cubicBezTo>
                  <a:pt x="167" y="1133"/>
                  <a:pt x="140" y="1133"/>
                  <a:pt x="115" y="1131"/>
                </a:cubicBezTo>
                <a:cubicBezTo>
                  <a:pt x="84" y="1129"/>
                  <a:pt x="47" y="1121"/>
                  <a:pt x="3" y="1107"/>
                </a:cubicBezTo>
                <a:cubicBezTo>
                  <a:pt x="0" y="1113"/>
                  <a:pt x="0" y="1113"/>
                  <a:pt x="0" y="1113"/>
                </a:cubicBezTo>
                <a:cubicBezTo>
                  <a:pt x="1" y="1113"/>
                  <a:pt x="1" y="1113"/>
                  <a:pt x="1" y="1113"/>
                </a:cubicBezTo>
                <a:cubicBezTo>
                  <a:pt x="2" y="1113"/>
                  <a:pt x="2" y="1113"/>
                  <a:pt x="2" y="1113"/>
                </a:cubicBezTo>
                <a:cubicBezTo>
                  <a:pt x="3" y="1114"/>
                  <a:pt x="3" y="1114"/>
                  <a:pt x="3" y="1114"/>
                </a:cubicBezTo>
                <a:cubicBezTo>
                  <a:pt x="3" y="1115"/>
                  <a:pt x="3" y="1115"/>
                  <a:pt x="3" y="1115"/>
                </a:cubicBezTo>
                <a:cubicBezTo>
                  <a:pt x="4" y="1126"/>
                  <a:pt x="4" y="1126"/>
                  <a:pt x="4" y="1126"/>
                </a:cubicBezTo>
                <a:cubicBezTo>
                  <a:pt x="13" y="1146"/>
                  <a:pt x="13" y="1146"/>
                  <a:pt x="13" y="1146"/>
                </a:cubicBezTo>
                <a:cubicBezTo>
                  <a:pt x="35" y="1173"/>
                  <a:pt x="35" y="1173"/>
                  <a:pt x="35" y="1173"/>
                </a:cubicBezTo>
                <a:cubicBezTo>
                  <a:pt x="36" y="1176"/>
                  <a:pt x="36" y="1176"/>
                  <a:pt x="36" y="1176"/>
                </a:cubicBezTo>
                <a:cubicBezTo>
                  <a:pt x="32" y="1196"/>
                  <a:pt x="32" y="1196"/>
                  <a:pt x="32" y="1196"/>
                </a:cubicBezTo>
                <a:cubicBezTo>
                  <a:pt x="32" y="1198"/>
                  <a:pt x="32" y="1198"/>
                  <a:pt x="32" y="1198"/>
                </a:cubicBezTo>
                <a:cubicBezTo>
                  <a:pt x="31" y="1198"/>
                  <a:pt x="31" y="1198"/>
                  <a:pt x="31" y="1198"/>
                </a:cubicBezTo>
                <a:cubicBezTo>
                  <a:pt x="19" y="1214"/>
                  <a:pt x="19" y="1214"/>
                  <a:pt x="19" y="1214"/>
                </a:cubicBezTo>
                <a:cubicBezTo>
                  <a:pt x="32" y="1228"/>
                  <a:pt x="32" y="1228"/>
                  <a:pt x="32" y="1228"/>
                </a:cubicBezTo>
                <a:cubicBezTo>
                  <a:pt x="38" y="1233"/>
                  <a:pt x="41" y="1238"/>
                  <a:pt x="41" y="1242"/>
                </a:cubicBezTo>
                <a:cubicBezTo>
                  <a:pt x="44" y="1262"/>
                  <a:pt x="44" y="1262"/>
                  <a:pt x="44" y="1262"/>
                </a:cubicBezTo>
                <a:cubicBezTo>
                  <a:pt x="60" y="1278"/>
                  <a:pt x="60" y="1278"/>
                  <a:pt x="60" y="1278"/>
                </a:cubicBezTo>
                <a:cubicBezTo>
                  <a:pt x="60" y="1280"/>
                  <a:pt x="60" y="1280"/>
                  <a:pt x="60" y="1280"/>
                </a:cubicBezTo>
                <a:cubicBezTo>
                  <a:pt x="62" y="1294"/>
                  <a:pt x="62" y="1294"/>
                  <a:pt x="62" y="1294"/>
                </a:cubicBezTo>
                <a:cubicBezTo>
                  <a:pt x="62" y="1304"/>
                  <a:pt x="62" y="1304"/>
                  <a:pt x="62" y="1304"/>
                </a:cubicBezTo>
                <a:cubicBezTo>
                  <a:pt x="71" y="1312"/>
                  <a:pt x="71" y="1312"/>
                  <a:pt x="71" y="1312"/>
                </a:cubicBezTo>
                <a:cubicBezTo>
                  <a:pt x="78" y="1309"/>
                  <a:pt x="78" y="1309"/>
                  <a:pt x="78" y="1309"/>
                </a:cubicBezTo>
                <a:cubicBezTo>
                  <a:pt x="79" y="1306"/>
                  <a:pt x="79" y="1306"/>
                  <a:pt x="79" y="1306"/>
                </a:cubicBezTo>
                <a:cubicBezTo>
                  <a:pt x="82" y="1298"/>
                  <a:pt x="87" y="1294"/>
                  <a:pt x="95" y="1293"/>
                </a:cubicBezTo>
                <a:cubicBezTo>
                  <a:pt x="103" y="1289"/>
                  <a:pt x="103" y="1289"/>
                  <a:pt x="103" y="1289"/>
                </a:cubicBezTo>
                <a:cubicBezTo>
                  <a:pt x="159" y="1284"/>
                  <a:pt x="159" y="1284"/>
                  <a:pt x="159" y="1284"/>
                </a:cubicBezTo>
                <a:cubicBezTo>
                  <a:pt x="181" y="1276"/>
                  <a:pt x="181" y="1276"/>
                  <a:pt x="181" y="1276"/>
                </a:cubicBezTo>
                <a:cubicBezTo>
                  <a:pt x="183" y="1275"/>
                  <a:pt x="183" y="1275"/>
                  <a:pt x="183" y="1275"/>
                </a:cubicBezTo>
                <a:cubicBezTo>
                  <a:pt x="186" y="1272"/>
                  <a:pt x="186" y="1272"/>
                  <a:pt x="186" y="1272"/>
                </a:cubicBezTo>
                <a:cubicBezTo>
                  <a:pt x="198" y="1298"/>
                  <a:pt x="198" y="1298"/>
                  <a:pt x="198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200" y="1304"/>
                  <a:pt x="199" y="1309"/>
                  <a:pt x="196" y="1315"/>
                </a:cubicBezTo>
                <a:cubicBezTo>
                  <a:pt x="165" y="1358"/>
                  <a:pt x="165" y="1358"/>
                  <a:pt x="165" y="1358"/>
                </a:cubicBezTo>
                <a:cubicBezTo>
                  <a:pt x="167" y="1365"/>
                  <a:pt x="167" y="1365"/>
                  <a:pt x="167" y="1365"/>
                </a:cubicBezTo>
                <a:cubicBezTo>
                  <a:pt x="181" y="1379"/>
                  <a:pt x="181" y="1379"/>
                  <a:pt x="181" y="1379"/>
                </a:cubicBezTo>
                <a:cubicBezTo>
                  <a:pt x="195" y="1388"/>
                  <a:pt x="195" y="1388"/>
                  <a:pt x="195" y="1388"/>
                </a:cubicBezTo>
                <a:cubicBezTo>
                  <a:pt x="196" y="1388"/>
                  <a:pt x="196" y="1388"/>
                  <a:pt x="196" y="1388"/>
                </a:cubicBezTo>
                <a:cubicBezTo>
                  <a:pt x="202" y="1396"/>
                  <a:pt x="207" y="1401"/>
                  <a:pt x="214" y="1403"/>
                </a:cubicBezTo>
                <a:cubicBezTo>
                  <a:pt x="221" y="1405"/>
                  <a:pt x="229" y="1412"/>
                  <a:pt x="235" y="1420"/>
                </a:cubicBezTo>
                <a:cubicBezTo>
                  <a:pt x="236" y="1423"/>
                  <a:pt x="236" y="1423"/>
                  <a:pt x="236" y="1423"/>
                </a:cubicBezTo>
                <a:cubicBezTo>
                  <a:pt x="246" y="1428"/>
                  <a:pt x="246" y="1428"/>
                  <a:pt x="246" y="1428"/>
                </a:cubicBezTo>
                <a:cubicBezTo>
                  <a:pt x="250" y="1429"/>
                  <a:pt x="250" y="1429"/>
                  <a:pt x="250" y="1429"/>
                </a:cubicBezTo>
                <a:cubicBezTo>
                  <a:pt x="251" y="1429"/>
                  <a:pt x="251" y="1429"/>
                  <a:pt x="251" y="1429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5" y="1452"/>
                  <a:pt x="255" y="1452"/>
                  <a:pt x="255" y="1452"/>
                </a:cubicBezTo>
                <a:cubicBezTo>
                  <a:pt x="259" y="1469"/>
                  <a:pt x="259" y="1469"/>
                  <a:pt x="259" y="1469"/>
                </a:cubicBezTo>
                <a:cubicBezTo>
                  <a:pt x="286" y="1473"/>
                  <a:pt x="286" y="1473"/>
                  <a:pt x="286" y="1473"/>
                </a:cubicBezTo>
                <a:cubicBezTo>
                  <a:pt x="288" y="1473"/>
                  <a:pt x="288" y="1473"/>
                  <a:pt x="288" y="1473"/>
                </a:cubicBezTo>
                <a:cubicBezTo>
                  <a:pt x="289" y="1474"/>
                  <a:pt x="289" y="1474"/>
                  <a:pt x="289" y="1474"/>
                </a:cubicBezTo>
                <a:cubicBezTo>
                  <a:pt x="289" y="1475"/>
                  <a:pt x="289" y="1475"/>
                  <a:pt x="289" y="1475"/>
                </a:cubicBezTo>
                <a:cubicBezTo>
                  <a:pt x="290" y="1477"/>
                  <a:pt x="290" y="1477"/>
                  <a:pt x="290" y="1477"/>
                </a:cubicBezTo>
                <a:cubicBezTo>
                  <a:pt x="297" y="1492"/>
                  <a:pt x="297" y="1492"/>
                  <a:pt x="297" y="1492"/>
                </a:cubicBezTo>
                <a:cubicBezTo>
                  <a:pt x="318" y="1499"/>
                  <a:pt x="318" y="1499"/>
                  <a:pt x="318" y="1499"/>
                </a:cubicBezTo>
                <a:cubicBezTo>
                  <a:pt x="333" y="1492"/>
                  <a:pt x="333" y="1492"/>
                  <a:pt x="333" y="1492"/>
                </a:cubicBezTo>
                <a:cubicBezTo>
                  <a:pt x="331" y="1484"/>
                  <a:pt x="331" y="1484"/>
                  <a:pt x="331" y="1484"/>
                </a:cubicBezTo>
                <a:cubicBezTo>
                  <a:pt x="317" y="1471"/>
                  <a:pt x="317" y="1471"/>
                  <a:pt x="317" y="1471"/>
                </a:cubicBezTo>
                <a:cubicBezTo>
                  <a:pt x="319" y="1469"/>
                  <a:pt x="319" y="1469"/>
                  <a:pt x="319" y="1469"/>
                </a:cubicBezTo>
                <a:cubicBezTo>
                  <a:pt x="319" y="1467"/>
                  <a:pt x="319" y="1467"/>
                  <a:pt x="319" y="1467"/>
                </a:cubicBezTo>
                <a:cubicBezTo>
                  <a:pt x="331" y="1445"/>
                  <a:pt x="331" y="1445"/>
                  <a:pt x="331" y="1445"/>
                </a:cubicBezTo>
                <a:cubicBezTo>
                  <a:pt x="356" y="1445"/>
                  <a:pt x="356" y="1445"/>
                  <a:pt x="356" y="1445"/>
                </a:cubicBezTo>
                <a:cubicBezTo>
                  <a:pt x="357" y="1446"/>
                  <a:pt x="357" y="1446"/>
                  <a:pt x="357" y="1446"/>
                </a:cubicBezTo>
                <a:cubicBezTo>
                  <a:pt x="393" y="1458"/>
                  <a:pt x="393" y="1458"/>
                  <a:pt x="393" y="1458"/>
                </a:cubicBezTo>
                <a:cubicBezTo>
                  <a:pt x="413" y="1455"/>
                  <a:pt x="413" y="1455"/>
                  <a:pt x="413" y="1455"/>
                </a:cubicBezTo>
                <a:cubicBezTo>
                  <a:pt x="429" y="1440"/>
                  <a:pt x="429" y="1440"/>
                  <a:pt x="429" y="1440"/>
                </a:cubicBezTo>
                <a:cubicBezTo>
                  <a:pt x="447" y="1418"/>
                  <a:pt x="459" y="1409"/>
                  <a:pt x="466" y="1414"/>
                </a:cubicBezTo>
                <a:cubicBezTo>
                  <a:pt x="474" y="1413"/>
                  <a:pt x="474" y="1413"/>
                  <a:pt x="474" y="1413"/>
                </a:cubicBezTo>
                <a:cubicBezTo>
                  <a:pt x="484" y="1413"/>
                  <a:pt x="489" y="1414"/>
                  <a:pt x="492" y="1415"/>
                </a:cubicBezTo>
                <a:cubicBezTo>
                  <a:pt x="493" y="1417"/>
                  <a:pt x="495" y="1419"/>
                  <a:pt x="495" y="1421"/>
                </a:cubicBezTo>
                <a:cubicBezTo>
                  <a:pt x="495" y="1426"/>
                  <a:pt x="499" y="1434"/>
                  <a:pt x="505" y="1446"/>
                </a:cubicBezTo>
                <a:cubicBezTo>
                  <a:pt x="505" y="1447"/>
                  <a:pt x="505" y="1447"/>
                  <a:pt x="505" y="1447"/>
                </a:cubicBezTo>
                <a:cubicBezTo>
                  <a:pt x="505" y="1448"/>
                  <a:pt x="505" y="1448"/>
                  <a:pt x="505" y="1448"/>
                </a:cubicBezTo>
                <a:cubicBezTo>
                  <a:pt x="508" y="1462"/>
                  <a:pt x="508" y="1462"/>
                  <a:pt x="508" y="1462"/>
                </a:cubicBezTo>
                <a:cubicBezTo>
                  <a:pt x="508" y="1466"/>
                  <a:pt x="508" y="1466"/>
                  <a:pt x="508" y="1466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4"/>
                  <a:pt x="504" y="1484"/>
                  <a:pt x="504" y="1484"/>
                </a:cubicBezTo>
                <a:cubicBezTo>
                  <a:pt x="503" y="1485"/>
                  <a:pt x="503" y="1485"/>
                  <a:pt x="503" y="1485"/>
                </a:cubicBezTo>
                <a:cubicBezTo>
                  <a:pt x="485" y="1506"/>
                  <a:pt x="485" y="1506"/>
                  <a:pt x="485" y="1506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46" y="1524"/>
                  <a:pt x="446" y="1524"/>
                  <a:pt x="446" y="1524"/>
                </a:cubicBezTo>
                <a:cubicBezTo>
                  <a:pt x="441" y="1534"/>
                  <a:pt x="441" y="1534"/>
                  <a:pt x="441" y="1534"/>
                </a:cubicBezTo>
                <a:cubicBezTo>
                  <a:pt x="435" y="1565"/>
                  <a:pt x="435" y="1565"/>
                  <a:pt x="435" y="1565"/>
                </a:cubicBezTo>
                <a:cubicBezTo>
                  <a:pt x="439" y="1580"/>
                  <a:pt x="439" y="1580"/>
                  <a:pt x="439" y="1580"/>
                </a:cubicBezTo>
                <a:cubicBezTo>
                  <a:pt x="448" y="1595"/>
                  <a:pt x="448" y="1595"/>
                  <a:pt x="448" y="1595"/>
                </a:cubicBezTo>
                <a:cubicBezTo>
                  <a:pt x="452" y="1599"/>
                  <a:pt x="452" y="1599"/>
                  <a:pt x="452" y="1599"/>
                </a:cubicBezTo>
                <a:cubicBezTo>
                  <a:pt x="465" y="1607"/>
                  <a:pt x="465" y="1607"/>
                  <a:pt x="465" y="1607"/>
                </a:cubicBezTo>
                <a:cubicBezTo>
                  <a:pt x="509" y="1607"/>
                  <a:pt x="509" y="1607"/>
                  <a:pt x="509" y="1607"/>
                </a:cubicBezTo>
                <a:cubicBezTo>
                  <a:pt x="546" y="1602"/>
                  <a:pt x="546" y="1602"/>
                  <a:pt x="546" y="1602"/>
                </a:cubicBezTo>
                <a:cubicBezTo>
                  <a:pt x="552" y="1596"/>
                  <a:pt x="552" y="1596"/>
                  <a:pt x="552" y="1596"/>
                </a:cubicBezTo>
                <a:cubicBezTo>
                  <a:pt x="557" y="1590"/>
                  <a:pt x="562" y="1588"/>
                  <a:pt x="565" y="1588"/>
                </a:cubicBezTo>
                <a:cubicBezTo>
                  <a:pt x="591" y="1592"/>
                  <a:pt x="591" y="1592"/>
                  <a:pt x="591" y="1592"/>
                </a:cubicBezTo>
                <a:cubicBezTo>
                  <a:pt x="593" y="1588"/>
                  <a:pt x="593" y="1588"/>
                  <a:pt x="593" y="1588"/>
                </a:cubicBezTo>
                <a:cubicBezTo>
                  <a:pt x="591" y="1581"/>
                  <a:pt x="591" y="1574"/>
                  <a:pt x="595" y="1568"/>
                </a:cubicBezTo>
                <a:cubicBezTo>
                  <a:pt x="605" y="1550"/>
                  <a:pt x="605" y="1550"/>
                  <a:pt x="605" y="1550"/>
                </a:cubicBezTo>
                <a:cubicBezTo>
                  <a:pt x="605" y="1516"/>
                  <a:pt x="605" y="1516"/>
                  <a:pt x="605" y="1516"/>
                </a:cubicBezTo>
                <a:cubicBezTo>
                  <a:pt x="605" y="1515"/>
                  <a:pt x="605" y="1515"/>
                  <a:pt x="605" y="1515"/>
                </a:cubicBezTo>
                <a:cubicBezTo>
                  <a:pt x="624" y="1460"/>
                  <a:pt x="624" y="1460"/>
                  <a:pt x="624" y="1460"/>
                </a:cubicBezTo>
                <a:cubicBezTo>
                  <a:pt x="625" y="1459"/>
                  <a:pt x="625" y="1459"/>
                  <a:pt x="625" y="1459"/>
                </a:cubicBezTo>
                <a:cubicBezTo>
                  <a:pt x="625" y="1458"/>
                  <a:pt x="625" y="1458"/>
                  <a:pt x="625" y="1458"/>
                </a:cubicBezTo>
                <a:cubicBezTo>
                  <a:pt x="626" y="1458"/>
                  <a:pt x="626" y="1458"/>
                  <a:pt x="626" y="1458"/>
                </a:cubicBezTo>
                <a:cubicBezTo>
                  <a:pt x="626" y="1457"/>
                  <a:pt x="626" y="1457"/>
                  <a:pt x="626" y="1457"/>
                </a:cubicBezTo>
                <a:cubicBezTo>
                  <a:pt x="659" y="1431"/>
                  <a:pt x="659" y="1431"/>
                  <a:pt x="659" y="1431"/>
                </a:cubicBezTo>
                <a:cubicBezTo>
                  <a:pt x="661" y="1429"/>
                  <a:pt x="661" y="1429"/>
                  <a:pt x="661" y="1429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705" y="1452"/>
                  <a:pt x="712" y="1460"/>
                  <a:pt x="712" y="1466"/>
                </a:cubicBezTo>
                <a:cubicBezTo>
                  <a:pt x="710" y="1489"/>
                  <a:pt x="710" y="1489"/>
                  <a:pt x="710" y="1489"/>
                </a:cubicBezTo>
                <a:cubicBezTo>
                  <a:pt x="700" y="1504"/>
                  <a:pt x="700" y="1504"/>
                  <a:pt x="700" y="1504"/>
                </a:cubicBezTo>
                <a:cubicBezTo>
                  <a:pt x="693" y="1525"/>
                  <a:pt x="693" y="1525"/>
                  <a:pt x="693" y="1525"/>
                </a:cubicBezTo>
                <a:cubicBezTo>
                  <a:pt x="693" y="1548"/>
                  <a:pt x="693" y="1548"/>
                  <a:pt x="693" y="1548"/>
                </a:cubicBezTo>
                <a:cubicBezTo>
                  <a:pt x="700" y="1559"/>
                  <a:pt x="700" y="1559"/>
                  <a:pt x="700" y="1559"/>
                </a:cubicBezTo>
                <a:cubicBezTo>
                  <a:pt x="710" y="1557"/>
                  <a:pt x="710" y="1557"/>
                  <a:pt x="710" y="1557"/>
                </a:cubicBezTo>
                <a:cubicBezTo>
                  <a:pt x="712" y="1556"/>
                  <a:pt x="712" y="1556"/>
                  <a:pt x="712" y="1556"/>
                </a:cubicBezTo>
                <a:cubicBezTo>
                  <a:pt x="728" y="1557"/>
                  <a:pt x="728" y="1557"/>
                  <a:pt x="728" y="1557"/>
                </a:cubicBezTo>
                <a:cubicBezTo>
                  <a:pt x="736" y="1562"/>
                  <a:pt x="741" y="1569"/>
                  <a:pt x="746" y="1580"/>
                </a:cubicBezTo>
                <a:cubicBezTo>
                  <a:pt x="755" y="1583"/>
                  <a:pt x="755" y="1583"/>
                  <a:pt x="755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7" y="1583"/>
                  <a:pt x="757" y="1583"/>
                  <a:pt x="757" y="1583"/>
                </a:cubicBezTo>
                <a:cubicBezTo>
                  <a:pt x="793" y="1600"/>
                  <a:pt x="793" y="1600"/>
                  <a:pt x="793" y="1600"/>
                </a:cubicBezTo>
                <a:cubicBezTo>
                  <a:pt x="809" y="1605"/>
                  <a:pt x="809" y="1605"/>
                  <a:pt x="809" y="1605"/>
                </a:cubicBezTo>
                <a:cubicBezTo>
                  <a:pt x="831" y="1602"/>
                  <a:pt x="831" y="1602"/>
                  <a:pt x="831" y="1602"/>
                </a:cubicBezTo>
                <a:cubicBezTo>
                  <a:pt x="841" y="1589"/>
                  <a:pt x="841" y="1589"/>
                  <a:pt x="841" y="1589"/>
                </a:cubicBezTo>
                <a:cubicBezTo>
                  <a:pt x="853" y="1537"/>
                  <a:pt x="853" y="1537"/>
                  <a:pt x="853" y="1537"/>
                </a:cubicBezTo>
                <a:cubicBezTo>
                  <a:pt x="854" y="1509"/>
                  <a:pt x="854" y="1509"/>
                  <a:pt x="854" y="1509"/>
                </a:cubicBezTo>
                <a:cubicBezTo>
                  <a:pt x="854" y="1507"/>
                  <a:pt x="854" y="1507"/>
                  <a:pt x="854" y="1507"/>
                </a:cubicBezTo>
                <a:cubicBezTo>
                  <a:pt x="857" y="1506"/>
                  <a:pt x="857" y="1506"/>
                  <a:pt x="857" y="1506"/>
                </a:cubicBezTo>
                <a:cubicBezTo>
                  <a:pt x="858" y="1505"/>
                  <a:pt x="858" y="1505"/>
                  <a:pt x="858" y="1505"/>
                </a:cubicBezTo>
                <a:cubicBezTo>
                  <a:pt x="878" y="1488"/>
                  <a:pt x="878" y="1488"/>
                  <a:pt x="878" y="1488"/>
                </a:cubicBezTo>
                <a:cubicBezTo>
                  <a:pt x="889" y="1473"/>
                  <a:pt x="889" y="1473"/>
                  <a:pt x="889" y="1473"/>
                </a:cubicBezTo>
                <a:cubicBezTo>
                  <a:pt x="890" y="1472"/>
                  <a:pt x="890" y="1472"/>
                  <a:pt x="890" y="1472"/>
                </a:cubicBezTo>
                <a:cubicBezTo>
                  <a:pt x="911" y="1462"/>
                  <a:pt x="911" y="1462"/>
                  <a:pt x="911" y="1462"/>
                </a:cubicBezTo>
                <a:cubicBezTo>
                  <a:pt x="924" y="1455"/>
                  <a:pt x="924" y="1455"/>
                  <a:pt x="924" y="1455"/>
                </a:cubicBezTo>
                <a:cubicBezTo>
                  <a:pt x="940" y="1449"/>
                  <a:pt x="940" y="1449"/>
                  <a:pt x="940" y="1449"/>
                </a:cubicBezTo>
                <a:cubicBezTo>
                  <a:pt x="931" y="1417"/>
                  <a:pt x="931" y="1417"/>
                  <a:pt x="931" y="1417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29"/>
                  <a:pt x="986" y="1429"/>
                  <a:pt x="986" y="1429"/>
                </a:cubicBezTo>
                <a:cubicBezTo>
                  <a:pt x="992" y="1409"/>
                  <a:pt x="992" y="1409"/>
                  <a:pt x="992" y="1409"/>
                </a:cubicBezTo>
                <a:cubicBezTo>
                  <a:pt x="992" y="1405"/>
                  <a:pt x="992" y="1405"/>
                  <a:pt x="992" y="1405"/>
                </a:cubicBezTo>
                <a:cubicBezTo>
                  <a:pt x="995" y="1407"/>
                  <a:pt x="995" y="1407"/>
                  <a:pt x="995" y="1407"/>
                </a:cubicBezTo>
                <a:cubicBezTo>
                  <a:pt x="997" y="1407"/>
                  <a:pt x="997" y="1407"/>
                  <a:pt x="997" y="1407"/>
                </a:cubicBezTo>
                <a:cubicBezTo>
                  <a:pt x="1014" y="1411"/>
                  <a:pt x="1014" y="1411"/>
                  <a:pt x="1014" y="1411"/>
                </a:cubicBezTo>
                <a:cubicBezTo>
                  <a:pt x="1022" y="1411"/>
                  <a:pt x="1022" y="1411"/>
                  <a:pt x="1022" y="1411"/>
                </a:cubicBezTo>
                <a:cubicBezTo>
                  <a:pt x="1038" y="1393"/>
                  <a:pt x="1038" y="1393"/>
                  <a:pt x="1038" y="1393"/>
                </a:cubicBezTo>
                <a:cubicBezTo>
                  <a:pt x="1039" y="1393"/>
                  <a:pt x="1039" y="1393"/>
                  <a:pt x="1039" y="1393"/>
                </a:cubicBezTo>
                <a:cubicBezTo>
                  <a:pt x="1040" y="1392"/>
                  <a:pt x="1040" y="1392"/>
                  <a:pt x="1040" y="1392"/>
                </a:cubicBezTo>
                <a:cubicBezTo>
                  <a:pt x="1041" y="1392"/>
                  <a:pt x="1041" y="1392"/>
                  <a:pt x="1041" y="1392"/>
                </a:cubicBezTo>
                <a:cubicBezTo>
                  <a:pt x="1062" y="1388"/>
                  <a:pt x="1062" y="1388"/>
                  <a:pt x="1062" y="1388"/>
                </a:cubicBezTo>
                <a:cubicBezTo>
                  <a:pt x="1080" y="1371"/>
                  <a:pt x="1080" y="1371"/>
                  <a:pt x="1080" y="1371"/>
                </a:cubicBezTo>
                <a:cubicBezTo>
                  <a:pt x="1090" y="1357"/>
                  <a:pt x="1090" y="1357"/>
                  <a:pt x="1090" y="1357"/>
                </a:cubicBezTo>
                <a:cubicBezTo>
                  <a:pt x="1090" y="1340"/>
                  <a:pt x="1090" y="1340"/>
                  <a:pt x="1090" y="1340"/>
                </a:cubicBezTo>
                <a:cubicBezTo>
                  <a:pt x="1090" y="1334"/>
                  <a:pt x="1093" y="1329"/>
                  <a:pt x="1099" y="1326"/>
                </a:cubicBezTo>
                <a:cubicBezTo>
                  <a:pt x="1099" y="1326"/>
                  <a:pt x="1099" y="1326"/>
                  <a:pt x="1099" y="1326"/>
                </a:cubicBezTo>
                <a:cubicBezTo>
                  <a:pt x="1101" y="1326"/>
                  <a:pt x="1101" y="1326"/>
                  <a:pt x="1101" y="1326"/>
                </a:cubicBezTo>
                <a:cubicBezTo>
                  <a:pt x="1102" y="1326"/>
                  <a:pt x="1102" y="1326"/>
                  <a:pt x="1102" y="1326"/>
                </a:cubicBezTo>
                <a:cubicBezTo>
                  <a:pt x="1122" y="1328"/>
                  <a:pt x="1122" y="1328"/>
                  <a:pt x="1122" y="1328"/>
                </a:cubicBezTo>
                <a:cubicBezTo>
                  <a:pt x="1131" y="1323"/>
                  <a:pt x="1131" y="1323"/>
                  <a:pt x="1131" y="1323"/>
                </a:cubicBezTo>
                <a:cubicBezTo>
                  <a:pt x="1134" y="1308"/>
                  <a:pt x="1134" y="1308"/>
                  <a:pt x="1134" y="1308"/>
                </a:cubicBezTo>
                <a:cubicBezTo>
                  <a:pt x="1155" y="1302"/>
                  <a:pt x="1155" y="1302"/>
                  <a:pt x="1155" y="1302"/>
                </a:cubicBezTo>
                <a:cubicBezTo>
                  <a:pt x="1156" y="1302"/>
                  <a:pt x="1156" y="1302"/>
                  <a:pt x="1156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84" y="1305"/>
                  <a:pt x="1184" y="1305"/>
                  <a:pt x="1184" y="1305"/>
                </a:cubicBezTo>
                <a:cubicBezTo>
                  <a:pt x="1205" y="1300"/>
                  <a:pt x="1205" y="1300"/>
                  <a:pt x="1205" y="1300"/>
                </a:cubicBezTo>
                <a:cubicBezTo>
                  <a:pt x="1217" y="1287"/>
                  <a:pt x="1217" y="1287"/>
                  <a:pt x="1217" y="1287"/>
                </a:cubicBezTo>
                <a:cubicBezTo>
                  <a:pt x="1226" y="1270"/>
                  <a:pt x="1226" y="1270"/>
                  <a:pt x="1226" y="1270"/>
                </a:cubicBezTo>
                <a:cubicBezTo>
                  <a:pt x="1210" y="1253"/>
                  <a:pt x="1210" y="1253"/>
                  <a:pt x="1210" y="1253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3" y="1221"/>
                  <a:pt x="1203" y="1221"/>
                  <a:pt x="1203" y="1221"/>
                </a:cubicBezTo>
                <a:cubicBezTo>
                  <a:pt x="1203" y="1220"/>
                  <a:pt x="1203" y="1220"/>
                  <a:pt x="1203" y="1220"/>
                </a:cubicBezTo>
                <a:cubicBezTo>
                  <a:pt x="1212" y="1203"/>
                  <a:pt x="1212" y="1203"/>
                  <a:pt x="1212" y="1203"/>
                </a:cubicBezTo>
                <a:cubicBezTo>
                  <a:pt x="1212" y="1198"/>
                  <a:pt x="1215" y="1190"/>
                  <a:pt x="1224" y="1182"/>
                </a:cubicBezTo>
                <a:cubicBezTo>
                  <a:pt x="1235" y="1159"/>
                  <a:pt x="1235" y="1159"/>
                  <a:pt x="1235" y="1159"/>
                </a:cubicBezTo>
                <a:cubicBezTo>
                  <a:pt x="1235" y="1157"/>
                  <a:pt x="1235" y="1157"/>
                  <a:pt x="1235" y="1157"/>
                </a:cubicBezTo>
                <a:cubicBezTo>
                  <a:pt x="1236" y="1157"/>
                  <a:pt x="1236" y="1157"/>
                  <a:pt x="1236" y="1157"/>
                </a:cubicBezTo>
                <a:cubicBezTo>
                  <a:pt x="1247" y="1141"/>
                  <a:pt x="1247" y="1141"/>
                  <a:pt x="1247" y="1141"/>
                </a:cubicBezTo>
                <a:cubicBezTo>
                  <a:pt x="1263" y="1109"/>
                  <a:pt x="1263" y="1109"/>
                  <a:pt x="1263" y="1109"/>
                </a:cubicBezTo>
                <a:cubicBezTo>
                  <a:pt x="1278" y="1130"/>
                  <a:pt x="1278" y="1130"/>
                  <a:pt x="1278" y="1130"/>
                </a:cubicBezTo>
                <a:cubicBezTo>
                  <a:pt x="1279" y="1131"/>
                  <a:pt x="1279" y="1131"/>
                  <a:pt x="1279" y="1131"/>
                </a:cubicBezTo>
                <a:cubicBezTo>
                  <a:pt x="1279" y="1132"/>
                  <a:pt x="1279" y="1132"/>
                  <a:pt x="1279" y="1132"/>
                </a:cubicBezTo>
                <a:cubicBezTo>
                  <a:pt x="1284" y="1153"/>
                  <a:pt x="1284" y="1153"/>
                  <a:pt x="1284" y="1153"/>
                </a:cubicBezTo>
                <a:cubicBezTo>
                  <a:pt x="1284" y="1154"/>
                  <a:pt x="1284" y="1154"/>
                  <a:pt x="1284" y="1154"/>
                </a:cubicBezTo>
                <a:cubicBezTo>
                  <a:pt x="1287" y="1175"/>
                  <a:pt x="1287" y="1175"/>
                  <a:pt x="1287" y="1175"/>
                </a:cubicBezTo>
                <a:cubicBezTo>
                  <a:pt x="1302" y="1182"/>
                  <a:pt x="1302" y="1182"/>
                  <a:pt x="1302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7" y="1184"/>
                  <a:pt x="1307" y="1184"/>
                  <a:pt x="1307" y="1184"/>
                </a:cubicBezTo>
                <a:cubicBezTo>
                  <a:pt x="1308" y="1183"/>
                  <a:pt x="1308" y="1183"/>
                  <a:pt x="1308" y="1183"/>
                </a:cubicBezTo>
                <a:cubicBezTo>
                  <a:pt x="1321" y="1161"/>
                  <a:pt x="1321" y="1161"/>
                  <a:pt x="1321" y="1161"/>
                </a:cubicBezTo>
                <a:cubicBezTo>
                  <a:pt x="1328" y="1140"/>
                  <a:pt x="1328" y="1140"/>
                  <a:pt x="1328" y="1140"/>
                </a:cubicBezTo>
                <a:cubicBezTo>
                  <a:pt x="1331" y="1141"/>
                  <a:pt x="1331" y="1141"/>
                  <a:pt x="1331" y="1141"/>
                </a:cubicBezTo>
                <a:cubicBezTo>
                  <a:pt x="1335" y="1142"/>
                  <a:pt x="1335" y="1142"/>
                  <a:pt x="1335" y="1142"/>
                </a:cubicBezTo>
                <a:cubicBezTo>
                  <a:pt x="1365" y="1152"/>
                  <a:pt x="1365" y="1152"/>
                  <a:pt x="1365" y="1152"/>
                </a:cubicBezTo>
                <a:cubicBezTo>
                  <a:pt x="1380" y="1141"/>
                  <a:pt x="1380" y="1141"/>
                  <a:pt x="1380" y="1141"/>
                </a:cubicBezTo>
                <a:cubicBezTo>
                  <a:pt x="1381" y="1140"/>
                  <a:pt x="1381" y="1140"/>
                  <a:pt x="1381" y="1140"/>
                </a:cubicBezTo>
                <a:cubicBezTo>
                  <a:pt x="1383" y="1140"/>
                  <a:pt x="1383" y="1140"/>
                  <a:pt x="1383" y="1140"/>
                </a:cubicBezTo>
                <a:cubicBezTo>
                  <a:pt x="1398" y="1138"/>
                  <a:pt x="1398" y="1138"/>
                  <a:pt x="1398" y="1138"/>
                </a:cubicBezTo>
                <a:cubicBezTo>
                  <a:pt x="1408" y="1121"/>
                  <a:pt x="1408" y="1121"/>
                  <a:pt x="1408" y="1121"/>
                </a:cubicBezTo>
                <a:cubicBezTo>
                  <a:pt x="1408" y="1098"/>
                  <a:pt x="1408" y="1098"/>
                  <a:pt x="1408" y="1098"/>
                </a:cubicBezTo>
                <a:cubicBezTo>
                  <a:pt x="1416" y="1065"/>
                  <a:pt x="1416" y="1065"/>
                  <a:pt x="1416" y="1065"/>
                </a:cubicBezTo>
                <a:cubicBezTo>
                  <a:pt x="1418" y="1066"/>
                  <a:pt x="1418" y="1066"/>
                  <a:pt x="1418" y="1066"/>
                </a:cubicBezTo>
                <a:cubicBezTo>
                  <a:pt x="1421" y="1066"/>
                  <a:pt x="1421" y="1066"/>
                  <a:pt x="1421" y="1066"/>
                </a:cubicBezTo>
                <a:cubicBezTo>
                  <a:pt x="1444" y="1071"/>
                  <a:pt x="1444" y="1071"/>
                  <a:pt x="1444" y="1071"/>
                </a:cubicBezTo>
                <a:cubicBezTo>
                  <a:pt x="1455" y="1052"/>
                  <a:pt x="1455" y="1052"/>
                  <a:pt x="1455" y="1052"/>
                </a:cubicBezTo>
                <a:cubicBezTo>
                  <a:pt x="1456" y="1052"/>
                  <a:pt x="1456" y="1052"/>
                  <a:pt x="1456" y="1052"/>
                </a:cubicBezTo>
                <a:cubicBezTo>
                  <a:pt x="1458" y="1052"/>
                  <a:pt x="1458" y="1052"/>
                  <a:pt x="1458" y="1052"/>
                </a:cubicBezTo>
                <a:cubicBezTo>
                  <a:pt x="1479" y="1050"/>
                  <a:pt x="1479" y="1050"/>
                  <a:pt x="1479" y="1050"/>
                </a:cubicBezTo>
                <a:cubicBezTo>
                  <a:pt x="1482" y="1050"/>
                  <a:pt x="1482" y="1050"/>
                  <a:pt x="1482" y="1050"/>
                </a:cubicBezTo>
                <a:cubicBezTo>
                  <a:pt x="1482" y="1051"/>
                  <a:pt x="1482" y="1051"/>
                  <a:pt x="1482" y="1051"/>
                </a:cubicBezTo>
                <a:cubicBezTo>
                  <a:pt x="1484" y="1052"/>
                  <a:pt x="1484" y="1052"/>
                  <a:pt x="1484" y="1052"/>
                </a:cubicBezTo>
                <a:cubicBezTo>
                  <a:pt x="1495" y="1067"/>
                  <a:pt x="1495" y="1067"/>
                  <a:pt x="1495" y="1067"/>
                </a:cubicBezTo>
                <a:cubicBezTo>
                  <a:pt x="1495" y="1068"/>
                  <a:pt x="1495" y="1068"/>
                  <a:pt x="1495" y="1068"/>
                </a:cubicBezTo>
                <a:cubicBezTo>
                  <a:pt x="1496" y="1069"/>
                  <a:pt x="1496" y="1069"/>
                  <a:pt x="1496" y="1069"/>
                </a:cubicBezTo>
                <a:cubicBezTo>
                  <a:pt x="1496" y="1071"/>
                  <a:pt x="1496" y="1071"/>
                  <a:pt x="1496" y="1071"/>
                </a:cubicBezTo>
                <a:cubicBezTo>
                  <a:pt x="1498" y="1092"/>
                  <a:pt x="1498" y="1092"/>
                  <a:pt x="1498" y="1092"/>
                </a:cubicBezTo>
                <a:cubicBezTo>
                  <a:pt x="1509" y="1102"/>
                  <a:pt x="1509" y="1102"/>
                  <a:pt x="1509" y="1102"/>
                </a:cubicBezTo>
                <a:cubicBezTo>
                  <a:pt x="1524" y="1088"/>
                  <a:pt x="1524" y="1088"/>
                  <a:pt x="1524" y="1088"/>
                </a:cubicBezTo>
                <a:cubicBezTo>
                  <a:pt x="1527" y="1092"/>
                  <a:pt x="1527" y="1092"/>
                  <a:pt x="1527" y="1092"/>
                </a:cubicBezTo>
                <a:cubicBezTo>
                  <a:pt x="1532" y="1097"/>
                  <a:pt x="1534" y="1103"/>
                  <a:pt x="1534" y="1109"/>
                </a:cubicBezTo>
                <a:cubicBezTo>
                  <a:pt x="1534" y="1128"/>
                  <a:pt x="1534" y="1128"/>
                  <a:pt x="1534" y="1128"/>
                </a:cubicBezTo>
                <a:cubicBezTo>
                  <a:pt x="1527" y="1147"/>
                  <a:pt x="1527" y="1147"/>
                  <a:pt x="1527" y="1147"/>
                </a:cubicBezTo>
                <a:cubicBezTo>
                  <a:pt x="1532" y="1155"/>
                  <a:pt x="1532" y="1155"/>
                  <a:pt x="1532" y="1155"/>
                </a:cubicBezTo>
                <a:cubicBezTo>
                  <a:pt x="1543" y="1167"/>
                  <a:pt x="1543" y="1167"/>
                  <a:pt x="1543" y="1167"/>
                </a:cubicBezTo>
                <a:cubicBezTo>
                  <a:pt x="1587" y="1173"/>
                  <a:pt x="1587" y="1173"/>
                  <a:pt x="1587" y="1173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3" y="1179"/>
                  <a:pt x="1593" y="1179"/>
                  <a:pt x="1593" y="1179"/>
                </a:cubicBezTo>
                <a:cubicBezTo>
                  <a:pt x="1606" y="1161"/>
                  <a:pt x="1606" y="1161"/>
                  <a:pt x="1606" y="1161"/>
                </a:cubicBezTo>
                <a:cubicBezTo>
                  <a:pt x="1607" y="1161"/>
                  <a:pt x="1607" y="1161"/>
                  <a:pt x="1607" y="1161"/>
                </a:cubicBezTo>
                <a:cubicBezTo>
                  <a:pt x="1617" y="1150"/>
                  <a:pt x="1617" y="1150"/>
                  <a:pt x="1617" y="1150"/>
                </a:cubicBezTo>
                <a:cubicBezTo>
                  <a:pt x="1613" y="1134"/>
                  <a:pt x="1613" y="1134"/>
                  <a:pt x="1613" y="1134"/>
                </a:cubicBezTo>
                <a:cubicBezTo>
                  <a:pt x="1602" y="1067"/>
                  <a:pt x="1602" y="1067"/>
                  <a:pt x="1602" y="1067"/>
                </a:cubicBezTo>
                <a:cubicBezTo>
                  <a:pt x="1632" y="1081"/>
                  <a:pt x="1632" y="1081"/>
                  <a:pt x="1632" y="1081"/>
                </a:cubicBezTo>
                <a:cubicBezTo>
                  <a:pt x="1633" y="1081"/>
                  <a:pt x="1633" y="1081"/>
                  <a:pt x="1633" y="1081"/>
                </a:cubicBezTo>
                <a:cubicBezTo>
                  <a:pt x="1634" y="1081"/>
                  <a:pt x="1634" y="1081"/>
                  <a:pt x="1634" y="1081"/>
                </a:cubicBezTo>
                <a:cubicBezTo>
                  <a:pt x="1648" y="1098"/>
                  <a:pt x="1648" y="1098"/>
                  <a:pt x="1648" y="1098"/>
                </a:cubicBezTo>
                <a:cubicBezTo>
                  <a:pt x="1657" y="1107"/>
                  <a:pt x="1657" y="1107"/>
                  <a:pt x="1657" y="1107"/>
                </a:cubicBezTo>
                <a:cubicBezTo>
                  <a:pt x="1669" y="1098"/>
                  <a:pt x="1669" y="1098"/>
                  <a:pt x="1669" y="1098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5" y="1050"/>
                  <a:pt x="1715" y="1050"/>
                  <a:pt x="1715" y="1050"/>
                </a:cubicBezTo>
                <a:cubicBezTo>
                  <a:pt x="1730" y="1038"/>
                  <a:pt x="1730" y="1038"/>
                  <a:pt x="1730" y="1038"/>
                </a:cubicBezTo>
                <a:cubicBezTo>
                  <a:pt x="1748" y="1013"/>
                  <a:pt x="1748" y="1013"/>
                  <a:pt x="1748" y="1013"/>
                </a:cubicBezTo>
                <a:cubicBezTo>
                  <a:pt x="1749" y="1011"/>
                  <a:pt x="1749" y="1011"/>
                  <a:pt x="1749" y="1011"/>
                </a:cubicBezTo>
                <a:cubicBezTo>
                  <a:pt x="1774" y="1017"/>
                  <a:pt x="1774" y="1017"/>
                  <a:pt x="1774" y="1017"/>
                </a:cubicBezTo>
                <a:cubicBezTo>
                  <a:pt x="1785" y="1017"/>
                  <a:pt x="1785" y="1017"/>
                  <a:pt x="1785" y="1017"/>
                </a:cubicBezTo>
                <a:cubicBezTo>
                  <a:pt x="1785" y="1008"/>
                  <a:pt x="1787" y="1001"/>
                  <a:pt x="1788" y="997"/>
                </a:cubicBezTo>
                <a:cubicBezTo>
                  <a:pt x="1806" y="976"/>
                  <a:pt x="1806" y="976"/>
                  <a:pt x="1806" y="976"/>
                </a:cubicBezTo>
                <a:cubicBezTo>
                  <a:pt x="1812" y="973"/>
                  <a:pt x="1812" y="973"/>
                  <a:pt x="1812" y="973"/>
                </a:cubicBezTo>
                <a:cubicBezTo>
                  <a:pt x="1833" y="980"/>
                  <a:pt x="1833" y="980"/>
                  <a:pt x="1833" y="980"/>
                </a:cubicBezTo>
                <a:cubicBezTo>
                  <a:pt x="1858" y="977"/>
                  <a:pt x="1858" y="977"/>
                  <a:pt x="1858" y="977"/>
                </a:cubicBezTo>
                <a:cubicBezTo>
                  <a:pt x="1875" y="959"/>
                  <a:pt x="1875" y="959"/>
                  <a:pt x="1875" y="959"/>
                </a:cubicBezTo>
                <a:cubicBezTo>
                  <a:pt x="1883" y="943"/>
                  <a:pt x="1883" y="943"/>
                  <a:pt x="1883" y="943"/>
                </a:cubicBezTo>
                <a:cubicBezTo>
                  <a:pt x="1878" y="935"/>
                  <a:pt x="1878" y="935"/>
                  <a:pt x="1878" y="935"/>
                </a:cubicBezTo>
                <a:cubicBezTo>
                  <a:pt x="1863" y="942"/>
                  <a:pt x="1863" y="942"/>
                  <a:pt x="1863" y="942"/>
                </a:cubicBezTo>
                <a:cubicBezTo>
                  <a:pt x="1862" y="941"/>
                  <a:pt x="1862" y="941"/>
                  <a:pt x="1862" y="941"/>
                </a:cubicBezTo>
                <a:cubicBezTo>
                  <a:pt x="1861" y="940"/>
                  <a:pt x="1861" y="940"/>
                  <a:pt x="1861" y="940"/>
                </a:cubicBezTo>
                <a:cubicBezTo>
                  <a:pt x="1842" y="923"/>
                  <a:pt x="1842" y="923"/>
                  <a:pt x="1842" y="923"/>
                </a:cubicBezTo>
                <a:cubicBezTo>
                  <a:pt x="1841" y="922"/>
                  <a:pt x="1841" y="922"/>
                  <a:pt x="1841" y="922"/>
                </a:cubicBezTo>
                <a:cubicBezTo>
                  <a:pt x="1849" y="894"/>
                  <a:pt x="1849" y="894"/>
                  <a:pt x="1849" y="894"/>
                </a:cubicBezTo>
                <a:cubicBezTo>
                  <a:pt x="1851" y="872"/>
                  <a:pt x="1851" y="872"/>
                  <a:pt x="1851" y="872"/>
                </a:cubicBezTo>
                <a:cubicBezTo>
                  <a:pt x="1845" y="855"/>
                  <a:pt x="1845" y="855"/>
                  <a:pt x="1845" y="855"/>
                </a:cubicBezTo>
                <a:cubicBezTo>
                  <a:pt x="1831" y="849"/>
                  <a:pt x="1831" y="849"/>
                  <a:pt x="1831" y="849"/>
                </a:cubicBezTo>
                <a:cubicBezTo>
                  <a:pt x="1831" y="848"/>
                  <a:pt x="1831" y="848"/>
                  <a:pt x="1831" y="848"/>
                </a:cubicBezTo>
                <a:cubicBezTo>
                  <a:pt x="1830" y="847"/>
                  <a:pt x="1830" y="847"/>
                  <a:pt x="1830" y="847"/>
                </a:cubicBezTo>
                <a:cubicBezTo>
                  <a:pt x="1829" y="846"/>
                  <a:pt x="1829" y="846"/>
                  <a:pt x="1829" y="846"/>
                </a:cubicBezTo>
                <a:cubicBezTo>
                  <a:pt x="1816" y="821"/>
                  <a:pt x="1816" y="821"/>
                  <a:pt x="1816" y="821"/>
                </a:cubicBezTo>
                <a:cubicBezTo>
                  <a:pt x="1814" y="818"/>
                  <a:pt x="1814" y="818"/>
                  <a:pt x="1814" y="818"/>
                </a:cubicBezTo>
                <a:cubicBezTo>
                  <a:pt x="1796" y="839"/>
                  <a:pt x="1796" y="839"/>
                  <a:pt x="1796" y="839"/>
                </a:cubicBezTo>
                <a:cubicBezTo>
                  <a:pt x="1778" y="850"/>
                  <a:pt x="1778" y="850"/>
                  <a:pt x="1778" y="850"/>
                </a:cubicBezTo>
                <a:cubicBezTo>
                  <a:pt x="1774" y="852"/>
                  <a:pt x="1774" y="852"/>
                  <a:pt x="1774" y="852"/>
                </a:cubicBezTo>
                <a:cubicBezTo>
                  <a:pt x="1773" y="851"/>
                  <a:pt x="1773" y="851"/>
                  <a:pt x="1773" y="851"/>
                </a:cubicBezTo>
                <a:cubicBezTo>
                  <a:pt x="1772" y="849"/>
                  <a:pt x="1772" y="849"/>
                  <a:pt x="1772" y="849"/>
                </a:cubicBezTo>
                <a:cubicBezTo>
                  <a:pt x="1753" y="831"/>
                  <a:pt x="1753" y="831"/>
                  <a:pt x="1753" y="831"/>
                </a:cubicBezTo>
                <a:cubicBezTo>
                  <a:pt x="1753" y="830"/>
                  <a:pt x="1753" y="830"/>
                  <a:pt x="1753" y="830"/>
                </a:cubicBezTo>
                <a:cubicBezTo>
                  <a:pt x="1739" y="801"/>
                  <a:pt x="1739" y="801"/>
                  <a:pt x="1739" y="801"/>
                </a:cubicBezTo>
                <a:cubicBezTo>
                  <a:pt x="1739" y="800"/>
                  <a:pt x="1739" y="800"/>
                  <a:pt x="1739" y="800"/>
                </a:cubicBezTo>
                <a:cubicBezTo>
                  <a:pt x="1733" y="779"/>
                  <a:pt x="1733" y="779"/>
                  <a:pt x="1733" y="779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46"/>
                  <a:pt x="1733" y="746"/>
                  <a:pt x="1733" y="746"/>
                </a:cubicBezTo>
                <a:cubicBezTo>
                  <a:pt x="1730" y="727"/>
                  <a:pt x="1730" y="727"/>
                  <a:pt x="1730" y="727"/>
                </a:cubicBezTo>
                <a:cubicBezTo>
                  <a:pt x="1716" y="722"/>
                  <a:pt x="1716" y="722"/>
                  <a:pt x="1716" y="722"/>
                </a:cubicBezTo>
                <a:cubicBezTo>
                  <a:pt x="1715" y="722"/>
                  <a:pt x="1715" y="722"/>
                  <a:pt x="1715" y="722"/>
                </a:cubicBezTo>
                <a:cubicBezTo>
                  <a:pt x="1715" y="721"/>
                  <a:pt x="1715" y="721"/>
                  <a:pt x="1715" y="721"/>
                </a:cubicBezTo>
                <a:cubicBezTo>
                  <a:pt x="1681" y="694"/>
                  <a:pt x="1681" y="694"/>
                  <a:pt x="1681" y="694"/>
                </a:cubicBezTo>
                <a:cubicBezTo>
                  <a:pt x="1683" y="691"/>
                  <a:pt x="1683" y="691"/>
                  <a:pt x="1683" y="691"/>
                </a:cubicBezTo>
                <a:cubicBezTo>
                  <a:pt x="1699" y="674"/>
                  <a:pt x="1699" y="674"/>
                  <a:pt x="1699" y="674"/>
                </a:cubicBezTo>
                <a:cubicBezTo>
                  <a:pt x="1699" y="673"/>
                  <a:pt x="1699" y="673"/>
                  <a:pt x="1699" y="673"/>
                </a:cubicBezTo>
                <a:cubicBezTo>
                  <a:pt x="1699" y="672"/>
                  <a:pt x="1699" y="672"/>
                  <a:pt x="1699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19" y="670"/>
                  <a:pt x="1719" y="670"/>
                  <a:pt x="1719" y="670"/>
                </a:cubicBezTo>
                <a:cubicBezTo>
                  <a:pt x="1720" y="670"/>
                  <a:pt x="1720" y="670"/>
                  <a:pt x="1720" y="670"/>
                </a:cubicBezTo>
                <a:cubicBezTo>
                  <a:pt x="1725" y="670"/>
                  <a:pt x="1730" y="673"/>
                  <a:pt x="1735" y="678"/>
                </a:cubicBezTo>
                <a:cubicBezTo>
                  <a:pt x="1749" y="690"/>
                  <a:pt x="1749" y="690"/>
                  <a:pt x="1749" y="690"/>
                </a:cubicBezTo>
                <a:cubicBezTo>
                  <a:pt x="1765" y="677"/>
                  <a:pt x="1765" y="677"/>
                  <a:pt x="1765" y="677"/>
                </a:cubicBezTo>
                <a:cubicBezTo>
                  <a:pt x="1777" y="661"/>
                  <a:pt x="1777" y="661"/>
                  <a:pt x="1777" y="661"/>
                </a:cubicBezTo>
                <a:cubicBezTo>
                  <a:pt x="1777" y="648"/>
                  <a:pt x="1777" y="648"/>
                  <a:pt x="1777" y="648"/>
                </a:cubicBezTo>
                <a:cubicBezTo>
                  <a:pt x="1773" y="614"/>
                  <a:pt x="1773" y="614"/>
                  <a:pt x="1773" y="614"/>
                </a:cubicBezTo>
                <a:cubicBezTo>
                  <a:pt x="1769" y="600"/>
                  <a:pt x="1769" y="600"/>
                  <a:pt x="1769" y="600"/>
                </a:cubicBezTo>
                <a:cubicBezTo>
                  <a:pt x="1746" y="596"/>
                  <a:pt x="1746" y="596"/>
                  <a:pt x="1746" y="596"/>
                </a:cubicBezTo>
                <a:cubicBezTo>
                  <a:pt x="1746" y="582"/>
                  <a:pt x="1746" y="582"/>
                  <a:pt x="1746" y="582"/>
                </a:cubicBezTo>
                <a:cubicBezTo>
                  <a:pt x="1725" y="556"/>
                  <a:pt x="1725" y="556"/>
                  <a:pt x="1725" y="556"/>
                </a:cubicBezTo>
                <a:cubicBezTo>
                  <a:pt x="1724" y="555"/>
                  <a:pt x="1724" y="555"/>
                  <a:pt x="1724" y="555"/>
                </a:cubicBezTo>
                <a:cubicBezTo>
                  <a:pt x="1714" y="536"/>
                  <a:pt x="1714" y="536"/>
                  <a:pt x="1714" y="536"/>
                </a:cubicBezTo>
                <a:cubicBezTo>
                  <a:pt x="1711" y="534"/>
                  <a:pt x="1711" y="534"/>
                  <a:pt x="1711" y="534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35" y="501"/>
                  <a:pt x="1735" y="501"/>
                  <a:pt x="1735" y="501"/>
                </a:cubicBezTo>
                <a:cubicBezTo>
                  <a:pt x="1735" y="500"/>
                  <a:pt x="1735" y="500"/>
                  <a:pt x="1735" y="500"/>
                </a:cubicBezTo>
                <a:cubicBezTo>
                  <a:pt x="1736" y="499"/>
                  <a:pt x="1736" y="499"/>
                  <a:pt x="1736" y="499"/>
                </a:cubicBezTo>
                <a:cubicBezTo>
                  <a:pt x="1736" y="498"/>
                  <a:pt x="1736" y="498"/>
                  <a:pt x="1736" y="498"/>
                </a:cubicBezTo>
                <a:cubicBezTo>
                  <a:pt x="1738" y="498"/>
                  <a:pt x="1738" y="498"/>
                  <a:pt x="1738" y="498"/>
                </a:cubicBezTo>
                <a:cubicBezTo>
                  <a:pt x="1747" y="497"/>
                  <a:pt x="1747" y="497"/>
                  <a:pt x="1747" y="497"/>
                </a:cubicBezTo>
                <a:cubicBezTo>
                  <a:pt x="1759" y="487"/>
                  <a:pt x="1759" y="487"/>
                  <a:pt x="1759" y="487"/>
                </a:cubicBezTo>
                <a:cubicBezTo>
                  <a:pt x="1773" y="445"/>
                  <a:pt x="1773" y="445"/>
                  <a:pt x="1773" y="445"/>
                </a:cubicBezTo>
                <a:cubicBezTo>
                  <a:pt x="1774" y="445"/>
                  <a:pt x="1774" y="445"/>
                  <a:pt x="1774" y="445"/>
                </a:cubicBezTo>
                <a:cubicBezTo>
                  <a:pt x="1774" y="444"/>
                  <a:pt x="1774" y="444"/>
                  <a:pt x="1774" y="444"/>
                </a:cubicBezTo>
                <a:cubicBezTo>
                  <a:pt x="1791" y="425"/>
                  <a:pt x="1791" y="425"/>
                  <a:pt x="1791" y="425"/>
                </a:cubicBezTo>
                <a:cubicBezTo>
                  <a:pt x="1791" y="424"/>
                  <a:pt x="1791" y="424"/>
                  <a:pt x="1791" y="424"/>
                </a:cubicBezTo>
                <a:cubicBezTo>
                  <a:pt x="1792" y="424"/>
                  <a:pt x="1792" y="424"/>
                  <a:pt x="1792" y="424"/>
                </a:cubicBezTo>
                <a:cubicBezTo>
                  <a:pt x="1793" y="424"/>
                  <a:pt x="1793" y="424"/>
                  <a:pt x="1793" y="424"/>
                </a:cubicBezTo>
                <a:cubicBezTo>
                  <a:pt x="1812" y="419"/>
                  <a:pt x="1812" y="419"/>
                  <a:pt x="1812" y="419"/>
                </a:cubicBezTo>
                <a:cubicBezTo>
                  <a:pt x="1812" y="421"/>
                  <a:pt x="1812" y="421"/>
                  <a:pt x="1812" y="421"/>
                </a:cubicBezTo>
                <a:cubicBezTo>
                  <a:pt x="1824" y="431"/>
                  <a:pt x="1824" y="431"/>
                  <a:pt x="1824" y="431"/>
                </a:cubicBezTo>
                <a:cubicBezTo>
                  <a:pt x="1829" y="432"/>
                  <a:pt x="1829" y="432"/>
                  <a:pt x="1829" y="432"/>
                </a:cubicBezTo>
                <a:cubicBezTo>
                  <a:pt x="1836" y="400"/>
                  <a:pt x="1836" y="400"/>
                  <a:pt x="1836" y="400"/>
                </a:cubicBezTo>
                <a:cubicBezTo>
                  <a:pt x="1829" y="376"/>
                  <a:pt x="1829" y="376"/>
                  <a:pt x="1829" y="376"/>
                </a:cubicBezTo>
                <a:cubicBezTo>
                  <a:pt x="1827" y="375"/>
                  <a:pt x="1827" y="375"/>
                  <a:pt x="1827" y="375"/>
                </a:cubicBezTo>
                <a:cubicBezTo>
                  <a:pt x="1827" y="373"/>
                  <a:pt x="1827" y="373"/>
                  <a:pt x="1827" y="373"/>
                </a:cubicBezTo>
                <a:cubicBezTo>
                  <a:pt x="1831" y="347"/>
                  <a:pt x="1831" y="347"/>
                  <a:pt x="1831" y="347"/>
                </a:cubicBezTo>
                <a:cubicBezTo>
                  <a:pt x="1831" y="345"/>
                  <a:pt x="1831" y="345"/>
                  <a:pt x="1831" y="345"/>
                </a:cubicBezTo>
                <a:cubicBezTo>
                  <a:pt x="1843" y="331"/>
                  <a:pt x="1843" y="331"/>
                  <a:pt x="1843" y="331"/>
                </a:cubicBezTo>
                <a:cubicBezTo>
                  <a:pt x="1852" y="316"/>
                  <a:pt x="1852" y="316"/>
                  <a:pt x="1852" y="316"/>
                </a:cubicBezTo>
                <a:cubicBezTo>
                  <a:pt x="1853" y="304"/>
                  <a:pt x="1853" y="304"/>
                  <a:pt x="1853" y="304"/>
                </a:cubicBezTo>
                <a:cubicBezTo>
                  <a:pt x="1853" y="297"/>
                  <a:pt x="1850" y="287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46"/>
                  <a:pt x="1843" y="246"/>
                  <a:pt x="1843" y="246"/>
                </a:cubicBezTo>
                <a:cubicBezTo>
                  <a:pt x="1843" y="245"/>
                  <a:pt x="1843" y="245"/>
                  <a:pt x="1843" y="245"/>
                </a:cubicBezTo>
                <a:cubicBezTo>
                  <a:pt x="1849" y="222"/>
                  <a:pt x="1849" y="222"/>
                  <a:pt x="1849" y="222"/>
                </a:cubicBezTo>
                <a:cubicBezTo>
                  <a:pt x="1844" y="213"/>
                  <a:pt x="1841" y="205"/>
                  <a:pt x="1841" y="200"/>
                </a:cubicBezTo>
                <a:lnTo>
                  <a:pt x="1845" y="17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椭圆 112"/>
          <p:cNvSpPr/>
          <p:nvPr/>
        </p:nvSpPr>
        <p:spPr>
          <a:xfrm>
            <a:off x="4857840" y="1428840"/>
            <a:ext cx="642960" cy="642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椭圆 113"/>
          <p:cNvSpPr/>
          <p:nvPr/>
        </p:nvSpPr>
        <p:spPr>
          <a:xfrm>
            <a:off x="4857840" y="2500200"/>
            <a:ext cx="642960" cy="642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椭圆 114"/>
          <p:cNvSpPr/>
          <p:nvPr/>
        </p:nvSpPr>
        <p:spPr>
          <a:xfrm>
            <a:off x="4862520" y="3556080"/>
            <a:ext cx="642960" cy="642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15"/>
          <p:cNvSpPr/>
          <p:nvPr/>
        </p:nvSpPr>
        <p:spPr>
          <a:xfrm>
            <a:off x="4843440" y="15066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3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16"/>
          <p:cNvSpPr/>
          <p:nvPr/>
        </p:nvSpPr>
        <p:spPr>
          <a:xfrm>
            <a:off x="4857840" y="25718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17"/>
          <p:cNvSpPr/>
          <p:nvPr/>
        </p:nvSpPr>
        <p:spPr>
          <a:xfrm>
            <a:off x="4865760" y="36450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6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图片 77" descr=""/>
          <p:cNvPicPr/>
          <p:nvPr/>
        </p:nvPicPr>
        <p:blipFill>
          <a:blip r:embed="rId1"/>
          <a:stretch/>
        </p:blipFill>
        <p:spPr>
          <a:xfrm>
            <a:off x="2986200" y="2147760"/>
            <a:ext cx="469800" cy="44784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79" descr=""/>
          <p:cNvPicPr/>
          <p:nvPr/>
        </p:nvPicPr>
        <p:blipFill>
          <a:blip r:embed="rId2"/>
          <a:stretch/>
        </p:blipFill>
        <p:spPr>
          <a:xfrm>
            <a:off x="1631880" y="2678040"/>
            <a:ext cx="487440" cy="5907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80" descr=""/>
          <p:cNvPicPr/>
          <p:nvPr/>
        </p:nvPicPr>
        <p:blipFill>
          <a:blip r:embed="rId3"/>
          <a:stretch/>
        </p:blipFill>
        <p:spPr>
          <a:xfrm>
            <a:off x="2970360" y="3552840"/>
            <a:ext cx="568080" cy="56988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81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331" name="燕尾形 82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燕尾形 83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燕尾形 84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燕尾形 85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8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组合 4"/>
          <p:cNvGrpSpPr/>
          <p:nvPr/>
        </p:nvGrpSpPr>
        <p:grpSpPr>
          <a:xfrm>
            <a:off x="3000240" y="1271880"/>
            <a:ext cx="2928960" cy="3012480"/>
            <a:chOff x="3000240" y="1271880"/>
            <a:chExt cx="2928960" cy="3012480"/>
          </a:xfrm>
        </p:grpSpPr>
        <p:sp>
          <p:nvSpPr>
            <p:cNvPr id="337" name="椭圆 1"/>
            <p:cNvSpPr/>
            <p:nvPr/>
          </p:nvSpPr>
          <p:spPr>
            <a:xfrm rot="1906200">
              <a:off x="4052880" y="1285920"/>
              <a:ext cx="896760" cy="2962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椭圆 2"/>
            <p:cNvSpPr/>
            <p:nvPr/>
          </p:nvSpPr>
          <p:spPr>
            <a:xfrm rot="19526400">
              <a:off x="4092120" y="1328760"/>
              <a:ext cx="898560" cy="2962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椭圆 3"/>
            <p:cNvSpPr/>
            <p:nvPr/>
          </p:nvSpPr>
          <p:spPr>
            <a:xfrm rot="16200000">
              <a:off x="4023360" y="1309680"/>
              <a:ext cx="882360" cy="29289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椭圆 5"/>
          <p:cNvSpPr/>
          <p:nvPr/>
        </p:nvSpPr>
        <p:spPr>
          <a:xfrm>
            <a:off x="4643280" y="1714680"/>
            <a:ext cx="142920" cy="142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椭圆 6"/>
          <p:cNvSpPr/>
          <p:nvPr/>
        </p:nvSpPr>
        <p:spPr>
          <a:xfrm>
            <a:off x="5357880" y="357192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椭圆 7"/>
          <p:cNvSpPr/>
          <p:nvPr/>
        </p:nvSpPr>
        <p:spPr>
          <a:xfrm>
            <a:off x="3201840" y="295128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16"/>
          <p:cNvSpPr/>
          <p:nvPr/>
        </p:nvSpPr>
        <p:spPr>
          <a:xfrm>
            <a:off x="5500800" y="121284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9"/>
          <p:cNvSpPr/>
          <p:nvPr/>
        </p:nvSpPr>
        <p:spPr>
          <a:xfrm>
            <a:off x="5530680" y="9288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16"/>
          <p:cNvSpPr/>
          <p:nvPr/>
        </p:nvSpPr>
        <p:spPr>
          <a:xfrm>
            <a:off x="6000840" y="371304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11"/>
          <p:cNvSpPr/>
          <p:nvPr/>
        </p:nvSpPr>
        <p:spPr>
          <a:xfrm>
            <a:off x="6031080" y="34290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6"/>
          <p:cNvSpPr/>
          <p:nvPr/>
        </p:nvSpPr>
        <p:spPr>
          <a:xfrm>
            <a:off x="785880" y="314172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3"/>
          <p:cNvSpPr/>
          <p:nvPr/>
        </p:nvSpPr>
        <p:spPr>
          <a:xfrm>
            <a:off x="816120" y="285768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组合 17"/>
          <p:cNvGrpSpPr/>
          <p:nvPr/>
        </p:nvGrpSpPr>
        <p:grpSpPr>
          <a:xfrm>
            <a:off x="428400" y="2857680"/>
            <a:ext cx="428400" cy="322200"/>
            <a:chOff x="428400" y="2857680"/>
            <a:chExt cx="428400" cy="322200"/>
          </a:xfrm>
        </p:grpSpPr>
        <p:sp>
          <p:nvSpPr>
            <p:cNvPr id="350" name="等腰三角形 18"/>
            <p:cNvSpPr/>
            <p:nvPr/>
          </p:nvSpPr>
          <p:spPr>
            <a:xfrm rot="5400000">
              <a:off x="552960" y="2876040"/>
              <a:ext cx="322200" cy="285480"/>
            </a:xfrm>
            <a:prstGeom prst="triangle">
              <a:avLst>
                <a:gd name="adj" fmla="val 50000"/>
              </a:avLst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等腰三角形 19"/>
            <p:cNvSpPr/>
            <p:nvPr/>
          </p:nvSpPr>
          <p:spPr>
            <a:xfrm rot="5400000">
              <a:off x="410760" y="2911320"/>
              <a:ext cx="249120" cy="214200"/>
            </a:xfrm>
            <a:prstGeom prst="triangle">
              <a:avLst>
                <a:gd name="adj" fmla="val 50000"/>
              </a:avLst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0"/>
          <p:cNvGrpSpPr/>
          <p:nvPr/>
        </p:nvGrpSpPr>
        <p:grpSpPr>
          <a:xfrm>
            <a:off x="5643360" y="3500280"/>
            <a:ext cx="428400" cy="322560"/>
            <a:chOff x="5643360" y="3500280"/>
            <a:chExt cx="428400" cy="322560"/>
          </a:xfrm>
        </p:grpSpPr>
        <p:sp>
          <p:nvSpPr>
            <p:cNvPr id="353" name="等腰三角形 21"/>
            <p:cNvSpPr/>
            <p:nvPr/>
          </p:nvSpPr>
          <p:spPr>
            <a:xfrm rot="5400000">
              <a:off x="5767560" y="3518640"/>
              <a:ext cx="322560" cy="285480"/>
            </a:xfrm>
            <a:prstGeom prst="triangle">
              <a:avLst>
                <a:gd name="adj" fmla="val 50000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等腰三角形 22"/>
            <p:cNvSpPr/>
            <p:nvPr/>
          </p:nvSpPr>
          <p:spPr>
            <a:xfrm rot="5400000">
              <a:off x="5625720" y="3554280"/>
              <a:ext cx="249480" cy="214200"/>
            </a:xfrm>
            <a:prstGeom prst="triangle">
              <a:avLst>
                <a:gd name="adj" fmla="val 50000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20"/>
          <p:cNvGrpSpPr/>
          <p:nvPr/>
        </p:nvGrpSpPr>
        <p:grpSpPr>
          <a:xfrm>
            <a:off x="5101920" y="990720"/>
            <a:ext cx="428400" cy="322200"/>
            <a:chOff x="5101920" y="990720"/>
            <a:chExt cx="428400" cy="322200"/>
          </a:xfrm>
        </p:grpSpPr>
        <p:sp>
          <p:nvSpPr>
            <p:cNvPr id="356" name="等腰三角形 34"/>
            <p:cNvSpPr/>
            <p:nvPr/>
          </p:nvSpPr>
          <p:spPr>
            <a:xfrm rot="5400000">
              <a:off x="5226480" y="1009080"/>
              <a:ext cx="322200" cy="28548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等腰三角形 35"/>
            <p:cNvSpPr/>
            <p:nvPr/>
          </p:nvSpPr>
          <p:spPr>
            <a:xfrm rot="5400000">
              <a:off x="5084280" y="1044360"/>
              <a:ext cx="249120" cy="21420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8" name="图片 11" descr=""/>
          <p:cNvPicPr/>
          <p:nvPr/>
        </p:nvPicPr>
        <p:blipFill>
          <a:blip r:embed="rId1"/>
          <a:stretch/>
        </p:blipFill>
        <p:spPr>
          <a:xfrm>
            <a:off x="4213080" y="2470320"/>
            <a:ext cx="532080" cy="671400"/>
          </a:xfrm>
          <a:prstGeom prst="rect">
            <a:avLst/>
          </a:prstGeom>
          <a:ln w="0">
            <a:noFill/>
          </a:ln>
        </p:spPr>
      </p:pic>
      <p:grpSp>
        <p:nvGrpSpPr>
          <p:cNvPr id="359" name="组合 3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360" name="燕尾形 39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燕尾形 40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燕尾形 41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燕尾形 42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43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组合 5"/>
          <p:cNvGrpSpPr/>
          <p:nvPr/>
        </p:nvGrpSpPr>
        <p:grpSpPr>
          <a:xfrm>
            <a:off x="1135440" y="1243800"/>
            <a:ext cx="1833120" cy="1833120"/>
            <a:chOff x="1135440" y="1243800"/>
            <a:chExt cx="1833120" cy="1833120"/>
          </a:xfrm>
        </p:grpSpPr>
        <p:sp>
          <p:nvSpPr>
            <p:cNvPr id="366" name="矩形 1"/>
            <p:cNvSpPr/>
            <p:nvPr/>
          </p:nvSpPr>
          <p:spPr>
            <a:xfrm rot="18859200">
              <a:off x="1404000" y="1511640"/>
              <a:ext cx="1295640" cy="129708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直接连接符 2"/>
            <p:cNvSpPr/>
            <p:nvPr/>
          </p:nvSpPr>
          <p:spPr>
            <a:xfrm>
              <a:off x="1495080" y="2179440"/>
              <a:ext cx="1076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文本框 3"/>
            <p:cNvSpPr/>
            <p:nvPr/>
          </p:nvSpPr>
          <p:spPr>
            <a:xfrm>
              <a:off x="1577160" y="21607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tep 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组合 6"/>
          <p:cNvGrpSpPr/>
          <p:nvPr/>
        </p:nvGrpSpPr>
        <p:grpSpPr>
          <a:xfrm>
            <a:off x="3655800" y="1263600"/>
            <a:ext cx="1832760" cy="1833120"/>
            <a:chOff x="3655800" y="1263600"/>
            <a:chExt cx="1832760" cy="1833120"/>
          </a:xfrm>
        </p:grpSpPr>
        <p:sp>
          <p:nvSpPr>
            <p:cNvPr id="370" name="矩形 7"/>
            <p:cNvSpPr/>
            <p:nvPr/>
          </p:nvSpPr>
          <p:spPr>
            <a:xfrm rot="18859200">
              <a:off x="3923640" y="1532520"/>
              <a:ext cx="1297080" cy="129528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8"/>
            <p:cNvSpPr/>
            <p:nvPr/>
          </p:nvSpPr>
          <p:spPr>
            <a:xfrm>
              <a:off x="4016160" y="2200320"/>
              <a:ext cx="10746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9"/>
            <p:cNvSpPr/>
            <p:nvPr/>
          </p:nvSpPr>
          <p:spPr>
            <a:xfrm>
              <a:off x="4098240" y="21805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tep 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11"/>
          <p:cNvGrpSpPr/>
          <p:nvPr/>
        </p:nvGrpSpPr>
        <p:grpSpPr>
          <a:xfrm>
            <a:off x="6103800" y="1263600"/>
            <a:ext cx="1832760" cy="1833120"/>
            <a:chOff x="6103800" y="1263600"/>
            <a:chExt cx="1832760" cy="1833120"/>
          </a:xfrm>
        </p:grpSpPr>
        <p:sp>
          <p:nvSpPr>
            <p:cNvPr id="374" name="矩形 12"/>
            <p:cNvSpPr/>
            <p:nvPr/>
          </p:nvSpPr>
          <p:spPr>
            <a:xfrm rot="18859200">
              <a:off x="6371640" y="1532520"/>
              <a:ext cx="1297080" cy="1295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直接连接符 13"/>
            <p:cNvSpPr/>
            <p:nvPr/>
          </p:nvSpPr>
          <p:spPr>
            <a:xfrm>
              <a:off x="6464160" y="2200320"/>
              <a:ext cx="10746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文本框 14"/>
            <p:cNvSpPr/>
            <p:nvPr/>
          </p:nvSpPr>
          <p:spPr>
            <a:xfrm>
              <a:off x="6546240" y="21805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tep 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半闭框 18"/>
          <p:cNvSpPr/>
          <p:nvPr/>
        </p:nvSpPr>
        <p:spPr>
          <a:xfrm rot="8098800">
            <a:off x="2756160" y="1878480"/>
            <a:ext cx="550800" cy="546120"/>
          </a:xfrm>
          <a:custGeom>
            <a:avLst/>
            <a:gdLst/>
            <a:ahLst/>
            <a:rect l="l" t="t" r="r" b="b"/>
            <a:pathLst>
              <a:path w="550863" h="546100">
                <a:moveTo>
                  <a:pt x="0" y="0"/>
                </a:moveTo>
                <a:lnTo>
                  <a:pt x="550863" y="0"/>
                </a:lnTo>
                <a:lnTo>
                  <a:pt x="477786" y="72446"/>
                </a:lnTo>
                <a:lnTo>
                  <a:pt x="72446" y="72446"/>
                </a:lnTo>
                <a:lnTo>
                  <a:pt x="72446" y="474281"/>
                </a:lnTo>
                <a:lnTo>
                  <a:pt x="0" y="546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半闭框 19"/>
          <p:cNvSpPr/>
          <p:nvPr/>
        </p:nvSpPr>
        <p:spPr>
          <a:xfrm rot="8098800">
            <a:off x="5204160" y="1878480"/>
            <a:ext cx="550800" cy="546120"/>
          </a:xfrm>
          <a:custGeom>
            <a:avLst/>
            <a:gdLst/>
            <a:ahLst/>
            <a:rect l="l" t="t" r="r" b="b"/>
            <a:pathLst>
              <a:path w="550863" h="546100">
                <a:moveTo>
                  <a:pt x="0" y="0"/>
                </a:moveTo>
                <a:lnTo>
                  <a:pt x="550863" y="0"/>
                </a:lnTo>
                <a:lnTo>
                  <a:pt x="477786" y="72446"/>
                </a:lnTo>
                <a:lnTo>
                  <a:pt x="72446" y="72446"/>
                </a:lnTo>
                <a:lnTo>
                  <a:pt x="72446" y="474281"/>
                </a:lnTo>
                <a:lnTo>
                  <a:pt x="0" y="546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025640" y="3651120"/>
            <a:ext cx="705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A designer can use default text to simulate what text would look like. If it is not real text. A designer can use default text to simulate what text would look lik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图片 10" descr=""/>
          <p:cNvPicPr/>
          <p:nvPr/>
        </p:nvPicPr>
        <p:blipFill>
          <a:blip r:embed="rId1"/>
          <a:stretch/>
        </p:blipFill>
        <p:spPr>
          <a:xfrm>
            <a:off x="4259160" y="1495440"/>
            <a:ext cx="552600" cy="69372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15" descr=""/>
          <p:cNvPicPr/>
          <p:nvPr/>
        </p:nvPicPr>
        <p:blipFill>
          <a:blip r:embed="rId2"/>
          <a:stretch/>
        </p:blipFill>
        <p:spPr>
          <a:xfrm>
            <a:off x="1716120" y="1533600"/>
            <a:ext cx="623880" cy="59364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1" descr=""/>
          <p:cNvPicPr/>
          <p:nvPr/>
        </p:nvPicPr>
        <p:blipFill>
          <a:blip r:embed="rId3"/>
          <a:stretch/>
        </p:blipFill>
        <p:spPr>
          <a:xfrm>
            <a:off x="6738840" y="1565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83" name="文本框 7"/>
          <p:cNvSpPr/>
          <p:nvPr/>
        </p:nvSpPr>
        <p:spPr>
          <a:xfrm>
            <a:off x="3592440" y="3328920"/>
            <a:ext cx="20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组合 31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385" name="燕尾形 32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燕尾形 33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燕尾形 34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燕尾形 35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矩形 3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3"/>
          <p:cNvSpPr/>
          <p:nvPr/>
        </p:nvSpPr>
        <p:spPr>
          <a:xfrm>
            <a:off x="1131840" y="1859040"/>
            <a:ext cx="185760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4606920" y="183816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椭圆 1"/>
          <p:cNvSpPr/>
          <p:nvPr/>
        </p:nvSpPr>
        <p:spPr>
          <a:xfrm>
            <a:off x="1357200" y="2476440"/>
            <a:ext cx="214560" cy="214200"/>
          </a:xfrm>
          <a:prstGeom prst="ellipse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2"/>
          <p:cNvSpPr/>
          <p:nvPr/>
        </p:nvSpPr>
        <p:spPr>
          <a:xfrm>
            <a:off x="3357720" y="2476440"/>
            <a:ext cx="214200" cy="214200"/>
          </a:xfrm>
          <a:prstGeom prst="ellipse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直接连接符 6"/>
          <p:cNvSpPr/>
          <p:nvPr/>
        </p:nvSpPr>
        <p:spPr>
          <a:xfrm>
            <a:off x="1619280" y="2584440"/>
            <a:ext cx="1692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椭圆 9"/>
          <p:cNvSpPr/>
          <p:nvPr/>
        </p:nvSpPr>
        <p:spPr>
          <a:xfrm>
            <a:off x="5715000" y="2476440"/>
            <a:ext cx="214200" cy="2142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椭圆 10"/>
          <p:cNvSpPr/>
          <p:nvPr/>
        </p:nvSpPr>
        <p:spPr>
          <a:xfrm>
            <a:off x="7715160" y="2476440"/>
            <a:ext cx="214560" cy="214200"/>
          </a:xfrm>
          <a:prstGeom prst="ellipse">
            <a:avLst/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直接连接符 11"/>
          <p:cNvSpPr/>
          <p:nvPr/>
        </p:nvSpPr>
        <p:spPr>
          <a:xfrm>
            <a:off x="6012000" y="2584440"/>
            <a:ext cx="16556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直接连接符 12"/>
          <p:cNvSpPr/>
          <p:nvPr/>
        </p:nvSpPr>
        <p:spPr>
          <a:xfrm>
            <a:off x="3635280" y="2603520"/>
            <a:ext cx="2016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16"/>
          <p:cNvSpPr/>
          <p:nvPr/>
        </p:nvSpPr>
        <p:spPr>
          <a:xfrm>
            <a:off x="7991640" y="2603520"/>
            <a:ext cx="468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17"/>
          <p:cNvSpPr/>
          <p:nvPr/>
        </p:nvSpPr>
        <p:spPr>
          <a:xfrm>
            <a:off x="936720" y="2603520"/>
            <a:ext cx="3585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直接连接符 18"/>
          <p:cNvSpPr/>
          <p:nvPr/>
        </p:nvSpPr>
        <p:spPr>
          <a:xfrm flipH="1" flipV="1">
            <a:off x="928800" y="2619000"/>
            <a:ext cx="17280" cy="70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32"/>
          <p:cNvSpPr/>
          <p:nvPr/>
        </p:nvSpPr>
        <p:spPr>
          <a:xfrm>
            <a:off x="1285920" y="1119240"/>
            <a:ext cx="1428840" cy="3571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33"/>
          <p:cNvSpPr/>
          <p:nvPr/>
        </p:nvSpPr>
        <p:spPr>
          <a:xfrm>
            <a:off x="1214280" y="1476360"/>
            <a:ext cx="28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34"/>
          <p:cNvSpPr/>
          <p:nvPr/>
        </p:nvSpPr>
        <p:spPr>
          <a:xfrm>
            <a:off x="2786040" y="3119400"/>
            <a:ext cx="1428840" cy="35712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35"/>
          <p:cNvSpPr/>
          <p:nvPr/>
        </p:nvSpPr>
        <p:spPr>
          <a:xfrm>
            <a:off x="2214720" y="3476520"/>
            <a:ext cx="285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36"/>
          <p:cNvSpPr/>
          <p:nvPr/>
        </p:nvSpPr>
        <p:spPr>
          <a:xfrm>
            <a:off x="5072040" y="1119240"/>
            <a:ext cx="1428840" cy="357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37"/>
          <p:cNvSpPr/>
          <p:nvPr/>
        </p:nvSpPr>
        <p:spPr>
          <a:xfrm>
            <a:off x="4500720" y="1476360"/>
            <a:ext cx="285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38"/>
          <p:cNvSpPr/>
          <p:nvPr/>
        </p:nvSpPr>
        <p:spPr>
          <a:xfrm>
            <a:off x="7072200" y="3119400"/>
            <a:ext cx="1428840" cy="357120"/>
          </a:xfrm>
          <a:prstGeom prst="rect">
            <a:avLst/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矩形 39"/>
          <p:cNvSpPr/>
          <p:nvPr/>
        </p:nvSpPr>
        <p:spPr>
          <a:xfrm>
            <a:off x="5715000" y="3476520"/>
            <a:ext cx="28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等腰三角形 40"/>
          <p:cNvSpPr/>
          <p:nvPr/>
        </p:nvSpPr>
        <p:spPr>
          <a:xfrm>
            <a:off x="1428840" y="2333520"/>
            <a:ext cx="7128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等腰三角形 41"/>
          <p:cNvSpPr/>
          <p:nvPr/>
        </p:nvSpPr>
        <p:spPr>
          <a:xfrm>
            <a:off x="5786280" y="2333520"/>
            <a:ext cx="7164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等腰三角形 42"/>
          <p:cNvSpPr/>
          <p:nvPr/>
        </p:nvSpPr>
        <p:spPr>
          <a:xfrm rot="10800000">
            <a:off x="3429000" y="2833200"/>
            <a:ext cx="7128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等腰三角形 43"/>
          <p:cNvSpPr/>
          <p:nvPr/>
        </p:nvSpPr>
        <p:spPr>
          <a:xfrm rot="10800000">
            <a:off x="7786800" y="2833200"/>
            <a:ext cx="7128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图片 3" descr=""/>
          <p:cNvPicPr/>
          <p:nvPr/>
        </p:nvPicPr>
        <p:blipFill>
          <a:blip r:embed="rId1"/>
          <a:stretch/>
        </p:blipFill>
        <p:spPr>
          <a:xfrm>
            <a:off x="324000" y="3327480"/>
            <a:ext cx="1401480" cy="1189080"/>
          </a:xfrm>
          <a:prstGeom prst="rect">
            <a:avLst/>
          </a:prstGeom>
          <a:ln w="0">
            <a:noFill/>
          </a:ln>
        </p:spPr>
      </p:pic>
      <p:grpSp>
        <p:nvGrpSpPr>
          <p:cNvPr id="421" name="组合 45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422" name="燕尾形 46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燕尾形 47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燕尾形 48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燕尾形 49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50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1T06:18:05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09Z</dcterms:modified>
  <cp:revision>7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