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654DD-0BFD-40D9-AE0A-DC5F60182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24CD6-B7F3-4879-B1A9-055FB4BF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C35B7-71BD-4D40-839A-08AB9CE49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40C9D-501F-4855-854A-AF655EA6C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EDC3-F54B-417A-B7B4-A3E3B599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DF8B-847F-45DA-9F66-1CFD7F35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F4D5-1833-42CE-A190-BFBEC06D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1F347-7203-4A0A-8193-671E95722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FA97-5C79-47D7-ABF8-8E352DD7B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AFB1-8220-4F1F-92E3-E3B8043F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974C-5D9B-4D65-9580-2B706763A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8ED5-F5EB-43D4-9C58-78D63B807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EA0B-39F9-45C5-802A-5E216AB9078C}" type="datetime">
              <a:rPr b="0" lang="zh-CN" sz="2100" spc="-1" strike="noStrike">
                <a:solidFill>
                  <a:srgbClr val="8d8d8d"/>
                </a:solidFill>
                <a:latin typeface="Arial"/>
              </a:rPr>
              <a:t>26/7/29</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C92F-2549-4650-A643-936EC029DBF3}"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