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breeze.wav" ContentType="audio/x-wav"/>
  <Override PartName="/ppt/media/image6.png" ContentType="image/png"/>
  <Override PartName="/ppt/media/image29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16.png" ContentType="image/png"/>
  <Override PartName="/ppt/media/type.wav" ContentType="audio/x-wav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411120" y="0"/>
            <a:ext cx="1208160" cy="104148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"/>
          <p:cNvSpPr/>
          <p:nvPr/>
        </p:nvSpPr>
        <p:spPr>
          <a:xfrm>
            <a:off x="0" y="6488280"/>
            <a:ext cx="12192120" cy="384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5"/>
          <p:cNvSpPr/>
          <p:nvPr/>
        </p:nvSpPr>
        <p:spPr>
          <a:xfrm>
            <a:off x="11140920" y="6513480"/>
            <a:ext cx="871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</a:t>
            </a:r>
            <a:fld id="{B8048DA2-333D-48ED-AA63-0FC79C76B74E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1943280"/>
            <a:ext cx="121921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8"/>
          <p:cNvSpPr/>
          <p:nvPr/>
        </p:nvSpPr>
        <p:spPr>
          <a:xfrm>
            <a:off x="3132000" y="4257720"/>
            <a:ext cx="6172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接连接符 9"/>
          <p:cNvSpPr/>
          <p:nvPr/>
        </p:nvSpPr>
        <p:spPr>
          <a:xfrm>
            <a:off x="3395520" y="432756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0"/>
          <p:cNvSpPr/>
          <p:nvPr/>
        </p:nvSpPr>
        <p:spPr>
          <a:xfrm>
            <a:off x="3395520" y="418788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4079880" y="3995640"/>
            <a:ext cx="40305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技能分享系列之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67"/>
          <p:cNvSpPr/>
          <p:nvPr/>
        </p:nvSpPr>
        <p:spPr>
          <a:xfrm>
            <a:off x="5240160" y="550404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68"/>
          <p:cNvGrpSpPr/>
          <p:nvPr/>
        </p:nvGrpSpPr>
        <p:grpSpPr>
          <a:xfrm>
            <a:off x="5421240" y="5541840"/>
            <a:ext cx="616320" cy="947880"/>
            <a:chOff x="5421240" y="5541840"/>
            <a:chExt cx="616320" cy="947880"/>
          </a:xfrm>
        </p:grpSpPr>
        <p:sp>
          <p:nvSpPr>
            <p:cNvPr id="46" name="Freeform 1281"/>
            <p:cNvSpPr/>
            <p:nvPr/>
          </p:nvSpPr>
          <p:spPr>
            <a:xfrm>
              <a:off x="5761440" y="6381360"/>
              <a:ext cx="77400" cy="108360"/>
            </a:xfrm>
            <a:custGeom>
              <a:avLst/>
              <a:gdLst/>
              <a:ahLst/>
              <a:rect l="l" t="t" r="r" b="b"/>
              <a:pathLst>
                <a:path w="206" h="288">
                  <a:moveTo>
                    <a:pt x="206" y="0"/>
                  </a:moveTo>
                  <a:lnTo>
                    <a:pt x="146" y="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1" y="8"/>
                  </a:lnTo>
                  <a:lnTo>
                    <a:pt x="61" y="288"/>
                  </a:lnTo>
                  <a:lnTo>
                    <a:pt x="146" y="288"/>
                  </a:lnTo>
                  <a:lnTo>
                    <a:pt x="146" y="8"/>
                  </a:lnTo>
                  <a:lnTo>
                    <a:pt x="206" y="8"/>
                  </a:lnTo>
                  <a:lnTo>
                    <a:pt x="2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83"/>
            <p:cNvSpPr/>
            <p:nvPr/>
          </p:nvSpPr>
          <p:spPr>
            <a:xfrm>
              <a:off x="5852880" y="6381000"/>
              <a:ext cx="77760" cy="108720"/>
            </a:xfrm>
            <a:custGeom>
              <a:avLst/>
              <a:gdLst/>
              <a:ahLst/>
              <a:rect l="l" t="t" r="r" b="b"/>
              <a:pathLst>
                <a:path w="207" h="289">
                  <a:moveTo>
                    <a:pt x="207" y="0"/>
                  </a:moveTo>
                  <a:lnTo>
                    <a:pt x="85" y="0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289"/>
                  </a:lnTo>
                  <a:lnTo>
                    <a:pt x="55" y="289"/>
                  </a:lnTo>
                  <a:lnTo>
                    <a:pt x="85" y="289"/>
                  </a:lnTo>
                  <a:lnTo>
                    <a:pt x="207" y="289"/>
                  </a:lnTo>
                  <a:lnTo>
                    <a:pt x="207" y="281"/>
                  </a:lnTo>
                  <a:lnTo>
                    <a:pt x="85" y="281"/>
                  </a:lnTo>
                  <a:lnTo>
                    <a:pt x="85" y="64"/>
                  </a:lnTo>
                  <a:lnTo>
                    <a:pt x="161" y="64"/>
                  </a:lnTo>
                  <a:lnTo>
                    <a:pt x="161" y="56"/>
                  </a:lnTo>
                  <a:lnTo>
                    <a:pt x="85" y="56"/>
                  </a:lnTo>
                  <a:lnTo>
                    <a:pt x="85" y="8"/>
                  </a:lnTo>
                  <a:lnTo>
                    <a:pt x="207" y="8"/>
                  </a:lnTo>
                  <a:lnTo>
                    <a:pt x="20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84"/>
            <p:cNvSpPr/>
            <p:nvPr/>
          </p:nvSpPr>
          <p:spPr>
            <a:xfrm>
              <a:off x="603720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89"/>
            <p:cNvSpPr/>
            <p:nvPr/>
          </p:nvSpPr>
          <p:spPr>
            <a:xfrm>
              <a:off x="568512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92"/>
            <p:cNvSpPr/>
            <p:nvPr/>
          </p:nvSpPr>
          <p:spPr>
            <a:xfrm>
              <a:off x="5421240" y="6381360"/>
              <a:ext cx="93600" cy="108360"/>
            </a:xfrm>
            <a:custGeom>
              <a:avLst/>
              <a:gdLst/>
              <a:ahLst/>
              <a:rect l="l" t="t" r="r" b="b"/>
              <a:pathLst>
                <a:path w="249" h="288">
                  <a:moveTo>
                    <a:pt x="249" y="0"/>
                  </a:moveTo>
                  <a:lnTo>
                    <a:pt x="207" y="0"/>
                  </a:lnTo>
                  <a:lnTo>
                    <a:pt x="164" y="0"/>
                  </a:lnTo>
                  <a:lnTo>
                    <a:pt x="164" y="55"/>
                  </a:lnTo>
                  <a:lnTo>
                    <a:pt x="85" y="55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" y="288"/>
                  </a:lnTo>
                  <a:lnTo>
                    <a:pt x="85" y="64"/>
                  </a:lnTo>
                  <a:lnTo>
                    <a:pt x="164" y="64"/>
                  </a:lnTo>
                  <a:lnTo>
                    <a:pt x="164" y="288"/>
                  </a:lnTo>
                  <a:lnTo>
                    <a:pt x="207" y="288"/>
                  </a:lnTo>
                  <a:lnTo>
                    <a:pt x="249" y="288"/>
                  </a:lnTo>
                  <a:lnTo>
                    <a:pt x="2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93"/>
            <p:cNvSpPr/>
            <p:nvPr/>
          </p:nvSpPr>
          <p:spPr>
            <a:xfrm>
              <a:off x="5496840" y="5931720"/>
              <a:ext cx="454320" cy="160560"/>
            </a:xfrm>
            <a:custGeom>
              <a:avLst/>
              <a:gdLst/>
              <a:ahLst/>
              <a:rect l="l" t="t" r="r" b="b"/>
              <a:pathLst>
                <a:path w="1660" h="587">
                  <a:moveTo>
                    <a:pt x="1658" y="103"/>
                  </a:moveTo>
                  <a:cubicBezTo>
                    <a:pt x="1658" y="71"/>
                    <a:pt x="1653" y="83"/>
                    <a:pt x="1596" y="68"/>
                  </a:cubicBezTo>
                  <a:cubicBezTo>
                    <a:pt x="1539" y="52"/>
                    <a:pt x="1364" y="0"/>
                    <a:pt x="1096" y="39"/>
                  </a:cubicBezTo>
                  <a:cubicBezTo>
                    <a:pt x="872" y="72"/>
                    <a:pt x="929" y="146"/>
                    <a:pt x="837" y="149"/>
                  </a:cubicBezTo>
                  <a:cubicBezTo>
                    <a:pt x="823" y="149"/>
                    <a:pt x="823" y="149"/>
                    <a:pt x="823" y="149"/>
                  </a:cubicBezTo>
                  <a:cubicBezTo>
                    <a:pt x="731" y="146"/>
                    <a:pt x="788" y="72"/>
                    <a:pt x="564" y="39"/>
                  </a:cubicBezTo>
                  <a:cubicBezTo>
                    <a:pt x="296" y="0"/>
                    <a:pt x="121" y="52"/>
                    <a:pt x="64" y="68"/>
                  </a:cubicBezTo>
                  <a:cubicBezTo>
                    <a:pt x="7" y="83"/>
                    <a:pt x="2" y="71"/>
                    <a:pt x="2" y="103"/>
                  </a:cubicBezTo>
                  <a:cubicBezTo>
                    <a:pt x="3" y="135"/>
                    <a:pt x="0" y="161"/>
                    <a:pt x="27" y="161"/>
                  </a:cubicBezTo>
                  <a:cubicBezTo>
                    <a:pt x="55" y="161"/>
                    <a:pt x="55" y="161"/>
                    <a:pt x="98" y="296"/>
                  </a:cubicBezTo>
                  <a:cubicBezTo>
                    <a:pt x="150" y="458"/>
                    <a:pt x="164" y="504"/>
                    <a:pt x="214" y="541"/>
                  </a:cubicBezTo>
                  <a:cubicBezTo>
                    <a:pt x="275" y="587"/>
                    <a:pt x="531" y="587"/>
                    <a:pt x="614" y="537"/>
                  </a:cubicBezTo>
                  <a:cubicBezTo>
                    <a:pt x="717" y="475"/>
                    <a:pt x="704" y="241"/>
                    <a:pt x="828" y="238"/>
                  </a:cubicBezTo>
                  <a:cubicBezTo>
                    <a:pt x="829" y="238"/>
                    <a:pt x="831" y="238"/>
                    <a:pt x="832" y="238"/>
                  </a:cubicBezTo>
                  <a:cubicBezTo>
                    <a:pt x="956" y="241"/>
                    <a:pt x="943" y="475"/>
                    <a:pt x="1046" y="537"/>
                  </a:cubicBezTo>
                  <a:cubicBezTo>
                    <a:pt x="1129" y="587"/>
                    <a:pt x="1385" y="587"/>
                    <a:pt x="1446" y="541"/>
                  </a:cubicBezTo>
                  <a:cubicBezTo>
                    <a:pt x="1496" y="504"/>
                    <a:pt x="1510" y="458"/>
                    <a:pt x="1562" y="296"/>
                  </a:cubicBezTo>
                  <a:cubicBezTo>
                    <a:pt x="1605" y="161"/>
                    <a:pt x="1605" y="161"/>
                    <a:pt x="1633" y="161"/>
                  </a:cubicBezTo>
                  <a:cubicBezTo>
                    <a:pt x="1660" y="161"/>
                    <a:pt x="1657" y="135"/>
                    <a:pt x="1658" y="103"/>
                  </a:cubicBezTo>
                  <a:close/>
                  <a:moveTo>
                    <a:pt x="670" y="341"/>
                  </a:moveTo>
                  <a:cubicBezTo>
                    <a:pt x="644" y="407"/>
                    <a:pt x="624" y="465"/>
                    <a:pt x="588" y="489"/>
                  </a:cubicBezTo>
                  <a:cubicBezTo>
                    <a:pt x="550" y="515"/>
                    <a:pt x="494" y="520"/>
                    <a:pt x="411" y="519"/>
                  </a:cubicBezTo>
                  <a:cubicBezTo>
                    <a:pt x="341" y="517"/>
                    <a:pt x="266" y="520"/>
                    <a:pt x="234" y="490"/>
                  </a:cubicBezTo>
                  <a:cubicBezTo>
                    <a:pt x="208" y="465"/>
                    <a:pt x="182" y="386"/>
                    <a:pt x="160" y="316"/>
                  </a:cubicBezTo>
                  <a:cubicBezTo>
                    <a:pt x="129" y="219"/>
                    <a:pt x="115" y="161"/>
                    <a:pt x="146" y="132"/>
                  </a:cubicBezTo>
                  <a:cubicBezTo>
                    <a:pt x="185" y="97"/>
                    <a:pt x="286" y="91"/>
                    <a:pt x="405" y="89"/>
                  </a:cubicBezTo>
                  <a:cubicBezTo>
                    <a:pt x="524" y="88"/>
                    <a:pt x="682" y="123"/>
                    <a:pt x="702" y="170"/>
                  </a:cubicBezTo>
                  <a:cubicBezTo>
                    <a:pt x="718" y="205"/>
                    <a:pt x="693" y="282"/>
                    <a:pt x="670" y="341"/>
                  </a:cubicBezTo>
                  <a:close/>
                  <a:moveTo>
                    <a:pt x="1500" y="316"/>
                  </a:moveTo>
                  <a:cubicBezTo>
                    <a:pt x="1478" y="386"/>
                    <a:pt x="1452" y="465"/>
                    <a:pt x="1426" y="490"/>
                  </a:cubicBezTo>
                  <a:cubicBezTo>
                    <a:pt x="1394" y="520"/>
                    <a:pt x="1319" y="517"/>
                    <a:pt x="1249" y="519"/>
                  </a:cubicBezTo>
                  <a:cubicBezTo>
                    <a:pt x="1166" y="520"/>
                    <a:pt x="1110" y="515"/>
                    <a:pt x="1072" y="489"/>
                  </a:cubicBezTo>
                  <a:cubicBezTo>
                    <a:pt x="1036" y="465"/>
                    <a:pt x="1016" y="407"/>
                    <a:pt x="990" y="341"/>
                  </a:cubicBezTo>
                  <a:cubicBezTo>
                    <a:pt x="967" y="282"/>
                    <a:pt x="942" y="205"/>
                    <a:pt x="958" y="170"/>
                  </a:cubicBezTo>
                  <a:cubicBezTo>
                    <a:pt x="978" y="123"/>
                    <a:pt x="1136" y="88"/>
                    <a:pt x="1255" y="89"/>
                  </a:cubicBezTo>
                  <a:cubicBezTo>
                    <a:pt x="1374" y="91"/>
                    <a:pt x="1475" y="97"/>
                    <a:pt x="1514" y="132"/>
                  </a:cubicBezTo>
                  <a:cubicBezTo>
                    <a:pt x="1546" y="161"/>
                    <a:pt x="1531" y="219"/>
                    <a:pt x="1500" y="316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94"/>
            <p:cNvSpPr/>
            <p:nvPr/>
          </p:nvSpPr>
          <p:spPr>
            <a:xfrm>
              <a:off x="557856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0" y="347"/>
                  </a:moveTo>
                  <a:cubicBezTo>
                    <a:pt x="0" y="347"/>
                    <a:pt x="82" y="424"/>
                    <a:pt x="153" y="300"/>
                  </a:cubicBezTo>
                  <a:cubicBezTo>
                    <a:pt x="209" y="203"/>
                    <a:pt x="220" y="166"/>
                    <a:pt x="342" y="163"/>
                  </a:cubicBezTo>
                  <a:cubicBezTo>
                    <a:pt x="465" y="160"/>
                    <a:pt x="522" y="141"/>
                    <a:pt x="530" y="87"/>
                  </a:cubicBezTo>
                  <a:cubicBezTo>
                    <a:pt x="538" y="33"/>
                    <a:pt x="492" y="0"/>
                    <a:pt x="407" y="2"/>
                  </a:cubicBezTo>
                  <a:cubicBezTo>
                    <a:pt x="323" y="4"/>
                    <a:pt x="210" y="54"/>
                    <a:pt x="148" y="180"/>
                  </a:cubicBezTo>
                  <a:cubicBezTo>
                    <a:pt x="104" y="269"/>
                    <a:pt x="108" y="298"/>
                    <a:pt x="82" y="326"/>
                  </a:cubicBezTo>
                  <a:cubicBezTo>
                    <a:pt x="56" y="354"/>
                    <a:pt x="0" y="347"/>
                    <a:pt x="0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95"/>
            <p:cNvSpPr/>
            <p:nvPr/>
          </p:nvSpPr>
          <p:spPr>
            <a:xfrm>
              <a:off x="572184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538" y="347"/>
                  </a:moveTo>
                  <a:cubicBezTo>
                    <a:pt x="538" y="347"/>
                    <a:pt x="456" y="424"/>
                    <a:pt x="385" y="300"/>
                  </a:cubicBezTo>
                  <a:cubicBezTo>
                    <a:pt x="329" y="203"/>
                    <a:pt x="318" y="166"/>
                    <a:pt x="196" y="163"/>
                  </a:cubicBezTo>
                  <a:cubicBezTo>
                    <a:pt x="74" y="160"/>
                    <a:pt x="16" y="141"/>
                    <a:pt x="8" y="87"/>
                  </a:cubicBezTo>
                  <a:cubicBezTo>
                    <a:pt x="0" y="33"/>
                    <a:pt x="46" y="0"/>
                    <a:pt x="131" y="2"/>
                  </a:cubicBezTo>
                  <a:cubicBezTo>
                    <a:pt x="215" y="4"/>
                    <a:pt x="328" y="54"/>
                    <a:pt x="390" y="180"/>
                  </a:cubicBezTo>
                  <a:cubicBezTo>
                    <a:pt x="434" y="269"/>
                    <a:pt x="430" y="298"/>
                    <a:pt x="456" y="326"/>
                  </a:cubicBezTo>
                  <a:cubicBezTo>
                    <a:pt x="482" y="354"/>
                    <a:pt x="538" y="347"/>
                    <a:pt x="538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96"/>
            <p:cNvSpPr/>
            <p:nvPr/>
          </p:nvSpPr>
          <p:spPr>
            <a:xfrm>
              <a:off x="5528880" y="6107760"/>
              <a:ext cx="390600" cy="243360"/>
            </a:xfrm>
            <a:custGeom>
              <a:avLst/>
              <a:gdLst/>
              <a:ahLst/>
              <a:rect l="l" t="t" r="r" b="b"/>
              <a:pathLst>
                <a:path w="1427" h="890">
                  <a:moveTo>
                    <a:pt x="1260" y="225"/>
                  </a:moveTo>
                  <a:cubicBezTo>
                    <a:pt x="1249" y="317"/>
                    <a:pt x="1157" y="492"/>
                    <a:pt x="1018" y="547"/>
                  </a:cubicBezTo>
                  <a:cubicBezTo>
                    <a:pt x="879" y="602"/>
                    <a:pt x="841" y="467"/>
                    <a:pt x="792" y="416"/>
                  </a:cubicBezTo>
                  <a:cubicBezTo>
                    <a:pt x="753" y="376"/>
                    <a:pt x="724" y="374"/>
                    <a:pt x="713" y="375"/>
                  </a:cubicBezTo>
                  <a:cubicBezTo>
                    <a:pt x="702" y="374"/>
                    <a:pt x="673" y="376"/>
                    <a:pt x="634" y="416"/>
                  </a:cubicBezTo>
                  <a:cubicBezTo>
                    <a:pt x="585" y="467"/>
                    <a:pt x="547" y="602"/>
                    <a:pt x="408" y="547"/>
                  </a:cubicBezTo>
                  <a:cubicBezTo>
                    <a:pt x="269" y="492"/>
                    <a:pt x="177" y="317"/>
                    <a:pt x="166" y="225"/>
                  </a:cubicBezTo>
                  <a:cubicBezTo>
                    <a:pt x="143" y="32"/>
                    <a:pt x="0" y="0"/>
                    <a:pt x="0" y="0"/>
                  </a:cubicBezTo>
                  <a:cubicBezTo>
                    <a:pt x="0" y="0"/>
                    <a:pt x="41" y="368"/>
                    <a:pt x="90" y="446"/>
                  </a:cubicBezTo>
                  <a:cubicBezTo>
                    <a:pt x="139" y="523"/>
                    <a:pt x="332" y="684"/>
                    <a:pt x="462" y="788"/>
                  </a:cubicBezTo>
                  <a:cubicBezTo>
                    <a:pt x="590" y="890"/>
                    <a:pt x="643" y="880"/>
                    <a:pt x="713" y="880"/>
                  </a:cubicBezTo>
                  <a:cubicBezTo>
                    <a:pt x="783" y="880"/>
                    <a:pt x="836" y="890"/>
                    <a:pt x="964" y="788"/>
                  </a:cubicBezTo>
                  <a:cubicBezTo>
                    <a:pt x="1095" y="684"/>
                    <a:pt x="1287" y="523"/>
                    <a:pt x="1336" y="446"/>
                  </a:cubicBezTo>
                  <a:cubicBezTo>
                    <a:pt x="1385" y="368"/>
                    <a:pt x="1427" y="0"/>
                    <a:pt x="1427" y="0"/>
                  </a:cubicBezTo>
                  <a:cubicBezTo>
                    <a:pt x="1427" y="0"/>
                    <a:pt x="1284" y="32"/>
                    <a:pt x="1260" y="22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97"/>
            <p:cNvSpPr/>
            <p:nvPr/>
          </p:nvSpPr>
          <p:spPr>
            <a:xfrm>
              <a:off x="5425560" y="5712120"/>
              <a:ext cx="596520" cy="21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98"/>
            <p:cNvSpPr/>
            <p:nvPr/>
          </p:nvSpPr>
          <p:spPr>
            <a:xfrm>
              <a:off x="5527440" y="5541840"/>
              <a:ext cx="392400" cy="237960"/>
            </a:xfrm>
            <a:custGeom>
              <a:avLst/>
              <a:gdLst/>
              <a:ahLst/>
              <a:rect l="l" t="t" r="r" b="b"/>
              <a:pathLst>
                <a:path w="1434" h="870">
                  <a:moveTo>
                    <a:pt x="1430" y="673"/>
                  </a:moveTo>
                  <a:cubicBezTo>
                    <a:pt x="1430" y="672"/>
                    <a:pt x="1430" y="672"/>
                    <a:pt x="1430" y="672"/>
                  </a:cubicBezTo>
                  <a:cubicBezTo>
                    <a:pt x="1429" y="671"/>
                    <a:pt x="1429" y="671"/>
                    <a:pt x="1429" y="671"/>
                  </a:cubicBezTo>
                  <a:cubicBezTo>
                    <a:pt x="1429" y="671"/>
                    <a:pt x="1245" y="189"/>
                    <a:pt x="1156" y="95"/>
                  </a:cubicBezTo>
                  <a:cubicBezTo>
                    <a:pt x="1067" y="0"/>
                    <a:pt x="934" y="156"/>
                    <a:pt x="743" y="202"/>
                  </a:cubicBezTo>
                  <a:cubicBezTo>
                    <a:pt x="606" y="234"/>
                    <a:pt x="550" y="74"/>
                    <a:pt x="394" y="52"/>
                  </a:cubicBezTo>
                  <a:cubicBezTo>
                    <a:pt x="262" y="34"/>
                    <a:pt x="14" y="646"/>
                    <a:pt x="4" y="672"/>
                  </a:cubicBezTo>
                  <a:cubicBezTo>
                    <a:pt x="4" y="672"/>
                    <a:pt x="4" y="672"/>
                    <a:pt x="4" y="672"/>
                  </a:cubicBezTo>
                  <a:cubicBezTo>
                    <a:pt x="1" y="678"/>
                    <a:pt x="0" y="684"/>
                    <a:pt x="0" y="691"/>
                  </a:cubicBezTo>
                  <a:cubicBezTo>
                    <a:pt x="0" y="716"/>
                    <a:pt x="22" y="740"/>
                    <a:pt x="60" y="762"/>
                  </a:cubicBezTo>
                  <a:cubicBezTo>
                    <a:pt x="171" y="826"/>
                    <a:pt x="423" y="870"/>
                    <a:pt x="717" y="870"/>
                  </a:cubicBezTo>
                  <a:cubicBezTo>
                    <a:pt x="1011" y="870"/>
                    <a:pt x="1263" y="826"/>
                    <a:pt x="1374" y="762"/>
                  </a:cubicBezTo>
                  <a:cubicBezTo>
                    <a:pt x="1412" y="740"/>
                    <a:pt x="1434" y="716"/>
                    <a:pt x="1434" y="691"/>
                  </a:cubicBezTo>
                  <a:cubicBezTo>
                    <a:pt x="1434" y="685"/>
                    <a:pt x="1433" y="679"/>
                    <a:pt x="1430" y="67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99"/>
            <p:cNvSpPr/>
            <p:nvPr/>
          </p:nvSpPr>
          <p:spPr>
            <a:xfrm>
              <a:off x="5523840" y="5727960"/>
              <a:ext cx="5760" cy="1044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3" y="11"/>
                  </a:moveTo>
                  <a:cubicBezTo>
                    <a:pt x="13" y="7"/>
                    <a:pt x="14" y="3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6" y="30"/>
                    <a:pt x="13" y="20"/>
                    <a:pt x="13" y="1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00"/>
            <p:cNvSpPr/>
            <p:nvPr/>
          </p:nvSpPr>
          <p:spPr>
            <a:xfrm>
              <a:off x="5601240" y="5837040"/>
              <a:ext cx="97200" cy="90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1"/>
                  </a:moveTo>
                  <a:cubicBezTo>
                    <a:pt x="75" y="16"/>
                    <a:pt x="159" y="27"/>
                    <a:pt x="250" y="33"/>
                  </a:cubicBezTo>
                  <a:cubicBezTo>
                    <a:pt x="355" y="0"/>
                    <a:pt x="355" y="0"/>
                    <a:pt x="355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01"/>
            <p:cNvSpPr/>
            <p:nvPr/>
          </p:nvSpPr>
          <p:spPr>
            <a:xfrm>
              <a:off x="5528160" y="5725800"/>
              <a:ext cx="720" cy="2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5"/>
                    <a:pt x="2" y="3"/>
                    <a:pt x="3" y="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02"/>
            <p:cNvSpPr/>
            <p:nvPr/>
          </p:nvSpPr>
          <p:spPr>
            <a:xfrm>
              <a:off x="5742720" y="5806440"/>
              <a:ext cx="115200" cy="30240"/>
            </a:xfrm>
            <a:custGeom>
              <a:avLst/>
              <a:gdLst/>
              <a:ahLst/>
              <a:rect l="l" t="t" r="r" b="b"/>
              <a:pathLst>
                <a:path w="421" h="112">
                  <a:moveTo>
                    <a:pt x="0" y="86"/>
                  </a:moveTo>
                  <a:cubicBezTo>
                    <a:pt x="382" y="112"/>
                    <a:pt x="382" y="112"/>
                    <a:pt x="382" y="112"/>
                  </a:cubicBezTo>
                  <a:cubicBezTo>
                    <a:pt x="395" y="109"/>
                    <a:pt x="408" y="107"/>
                    <a:pt x="421" y="104"/>
                  </a:cubicBezTo>
                  <a:cubicBezTo>
                    <a:pt x="320" y="0"/>
                    <a:pt x="320" y="0"/>
                    <a:pt x="320" y="0"/>
                  </a:cubicBezTo>
                  <a:lnTo>
                    <a:pt x="0" y="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03"/>
            <p:cNvSpPr/>
            <p:nvPr/>
          </p:nvSpPr>
          <p:spPr>
            <a:xfrm>
              <a:off x="5673600" y="5778360"/>
              <a:ext cx="42840" cy="11160"/>
            </a:xfrm>
            <a:custGeom>
              <a:avLst/>
              <a:gdLst/>
              <a:ahLst/>
              <a:rect l="l" t="t" r="r" b="b"/>
              <a:pathLst>
                <a:path w="156" h="42">
                  <a:moveTo>
                    <a:pt x="156" y="6"/>
                  </a:moveTo>
                  <a:cubicBezTo>
                    <a:pt x="102" y="5"/>
                    <a:pt x="50" y="3"/>
                    <a:pt x="0" y="0"/>
                  </a:cubicBezTo>
                  <a:cubicBezTo>
                    <a:pt x="11" y="42"/>
                    <a:pt x="11" y="42"/>
                    <a:pt x="11" y="42"/>
                  </a:cubicBezTo>
                  <a:lnTo>
                    <a:pt x="156" y="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04"/>
            <p:cNvSpPr/>
            <p:nvPr/>
          </p:nvSpPr>
          <p:spPr>
            <a:xfrm>
              <a:off x="5676840" y="5779800"/>
              <a:ext cx="57960" cy="14040"/>
            </a:xfrm>
            <a:custGeom>
              <a:avLst/>
              <a:gdLst/>
              <a:ahLst/>
              <a:rect l="l" t="t" r="r" b="b"/>
              <a:pathLst>
                <a:path w="211" h="52">
                  <a:moveTo>
                    <a:pt x="144" y="52"/>
                  </a:moveTo>
                  <a:cubicBezTo>
                    <a:pt x="211" y="0"/>
                    <a:pt x="211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ubicBezTo>
                    <a:pt x="163" y="0"/>
                    <a:pt x="154" y="0"/>
                    <a:pt x="145" y="0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144" y="5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05"/>
            <p:cNvSpPr/>
            <p:nvPr/>
          </p:nvSpPr>
          <p:spPr>
            <a:xfrm>
              <a:off x="5571360" y="5761440"/>
              <a:ext cx="3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6"/>
            <p:cNvSpPr/>
            <p:nvPr/>
          </p:nvSpPr>
          <p:spPr>
            <a:xfrm>
              <a:off x="5521680" y="5738040"/>
              <a:ext cx="37440" cy="19080"/>
            </a:xfrm>
            <a:custGeom>
              <a:avLst/>
              <a:gdLst/>
              <a:ahLst/>
              <a:rect l="l" t="t" r="r" b="b"/>
              <a:pathLst>
                <a:path w="137" h="71">
                  <a:moveTo>
                    <a:pt x="82" y="45"/>
                  </a:moveTo>
                  <a:cubicBezTo>
                    <a:pt x="58" y="32"/>
                    <a:pt x="41" y="17"/>
                    <a:pt x="31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37" y="71"/>
                    <a:pt x="137" y="71"/>
                    <a:pt x="137" y="71"/>
                  </a:cubicBezTo>
                  <a:cubicBezTo>
                    <a:pt x="116" y="63"/>
                    <a:pt x="98" y="54"/>
                    <a:pt x="82" y="4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07"/>
            <p:cNvSpPr/>
            <p:nvPr/>
          </p:nvSpPr>
          <p:spPr>
            <a:xfrm>
              <a:off x="5506920" y="5744520"/>
              <a:ext cx="64440" cy="5868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234" y="63"/>
                  </a:moveTo>
                  <a:cubicBezTo>
                    <a:pt x="218" y="58"/>
                    <a:pt x="204" y="53"/>
                    <a:pt x="190" y="4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" y="124"/>
                    <a:pt x="5" y="124"/>
                    <a:pt x="5" y="124"/>
                  </a:cubicBezTo>
                  <a:cubicBezTo>
                    <a:pt x="4" y="128"/>
                    <a:pt x="4" y="128"/>
                    <a:pt x="4" y="128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1" y="137"/>
                    <a:pt x="0" y="144"/>
                    <a:pt x="0" y="150"/>
                  </a:cubicBezTo>
                  <a:cubicBezTo>
                    <a:pt x="0" y="173"/>
                    <a:pt x="11" y="194"/>
                    <a:pt x="32" y="215"/>
                  </a:cubicBezTo>
                  <a:cubicBezTo>
                    <a:pt x="236" y="64"/>
                    <a:pt x="236" y="64"/>
                    <a:pt x="236" y="64"/>
                  </a:cubicBezTo>
                  <a:lnTo>
                    <a:pt x="234" y="6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08"/>
            <p:cNvSpPr/>
            <p:nvPr/>
          </p:nvSpPr>
          <p:spPr>
            <a:xfrm>
              <a:off x="5742720" y="5829840"/>
              <a:ext cx="104400" cy="13680"/>
            </a:xfrm>
            <a:custGeom>
              <a:avLst/>
              <a:gdLst/>
              <a:ahLst/>
              <a:rect l="l" t="t" r="r" b="b"/>
              <a:pathLst>
                <a:path w="382" h="51">
                  <a:moveTo>
                    <a:pt x="217" y="51"/>
                  </a:moveTo>
                  <a:cubicBezTo>
                    <a:pt x="276" y="45"/>
                    <a:pt x="331" y="36"/>
                    <a:pt x="382" y="2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17" y="51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09"/>
            <p:cNvSpPr/>
            <p:nvPr/>
          </p:nvSpPr>
          <p:spPr>
            <a:xfrm>
              <a:off x="5676840" y="5789520"/>
              <a:ext cx="39240" cy="900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105" y="12"/>
                  </a:moveTo>
                  <a:lnTo>
                    <a:pt x="0" y="0"/>
                  </a:lnTo>
                  <a:lnTo>
                    <a:pt x="82" y="24"/>
                  </a:lnTo>
                  <a:lnTo>
                    <a:pt x="105" y="1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10"/>
            <p:cNvSpPr/>
            <p:nvPr/>
          </p:nvSpPr>
          <p:spPr>
            <a:xfrm>
              <a:off x="5698800" y="5798520"/>
              <a:ext cx="43560" cy="3816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102"/>
                  </a:moveTo>
                  <a:lnTo>
                    <a:pt x="116" y="83"/>
                  </a:lnTo>
                  <a:lnTo>
                    <a:pt x="23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11"/>
            <p:cNvSpPr/>
            <p:nvPr/>
          </p:nvSpPr>
          <p:spPr>
            <a:xfrm>
              <a:off x="5707440" y="5794200"/>
              <a:ext cx="34920" cy="356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0" y="12"/>
                  </a:moveTo>
                  <a:lnTo>
                    <a:pt x="93" y="95"/>
                  </a:lnTo>
                  <a:lnTo>
                    <a:pt x="2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12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13"/>
            <p:cNvSpPr/>
            <p:nvPr/>
          </p:nvSpPr>
          <p:spPr>
            <a:xfrm>
              <a:off x="5578200" y="5794200"/>
              <a:ext cx="120600" cy="43200"/>
            </a:xfrm>
            <a:custGeom>
              <a:avLst/>
              <a:gdLst/>
              <a:ahLst/>
              <a:rect l="l" t="t" r="r" b="b"/>
              <a:pathLst>
                <a:path w="441" h="158">
                  <a:moveTo>
                    <a:pt x="153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27" y="145"/>
                    <a:pt x="56" y="152"/>
                    <a:pt x="86" y="158"/>
                  </a:cubicBezTo>
                  <a:cubicBezTo>
                    <a:pt x="441" y="157"/>
                    <a:pt x="441" y="157"/>
                    <a:pt x="441" y="157"/>
                  </a:cubicBezTo>
                  <a:lnTo>
                    <a:pt x="15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14"/>
            <p:cNvSpPr/>
            <p:nvPr/>
          </p:nvSpPr>
          <p:spPr>
            <a:xfrm>
              <a:off x="5571720" y="5761800"/>
              <a:ext cx="72720" cy="32040"/>
            </a:xfrm>
            <a:custGeom>
              <a:avLst/>
              <a:gdLst/>
              <a:ahLst/>
              <a:rect l="l" t="t" r="r" b="b"/>
              <a:pathLst>
                <a:path w="267" h="118">
                  <a:moveTo>
                    <a:pt x="176" y="118"/>
                  </a:moveTo>
                  <a:cubicBezTo>
                    <a:pt x="267" y="51"/>
                    <a:pt x="267" y="51"/>
                    <a:pt x="267" y="51"/>
                  </a:cubicBezTo>
                  <a:cubicBezTo>
                    <a:pt x="163" y="39"/>
                    <a:pt x="72" y="2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76" y="11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15"/>
            <p:cNvSpPr/>
            <p:nvPr/>
          </p:nvSpPr>
          <p:spPr>
            <a:xfrm>
              <a:off x="5619960" y="5775840"/>
              <a:ext cx="56520" cy="18360"/>
            </a:xfrm>
            <a:custGeom>
              <a:avLst/>
              <a:gdLst/>
              <a:ahLst/>
              <a:rect l="l" t="t" r="r" b="b"/>
              <a:pathLst>
                <a:path w="208" h="67">
                  <a:moveTo>
                    <a:pt x="208" y="51"/>
                  </a:moveTo>
                  <a:cubicBezTo>
                    <a:pt x="197" y="9"/>
                    <a:pt x="197" y="9"/>
                    <a:pt x="197" y="9"/>
                  </a:cubicBezTo>
                  <a:cubicBezTo>
                    <a:pt x="160" y="7"/>
                    <a:pt x="125" y="4"/>
                    <a:pt x="91" y="0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208" y="5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16"/>
            <p:cNvSpPr/>
            <p:nvPr/>
          </p:nvSpPr>
          <p:spPr>
            <a:xfrm>
              <a:off x="5619960" y="5789520"/>
              <a:ext cx="87480" cy="9000"/>
            </a:xfrm>
            <a:custGeom>
              <a:avLst/>
              <a:gdLst/>
              <a:ahLst/>
              <a:rect l="l" t="t" r="r" b="b"/>
              <a:pathLst>
                <a:path w="233" h="24">
                  <a:moveTo>
                    <a:pt x="151" y="0"/>
                  </a:moveTo>
                  <a:lnTo>
                    <a:pt x="0" y="12"/>
                  </a:lnTo>
                  <a:lnTo>
                    <a:pt x="233" y="2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17"/>
            <p:cNvSpPr/>
            <p:nvPr/>
          </p:nvSpPr>
          <p:spPr>
            <a:xfrm>
              <a:off x="5619960" y="5794200"/>
              <a:ext cx="87480" cy="42840"/>
            </a:xfrm>
            <a:custGeom>
              <a:avLst/>
              <a:gdLst/>
              <a:ahLst/>
              <a:rect l="l" t="t" r="r" b="b"/>
              <a:pathLst>
                <a:path w="233" h="114">
                  <a:moveTo>
                    <a:pt x="0" y="0"/>
                  </a:moveTo>
                  <a:lnTo>
                    <a:pt x="210" y="114"/>
                  </a:lnTo>
                  <a:lnTo>
                    <a:pt x="23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18"/>
            <p:cNvSpPr/>
            <p:nvPr/>
          </p:nvSpPr>
          <p:spPr>
            <a:xfrm>
              <a:off x="5573520" y="5794200"/>
              <a:ext cx="46080" cy="37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25" y="45"/>
                  </a:moveTo>
                  <a:cubicBezTo>
                    <a:pt x="0" y="134"/>
                    <a:pt x="0" y="134"/>
                    <a:pt x="0" y="134"/>
                  </a:cubicBezTo>
                  <a:cubicBezTo>
                    <a:pt x="5" y="135"/>
                    <a:pt x="11" y="136"/>
                    <a:pt x="16" y="138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2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319"/>
            <p:cNvSpPr/>
            <p:nvPr/>
          </p:nvSpPr>
          <p:spPr>
            <a:xfrm>
              <a:off x="5571720" y="5761800"/>
              <a:ext cx="47880" cy="4464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23" y="119"/>
                  </a:moveTo>
                  <a:lnTo>
                    <a:pt x="128" y="86"/>
                  </a:lnTo>
                  <a:lnTo>
                    <a:pt x="0" y="0"/>
                  </a:lnTo>
                  <a:lnTo>
                    <a:pt x="23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20"/>
            <p:cNvSpPr/>
            <p:nvPr/>
          </p:nvSpPr>
          <p:spPr>
            <a:xfrm>
              <a:off x="5531040" y="5806440"/>
              <a:ext cx="49320" cy="2412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0" y="28"/>
                  </a:moveTo>
                  <a:cubicBezTo>
                    <a:pt x="41" y="51"/>
                    <a:pt x="93" y="71"/>
                    <a:pt x="156" y="89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321"/>
            <p:cNvSpPr/>
            <p:nvPr/>
          </p:nvSpPr>
          <p:spPr>
            <a:xfrm>
              <a:off x="5515920" y="5761800"/>
              <a:ext cx="64080" cy="52200"/>
            </a:xfrm>
            <a:custGeom>
              <a:avLst/>
              <a:gdLst/>
              <a:ahLst/>
              <a:rect l="l" t="t" r="r" b="b"/>
              <a:pathLst>
                <a:path w="236" h="191">
                  <a:moveTo>
                    <a:pt x="20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14" y="165"/>
                    <a:pt x="33" y="178"/>
                    <a:pt x="55" y="191"/>
                  </a:cubicBezTo>
                  <a:cubicBezTo>
                    <a:pt x="236" y="163"/>
                    <a:pt x="236" y="163"/>
                    <a:pt x="236" y="163"/>
                  </a:cubicBezTo>
                  <a:lnTo>
                    <a:pt x="204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322"/>
            <p:cNvSpPr/>
            <p:nvPr/>
          </p:nvSpPr>
          <p:spPr>
            <a:xfrm>
              <a:off x="5670000" y="5837040"/>
              <a:ext cx="52200" cy="11160"/>
            </a:xfrm>
            <a:custGeom>
              <a:avLst/>
              <a:gdLst/>
              <a:ahLst/>
              <a:rect l="l" t="t" r="r" b="b"/>
              <a:pathLst>
                <a:path w="191" h="41">
                  <a:moveTo>
                    <a:pt x="0" y="33"/>
                  </a:moveTo>
                  <a:cubicBezTo>
                    <a:pt x="61" y="38"/>
                    <a:pt x="125" y="40"/>
                    <a:pt x="191" y="41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23"/>
            <p:cNvSpPr/>
            <p:nvPr/>
          </p:nvSpPr>
          <p:spPr>
            <a:xfrm>
              <a:off x="5698800" y="5829840"/>
              <a:ext cx="43560" cy="18360"/>
            </a:xfrm>
            <a:custGeom>
              <a:avLst/>
              <a:gdLst/>
              <a:ahLst/>
              <a:rect l="l" t="t" r="r" b="b"/>
              <a:pathLst>
                <a:path w="160" h="67">
                  <a:moveTo>
                    <a:pt x="0" y="26"/>
                  </a:move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90" y="67"/>
                    <a:pt x="92" y="67"/>
                  </a:cubicBezTo>
                  <a:cubicBezTo>
                    <a:pt x="107" y="67"/>
                    <a:pt x="121" y="66"/>
                    <a:pt x="136" y="66"/>
                  </a:cubicBezTo>
                  <a:cubicBezTo>
                    <a:pt x="160" y="0"/>
                    <a:pt x="160" y="0"/>
                    <a:pt x="16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324"/>
            <p:cNvSpPr/>
            <p:nvPr/>
          </p:nvSpPr>
          <p:spPr>
            <a:xfrm>
              <a:off x="5736240" y="5829840"/>
              <a:ext cx="65880" cy="18000"/>
            </a:xfrm>
            <a:custGeom>
              <a:avLst/>
              <a:gdLst/>
              <a:ahLst/>
              <a:rect l="l" t="t" r="r" b="b"/>
              <a:pathLst>
                <a:path w="241" h="66">
                  <a:moveTo>
                    <a:pt x="0" y="66"/>
                  </a:moveTo>
                  <a:cubicBezTo>
                    <a:pt x="84" y="65"/>
                    <a:pt x="165" y="60"/>
                    <a:pt x="241" y="51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0" y="6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25"/>
            <p:cNvSpPr/>
            <p:nvPr/>
          </p:nvSpPr>
          <p:spPr>
            <a:xfrm>
              <a:off x="5830200" y="5806440"/>
              <a:ext cx="84960" cy="280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101" y="104"/>
                  </a:moveTo>
                  <a:cubicBezTo>
                    <a:pt x="188" y="84"/>
                    <a:pt x="259" y="59"/>
                    <a:pt x="311" y="3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1" y="10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26"/>
            <p:cNvSpPr/>
            <p:nvPr/>
          </p:nvSpPr>
          <p:spPr>
            <a:xfrm>
              <a:off x="5915880" y="5734080"/>
              <a:ext cx="25200" cy="74880"/>
            </a:xfrm>
            <a:custGeom>
              <a:avLst/>
              <a:gdLst/>
              <a:ahLst/>
              <a:rect l="l" t="t" r="r" b="b"/>
              <a:pathLst>
                <a:path w="91" h="273">
                  <a:moveTo>
                    <a:pt x="0" y="26"/>
                  </a:moveTo>
                  <a:cubicBezTo>
                    <a:pt x="36" y="273"/>
                    <a:pt x="36" y="273"/>
                    <a:pt x="36" y="273"/>
                  </a:cubicBezTo>
                  <a:cubicBezTo>
                    <a:pt x="71" y="247"/>
                    <a:pt x="91" y="218"/>
                    <a:pt x="91" y="188"/>
                  </a:cubicBezTo>
                  <a:cubicBezTo>
                    <a:pt x="91" y="179"/>
                    <a:pt x="89" y="171"/>
                    <a:pt x="86" y="162"/>
                  </a:cubicBezTo>
                  <a:cubicBezTo>
                    <a:pt x="86" y="162"/>
                    <a:pt x="86" y="162"/>
                    <a:pt x="86" y="162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9"/>
                    <a:pt x="7" y="18"/>
                    <a:pt x="0" y="26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27"/>
            <p:cNvSpPr/>
            <p:nvPr/>
          </p:nvSpPr>
          <p:spPr>
            <a:xfrm>
              <a:off x="5830200" y="5740920"/>
              <a:ext cx="95400" cy="73440"/>
            </a:xfrm>
            <a:custGeom>
              <a:avLst/>
              <a:gdLst/>
              <a:ahLst/>
              <a:rect l="l" t="t" r="r" b="b"/>
              <a:pathLst>
                <a:path w="349" h="270">
                  <a:moveTo>
                    <a:pt x="269" y="34"/>
                  </a:moveTo>
                  <a:cubicBezTo>
                    <a:pt x="242" y="50"/>
                    <a:pt x="207" y="64"/>
                    <a:pt x="165" y="77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311" y="270"/>
                    <a:pt x="311" y="270"/>
                    <a:pt x="311" y="270"/>
                  </a:cubicBezTo>
                  <a:cubicBezTo>
                    <a:pt x="325" y="262"/>
                    <a:pt x="338" y="255"/>
                    <a:pt x="349" y="247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03" y="12"/>
                    <a:pt x="288" y="23"/>
                    <a:pt x="269" y="34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328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329"/>
            <p:cNvSpPr/>
            <p:nvPr/>
          </p:nvSpPr>
          <p:spPr>
            <a:xfrm>
              <a:off x="5571720" y="57618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30"/>
            <p:cNvSpPr/>
            <p:nvPr/>
          </p:nvSpPr>
          <p:spPr>
            <a:xfrm>
              <a:off x="5716080" y="5794200"/>
              <a:ext cx="87480" cy="35640"/>
            </a:xfrm>
            <a:custGeom>
              <a:avLst/>
              <a:gdLst/>
              <a:ahLst/>
              <a:rect l="l" t="t" r="r" b="b"/>
              <a:pathLst>
                <a:path w="233" h="95">
                  <a:moveTo>
                    <a:pt x="0" y="0"/>
                  </a:moveTo>
                  <a:lnTo>
                    <a:pt x="70" y="95"/>
                  </a:lnTo>
                  <a:lnTo>
                    <a:pt x="23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331"/>
            <p:cNvSpPr/>
            <p:nvPr/>
          </p:nvSpPr>
          <p:spPr>
            <a:xfrm>
              <a:off x="5716080" y="5779440"/>
              <a:ext cx="87480" cy="19440"/>
            </a:xfrm>
            <a:custGeom>
              <a:avLst/>
              <a:gdLst/>
              <a:ahLst/>
              <a:rect l="l" t="t" r="r" b="b"/>
              <a:pathLst>
                <a:path w="320" h="72">
                  <a:moveTo>
                    <a:pt x="320" y="72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21" y="1"/>
                    <a:pt x="94" y="1"/>
                    <a:pt x="67" y="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320" y="7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32"/>
            <p:cNvSpPr/>
            <p:nvPr/>
          </p:nvSpPr>
          <p:spPr>
            <a:xfrm>
              <a:off x="5742720" y="5798880"/>
              <a:ext cx="87480" cy="30600"/>
            </a:xfrm>
            <a:custGeom>
              <a:avLst/>
              <a:gdLst/>
              <a:ahLst/>
              <a:rect l="l" t="t" r="r" b="b"/>
              <a:pathLst>
                <a:path w="233" h="82">
                  <a:moveTo>
                    <a:pt x="0" y="82"/>
                  </a:moveTo>
                  <a:lnTo>
                    <a:pt x="233" y="20"/>
                  </a:lnTo>
                  <a:lnTo>
                    <a:pt x="163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33"/>
            <p:cNvSpPr/>
            <p:nvPr/>
          </p:nvSpPr>
          <p:spPr>
            <a:xfrm>
              <a:off x="5756760" y="5775480"/>
              <a:ext cx="48600" cy="2340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179" y="0"/>
                  </a:moveTo>
                  <a:cubicBezTo>
                    <a:pt x="123" y="6"/>
                    <a:pt x="63" y="11"/>
                    <a:pt x="0" y="14"/>
                  </a:cubicBezTo>
                  <a:cubicBezTo>
                    <a:pt x="172" y="86"/>
                    <a:pt x="172" y="86"/>
                    <a:pt x="172" y="86"/>
                  </a:cubicBezTo>
                  <a:lnTo>
                    <a:pt x="179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34"/>
            <p:cNvSpPr/>
            <p:nvPr/>
          </p:nvSpPr>
          <p:spPr>
            <a:xfrm>
              <a:off x="5803920" y="5768640"/>
              <a:ext cx="44640" cy="30240"/>
            </a:xfrm>
            <a:custGeom>
              <a:avLst/>
              <a:gdLst/>
              <a:ahLst/>
              <a:rect l="l" t="t" r="r" b="b"/>
              <a:pathLst>
                <a:path w="163" h="111">
                  <a:moveTo>
                    <a:pt x="163" y="0"/>
                  </a:moveTo>
                  <a:cubicBezTo>
                    <a:pt x="116" y="10"/>
                    <a:pt x="63" y="18"/>
                    <a:pt x="7" y="25"/>
                  </a:cubicBezTo>
                  <a:cubicBezTo>
                    <a:pt x="0" y="111"/>
                    <a:pt x="0" y="111"/>
                    <a:pt x="0" y="111"/>
                  </a:cubicBezTo>
                  <a:lnTo>
                    <a:pt x="163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35"/>
            <p:cNvSpPr/>
            <p:nvPr/>
          </p:nvSpPr>
          <p:spPr>
            <a:xfrm>
              <a:off x="5803920" y="5762160"/>
              <a:ext cx="71280" cy="44280"/>
            </a:xfrm>
            <a:custGeom>
              <a:avLst/>
              <a:gdLst/>
              <a:ahLst/>
              <a:rect l="l" t="t" r="r" b="b"/>
              <a:pathLst>
                <a:path w="261" h="162">
                  <a:moveTo>
                    <a:pt x="96" y="162"/>
                  </a:moveTo>
                  <a:cubicBezTo>
                    <a:pt x="261" y="0"/>
                    <a:pt x="261" y="0"/>
                    <a:pt x="261" y="0"/>
                  </a:cubicBezTo>
                  <a:cubicBezTo>
                    <a:pt x="232" y="9"/>
                    <a:pt x="199" y="17"/>
                    <a:pt x="163" y="24"/>
                  </a:cubicBezTo>
                  <a:cubicBezTo>
                    <a:pt x="0" y="135"/>
                    <a:pt x="0" y="135"/>
                    <a:pt x="0" y="135"/>
                  </a:cubicBezTo>
                  <a:lnTo>
                    <a:pt x="96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36"/>
            <p:cNvSpPr/>
            <p:nvPr/>
          </p:nvSpPr>
          <p:spPr>
            <a:xfrm>
              <a:off x="5919120" y="5726160"/>
              <a:ext cx="6480" cy="1692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4" y="18"/>
                  </a:moveTo>
                  <a:cubicBezTo>
                    <a:pt x="4" y="21"/>
                    <a:pt x="3" y="25"/>
                    <a:pt x="2" y="29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6"/>
                    <a:pt x="4" y="12"/>
                    <a:pt x="4" y="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60"/>
          <p:cNvSpPr/>
          <p:nvPr/>
        </p:nvSpPr>
        <p:spPr>
          <a:xfrm flipH="1">
            <a:off x="6065280" y="549900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0"/>
          <p:cNvSpPr/>
          <p:nvPr/>
        </p:nvSpPr>
        <p:spPr>
          <a:xfrm>
            <a:off x="5743440" y="5686560"/>
            <a:ext cx="42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793880" y="2279160"/>
            <a:ext cx="860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PPT</a:t>
            </a: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快速制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5" descr=""/>
          <p:cNvPicPr/>
          <p:nvPr/>
        </p:nvPicPr>
        <p:blipFill>
          <a:blip r:embed="rId1"/>
          <a:stretch/>
        </p:blipFill>
        <p:spPr>
          <a:xfrm>
            <a:off x="3730680" y="1173240"/>
            <a:ext cx="3181320" cy="483876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grpSp>
        <p:nvGrpSpPr>
          <p:cNvPr id="175" name="组合 12"/>
          <p:cNvGrpSpPr/>
          <p:nvPr/>
        </p:nvGrpSpPr>
        <p:grpSpPr>
          <a:xfrm>
            <a:off x="7612200" y="2822400"/>
            <a:ext cx="1836720" cy="1644840"/>
            <a:chOff x="7612200" y="2822400"/>
            <a:chExt cx="1836720" cy="1644840"/>
          </a:xfrm>
        </p:grpSpPr>
        <p:sp>
          <p:nvSpPr>
            <p:cNvPr id="176" name="椭圆 8"/>
            <p:cNvSpPr/>
            <p:nvPr/>
          </p:nvSpPr>
          <p:spPr>
            <a:xfrm>
              <a:off x="7612200" y="28224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"/>
            <p:cNvSpPr/>
            <p:nvPr/>
          </p:nvSpPr>
          <p:spPr>
            <a:xfrm>
              <a:off x="8192880" y="32292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3"/>
          <p:cNvGrpSpPr/>
          <p:nvPr/>
        </p:nvGrpSpPr>
        <p:grpSpPr>
          <a:xfrm>
            <a:off x="7612200" y="1125360"/>
            <a:ext cx="1836720" cy="1644840"/>
            <a:chOff x="7612200" y="1125360"/>
            <a:chExt cx="1836720" cy="1644840"/>
          </a:xfrm>
        </p:grpSpPr>
        <p:sp>
          <p:nvSpPr>
            <p:cNvPr id="179" name="椭圆 8"/>
            <p:cNvSpPr/>
            <p:nvPr/>
          </p:nvSpPr>
          <p:spPr>
            <a:xfrm>
              <a:off x="7612200" y="112536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"/>
            <p:cNvSpPr/>
            <p:nvPr/>
          </p:nvSpPr>
          <p:spPr>
            <a:xfrm>
              <a:off x="8192880" y="15321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总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6"/>
          <p:cNvGrpSpPr/>
          <p:nvPr/>
        </p:nvGrpSpPr>
        <p:grpSpPr>
          <a:xfrm>
            <a:off x="7612200" y="4518000"/>
            <a:ext cx="1836720" cy="1644840"/>
            <a:chOff x="7612200" y="4518000"/>
            <a:chExt cx="1836720" cy="1644840"/>
          </a:xfrm>
        </p:grpSpPr>
        <p:sp>
          <p:nvSpPr>
            <p:cNvPr id="182" name="椭圆 8"/>
            <p:cNvSpPr/>
            <p:nvPr/>
          </p:nvSpPr>
          <p:spPr>
            <a:xfrm>
              <a:off x="7612200" y="45180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8"/>
            <p:cNvSpPr/>
            <p:nvPr/>
          </p:nvSpPr>
          <p:spPr>
            <a:xfrm>
              <a:off x="8192880" y="4924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"/>
          <p:cNvSpPr/>
          <p:nvPr/>
        </p:nvSpPr>
        <p:spPr>
          <a:xfrm>
            <a:off x="5365080" y="1981440"/>
            <a:ext cx="2288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直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但也可以通过勾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隐藏背景图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不再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4" descr=""/>
          <p:cNvPicPr/>
          <p:nvPr/>
        </p:nvPicPr>
        <p:blipFill>
          <a:blip r:embed="rId1"/>
          <a:srcRect l="33626" t="1998" r="55877" b="81202"/>
          <a:stretch/>
        </p:blipFill>
        <p:spPr>
          <a:xfrm>
            <a:off x="9144000" y="4086360"/>
            <a:ext cx="1281240" cy="12808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188" name="文本框 5"/>
          <p:cNvSpPr/>
          <p:nvPr/>
        </p:nvSpPr>
        <p:spPr>
          <a:xfrm>
            <a:off x="2403360" y="516564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一般用来设置每页出现频率最高的元素，如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，页码，标题栏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总版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3889080" y="198144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按需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设计好后，可根据版式的需求自由选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版式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2403360" y="5165640"/>
            <a:ext cx="84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可自由灵活的设计与使用，其功能随着个人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技能的娴熟而逐渐被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运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23"/>
          <p:cNvGrpSpPr/>
          <p:nvPr/>
        </p:nvGrpSpPr>
        <p:grpSpPr>
          <a:xfrm>
            <a:off x="2971800" y="2011320"/>
            <a:ext cx="6019920" cy="487440"/>
            <a:chOff x="2971800" y="2011320"/>
            <a:chExt cx="6019920" cy="487440"/>
          </a:xfrm>
        </p:grpSpPr>
        <p:sp>
          <p:nvSpPr>
            <p:cNvPr id="200" name="矩形 1"/>
            <p:cNvSpPr/>
            <p:nvPr/>
          </p:nvSpPr>
          <p:spPr>
            <a:xfrm>
              <a:off x="3581280" y="201132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打开母版与清除多余内容的操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4"/>
            <p:cNvSpPr/>
            <p:nvPr/>
          </p:nvSpPr>
          <p:spPr>
            <a:xfrm>
              <a:off x="2971800" y="2011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13"/>
            <p:cNvSpPr/>
            <p:nvPr/>
          </p:nvSpPr>
          <p:spPr>
            <a:xfrm rot="5400000">
              <a:off x="3570120" y="2189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4"/>
          <p:cNvGrpSpPr/>
          <p:nvPr/>
        </p:nvGrpSpPr>
        <p:grpSpPr>
          <a:xfrm>
            <a:off x="2971800" y="2671920"/>
            <a:ext cx="6019920" cy="487080"/>
            <a:chOff x="2971800" y="2671920"/>
            <a:chExt cx="6019920" cy="487080"/>
          </a:xfrm>
        </p:grpSpPr>
        <p:sp>
          <p:nvSpPr>
            <p:cNvPr id="204" name="矩形 25"/>
            <p:cNvSpPr/>
            <p:nvPr/>
          </p:nvSpPr>
          <p:spPr>
            <a:xfrm>
              <a:off x="3581280" y="2671920"/>
              <a:ext cx="54104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总版的标题栏及页码设计演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6"/>
            <p:cNvSpPr/>
            <p:nvPr/>
          </p:nvSpPr>
          <p:spPr>
            <a:xfrm>
              <a:off x="2971800" y="267192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27"/>
            <p:cNvSpPr/>
            <p:nvPr/>
          </p:nvSpPr>
          <p:spPr>
            <a:xfrm rot="5400000">
              <a:off x="3570480" y="285012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8"/>
          <p:cNvGrpSpPr/>
          <p:nvPr/>
        </p:nvGrpSpPr>
        <p:grpSpPr>
          <a:xfrm>
            <a:off x="2971800" y="3332160"/>
            <a:ext cx="6019920" cy="487440"/>
            <a:chOff x="2971800" y="3332160"/>
            <a:chExt cx="6019920" cy="487440"/>
          </a:xfrm>
        </p:grpSpPr>
        <p:sp>
          <p:nvSpPr>
            <p:cNvPr id="208" name="矩形 29"/>
            <p:cNvSpPr/>
            <p:nvPr/>
          </p:nvSpPr>
          <p:spPr>
            <a:xfrm>
              <a:off x="3581280" y="333216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覆盖版式的对比过渡页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30"/>
            <p:cNvSpPr/>
            <p:nvPr/>
          </p:nvSpPr>
          <p:spPr>
            <a:xfrm>
              <a:off x="2971800" y="33321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1"/>
            <p:cNvSpPr/>
            <p:nvPr/>
          </p:nvSpPr>
          <p:spPr>
            <a:xfrm rot="5400000">
              <a:off x="3570120" y="35103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32"/>
          <p:cNvGrpSpPr/>
          <p:nvPr/>
        </p:nvGrpSpPr>
        <p:grpSpPr>
          <a:xfrm>
            <a:off x="2971800" y="3992400"/>
            <a:ext cx="6019920" cy="487440"/>
            <a:chOff x="2971800" y="3992400"/>
            <a:chExt cx="6019920" cy="487440"/>
          </a:xfrm>
        </p:grpSpPr>
        <p:sp>
          <p:nvSpPr>
            <p:cNvPr id="212" name="矩形 33"/>
            <p:cNvSpPr/>
            <p:nvPr/>
          </p:nvSpPr>
          <p:spPr>
            <a:xfrm>
              <a:off x="3581280" y="39924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的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“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切换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”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动作使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34"/>
            <p:cNvSpPr/>
            <p:nvPr/>
          </p:nvSpPr>
          <p:spPr>
            <a:xfrm>
              <a:off x="2971800" y="399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35"/>
            <p:cNvSpPr/>
            <p:nvPr/>
          </p:nvSpPr>
          <p:spPr>
            <a:xfrm rot="5400000">
              <a:off x="3570120" y="417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4"/>
          <p:cNvGrpSpPr/>
          <p:nvPr/>
        </p:nvGrpSpPr>
        <p:grpSpPr>
          <a:xfrm>
            <a:off x="2971800" y="4653000"/>
            <a:ext cx="6019920" cy="487440"/>
            <a:chOff x="2971800" y="4653000"/>
            <a:chExt cx="6019920" cy="487440"/>
          </a:xfrm>
        </p:grpSpPr>
        <p:sp>
          <p:nvSpPr>
            <p:cNvPr id="216" name="矩形 45"/>
            <p:cNvSpPr/>
            <p:nvPr/>
          </p:nvSpPr>
          <p:spPr>
            <a:xfrm>
              <a:off x="3581280" y="46530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蒙版的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——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适应于全图型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6"/>
            <p:cNvSpPr/>
            <p:nvPr/>
          </p:nvSpPr>
          <p:spPr>
            <a:xfrm>
              <a:off x="2971800" y="46530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47"/>
            <p:cNvSpPr/>
            <p:nvPr/>
          </p:nvSpPr>
          <p:spPr>
            <a:xfrm rot="5400000">
              <a:off x="3570120" y="48312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420048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160344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67975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93949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1603440" y="1581120"/>
            <a:ext cx="10147320" cy="789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6"/>
          <p:cNvSpPr/>
          <p:nvPr/>
        </p:nvSpPr>
        <p:spPr>
          <a:xfrm>
            <a:off x="160344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一个系统项目，长期实施，无终止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420048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状况下才实施，比如并购、裁员、灾难事件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8"/>
          <p:cNvSpPr/>
          <p:nvPr/>
        </p:nvSpPr>
        <p:spPr>
          <a:xfrm>
            <a:off x="67975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在企业内部，配置专门机构或人员，为员工提供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9"/>
          <p:cNvSpPr/>
          <p:nvPr/>
        </p:nvSpPr>
        <p:spPr>
          <a:xfrm>
            <a:off x="93949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外部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机构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0"/>
          <p:cNvSpPr/>
          <p:nvPr/>
        </p:nvSpPr>
        <p:spPr>
          <a:xfrm>
            <a:off x="160344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长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1"/>
          <p:cNvSpPr/>
          <p:nvPr/>
        </p:nvSpPr>
        <p:spPr>
          <a:xfrm>
            <a:off x="420048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短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2"/>
          <p:cNvSpPr/>
          <p:nvPr/>
        </p:nvSpPr>
        <p:spPr>
          <a:xfrm>
            <a:off x="67975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内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3"/>
          <p:cNvSpPr/>
          <p:nvPr/>
        </p:nvSpPr>
        <p:spPr>
          <a:xfrm>
            <a:off x="93949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外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形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4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以各种图形的组合展示清晰的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6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7"/>
          <p:cNvSpPr/>
          <p:nvPr/>
        </p:nvSpPr>
        <p:spPr>
          <a:xfrm>
            <a:off x="4110120" y="594216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形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4717080" y="69048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的逻辑关系以图示的方式展现（另有鱼骨图案例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5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7"/>
          <p:cNvSpPr/>
          <p:nvPr/>
        </p:nvSpPr>
        <p:spPr>
          <a:xfrm>
            <a:off x="1573200" y="1569960"/>
            <a:ext cx="5037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7246800" y="1714680"/>
            <a:ext cx="0" cy="4209840"/>
          </a:xfrm>
          <a:prstGeom prst="line">
            <a:avLst/>
          </a:prstGeom>
          <a:ln w="763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右箭头 11"/>
          <p:cNvSpPr/>
          <p:nvPr/>
        </p:nvSpPr>
        <p:spPr>
          <a:xfrm>
            <a:off x="6767640" y="3781440"/>
            <a:ext cx="958680" cy="40176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7462800" y="1569960"/>
            <a:ext cx="472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大括号 13"/>
          <p:cNvSpPr/>
          <p:nvPr/>
        </p:nvSpPr>
        <p:spPr>
          <a:xfrm>
            <a:off x="5807160" y="2287440"/>
            <a:ext cx="576000" cy="3389400"/>
          </a:xfrm>
          <a:custGeom>
            <a:avLst/>
            <a:gdLst>
              <a:gd name="textAreaLeft" fmla="*/ 0 w 576000"/>
              <a:gd name="textAreaRight" fmla="*/ 208080 w 576000"/>
              <a:gd name="textAreaTop" fmla="*/ 14040 h 3389400"/>
              <a:gd name="textAreaBottom" fmla="*/ 3375360 h 338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"/>
                  <a:pt x="10800" y="292"/>
                </a:cubicBezTo>
                <a:lnTo>
                  <a:pt x="10800" y="10508"/>
                </a:lnTo>
                <a:cubicBezTo>
                  <a:pt x="10800" y="10654"/>
                  <a:pt x="16200" y="10800"/>
                  <a:pt x="21600" y="10800"/>
                </a:cubicBezTo>
                <a:cubicBezTo>
                  <a:pt x="16200" y="10800"/>
                  <a:pt x="10800" y="10946"/>
                  <a:pt x="10800" y="11092"/>
                </a:cubicBezTo>
                <a:lnTo>
                  <a:pt x="10800" y="21308"/>
                </a:lnTo>
                <a:cubicBezTo>
                  <a:pt x="10800" y="2145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4"/>
          <p:cNvSpPr/>
          <p:nvPr/>
        </p:nvSpPr>
        <p:spPr>
          <a:xfrm>
            <a:off x="1658880" y="2214720"/>
            <a:ext cx="3787920" cy="72216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原有文化价值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15"/>
          <p:cNvSpPr/>
          <p:nvPr/>
        </p:nvSpPr>
        <p:spPr>
          <a:xfrm>
            <a:off x="1658880" y="317484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部门讨论的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16"/>
          <p:cNvSpPr/>
          <p:nvPr/>
        </p:nvSpPr>
        <p:spPr>
          <a:xfrm>
            <a:off x="1658880" y="413532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问卷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7"/>
          <p:cNvSpPr/>
          <p:nvPr/>
        </p:nvSpPr>
        <p:spPr>
          <a:xfrm>
            <a:off x="1658880" y="509580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历年讲话稿文章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7467480" y="2103480"/>
            <a:ext cx="4724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支撑未来发展战略、有利于提升核心竞争力的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9"/>
          <p:cNvGrpSpPr/>
          <p:nvPr/>
        </p:nvGrpSpPr>
        <p:grpSpPr>
          <a:xfrm>
            <a:off x="8326440" y="2460600"/>
            <a:ext cx="3349440" cy="3349800"/>
            <a:chOff x="8326440" y="2460600"/>
            <a:chExt cx="3349440" cy="3349800"/>
          </a:xfrm>
        </p:grpSpPr>
        <p:sp>
          <p:nvSpPr>
            <p:cNvPr id="263" name="任意多边形 20"/>
            <p:cNvSpPr/>
            <p:nvPr/>
          </p:nvSpPr>
          <p:spPr>
            <a:xfrm>
              <a:off x="9163800" y="246060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21"/>
            <p:cNvSpPr/>
            <p:nvPr/>
          </p:nvSpPr>
          <p:spPr>
            <a:xfrm>
              <a:off x="832644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22"/>
            <p:cNvSpPr/>
            <p:nvPr/>
          </p:nvSpPr>
          <p:spPr>
            <a:xfrm>
              <a:off x="9163800" y="4135320"/>
              <a:ext cx="1675080" cy="167508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2709333" y="0"/>
                  </a:moveTo>
                  <a:lnTo>
                    <a:pt x="1354666" y="2709333"/>
                  </a:lnTo>
                  <a:lnTo>
                    <a:pt x="0" y="0"/>
                  </a:lnTo>
                  <a:lnTo>
                    <a:pt x="2709333" y="0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23"/>
            <p:cNvSpPr/>
            <p:nvPr/>
          </p:nvSpPr>
          <p:spPr>
            <a:xfrm>
              <a:off x="1000116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13"/>
          <p:cNvSpPr/>
          <p:nvPr/>
        </p:nvSpPr>
        <p:spPr>
          <a:xfrm>
            <a:off x="9708840" y="337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9727920" y="437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88272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105498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块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示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表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简单罗列的数据以非常直观的图表展示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7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2236680" y="5711760"/>
            <a:ext cx="77184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五块泥板中总结得到的偿债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2630520" y="3227400"/>
            <a:ext cx="1434960" cy="158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2" descr=""/>
          <p:cNvPicPr/>
          <p:nvPr/>
        </p:nvPicPr>
        <p:blipFill>
          <a:blip r:embed="rId2"/>
          <a:stretch/>
        </p:blipFill>
        <p:spPr>
          <a:xfrm>
            <a:off x="8899560" y="1424160"/>
            <a:ext cx="2700360" cy="40590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3" descr=""/>
          <p:cNvPicPr/>
          <p:nvPr/>
        </p:nvPicPr>
        <p:blipFill>
          <a:blip r:embed="rId3"/>
          <a:stretch/>
        </p:blipFill>
        <p:spPr>
          <a:xfrm>
            <a:off x="5607000" y="2514600"/>
            <a:ext cx="1749600" cy="2496960"/>
          </a:xfrm>
          <a:prstGeom prst="rect">
            <a:avLst/>
          </a:prstGeom>
          <a:ln w="0">
            <a:noFill/>
          </a:ln>
        </p:spPr>
      </p:pic>
      <p:sp>
        <p:nvSpPr>
          <p:cNvPr id="280" name="矩形 14"/>
          <p:cNvSpPr/>
          <p:nvPr/>
        </p:nvSpPr>
        <p:spPr>
          <a:xfrm>
            <a:off x="177156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1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储蓄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5"/>
          <p:cNvSpPr/>
          <p:nvPr/>
        </p:nvSpPr>
        <p:spPr>
          <a:xfrm>
            <a:off x="4826160" y="4614840"/>
            <a:ext cx="2520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2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期偿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819468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7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留作家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7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38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41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42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43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44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45"/>
          <p:cNvSpPr/>
          <p:nvPr/>
        </p:nvSpPr>
        <p:spPr>
          <a:xfrm>
            <a:off x="9985320" y="3321000"/>
            <a:ext cx="1800360" cy="2484360"/>
          </a:xfrm>
          <a:custGeom>
            <a:avLst/>
            <a:gdLst>
              <a:gd name="textAreaLeft" fmla="*/ 30960 w 1800360"/>
              <a:gd name="textAreaRight" fmla="*/ 1769400 w 180036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05">
                <a:moveTo>
                  <a:pt x="1279" y="0"/>
                </a:moveTo>
                <a:arcTo wR="1279" hR="1279" stAng="16200000" swAng="-5400000"/>
                <a:lnTo>
                  <a:pt x="0" y="28526"/>
                </a:lnTo>
                <a:arcTo wR="1279" hR="1279" stAng="10800000" swAng="-5400000"/>
                <a:lnTo>
                  <a:pt x="20321" y="29805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6860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56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7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利用流行的矢量图标元素形象化展示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58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何获取矢量图标，详见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8-PPT 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辅助技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目录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21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8"/>
          <p:cNvSpPr/>
          <p:nvPr/>
        </p:nvSpPr>
        <p:spPr>
          <a:xfrm>
            <a:off x="2208960" y="1822320"/>
            <a:ext cx="36874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滚动鼠标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页面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33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8"/>
          <p:cNvSpPr/>
          <p:nvPr/>
        </p:nvSpPr>
        <p:spPr>
          <a:xfrm>
            <a:off x="2194560" y="2004840"/>
            <a:ext cx="391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3e3d4f"/>
                </a:solidFill>
                <a:latin typeface="Arial Black"/>
                <a:ea typeface="微软雅黑"/>
              </a:rPr>
              <a:t>Shif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垂直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平行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rt +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5"/>
          <p:cNvSpPr/>
          <p:nvPr/>
        </p:nvSpPr>
        <p:spPr>
          <a:xfrm>
            <a:off x="1071360" y="2340000"/>
            <a:ext cx="4386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18"/>
          <p:cNvGrpSpPr/>
          <p:nvPr/>
        </p:nvGrpSpPr>
        <p:grpSpPr>
          <a:xfrm>
            <a:off x="7104240" y="1314360"/>
            <a:ext cx="1782720" cy="488880"/>
            <a:chOff x="7104240" y="1314360"/>
            <a:chExt cx="1782720" cy="488880"/>
          </a:xfrm>
        </p:grpSpPr>
        <p:sp>
          <p:nvSpPr>
            <p:cNvPr id="346" name="矩形 19"/>
            <p:cNvSpPr/>
            <p:nvPr/>
          </p:nvSpPr>
          <p:spPr>
            <a:xfrm>
              <a:off x="7713720" y="131436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复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20"/>
            <p:cNvSpPr/>
            <p:nvPr/>
          </p:nvSpPr>
          <p:spPr>
            <a:xfrm>
              <a:off x="7104240" y="131436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21"/>
            <p:cNvSpPr/>
            <p:nvPr/>
          </p:nvSpPr>
          <p:spPr>
            <a:xfrm rot="5400000">
              <a:off x="7702560" y="149328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2"/>
          <p:cNvGrpSpPr/>
          <p:nvPr/>
        </p:nvGrpSpPr>
        <p:grpSpPr>
          <a:xfrm>
            <a:off x="7104240" y="1955880"/>
            <a:ext cx="1782720" cy="488880"/>
            <a:chOff x="7104240" y="1955880"/>
            <a:chExt cx="1782720" cy="488880"/>
          </a:xfrm>
        </p:grpSpPr>
        <p:sp>
          <p:nvSpPr>
            <p:cNvPr id="350" name="矩形 23"/>
            <p:cNvSpPr/>
            <p:nvPr/>
          </p:nvSpPr>
          <p:spPr>
            <a:xfrm>
              <a:off x="7713720" y="19558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粘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4"/>
            <p:cNvSpPr/>
            <p:nvPr/>
          </p:nvSpPr>
          <p:spPr>
            <a:xfrm>
              <a:off x="7104240" y="19558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25"/>
            <p:cNvSpPr/>
            <p:nvPr/>
          </p:nvSpPr>
          <p:spPr>
            <a:xfrm rot="5400000">
              <a:off x="7702560" y="21348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26"/>
          <p:cNvGrpSpPr/>
          <p:nvPr/>
        </p:nvGrpSpPr>
        <p:grpSpPr>
          <a:xfrm>
            <a:off x="7104240" y="2597040"/>
            <a:ext cx="1782720" cy="489240"/>
            <a:chOff x="7104240" y="2597040"/>
            <a:chExt cx="1782720" cy="489240"/>
          </a:xfrm>
        </p:grpSpPr>
        <p:sp>
          <p:nvSpPr>
            <p:cNvPr id="354" name="矩形 27"/>
            <p:cNvSpPr/>
            <p:nvPr/>
          </p:nvSpPr>
          <p:spPr>
            <a:xfrm>
              <a:off x="7713720" y="2597040"/>
              <a:ext cx="1173240" cy="489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保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8"/>
            <p:cNvSpPr/>
            <p:nvPr/>
          </p:nvSpPr>
          <p:spPr>
            <a:xfrm>
              <a:off x="7104240" y="2597040"/>
              <a:ext cx="609480" cy="4892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29"/>
            <p:cNvSpPr/>
            <p:nvPr/>
          </p:nvSpPr>
          <p:spPr>
            <a:xfrm rot="5400000">
              <a:off x="7702560" y="27763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30"/>
          <p:cNvGrpSpPr/>
          <p:nvPr/>
        </p:nvGrpSpPr>
        <p:grpSpPr>
          <a:xfrm>
            <a:off x="7104240" y="3238560"/>
            <a:ext cx="1782720" cy="487440"/>
            <a:chOff x="7104240" y="3238560"/>
            <a:chExt cx="1782720" cy="487440"/>
          </a:xfrm>
        </p:grpSpPr>
        <p:sp>
          <p:nvSpPr>
            <p:cNvPr id="358" name="矩形 31"/>
            <p:cNvSpPr/>
            <p:nvPr/>
          </p:nvSpPr>
          <p:spPr>
            <a:xfrm>
              <a:off x="7713720" y="32385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撤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2"/>
            <p:cNvSpPr/>
            <p:nvPr/>
          </p:nvSpPr>
          <p:spPr>
            <a:xfrm>
              <a:off x="7104240" y="32385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等腰三角形 33"/>
            <p:cNvSpPr/>
            <p:nvPr/>
          </p:nvSpPr>
          <p:spPr>
            <a:xfrm rot="5400000">
              <a:off x="7702560" y="34167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34"/>
          <p:cNvGrpSpPr/>
          <p:nvPr/>
        </p:nvGrpSpPr>
        <p:grpSpPr>
          <a:xfrm>
            <a:off x="7104240" y="3879720"/>
            <a:ext cx="1782720" cy="487440"/>
            <a:chOff x="7104240" y="3879720"/>
            <a:chExt cx="1782720" cy="487440"/>
          </a:xfrm>
        </p:grpSpPr>
        <p:sp>
          <p:nvSpPr>
            <p:cNvPr id="362" name="矩形 35"/>
            <p:cNvSpPr/>
            <p:nvPr/>
          </p:nvSpPr>
          <p:spPr>
            <a:xfrm>
              <a:off x="7713720" y="38797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重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36"/>
            <p:cNvSpPr/>
            <p:nvPr/>
          </p:nvSpPr>
          <p:spPr>
            <a:xfrm>
              <a:off x="7104240" y="38797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等腰三角形 37"/>
            <p:cNvSpPr/>
            <p:nvPr/>
          </p:nvSpPr>
          <p:spPr>
            <a:xfrm rot="5400000">
              <a:off x="7702560" y="40579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8"/>
          <p:cNvGrpSpPr/>
          <p:nvPr/>
        </p:nvGrpSpPr>
        <p:grpSpPr>
          <a:xfrm>
            <a:off x="9313920" y="1316160"/>
            <a:ext cx="1782720" cy="487080"/>
            <a:chOff x="9313920" y="1316160"/>
            <a:chExt cx="1782720" cy="487080"/>
          </a:xfrm>
        </p:grpSpPr>
        <p:sp>
          <p:nvSpPr>
            <p:cNvPr id="366" name="矩形 59"/>
            <p:cNvSpPr/>
            <p:nvPr/>
          </p:nvSpPr>
          <p:spPr>
            <a:xfrm>
              <a:off x="9923400" y="131616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创建副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60"/>
            <p:cNvSpPr/>
            <p:nvPr/>
          </p:nvSpPr>
          <p:spPr>
            <a:xfrm>
              <a:off x="9313920" y="131616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等腰三角形 61"/>
            <p:cNvSpPr/>
            <p:nvPr/>
          </p:nvSpPr>
          <p:spPr>
            <a:xfrm rot="5400000">
              <a:off x="9912600" y="149436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62"/>
          <p:cNvGrpSpPr/>
          <p:nvPr/>
        </p:nvGrpSpPr>
        <p:grpSpPr>
          <a:xfrm>
            <a:off x="9313920" y="1957320"/>
            <a:ext cx="1782720" cy="487440"/>
            <a:chOff x="9313920" y="1957320"/>
            <a:chExt cx="1782720" cy="487440"/>
          </a:xfrm>
        </p:grpSpPr>
        <p:sp>
          <p:nvSpPr>
            <p:cNvPr id="370" name="矩形 63"/>
            <p:cNvSpPr/>
            <p:nvPr/>
          </p:nvSpPr>
          <p:spPr>
            <a:xfrm>
              <a:off x="9923400" y="19573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64"/>
            <p:cNvSpPr/>
            <p:nvPr/>
          </p:nvSpPr>
          <p:spPr>
            <a:xfrm>
              <a:off x="9313920" y="1957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等腰三角形 65"/>
            <p:cNvSpPr/>
            <p:nvPr/>
          </p:nvSpPr>
          <p:spPr>
            <a:xfrm rot="5400000">
              <a:off x="9912240" y="2135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66"/>
          <p:cNvGrpSpPr/>
          <p:nvPr/>
        </p:nvGrpSpPr>
        <p:grpSpPr>
          <a:xfrm>
            <a:off x="9313920" y="2598840"/>
            <a:ext cx="1782720" cy="487440"/>
            <a:chOff x="9313920" y="2598840"/>
            <a:chExt cx="1782720" cy="487440"/>
          </a:xfrm>
        </p:grpSpPr>
        <p:sp>
          <p:nvSpPr>
            <p:cNvPr id="374" name="矩形 67"/>
            <p:cNvSpPr/>
            <p:nvPr/>
          </p:nvSpPr>
          <p:spPr>
            <a:xfrm>
              <a:off x="9923400" y="25988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居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68"/>
            <p:cNvSpPr/>
            <p:nvPr/>
          </p:nvSpPr>
          <p:spPr>
            <a:xfrm>
              <a:off x="9313920" y="25988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等腰三角形 69"/>
            <p:cNvSpPr/>
            <p:nvPr/>
          </p:nvSpPr>
          <p:spPr>
            <a:xfrm rot="5400000">
              <a:off x="9912240" y="27770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70"/>
          <p:cNvGrpSpPr/>
          <p:nvPr/>
        </p:nvGrpSpPr>
        <p:grpSpPr>
          <a:xfrm>
            <a:off x="9313920" y="3241800"/>
            <a:ext cx="1782720" cy="487080"/>
            <a:chOff x="9313920" y="3241800"/>
            <a:chExt cx="1782720" cy="487080"/>
          </a:xfrm>
        </p:grpSpPr>
        <p:sp>
          <p:nvSpPr>
            <p:cNvPr id="378" name="矩形 71"/>
            <p:cNvSpPr/>
            <p:nvPr/>
          </p:nvSpPr>
          <p:spPr>
            <a:xfrm>
              <a:off x="9923400" y="324180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左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72"/>
            <p:cNvSpPr/>
            <p:nvPr/>
          </p:nvSpPr>
          <p:spPr>
            <a:xfrm>
              <a:off x="9313920" y="324180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等腰三角形 73"/>
            <p:cNvSpPr/>
            <p:nvPr/>
          </p:nvSpPr>
          <p:spPr>
            <a:xfrm rot="5400000">
              <a:off x="9912600" y="342000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74"/>
          <p:cNvGrpSpPr/>
          <p:nvPr/>
        </p:nvGrpSpPr>
        <p:grpSpPr>
          <a:xfrm>
            <a:off x="9313920" y="3882960"/>
            <a:ext cx="1782720" cy="487440"/>
            <a:chOff x="9313920" y="3882960"/>
            <a:chExt cx="1782720" cy="487440"/>
          </a:xfrm>
        </p:grpSpPr>
        <p:sp>
          <p:nvSpPr>
            <p:cNvPr id="382" name="矩形 75"/>
            <p:cNvSpPr/>
            <p:nvPr/>
          </p:nvSpPr>
          <p:spPr>
            <a:xfrm>
              <a:off x="9923400" y="38829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右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76"/>
            <p:cNvSpPr/>
            <p:nvPr/>
          </p:nvSpPr>
          <p:spPr>
            <a:xfrm>
              <a:off x="9313920" y="38829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等腰三角形 77"/>
            <p:cNvSpPr/>
            <p:nvPr/>
          </p:nvSpPr>
          <p:spPr>
            <a:xfrm rot="5400000">
              <a:off x="9912240" y="40611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78"/>
          <p:cNvGrpSpPr/>
          <p:nvPr/>
        </p:nvGrpSpPr>
        <p:grpSpPr>
          <a:xfrm>
            <a:off x="7104240" y="4521240"/>
            <a:ext cx="1782720" cy="487440"/>
            <a:chOff x="7104240" y="4521240"/>
            <a:chExt cx="1782720" cy="487440"/>
          </a:xfrm>
        </p:grpSpPr>
        <p:sp>
          <p:nvSpPr>
            <p:cNvPr id="386" name="矩形 79"/>
            <p:cNvSpPr/>
            <p:nvPr/>
          </p:nvSpPr>
          <p:spPr>
            <a:xfrm>
              <a:off x="7713720" y="45212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增大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80"/>
            <p:cNvSpPr/>
            <p:nvPr/>
          </p:nvSpPr>
          <p:spPr>
            <a:xfrm>
              <a:off x="7104240" y="45212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[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等腰三角形 81"/>
            <p:cNvSpPr/>
            <p:nvPr/>
          </p:nvSpPr>
          <p:spPr>
            <a:xfrm rot="5400000">
              <a:off x="7702560" y="46994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82"/>
          <p:cNvGrpSpPr/>
          <p:nvPr/>
        </p:nvGrpSpPr>
        <p:grpSpPr>
          <a:xfrm>
            <a:off x="7104240" y="5162400"/>
            <a:ext cx="1782720" cy="487440"/>
            <a:chOff x="7104240" y="5162400"/>
            <a:chExt cx="1782720" cy="487440"/>
          </a:xfrm>
        </p:grpSpPr>
        <p:sp>
          <p:nvSpPr>
            <p:cNvPr id="390" name="矩形 83"/>
            <p:cNvSpPr/>
            <p:nvPr/>
          </p:nvSpPr>
          <p:spPr>
            <a:xfrm>
              <a:off x="7713720" y="51624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减小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84"/>
            <p:cNvSpPr/>
            <p:nvPr/>
          </p:nvSpPr>
          <p:spPr>
            <a:xfrm>
              <a:off x="7104240" y="516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等腰三角形 85"/>
            <p:cNvSpPr/>
            <p:nvPr/>
          </p:nvSpPr>
          <p:spPr>
            <a:xfrm rot="5400000">
              <a:off x="7702560" y="534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52"/>
          <p:cNvGrpSpPr/>
          <p:nvPr/>
        </p:nvGrpSpPr>
        <p:grpSpPr>
          <a:xfrm>
            <a:off x="7104240" y="673200"/>
            <a:ext cx="1782720" cy="488880"/>
            <a:chOff x="7104240" y="673200"/>
            <a:chExt cx="1782720" cy="488880"/>
          </a:xfrm>
        </p:grpSpPr>
        <p:sp>
          <p:nvSpPr>
            <p:cNvPr id="394" name="矩形 53"/>
            <p:cNvSpPr/>
            <p:nvPr/>
          </p:nvSpPr>
          <p:spPr>
            <a:xfrm>
              <a:off x="771372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全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54"/>
            <p:cNvSpPr/>
            <p:nvPr/>
          </p:nvSpPr>
          <p:spPr>
            <a:xfrm>
              <a:off x="710424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等腰三角形 55"/>
            <p:cNvSpPr/>
            <p:nvPr/>
          </p:nvSpPr>
          <p:spPr>
            <a:xfrm rot="5400000">
              <a:off x="770256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56"/>
          <p:cNvGrpSpPr/>
          <p:nvPr/>
        </p:nvGrpSpPr>
        <p:grpSpPr>
          <a:xfrm>
            <a:off x="9313920" y="673200"/>
            <a:ext cx="1782720" cy="488880"/>
            <a:chOff x="9313920" y="673200"/>
            <a:chExt cx="1782720" cy="488880"/>
          </a:xfrm>
        </p:grpSpPr>
        <p:sp>
          <p:nvSpPr>
            <p:cNvPr id="398" name="矩形 57"/>
            <p:cNvSpPr/>
            <p:nvPr/>
          </p:nvSpPr>
          <p:spPr>
            <a:xfrm>
              <a:off x="992340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加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86"/>
            <p:cNvSpPr/>
            <p:nvPr/>
          </p:nvSpPr>
          <p:spPr>
            <a:xfrm>
              <a:off x="931392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87"/>
            <p:cNvSpPr/>
            <p:nvPr/>
          </p:nvSpPr>
          <p:spPr>
            <a:xfrm rot="5400000">
              <a:off x="991224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88"/>
          <p:cNvGrpSpPr/>
          <p:nvPr/>
        </p:nvGrpSpPr>
        <p:grpSpPr>
          <a:xfrm>
            <a:off x="9313920" y="4524480"/>
            <a:ext cx="1782720" cy="488880"/>
            <a:chOff x="9313920" y="4524480"/>
            <a:chExt cx="1782720" cy="488880"/>
          </a:xfrm>
        </p:grpSpPr>
        <p:sp>
          <p:nvSpPr>
            <p:cNvPr id="402" name="矩形 89"/>
            <p:cNvSpPr/>
            <p:nvPr/>
          </p:nvSpPr>
          <p:spPr>
            <a:xfrm>
              <a:off x="9923400" y="45244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两端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90"/>
            <p:cNvSpPr/>
            <p:nvPr/>
          </p:nvSpPr>
          <p:spPr>
            <a:xfrm>
              <a:off x="9313920" y="45244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等腰三角形 91"/>
            <p:cNvSpPr/>
            <p:nvPr/>
          </p:nvSpPr>
          <p:spPr>
            <a:xfrm rot="5400000">
              <a:off x="9912240" y="47034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92"/>
          <p:cNvGrpSpPr/>
          <p:nvPr/>
        </p:nvGrpSpPr>
        <p:grpSpPr>
          <a:xfrm>
            <a:off x="9313920" y="5165640"/>
            <a:ext cx="1782720" cy="488880"/>
            <a:chOff x="9313920" y="5165640"/>
            <a:chExt cx="1782720" cy="488880"/>
          </a:xfrm>
        </p:grpSpPr>
        <p:sp>
          <p:nvSpPr>
            <p:cNvPr id="406" name="矩形 93"/>
            <p:cNvSpPr/>
            <p:nvPr/>
          </p:nvSpPr>
          <p:spPr>
            <a:xfrm>
              <a:off x="9923400" y="516564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4"/>
            <p:cNvSpPr/>
            <p:nvPr/>
          </p:nvSpPr>
          <p:spPr>
            <a:xfrm>
              <a:off x="9313920" y="516564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95"/>
            <p:cNvSpPr/>
            <p:nvPr/>
          </p:nvSpPr>
          <p:spPr>
            <a:xfrm rot="5400000">
              <a:off x="9912240" y="534456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96"/>
          <p:cNvSpPr/>
          <p:nvPr/>
        </p:nvSpPr>
        <p:spPr>
          <a:xfrm>
            <a:off x="714240" y="52768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ft + V 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择性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97"/>
          <p:cNvGrpSpPr/>
          <p:nvPr/>
        </p:nvGrpSpPr>
        <p:grpSpPr>
          <a:xfrm>
            <a:off x="7104240" y="5803920"/>
            <a:ext cx="1782720" cy="487440"/>
            <a:chOff x="7104240" y="5803920"/>
            <a:chExt cx="1782720" cy="487440"/>
          </a:xfrm>
        </p:grpSpPr>
        <p:sp>
          <p:nvSpPr>
            <p:cNvPr id="411" name="矩形 98"/>
            <p:cNvSpPr/>
            <p:nvPr/>
          </p:nvSpPr>
          <p:spPr>
            <a:xfrm>
              <a:off x="7713720" y="58039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页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99"/>
            <p:cNvSpPr/>
            <p:nvPr/>
          </p:nvSpPr>
          <p:spPr>
            <a:xfrm>
              <a:off x="7104240" y="58039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100"/>
            <p:cNvSpPr/>
            <p:nvPr/>
          </p:nvSpPr>
          <p:spPr>
            <a:xfrm rot="5400000">
              <a:off x="7702560" y="59821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01"/>
          <p:cNvGrpSpPr/>
          <p:nvPr/>
        </p:nvGrpSpPr>
        <p:grpSpPr>
          <a:xfrm>
            <a:off x="9313920" y="5808600"/>
            <a:ext cx="1782720" cy="487440"/>
            <a:chOff x="9313920" y="5808600"/>
            <a:chExt cx="1782720" cy="487440"/>
          </a:xfrm>
        </p:grpSpPr>
        <p:sp>
          <p:nvSpPr>
            <p:cNvPr id="415" name="矩形 102"/>
            <p:cNvSpPr/>
            <p:nvPr/>
          </p:nvSpPr>
          <p:spPr>
            <a:xfrm>
              <a:off x="9923400" y="58086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03"/>
            <p:cNvSpPr/>
            <p:nvPr/>
          </p:nvSpPr>
          <p:spPr>
            <a:xfrm>
              <a:off x="9313920" y="58086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等腰三角形 104"/>
            <p:cNvSpPr/>
            <p:nvPr/>
          </p:nvSpPr>
          <p:spPr>
            <a:xfrm rot="5400000">
              <a:off x="9912240" y="59868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105"/>
          <p:cNvSpPr/>
          <p:nvPr/>
        </p:nvSpPr>
        <p:spPr>
          <a:xfrm>
            <a:off x="714240" y="58294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图形或图片可先组合，再整体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065400" y="3738600"/>
            <a:ext cx="51865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6"/>
          <p:cNvSpPr/>
          <p:nvPr/>
        </p:nvSpPr>
        <p:spPr>
          <a:xfrm>
            <a:off x="3224160" y="136728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对齐按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5" descr=""/>
          <p:cNvPicPr/>
          <p:nvPr/>
        </p:nvPicPr>
        <p:blipFill>
          <a:blip r:embed="rId1"/>
          <a:srcRect l="1970" t="0" r="0" b="0"/>
          <a:stretch/>
        </p:blipFill>
        <p:spPr>
          <a:xfrm>
            <a:off x="10379160" y="1415880"/>
            <a:ext cx="1085760" cy="21434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24" name="图片 8" descr=""/>
          <p:cNvPicPr/>
          <p:nvPr/>
        </p:nvPicPr>
        <p:blipFill>
          <a:blip r:embed="rId2"/>
          <a:stretch/>
        </p:blipFill>
        <p:spPr>
          <a:xfrm>
            <a:off x="9090000" y="4003560"/>
            <a:ext cx="673200" cy="15573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25" name="文本框 10"/>
          <p:cNvSpPr/>
          <p:nvPr/>
        </p:nvSpPr>
        <p:spPr>
          <a:xfrm>
            <a:off x="4402080" y="3853080"/>
            <a:ext cx="33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参考线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3065400" y="5769000"/>
            <a:ext cx="6889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利用参考线实现对图片的快捷裁剪，使之成为页面的一半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2"/>
          <p:cNvSpPr/>
          <p:nvPr/>
        </p:nvSpPr>
        <p:spPr>
          <a:xfrm>
            <a:off x="4870440" y="2630520"/>
            <a:ext cx="2803680" cy="2803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图片 12" descr=""/>
          <p:cNvPicPr/>
          <p:nvPr/>
        </p:nvPicPr>
        <p:blipFill>
          <a:blip r:embed="rId1"/>
          <a:stretch/>
        </p:blipFill>
        <p:spPr>
          <a:xfrm>
            <a:off x="10995120" y="468360"/>
            <a:ext cx="796680" cy="1417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31" name="文本框 13"/>
          <p:cNvSpPr/>
          <p:nvPr/>
        </p:nvSpPr>
        <p:spPr>
          <a:xfrm>
            <a:off x="6170040" y="45540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合并形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1"/>
          <p:cNvSpPr/>
          <p:nvPr/>
        </p:nvSpPr>
        <p:spPr>
          <a:xfrm>
            <a:off x="1431720" y="2645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方正兰亭粗黑_GBK"/>
                <a:ea typeface="方正正大黑简体"/>
              </a:rPr>
              <a:t>快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26"/>
          <p:cNvSpPr/>
          <p:nvPr/>
        </p:nvSpPr>
        <p:spPr>
          <a:xfrm>
            <a:off x="8881920" y="2898720"/>
            <a:ext cx="2318040" cy="2266920"/>
          </a:xfrm>
          <a:custGeom>
            <a:avLst/>
            <a:gdLst/>
            <a:ahLst/>
            <a:rect l="l" t="t" r="r" b="b"/>
            <a:pathLst>
              <a:path w="2317068" h="2267769">
                <a:moveTo>
                  <a:pt x="1626878" y="571872"/>
                </a:moveTo>
                <a:lnTo>
                  <a:pt x="1626878" y="1104305"/>
                </a:lnTo>
                <a:lnTo>
                  <a:pt x="1626878" y="1143745"/>
                </a:lnTo>
                <a:lnTo>
                  <a:pt x="1784635" y="1143745"/>
                </a:lnTo>
                <a:lnTo>
                  <a:pt x="1784635" y="571872"/>
                </a:lnTo>
                <a:lnTo>
                  <a:pt x="1626878" y="571872"/>
                </a:lnTo>
                <a:close/>
                <a:moveTo>
                  <a:pt x="49299" y="443694"/>
                </a:moveTo>
                <a:lnTo>
                  <a:pt x="276076" y="443694"/>
                </a:lnTo>
                <a:cubicBezTo>
                  <a:pt x="276076" y="778930"/>
                  <a:pt x="262930" y="1064866"/>
                  <a:pt x="236637" y="1301502"/>
                </a:cubicBezTo>
                <a:lnTo>
                  <a:pt x="0" y="1301502"/>
                </a:lnTo>
                <a:cubicBezTo>
                  <a:pt x="32866" y="1045146"/>
                  <a:pt x="49299" y="759210"/>
                  <a:pt x="49299" y="443694"/>
                </a:cubicBezTo>
                <a:close/>
                <a:moveTo>
                  <a:pt x="1202903" y="9860"/>
                </a:moveTo>
                <a:lnTo>
                  <a:pt x="1626878" y="9860"/>
                </a:lnTo>
                <a:lnTo>
                  <a:pt x="1626878" y="295796"/>
                </a:lnTo>
                <a:lnTo>
                  <a:pt x="2169170" y="295796"/>
                </a:lnTo>
                <a:lnTo>
                  <a:pt x="2169170" y="1143745"/>
                </a:lnTo>
                <a:lnTo>
                  <a:pt x="2317068" y="1143745"/>
                </a:lnTo>
                <a:lnTo>
                  <a:pt x="2317068" y="1419821"/>
                </a:lnTo>
                <a:lnTo>
                  <a:pt x="1676177" y="1419821"/>
                </a:lnTo>
                <a:cubicBezTo>
                  <a:pt x="1741909" y="1617018"/>
                  <a:pt x="1935820" y="1810929"/>
                  <a:pt x="2257909" y="2001553"/>
                </a:cubicBezTo>
                <a:lnTo>
                  <a:pt x="2257909" y="2267769"/>
                </a:lnTo>
                <a:cubicBezTo>
                  <a:pt x="1870088" y="2156024"/>
                  <a:pt x="1594011" y="1981833"/>
                  <a:pt x="1429680" y="1745196"/>
                </a:cubicBezTo>
                <a:cubicBezTo>
                  <a:pt x="1304789" y="1975260"/>
                  <a:pt x="1078012" y="2149451"/>
                  <a:pt x="749350" y="2267769"/>
                </a:cubicBezTo>
                <a:lnTo>
                  <a:pt x="749350" y="2001553"/>
                </a:lnTo>
                <a:cubicBezTo>
                  <a:pt x="966267" y="1824075"/>
                  <a:pt x="1101018" y="1630164"/>
                  <a:pt x="1153604" y="1419821"/>
                </a:cubicBezTo>
                <a:lnTo>
                  <a:pt x="769069" y="1419821"/>
                </a:lnTo>
                <a:lnTo>
                  <a:pt x="769069" y="1143745"/>
                </a:lnTo>
                <a:lnTo>
                  <a:pt x="1202903" y="1143745"/>
                </a:lnTo>
                <a:lnTo>
                  <a:pt x="1202903" y="1114165"/>
                </a:lnTo>
                <a:lnTo>
                  <a:pt x="1202903" y="571872"/>
                </a:lnTo>
                <a:lnTo>
                  <a:pt x="887388" y="571872"/>
                </a:lnTo>
                <a:lnTo>
                  <a:pt x="887388" y="295796"/>
                </a:lnTo>
                <a:lnTo>
                  <a:pt x="1202903" y="295796"/>
                </a:lnTo>
                <a:lnTo>
                  <a:pt x="1202903" y="9860"/>
                </a:lnTo>
                <a:close/>
                <a:moveTo>
                  <a:pt x="305656" y="0"/>
                </a:moveTo>
                <a:lnTo>
                  <a:pt x="680331" y="0"/>
                </a:lnTo>
                <a:lnTo>
                  <a:pt x="680331" y="483134"/>
                </a:lnTo>
                <a:cubicBezTo>
                  <a:pt x="739490" y="483134"/>
                  <a:pt x="798649" y="486420"/>
                  <a:pt x="857808" y="492993"/>
                </a:cubicBezTo>
                <a:lnTo>
                  <a:pt x="857808" y="798649"/>
                </a:lnTo>
                <a:cubicBezTo>
                  <a:pt x="798649" y="778930"/>
                  <a:pt x="739490" y="762496"/>
                  <a:pt x="680331" y="749350"/>
                </a:cubicBezTo>
                <a:lnTo>
                  <a:pt x="680331" y="2257909"/>
                </a:lnTo>
                <a:lnTo>
                  <a:pt x="305656" y="2257909"/>
                </a:lnTo>
                <a:lnTo>
                  <a:pt x="30565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9"/>
          <p:cNvSpPr/>
          <p:nvPr/>
        </p:nvSpPr>
        <p:spPr>
          <a:xfrm>
            <a:off x="1295280" y="5613480"/>
            <a:ext cx="9904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将一个图形覆盖到字体上面，通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合并形状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相交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得到 </a:t>
            </a:r>
            <a:r>
              <a:rPr b="1" lang="zh-CN" sz="2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矢量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0"/>
          <p:cNvSpPr/>
          <p:nvPr/>
        </p:nvSpPr>
        <p:spPr>
          <a:xfrm>
            <a:off x="5591520" y="46735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矢量字体有什么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如何实现镂空字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31"/>
          <p:cNvSpPr/>
          <p:nvPr/>
        </p:nvSpPr>
        <p:spPr>
          <a:xfrm>
            <a:off x="5168880" y="4276800"/>
            <a:ext cx="2260800" cy="338040"/>
          </a:xfrm>
          <a:prstGeom prst="roundRect">
            <a:avLst>
              <a:gd name="adj" fmla="val 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请您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4"/>
          <p:cNvSpPr/>
          <p:nvPr/>
        </p:nvSpPr>
        <p:spPr>
          <a:xfrm>
            <a:off x="6886440" y="35568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刷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5"/>
          <p:cNvSpPr/>
          <p:nvPr/>
        </p:nvSpPr>
        <p:spPr>
          <a:xfrm>
            <a:off x="2589840" y="15620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格式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6"/>
          <p:cNvSpPr/>
          <p:nvPr/>
        </p:nvSpPr>
        <p:spPr>
          <a:xfrm>
            <a:off x="2589840" y="33908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动画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8"/>
          <p:cNvSpPr/>
          <p:nvPr/>
        </p:nvSpPr>
        <p:spPr>
          <a:xfrm>
            <a:off x="2030400" y="50958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9"/>
          <p:cNvSpPr/>
          <p:nvPr/>
        </p:nvSpPr>
        <p:spPr>
          <a:xfrm>
            <a:off x="2030400" y="56484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双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多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"/>
          <p:cNvSpPr/>
          <p:nvPr/>
        </p:nvSpPr>
        <p:spPr>
          <a:xfrm>
            <a:off x="2509560" y="1361880"/>
            <a:ext cx="2710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默认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设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4" descr=""/>
          <p:cNvPicPr/>
          <p:nvPr/>
        </p:nvPicPr>
        <p:blipFill>
          <a:blip r:embed="rId1"/>
          <a:stretch/>
        </p:blipFill>
        <p:spPr>
          <a:xfrm>
            <a:off x="7215120" y="1338120"/>
            <a:ext cx="1814760" cy="4846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48" name="图片 6" descr=""/>
          <p:cNvPicPr/>
          <p:nvPr/>
        </p:nvPicPr>
        <p:blipFill>
          <a:blip r:embed="rId2"/>
          <a:stretch/>
        </p:blipFill>
        <p:spPr>
          <a:xfrm>
            <a:off x="10028160" y="1338120"/>
            <a:ext cx="1525680" cy="33735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49" name="椭圆 8"/>
          <p:cNvSpPr/>
          <p:nvPr/>
        </p:nvSpPr>
        <p:spPr>
          <a:xfrm rot="5400000">
            <a:off x="6888600" y="2042280"/>
            <a:ext cx="2298600" cy="205884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10"/>
          <p:cNvSpPr/>
          <p:nvPr/>
        </p:nvSpPr>
        <p:spPr>
          <a:xfrm>
            <a:off x="7757280" y="29624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设计→变体→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8"/>
          <p:cNvSpPr/>
          <p:nvPr/>
        </p:nvSpPr>
        <p:spPr>
          <a:xfrm rot="5400000">
            <a:off x="10019520" y="4301280"/>
            <a:ext cx="1540080" cy="137952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3"/>
          <p:cNvSpPr/>
          <p:nvPr/>
        </p:nvSpPr>
        <p:spPr>
          <a:xfrm>
            <a:off x="10425600" y="486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单击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5498280" y="4233960"/>
            <a:ext cx="1933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步替换字体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3" descr=""/>
          <p:cNvPicPr/>
          <p:nvPr/>
        </p:nvPicPr>
        <p:blipFill>
          <a:blip r:embed="rId1"/>
          <a:stretch/>
        </p:blipFill>
        <p:spPr>
          <a:xfrm>
            <a:off x="6111720" y="2224080"/>
            <a:ext cx="1371600" cy="976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grpSp>
        <p:nvGrpSpPr>
          <p:cNvPr id="457" name="组合 14"/>
          <p:cNvGrpSpPr/>
          <p:nvPr/>
        </p:nvGrpSpPr>
        <p:grpSpPr>
          <a:xfrm>
            <a:off x="1909800" y="901800"/>
            <a:ext cx="3611520" cy="3235320"/>
            <a:chOff x="1909800" y="901800"/>
            <a:chExt cx="3611520" cy="3235320"/>
          </a:xfrm>
        </p:grpSpPr>
        <p:sp>
          <p:nvSpPr>
            <p:cNvPr id="458" name="椭圆 8"/>
            <p:cNvSpPr/>
            <p:nvPr/>
          </p:nvSpPr>
          <p:spPr>
            <a:xfrm flipH="1">
              <a:off x="1909800" y="901800"/>
              <a:ext cx="3611520" cy="323532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6"/>
            <p:cNvSpPr/>
            <p:nvPr/>
          </p:nvSpPr>
          <p:spPr>
            <a:xfrm flipH="1">
              <a:off x="2246400" y="2011680"/>
              <a:ext cx="267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优化</a:t>
              </a: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0" name="直接箭头连接符 11"/>
          <p:cNvCxnSpPr/>
          <p:nvPr/>
        </p:nvCxnSpPr>
        <p:spPr>
          <a:xfrm>
            <a:off x="7483320" y="2711520"/>
            <a:ext cx="594720" cy="2160"/>
          </a:xfrm>
          <a:prstGeom prst="straightConnector1">
            <a:avLst/>
          </a:prstGeom>
          <a:ln w="6480">
            <a:solidFill>
              <a:srgbClr val="5b9bd5"/>
            </a:solidFill>
            <a:bevel/>
            <a:tailEnd len="med" type="arrow" w="med"/>
          </a:ln>
        </p:spPr>
      </p:cxnSp>
      <p:sp>
        <p:nvSpPr>
          <p:cNvPr id="461" name="文本框 17"/>
          <p:cNvSpPr/>
          <p:nvPr/>
        </p:nvSpPr>
        <p:spPr>
          <a:xfrm>
            <a:off x="6570720" y="3319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始→替换→替换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18" descr=""/>
          <p:cNvPicPr/>
          <p:nvPr/>
        </p:nvPicPr>
        <p:blipFill>
          <a:blip r:embed="rId2"/>
          <a:stretch/>
        </p:blipFill>
        <p:spPr>
          <a:xfrm>
            <a:off x="8185320" y="1857240"/>
            <a:ext cx="3543120" cy="17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5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取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3"/>
          <p:cNvSpPr/>
          <p:nvPr/>
        </p:nvSpPr>
        <p:spPr>
          <a:xfrm>
            <a:off x="5432040" y="1474920"/>
            <a:ext cx="4730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Calibri"/>
                <a:ea typeface="微软雅黑"/>
              </a:rPr>
              <a:t>取色器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19" descr=""/>
          <p:cNvPicPr/>
          <p:nvPr/>
        </p:nvPicPr>
        <p:blipFill>
          <a:blip r:embed="rId1"/>
          <a:stretch/>
        </p:blipFill>
        <p:spPr>
          <a:xfrm>
            <a:off x="1619280" y="1849320"/>
            <a:ext cx="1630440" cy="2308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67" name="任意多边形 20"/>
          <p:cNvSpPr/>
          <p:nvPr/>
        </p:nvSpPr>
        <p:spPr>
          <a:xfrm>
            <a:off x="1384200" y="4740120"/>
            <a:ext cx="10029960" cy="914400"/>
          </a:xfrm>
          <a:custGeom>
            <a:avLst/>
            <a:gdLst/>
            <a:ahLst/>
            <a:rect l="l" t="t" r="r" b="b"/>
            <a:pathLst>
              <a:path w="10029527" h="915665">
                <a:moveTo>
                  <a:pt x="6239470" y="704663"/>
                </a:moveTo>
                <a:lnTo>
                  <a:pt x="6239470" y="784286"/>
                </a:lnTo>
                <a:cubicBezTo>
                  <a:pt x="6255394" y="782959"/>
                  <a:pt x="6275300" y="780969"/>
                  <a:pt x="6299187" y="778315"/>
                </a:cubicBezTo>
                <a:lnTo>
                  <a:pt x="6358441" y="771261"/>
                </a:lnTo>
                <a:lnTo>
                  <a:pt x="6371595" y="769108"/>
                </a:lnTo>
                <a:cubicBezTo>
                  <a:pt x="6379060" y="767947"/>
                  <a:pt x="6389427" y="766371"/>
                  <a:pt x="6402698" y="764381"/>
                </a:cubicBezTo>
                <a:lnTo>
                  <a:pt x="6402698" y="704663"/>
                </a:lnTo>
                <a:lnTo>
                  <a:pt x="6239470" y="704663"/>
                </a:lnTo>
                <a:close/>
                <a:moveTo>
                  <a:pt x="9722978" y="700682"/>
                </a:moveTo>
                <a:lnTo>
                  <a:pt x="9722978" y="824098"/>
                </a:lnTo>
                <a:lnTo>
                  <a:pt x="9826488" y="824098"/>
                </a:lnTo>
                <a:cubicBezTo>
                  <a:pt x="9853029" y="826752"/>
                  <a:pt x="9866299" y="813482"/>
                  <a:pt x="9866299" y="784286"/>
                </a:cubicBezTo>
                <a:lnTo>
                  <a:pt x="9866299" y="700682"/>
                </a:lnTo>
                <a:lnTo>
                  <a:pt x="9722978" y="700682"/>
                </a:lnTo>
                <a:close/>
                <a:moveTo>
                  <a:pt x="9285051" y="700682"/>
                </a:moveTo>
                <a:lnTo>
                  <a:pt x="9285051" y="824098"/>
                </a:lnTo>
                <a:lnTo>
                  <a:pt x="9388561" y="824098"/>
                </a:lnTo>
                <a:cubicBezTo>
                  <a:pt x="9415103" y="824098"/>
                  <a:pt x="9428373" y="812155"/>
                  <a:pt x="9428373" y="788268"/>
                </a:cubicBezTo>
                <a:lnTo>
                  <a:pt x="9428373" y="700682"/>
                </a:lnTo>
                <a:lnTo>
                  <a:pt x="9285051" y="700682"/>
                </a:lnTo>
                <a:close/>
                <a:moveTo>
                  <a:pt x="9615487" y="633003"/>
                </a:moveTo>
                <a:lnTo>
                  <a:pt x="9969809" y="633003"/>
                </a:lnTo>
                <a:lnTo>
                  <a:pt x="9969809" y="784286"/>
                </a:lnTo>
                <a:cubicBezTo>
                  <a:pt x="9972464" y="858601"/>
                  <a:pt x="9936633" y="894432"/>
                  <a:pt x="9862318" y="891778"/>
                </a:cubicBezTo>
                <a:lnTo>
                  <a:pt x="9615487" y="891778"/>
                </a:lnTo>
                <a:lnTo>
                  <a:pt x="9615487" y="633003"/>
                </a:lnTo>
                <a:close/>
                <a:moveTo>
                  <a:pt x="9181541" y="633003"/>
                </a:moveTo>
                <a:lnTo>
                  <a:pt x="9531883" y="633003"/>
                </a:lnTo>
                <a:lnTo>
                  <a:pt x="9531883" y="784286"/>
                </a:lnTo>
                <a:cubicBezTo>
                  <a:pt x="9534537" y="858601"/>
                  <a:pt x="9498707" y="894432"/>
                  <a:pt x="9424391" y="891778"/>
                </a:cubicBezTo>
                <a:lnTo>
                  <a:pt x="9181541" y="891778"/>
                </a:lnTo>
                <a:lnTo>
                  <a:pt x="9181541" y="633003"/>
                </a:lnTo>
                <a:close/>
                <a:moveTo>
                  <a:pt x="7143192" y="605135"/>
                </a:moveTo>
                <a:lnTo>
                  <a:pt x="7234758" y="605135"/>
                </a:lnTo>
                <a:cubicBezTo>
                  <a:pt x="7234758" y="729877"/>
                  <a:pt x="7177695" y="813482"/>
                  <a:pt x="7063569" y="855947"/>
                </a:cubicBezTo>
                <a:lnTo>
                  <a:pt x="7063569" y="792249"/>
                </a:lnTo>
                <a:cubicBezTo>
                  <a:pt x="7111343" y="749783"/>
                  <a:pt x="7137884" y="687412"/>
                  <a:pt x="7143192" y="605135"/>
                </a:cubicBezTo>
                <a:close/>
                <a:moveTo>
                  <a:pt x="6239470" y="573285"/>
                </a:moveTo>
                <a:lnTo>
                  <a:pt x="6239470" y="640965"/>
                </a:lnTo>
                <a:lnTo>
                  <a:pt x="6402698" y="640965"/>
                </a:lnTo>
                <a:lnTo>
                  <a:pt x="6402698" y="573285"/>
                </a:lnTo>
                <a:lnTo>
                  <a:pt x="6239470" y="573285"/>
                </a:lnTo>
                <a:close/>
                <a:moveTo>
                  <a:pt x="6546019" y="501625"/>
                </a:moveTo>
                <a:lnTo>
                  <a:pt x="6948116" y="501625"/>
                </a:lnTo>
                <a:lnTo>
                  <a:pt x="6948116" y="577267"/>
                </a:lnTo>
                <a:cubicBezTo>
                  <a:pt x="6913612" y="659544"/>
                  <a:pt x="6871146" y="725896"/>
                  <a:pt x="6820719" y="776324"/>
                </a:cubicBezTo>
                <a:cubicBezTo>
                  <a:pt x="6860530" y="797557"/>
                  <a:pt x="6909631" y="818790"/>
                  <a:pt x="6968021" y="840023"/>
                </a:cubicBezTo>
                <a:lnTo>
                  <a:pt x="6968021" y="915665"/>
                </a:lnTo>
                <a:cubicBezTo>
                  <a:pt x="6880436" y="889123"/>
                  <a:pt x="6808775" y="858601"/>
                  <a:pt x="6753039" y="824098"/>
                </a:cubicBezTo>
                <a:cubicBezTo>
                  <a:pt x="6699957" y="858601"/>
                  <a:pt x="6633605" y="889123"/>
                  <a:pt x="6553981" y="915665"/>
                </a:cubicBezTo>
                <a:lnTo>
                  <a:pt x="6553981" y="840023"/>
                </a:lnTo>
                <a:cubicBezTo>
                  <a:pt x="6561944" y="834714"/>
                  <a:pt x="6573887" y="829406"/>
                  <a:pt x="6589811" y="824098"/>
                </a:cubicBezTo>
                <a:cubicBezTo>
                  <a:pt x="6629623" y="805519"/>
                  <a:pt x="6660145" y="789595"/>
                  <a:pt x="6681378" y="776324"/>
                </a:cubicBezTo>
                <a:cubicBezTo>
                  <a:pt x="6633605" y="733859"/>
                  <a:pt x="6593793" y="675468"/>
                  <a:pt x="6561944" y="601153"/>
                </a:cubicBezTo>
                <a:lnTo>
                  <a:pt x="6677397" y="601153"/>
                </a:lnTo>
                <a:cubicBezTo>
                  <a:pt x="6698630" y="643619"/>
                  <a:pt x="6722517" y="680777"/>
                  <a:pt x="6749058" y="712626"/>
                </a:cubicBezTo>
                <a:cubicBezTo>
                  <a:pt x="6780907" y="678122"/>
                  <a:pt x="6807448" y="633003"/>
                  <a:pt x="6828681" y="577267"/>
                </a:cubicBezTo>
                <a:lnTo>
                  <a:pt x="6546019" y="577267"/>
                </a:lnTo>
                <a:lnTo>
                  <a:pt x="6546019" y="501625"/>
                </a:lnTo>
                <a:close/>
                <a:moveTo>
                  <a:pt x="8775464" y="445889"/>
                </a:moveTo>
                <a:lnTo>
                  <a:pt x="8775464" y="625040"/>
                </a:lnTo>
                <a:lnTo>
                  <a:pt x="8827219" y="625040"/>
                </a:lnTo>
                <a:cubicBezTo>
                  <a:pt x="8867030" y="627695"/>
                  <a:pt x="8885609" y="606462"/>
                  <a:pt x="8882955" y="561342"/>
                </a:cubicBezTo>
                <a:lnTo>
                  <a:pt x="8882955" y="445889"/>
                </a:lnTo>
                <a:lnTo>
                  <a:pt x="8775464" y="445889"/>
                </a:lnTo>
                <a:close/>
                <a:moveTo>
                  <a:pt x="8560481" y="445889"/>
                </a:moveTo>
                <a:lnTo>
                  <a:pt x="8560481" y="625040"/>
                </a:lnTo>
                <a:lnTo>
                  <a:pt x="8663991" y="625040"/>
                </a:lnTo>
                <a:lnTo>
                  <a:pt x="8663991" y="445889"/>
                </a:lnTo>
                <a:lnTo>
                  <a:pt x="8560481" y="445889"/>
                </a:lnTo>
                <a:close/>
                <a:moveTo>
                  <a:pt x="6239470" y="441907"/>
                </a:moveTo>
                <a:lnTo>
                  <a:pt x="6239470" y="509587"/>
                </a:lnTo>
                <a:lnTo>
                  <a:pt x="6402698" y="509587"/>
                </a:lnTo>
                <a:lnTo>
                  <a:pt x="6402698" y="441907"/>
                </a:lnTo>
                <a:lnTo>
                  <a:pt x="6239470" y="441907"/>
                </a:lnTo>
                <a:close/>
                <a:moveTo>
                  <a:pt x="6056337" y="366266"/>
                </a:moveTo>
                <a:lnTo>
                  <a:pt x="6983946" y="366266"/>
                </a:lnTo>
                <a:lnTo>
                  <a:pt x="6983946" y="441907"/>
                </a:lnTo>
                <a:lnTo>
                  <a:pt x="6510188" y="441907"/>
                </a:lnTo>
                <a:lnTo>
                  <a:pt x="6510188" y="748456"/>
                </a:lnTo>
                <a:lnTo>
                  <a:pt x="6565924" y="740494"/>
                </a:lnTo>
                <a:lnTo>
                  <a:pt x="6565924" y="808173"/>
                </a:lnTo>
                <a:lnTo>
                  <a:pt x="6510188" y="816136"/>
                </a:lnTo>
                <a:lnTo>
                  <a:pt x="6510188" y="915665"/>
                </a:lnTo>
                <a:lnTo>
                  <a:pt x="6402698" y="915665"/>
                </a:lnTo>
                <a:lnTo>
                  <a:pt x="6402698" y="832060"/>
                </a:lnTo>
                <a:cubicBezTo>
                  <a:pt x="6304496" y="850639"/>
                  <a:pt x="6191696" y="863910"/>
                  <a:pt x="6064300" y="871872"/>
                </a:cubicBezTo>
                <a:lnTo>
                  <a:pt x="6064300" y="792249"/>
                </a:lnTo>
                <a:cubicBezTo>
                  <a:pt x="6072262" y="792249"/>
                  <a:pt x="6084205" y="790922"/>
                  <a:pt x="6100130" y="788268"/>
                </a:cubicBezTo>
                <a:cubicBezTo>
                  <a:pt x="6116054" y="788268"/>
                  <a:pt x="6126671" y="788268"/>
                  <a:pt x="6131979" y="788268"/>
                </a:cubicBezTo>
                <a:lnTo>
                  <a:pt x="6131979" y="441907"/>
                </a:lnTo>
                <a:lnTo>
                  <a:pt x="6056337" y="441907"/>
                </a:lnTo>
                <a:lnTo>
                  <a:pt x="6056337" y="366266"/>
                </a:lnTo>
                <a:close/>
                <a:moveTo>
                  <a:pt x="3175880" y="350341"/>
                </a:moveTo>
                <a:lnTo>
                  <a:pt x="3175880" y="406077"/>
                </a:lnTo>
                <a:lnTo>
                  <a:pt x="3275409" y="406077"/>
                </a:lnTo>
                <a:cubicBezTo>
                  <a:pt x="3293988" y="485700"/>
                  <a:pt x="3319202" y="553380"/>
                  <a:pt x="3351051" y="609116"/>
                </a:cubicBezTo>
                <a:cubicBezTo>
                  <a:pt x="3385554" y="540109"/>
                  <a:pt x="3410768" y="453851"/>
                  <a:pt x="3426693" y="350341"/>
                </a:cubicBezTo>
                <a:lnTo>
                  <a:pt x="3175880" y="350341"/>
                </a:lnTo>
                <a:close/>
                <a:moveTo>
                  <a:pt x="9507996" y="290624"/>
                </a:moveTo>
                <a:lnTo>
                  <a:pt x="9647336" y="290624"/>
                </a:lnTo>
                <a:lnTo>
                  <a:pt x="9647336" y="354322"/>
                </a:lnTo>
                <a:lnTo>
                  <a:pt x="9782695" y="354322"/>
                </a:lnTo>
                <a:lnTo>
                  <a:pt x="9782695" y="294605"/>
                </a:lnTo>
                <a:lnTo>
                  <a:pt x="9890186" y="294605"/>
                </a:lnTo>
                <a:lnTo>
                  <a:pt x="9890186" y="354322"/>
                </a:lnTo>
                <a:lnTo>
                  <a:pt x="10021564" y="354322"/>
                </a:lnTo>
                <a:lnTo>
                  <a:pt x="10021564" y="425983"/>
                </a:lnTo>
                <a:lnTo>
                  <a:pt x="9667242" y="425983"/>
                </a:lnTo>
                <a:cubicBezTo>
                  <a:pt x="9712361" y="492335"/>
                  <a:pt x="9833124" y="530820"/>
                  <a:pt x="10029527" y="541436"/>
                </a:cubicBezTo>
                <a:lnTo>
                  <a:pt x="10029527" y="609116"/>
                </a:lnTo>
                <a:cubicBezTo>
                  <a:pt x="9814544" y="606462"/>
                  <a:pt x="9664587" y="566650"/>
                  <a:pt x="9579656" y="489681"/>
                </a:cubicBezTo>
                <a:cubicBezTo>
                  <a:pt x="9500033" y="563996"/>
                  <a:pt x="9347423" y="603808"/>
                  <a:pt x="9121824" y="609116"/>
                </a:cubicBezTo>
                <a:lnTo>
                  <a:pt x="9121824" y="541436"/>
                </a:lnTo>
                <a:cubicBezTo>
                  <a:pt x="9318228" y="530820"/>
                  <a:pt x="9440316" y="492335"/>
                  <a:pt x="9488090" y="425983"/>
                </a:cubicBezTo>
                <a:lnTo>
                  <a:pt x="9133767" y="425983"/>
                </a:lnTo>
                <a:lnTo>
                  <a:pt x="9133767" y="354322"/>
                </a:lnTo>
                <a:lnTo>
                  <a:pt x="9507996" y="354322"/>
                </a:lnTo>
                <a:lnTo>
                  <a:pt x="9507996" y="290624"/>
                </a:lnTo>
                <a:close/>
                <a:moveTo>
                  <a:pt x="6291225" y="203038"/>
                </a:moveTo>
                <a:lnTo>
                  <a:pt x="6291225" y="258774"/>
                </a:lnTo>
                <a:lnTo>
                  <a:pt x="6709246" y="258774"/>
                </a:lnTo>
                <a:cubicBezTo>
                  <a:pt x="6738441" y="261429"/>
                  <a:pt x="6751712" y="245504"/>
                  <a:pt x="6749058" y="211001"/>
                </a:cubicBezTo>
                <a:lnTo>
                  <a:pt x="6749058" y="203038"/>
                </a:lnTo>
                <a:lnTo>
                  <a:pt x="6291225" y="203038"/>
                </a:lnTo>
                <a:close/>
                <a:moveTo>
                  <a:pt x="8775464" y="199057"/>
                </a:moveTo>
                <a:lnTo>
                  <a:pt x="8775464" y="366266"/>
                </a:lnTo>
                <a:lnTo>
                  <a:pt x="8882955" y="366266"/>
                </a:lnTo>
                <a:lnTo>
                  <a:pt x="8882955" y="199057"/>
                </a:lnTo>
                <a:lnTo>
                  <a:pt x="8775464" y="199057"/>
                </a:lnTo>
                <a:close/>
                <a:moveTo>
                  <a:pt x="8560481" y="199057"/>
                </a:moveTo>
                <a:lnTo>
                  <a:pt x="8560481" y="366266"/>
                </a:lnTo>
                <a:lnTo>
                  <a:pt x="8663991" y="366266"/>
                </a:lnTo>
                <a:lnTo>
                  <a:pt x="8663991" y="199057"/>
                </a:lnTo>
                <a:lnTo>
                  <a:pt x="8560481" y="199057"/>
                </a:lnTo>
                <a:close/>
                <a:moveTo>
                  <a:pt x="7135230" y="187114"/>
                </a:moveTo>
                <a:lnTo>
                  <a:pt x="7242720" y="187114"/>
                </a:lnTo>
                <a:cubicBezTo>
                  <a:pt x="7245374" y="229579"/>
                  <a:pt x="7254664" y="269391"/>
                  <a:pt x="7270588" y="306548"/>
                </a:cubicBezTo>
                <a:lnTo>
                  <a:pt x="7374098" y="306548"/>
                </a:lnTo>
                <a:cubicBezTo>
                  <a:pt x="7390023" y="269391"/>
                  <a:pt x="7399312" y="229579"/>
                  <a:pt x="7401966" y="187114"/>
                </a:cubicBezTo>
                <a:lnTo>
                  <a:pt x="7509457" y="187114"/>
                </a:lnTo>
                <a:cubicBezTo>
                  <a:pt x="7504150" y="229579"/>
                  <a:pt x="7493532" y="269391"/>
                  <a:pt x="7477608" y="306548"/>
                </a:cubicBezTo>
                <a:lnTo>
                  <a:pt x="7565194" y="306548"/>
                </a:lnTo>
                <a:lnTo>
                  <a:pt x="7565194" y="390152"/>
                </a:lnTo>
                <a:lnTo>
                  <a:pt x="7386042" y="390152"/>
                </a:lnTo>
                <a:lnTo>
                  <a:pt x="7386042" y="481719"/>
                </a:lnTo>
                <a:lnTo>
                  <a:pt x="7549270" y="481719"/>
                </a:lnTo>
                <a:lnTo>
                  <a:pt x="7549270" y="561342"/>
                </a:lnTo>
                <a:lnTo>
                  <a:pt x="7386042" y="561342"/>
                </a:lnTo>
                <a:lnTo>
                  <a:pt x="7386042" y="776324"/>
                </a:lnTo>
                <a:cubicBezTo>
                  <a:pt x="7388696" y="861255"/>
                  <a:pt x="7347557" y="902394"/>
                  <a:pt x="7262626" y="899740"/>
                </a:cubicBezTo>
                <a:lnTo>
                  <a:pt x="7186984" y="899740"/>
                </a:lnTo>
                <a:lnTo>
                  <a:pt x="7186984" y="820117"/>
                </a:lnTo>
                <a:lnTo>
                  <a:pt x="7222815" y="820117"/>
                </a:lnTo>
                <a:cubicBezTo>
                  <a:pt x="7257318" y="822771"/>
                  <a:pt x="7273242" y="806846"/>
                  <a:pt x="7270588" y="772343"/>
                </a:cubicBezTo>
                <a:lnTo>
                  <a:pt x="7270588" y="561342"/>
                </a:lnTo>
                <a:lnTo>
                  <a:pt x="7095418" y="561342"/>
                </a:lnTo>
                <a:lnTo>
                  <a:pt x="7095418" y="481719"/>
                </a:lnTo>
                <a:lnTo>
                  <a:pt x="7270588" y="481719"/>
                </a:lnTo>
                <a:lnTo>
                  <a:pt x="7270588" y="390152"/>
                </a:lnTo>
                <a:lnTo>
                  <a:pt x="7075512" y="390152"/>
                </a:lnTo>
                <a:lnTo>
                  <a:pt x="7075512" y="306548"/>
                </a:lnTo>
                <a:lnTo>
                  <a:pt x="7167078" y="306548"/>
                </a:lnTo>
                <a:cubicBezTo>
                  <a:pt x="7151154" y="269391"/>
                  <a:pt x="7140538" y="229579"/>
                  <a:pt x="7135230" y="187114"/>
                </a:cubicBezTo>
                <a:close/>
                <a:moveTo>
                  <a:pt x="8102649" y="171189"/>
                </a:moveTo>
                <a:lnTo>
                  <a:pt x="8405216" y="171189"/>
                </a:lnTo>
                <a:lnTo>
                  <a:pt x="8405216" y="250812"/>
                </a:lnTo>
                <a:cubicBezTo>
                  <a:pt x="8383984" y="325127"/>
                  <a:pt x="8357443" y="388825"/>
                  <a:pt x="8325593" y="441907"/>
                </a:cubicBezTo>
                <a:cubicBezTo>
                  <a:pt x="8349480" y="476411"/>
                  <a:pt x="8383984" y="512241"/>
                  <a:pt x="8429103" y="549399"/>
                </a:cubicBezTo>
                <a:lnTo>
                  <a:pt x="8429103" y="629022"/>
                </a:lnTo>
                <a:cubicBezTo>
                  <a:pt x="8389292" y="607789"/>
                  <a:pt x="8354789" y="586556"/>
                  <a:pt x="8325593" y="565323"/>
                </a:cubicBezTo>
                <a:lnTo>
                  <a:pt x="8325593" y="915665"/>
                </a:lnTo>
                <a:lnTo>
                  <a:pt x="8210140" y="915665"/>
                </a:lnTo>
                <a:lnTo>
                  <a:pt x="8210140" y="573285"/>
                </a:lnTo>
                <a:cubicBezTo>
                  <a:pt x="8202178" y="578594"/>
                  <a:pt x="8190234" y="586556"/>
                  <a:pt x="8174310" y="597172"/>
                </a:cubicBezTo>
                <a:cubicBezTo>
                  <a:pt x="8142460" y="621059"/>
                  <a:pt x="8114592" y="639638"/>
                  <a:pt x="8090706" y="652908"/>
                </a:cubicBezTo>
                <a:lnTo>
                  <a:pt x="8090706" y="569304"/>
                </a:lnTo>
                <a:cubicBezTo>
                  <a:pt x="8191562" y="479065"/>
                  <a:pt x="8255260" y="374228"/>
                  <a:pt x="8281801" y="254793"/>
                </a:cubicBezTo>
                <a:lnTo>
                  <a:pt x="8102649" y="254793"/>
                </a:lnTo>
                <a:lnTo>
                  <a:pt x="8102649" y="171189"/>
                </a:lnTo>
                <a:close/>
                <a:moveTo>
                  <a:pt x="4623346" y="115453"/>
                </a:moveTo>
                <a:lnTo>
                  <a:pt x="4623346" y="473757"/>
                </a:lnTo>
                <a:lnTo>
                  <a:pt x="4822403" y="473757"/>
                </a:lnTo>
                <a:cubicBezTo>
                  <a:pt x="4952454" y="476411"/>
                  <a:pt x="5014825" y="415366"/>
                  <a:pt x="5009517" y="290624"/>
                </a:cubicBezTo>
                <a:cubicBezTo>
                  <a:pt x="5012172" y="171189"/>
                  <a:pt x="4949800" y="112799"/>
                  <a:pt x="4822403" y="115453"/>
                </a:cubicBezTo>
                <a:lnTo>
                  <a:pt x="4623346" y="115453"/>
                </a:lnTo>
                <a:close/>
                <a:moveTo>
                  <a:pt x="3832770" y="115453"/>
                </a:moveTo>
                <a:lnTo>
                  <a:pt x="3832770" y="473757"/>
                </a:lnTo>
                <a:lnTo>
                  <a:pt x="4031828" y="473757"/>
                </a:lnTo>
                <a:cubicBezTo>
                  <a:pt x="4161879" y="476411"/>
                  <a:pt x="4224250" y="415366"/>
                  <a:pt x="4218942" y="290624"/>
                </a:cubicBezTo>
                <a:cubicBezTo>
                  <a:pt x="4221597" y="171189"/>
                  <a:pt x="4159225" y="112799"/>
                  <a:pt x="4031828" y="115453"/>
                </a:cubicBezTo>
                <a:lnTo>
                  <a:pt x="3832770" y="115453"/>
                </a:lnTo>
                <a:close/>
                <a:moveTo>
                  <a:pt x="9722978" y="103509"/>
                </a:moveTo>
                <a:lnTo>
                  <a:pt x="9722978" y="211001"/>
                </a:lnTo>
                <a:lnTo>
                  <a:pt x="9830469" y="211001"/>
                </a:lnTo>
                <a:cubicBezTo>
                  <a:pt x="9857010" y="211001"/>
                  <a:pt x="9870281" y="196403"/>
                  <a:pt x="9870281" y="167208"/>
                </a:cubicBezTo>
                <a:lnTo>
                  <a:pt x="9870281" y="103509"/>
                </a:lnTo>
                <a:lnTo>
                  <a:pt x="9722978" y="103509"/>
                </a:lnTo>
                <a:close/>
                <a:moveTo>
                  <a:pt x="9281070" y="103509"/>
                </a:moveTo>
                <a:lnTo>
                  <a:pt x="9281070" y="211001"/>
                </a:lnTo>
                <a:lnTo>
                  <a:pt x="9384580" y="211001"/>
                </a:lnTo>
                <a:cubicBezTo>
                  <a:pt x="9411121" y="211001"/>
                  <a:pt x="9424391" y="196403"/>
                  <a:pt x="9424391" y="167208"/>
                </a:cubicBezTo>
                <a:lnTo>
                  <a:pt x="9424391" y="103509"/>
                </a:lnTo>
                <a:lnTo>
                  <a:pt x="9281070" y="103509"/>
                </a:lnTo>
                <a:close/>
                <a:moveTo>
                  <a:pt x="1012254" y="99528"/>
                </a:moveTo>
                <a:cubicBezTo>
                  <a:pt x="898128" y="99528"/>
                  <a:pt x="841065" y="218963"/>
                  <a:pt x="841065" y="457832"/>
                </a:cubicBezTo>
                <a:cubicBezTo>
                  <a:pt x="841065" y="694047"/>
                  <a:pt x="898128" y="812155"/>
                  <a:pt x="1012254" y="812155"/>
                </a:cubicBezTo>
                <a:cubicBezTo>
                  <a:pt x="1126381" y="814809"/>
                  <a:pt x="1182117" y="696701"/>
                  <a:pt x="1179463" y="457832"/>
                </a:cubicBezTo>
                <a:cubicBezTo>
                  <a:pt x="1182117" y="213655"/>
                  <a:pt x="1126381" y="94220"/>
                  <a:pt x="1012254" y="99528"/>
                </a:cubicBezTo>
                <a:close/>
                <a:moveTo>
                  <a:pt x="6291225" y="95547"/>
                </a:moveTo>
                <a:lnTo>
                  <a:pt x="6291225" y="147302"/>
                </a:lnTo>
                <a:lnTo>
                  <a:pt x="6749058" y="147302"/>
                </a:lnTo>
                <a:lnTo>
                  <a:pt x="6749058" y="95547"/>
                </a:lnTo>
                <a:lnTo>
                  <a:pt x="6291225" y="95547"/>
                </a:lnTo>
                <a:close/>
                <a:moveTo>
                  <a:pt x="9619468" y="35830"/>
                </a:moveTo>
                <a:lnTo>
                  <a:pt x="9973791" y="35830"/>
                </a:lnTo>
                <a:lnTo>
                  <a:pt x="9973791" y="167208"/>
                </a:lnTo>
                <a:cubicBezTo>
                  <a:pt x="9976445" y="244177"/>
                  <a:pt x="9940615" y="281334"/>
                  <a:pt x="9866299" y="278680"/>
                </a:cubicBezTo>
                <a:lnTo>
                  <a:pt x="9619468" y="278680"/>
                </a:lnTo>
                <a:lnTo>
                  <a:pt x="9619468" y="35830"/>
                </a:lnTo>
                <a:close/>
                <a:moveTo>
                  <a:pt x="9173579" y="35830"/>
                </a:moveTo>
                <a:lnTo>
                  <a:pt x="9527901" y="35830"/>
                </a:lnTo>
                <a:lnTo>
                  <a:pt x="9527901" y="167208"/>
                </a:lnTo>
                <a:cubicBezTo>
                  <a:pt x="9530556" y="244177"/>
                  <a:pt x="9494726" y="281334"/>
                  <a:pt x="9420410" y="278680"/>
                </a:cubicBezTo>
                <a:lnTo>
                  <a:pt x="9173579" y="278680"/>
                </a:lnTo>
                <a:lnTo>
                  <a:pt x="9173579" y="35830"/>
                </a:lnTo>
                <a:close/>
                <a:moveTo>
                  <a:pt x="6167809" y="31849"/>
                </a:moveTo>
                <a:lnTo>
                  <a:pt x="6872474" y="31849"/>
                </a:lnTo>
                <a:lnTo>
                  <a:pt x="6872474" y="199057"/>
                </a:lnTo>
                <a:cubicBezTo>
                  <a:pt x="6875128" y="283988"/>
                  <a:pt x="6835316" y="325127"/>
                  <a:pt x="6753039" y="322473"/>
                </a:cubicBezTo>
                <a:lnTo>
                  <a:pt x="6167809" y="322473"/>
                </a:lnTo>
                <a:lnTo>
                  <a:pt x="6167809" y="31849"/>
                </a:lnTo>
                <a:close/>
                <a:moveTo>
                  <a:pt x="5238750" y="23886"/>
                </a:moveTo>
                <a:lnTo>
                  <a:pt x="5963319" y="23886"/>
                </a:lnTo>
                <a:lnTo>
                  <a:pt x="5963319" y="115453"/>
                </a:lnTo>
                <a:lnTo>
                  <a:pt x="5668714" y="115453"/>
                </a:lnTo>
                <a:lnTo>
                  <a:pt x="5668714" y="883815"/>
                </a:lnTo>
                <a:lnTo>
                  <a:pt x="5529374" y="883815"/>
                </a:lnTo>
                <a:lnTo>
                  <a:pt x="5529374" y="115453"/>
                </a:lnTo>
                <a:lnTo>
                  <a:pt x="5238750" y="115453"/>
                </a:lnTo>
                <a:lnTo>
                  <a:pt x="5238750" y="23886"/>
                </a:lnTo>
                <a:close/>
                <a:moveTo>
                  <a:pt x="4484005" y="23886"/>
                </a:moveTo>
                <a:lnTo>
                  <a:pt x="4854252" y="23886"/>
                </a:lnTo>
                <a:cubicBezTo>
                  <a:pt x="5050656" y="26541"/>
                  <a:pt x="5150185" y="116780"/>
                  <a:pt x="5152839" y="294605"/>
                </a:cubicBezTo>
                <a:cubicBezTo>
                  <a:pt x="5155493" y="477738"/>
                  <a:pt x="5054637" y="567977"/>
                  <a:pt x="4850271" y="565323"/>
                </a:cubicBezTo>
                <a:lnTo>
                  <a:pt x="4623346" y="565323"/>
                </a:lnTo>
                <a:lnTo>
                  <a:pt x="4623346" y="883815"/>
                </a:lnTo>
                <a:lnTo>
                  <a:pt x="4484005" y="883815"/>
                </a:lnTo>
                <a:lnTo>
                  <a:pt x="4484005" y="23886"/>
                </a:lnTo>
                <a:close/>
                <a:moveTo>
                  <a:pt x="3693430" y="23886"/>
                </a:moveTo>
                <a:lnTo>
                  <a:pt x="4063677" y="23886"/>
                </a:lnTo>
                <a:cubicBezTo>
                  <a:pt x="4260081" y="26541"/>
                  <a:pt x="4359610" y="116780"/>
                  <a:pt x="4362264" y="294605"/>
                </a:cubicBezTo>
                <a:cubicBezTo>
                  <a:pt x="4364918" y="477738"/>
                  <a:pt x="4264062" y="567977"/>
                  <a:pt x="4059696" y="565323"/>
                </a:cubicBezTo>
                <a:lnTo>
                  <a:pt x="3832770" y="565323"/>
                </a:lnTo>
                <a:lnTo>
                  <a:pt x="3832770" y="883815"/>
                </a:lnTo>
                <a:lnTo>
                  <a:pt x="3693430" y="883815"/>
                </a:lnTo>
                <a:lnTo>
                  <a:pt x="3693430" y="23886"/>
                </a:lnTo>
                <a:close/>
                <a:moveTo>
                  <a:pt x="3558071" y="23886"/>
                </a:moveTo>
                <a:lnTo>
                  <a:pt x="3558071" y="111472"/>
                </a:lnTo>
                <a:cubicBezTo>
                  <a:pt x="3494372" y="124742"/>
                  <a:pt x="3430674" y="131378"/>
                  <a:pt x="3366976" y="131378"/>
                </a:cubicBezTo>
                <a:lnTo>
                  <a:pt x="3175880" y="131378"/>
                </a:lnTo>
                <a:lnTo>
                  <a:pt x="3175880" y="270718"/>
                </a:lnTo>
                <a:lnTo>
                  <a:pt x="3542146" y="270718"/>
                </a:lnTo>
                <a:lnTo>
                  <a:pt x="3542146" y="346360"/>
                </a:lnTo>
                <a:cubicBezTo>
                  <a:pt x="3518259" y="505606"/>
                  <a:pt x="3475794" y="625040"/>
                  <a:pt x="3414749" y="704663"/>
                </a:cubicBezTo>
                <a:cubicBezTo>
                  <a:pt x="3459869" y="752437"/>
                  <a:pt x="3511624" y="793576"/>
                  <a:pt x="3570014" y="828079"/>
                </a:cubicBezTo>
                <a:lnTo>
                  <a:pt x="3570014" y="907702"/>
                </a:lnTo>
                <a:cubicBezTo>
                  <a:pt x="3482429" y="867891"/>
                  <a:pt x="3409441" y="824098"/>
                  <a:pt x="3351051" y="776324"/>
                </a:cubicBezTo>
                <a:cubicBezTo>
                  <a:pt x="3300623" y="821444"/>
                  <a:pt x="3231616" y="866564"/>
                  <a:pt x="3144031" y="911683"/>
                </a:cubicBezTo>
                <a:lnTo>
                  <a:pt x="3144031" y="828079"/>
                </a:lnTo>
                <a:cubicBezTo>
                  <a:pt x="3205075" y="790922"/>
                  <a:pt x="3252849" y="749783"/>
                  <a:pt x="3287353" y="704663"/>
                </a:cubicBezTo>
                <a:cubicBezTo>
                  <a:pt x="3239579" y="638311"/>
                  <a:pt x="3202421" y="556034"/>
                  <a:pt x="3175880" y="457832"/>
                </a:cubicBezTo>
                <a:lnTo>
                  <a:pt x="3175880" y="525512"/>
                </a:lnTo>
                <a:cubicBezTo>
                  <a:pt x="3183843" y="713953"/>
                  <a:pt x="3128106" y="844004"/>
                  <a:pt x="3008672" y="915665"/>
                </a:cubicBezTo>
                <a:lnTo>
                  <a:pt x="3008672" y="820117"/>
                </a:lnTo>
                <a:cubicBezTo>
                  <a:pt x="3045829" y="774997"/>
                  <a:pt x="3063081" y="683431"/>
                  <a:pt x="3060427" y="545417"/>
                </a:cubicBezTo>
                <a:lnTo>
                  <a:pt x="3060427" y="47773"/>
                </a:lnTo>
                <a:lnTo>
                  <a:pt x="3362994" y="47773"/>
                </a:lnTo>
                <a:cubicBezTo>
                  <a:pt x="3432001" y="47773"/>
                  <a:pt x="3497027" y="39811"/>
                  <a:pt x="3558071" y="23886"/>
                </a:cubicBezTo>
                <a:close/>
                <a:moveTo>
                  <a:pt x="1660513" y="23886"/>
                </a:moveTo>
                <a:lnTo>
                  <a:pt x="1799853" y="23886"/>
                </a:lnTo>
                <a:lnTo>
                  <a:pt x="1799853" y="883815"/>
                </a:lnTo>
                <a:lnTo>
                  <a:pt x="1660513" y="883815"/>
                </a:lnTo>
                <a:lnTo>
                  <a:pt x="1660513" y="230906"/>
                </a:lnTo>
                <a:cubicBezTo>
                  <a:pt x="1594160" y="289297"/>
                  <a:pt x="1506575" y="331762"/>
                  <a:pt x="1397756" y="358303"/>
                </a:cubicBezTo>
                <a:lnTo>
                  <a:pt x="1397756" y="278680"/>
                </a:lnTo>
                <a:cubicBezTo>
                  <a:pt x="1525153" y="217636"/>
                  <a:pt x="1612739" y="132705"/>
                  <a:pt x="1660513" y="23886"/>
                </a:cubicBezTo>
                <a:close/>
                <a:moveTo>
                  <a:pt x="7995158" y="19905"/>
                </a:moveTo>
                <a:lnTo>
                  <a:pt x="7995158" y="107491"/>
                </a:lnTo>
                <a:cubicBezTo>
                  <a:pt x="7947384" y="126069"/>
                  <a:pt x="7891648" y="134032"/>
                  <a:pt x="7827950" y="131378"/>
                </a:cubicBezTo>
                <a:lnTo>
                  <a:pt x="7708516" y="131378"/>
                </a:lnTo>
                <a:lnTo>
                  <a:pt x="7708516" y="274699"/>
                </a:lnTo>
                <a:lnTo>
                  <a:pt x="8003120" y="274699"/>
                </a:lnTo>
                <a:lnTo>
                  <a:pt x="8003120" y="358303"/>
                </a:lnTo>
                <a:lnTo>
                  <a:pt x="7915534" y="358303"/>
                </a:lnTo>
                <a:lnTo>
                  <a:pt x="7915534" y="903721"/>
                </a:lnTo>
                <a:lnTo>
                  <a:pt x="7800082" y="903721"/>
                </a:lnTo>
                <a:lnTo>
                  <a:pt x="7800082" y="358303"/>
                </a:lnTo>
                <a:lnTo>
                  <a:pt x="7708516" y="358303"/>
                </a:lnTo>
                <a:lnTo>
                  <a:pt x="7708516" y="609116"/>
                </a:lnTo>
                <a:cubicBezTo>
                  <a:pt x="7716477" y="755091"/>
                  <a:pt x="7664722" y="857274"/>
                  <a:pt x="7553250" y="915665"/>
                </a:cubicBezTo>
                <a:lnTo>
                  <a:pt x="7553250" y="840023"/>
                </a:lnTo>
                <a:cubicBezTo>
                  <a:pt x="7468319" y="802865"/>
                  <a:pt x="7423199" y="724569"/>
                  <a:pt x="7417890" y="605135"/>
                </a:cubicBezTo>
                <a:lnTo>
                  <a:pt x="7513439" y="605135"/>
                </a:lnTo>
                <a:cubicBezTo>
                  <a:pt x="7513439" y="687412"/>
                  <a:pt x="7534672" y="749783"/>
                  <a:pt x="7577137" y="792249"/>
                </a:cubicBezTo>
                <a:cubicBezTo>
                  <a:pt x="7590408" y="765708"/>
                  <a:pt x="7597042" y="712626"/>
                  <a:pt x="7597042" y="633003"/>
                </a:cubicBezTo>
                <a:lnTo>
                  <a:pt x="7597042" y="47773"/>
                </a:lnTo>
                <a:lnTo>
                  <a:pt x="7804062" y="47773"/>
                </a:lnTo>
                <a:cubicBezTo>
                  <a:pt x="7875723" y="50427"/>
                  <a:pt x="7939422" y="41138"/>
                  <a:pt x="7995158" y="19905"/>
                </a:cubicBezTo>
                <a:close/>
                <a:moveTo>
                  <a:pt x="2232162" y="11943"/>
                </a:moveTo>
                <a:cubicBezTo>
                  <a:pt x="2415295" y="19905"/>
                  <a:pt x="2512169" y="95547"/>
                  <a:pt x="2522786" y="238869"/>
                </a:cubicBezTo>
                <a:cubicBezTo>
                  <a:pt x="2522786" y="323800"/>
                  <a:pt x="2478993" y="388825"/>
                  <a:pt x="2391408" y="433945"/>
                </a:cubicBezTo>
                <a:cubicBezTo>
                  <a:pt x="2494918" y="471103"/>
                  <a:pt x="2548000" y="542763"/>
                  <a:pt x="2550654" y="648927"/>
                </a:cubicBezTo>
                <a:cubicBezTo>
                  <a:pt x="2550654" y="813482"/>
                  <a:pt x="2444490" y="895759"/>
                  <a:pt x="2232162" y="895759"/>
                </a:cubicBezTo>
                <a:cubicBezTo>
                  <a:pt x="2104765" y="898413"/>
                  <a:pt x="2007890" y="849312"/>
                  <a:pt x="1941537" y="748456"/>
                </a:cubicBezTo>
                <a:lnTo>
                  <a:pt x="1941537" y="636984"/>
                </a:lnTo>
                <a:cubicBezTo>
                  <a:pt x="2013198" y="759073"/>
                  <a:pt x="2108746" y="817463"/>
                  <a:pt x="2228180" y="812155"/>
                </a:cubicBezTo>
                <a:cubicBezTo>
                  <a:pt x="2350269" y="814809"/>
                  <a:pt x="2409987" y="760400"/>
                  <a:pt x="2407332" y="648927"/>
                </a:cubicBezTo>
                <a:cubicBezTo>
                  <a:pt x="2409987" y="537455"/>
                  <a:pt x="2336999" y="483046"/>
                  <a:pt x="2188369" y="485700"/>
                </a:cubicBezTo>
                <a:lnTo>
                  <a:pt x="2140595" y="485700"/>
                </a:lnTo>
                <a:lnTo>
                  <a:pt x="2140595" y="394134"/>
                </a:lnTo>
                <a:lnTo>
                  <a:pt x="2180406" y="394134"/>
                </a:lnTo>
                <a:cubicBezTo>
                  <a:pt x="2315766" y="394134"/>
                  <a:pt x="2382118" y="341052"/>
                  <a:pt x="2379464" y="234887"/>
                </a:cubicBezTo>
                <a:cubicBezTo>
                  <a:pt x="2379464" y="147302"/>
                  <a:pt x="2330363" y="103509"/>
                  <a:pt x="2232162" y="103509"/>
                </a:cubicBezTo>
                <a:cubicBezTo>
                  <a:pt x="2141922" y="98201"/>
                  <a:pt x="2087513" y="148629"/>
                  <a:pt x="2068934" y="254793"/>
                </a:cubicBezTo>
                <a:lnTo>
                  <a:pt x="1945519" y="254793"/>
                </a:lnTo>
                <a:cubicBezTo>
                  <a:pt x="1977368" y="92893"/>
                  <a:pt x="2072915" y="11943"/>
                  <a:pt x="2232162" y="11943"/>
                </a:cubicBezTo>
                <a:close/>
                <a:moveTo>
                  <a:pt x="310530" y="11943"/>
                </a:moveTo>
                <a:cubicBezTo>
                  <a:pt x="498971" y="22559"/>
                  <a:pt x="598500" y="99528"/>
                  <a:pt x="609116" y="242850"/>
                </a:cubicBezTo>
                <a:cubicBezTo>
                  <a:pt x="617079" y="343706"/>
                  <a:pt x="540110" y="452524"/>
                  <a:pt x="378210" y="569304"/>
                </a:cubicBezTo>
                <a:cubicBezTo>
                  <a:pt x="274699" y="643619"/>
                  <a:pt x="195077" y="720588"/>
                  <a:pt x="139340" y="800211"/>
                </a:cubicBezTo>
                <a:lnTo>
                  <a:pt x="593192" y="800211"/>
                </a:lnTo>
                <a:lnTo>
                  <a:pt x="593192" y="883815"/>
                </a:lnTo>
                <a:lnTo>
                  <a:pt x="0" y="883815"/>
                </a:lnTo>
                <a:lnTo>
                  <a:pt x="0" y="800211"/>
                </a:lnTo>
                <a:cubicBezTo>
                  <a:pt x="55736" y="699355"/>
                  <a:pt x="147303" y="602481"/>
                  <a:pt x="274699" y="509587"/>
                </a:cubicBezTo>
                <a:cubicBezTo>
                  <a:pt x="407405" y="414039"/>
                  <a:pt x="469776" y="325127"/>
                  <a:pt x="461814" y="242850"/>
                </a:cubicBezTo>
                <a:cubicBezTo>
                  <a:pt x="464468" y="147302"/>
                  <a:pt x="415367" y="99528"/>
                  <a:pt x="314511" y="99528"/>
                </a:cubicBezTo>
                <a:cubicBezTo>
                  <a:pt x="221618" y="99528"/>
                  <a:pt x="159246" y="152610"/>
                  <a:pt x="127397" y="258774"/>
                </a:cubicBezTo>
                <a:lnTo>
                  <a:pt x="0" y="258774"/>
                </a:lnTo>
                <a:cubicBezTo>
                  <a:pt x="47774" y="94220"/>
                  <a:pt x="151284" y="11943"/>
                  <a:pt x="310530" y="11943"/>
                </a:cubicBezTo>
                <a:close/>
                <a:moveTo>
                  <a:pt x="1012254" y="7962"/>
                </a:moveTo>
                <a:cubicBezTo>
                  <a:pt x="1216621" y="10616"/>
                  <a:pt x="1320130" y="160573"/>
                  <a:pt x="1322785" y="457832"/>
                </a:cubicBezTo>
                <a:cubicBezTo>
                  <a:pt x="1322785" y="752437"/>
                  <a:pt x="1219274" y="899740"/>
                  <a:pt x="1012254" y="899740"/>
                </a:cubicBezTo>
                <a:cubicBezTo>
                  <a:pt x="805235" y="894432"/>
                  <a:pt x="700397" y="747129"/>
                  <a:pt x="697744" y="457832"/>
                </a:cubicBezTo>
                <a:cubicBezTo>
                  <a:pt x="703052" y="165881"/>
                  <a:pt x="807889" y="15924"/>
                  <a:pt x="1012254" y="7962"/>
                </a:cubicBezTo>
                <a:close/>
                <a:moveTo>
                  <a:pt x="7258644" y="3981"/>
                </a:moveTo>
                <a:lnTo>
                  <a:pt x="7386042" y="3981"/>
                </a:lnTo>
                <a:lnTo>
                  <a:pt x="7386042" y="71660"/>
                </a:lnTo>
                <a:lnTo>
                  <a:pt x="7545288" y="71660"/>
                </a:lnTo>
                <a:lnTo>
                  <a:pt x="7545288" y="155264"/>
                </a:lnTo>
                <a:lnTo>
                  <a:pt x="7099399" y="155264"/>
                </a:lnTo>
                <a:lnTo>
                  <a:pt x="7099399" y="71660"/>
                </a:lnTo>
                <a:lnTo>
                  <a:pt x="7258644" y="71660"/>
                </a:lnTo>
                <a:lnTo>
                  <a:pt x="7258644" y="3981"/>
                </a:lnTo>
                <a:close/>
                <a:moveTo>
                  <a:pt x="2869332" y="3981"/>
                </a:moveTo>
                <a:lnTo>
                  <a:pt x="2972842" y="3981"/>
                </a:lnTo>
                <a:lnTo>
                  <a:pt x="2972842" y="246831"/>
                </a:lnTo>
                <a:lnTo>
                  <a:pt x="3024596" y="246831"/>
                </a:lnTo>
                <a:lnTo>
                  <a:pt x="3024596" y="326454"/>
                </a:lnTo>
                <a:lnTo>
                  <a:pt x="2801652" y="326454"/>
                </a:lnTo>
                <a:lnTo>
                  <a:pt x="2801652" y="429964"/>
                </a:lnTo>
                <a:lnTo>
                  <a:pt x="2976823" y="429964"/>
                </a:lnTo>
                <a:lnTo>
                  <a:pt x="2976823" y="899740"/>
                </a:lnTo>
                <a:lnTo>
                  <a:pt x="2873313" y="899740"/>
                </a:lnTo>
                <a:lnTo>
                  <a:pt x="2873313" y="509587"/>
                </a:lnTo>
                <a:lnTo>
                  <a:pt x="2801652" y="509587"/>
                </a:lnTo>
                <a:lnTo>
                  <a:pt x="2801652" y="541436"/>
                </a:lnTo>
                <a:cubicBezTo>
                  <a:pt x="2809615" y="724569"/>
                  <a:pt x="2760514" y="849312"/>
                  <a:pt x="2654350" y="915665"/>
                </a:cubicBezTo>
                <a:lnTo>
                  <a:pt x="2654350" y="824098"/>
                </a:lnTo>
                <a:cubicBezTo>
                  <a:pt x="2686199" y="781632"/>
                  <a:pt x="2700796" y="699355"/>
                  <a:pt x="2698142" y="577267"/>
                </a:cubicBezTo>
                <a:lnTo>
                  <a:pt x="2698142" y="23886"/>
                </a:lnTo>
                <a:lnTo>
                  <a:pt x="2801652" y="23886"/>
                </a:lnTo>
                <a:lnTo>
                  <a:pt x="2801652" y="246831"/>
                </a:lnTo>
                <a:lnTo>
                  <a:pt x="2869332" y="246831"/>
                </a:lnTo>
                <a:lnTo>
                  <a:pt x="2869332" y="3981"/>
                </a:lnTo>
                <a:close/>
                <a:moveTo>
                  <a:pt x="8663991" y="0"/>
                </a:moveTo>
                <a:lnTo>
                  <a:pt x="8775464" y="0"/>
                </a:lnTo>
                <a:lnTo>
                  <a:pt x="8775464" y="115453"/>
                </a:lnTo>
                <a:lnTo>
                  <a:pt x="8986465" y="115453"/>
                </a:lnTo>
                <a:lnTo>
                  <a:pt x="8986465" y="569304"/>
                </a:lnTo>
                <a:cubicBezTo>
                  <a:pt x="8991773" y="667506"/>
                  <a:pt x="8946653" y="713953"/>
                  <a:pt x="8851106" y="708645"/>
                </a:cubicBezTo>
                <a:lnTo>
                  <a:pt x="8775464" y="708645"/>
                </a:lnTo>
                <a:lnTo>
                  <a:pt x="8775464" y="915665"/>
                </a:lnTo>
                <a:lnTo>
                  <a:pt x="8663991" y="915665"/>
                </a:lnTo>
                <a:lnTo>
                  <a:pt x="8663991" y="708645"/>
                </a:lnTo>
                <a:lnTo>
                  <a:pt x="8452990" y="708645"/>
                </a:lnTo>
                <a:lnTo>
                  <a:pt x="8452990" y="115453"/>
                </a:lnTo>
                <a:lnTo>
                  <a:pt x="8663991" y="115453"/>
                </a:lnTo>
                <a:lnTo>
                  <a:pt x="8663991" y="0"/>
                </a:lnTo>
                <a:close/>
                <a:moveTo>
                  <a:pt x="8190234" y="0"/>
                </a:moveTo>
                <a:lnTo>
                  <a:pt x="8285782" y="0"/>
                </a:lnTo>
                <a:cubicBezTo>
                  <a:pt x="8314977" y="50427"/>
                  <a:pt x="8333556" y="100855"/>
                  <a:pt x="8341518" y="151283"/>
                </a:cubicBezTo>
                <a:lnTo>
                  <a:pt x="8234027" y="151283"/>
                </a:lnTo>
                <a:cubicBezTo>
                  <a:pt x="8228719" y="100855"/>
                  <a:pt x="8214121" y="50427"/>
                  <a:pt x="8190234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57880" y="1851120"/>
            <a:ext cx="383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tao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2" descr=""/>
          <p:cNvPicPr/>
          <p:nvPr/>
        </p:nvPicPr>
        <p:blipFill>
          <a:blip r:embed="rId1"/>
          <a:stretch/>
        </p:blipFill>
        <p:spPr>
          <a:xfrm>
            <a:off x="6114960" y="2028960"/>
            <a:ext cx="5711760" cy="69048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" descr=""/>
          <p:cNvPicPr/>
          <p:nvPr/>
        </p:nvPicPr>
        <p:blipFill>
          <a:blip r:embed="rId2"/>
          <a:stretch/>
        </p:blipFill>
        <p:spPr>
          <a:xfrm>
            <a:off x="5094360" y="2933640"/>
            <a:ext cx="6638760" cy="32479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84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淘图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"/>
          <p:cNvSpPr/>
          <p:nvPr/>
        </p:nvSpPr>
        <p:spPr>
          <a:xfrm>
            <a:off x="1711440" y="271944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商务图片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6"/>
          <p:cNvSpPr/>
          <p:nvPr/>
        </p:nvSpPr>
        <p:spPr>
          <a:xfrm>
            <a:off x="1711440" y="3271680"/>
            <a:ext cx="300492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下载预览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0" descr=""/>
          <p:cNvPicPr/>
          <p:nvPr/>
        </p:nvPicPr>
        <p:blipFill>
          <a:blip r:embed="rId1"/>
          <a:stretch/>
        </p:blipFill>
        <p:spPr>
          <a:xfrm>
            <a:off x="3768840" y="3146400"/>
            <a:ext cx="8175600" cy="310212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站长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5"/>
          <p:cNvSpPr/>
          <p:nvPr/>
        </p:nvSpPr>
        <p:spPr>
          <a:xfrm>
            <a:off x="1711440" y="263052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超大象素图片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sc.chinaz.com/tup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9" descr=""/>
          <p:cNvPicPr/>
          <p:nvPr/>
        </p:nvPicPr>
        <p:blipFill>
          <a:blip r:embed="rId2"/>
          <a:stretch/>
        </p:blipFill>
        <p:spPr>
          <a:xfrm>
            <a:off x="5094360" y="2149560"/>
            <a:ext cx="6732360" cy="4492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7" descr=""/>
          <p:cNvPicPr/>
          <p:nvPr/>
        </p:nvPicPr>
        <p:blipFill>
          <a:blip r:embed="rId1"/>
          <a:stretch/>
        </p:blipFill>
        <p:spPr>
          <a:xfrm>
            <a:off x="2095560" y="2151000"/>
            <a:ext cx="9217080" cy="397980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97" name="矩形 9"/>
          <p:cNvSpPr/>
          <p:nvPr/>
        </p:nvSpPr>
        <p:spPr>
          <a:xfrm>
            <a:off x="2095560" y="1522440"/>
            <a:ext cx="92170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icon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logo.c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6" descr=""/>
          <p:cNvPicPr/>
          <p:nvPr/>
        </p:nvPicPr>
        <p:blipFill>
          <a:blip r:embed="rId1"/>
          <a:stretch/>
        </p:blipFill>
        <p:spPr>
          <a:xfrm>
            <a:off x="2025720" y="2222640"/>
            <a:ext cx="9699480" cy="33080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3" descr=""/>
          <p:cNvPicPr/>
          <p:nvPr/>
        </p:nvPicPr>
        <p:blipFill>
          <a:blip r:embed="rId1"/>
          <a:stretch/>
        </p:blipFill>
        <p:spPr>
          <a:xfrm>
            <a:off x="387360" y="1303200"/>
            <a:ext cx="11642760" cy="8067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506" name="图片 4" descr=""/>
          <p:cNvPicPr/>
          <p:nvPr/>
        </p:nvPicPr>
        <p:blipFill>
          <a:blip r:embed="rId2"/>
          <a:stretch/>
        </p:blipFill>
        <p:spPr>
          <a:xfrm>
            <a:off x="2725560" y="3173400"/>
            <a:ext cx="8660160" cy="28684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507" name="矩形 8"/>
          <p:cNvSpPr/>
          <p:nvPr/>
        </p:nvSpPr>
        <p:spPr>
          <a:xfrm>
            <a:off x="2725560" y="2557440"/>
            <a:ext cx="8660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"/>
          <p:cNvSpPr/>
          <p:nvPr/>
        </p:nvSpPr>
        <p:spPr>
          <a:xfrm>
            <a:off x="1631880" y="1667520"/>
            <a:ext cx="62881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微软雅黑"/>
              </a:rPr>
              <a:t>然而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临时搜索并一定能够找到理想的素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"/>
          <p:cNvSpPr/>
          <p:nvPr/>
        </p:nvSpPr>
        <p:spPr>
          <a:xfrm>
            <a:off x="3654360" y="2900520"/>
            <a:ext cx="6246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平时积累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682640" y="5735520"/>
            <a:ext cx="1010124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远胜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临时抱佛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。比如有的网站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.com.ua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）不具备搜索功能，只能通过平时不断淘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1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组合 14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514" name="椭圆 20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组合 21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516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任意多边形 71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9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567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90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577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95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582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3" name="applaus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逻辑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的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逻辑的展示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清晰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清晰的具体体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罗列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6743880" y="2565360"/>
            <a:ext cx="1946160" cy="50184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48718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87852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88390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6531120" y="4379760"/>
            <a:ext cx="73008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"/>
          <p:cNvSpPr/>
          <p:nvPr/>
        </p:nvSpPr>
        <p:spPr>
          <a:xfrm>
            <a:off x="7359480" y="4379760"/>
            <a:ext cx="7304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"/>
          <p:cNvSpPr/>
          <p:nvPr/>
        </p:nvSpPr>
        <p:spPr>
          <a:xfrm>
            <a:off x="8175600" y="4379760"/>
            <a:ext cx="7286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6454800" y="520848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711828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7767720" y="5210280"/>
            <a:ext cx="569880" cy="4521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841680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3"/>
          <p:cNvSpPr/>
          <p:nvPr/>
        </p:nvSpPr>
        <p:spPr>
          <a:xfrm>
            <a:off x="2382840" y="3473280"/>
            <a:ext cx="1357200" cy="51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382840" y="4348080"/>
            <a:ext cx="1357200" cy="513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2382840" y="5175360"/>
            <a:ext cx="1357200" cy="514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6"/>
          <p:cNvSpPr/>
          <p:nvPr/>
        </p:nvSpPr>
        <p:spPr>
          <a:xfrm>
            <a:off x="3740040" y="3730680"/>
            <a:ext cx="1131840" cy="0"/>
          </a:xfrm>
          <a:prstGeom prst="line">
            <a:avLst/>
          </a:prstGeom>
          <a:ln w="9360">
            <a:solidFill>
              <a:srgbClr val="4a7db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40040" y="4603680"/>
            <a:ext cx="2792520" cy="1800"/>
          </a:xfrm>
          <a:prstGeom prst="line">
            <a:avLst/>
          </a:prstGeom>
          <a:ln w="9360">
            <a:solidFill>
              <a:srgbClr val="76923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8"/>
          <p:cNvSpPr/>
          <p:nvPr/>
        </p:nvSpPr>
        <p:spPr>
          <a:xfrm>
            <a:off x="3740040" y="5432400"/>
            <a:ext cx="2714760" cy="3240"/>
          </a:xfrm>
          <a:prstGeom prst="line">
            <a:avLst/>
          </a:prstGeom>
          <a:ln w="9360">
            <a:solidFill>
              <a:srgbClr val="fabf8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肘形连接符 19"/>
          <p:cNvCxnSpPr>
            <a:stCxn id="128" idx="2"/>
            <a:endCxn id="129" idx="0"/>
          </p:cNvCxnSpPr>
          <p:nvPr/>
        </p:nvCxnSpPr>
        <p:spPr>
          <a:xfrm rot="5400000">
            <a:off x="6496920" y="2286000"/>
            <a:ext cx="437040" cy="19994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6" name="肘形连接符 20"/>
          <p:cNvCxnSpPr>
            <a:stCxn id="128" idx="2"/>
            <a:endCxn id="130" idx="0"/>
          </p:cNvCxnSpPr>
          <p:nvPr/>
        </p:nvCxnSpPr>
        <p:spPr>
          <a:xfrm flipH="1" rot="16200000">
            <a:off x="7500960" y="3281040"/>
            <a:ext cx="437040" cy="86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7" name="肘形连接符 21"/>
          <p:cNvCxnSpPr>
            <a:stCxn id="128" idx="2"/>
            <a:endCxn id="131" idx="0"/>
          </p:cNvCxnSpPr>
          <p:nvPr/>
        </p:nvCxnSpPr>
        <p:spPr>
          <a:xfrm flipH="1" rot="16200000">
            <a:off x="8478720" y="2299680"/>
            <a:ext cx="438840" cy="19692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8" name="肘形连接符 22"/>
          <p:cNvCxnSpPr>
            <a:stCxn id="130" idx="2"/>
            <a:endCxn id="133" idx="0"/>
          </p:cNvCxnSpPr>
          <p:nvPr/>
        </p:nvCxnSpPr>
        <p:spPr>
          <a:xfrm flipH="1" rot="16200000">
            <a:off x="7511040" y="4164480"/>
            <a:ext cx="423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9" name="肘形连接符 23"/>
          <p:cNvCxnSpPr>
            <a:stCxn id="132" idx="0"/>
            <a:endCxn id="130" idx="2"/>
          </p:cNvCxnSpPr>
          <p:nvPr/>
        </p:nvCxnSpPr>
        <p:spPr>
          <a:xfrm flipH="1" flipV="1" rot="5400000">
            <a:off x="7097400" y="3750840"/>
            <a:ext cx="423000" cy="8294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0" name="肘形连接符 24"/>
          <p:cNvCxnSpPr>
            <a:stCxn id="134" idx="0"/>
            <a:endCxn id="130" idx="2"/>
          </p:cNvCxnSpPr>
          <p:nvPr/>
        </p:nvCxnSpPr>
        <p:spPr>
          <a:xfrm flipV="1" rot="16200000">
            <a:off x="7919280" y="3758400"/>
            <a:ext cx="423000" cy="8168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1" name="肘形连接符 25"/>
          <p:cNvCxnSpPr>
            <a:stCxn id="133" idx="2"/>
            <a:endCxn id="136" idx="0"/>
          </p:cNvCxnSpPr>
          <p:nvPr/>
        </p:nvCxnSpPr>
        <p:spPr>
          <a:xfrm rot="5400000">
            <a:off x="7373520" y="4856040"/>
            <a:ext cx="378360" cy="32112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2" name="肘形连接符 26"/>
          <p:cNvCxnSpPr>
            <a:stCxn id="133" idx="2"/>
            <a:endCxn id="137" idx="0"/>
          </p:cNvCxnSpPr>
          <p:nvPr/>
        </p:nvCxnSpPr>
        <p:spPr>
          <a:xfrm flipH="1" rot="16200000">
            <a:off x="7697520" y="4855680"/>
            <a:ext cx="381960" cy="3276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3" name="肘形连接符 27"/>
          <p:cNvCxnSpPr>
            <a:stCxn id="133" idx="2"/>
            <a:endCxn id="138" idx="0"/>
          </p:cNvCxnSpPr>
          <p:nvPr/>
        </p:nvCxnSpPr>
        <p:spPr>
          <a:xfrm flipH="1" rot="16200000">
            <a:off x="8024760" y="4528440"/>
            <a:ext cx="376920" cy="9770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4" name="肘形连接符 28"/>
          <p:cNvCxnSpPr>
            <a:stCxn id="133" idx="2"/>
            <a:endCxn id="135" idx="0"/>
          </p:cNvCxnSpPr>
          <p:nvPr/>
        </p:nvCxnSpPr>
        <p:spPr>
          <a:xfrm rot="5400000">
            <a:off x="7041240" y="4525560"/>
            <a:ext cx="380160" cy="986760"/>
          </a:xfrm>
          <a:prstGeom prst="bentConnector3">
            <a:avLst>
              <a:gd name="adj1" fmla="val 49952"/>
            </a:avLst>
          </a:prstGeom>
          <a:ln w="9360">
            <a:solidFill>
              <a:srgbClr val="4a7dba"/>
            </a:solidFill>
            <a:bevel/>
          </a:ln>
        </p:spPr>
      </p:cxnSp>
      <p:sp>
        <p:nvSpPr>
          <p:cNvPr id="155" name="矩形 29"/>
          <p:cNvSpPr/>
          <p:nvPr/>
        </p:nvSpPr>
        <p:spPr>
          <a:xfrm>
            <a:off x="2382840" y="1533600"/>
            <a:ext cx="8147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9"/>
          <p:cNvSpPr/>
          <p:nvPr/>
        </p:nvSpPr>
        <p:spPr>
          <a:xfrm>
            <a:off x="3437280" y="25884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省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8277120" y="4589640"/>
            <a:ext cx="2835360" cy="579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避免重复操作，省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8277120" y="5261040"/>
            <a:ext cx="2835360" cy="57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缩减文档大小，省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59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8Z</dcterms:modified>
  <cp:revision>23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