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E1C-604D-4FA7-BF4B-E2077171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D27-55D1-4259-844D-D796C60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58305-132B-4394-A601-1C4C1728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0B6A7-2A36-405B-A676-1E7A248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1D340-0446-4867-A417-E4C29874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D76C7-B381-4D67-BB1A-4D9FEA3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1F27B-A8BE-4D73-B1F4-D0E9B540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B455D-3F91-496F-8D40-9BA02BA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A9678-BB2C-42C7-B7E9-D7091FB4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F33DA-7DC2-45D3-BECB-8F4367F2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E2DC5-09C0-4ED6-AA42-D5E09037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041D2-6633-4D0A-9E78-CDAFB19A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B5E-78F0-455A-86C3-42DA9598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5FB11-BCC7-412A-8C21-29019D13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A9500-5C82-4BD0-920E-E46B7DB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37923-1E1D-4DCB-BE44-2FB1BE2B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B9C6B-4CA2-4935-A1DB-EE7C2E08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A3CF9-C3BC-4B73-8019-ED788FE6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EF475-6FE3-4AD8-A7DE-93AB5DBE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98938-42D7-4D2F-AEA4-0FB6232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BBAF8-62F2-4E54-AED4-44F91BD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04D37-7AEB-4E4E-8F67-36533382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881E1-0109-4A6A-87FC-956B0CD6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1C6-F25C-4E61-8A1A-24B53896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0F1C0-6F78-447A-833C-EA86ACFD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CA9DC-81E9-4F6E-9227-2ADDF302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D883E-6252-406B-A7B3-8C204BFF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22F8A-9978-433B-9A18-FA1B2E0E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C8FCC-2686-4E20-91B0-13DE59B2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0A992-0B57-4500-9C64-E1B3FC90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45512-391A-4EEE-969B-4B5CE030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D96B6-622E-4717-9876-7A6FA2E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E5C6B-8146-4F41-BB2D-8723FD9B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68097-A311-4E76-B1A9-72BB38A3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00C9-E124-4DEF-86B7-D03C838A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F5E58-AEA9-40DC-A383-C0BBD8E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7E743-6FC3-4FF2-870D-C86DF8DB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2B84C-7AE8-4366-9983-C7732780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F3544-EDCF-4264-ADC4-F682ED1E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08126-2BD1-43B0-A8B9-F9627022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08D9A-1A19-4240-9A2A-87E0CFEE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C5D19-F502-4036-8456-CDCFB91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3EE11-8ECA-438C-BA2A-2E22BBAB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51622-EE2E-41FD-9EF5-0041A524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682A0-CB64-458A-BF0A-F33AE0E3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BD75-1E09-4A12-87BB-CD986A2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8AB36-2818-40D7-9D58-DB481C5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79325-9753-44BA-B43D-C27DAD7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33083-3ED1-40EE-AE0B-44929D94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46A98-0FFA-406C-A0E3-BDA93486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8014C-AD29-4309-92EB-87D1831C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291AD-68E7-447C-99A2-2B525053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99503-EFAD-4551-8D1A-40CA765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BE84E-0419-4B9C-9EB3-33F6255E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83F32-914A-4D56-B6CF-CC51DC9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F3E83-8AD9-4883-87B1-850F1B30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354A-30B8-4BE9-A452-90C1124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8A32A-14F7-444B-8642-CA291F3C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A2BC7-4BBE-4CA8-85A4-03EC37F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2681F-6359-4FA5-8E13-3B51F76E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AA95C-BD20-43F2-A0EB-BC3B83D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F49CD-DBDF-4B42-8716-07EC2208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5FFB0-1621-4879-8832-388C7F73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6AF09-9865-4996-BC4D-321A9206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72EE-C572-4782-B1E3-56E0CE9B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C549-845A-4B8B-A78F-01C740D6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EBE9-5146-4DAF-9AB8-33B13681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68D7-A284-49E1-A140-3744D6F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5F7-1268-4C51-A0F0-566C2A54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B15B-02EE-4B11-867B-20C33A1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5652-1243-41A5-A953-4B65140F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090E-D445-4EE6-BBA3-67AAB8C8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DBBE-E14F-409F-A298-B76DB495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8807-8861-4863-9AF5-3B6D8909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C08E-2A2C-4994-97D1-BBEB46DA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3F8E-80A0-4AF3-910F-13C74DE0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2B2D-E723-40EA-B56D-39EDA37A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C43E-E673-4959-9DC4-02BE8FD3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0124-185F-42DF-9429-E12B0162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096-153B-46CB-8B82-88BC3F14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3D1F-7667-4426-9721-C86DF0C0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C876-83D9-455F-A4D2-9AC1569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71C2-7F7F-4883-A7A8-59FE10E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C7AC-728E-4CC0-BC2B-C4CA2E42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B019-AA19-40F1-9D66-8A6A759D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653E-93BF-49E7-A5F8-1F89C064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65D2-DBAA-42C5-A89D-D0D9287D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F6BBC-6619-400E-AAE9-5C4B2A2E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2F79-BC2D-49CD-8BA0-86F7CEE8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F432-92A8-41C1-B504-F47E0840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AF-30EC-465C-AD6E-8347B1FF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EF3A6-2EF1-4559-BAC5-543012EE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47686-44DF-41D6-8188-A688A373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FA76-F8BC-4E42-87A4-8EE17276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B910-E883-449A-913E-1F498DA2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03BC-B196-474C-8B06-C93BF240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5EAA-0464-4E2C-9D57-5F72AF8A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CAD1-2E4A-42D0-9902-AD1AAAAD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7ECB-2BCA-42D9-8539-9CF21266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0A92-956A-4221-85CD-58ADEDB6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9130-1369-4FBB-9A42-F17F56CB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D07-AE45-453B-A5EF-83854F94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96E3B-3757-40F1-9529-E5FDBD8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7B3C-F637-41CC-9AA2-7D7A0C6E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C5BE-58A5-4032-B7E2-558B801B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500F-09DB-4EA2-AC64-03CE080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7C24-FA77-40A4-9D9A-3B2DF15F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2FE8-5C53-41B1-BD8B-6777C156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48A3C-A566-4A27-9ECD-19B7CB2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18747-6FC7-408B-A649-F724FBC1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285E4-F1BD-4263-A319-476DB97E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55005-8739-469C-990C-E4CA5351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337-C8A4-4E53-9C8A-3F245696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DE2E-307E-4973-B557-348A8711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C697A-365C-4EF2-9721-86E56D33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99A0-779B-44E1-A5A8-0433D5F1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6247-4AB7-4AF1-999F-47D3F22B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3CDCC-87B5-48FC-8845-A87ADAA4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8716-012E-4D62-89C1-D56726F9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3E961-5054-4833-894A-05AC2ED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9318-C419-4130-9E81-04D8CE9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E89F-EEB4-451B-B0BA-C5D2D38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D3F0-FC6E-4C1B-AB14-A6263D46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4BA-216E-4FCC-813A-299DCDA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5152-A76C-417F-A938-39CD2188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DCE1-0A01-448B-A152-1C008A05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3FB87-0394-4181-A41C-5C456861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2EE7C-3661-4A8A-8333-37A959CC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0CFD7-E309-4780-8769-391602EC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BE67C-82A6-45C7-982F-227B0E8D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01D5C-A771-4BED-AA2B-0A38CADB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AE298-A477-4C0E-AA81-50E9092B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EB66-7A96-4BF5-9CC3-6ACBE859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AC996-79D4-45C3-8307-75361D42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64B-8F31-4EB9-B9CF-C15A31D1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334D5-2932-4E03-A882-83B3E6A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CFE50-5B5A-43CA-A978-F26E620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8DCE-E380-4525-A323-37CFB50C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D247A-B3CF-40B4-948D-E03574F7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2EC02-9A76-480C-9F24-A99B172B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5A6A0-594E-4C12-BEF9-0809D335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B218E-1D4A-4AA3-97DF-6E5414D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F0AF3-B685-49D9-A9A9-EF542733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424D0-5B5A-42E7-9402-DCA64712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44AE9-A0BE-4403-8827-28E69C8E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1FD-F948-4C89-B7EF-5E47B87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C5EAC-8F68-47C3-A9CF-BF4C9B5E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2274-C08E-41AC-8278-74A21873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7618B-5F23-4AD8-82F6-B81FB24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99434-D114-466B-9F05-4BD6CBA7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E9DE9-377C-4710-BB8A-E3900FE1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C5EAB-BC37-4BB5-A6CA-33DFDE3C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45D3A-9BE2-4715-AA7F-CD9D130D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CD80B-3CE8-49BC-BB36-06EAE755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43FDF-CA0D-4713-8BDA-69188EF9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C97E6-B9DB-4E58-BA8B-F4551DC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0B1C-83F4-4FBB-B6F8-08A44DC612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71E1-EB1E-4497-AB8F-1AD064B3ED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8DD3-29F8-40B8-82EA-77FA772CC5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D00-D5AF-43EA-9D7B-E8D00BF31B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FFEA-C9E3-44BA-AFF8-A84092691C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442D-3E90-4927-85AA-6674FB286C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7D12-EE3C-454D-86A2-5D973C5CCA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301B-5DE8-40E6-95D9-596C74FFAB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6E8B-8505-46AC-A212-3F2CAA2535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A159-C8D1-4CF5-B647-F0FA3EDCE9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6F9C-0E4C-49DD-A16F-8251BBEDEB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4A2F-DFD0-499E-99C7-EE040C44C2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BFD6-C163-48FF-A375-473994CD8F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88B6-A20E-4432-A471-9AD3142DDD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1695-07CE-4E2F-9868-7AD1D19368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38D5-05DC-4B7F-A308-E4DDD04D94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5893-8E53-4FF1-8E68-D99435BDBE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F1DE-EBFA-4D2C-BD7D-FA3403EB01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84B2-4064-46EC-8AB2-02455D811D8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5B50-4AE0-4F80-9641-DBA75EBDFE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F98-8FCE-4543-804A-BD33BB4830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F0D0-D30B-436D-89FE-7D4EF5273A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899A-869B-4C0F-8C5D-8A85561CE6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9ABE-1F5B-4891-9DE0-C44F800D8A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76E7-4ACF-4CDD-AE16-4497446172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4390-DF35-4228-8246-2B8B310B60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custGeom>
            <a:avLst/>
            <a:gdLst/>
            <a:ahLst/>
            <a:rect l="l" t="t" r="r" b="b"/>
            <a:pathLst>
              <a:path w="809625" h="714375">
                <a:moveTo>
                  <a:pt x="0" y="504825"/>
                </a:moveTo>
                <a:lnTo>
                  <a:pt x="809625" y="0"/>
                </a:lnTo>
                <a:cubicBezTo>
                  <a:pt x="808037" y="238125"/>
                  <a:pt x="806450" y="476250"/>
                  <a:pt x="804862" y="714375"/>
                </a:cubicBezTo>
                <a:lnTo>
                  <a:pt x="0" y="504825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custGeom>
            <a:avLst/>
            <a:gdLst/>
            <a:ahLst/>
            <a:rect l="l" t="t" r="r" b="b"/>
            <a:pathLst>
              <a:path w="809625" h="742950">
                <a:moveTo>
                  <a:pt x="804862" y="742950"/>
                </a:moveTo>
                <a:cubicBezTo>
                  <a:pt x="806450" y="495300"/>
                  <a:pt x="808037" y="247650"/>
                  <a:pt x="809625" y="0"/>
                </a:cubicBezTo>
                <a:lnTo>
                  <a:pt x="0" y="200025"/>
                </a:lnTo>
                <a:lnTo>
                  <a:pt x="804862" y="742950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153" y="21600"/>
                </a:lnTo>
                <a:lnTo>
                  <a:pt x="174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0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45"/>
            <p:cNvSpPr/>
            <p:nvPr/>
          </p:nvSpPr>
          <p:spPr>
            <a:xfrm>
              <a:off x="465840" y="305280"/>
              <a:ext cx="855360" cy="868680"/>
            </a:xfrm>
            <a:custGeom>
              <a:avLst/>
              <a:gdLst/>
              <a:ahLst/>
              <a:rect l="l" t="t" r="r" b="b"/>
              <a:pathLst>
                <a:path w="2346011" h="2382139">
                  <a:moveTo>
                    <a:pt x="1732806" y="1395175"/>
                  </a:moveTo>
                  <a:lnTo>
                    <a:pt x="2276482" y="1538723"/>
                  </a:lnTo>
                  <a:lnTo>
                    <a:pt x="2263209" y="1538723"/>
                  </a:lnTo>
                  <a:cubicBezTo>
                    <a:pt x="2308939" y="1538723"/>
                    <a:pt x="2346011" y="1575110"/>
                    <a:pt x="2346011" y="1619995"/>
                  </a:cubicBezTo>
                  <a:lnTo>
                    <a:pt x="2346011" y="2382139"/>
                  </a:lnTo>
                  <a:lnTo>
                    <a:pt x="1913338" y="2382139"/>
                  </a:lnTo>
                  <a:lnTo>
                    <a:pt x="1913338" y="2190845"/>
                  </a:lnTo>
                  <a:lnTo>
                    <a:pt x="1795619" y="2382139"/>
                  </a:lnTo>
                  <a:lnTo>
                    <a:pt x="1431622" y="2382139"/>
                  </a:lnTo>
                  <a:lnTo>
                    <a:pt x="1434518" y="2377151"/>
                  </a:lnTo>
                  <a:cubicBezTo>
                    <a:pt x="1457079" y="2337074"/>
                    <a:pt x="1480815" y="2292495"/>
                    <a:pt x="1504595" y="2245151"/>
                  </a:cubicBezTo>
                  <a:cubicBezTo>
                    <a:pt x="1552155" y="2150464"/>
                    <a:pt x="1590888" y="2062648"/>
                    <a:pt x="1615062" y="1997213"/>
                  </a:cubicBezTo>
                  <a:lnTo>
                    <a:pt x="1629850" y="1954105"/>
                  </a:lnTo>
                  <a:lnTo>
                    <a:pt x="1633396" y="1951211"/>
                  </a:lnTo>
                  <a:cubicBezTo>
                    <a:pt x="1658108" y="1912084"/>
                    <a:pt x="1694317" y="1734792"/>
                    <a:pt x="1719884" y="1520247"/>
                  </a:cubicBezTo>
                  <a:cubicBezTo>
                    <a:pt x="1723536" y="1489599"/>
                    <a:pt x="1726798" y="1459640"/>
                    <a:pt x="1729664" y="1430673"/>
                  </a:cubicBezTo>
                  <a:lnTo>
                    <a:pt x="1732806" y="1395175"/>
                  </a:lnTo>
                  <a:close/>
                  <a:moveTo>
                    <a:pt x="613204" y="1395175"/>
                  </a:moveTo>
                  <a:lnTo>
                    <a:pt x="616346" y="1430673"/>
                  </a:lnTo>
                  <a:cubicBezTo>
                    <a:pt x="619211" y="1459640"/>
                    <a:pt x="622474" y="1489599"/>
                    <a:pt x="626126" y="1520247"/>
                  </a:cubicBezTo>
                  <a:cubicBezTo>
                    <a:pt x="651693" y="1734792"/>
                    <a:pt x="687901" y="1912084"/>
                    <a:pt x="712614" y="1951211"/>
                  </a:cubicBezTo>
                  <a:lnTo>
                    <a:pt x="716162" y="1954107"/>
                  </a:lnTo>
                  <a:lnTo>
                    <a:pt x="730948" y="1997212"/>
                  </a:lnTo>
                  <a:cubicBezTo>
                    <a:pt x="755123" y="2062647"/>
                    <a:pt x="793856" y="2150463"/>
                    <a:pt x="841416" y="2245150"/>
                  </a:cubicBezTo>
                  <a:cubicBezTo>
                    <a:pt x="865196" y="2292494"/>
                    <a:pt x="888932" y="2337074"/>
                    <a:pt x="911493" y="2377150"/>
                  </a:cubicBezTo>
                  <a:lnTo>
                    <a:pt x="914390" y="2382139"/>
                  </a:lnTo>
                  <a:lnTo>
                    <a:pt x="572738" y="2382139"/>
                  </a:lnTo>
                  <a:lnTo>
                    <a:pt x="455019" y="2190845"/>
                  </a:lnTo>
                  <a:lnTo>
                    <a:pt x="455019" y="2382139"/>
                  </a:lnTo>
                  <a:lnTo>
                    <a:pt x="0" y="2382139"/>
                  </a:lnTo>
                  <a:lnTo>
                    <a:pt x="0" y="1619995"/>
                  </a:lnTo>
                  <a:cubicBezTo>
                    <a:pt x="0" y="1575110"/>
                    <a:pt x="37072" y="1538723"/>
                    <a:pt x="82802" y="1538723"/>
                  </a:cubicBezTo>
                  <a:lnTo>
                    <a:pt x="69528" y="1538723"/>
                  </a:lnTo>
                  <a:lnTo>
                    <a:pt x="613204" y="1395175"/>
                  </a:lnTo>
                  <a:close/>
                  <a:moveTo>
                    <a:pt x="899156" y="1319674"/>
                  </a:moveTo>
                  <a:lnTo>
                    <a:pt x="902612" y="1402211"/>
                  </a:lnTo>
                  <a:cubicBezTo>
                    <a:pt x="921914" y="1629297"/>
                    <a:pt x="989335" y="1814186"/>
                    <a:pt x="1078107" y="1892437"/>
                  </a:cubicBezTo>
                  <a:lnTo>
                    <a:pt x="1083582" y="1895998"/>
                  </a:lnTo>
                  <a:lnTo>
                    <a:pt x="1123556" y="1465319"/>
                  </a:lnTo>
                  <a:lnTo>
                    <a:pt x="1104180" y="1465319"/>
                  </a:lnTo>
                  <a:lnTo>
                    <a:pt x="1104180" y="1405745"/>
                  </a:lnTo>
                  <a:lnTo>
                    <a:pt x="1138865" y="1371702"/>
                  </a:lnTo>
                  <a:lnTo>
                    <a:pt x="1207147" y="1371702"/>
                  </a:lnTo>
                  <a:lnTo>
                    <a:pt x="1241831" y="1405745"/>
                  </a:lnTo>
                  <a:lnTo>
                    <a:pt x="1241831" y="1465319"/>
                  </a:lnTo>
                  <a:lnTo>
                    <a:pt x="1222457" y="1465319"/>
                  </a:lnTo>
                  <a:lnTo>
                    <a:pt x="1262431" y="1895997"/>
                  </a:lnTo>
                  <a:lnTo>
                    <a:pt x="1267904" y="1892437"/>
                  </a:lnTo>
                  <a:cubicBezTo>
                    <a:pt x="1356677" y="1814186"/>
                    <a:pt x="1424097" y="1629297"/>
                    <a:pt x="1443399" y="1402211"/>
                  </a:cubicBezTo>
                  <a:lnTo>
                    <a:pt x="1446855" y="1319674"/>
                  </a:lnTo>
                  <a:lnTo>
                    <a:pt x="1711959" y="1389671"/>
                  </a:lnTo>
                  <a:lnTo>
                    <a:pt x="1698181" y="1517755"/>
                  </a:lnTo>
                  <a:cubicBezTo>
                    <a:pt x="1687773" y="1605093"/>
                    <a:pt x="1675659" y="1689651"/>
                    <a:pt x="1662878" y="1765281"/>
                  </a:cubicBezTo>
                  <a:lnTo>
                    <a:pt x="1645508" y="1859478"/>
                  </a:lnTo>
                  <a:lnTo>
                    <a:pt x="1559236" y="1833895"/>
                  </a:lnTo>
                  <a:lnTo>
                    <a:pt x="1616816" y="1942433"/>
                  </a:lnTo>
                  <a:lnTo>
                    <a:pt x="1611799" y="1956257"/>
                  </a:lnTo>
                  <a:cubicBezTo>
                    <a:pt x="1580668" y="2035917"/>
                    <a:pt x="1536096" y="2134619"/>
                    <a:pt x="1485273" y="2235801"/>
                  </a:cubicBezTo>
                  <a:cubicBezTo>
                    <a:pt x="1468332" y="2269529"/>
                    <a:pt x="1451191" y="2302547"/>
                    <a:pt x="1434183" y="2334277"/>
                  </a:cubicBezTo>
                  <a:lnTo>
                    <a:pt x="1407657" y="2382139"/>
                  </a:lnTo>
                  <a:lnTo>
                    <a:pt x="938355" y="2382139"/>
                  </a:lnTo>
                  <a:lnTo>
                    <a:pt x="911828" y="2334276"/>
                  </a:lnTo>
                  <a:cubicBezTo>
                    <a:pt x="894820" y="2302547"/>
                    <a:pt x="877679" y="2269528"/>
                    <a:pt x="860738" y="2235800"/>
                  </a:cubicBezTo>
                  <a:cubicBezTo>
                    <a:pt x="809915" y="2134618"/>
                    <a:pt x="765343" y="2035916"/>
                    <a:pt x="734212" y="1956257"/>
                  </a:cubicBezTo>
                  <a:lnTo>
                    <a:pt x="729195" y="1942433"/>
                  </a:lnTo>
                  <a:lnTo>
                    <a:pt x="786775" y="1833894"/>
                  </a:lnTo>
                  <a:lnTo>
                    <a:pt x="700501" y="1859477"/>
                  </a:lnTo>
                  <a:lnTo>
                    <a:pt x="683131" y="1765281"/>
                  </a:lnTo>
                  <a:cubicBezTo>
                    <a:pt x="670351" y="1689651"/>
                    <a:pt x="658236" y="1605093"/>
                    <a:pt x="647829" y="1517755"/>
                  </a:cubicBezTo>
                  <a:lnTo>
                    <a:pt x="634050" y="1389671"/>
                  </a:lnTo>
                  <a:lnTo>
                    <a:pt x="899156" y="1319674"/>
                  </a:lnTo>
                  <a:close/>
                  <a:moveTo>
                    <a:pt x="1059539" y="0"/>
                  </a:moveTo>
                  <a:lnTo>
                    <a:pt x="1212261" y="0"/>
                  </a:lnTo>
                  <a:cubicBezTo>
                    <a:pt x="1525808" y="0"/>
                    <a:pt x="1779988" y="254180"/>
                    <a:pt x="1779988" y="567726"/>
                  </a:cubicBezTo>
                  <a:lnTo>
                    <a:pt x="1779988" y="715184"/>
                  </a:lnTo>
                  <a:cubicBezTo>
                    <a:pt x="1779988" y="871958"/>
                    <a:pt x="1716443" y="1013889"/>
                    <a:pt x="1613705" y="1116628"/>
                  </a:cubicBezTo>
                  <a:lnTo>
                    <a:pt x="1600104" y="1127850"/>
                  </a:lnTo>
                  <a:lnTo>
                    <a:pt x="1624628" y="1082667"/>
                  </a:lnTo>
                  <a:cubicBezTo>
                    <a:pt x="1647964" y="1027495"/>
                    <a:pt x="1660868" y="966837"/>
                    <a:pt x="1660868" y="903166"/>
                  </a:cubicBezTo>
                  <a:lnTo>
                    <a:pt x="1660868" y="595719"/>
                  </a:lnTo>
                  <a:cubicBezTo>
                    <a:pt x="1660868" y="510820"/>
                    <a:pt x="1592043" y="441995"/>
                    <a:pt x="1507144" y="441995"/>
                  </a:cubicBezTo>
                  <a:lnTo>
                    <a:pt x="784050" y="441995"/>
                  </a:lnTo>
                  <a:cubicBezTo>
                    <a:pt x="699152" y="441995"/>
                    <a:pt x="630327" y="510820"/>
                    <a:pt x="630327" y="595719"/>
                  </a:cubicBezTo>
                  <a:lnTo>
                    <a:pt x="630327" y="903166"/>
                  </a:lnTo>
                  <a:cubicBezTo>
                    <a:pt x="630327" y="966837"/>
                    <a:pt x="643230" y="1027495"/>
                    <a:pt x="666566" y="1082667"/>
                  </a:cubicBezTo>
                  <a:lnTo>
                    <a:pt x="706820" y="1156830"/>
                  </a:lnTo>
                  <a:lnTo>
                    <a:pt x="658096" y="1116628"/>
                  </a:lnTo>
                  <a:cubicBezTo>
                    <a:pt x="555357" y="1013889"/>
                    <a:pt x="491812" y="871958"/>
                    <a:pt x="491812" y="715184"/>
                  </a:cubicBezTo>
                  <a:lnTo>
                    <a:pt x="491812" y="567726"/>
                  </a:lnTo>
                  <a:cubicBezTo>
                    <a:pt x="491812" y="254180"/>
                    <a:pt x="745992" y="0"/>
                    <a:pt x="10595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任意多边形 50"/>
          <p:cNvSpPr/>
          <p:nvPr/>
        </p:nvSpPr>
        <p:spPr>
          <a:xfrm>
            <a:off x="947880" y="4708440"/>
            <a:ext cx="691920" cy="70344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任意多边形 82"/>
          <p:cNvSpPr/>
          <p:nvPr/>
        </p:nvSpPr>
        <p:spPr>
          <a:xfrm>
            <a:off x="3365640" y="3497400"/>
            <a:ext cx="488880" cy="49680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组合 55"/>
          <p:cNvSpPr/>
          <p:nvPr/>
        </p:nvSpPr>
        <p:spPr>
          <a:xfrm>
            <a:off x="800280" y="2952720"/>
            <a:ext cx="3632040" cy="363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custGeom>
            <a:avLst/>
            <a:gdLst/>
            <a:ahLst/>
            <a:rect l="l" t="t" r="r" b="b"/>
            <a:pathLst>
              <a:path w="10909300" h="2095500">
                <a:moveTo>
                  <a:pt x="0" y="584200"/>
                </a:moveTo>
                <a:lnTo>
                  <a:pt x="1308100" y="152400"/>
                </a:lnTo>
                <a:lnTo>
                  <a:pt x="3162300" y="0"/>
                </a:lnTo>
                <a:lnTo>
                  <a:pt x="4711700" y="1054100"/>
                </a:lnTo>
                <a:lnTo>
                  <a:pt x="6248400" y="1562100"/>
                </a:lnTo>
                <a:lnTo>
                  <a:pt x="7493000" y="952500"/>
                </a:lnTo>
                <a:lnTo>
                  <a:pt x="8445500" y="1790700"/>
                </a:lnTo>
                <a:lnTo>
                  <a:pt x="9512300" y="2044700"/>
                </a:lnTo>
                <a:lnTo>
                  <a:pt x="10299700" y="2095500"/>
                </a:lnTo>
                <a:lnTo>
                  <a:pt x="10909300" y="2032000"/>
                </a:lnTo>
                <a:lnTo>
                  <a:pt x="10909300" y="2019300"/>
                </a:lnTo>
              </a:path>
            </a:pathLst>
          </a:custGeom>
          <a:noFill/>
          <a:ln w="20952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custGeom>
              <a:avLst/>
              <a:gdLst/>
              <a:ahLst/>
              <a:rect l="l" t="t" r="r" b="b"/>
              <a:pathLst>
                <a:path w="1676400" h="914400">
                  <a:moveTo>
                    <a:pt x="1663700" y="914400"/>
                  </a:moveTo>
                  <a:lnTo>
                    <a:pt x="1676400" y="254000"/>
                  </a:lnTo>
                  <a:lnTo>
                    <a:pt x="1460500" y="254000"/>
                  </a:lnTo>
                  <a:lnTo>
                    <a:pt x="1422400" y="317500"/>
                  </a:lnTo>
                  <a:lnTo>
                    <a:pt x="1206500" y="0"/>
                  </a:lnTo>
                  <a:lnTo>
                    <a:pt x="622300" y="114300"/>
                  </a:lnTo>
                  <a:lnTo>
                    <a:pt x="596900" y="203200"/>
                  </a:lnTo>
                  <a:lnTo>
                    <a:pt x="825500" y="241300"/>
                  </a:lnTo>
                  <a:lnTo>
                    <a:pt x="558800" y="342900"/>
                  </a:lnTo>
                  <a:lnTo>
                    <a:pt x="12700" y="228600"/>
                  </a:lnTo>
                  <a:lnTo>
                    <a:pt x="0" y="444500"/>
                  </a:lnTo>
                  <a:lnTo>
                    <a:pt x="63500" y="584200"/>
                  </a:lnTo>
                  <a:lnTo>
                    <a:pt x="381000" y="762000"/>
                  </a:lnTo>
                  <a:lnTo>
                    <a:pt x="1092200" y="685800"/>
                  </a:lnTo>
                  <a:lnTo>
                    <a:pt x="1397000" y="787400"/>
                  </a:lnTo>
                  <a:lnTo>
                    <a:pt x="1422400" y="901700"/>
                  </a:lnTo>
                  <a:lnTo>
                    <a:pt x="1663700" y="914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custGeom>
            <a:avLst/>
            <a:gdLst/>
            <a:ahLst/>
            <a:rect l="l" t="t" r="r" b="b"/>
            <a:pathLst>
              <a:path w="6493320" h="3161295">
                <a:moveTo>
                  <a:pt x="0" y="0"/>
                </a:moveTo>
                <a:lnTo>
                  <a:pt x="329723" y="0"/>
                </a:lnTo>
                <a:lnTo>
                  <a:pt x="340267" y="208800"/>
                </a:lnTo>
                <a:cubicBezTo>
                  <a:pt x="489875" y="1681974"/>
                  <a:pt x="1734016" y="2831574"/>
                  <a:pt x="3246661" y="2831574"/>
                </a:cubicBezTo>
                <a:cubicBezTo>
                  <a:pt x="4759306" y="2831574"/>
                  <a:pt x="6003447" y="1681974"/>
                  <a:pt x="6153056" y="208800"/>
                </a:cubicBezTo>
                <a:lnTo>
                  <a:pt x="6163599" y="0"/>
                </a:lnTo>
                <a:lnTo>
                  <a:pt x="6493320" y="0"/>
                </a:lnTo>
                <a:lnTo>
                  <a:pt x="6481074" y="242511"/>
                </a:lnTo>
                <a:cubicBezTo>
                  <a:pt x="6314580" y="1881949"/>
                  <a:pt x="4930024" y="3161295"/>
                  <a:pt x="3246660" y="3161295"/>
                </a:cubicBezTo>
                <a:cubicBezTo>
                  <a:pt x="1563297" y="3161295"/>
                  <a:pt x="178740" y="1881949"/>
                  <a:pt x="12246" y="242511"/>
                </a:cubicBezTo>
                <a:lnTo>
                  <a:pt x="0" y="0"/>
                </a:lnTo>
                <a:close/>
              </a:path>
            </a:pathLst>
          </a:cu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custGeom>
            <a:avLst/>
            <a:gdLst/>
            <a:ahLst/>
            <a:rect l="l" t="t" r="r" b="b"/>
            <a:pathLst>
              <a:path w="1341616" h="2043768">
                <a:moveTo>
                  <a:pt x="1035419" y="0"/>
                </a:moveTo>
                <a:lnTo>
                  <a:pt x="1341616" y="0"/>
                </a:lnTo>
                <a:lnTo>
                  <a:pt x="1333719" y="156378"/>
                </a:lnTo>
                <a:cubicBezTo>
                  <a:pt x="1252994" y="951272"/>
                  <a:pt x="803151" y="1637045"/>
                  <a:pt x="158297" y="2039593"/>
                </a:cubicBezTo>
                <a:lnTo>
                  <a:pt x="150879" y="2043768"/>
                </a:lnTo>
                <a:lnTo>
                  <a:pt x="0" y="1777167"/>
                </a:lnTo>
                <a:lnTo>
                  <a:pt x="161055" y="1666246"/>
                </a:lnTo>
                <a:cubicBezTo>
                  <a:pt x="638750" y="1304521"/>
                  <a:pt x="965270" y="753624"/>
                  <a:pt x="1029103" y="125071"/>
                </a:cubicBezTo>
                <a:lnTo>
                  <a:pt x="1035419" y="0"/>
                </a:lnTo>
                <a:close/>
              </a:path>
            </a:pathLst>
          </a:cu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custGeom>
            <a:avLst/>
            <a:gdLst/>
            <a:ahLst/>
            <a:rect l="l" t="t" r="r" b="b"/>
            <a:pathLst>
              <a:path w="932716" h="1492946">
                <a:moveTo>
                  <a:pt x="631249" y="0"/>
                </a:moveTo>
                <a:lnTo>
                  <a:pt x="932716" y="0"/>
                </a:lnTo>
                <a:lnTo>
                  <a:pt x="926997" y="113270"/>
                </a:lnTo>
                <a:cubicBezTo>
                  <a:pt x="876116" y="614289"/>
                  <a:pt x="639112" y="1060285"/>
                  <a:pt x="286218" y="1381026"/>
                </a:cubicBezTo>
                <a:lnTo>
                  <a:pt x="151417" y="1492946"/>
                </a:lnTo>
                <a:lnTo>
                  <a:pt x="0" y="1203905"/>
                </a:lnTo>
                <a:lnTo>
                  <a:pt x="83574" y="1135750"/>
                </a:lnTo>
                <a:cubicBezTo>
                  <a:pt x="382946" y="868492"/>
                  <a:pt x="584003" y="496865"/>
                  <a:pt x="627167" y="79390"/>
                </a:cubicBezTo>
                <a:lnTo>
                  <a:pt x="631249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custGeom>
            <a:avLst/>
            <a:gdLst/>
            <a:ahLst/>
            <a:rect l="l" t="t" r="r" b="b"/>
            <a:pathLst>
              <a:path w="667541" h="1041509">
                <a:moveTo>
                  <a:pt x="361643" y="0"/>
                </a:moveTo>
                <a:lnTo>
                  <a:pt x="667541" y="0"/>
                </a:lnTo>
                <a:lnTo>
                  <a:pt x="663781" y="74455"/>
                </a:lnTo>
                <a:cubicBezTo>
                  <a:pt x="627766" y="429096"/>
                  <a:pt x="476473" y="749658"/>
                  <a:pt x="247966" y="998081"/>
                </a:cubicBezTo>
                <a:lnTo>
                  <a:pt x="204278" y="1041509"/>
                </a:lnTo>
                <a:lnTo>
                  <a:pt x="0" y="797733"/>
                </a:lnTo>
                <a:lnTo>
                  <a:pt x="22833" y="775439"/>
                </a:lnTo>
                <a:cubicBezTo>
                  <a:pt x="207869" y="577853"/>
                  <a:pt x="330380" y="322889"/>
                  <a:pt x="359544" y="40820"/>
                </a:cubicBezTo>
                <a:lnTo>
                  <a:pt x="36164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custGeom>
            <a:avLst/>
            <a:gdLst/>
            <a:ahLst/>
            <a:rect l="l" t="t" r="r" b="b"/>
            <a:pathLst>
              <a:path w="336453" h="352724">
                <a:moveTo>
                  <a:pt x="22850" y="0"/>
                </a:moveTo>
                <a:lnTo>
                  <a:pt x="336453" y="0"/>
                </a:lnTo>
                <a:lnTo>
                  <a:pt x="334967" y="29425"/>
                </a:lnTo>
                <a:cubicBezTo>
                  <a:pt x="327037" y="107509"/>
                  <a:pt x="311856" y="183449"/>
                  <a:pt x="290106" y="256561"/>
                </a:cubicBezTo>
                <a:lnTo>
                  <a:pt x="256581" y="352724"/>
                </a:lnTo>
                <a:lnTo>
                  <a:pt x="0" y="132980"/>
                </a:lnTo>
                <a:lnTo>
                  <a:pt x="13930" y="86912"/>
                </a:lnTo>
                <a:lnTo>
                  <a:pt x="22850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custGeom>
            <a:avLst/>
            <a:gdLst/>
            <a:ahLst/>
            <a:rect l="l" t="t" r="r" b="b"/>
            <a:pathLst>
              <a:path w="5727700" h="5727700">
                <a:moveTo>
                  <a:pt x="2863851" y="469782"/>
                </a:moveTo>
                <a:cubicBezTo>
                  <a:pt x="1541643" y="469782"/>
                  <a:pt x="469782" y="1541643"/>
                  <a:pt x="469782" y="2863851"/>
                </a:cubicBezTo>
                <a:cubicBezTo>
                  <a:pt x="469782" y="4186059"/>
                  <a:pt x="1541643" y="5257920"/>
                  <a:pt x="2863851" y="5257920"/>
                </a:cubicBezTo>
                <a:cubicBezTo>
                  <a:pt x="4186059" y="5257920"/>
                  <a:pt x="5257920" y="4186059"/>
                  <a:pt x="5257920" y="2863851"/>
                </a:cubicBezTo>
                <a:cubicBezTo>
                  <a:pt x="5257920" y="1541643"/>
                  <a:pt x="4186059" y="469782"/>
                  <a:pt x="2863851" y="469782"/>
                </a:cubicBezTo>
                <a:close/>
                <a:moveTo>
                  <a:pt x="2863850" y="0"/>
                </a:moveTo>
                <a:cubicBezTo>
                  <a:pt x="4445511" y="0"/>
                  <a:pt x="5727700" y="1282189"/>
                  <a:pt x="5727700" y="2863850"/>
                </a:cubicBezTo>
                <a:cubicBezTo>
                  <a:pt x="5727700" y="4445511"/>
                  <a:pt x="4445511" y="5727700"/>
                  <a:pt x="2863850" y="5727700"/>
                </a:cubicBezTo>
                <a:cubicBezTo>
                  <a:pt x="1282189" y="5727700"/>
                  <a:pt x="0" y="4445511"/>
                  <a:pt x="0" y="2863850"/>
                </a:cubicBezTo>
                <a:cubicBezTo>
                  <a:pt x="0" y="1282189"/>
                  <a:pt x="1282189" y="0"/>
                  <a:pt x="2863850" y="0"/>
                </a:cubicBezTo>
                <a:close/>
              </a:path>
            </a:pathLst>
          </a:cu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5000" y="41842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1640" y="226296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custGeom>
              <a:avLst/>
              <a:gdLst/>
              <a:ahLst/>
              <a:rect l="l" t="t" r="r" b="b"/>
              <a:pathLst>
                <a:path w="1610916" h="900112">
                  <a:moveTo>
                    <a:pt x="1610916" y="900112"/>
                  </a:moveTo>
                  <a:lnTo>
                    <a:pt x="1340637" y="900112"/>
                  </a:lnTo>
                  <a:lnTo>
                    <a:pt x="1246694" y="414345"/>
                  </a:lnTo>
                  <a:lnTo>
                    <a:pt x="1152750" y="900112"/>
                  </a:lnTo>
                  <a:lnTo>
                    <a:pt x="879759" y="900112"/>
                  </a:lnTo>
                  <a:lnTo>
                    <a:pt x="785816" y="414345"/>
                  </a:lnTo>
                  <a:lnTo>
                    <a:pt x="691872" y="900112"/>
                  </a:lnTo>
                  <a:lnTo>
                    <a:pt x="426027" y="900112"/>
                  </a:lnTo>
                  <a:lnTo>
                    <a:pt x="332084" y="414345"/>
                  </a:lnTo>
                  <a:lnTo>
                    <a:pt x="238140" y="900112"/>
                  </a:lnTo>
                  <a:lnTo>
                    <a:pt x="0" y="900112"/>
                  </a:lnTo>
                  <a:lnTo>
                    <a:pt x="225028" y="0"/>
                  </a:lnTo>
                  <a:lnTo>
                    <a:pt x="1385888" y="0"/>
                  </a:lnTo>
                  <a:lnTo>
                    <a:pt x="1610916" y="900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custGeom>
              <a:avLst/>
              <a:gdLst/>
              <a:ahLst/>
              <a:rect l="l" t="t" r="r" b="b"/>
              <a:pathLst>
                <a:path w="2386012" h="3514541">
                  <a:moveTo>
                    <a:pt x="0" y="3202594"/>
                  </a:moveTo>
                  <a:lnTo>
                    <a:pt x="454159" y="14103"/>
                  </a:lnTo>
                  <a:lnTo>
                    <a:pt x="1884448" y="0"/>
                  </a:lnTo>
                  <a:cubicBezTo>
                    <a:pt x="1944376" y="588565"/>
                    <a:pt x="2300287" y="2133413"/>
                    <a:pt x="2386012" y="3202594"/>
                  </a:cubicBezTo>
                  <a:cubicBezTo>
                    <a:pt x="2386012" y="3374878"/>
                    <a:pt x="2246349" y="3514541"/>
                    <a:pt x="2074065" y="3514541"/>
                  </a:cubicBezTo>
                  <a:lnTo>
                    <a:pt x="311947" y="3514541"/>
                  </a:lnTo>
                  <a:cubicBezTo>
                    <a:pt x="139663" y="3514541"/>
                    <a:pt x="0" y="3374878"/>
                    <a:pt x="0" y="320259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custGeom>
            <a:avLst/>
            <a:gdLst/>
            <a:ahLst/>
            <a:rect l="l" t="t" r="r" b="b"/>
            <a:pathLst>
              <a:path w="1771650" h="1614487">
                <a:moveTo>
                  <a:pt x="0" y="1614487"/>
                </a:moveTo>
                <a:lnTo>
                  <a:pt x="0" y="1614487"/>
                </a:lnTo>
                <a:lnTo>
                  <a:pt x="171450" y="1457325"/>
                </a:lnTo>
                <a:lnTo>
                  <a:pt x="1457325" y="485775"/>
                </a:lnTo>
                <a:lnTo>
                  <a:pt x="1528762" y="471487"/>
                </a:lnTo>
                <a:lnTo>
                  <a:pt x="1571625" y="500062"/>
                </a:lnTo>
                <a:lnTo>
                  <a:pt x="1614487" y="642937"/>
                </a:lnTo>
                <a:lnTo>
                  <a:pt x="1614487" y="785812"/>
                </a:lnTo>
                <a:lnTo>
                  <a:pt x="1771650" y="0"/>
                </a:lnTo>
                <a:lnTo>
                  <a:pt x="600075" y="128587"/>
                </a:lnTo>
                <a:lnTo>
                  <a:pt x="1000125" y="142875"/>
                </a:lnTo>
                <a:lnTo>
                  <a:pt x="1100137" y="171450"/>
                </a:lnTo>
                <a:lnTo>
                  <a:pt x="1028700" y="285750"/>
                </a:lnTo>
                <a:lnTo>
                  <a:pt x="0" y="1614487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custGeom>
              <a:avLst/>
              <a:gdLst/>
              <a:ahLst/>
              <a:rect l="l" t="t" r="r" b="b"/>
              <a:pathLst>
                <a:path w="2293257" h="1045028">
                  <a:moveTo>
                    <a:pt x="1582057" y="493485"/>
                  </a:moveTo>
                  <a:lnTo>
                    <a:pt x="1973943" y="261257"/>
                  </a:lnTo>
                  <a:lnTo>
                    <a:pt x="2191657" y="319314"/>
                  </a:lnTo>
                  <a:lnTo>
                    <a:pt x="2293257" y="0"/>
                  </a:lnTo>
                  <a:lnTo>
                    <a:pt x="1669143" y="14514"/>
                  </a:lnTo>
                  <a:lnTo>
                    <a:pt x="1785257" y="130628"/>
                  </a:lnTo>
                  <a:lnTo>
                    <a:pt x="1451428" y="275771"/>
                  </a:lnTo>
                  <a:lnTo>
                    <a:pt x="1349828" y="406400"/>
                  </a:lnTo>
                  <a:lnTo>
                    <a:pt x="986971" y="362857"/>
                  </a:lnTo>
                  <a:lnTo>
                    <a:pt x="595086" y="130628"/>
                  </a:lnTo>
                  <a:lnTo>
                    <a:pt x="682171" y="58057"/>
                  </a:lnTo>
                  <a:lnTo>
                    <a:pt x="58057" y="0"/>
                  </a:lnTo>
                  <a:lnTo>
                    <a:pt x="116114" y="275771"/>
                  </a:lnTo>
                  <a:lnTo>
                    <a:pt x="333828" y="217714"/>
                  </a:lnTo>
                  <a:lnTo>
                    <a:pt x="725714" y="420914"/>
                  </a:lnTo>
                  <a:lnTo>
                    <a:pt x="798286" y="493485"/>
                  </a:lnTo>
                  <a:lnTo>
                    <a:pt x="333828" y="754743"/>
                  </a:lnTo>
                  <a:lnTo>
                    <a:pt x="130628" y="725714"/>
                  </a:lnTo>
                  <a:lnTo>
                    <a:pt x="0" y="1045028"/>
                  </a:lnTo>
                  <a:lnTo>
                    <a:pt x="682171" y="986971"/>
                  </a:lnTo>
                  <a:lnTo>
                    <a:pt x="551543" y="914400"/>
                  </a:lnTo>
                  <a:lnTo>
                    <a:pt x="885371" y="725714"/>
                  </a:lnTo>
                  <a:lnTo>
                    <a:pt x="1364343" y="711200"/>
                  </a:lnTo>
                  <a:lnTo>
                    <a:pt x="1727200" y="870857"/>
                  </a:lnTo>
                  <a:lnTo>
                    <a:pt x="1582057" y="986971"/>
                  </a:lnTo>
                  <a:lnTo>
                    <a:pt x="2278743" y="1001485"/>
                  </a:lnTo>
                  <a:lnTo>
                    <a:pt x="2191657" y="696685"/>
                  </a:lnTo>
                  <a:lnTo>
                    <a:pt x="2046514" y="783771"/>
                  </a:lnTo>
                  <a:lnTo>
                    <a:pt x="1582057" y="4934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1" t="552" r="76394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custGeom>
            <a:avLst/>
            <a:gdLst/>
            <a:ahLst/>
            <a:rect l="l" t="t" r="r" b="b"/>
            <a:pathLst>
              <a:path w="1479681" h="1880129">
                <a:moveTo>
                  <a:pt x="867509" y="1195779"/>
                </a:moveTo>
                <a:cubicBezTo>
                  <a:pt x="798247" y="1204744"/>
                  <a:pt x="749368" y="1268159"/>
                  <a:pt x="758332" y="1337420"/>
                </a:cubicBezTo>
                <a:cubicBezTo>
                  <a:pt x="767297" y="1406682"/>
                  <a:pt x="830713" y="1455561"/>
                  <a:pt x="899973" y="1446597"/>
                </a:cubicBezTo>
                <a:cubicBezTo>
                  <a:pt x="917289" y="1444355"/>
                  <a:pt x="933331" y="1438710"/>
                  <a:pt x="947513" y="1430422"/>
                </a:cubicBezTo>
                <a:lnTo>
                  <a:pt x="957724" y="1421432"/>
                </a:lnTo>
                <a:lnTo>
                  <a:pt x="1113467" y="1553072"/>
                </a:lnTo>
                <a:lnTo>
                  <a:pt x="1158421" y="1499887"/>
                </a:lnTo>
                <a:lnTo>
                  <a:pt x="1000093" y="1366063"/>
                </a:lnTo>
                <a:lnTo>
                  <a:pt x="1005613" y="1355046"/>
                </a:lnTo>
                <a:cubicBezTo>
                  <a:pt x="1010017" y="1339220"/>
                  <a:pt x="1011391" y="1322270"/>
                  <a:pt x="1009150" y="1304955"/>
                </a:cubicBezTo>
                <a:cubicBezTo>
                  <a:pt x="1000185" y="1235693"/>
                  <a:pt x="936769" y="1186814"/>
                  <a:pt x="867509" y="1195779"/>
                </a:cubicBezTo>
                <a:close/>
                <a:moveTo>
                  <a:pt x="1066467" y="792150"/>
                </a:moveTo>
                <a:lnTo>
                  <a:pt x="1052741" y="917310"/>
                </a:lnTo>
                <a:lnTo>
                  <a:pt x="1074153" y="926063"/>
                </a:lnTo>
                <a:lnTo>
                  <a:pt x="1044908" y="1037874"/>
                </a:lnTo>
                <a:lnTo>
                  <a:pt x="1067066" y="1049491"/>
                </a:lnTo>
                <a:lnTo>
                  <a:pt x="1042055" y="1230447"/>
                </a:lnTo>
                <a:lnTo>
                  <a:pt x="1124071" y="1075375"/>
                </a:lnTo>
                <a:lnTo>
                  <a:pt x="1097671" y="1063704"/>
                </a:lnTo>
                <a:lnTo>
                  <a:pt x="1148004" y="964949"/>
                </a:lnTo>
                <a:lnTo>
                  <a:pt x="1116013" y="946838"/>
                </a:lnTo>
                <a:lnTo>
                  <a:pt x="1169297" y="843113"/>
                </a:lnTo>
                <a:lnTo>
                  <a:pt x="1066467" y="792150"/>
                </a:lnTo>
                <a:close/>
                <a:moveTo>
                  <a:pt x="276747" y="632412"/>
                </a:moveTo>
                <a:lnTo>
                  <a:pt x="231987" y="701438"/>
                </a:lnTo>
                <a:lnTo>
                  <a:pt x="670086" y="985519"/>
                </a:lnTo>
                <a:lnTo>
                  <a:pt x="714845" y="916493"/>
                </a:lnTo>
                <a:lnTo>
                  <a:pt x="276747" y="632412"/>
                </a:lnTo>
                <a:close/>
                <a:moveTo>
                  <a:pt x="1083396" y="419609"/>
                </a:moveTo>
                <a:lnTo>
                  <a:pt x="1097854" y="591613"/>
                </a:lnTo>
                <a:lnTo>
                  <a:pt x="974476" y="661542"/>
                </a:lnTo>
                <a:lnTo>
                  <a:pt x="1116291" y="662294"/>
                </a:lnTo>
                <a:lnTo>
                  <a:pt x="1187695" y="819444"/>
                </a:lnTo>
                <a:lnTo>
                  <a:pt x="1173236" y="647440"/>
                </a:lnTo>
                <a:lnTo>
                  <a:pt x="1296614" y="577511"/>
                </a:lnTo>
                <a:lnTo>
                  <a:pt x="1154799" y="576759"/>
                </a:lnTo>
                <a:lnTo>
                  <a:pt x="1083396" y="419609"/>
                </a:lnTo>
                <a:close/>
                <a:moveTo>
                  <a:pt x="533141" y="368666"/>
                </a:moveTo>
                <a:lnTo>
                  <a:pt x="694750" y="463406"/>
                </a:lnTo>
                <a:cubicBezTo>
                  <a:pt x="663126" y="492814"/>
                  <a:pt x="615956" y="497997"/>
                  <a:pt x="578701" y="476157"/>
                </a:cubicBezTo>
                <a:cubicBezTo>
                  <a:pt x="541446" y="454317"/>
                  <a:pt x="522927" y="410626"/>
                  <a:pt x="533141" y="368666"/>
                </a:cubicBezTo>
                <a:close/>
                <a:moveTo>
                  <a:pt x="617476" y="294590"/>
                </a:moveTo>
                <a:cubicBezTo>
                  <a:pt x="637878" y="292348"/>
                  <a:pt x="658985" y="296512"/>
                  <a:pt x="677612" y="307432"/>
                </a:cubicBezTo>
                <a:cubicBezTo>
                  <a:pt x="714867" y="329272"/>
                  <a:pt x="733385" y="372963"/>
                  <a:pt x="723172" y="414923"/>
                </a:cubicBezTo>
                <a:lnTo>
                  <a:pt x="561563" y="320183"/>
                </a:lnTo>
                <a:cubicBezTo>
                  <a:pt x="577375" y="305479"/>
                  <a:pt x="597074" y="296831"/>
                  <a:pt x="617476" y="294590"/>
                </a:cubicBezTo>
                <a:close/>
                <a:moveTo>
                  <a:pt x="588664" y="240397"/>
                </a:moveTo>
                <a:cubicBezTo>
                  <a:pt x="505049" y="262208"/>
                  <a:pt x="454947" y="347672"/>
                  <a:pt x="476759" y="431287"/>
                </a:cubicBezTo>
                <a:cubicBezTo>
                  <a:pt x="498570" y="514902"/>
                  <a:pt x="584034" y="565004"/>
                  <a:pt x="667649" y="543192"/>
                </a:cubicBezTo>
                <a:cubicBezTo>
                  <a:pt x="751264" y="521381"/>
                  <a:pt x="801366" y="435917"/>
                  <a:pt x="779554" y="352302"/>
                </a:cubicBezTo>
                <a:cubicBezTo>
                  <a:pt x="757743" y="268687"/>
                  <a:pt x="672279" y="218585"/>
                  <a:pt x="588664" y="240397"/>
                </a:cubicBezTo>
                <a:close/>
                <a:moveTo>
                  <a:pt x="592078" y="17634"/>
                </a:moveTo>
                <a:cubicBezTo>
                  <a:pt x="948391" y="-75311"/>
                  <a:pt x="1330898" y="208386"/>
                  <a:pt x="1446431" y="651291"/>
                </a:cubicBezTo>
                <a:cubicBezTo>
                  <a:pt x="1518639" y="928106"/>
                  <a:pt x="1469471" y="1201596"/>
                  <a:pt x="1335450" y="1390478"/>
                </a:cubicBezTo>
                <a:lnTo>
                  <a:pt x="1317419" y="1410950"/>
                </a:lnTo>
                <a:lnTo>
                  <a:pt x="1395607" y="1710688"/>
                </a:lnTo>
                <a:lnTo>
                  <a:pt x="1400275" y="1740617"/>
                </a:lnTo>
                <a:lnTo>
                  <a:pt x="865447" y="1880129"/>
                </a:lnTo>
                <a:lnTo>
                  <a:pt x="854901" y="1851733"/>
                </a:lnTo>
                <a:lnTo>
                  <a:pt x="804029" y="1656715"/>
                </a:lnTo>
                <a:lnTo>
                  <a:pt x="772772" y="1676144"/>
                </a:lnTo>
                <a:cubicBezTo>
                  <a:pt x="751782" y="1686466"/>
                  <a:pt x="729445" y="1694837"/>
                  <a:pt x="705929" y="1700971"/>
                </a:cubicBezTo>
                <a:lnTo>
                  <a:pt x="705929" y="1700970"/>
                </a:lnTo>
                <a:cubicBezTo>
                  <a:pt x="635383" y="1719372"/>
                  <a:pt x="564251" y="1715022"/>
                  <a:pt x="500304" y="1692475"/>
                </a:cubicBezTo>
                <a:lnTo>
                  <a:pt x="452384" y="1670227"/>
                </a:lnTo>
                <a:lnTo>
                  <a:pt x="510778" y="1627691"/>
                </a:lnTo>
                <a:cubicBezTo>
                  <a:pt x="575076" y="1567556"/>
                  <a:pt x="610824" y="1501237"/>
                  <a:pt x="611232" y="1431405"/>
                </a:cubicBezTo>
                <a:lnTo>
                  <a:pt x="611232" y="1431404"/>
                </a:lnTo>
                <a:cubicBezTo>
                  <a:pt x="536424" y="1470767"/>
                  <a:pt x="451024" y="1505972"/>
                  <a:pt x="357234" y="1536595"/>
                </a:cubicBezTo>
                <a:lnTo>
                  <a:pt x="323854" y="1546252"/>
                </a:lnTo>
                <a:lnTo>
                  <a:pt x="276444" y="1449194"/>
                </a:lnTo>
                <a:lnTo>
                  <a:pt x="237349" y="1299322"/>
                </a:lnTo>
                <a:lnTo>
                  <a:pt x="0" y="1299322"/>
                </a:lnTo>
                <a:lnTo>
                  <a:pt x="175516" y="1062280"/>
                </a:lnTo>
                <a:lnTo>
                  <a:pt x="143213" y="938443"/>
                </a:lnTo>
                <a:cubicBezTo>
                  <a:pt x="137079" y="914928"/>
                  <a:pt x="133473" y="891347"/>
                  <a:pt x="132226" y="867989"/>
                </a:cubicBezTo>
                <a:lnTo>
                  <a:pt x="132800" y="855465"/>
                </a:lnTo>
                <a:lnTo>
                  <a:pt x="127056" y="822836"/>
                </a:lnTo>
                <a:cubicBezTo>
                  <a:pt x="91890" y="441709"/>
                  <a:pt x="280305" y="98961"/>
                  <a:pt x="592078" y="1763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custGeom>
              <a:avLst/>
              <a:gdLst/>
              <a:ahLst/>
              <a:rect l="l" t="t" r="r" b="b"/>
              <a:pathLst>
                <a:path w="1041400" h="1627786">
                  <a:moveTo>
                    <a:pt x="704985" y="1440749"/>
                  </a:moveTo>
                  <a:lnTo>
                    <a:pt x="704985" y="1536688"/>
                  </a:lnTo>
                  <a:lnTo>
                    <a:pt x="920885" y="1536688"/>
                  </a:lnTo>
                  <a:lnTo>
                    <a:pt x="920885" y="1440749"/>
                  </a:lnTo>
                  <a:lnTo>
                    <a:pt x="704985" y="1440749"/>
                  </a:lnTo>
                  <a:close/>
                  <a:moveTo>
                    <a:pt x="413658" y="1440749"/>
                  </a:moveTo>
                  <a:lnTo>
                    <a:pt x="413658" y="1536688"/>
                  </a:lnTo>
                  <a:lnTo>
                    <a:pt x="629558" y="1536688"/>
                  </a:lnTo>
                  <a:lnTo>
                    <a:pt x="629558" y="1440749"/>
                  </a:lnTo>
                  <a:lnTo>
                    <a:pt x="413658" y="1440749"/>
                  </a:lnTo>
                  <a:close/>
                  <a:moveTo>
                    <a:pt x="122330" y="1440749"/>
                  </a:moveTo>
                  <a:lnTo>
                    <a:pt x="122330" y="1536688"/>
                  </a:lnTo>
                  <a:lnTo>
                    <a:pt x="338230" y="1536688"/>
                  </a:lnTo>
                  <a:lnTo>
                    <a:pt x="338230" y="1440749"/>
                  </a:lnTo>
                  <a:lnTo>
                    <a:pt x="122330" y="1440749"/>
                  </a:lnTo>
                  <a:close/>
                  <a:moveTo>
                    <a:pt x="719912" y="1236155"/>
                  </a:moveTo>
                  <a:lnTo>
                    <a:pt x="719912" y="1332094"/>
                  </a:lnTo>
                  <a:lnTo>
                    <a:pt x="935812" y="1332094"/>
                  </a:lnTo>
                  <a:lnTo>
                    <a:pt x="935812" y="1236155"/>
                  </a:lnTo>
                  <a:lnTo>
                    <a:pt x="719912" y="1236155"/>
                  </a:lnTo>
                  <a:close/>
                  <a:moveTo>
                    <a:pt x="428585" y="1236155"/>
                  </a:moveTo>
                  <a:lnTo>
                    <a:pt x="428585" y="1332094"/>
                  </a:lnTo>
                  <a:lnTo>
                    <a:pt x="644485" y="1332094"/>
                  </a:lnTo>
                  <a:lnTo>
                    <a:pt x="644485" y="1236155"/>
                  </a:lnTo>
                  <a:lnTo>
                    <a:pt x="428585" y="1236155"/>
                  </a:lnTo>
                  <a:close/>
                  <a:moveTo>
                    <a:pt x="137257" y="1236155"/>
                  </a:moveTo>
                  <a:lnTo>
                    <a:pt x="137257" y="1332094"/>
                  </a:lnTo>
                  <a:lnTo>
                    <a:pt x="353157" y="1332094"/>
                  </a:lnTo>
                  <a:lnTo>
                    <a:pt x="353157" y="1236155"/>
                  </a:lnTo>
                  <a:lnTo>
                    <a:pt x="137257" y="1236155"/>
                  </a:lnTo>
                  <a:close/>
                  <a:moveTo>
                    <a:pt x="719912" y="1005633"/>
                  </a:moveTo>
                  <a:lnTo>
                    <a:pt x="719912" y="1101572"/>
                  </a:lnTo>
                  <a:lnTo>
                    <a:pt x="935812" y="1101572"/>
                  </a:lnTo>
                  <a:lnTo>
                    <a:pt x="935812" y="1005633"/>
                  </a:lnTo>
                  <a:lnTo>
                    <a:pt x="719912" y="1005633"/>
                  </a:lnTo>
                  <a:close/>
                  <a:moveTo>
                    <a:pt x="428585" y="1005633"/>
                  </a:moveTo>
                  <a:lnTo>
                    <a:pt x="428585" y="1101572"/>
                  </a:lnTo>
                  <a:lnTo>
                    <a:pt x="644485" y="1101572"/>
                  </a:lnTo>
                  <a:lnTo>
                    <a:pt x="644485" y="1005633"/>
                  </a:lnTo>
                  <a:lnTo>
                    <a:pt x="428585" y="1005633"/>
                  </a:lnTo>
                  <a:close/>
                  <a:moveTo>
                    <a:pt x="137257" y="1005633"/>
                  </a:moveTo>
                  <a:lnTo>
                    <a:pt x="137257" y="1101572"/>
                  </a:lnTo>
                  <a:lnTo>
                    <a:pt x="353157" y="1101572"/>
                  </a:lnTo>
                  <a:lnTo>
                    <a:pt x="353157" y="1005633"/>
                  </a:lnTo>
                  <a:lnTo>
                    <a:pt x="137257" y="1005633"/>
                  </a:lnTo>
                  <a:close/>
                  <a:moveTo>
                    <a:pt x="719912" y="801534"/>
                  </a:moveTo>
                  <a:lnTo>
                    <a:pt x="719912" y="897473"/>
                  </a:lnTo>
                  <a:lnTo>
                    <a:pt x="935812" y="897473"/>
                  </a:lnTo>
                  <a:lnTo>
                    <a:pt x="935812" y="801534"/>
                  </a:lnTo>
                  <a:lnTo>
                    <a:pt x="719912" y="801534"/>
                  </a:lnTo>
                  <a:close/>
                  <a:moveTo>
                    <a:pt x="428585" y="801534"/>
                  </a:moveTo>
                  <a:lnTo>
                    <a:pt x="428585" y="897473"/>
                  </a:lnTo>
                  <a:lnTo>
                    <a:pt x="644485" y="897473"/>
                  </a:lnTo>
                  <a:lnTo>
                    <a:pt x="644485" y="801534"/>
                  </a:lnTo>
                  <a:lnTo>
                    <a:pt x="428585" y="801534"/>
                  </a:lnTo>
                  <a:close/>
                  <a:moveTo>
                    <a:pt x="137257" y="801534"/>
                  </a:moveTo>
                  <a:lnTo>
                    <a:pt x="137257" y="897473"/>
                  </a:lnTo>
                  <a:lnTo>
                    <a:pt x="353157" y="897473"/>
                  </a:lnTo>
                  <a:lnTo>
                    <a:pt x="353157" y="801534"/>
                  </a:lnTo>
                  <a:lnTo>
                    <a:pt x="137257" y="801534"/>
                  </a:lnTo>
                  <a:close/>
                  <a:moveTo>
                    <a:pt x="719912" y="596279"/>
                  </a:moveTo>
                  <a:lnTo>
                    <a:pt x="719912" y="692218"/>
                  </a:lnTo>
                  <a:lnTo>
                    <a:pt x="935812" y="692218"/>
                  </a:lnTo>
                  <a:lnTo>
                    <a:pt x="935812" y="596279"/>
                  </a:lnTo>
                  <a:lnTo>
                    <a:pt x="719912" y="596279"/>
                  </a:lnTo>
                  <a:close/>
                  <a:moveTo>
                    <a:pt x="428585" y="596279"/>
                  </a:moveTo>
                  <a:lnTo>
                    <a:pt x="428585" y="692218"/>
                  </a:lnTo>
                  <a:lnTo>
                    <a:pt x="644485" y="692218"/>
                  </a:lnTo>
                  <a:lnTo>
                    <a:pt x="644485" y="596279"/>
                  </a:lnTo>
                  <a:lnTo>
                    <a:pt x="428585" y="596279"/>
                  </a:lnTo>
                  <a:close/>
                  <a:moveTo>
                    <a:pt x="137257" y="596279"/>
                  </a:moveTo>
                  <a:lnTo>
                    <a:pt x="137257" y="692218"/>
                  </a:lnTo>
                  <a:lnTo>
                    <a:pt x="353157" y="692218"/>
                  </a:lnTo>
                  <a:lnTo>
                    <a:pt x="353157" y="596279"/>
                  </a:lnTo>
                  <a:lnTo>
                    <a:pt x="137257" y="596279"/>
                  </a:lnTo>
                  <a:close/>
                  <a:moveTo>
                    <a:pt x="719912" y="343054"/>
                  </a:moveTo>
                  <a:lnTo>
                    <a:pt x="719912" y="438993"/>
                  </a:lnTo>
                  <a:lnTo>
                    <a:pt x="935812" y="438993"/>
                  </a:lnTo>
                  <a:lnTo>
                    <a:pt x="935812" y="343054"/>
                  </a:lnTo>
                  <a:lnTo>
                    <a:pt x="719912" y="343054"/>
                  </a:lnTo>
                  <a:close/>
                  <a:moveTo>
                    <a:pt x="428585" y="343054"/>
                  </a:moveTo>
                  <a:lnTo>
                    <a:pt x="428585" y="438993"/>
                  </a:lnTo>
                  <a:lnTo>
                    <a:pt x="644485" y="438993"/>
                  </a:lnTo>
                  <a:lnTo>
                    <a:pt x="644485" y="343054"/>
                  </a:lnTo>
                  <a:lnTo>
                    <a:pt x="428585" y="343054"/>
                  </a:lnTo>
                  <a:close/>
                  <a:moveTo>
                    <a:pt x="137257" y="343054"/>
                  </a:moveTo>
                  <a:lnTo>
                    <a:pt x="137257" y="438993"/>
                  </a:lnTo>
                  <a:lnTo>
                    <a:pt x="353157" y="438993"/>
                  </a:lnTo>
                  <a:lnTo>
                    <a:pt x="353157" y="343054"/>
                  </a:lnTo>
                  <a:lnTo>
                    <a:pt x="137257" y="343054"/>
                  </a:lnTo>
                  <a:close/>
                  <a:moveTo>
                    <a:pt x="719912" y="137520"/>
                  </a:moveTo>
                  <a:lnTo>
                    <a:pt x="719912" y="233459"/>
                  </a:lnTo>
                  <a:lnTo>
                    <a:pt x="935812" y="233459"/>
                  </a:lnTo>
                  <a:lnTo>
                    <a:pt x="935812" y="137520"/>
                  </a:lnTo>
                  <a:lnTo>
                    <a:pt x="719912" y="137520"/>
                  </a:lnTo>
                  <a:close/>
                  <a:moveTo>
                    <a:pt x="428585" y="137520"/>
                  </a:moveTo>
                  <a:lnTo>
                    <a:pt x="428585" y="233459"/>
                  </a:lnTo>
                  <a:lnTo>
                    <a:pt x="644485" y="233459"/>
                  </a:lnTo>
                  <a:lnTo>
                    <a:pt x="644485" y="137520"/>
                  </a:lnTo>
                  <a:lnTo>
                    <a:pt x="428585" y="137520"/>
                  </a:lnTo>
                  <a:close/>
                  <a:moveTo>
                    <a:pt x="137257" y="137520"/>
                  </a:moveTo>
                  <a:lnTo>
                    <a:pt x="137257" y="233459"/>
                  </a:lnTo>
                  <a:lnTo>
                    <a:pt x="353157" y="233459"/>
                  </a:lnTo>
                  <a:lnTo>
                    <a:pt x="353157" y="137520"/>
                  </a:lnTo>
                  <a:lnTo>
                    <a:pt x="137257" y="137520"/>
                  </a:lnTo>
                  <a:close/>
                  <a:moveTo>
                    <a:pt x="0" y="0"/>
                  </a:moveTo>
                  <a:lnTo>
                    <a:pt x="1041400" y="0"/>
                  </a:lnTo>
                  <a:lnTo>
                    <a:pt x="1041400" y="1627786"/>
                  </a:lnTo>
                  <a:lnTo>
                    <a:pt x="0" y="1627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custGeom>
                <a:avLst/>
                <a:gdLst/>
                <a:ahLst/>
                <a:rect l="l" t="t" r="r" b="b"/>
                <a:pathLst>
                  <a:path w="1563165" h="1871189">
                    <a:moveTo>
                      <a:pt x="896415" y="0"/>
                    </a:moveTo>
                    <a:cubicBezTo>
                      <a:pt x="1264651" y="0"/>
                      <a:pt x="1563165" y="371059"/>
                      <a:pt x="1563165" y="828784"/>
                    </a:cubicBezTo>
                    <a:cubicBezTo>
                      <a:pt x="1563165" y="1114862"/>
                      <a:pt x="1446558" y="1367086"/>
                      <a:pt x="1269202" y="1516025"/>
                    </a:cubicBezTo>
                    <a:lnTo>
                      <a:pt x="1246587" y="1531283"/>
                    </a:lnTo>
                    <a:lnTo>
                      <a:pt x="1246587" y="1841051"/>
                    </a:lnTo>
                    <a:lnTo>
                      <a:pt x="1243549" y="1871189"/>
                    </a:lnTo>
                    <a:lnTo>
                      <a:pt x="690825" y="1871189"/>
                    </a:lnTo>
                    <a:lnTo>
                      <a:pt x="687787" y="1841051"/>
                    </a:lnTo>
                    <a:lnTo>
                      <a:pt x="687787" y="1639507"/>
                    </a:lnTo>
                    <a:lnTo>
                      <a:pt x="652638" y="1650418"/>
                    </a:lnTo>
                    <a:cubicBezTo>
                      <a:pt x="629722" y="1655107"/>
                      <a:pt x="605995" y="1657569"/>
                      <a:pt x="581692" y="1657569"/>
                    </a:cubicBezTo>
                    <a:lnTo>
                      <a:pt x="581693" y="1657568"/>
                    </a:lnTo>
                    <a:cubicBezTo>
                      <a:pt x="508786" y="1657568"/>
                      <a:pt x="441055" y="1635404"/>
                      <a:pt x="384870" y="1597447"/>
                    </a:cubicBezTo>
                    <a:lnTo>
                      <a:pt x="344117" y="1563823"/>
                    </a:lnTo>
                    <a:lnTo>
                      <a:pt x="411357" y="1537404"/>
                    </a:lnTo>
                    <a:cubicBezTo>
                      <a:pt x="488751" y="1495445"/>
                      <a:pt x="540081" y="1440297"/>
                      <a:pt x="558102" y="1372829"/>
                    </a:cubicBezTo>
                    <a:lnTo>
                      <a:pt x="558102" y="1372828"/>
                    </a:lnTo>
                    <a:cubicBezTo>
                      <a:pt x="475781" y="1392034"/>
                      <a:pt x="384260" y="1404544"/>
                      <a:pt x="285778" y="1410502"/>
                    </a:cubicBezTo>
                    <a:lnTo>
                      <a:pt x="251041" y="1411421"/>
                    </a:lnTo>
                    <a:lnTo>
                      <a:pt x="229664" y="1305539"/>
                    </a:lnTo>
                    <a:lnTo>
                      <a:pt x="229664" y="1150652"/>
                    </a:lnTo>
                    <a:lnTo>
                      <a:pt x="0" y="1090743"/>
                    </a:lnTo>
                    <a:lnTo>
                      <a:pt x="229664" y="905678"/>
                    </a:lnTo>
                    <a:lnTo>
                      <a:pt x="229664" y="777697"/>
                    </a:lnTo>
                    <a:cubicBezTo>
                      <a:pt x="229664" y="753395"/>
                      <a:pt x="232127" y="729667"/>
                      <a:pt x="236816" y="706751"/>
                    </a:cubicBezTo>
                    <a:lnTo>
                      <a:pt x="240533" y="694777"/>
                    </a:lnTo>
                    <a:lnTo>
                      <a:pt x="243211" y="661755"/>
                    </a:lnTo>
                    <a:cubicBezTo>
                      <a:pt x="305383" y="284092"/>
                      <a:pt x="574209" y="0"/>
                      <a:pt x="896415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custGeom>
            <a:avLst/>
            <a:gdLst/>
            <a:ahLst/>
            <a:rect l="l" t="t" r="r" b="b"/>
            <a:pathLst>
              <a:path w="2133600" h="2082891">
                <a:moveTo>
                  <a:pt x="1592351" y="966456"/>
                </a:moveTo>
                <a:lnTo>
                  <a:pt x="1592351" y="1017132"/>
                </a:lnTo>
                <a:lnTo>
                  <a:pt x="1706651" y="1017132"/>
                </a:lnTo>
                <a:lnTo>
                  <a:pt x="1706651" y="966456"/>
                </a:lnTo>
                <a:lnTo>
                  <a:pt x="1592351" y="966456"/>
                </a:lnTo>
                <a:close/>
                <a:moveTo>
                  <a:pt x="957945" y="966456"/>
                </a:moveTo>
                <a:lnTo>
                  <a:pt x="957945" y="1017132"/>
                </a:lnTo>
                <a:lnTo>
                  <a:pt x="1072245" y="1017132"/>
                </a:lnTo>
                <a:lnTo>
                  <a:pt x="1072245" y="966456"/>
                </a:lnTo>
                <a:lnTo>
                  <a:pt x="957945" y="966456"/>
                </a:lnTo>
                <a:close/>
                <a:moveTo>
                  <a:pt x="293571" y="966456"/>
                </a:moveTo>
                <a:lnTo>
                  <a:pt x="293571" y="1017132"/>
                </a:lnTo>
                <a:lnTo>
                  <a:pt x="407871" y="1017132"/>
                </a:lnTo>
                <a:lnTo>
                  <a:pt x="407871" y="966456"/>
                </a:lnTo>
                <a:lnTo>
                  <a:pt x="293571" y="966456"/>
                </a:lnTo>
                <a:close/>
                <a:moveTo>
                  <a:pt x="1253322" y="849219"/>
                </a:moveTo>
                <a:lnTo>
                  <a:pt x="1253322" y="899895"/>
                </a:lnTo>
                <a:lnTo>
                  <a:pt x="1367622" y="899895"/>
                </a:lnTo>
                <a:lnTo>
                  <a:pt x="1367622" y="849219"/>
                </a:lnTo>
                <a:lnTo>
                  <a:pt x="1253322" y="849219"/>
                </a:lnTo>
                <a:close/>
                <a:moveTo>
                  <a:pt x="920474" y="849219"/>
                </a:moveTo>
                <a:lnTo>
                  <a:pt x="920474" y="899895"/>
                </a:lnTo>
                <a:lnTo>
                  <a:pt x="1034774" y="899895"/>
                </a:lnTo>
                <a:lnTo>
                  <a:pt x="1034774" y="849219"/>
                </a:lnTo>
                <a:lnTo>
                  <a:pt x="920474" y="849219"/>
                </a:lnTo>
                <a:close/>
                <a:moveTo>
                  <a:pt x="753171" y="849219"/>
                </a:moveTo>
                <a:lnTo>
                  <a:pt x="753171" y="899895"/>
                </a:lnTo>
                <a:lnTo>
                  <a:pt x="867471" y="899895"/>
                </a:lnTo>
                <a:lnTo>
                  <a:pt x="867471" y="849219"/>
                </a:lnTo>
                <a:lnTo>
                  <a:pt x="753171" y="849219"/>
                </a:lnTo>
                <a:close/>
                <a:moveTo>
                  <a:pt x="588948" y="849219"/>
                </a:moveTo>
                <a:lnTo>
                  <a:pt x="588948" y="899895"/>
                </a:lnTo>
                <a:lnTo>
                  <a:pt x="703248" y="899895"/>
                </a:lnTo>
                <a:lnTo>
                  <a:pt x="703248" y="849219"/>
                </a:lnTo>
                <a:lnTo>
                  <a:pt x="588948" y="849219"/>
                </a:lnTo>
                <a:close/>
                <a:moveTo>
                  <a:pt x="421645" y="849219"/>
                </a:moveTo>
                <a:lnTo>
                  <a:pt x="421645" y="899895"/>
                </a:lnTo>
                <a:lnTo>
                  <a:pt x="535945" y="899895"/>
                </a:lnTo>
                <a:lnTo>
                  <a:pt x="535945" y="849219"/>
                </a:lnTo>
                <a:lnTo>
                  <a:pt x="421645" y="849219"/>
                </a:lnTo>
                <a:close/>
                <a:moveTo>
                  <a:pt x="1606125" y="741186"/>
                </a:moveTo>
                <a:lnTo>
                  <a:pt x="1606125" y="791862"/>
                </a:lnTo>
                <a:lnTo>
                  <a:pt x="1720425" y="791862"/>
                </a:lnTo>
                <a:lnTo>
                  <a:pt x="1720425" y="741186"/>
                </a:lnTo>
                <a:lnTo>
                  <a:pt x="1606125" y="741186"/>
                </a:lnTo>
                <a:close/>
                <a:moveTo>
                  <a:pt x="1470548" y="741186"/>
                </a:moveTo>
                <a:lnTo>
                  <a:pt x="1470548" y="791862"/>
                </a:lnTo>
                <a:lnTo>
                  <a:pt x="1584848" y="791862"/>
                </a:lnTo>
                <a:lnTo>
                  <a:pt x="1584848" y="741186"/>
                </a:lnTo>
                <a:lnTo>
                  <a:pt x="1470548" y="741186"/>
                </a:lnTo>
                <a:close/>
                <a:moveTo>
                  <a:pt x="1303245" y="741186"/>
                </a:moveTo>
                <a:lnTo>
                  <a:pt x="1303245" y="791862"/>
                </a:lnTo>
                <a:lnTo>
                  <a:pt x="1417545" y="791862"/>
                </a:lnTo>
                <a:lnTo>
                  <a:pt x="1417545" y="741186"/>
                </a:lnTo>
                <a:lnTo>
                  <a:pt x="1303245" y="741186"/>
                </a:lnTo>
                <a:close/>
                <a:moveTo>
                  <a:pt x="971719" y="741186"/>
                </a:moveTo>
                <a:lnTo>
                  <a:pt x="971719" y="791862"/>
                </a:lnTo>
                <a:lnTo>
                  <a:pt x="1086019" y="791862"/>
                </a:lnTo>
                <a:lnTo>
                  <a:pt x="1086019" y="741186"/>
                </a:lnTo>
                <a:lnTo>
                  <a:pt x="971719" y="741186"/>
                </a:lnTo>
                <a:close/>
                <a:moveTo>
                  <a:pt x="806174" y="741186"/>
                </a:moveTo>
                <a:lnTo>
                  <a:pt x="806174" y="791862"/>
                </a:lnTo>
                <a:lnTo>
                  <a:pt x="920474" y="791862"/>
                </a:lnTo>
                <a:lnTo>
                  <a:pt x="920474" y="741186"/>
                </a:lnTo>
                <a:lnTo>
                  <a:pt x="806174" y="741186"/>
                </a:lnTo>
                <a:close/>
                <a:moveTo>
                  <a:pt x="474648" y="741186"/>
                </a:moveTo>
                <a:lnTo>
                  <a:pt x="474648" y="791862"/>
                </a:lnTo>
                <a:lnTo>
                  <a:pt x="588948" y="791862"/>
                </a:lnTo>
                <a:lnTo>
                  <a:pt x="588948" y="741186"/>
                </a:lnTo>
                <a:lnTo>
                  <a:pt x="474648" y="741186"/>
                </a:lnTo>
                <a:close/>
                <a:moveTo>
                  <a:pt x="307345" y="741186"/>
                </a:moveTo>
                <a:lnTo>
                  <a:pt x="307345" y="791862"/>
                </a:lnTo>
                <a:lnTo>
                  <a:pt x="421645" y="791862"/>
                </a:lnTo>
                <a:lnTo>
                  <a:pt x="421645" y="741186"/>
                </a:lnTo>
                <a:lnTo>
                  <a:pt x="307345" y="741186"/>
                </a:lnTo>
                <a:close/>
                <a:moveTo>
                  <a:pt x="1663275" y="633151"/>
                </a:moveTo>
                <a:lnTo>
                  <a:pt x="1663275" y="683827"/>
                </a:lnTo>
                <a:lnTo>
                  <a:pt x="1777575" y="683827"/>
                </a:lnTo>
                <a:lnTo>
                  <a:pt x="1777575" y="633151"/>
                </a:lnTo>
                <a:lnTo>
                  <a:pt x="1663275" y="633151"/>
                </a:lnTo>
                <a:close/>
                <a:moveTo>
                  <a:pt x="1527698" y="633151"/>
                </a:moveTo>
                <a:lnTo>
                  <a:pt x="1527698" y="683827"/>
                </a:lnTo>
                <a:lnTo>
                  <a:pt x="1641998" y="683827"/>
                </a:lnTo>
                <a:lnTo>
                  <a:pt x="1641998" y="633151"/>
                </a:lnTo>
                <a:lnTo>
                  <a:pt x="1527698" y="633151"/>
                </a:lnTo>
                <a:close/>
                <a:moveTo>
                  <a:pt x="1360395" y="633151"/>
                </a:moveTo>
                <a:lnTo>
                  <a:pt x="1360395" y="683827"/>
                </a:lnTo>
                <a:lnTo>
                  <a:pt x="1474695" y="683827"/>
                </a:lnTo>
                <a:lnTo>
                  <a:pt x="1474695" y="633151"/>
                </a:lnTo>
                <a:lnTo>
                  <a:pt x="1360395" y="633151"/>
                </a:lnTo>
                <a:close/>
                <a:moveTo>
                  <a:pt x="1196172" y="633151"/>
                </a:moveTo>
                <a:lnTo>
                  <a:pt x="1196172" y="683827"/>
                </a:lnTo>
                <a:lnTo>
                  <a:pt x="1310472" y="683827"/>
                </a:lnTo>
                <a:lnTo>
                  <a:pt x="1310472" y="633151"/>
                </a:lnTo>
                <a:lnTo>
                  <a:pt x="1196172" y="633151"/>
                </a:lnTo>
                <a:close/>
                <a:moveTo>
                  <a:pt x="1028869" y="633151"/>
                </a:moveTo>
                <a:lnTo>
                  <a:pt x="1028869" y="683827"/>
                </a:lnTo>
                <a:lnTo>
                  <a:pt x="1143169" y="683827"/>
                </a:lnTo>
                <a:lnTo>
                  <a:pt x="1143169" y="633151"/>
                </a:lnTo>
                <a:lnTo>
                  <a:pt x="1028869" y="633151"/>
                </a:lnTo>
                <a:close/>
                <a:moveTo>
                  <a:pt x="696021" y="633151"/>
                </a:moveTo>
                <a:lnTo>
                  <a:pt x="696021" y="683827"/>
                </a:lnTo>
                <a:lnTo>
                  <a:pt x="810321" y="683827"/>
                </a:lnTo>
                <a:lnTo>
                  <a:pt x="810321" y="633151"/>
                </a:lnTo>
                <a:lnTo>
                  <a:pt x="696021" y="633151"/>
                </a:lnTo>
                <a:close/>
                <a:moveTo>
                  <a:pt x="531798" y="633151"/>
                </a:moveTo>
                <a:lnTo>
                  <a:pt x="531798" y="683827"/>
                </a:lnTo>
                <a:lnTo>
                  <a:pt x="646098" y="683827"/>
                </a:lnTo>
                <a:lnTo>
                  <a:pt x="646098" y="633151"/>
                </a:lnTo>
                <a:lnTo>
                  <a:pt x="531798" y="633151"/>
                </a:lnTo>
                <a:close/>
                <a:moveTo>
                  <a:pt x="364495" y="633151"/>
                </a:moveTo>
                <a:lnTo>
                  <a:pt x="364495" y="683827"/>
                </a:lnTo>
                <a:lnTo>
                  <a:pt x="478795" y="683827"/>
                </a:lnTo>
                <a:lnTo>
                  <a:pt x="478795" y="633151"/>
                </a:lnTo>
                <a:lnTo>
                  <a:pt x="364495" y="633151"/>
                </a:lnTo>
                <a:close/>
                <a:moveTo>
                  <a:pt x="1654380" y="519742"/>
                </a:moveTo>
                <a:lnTo>
                  <a:pt x="1654380" y="570418"/>
                </a:lnTo>
                <a:lnTo>
                  <a:pt x="1768680" y="570418"/>
                </a:lnTo>
                <a:lnTo>
                  <a:pt x="1768680" y="519742"/>
                </a:lnTo>
                <a:lnTo>
                  <a:pt x="1654380" y="519742"/>
                </a:lnTo>
                <a:close/>
                <a:moveTo>
                  <a:pt x="1518803" y="519742"/>
                </a:moveTo>
                <a:lnTo>
                  <a:pt x="1518803" y="570418"/>
                </a:lnTo>
                <a:lnTo>
                  <a:pt x="1633103" y="570418"/>
                </a:lnTo>
                <a:lnTo>
                  <a:pt x="1633103" y="519742"/>
                </a:lnTo>
                <a:lnTo>
                  <a:pt x="1518803" y="519742"/>
                </a:lnTo>
                <a:close/>
                <a:moveTo>
                  <a:pt x="1187277" y="519742"/>
                </a:moveTo>
                <a:lnTo>
                  <a:pt x="1187277" y="570418"/>
                </a:lnTo>
                <a:lnTo>
                  <a:pt x="1301577" y="570418"/>
                </a:lnTo>
                <a:lnTo>
                  <a:pt x="1301577" y="519742"/>
                </a:lnTo>
                <a:lnTo>
                  <a:pt x="1187277" y="519742"/>
                </a:lnTo>
                <a:close/>
                <a:moveTo>
                  <a:pt x="1019974" y="519742"/>
                </a:moveTo>
                <a:lnTo>
                  <a:pt x="1019974" y="570418"/>
                </a:lnTo>
                <a:lnTo>
                  <a:pt x="1134274" y="570418"/>
                </a:lnTo>
                <a:lnTo>
                  <a:pt x="1134274" y="519742"/>
                </a:lnTo>
                <a:lnTo>
                  <a:pt x="1019974" y="519742"/>
                </a:lnTo>
                <a:close/>
                <a:moveTo>
                  <a:pt x="854429" y="519742"/>
                </a:moveTo>
                <a:lnTo>
                  <a:pt x="854429" y="570418"/>
                </a:lnTo>
                <a:lnTo>
                  <a:pt x="968729" y="570418"/>
                </a:lnTo>
                <a:lnTo>
                  <a:pt x="968729" y="519742"/>
                </a:lnTo>
                <a:lnTo>
                  <a:pt x="854429" y="519742"/>
                </a:lnTo>
                <a:close/>
                <a:moveTo>
                  <a:pt x="687126" y="519742"/>
                </a:moveTo>
                <a:lnTo>
                  <a:pt x="687126" y="570418"/>
                </a:lnTo>
                <a:lnTo>
                  <a:pt x="801426" y="570418"/>
                </a:lnTo>
                <a:lnTo>
                  <a:pt x="801426" y="519742"/>
                </a:lnTo>
                <a:lnTo>
                  <a:pt x="687126" y="519742"/>
                </a:lnTo>
                <a:close/>
                <a:moveTo>
                  <a:pt x="355600" y="519742"/>
                </a:moveTo>
                <a:lnTo>
                  <a:pt x="355600" y="570418"/>
                </a:lnTo>
                <a:lnTo>
                  <a:pt x="469900" y="570418"/>
                </a:lnTo>
                <a:lnTo>
                  <a:pt x="469900" y="519742"/>
                </a:lnTo>
                <a:lnTo>
                  <a:pt x="355600" y="519742"/>
                </a:lnTo>
                <a:close/>
                <a:moveTo>
                  <a:pt x="1254479" y="392809"/>
                </a:moveTo>
                <a:lnTo>
                  <a:pt x="1254479" y="443485"/>
                </a:lnTo>
                <a:lnTo>
                  <a:pt x="1368779" y="443485"/>
                </a:lnTo>
                <a:lnTo>
                  <a:pt x="1368779" y="392809"/>
                </a:lnTo>
                <a:lnTo>
                  <a:pt x="1254479" y="392809"/>
                </a:lnTo>
                <a:close/>
                <a:moveTo>
                  <a:pt x="1087176" y="392809"/>
                </a:moveTo>
                <a:lnTo>
                  <a:pt x="1087176" y="443485"/>
                </a:lnTo>
                <a:lnTo>
                  <a:pt x="1201476" y="443485"/>
                </a:lnTo>
                <a:lnTo>
                  <a:pt x="1201476" y="392809"/>
                </a:lnTo>
                <a:lnTo>
                  <a:pt x="1087176" y="392809"/>
                </a:lnTo>
                <a:close/>
                <a:moveTo>
                  <a:pt x="922953" y="392809"/>
                </a:moveTo>
                <a:lnTo>
                  <a:pt x="922953" y="443485"/>
                </a:lnTo>
                <a:lnTo>
                  <a:pt x="1037253" y="443485"/>
                </a:lnTo>
                <a:lnTo>
                  <a:pt x="1037253" y="392809"/>
                </a:lnTo>
                <a:lnTo>
                  <a:pt x="922953" y="392809"/>
                </a:lnTo>
                <a:close/>
                <a:moveTo>
                  <a:pt x="755650" y="392809"/>
                </a:moveTo>
                <a:lnTo>
                  <a:pt x="755650" y="443485"/>
                </a:lnTo>
                <a:lnTo>
                  <a:pt x="869950" y="443485"/>
                </a:lnTo>
                <a:lnTo>
                  <a:pt x="869950" y="392809"/>
                </a:lnTo>
                <a:lnTo>
                  <a:pt x="755650" y="392809"/>
                </a:lnTo>
                <a:close/>
                <a:moveTo>
                  <a:pt x="1254479" y="279400"/>
                </a:moveTo>
                <a:lnTo>
                  <a:pt x="1254479" y="330076"/>
                </a:lnTo>
                <a:lnTo>
                  <a:pt x="1368779" y="330076"/>
                </a:lnTo>
                <a:lnTo>
                  <a:pt x="1368779" y="279400"/>
                </a:lnTo>
                <a:lnTo>
                  <a:pt x="1254479" y="279400"/>
                </a:lnTo>
                <a:close/>
                <a:moveTo>
                  <a:pt x="1087176" y="279400"/>
                </a:moveTo>
                <a:lnTo>
                  <a:pt x="1087176" y="330076"/>
                </a:lnTo>
                <a:lnTo>
                  <a:pt x="1201476" y="330076"/>
                </a:lnTo>
                <a:lnTo>
                  <a:pt x="1201476" y="279400"/>
                </a:lnTo>
                <a:lnTo>
                  <a:pt x="1087176" y="279400"/>
                </a:lnTo>
                <a:close/>
                <a:moveTo>
                  <a:pt x="755650" y="279400"/>
                </a:moveTo>
                <a:lnTo>
                  <a:pt x="755650" y="330076"/>
                </a:lnTo>
                <a:lnTo>
                  <a:pt x="869950" y="330076"/>
                </a:lnTo>
                <a:lnTo>
                  <a:pt x="869950" y="279400"/>
                </a:lnTo>
                <a:lnTo>
                  <a:pt x="755650" y="279400"/>
                </a:lnTo>
                <a:close/>
                <a:moveTo>
                  <a:pt x="1254479" y="177800"/>
                </a:moveTo>
                <a:lnTo>
                  <a:pt x="1254479" y="228476"/>
                </a:lnTo>
                <a:lnTo>
                  <a:pt x="1368779" y="228476"/>
                </a:lnTo>
                <a:lnTo>
                  <a:pt x="1368779" y="177800"/>
                </a:lnTo>
                <a:lnTo>
                  <a:pt x="1254479" y="177800"/>
                </a:lnTo>
                <a:close/>
                <a:moveTo>
                  <a:pt x="922953" y="177800"/>
                </a:moveTo>
                <a:lnTo>
                  <a:pt x="922953" y="228476"/>
                </a:lnTo>
                <a:lnTo>
                  <a:pt x="1037253" y="228476"/>
                </a:lnTo>
                <a:lnTo>
                  <a:pt x="1037253" y="177800"/>
                </a:lnTo>
                <a:lnTo>
                  <a:pt x="922953" y="177800"/>
                </a:lnTo>
                <a:close/>
                <a:moveTo>
                  <a:pt x="755650" y="177800"/>
                </a:moveTo>
                <a:lnTo>
                  <a:pt x="755650" y="228476"/>
                </a:lnTo>
                <a:lnTo>
                  <a:pt x="869950" y="228476"/>
                </a:lnTo>
                <a:lnTo>
                  <a:pt x="869950" y="177800"/>
                </a:lnTo>
                <a:lnTo>
                  <a:pt x="755650" y="177800"/>
                </a:lnTo>
                <a:close/>
                <a:moveTo>
                  <a:pt x="1254479" y="76200"/>
                </a:moveTo>
                <a:lnTo>
                  <a:pt x="1254479" y="126876"/>
                </a:lnTo>
                <a:lnTo>
                  <a:pt x="1368779" y="126876"/>
                </a:lnTo>
                <a:lnTo>
                  <a:pt x="1368779" y="76200"/>
                </a:lnTo>
                <a:lnTo>
                  <a:pt x="1254479" y="76200"/>
                </a:lnTo>
                <a:close/>
                <a:moveTo>
                  <a:pt x="1087176" y="76200"/>
                </a:moveTo>
                <a:lnTo>
                  <a:pt x="1087176" y="126876"/>
                </a:lnTo>
                <a:lnTo>
                  <a:pt x="1201476" y="126876"/>
                </a:lnTo>
                <a:lnTo>
                  <a:pt x="1201476" y="76200"/>
                </a:lnTo>
                <a:lnTo>
                  <a:pt x="1087176" y="76200"/>
                </a:lnTo>
                <a:close/>
                <a:moveTo>
                  <a:pt x="922953" y="76200"/>
                </a:moveTo>
                <a:lnTo>
                  <a:pt x="922953" y="126876"/>
                </a:lnTo>
                <a:lnTo>
                  <a:pt x="1037253" y="126876"/>
                </a:lnTo>
                <a:lnTo>
                  <a:pt x="1037253" y="76200"/>
                </a:lnTo>
                <a:lnTo>
                  <a:pt x="922953" y="76200"/>
                </a:lnTo>
                <a:close/>
                <a:moveTo>
                  <a:pt x="755650" y="76200"/>
                </a:moveTo>
                <a:lnTo>
                  <a:pt x="755650" y="126876"/>
                </a:lnTo>
                <a:lnTo>
                  <a:pt x="869950" y="126876"/>
                </a:lnTo>
                <a:lnTo>
                  <a:pt x="869950" y="76200"/>
                </a:lnTo>
                <a:lnTo>
                  <a:pt x="755650" y="76200"/>
                </a:lnTo>
                <a:close/>
                <a:moveTo>
                  <a:pt x="685800" y="0"/>
                </a:moveTo>
                <a:lnTo>
                  <a:pt x="1447800" y="0"/>
                </a:lnTo>
                <a:lnTo>
                  <a:pt x="1447800" y="453859"/>
                </a:lnTo>
                <a:lnTo>
                  <a:pt x="1815238" y="453859"/>
                </a:lnTo>
                <a:lnTo>
                  <a:pt x="2133600" y="2082891"/>
                </a:lnTo>
                <a:lnTo>
                  <a:pt x="1861699" y="2082891"/>
                </a:lnTo>
                <a:lnTo>
                  <a:pt x="1853108" y="2061678"/>
                </a:lnTo>
                <a:cubicBezTo>
                  <a:pt x="1754524" y="1882098"/>
                  <a:pt x="1521596" y="1745710"/>
                  <a:pt x="1235506" y="1706663"/>
                </a:cubicBezTo>
                <a:lnTo>
                  <a:pt x="1200064" y="1704280"/>
                </a:lnTo>
                <a:lnTo>
                  <a:pt x="1238992" y="1683151"/>
                </a:lnTo>
                <a:cubicBezTo>
                  <a:pt x="1320914" y="1627805"/>
                  <a:pt x="1374775" y="1534079"/>
                  <a:pt x="1374775" y="1427773"/>
                </a:cubicBezTo>
                <a:cubicBezTo>
                  <a:pt x="1374775" y="1257683"/>
                  <a:pt x="1236890" y="1119798"/>
                  <a:pt x="1066800" y="1119798"/>
                </a:cubicBezTo>
                <a:cubicBezTo>
                  <a:pt x="896710" y="1119798"/>
                  <a:pt x="758825" y="1257683"/>
                  <a:pt x="758825" y="1427773"/>
                </a:cubicBezTo>
                <a:cubicBezTo>
                  <a:pt x="758825" y="1534079"/>
                  <a:pt x="812686" y="1627805"/>
                  <a:pt x="894608" y="1683151"/>
                </a:cubicBezTo>
                <a:lnTo>
                  <a:pt x="933537" y="1704280"/>
                </a:lnTo>
                <a:lnTo>
                  <a:pt x="898095" y="1706663"/>
                </a:lnTo>
                <a:cubicBezTo>
                  <a:pt x="612005" y="1745710"/>
                  <a:pt x="379076" y="1882098"/>
                  <a:pt x="280492" y="2061678"/>
                </a:cubicBezTo>
                <a:lnTo>
                  <a:pt x="271901" y="2082891"/>
                </a:lnTo>
                <a:lnTo>
                  <a:pt x="0" y="2082891"/>
                </a:lnTo>
                <a:lnTo>
                  <a:pt x="318362" y="453859"/>
                </a:lnTo>
                <a:lnTo>
                  <a:pt x="685800" y="453859"/>
                </a:lnTo>
                <a:lnTo>
                  <a:pt x="685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custGeom>
            <a:avLst/>
            <a:gdLst/>
            <a:ahLst/>
            <a:rect l="l" t="t" r="r" b="b"/>
            <a:pathLst>
              <a:path w="47131" h="68520">
                <a:moveTo>
                  <a:pt x="47131" y="0"/>
                </a:moveTo>
                <a:lnTo>
                  <a:pt x="0" y="68520"/>
                </a:lnTo>
                <a:lnTo>
                  <a:pt x="849" y="64906"/>
                </a:lnTo>
                <a:cubicBezTo>
                  <a:pt x="6979" y="49590"/>
                  <a:pt x="18681" y="31617"/>
                  <a:pt x="34990" y="12141"/>
                </a:cubicBezTo>
                <a:lnTo>
                  <a:pt x="47131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custGeom>
            <a:avLst/>
            <a:gdLst/>
            <a:ahLst/>
            <a:rect l="l" t="t" r="r" b="b"/>
            <a:pathLst>
              <a:path w="38200" h="55536">
                <a:moveTo>
                  <a:pt x="0" y="0"/>
                </a:moveTo>
                <a:lnTo>
                  <a:pt x="5534" y="5534"/>
                </a:lnTo>
                <a:cubicBezTo>
                  <a:pt x="13688" y="15272"/>
                  <a:pt x="20691" y="24634"/>
                  <a:pt x="26422" y="-32060"/>
                </a:cubicBezTo>
                <a:lnTo>
                  <a:pt x="-27336" y="-10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custGeom>
            <a:avLst/>
            <a:gdLst/>
            <a:ahLst/>
            <a:rect l="l" t="t" r="r" b="b"/>
            <a:pathLst>
              <a:path w="44455" h="4266">
                <a:moveTo>
                  <a:pt x="0" y="0"/>
                </a:moveTo>
                <a:lnTo>
                  <a:pt x="-21081" y="0"/>
                </a:lnTo>
                <a:lnTo>
                  <a:pt x="22566" y="4266"/>
                </a:lnTo>
                <a:cubicBezTo>
                  <a:pt x="14318" y="4257"/>
                  <a:pt x="7204" y="3202"/>
                  <a:pt x="1406" y="1043"/>
                </a:cubicBez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custGeom>
            <a:avLst/>
            <a:gdLst/>
            <a:ahLst/>
            <a:rect l="l" t="t" r="r" b="b"/>
            <a:pathLst>
              <a:path w="31336" h="2679">
                <a:moveTo>
                  <a:pt x="0" y="0"/>
                </a:moveTo>
                <a:lnTo>
                  <a:pt x="31336" y="0"/>
                </a:lnTo>
                <a:lnTo>
                  <a:pt x="13746" y="2679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custGeom>
                <a:avLst/>
                <a:gdLst/>
                <a:ahLst/>
                <a:rect l="l" t="t" r="r" b="b"/>
                <a:pathLst>
                  <a:path w="2618293" h="1266417">
                    <a:moveTo>
                      <a:pt x="2539226" y="1237942"/>
                    </a:moveTo>
                    <a:lnTo>
                      <a:pt x="2539225" y="1237943"/>
                    </a:lnTo>
                    <a:lnTo>
                      <a:pt x="2539225" y="1237942"/>
                    </a:lnTo>
                    <a:lnTo>
                      <a:pt x="2539226" y="1237942"/>
                    </a:lnTo>
                    <a:close/>
                    <a:moveTo>
                      <a:pt x="73664" y="1230975"/>
                    </a:moveTo>
                    <a:lnTo>
                      <a:pt x="73664" y="1230976"/>
                    </a:lnTo>
                    <a:lnTo>
                      <a:pt x="73664" y="1230975"/>
                    </a:lnTo>
                    <a:close/>
                    <a:moveTo>
                      <a:pt x="661662" y="0"/>
                    </a:moveTo>
                    <a:lnTo>
                      <a:pt x="1969734" y="0"/>
                    </a:lnTo>
                    <a:lnTo>
                      <a:pt x="2477315" y="824209"/>
                    </a:lnTo>
                    <a:lnTo>
                      <a:pt x="2589818" y="996294"/>
                    </a:lnTo>
                    <a:lnTo>
                      <a:pt x="2601842" y="1026415"/>
                    </a:lnTo>
                    <a:lnTo>
                      <a:pt x="2611098" y="1041446"/>
                    </a:lnTo>
                    <a:lnTo>
                      <a:pt x="2607842" y="1041446"/>
                    </a:lnTo>
                    <a:lnTo>
                      <a:pt x="2615519" y="1060678"/>
                    </a:lnTo>
                    <a:cubicBezTo>
                      <a:pt x="2623588" y="1105309"/>
                      <a:pt x="2613890" y="1151630"/>
                      <a:pt x="2588595" y="1189276"/>
                    </a:cubicBezTo>
                    <a:lnTo>
                      <a:pt x="2539225" y="1237942"/>
                    </a:lnTo>
                    <a:lnTo>
                      <a:pt x="2474842" y="1263643"/>
                    </a:lnTo>
                    <a:cubicBezTo>
                      <a:pt x="2407896" y="1275748"/>
                      <a:pt x="2337147" y="1247875"/>
                      <a:pt x="2297578" y="1187350"/>
                    </a:cubicBezTo>
                    <a:lnTo>
                      <a:pt x="2202191" y="1041446"/>
                    </a:lnTo>
                    <a:lnTo>
                      <a:pt x="421902" y="1041446"/>
                    </a:lnTo>
                    <a:lnTo>
                      <a:pt x="317035" y="1189455"/>
                    </a:lnTo>
                    <a:cubicBezTo>
                      <a:pt x="275230" y="1248458"/>
                      <a:pt x="203488" y="1273666"/>
                      <a:pt x="137041" y="1259066"/>
                    </a:cubicBezTo>
                    <a:lnTo>
                      <a:pt x="73664" y="1230976"/>
                    </a:lnTo>
                    <a:lnTo>
                      <a:pt x="26149" y="1180497"/>
                    </a:lnTo>
                    <a:cubicBezTo>
                      <a:pt x="-9656" y="1122649"/>
                      <a:pt x="-9661" y="1046608"/>
                      <a:pt x="32144" y="987605"/>
                    </a:cubicBezTo>
                    <a:lnTo>
                      <a:pt x="195069" y="757654"/>
                    </a:lnTo>
                    <a:lnTo>
                      <a:pt x="6616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custGeom>
              <a:avLst/>
              <a:gdLst/>
              <a:ahLst/>
              <a:rect l="l" t="t" r="r" b="b"/>
              <a:pathLst>
                <a:path w="3574748" h="1556557">
                  <a:moveTo>
                    <a:pt x="670236" y="1152533"/>
                  </a:moveTo>
                  <a:lnTo>
                    <a:pt x="670236" y="1237851"/>
                  </a:lnTo>
                  <a:lnTo>
                    <a:pt x="871423" y="1237851"/>
                  </a:lnTo>
                  <a:lnTo>
                    <a:pt x="871423" y="1152533"/>
                  </a:lnTo>
                  <a:lnTo>
                    <a:pt x="670236" y="1152533"/>
                  </a:lnTo>
                  <a:close/>
                  <a:moveTo>
                    <a:pt x="938823" y="1144757"/>
                  </a:moveTo>
                  <a:lnTo>
                    <a:pt x="938823" y="1230075"/>
                  </a:lnTo>
                  <a:lnTo>
                    <a:pt x="1140010" y="1230075"/>
                  </a:lnTo>
                  <a:lnTo>
                    <a:pt x="1140010" y="1144757"/>
                  </a:lnTo>
                  <a:lnTo>
                    <a:pt x="938823" y="1144757"/>
                  </a:lnTo>
                  <a:close/>
                  <a:moveTo>
                    <a:pt x="3008929" y="1039466"/>
                  </a:moveTo>
                  <a:lnTo>
                    <a:pt x="3008929" y="1124784"/>
                  </a:lnTo>
                  <a:lnTo>
                    <a:pt x="3210116" y="1124784"/>
                  </a:lnTo>
                  <a:lnTo>
                    <a:pt x="3210116" y="1039466"/>
                  </a:lnTo>
                  <a:lnTo>
                    <a:pt x="3008929" y="1039466"/>
                  </a:lnTo>
                  <a:close/>
                  <a:moveTo>
                    <a:pt x="2198449" y="1039466"/>
                  </a:moveTo>
                  <a:lnTo>
                    <a:pt x="2198449" y="1124784"/>
                  </a:lnTo>
                  <a:lnTo>
                    <a:pt x="2399636" y="1124784"/>
                  </a:lnTo>
                  <a:lnTo>
                    <a:pt x="2399636" y="1039466"/>
                  </a:lnTo>
                  <a:lnTo>
                    <a:pt x="2198449" y="1039466"/>
                  </a:lnTo>
                  <a:close/>
                  <a:moveTo>
                    <a:pt x="2467036" y="1031690"/>
                  </a:moveTo>
                  <a:lnTo>
                    <a:pt x="2467036" y="1117008"/>
                  </a:lnTo>
                  <a:lnTo>
                    <a:pt x="2668223" y="1117008"/>
                  </a:lnTo>
                  <a:lnTo>
                    <a:pt x="2668223" y="1031690"/>
                  </a:lnTo>
                  <a:lnTo>
                    <a:pt x="2467036" y="1031690"/>
                  </a:lnTo>
                  <a:close/>
                  <a:moveTo>
                    <a:pt x="130301" y="978739"/>
                  </a:moveTo>
                  <a:lnTo>
                    <a:pt x="130301" y="1064057"/>
                  </a:lnTo>
                  <a:lnTo>
                    <a:pt x="331488" y="1064057"/>
                  </a:lnTo>
                  <a:lnTo>
                    <a:pt x="331488" y="978739"/>
                  </a:lnTo>
                  <a:lnTo>
                    <a:pt x="130301" y="978739"/>
                  </a:lnTo>
                  <a:close/>
                  <a:moveTo>
                    <a:pt x="2789397" y="865559"/>
                  </a:moveTo>
                  <a:lnTo>
                    <a:pt x="2789397" y="950877"/>
                  </a:lnTo>
                  <a:lnTo>
                    <a:pt x="2990584" y="950877"/>
                  </a:lnTo>
                  <a:lnTo>
                    <a:pt x="2990584" y="865559"/>
                  </a:lnTo>
                  <a:lnTo>
                    <a:pt x="2789397" y="865559"/>
                  </a:lnTo>
                  <a:close/>
                  <a:moveTo>
                    <a:pt x="2198449" y="865559"/>
                  </a:moveTo>
                  <a:lnTo>
                    <a:pt x="2198449" y="950877"/>
                  </a:lnTo>
                  <a:lnTo>
                    <a:pt x="2399636" y="950877"/>
                  </a:lnTo>
                  <a:lnTo>
                    <a:pt x="2399636" y="865559"/>
                  </a:lnTo>
                  <a:lnTo>
                    <a:pt x="2198449" y="865559"/>
                  </a:lnTo>
                  <a:close/>
                  <a:moveTo>
                    <a:pt x="2467036" y="857783"/>
                  </a:moveTo>
                  <a:lnTo>
                    <a:pt x="2467036" y="943101"/>
                  </a:lnTo>
                  <a:lnTo>
                    <a:pt x="2668223" y="943101"/>
                  </a:lnTo>
                  <a:lnTo>
                    <a:pt x="2668223" y="857783"/>
                  </a:lnTo>
                  <a:lnTo>
                    <a:pt x="2467036" y="857783"/>
                  </a:lnTo>
                  <a:close/>
                  <a:moveTo>
                    <a:pt x="130301" y="836840"/>
                  </a:moveTo>
                  <a:lnTo>
                    <a:pt x="130301" y="922158"/>
                  </a:lnTo>
                  <a:lnTo>
                    <a:pt x="331488" y="922158"/>
                  </a:lnTo>
                  <a:lnTo>
                    <a:pt x="331488" y="836840"/>
                  </a:lnTo>
                  <a:lnTo>
                    <a:pt x="130301" y="836840"/>
                  </a:lnTo>
                  <a:close/>
                  <a:moveTo>
                    <a:pt x="899320" y="740650"/>
                  </a:moveTo>
                  <a:lnTo>
                    <a:pt x="899320" y="825968"/>
                  </a:lnTo>
                  <a:lnTo>
                    <a:pt x="1100507" y="825968"/>
                  </a:lnTo>
                  <a:lnTo>
                    <a:pt x="1100507" y="740650"/>
                  </a:lnTo>
                  <a:lnTo>
                    <a:pt x="899320" y="740650"/>
                  </a:lnTo>
                  <a:close/>
                  <a:moveTo>
                    <a:pt x="1167907" y="732874"/>
                  </a:moveTo>
                  <a:lnTo>
                    <a:pt x="1167907" y="818192"/>
                  </a:lnTo>
                  <a:lnTo>
                    <a:pt x="1369094" y="818192"/>
                  </a:lnTo>
                  <a:lnTo>
                    <a:pt x="1369094" y="732874"/>
                  </a:lnTo>
                  <a:lnTo>
                    <a:pt x="1167907" y="732874"/>
                  </a:lnTo>
                  <a:close/>
                  <a:moveTo>
                    <a:pt x="2198449" y="720634"/>
                  </a:moveTo>
                  <a:lnTo>
                    <a:pt x="2198449" y="805952"/>
                  </a:lnTo>
                  <a:lnTo>
                    <a:pt x="2399636" y="805952"/>
                  </a:lnTo>
                  <a:lnTo>
                    <a:pt x="2399636" y="720634"/>
                  </a:lnTo>
                  <a:lnTo>
                    <a:pt x="2198449" y="720634"/>
                  </a:lnTo>
                  <a:close/>
                  <a:moveTo>
                    <a:pt x="2467036" y="712858"/>
                  </a:moveTo>
                  <a:lnTo>
                    <a:pt x="2467036" y="798176"/>
                  </a:lnTo>
                  <a:lnTo>
                    <a:pt x="2668223" y="798176"/>
                  </a:lnTo>
                  <a:lnTo>
                    <a:pt x="2668223" y="712858"/>
                  </a:lnTo>
                  <a:lnTo>
                    <a:pt x="2467036" y="712858"/>
                  </a:lnTo>
                  <a:close/>
                  <a:moveTo>
                    <a:pt x="130301" y="675249"/>
                  </a:moveTo>
                  <a:lnTo>
                    <a:pt x="130301" y="760567"/>
                  </a:lnTo>
                  <a:lnTo>
                    <a:pt x="331488" y="760567"/>
                  </a:lnTo>
                  <a:lnTo>
                    <a:pt x="331488" y="675249"/>
                  </a:lnTo>
                  <a:lnTo>
                    <a:pt x="130301" y="675249"/>
                  </a:lnTo>
                  <a:close/>
                  <a:moveTo>
                    <a:pt x="2198449" y="583674"/>
                  </a:moveTo>
                  <a:lnTo>
                    <a:pt x="2198449" y="668992"/>
                  </a:lnTo>
                  <a:lnTo>
                    <a:pt x="2399636" y="668992"/>
                  </a:lnTo>
                  <a:lnTo>
                    <a:pt x="2399636" y="583674"/>
                  </a:lnTo>
                  <a:lnTo>
                    <a:pt x="2198449" y="583674"/>
                  </a:lnTo>
                  <a:close/>
                  <a:moveTo>
                    <a:pt x="2467036" y="575898"/>
                  </a:moveTo>
                  <a:lnTo>
                    <a:pt x="2467036" y="661216"/>
                  </a:lnTo>
                  <a:lnTo>
                    <a:pt x="2668223" y="661216"/>
                  </a:lnTo>
                  <a:lnTo>
                    <a:pt x="2668223" y="575898"/>
                  </a:lnTo>
                  <a:lnTo>
                    <a:pt x="2467036" y="575898"/>
                  </a:lnTo>
                  <a:close/>
                  <a:moveTo>
                    <a:pt x="3023843" y="559365"/>
                  </a:moveTo>
                  <a:lnTo>
                    <a:pt x="3023843" y="644683"/>
                  </a:lnTo>
                  <a:lnTo>
                    <a:pt x="3225030" y="644683"/>
                  </a:lnTo>
                  <a:lnTo>
                    <a:pt x="3225030" y="559365"/>
                  </a:lnTo>
                  <a:lnTo>
                    <a:pt x="3023843" y="559365"/>
                  </a:lnTo>
                  <a:close/>
                  <a:moveTo>
                    <a:pt x="134855" y="513658"/>
                  </a:moveTo>
                  <a:lnTo>
                    <a:pt x="134855" y="598976"/>
                  </a:lnTo>
                  <a:lnTo>
                    <a:pt x="336042" y="598976"/>
                  </a:lnTo>
                  <a:lnTo>
                    <a:pt x="336042" y="513658"/>
                  </a:lnTo>
                  <a:lnTo>
                    <a:pt x="134855" y="513658"/>
                  </a:lnTo>
                  <a:close/>
                  <a:moveTo>
                    <a:pt x="134855" y="347963"/>
                  </a:moveTo>
                  <a:lnTo>
                    <a:pt x="134855" y="433281"/>
                  </a:lnTo>
                  <a:lnTo>
                    <a:pt x="336042" y="433281"/>
                  </a:lnTo>
                  <a:lnTo>
                    <a:pt x="336042" y="347963"/>
                  </a:lnTo>
                  <a:lnTo>
                    <a:pt x="134855" y="347963"/>
                  </a:lnTo>
                  <a:close/>
                  <a:moveTo>
                    <a:pt x="1104379" y="318396"/>
                  </a:moveTo>
                  <a:lnTo>
                    <a:pt x="1104379" y="403714"/>
                  </a:lnTo>
                  <a:lnTo>
                    <a:pt x="1305566" y="403714"/>
                  </a:lnTo>
                  <a:lnTo>
                    <a:pt x="1305566" y="318396"/>
                  </a:lnTo>
                  <a:lnTo>
                    <a:pt x="1104379" y="318396"/>
                  </a:lnTo>
                  <a:close/>
                  <a:moveTo>
                    <a:pt x="1104380" y="142738"/>
                  </a:moveTo>
                  <a:lnTo>
                    <a:pt x="1104380" y="228056"/>
                  </a:lnTo>
                  <a:lnTo>
                    <a:pt x="1305567" y="228056"/>
                  </a:lnTo>
                  <a:lnTo>
                    <a:pt x="1305567" y="142738"/>
                  </a:lnTo>
                  <a:lnTo>
                    <a:pt x="1104380" y="142738"/>
                  </a:lnTo>
                  <a:close/>
                  <a:moveTo>
                    <a:pt x="942223" y="0"/>
                  </a:moveTo>
                  <a:lnTo>
                    <a:pt x="1435141" y="0"/>
                  </a:lnTo>
                  <a:lnTo>
                    <a:pt x="1435141" y="616233"/>
                  </a:lnTo>
                  <a:lnTo>
                    <a:pt x="1853445" y="616233"/>
                  </a:lnTo>
                  <a:lnTo>
                    <a:pt x="1853445" y="908218"/>
                  </a:lnTo>
                  <a:lnTo>
                    <a:pt x="2036161" y="908218"/>
                  </a:lnTo>
                  <a:lnTo>
                    <a:pt x="2036161" y="433281"/>
                  </a:lnTo>
                  <a:lnTo>
                    <a:pt x="2453882" y="433281"/>
                  </a:lnTo>
                  <a:lnTo>
                    <a:pt x="2453882" y="103152"/>
                  </a:lnTo>
                  <a:lnTo>
                    <a:pt x="2946800" y="103152"/>
                  </a:lnTo>
                  <a:lnTo>
                    <a:pt x="2946800" y="316662"/>
                  </a:lnTo>
                  <a:lnTo>
                    <a:pt x="3347033" y="316662"/>
                  </a:lnTo>
                  <a:lnTo>
                    <a:pt x="3347033" y="908218"/>
                  </a:lnTo>
                  <a:lnTo>
                    <a:pt x="3574748" y="908218"/>
                  </a:lnTo>
                  <a:lnTo>
                    <a:pt x="3574748" y="1556557"/>
                  </a:lnTo>
                  <a:lnTo>
                    <a:pt x="0" y="1556557"/>
                  </a:lnTo>
                  <a:lnTo>
                    <a:pt x="0" y="908218"/>
                  </a:lnTo>
                  <a:lnTo>
                    <a:pt x="866" y="908218"/>
                  </a:lnTo>
                  <a:lnTo>
                    <a:pt x="866" y="235301"/>
                  </a:lnTo>
                  <a:lnTo>
                    <a:pt x="493784" y="235301"/>
                  </a:lnTo>
                  <a:lnTo>
                    <a:pt x="493784" y="908218"/>
                  </a:lnTo>
                  <a:lnTo>
                    <a:pt x="719899" y="908218"/>
                  </a:lnTo>
                  <a:lnTo>
                    <a:pt x="719899" y="616233"/>
                  </a:lnTo>
                  <a:lnTo>
                    <a:pt x="942223" y="616233"/>
                  </a:lnTo>
                  <a:lnTo>
                    <a:pt x="9422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custGeom>
            <a:avLst/>
            <a:gdLst/>
            <a:ahLst/>
            <a:rect l="l" t="t" r="r" b="b"/>
            <a:pathLst>
              <a:path w="2276552" h="2231118">
                <a:moveTo>
                  <a:pt x="750891" y="0"/>
                </a:moveTo>
                <a:lnTo>
                  <a:pt x="1323477" y="0"/>
                </a:lnTo>
                <a:lnTo>
                  <a:pt x="1323477" y="398569"/>
                </a:lnTo>
                <a:lnTo>
                  <a:pt x="1519405" y="398569"/>
                </a:lnTo>
                <a:lnTo>
                  <a:pt x="1519405" y="285592"/>
                </a:lnTo>
                <a:lnTo>
                  <a:pt x="2091991" y="285592"/>
                </a:lnTo>
                <a:lnTo>
                  <a:pt x="2091991" y="1288501"/>
                </a:lnTo>
                <a:lnTo>
                  <a:pt x="2276552" y="1288501"/>
                </a:lnTo>
                <a:lnTo>
                  <a:pt x="2276552" y="2231118"/>
                </a:lnTo>
                <a:lnTo>
                  <a:pt x="1369866" y="2231118"/>
                </a:lnTo>
                <a:lnTo>
                  <a:pt x="1369866" y="1883954"/>
                </a:lnTo>
                <a:lnTo>
                  <a:pt x="1152311" y="1680897"/>
                </a:lnTo>
                <a:lnTo>
                  <a:pt x="1128022" y="1680897"/>
                </a:lnTo>
                <a:lnTo>
                  <a:pt x="1128022" y="1460733"/>
                </a:lnTo>
                <a:lnTo>
                  <a:pt x="904978" y="1100731"/>
                </a:lnTo>
                <a:lnTo>
                  <a:pt x="850619" y="1137381"/>
                </a:lnTo>
                <a:cubicBezTo>
                  <a:pt x="805157" y="1182843"/>
                  <a:pt x="777036" y="1245651"/>
                  <a:pt x="777036" y="1315025"/>
                </a:cubicBezTo>
                <a:lnTo>
                  <a:pt x="777036" y="1485300"/>
                </a:lnTo>
                <a:lnTo>
                  <a:pt x="693872" y="1540367"/>
                </a:lnTo>
                <a:lnTo>
                  <a:pt x="777036" y="1540367"/>
                </a:lnTo>
                <a:lnTo>
                  <a:pt x="777036" y="1676074"/>
                </a:lnTo>
                <a:cubicBezTo>
                  <a:pt x="777036" y="1814823"/>
                  <a:pt x="889515" y="1927302"/>
                  <a:pt x="1028264" y="1927302"/>
                </a:cubicBezTo>
                <a:lnTo>
                  <a:pt x="1085466" y="1927302"/>
                </a:lnTo>
                <a:lnTo>
                  <a:pt x="1085466" y="2231118"/>
                </a:lnTo>
                <a:lnTo>
                  <a:pt x="5796" y="2231118"/>
                </a:lnTo>
                <a:lnTo>
                  <a:pt x="5796" y="1888286"/>
                </a:lnTo>
                <a:lnTo>
                  <a:pt x="0" y="1888286"/>
                </a:lnTo>
                <a:lnTo>
                  <a:pt x="0" y="945669"/>
                </a:lnTo>
                <a:lnTo>
                  <a:pt x="126240" y="945669"/>
                </a:lnTo>
                <a:lnTo>
                  <a:pt x="126240" y="471258"/>
                </a:lnTo>
                <a:lnTo>
                  <a:pt x="698826" y="471258"/>
                </a:lnTo>
                <a:lnTo>
                  <a:pt x="698826" y="602837"/>
                </a:lnTo>
                <a:lnTo>
                  <a:pt x="750891" y="602837"/>
                </a:lnTo>
                <a:lnTo>
                  <a:pt x="7508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custGeom>
              <a:avLst/>
              <a:gdLst/>
              <a:ahLst/>
              <a:rect l="l" t="t" r="r" b="b"/>
              <a:pathLst>
                <a:path w="2133600" h="1480457">
                  <a:moveTo>
                    <a:pt x="1005114" y="914401"/>
                  </a:moveTo>
                  <a:lnTo>
                    <a:pt x="943428" y="1262744"/>
                  </a:lnTo>
                  <a:lnTo>
                    <a:pt x="1190171" y="1262744"/>
                  </a:lnTo>
                  <a:lnTo>
                    <a:pt x="1128485" y="914401"/>
                  </a:lnTo>
                  <a:lnTo>
                    <a:pt x="1005114" y="914401"/>
                  </a:lnTo>
                  <a:close/>
                  <a:moveTo>
                    <a:pt x="1689758" y="865885"/>
                  </a:moveTo>
                  <a:lnTo>
                    <a:pt x="1568583" y="889058"/>
                  </a:lnTo>
                  <a:lnTo>
                    <a:pt x="1573425" y="1242787"/>
                  </a:lnTo>
                  <a:lnTo>
                    <a:pt x="1815776" y="1196441"/>
                  </a:lnTo>
                  <a:lnTo>
                    <a:pt x="1689758" y="865885"/>
                  </a:lnTo>
                  <a:close/>
                  <a:moveTo>
                    <a:pt x="419060" y="853141"/>
                  </a:moveTo>
                  <a:lnTo>
                    <a:pt x="295123" y="1184482"/>
                  </a:lnTo>
                  <a:lnTo>
                    <a:pt x="537760" y="1229304"/>
                  </a:lnTo>
                  <a:lnTo>
                    <a:pt x="540379" y="875552"/>
                  </a:lnTo>
                  <a:lnTo>
                    <a:pt x="419060" y="853141"/>
                  </a:lnTo>
                  <a:close/>
                  <a:moveTo>
                    <a:pt x="1066800" y="0"/>
                  </a:moveTo>
                  <a:cubicBezTo>
                    <a:pt x="1655977" y="0"/>
                    <a:pt x="2133600" y="157178"/>
                    <a:pt x="2133600" y="351068"/>
                  </a:cubicBezTo>
                  <a:lnTo>
                    <a:pt x="2133600" y="1129389"/>
                  </a:lnTo>
                  <a:cubicBezTo>
                    <a:pt x="2133600" y="1323279"/>
                    <a:pt x="1655977" y="1480457"/>
                    <a:pt x="1066800" y="1480457"/>
                  </a:cubicBezTo>
                  <a:cubicBezTo>
                    <a:pt x="477623" y="1480457"/>
                    <a:pt x="0" y="1323279"/>
                    <a:pt x="0" y="1129389"/>
                  </a:cubicBezTo>
                  <a:lnTo>
                    <a:pt x="0" y="351068"/>
                  </a:lnTo>
                  <a:cubicBezTo>
                    <a:pt x="0" y="157178"/>
                    <a:pt x="477623" y="0"/>
                    <a:pt x="1066800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custGeom>
              <a:avLst/>
              <a:gdLst/>
              <a:ahLst/>
              <a:rect l="l" t="t" r="r" b="b"/>
              <a:pathLst>
                <a:path w="2452914" h="1466019">
                  <a:moveTo>
                    <a:pt x="2039258" y="722161"/>
                  </a:moveTo>
                  <a:cubicBezTo>
                    <a:pt x="1955090" y="722161"/>
                    <a:pt x="1886858" y="790393"/>
                    <a:pt x="1886858" y="874561"/>
                  </a:cubicBezTo>
                  <a:cubicBezTo>
                    <a:pt x="1886858" y="958729"/>
                    <a:pt x="1955090" y="1026961"/>
                    <a:pt x="2039258" y="1026961"/>
                  </a:cubicBezTo>
                  <a:cubicBezTo>
                    <a:pt x="2123426" y="1026961"/>
                    <a:pt x="2191658" y="958729"/>
                    <a:pt x="2191658" y="874561"/>
                  </a:cubicBezTo>
                  <a:cubicBezTo>
                    <a:pt x="2191658" y="790393"/>
                    <a:pt x="2123426" y="722161"/>
                    <a:pt x="2039258" y="722161"/>
                  </a:cubicBezTo>
                  <a:close/>
                  <a:moveTo>
                    <a:pt x="471714" y="722161"/>
                  </a:moveTo>
                  <a:cubicBezTo>
                    <a:pt x="387546" y="722161"/>
                    <a:pt x="319314" y="790393"/>
                    <a:pt x="319314" y="874561"/>
                  </a:cubicBezTo>
                  <a:cubicBezTo>
                    <a:pt x="319314" y="958729"/>
                    <a:pt x="387546" y="1026961"/>
                    <a:pt x="471714" y="1026961"/>
                  </a:cubicBezTo>
                  <a:cubicBezTo>
                    <a:pt x="555882" y="1026961"/>
                    <a:pt x="624114" y="958729"/>
                    <a:pt x="624114" y="874561"/>
                  </a:cubicBezTo>
                  <a:cubicBezTo>
                    <a:pt x="624114" y="790393"/>
                    <a:pt x="555882" y="722161"/>
                    <a:pt x="471714" y="722161"/>
                  </a:cubicBezTo>
                  <a:close/>
                  <a:moveTo>
                    <a:pt x="684626" y="58728"/>
                  </a:moveTo>
                  <a:lnTo>
                    <a:pt x="565032" y="537103"/>
                  </a:lnTo>
                  <a:lnTo>
                    <a:pt x="1931424" y="537103"/>
                  </a:lnTo>
                  <a:lnTo>
                    <a:pt x="1811830" y="58728"/>
                  </a:lnTo>
                  <a:lnTo>
                    <a:pt x="684626" y="58728"/>
                  </a:lnTo>
                  <a:close/>
                  <a:moveTo>
                    <a:pt x="574101" y="0"/>
                  </a:moveTo>
                  <a:lnTo>
                    <a:pt x="1922356" y="0"/>
                  </a:lnTo>
                  <a:lnTo>
                    <a:pt x="2056632" y="537103"/>
                  </a:lnTo>
                  <a:lnTo>
                    <a:pt x="2089542" y="537103"/>
                  </a:lnTo>
                  <a:cubicBezTo>
                    <a:pt x="2290227" y="537103"/>
                    <a:pt x="2452914" y="699790"/>
                    <a:pt x="2452914" y="900475"/>
                  </a:cubicBezTo>
                  <a:lnTo>
                    <a:pt x="2452914" y="960574"/>
                  </a:lnTo>
                  <a:cubicBezTo>
                    <a:pt x="2452914" y="1010745"/>
                    <a:pt x="2442746" y="1058542"/>
                    <a:pt x="2424359" y="1102015"/>
                  </a:cubicBezTo>
                  <a:lnTo>
                    <a:pt x="2396466" y="1153404"/>
                  </a:lnTo>
                  <a:lnTo>
                    <a:pt x="2152367" y="1153404"/>
                  </a:lnTo>
                  <a:lnTo>
                    <a:pt x="2155373" y="1160662"/>
                  </a:lnTo>
                  <a:lnTo>
                    <a:pt x="2155373" y="1415217"/>
                  </a:lnTo>
                  <a:cubicBezTo>
                    <a:pt x="2155373" y="1443274"/>
                    <a:pt x="2132629" y="1466018"/>
                    <a:pt x="2104572" y="1466018"/>
                  </a:cubicBezTo>
                  <a:lnTo>
                    <a:pt x="1901374" y="1466018"/>
                  </a:lnTo>
                  <a:cubicBezTo>
                    <a:pt x="1873317" y="1466018"/>
                    <a:pt x="1850573" y="1443274"/>
                    <a:pt x="1850573" y="1415217"/>
                  </a:cubicBezTo>
                  <a:lnTo>
                    <a:pt x="1850573" y="1160662"/>
                  </a:lnTo>
                  <a:lnTo>
                    <a:pt x="1853580" y="1153404"/>
                  </a:lnTo>
                  <a:lnTo>
                    <a:pt x="621107" y="1153404"/>
                  </a:lnTo>
                  <a:lnTo>
                    <a:pt x="624114" y="1160663"/>
                  </a:lnTo>
                  <a:lnTo>
                    <a:pt x="624114" y="1415218"/>
                  </a:lnTo>
                  <a:cubicBezTo>
                    <a:pt x="624114" y="1443275"/>
                    <a:pt x="601370" y="1466019"/>
                    <a:pt x="573313" y="1466019"/>
                  </a:cubicBezTo>
                  <a:lnTo>
                    <a:pt x="370115" y="1466019"/>
                  </a:lnTo>
                  <a:cubicBezTo>
                    <a:pt x="342058" y="1466019"/>
                    <a:pt x="319314" y="1443275"/>
                    <a:pt x="319314" y="1415218"/>
                  </a:cubicBezTo>
                  <a:lnTo>
                    <a:pt x="319314" y="1160663"/>
                  </a:lnTo>
                  <a:lnTo>
                    <a:pt x="322321" y="1153404"/>
                  </a:lnTo>
                  <a:lnTo>
                    <a:pt x="56449" y="1153404"/>
                  </a:lnTo>
                  <a:lnTo>
                    <a:pt x="28556" y="1102015"/>
                  </a:lnTo>
                  <a:cubicBezTo>
                    <a:pt x="10168" y="1058542"/>
                    <a:pt x="0" y="1010745"/>
                    <a:pt x="0" y="960574"/>
                  </a:cubicBezTo>
                  <a:lnTo>
                    <a:pt x="0" y="900475"/>
                  </a:lnTo>
                  <a:cubicBezTo>
                    <a:pt x="0" y="699790"/>
                    <a:pt x="162687" y="537103"/>
                    <a:pt x="363372" y="537103"/>
                  </a:cubicBezTo>
                  <a:lnTo>
                    <a:pt x="439825" y="537103"/>
                  </a:lnTo>
                  <a:lnTo>
                    <a:pt x="5741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custGeom>
              <a:avLst/>
              <a:gdLst/>
              <a:ahLst/>
              <a:rect l="l" t="t" r="r" b="b"/>
              <a:pathLst>
                <a:path w="1404185" h="3717757">
                  <a:moveTo>
                    <a:pt x="703514" y="184150"/>
                  </a:moveTo>
                  <a:cubicBezTo>
                    <a:pt x="634160" y="184150"/>
                    <a:pt x="577938" y="223864"/>
                    <a:pt x="577938" y="272852"/>
                  </a:cubicBezTo>
                  <a:cubicBezTo>
                    <a:pt x="577938" y="297346"/>
                    <a:pt x="591994" y="319522"/>
                    <a:pt x="614719" y="335573"/>
                  </a:cubicBezTo>
                  <a:lnTo>
                    <a:pt x="639676" y="347459"/>
                  </a:lnTo>
                  <a:lnTo>
                    <a:pt x="577939" y="1222436"/>
                  </a:lnTo>
                  <a:lnTo>
                    <a:pt x="703514" y="1439778"/>
                  </a:lnTo>
                  <a:lnTo>
                    <a:pt x="829090" y="1222436"/>
                  </a:lnTo>
                  <a:lnTo>
                    <a:pt x="767353" y="347459"/>
                  </a:lnTo>
                  <a:lnTo>
                    <a:pt x="792310" y="335573"/>
                  </a:lnTo>
                  <a:cubicBezTo>
                    <a:pt x="815036" y="319522"/>
                    <a:pt x="829091" y="297346"/>
                    <a:pt x="829091" y="272852"/>
                  </a:cubicBezTo>
                  <a:cubicBezTo>
                    <a:pt x="829091" y="223864"/>
                    <a:pt x="772869" y="184150"/>
                    <a:pt x="703514" y="184150"/>
                  </a:cubicBezTo>
                  <a:close/>
                  <a:moveTo>
                    <a:pt x="234035" y="0"/>
                  </a:moveTo>
                  <a:lnTo>
                    <a:pt x="1170149" y="0"/>
                  </a:lnTo>
                  <a:cubicBezTo>
                    <a:pt x="1299403" y="0"/>
                    <a:pt x="1404184" y="104781"/>
                    <a:pt x="1404184" y="234035"/>
                  </a:cubicBezTo>
                  <a:lnTo>
                    <a:pt x="1404184" y="1774647"/>
                  </a:lnTo>
                  <a:lnTo>
                    <a:pt x="1404185" y="1774657"/>
                  </a:lnTo>
                  <a:lnTo>
                    <a:pt x="1404185" y="3489157"/>
                  </a:lnTo>
                  <a:cubicBezTo>
                    <a:pt x="1404185" y="3615409"/>
                    <a:pt x="1301837" y="3717757"/>
                    <a:pt x="1175585" y="3717757"/>
                  </a:cubicBezTo>
                  <a:cubicBezTo>
                    <a:pt x="1049333" y="3717757"/>
                    <a:pt x="946985" y="3615409"/>
                    <a:pt x="946985" y="3489157"/>
                  </a:cubicBezTo>
                  <a:lnTo>
                    <a:pt x="946985" y="2071687"/>
                  </a:lnTo>
                  <a:lnTo>
                    <a:pt x="468126" y="2071687"/>
                  </a:lnTo>
                  <a:lnTo>
                    <a:pt x="468126" y="3480687"/>
                  </a:lnTo>
                  <a:cubicBezTo>
                    <a:pt x="468126" y="3609956"/>
                    <a:pt x="363332" y="3714750"/>
                    <a:pt x="234063" y="3714750"/>
                  </a:cubicBezTo>
                  <a:cubicBezTo>
                    <a:pt x="104794" y="3714750"/>
                    <a:pt x="0" y="3609956"/>
                    <a:pt x="0" y="3480687"/>
                  </a:cubicBezTo>
                  <a:lnTo>
                    <a:pt x="0" y="1837652"/>
                  </a:lnTo>
                  <a:lnTo>
                    <a:pt x="0" y="1777113"/>
                  </a:lnTo>
                  <a:lnTo>
                    <a:pt x="0" y="234035"/>
                  </a:lnTo>
                  <a:cubicBezTo>
                    <a:pt x="0" y="104781"/>
                    <a:pt x="104781" y="0"/>
                    <a:pt x="234035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5Z</dcterms:modified>
  <cp:revision>76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