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BEE-B738-4608-9BF6-BD76BF7F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CEB-C5B7-434A-A325-34037694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447A-5E60-4AB6-8C57-40631BC8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A1B6-C3D2-4CFE-B596-13BD0D85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4F9F-22ED-4511-8D9A-15EF8808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CF2F-BBFD-4D9B-96BC-783138BE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2737-A319-41C5-B749-749B615C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3C03-74A2-4FF0-80E5-87AFA5F6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7D17-4CE9-43B4-8D10-A786E70B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7406-1C54-4876-B906-6CC2A773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2023-2183-4F07-B7E8-CBB33758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1F0E-CB04-47C9-BE69-3A2391AE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BE1B-F9DA-4159-BD35-52D1D307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6E27-BED0-4FF8-B749-550CA24E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62CB-93D9-429C-A866-C3848AF8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5411-5E7B-4CF7-92CA-54B50237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B08F-0E61-4756-950F-3B704F8E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9DD6A-D43B-48BB-B989-8733AC52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2DD53-46E7-43BE-BFE6-B56F965E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8E09A-4DDE-4732-9E4C-D62FE982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FA8F3-362F-4075-BDD0-19165ADC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1577C-BAB3-4AD2-AD72-59EEBDF1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DD2-B332-4737-B095-6E134058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950A3-1098-47DD-AFE8-3FEEE773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A6BD7-A72D-4E05-9636-000F2F63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66E59-EA28-4385-BD97-26D2C916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816F1-2AAF-4C1B-B04B-C41C297F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1DD01-57BE-4FE4-8827-1110E5E7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3143D-E79A-4498-9514-61E027D0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ADBF7-F0CE-41F5-9F84-9EA0ED71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A0D-3273-4153-9CE3-4ED478BD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70E8-386B-48F2-86D4-75584FA5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532B-0319-435D-AB90-08B3695D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F454-6E8B-4A8D-AB07-567F4A74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4238-68E9-4C95-8A71-EF256E11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0AF-A23E-4190-9129-60829A3C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120E-A9C1-4F63-A0BE-A53F49698B2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216000" y="944640"/>
            <a:ext cx="11760120" cy="5742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383560" y="351360"/>
            <a:ext cx="670680" cy="670680"/>
            <a:chOff x="11383560" y="351360"/>
            <a:chExt cx="670680" cy="670680"/>
          </a:xfrm>
        </p:grpSpPr>
        <p:sp>
          <p:nvSpPr>
            <p:cNvPr id="44" name="矩形 9"/>
            <p:cNvSpPr/>
            <p:nvPr/>
          </p:nvSpPr>
          <p:spPr>
            <a:xfrm>
              <a:off x="11461680" y="428760"/>
              <a:ext cx="514440" cy="5158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十字形 10"/>
            <p:cNvSpPr/>
            <p:nvPr/>
          </p:nvSpPr>
          <p:spPr>
            <a:xfrm rot="2700000">
              <a:off x="11481120" y="449640"/>
              <a:ext cx="474840" cy="473400"/>
            </a:xfrm>
            <a:prstGeom prst="plus">
              <a:avLst>
                <a:gd name="adj" fmla="val 4424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3FD1-FC56-4552-A381-33D913C4AEB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E67C-CA5D-426C-942C-3E98AD22FDB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-3240" y="-6480"/>
            <a:ext cx="12201480" cy="6872400"/>
            <a:chOff x="-3240" y="-6480"/>
            <a:chExt cx="12201480" cy="6872400"/>
          </a:xfrm>
        </p:grpSpPr>
        <p:sp>
          <p:nvSpPr>
            <p:cNvPr id="130" name="矩形 5"/>
            <p:cNvSpPr/>
            <p:nvPr/>
          </p:nvSpPr>
          <p:spPr>
            <a:xfrm>
              <a:off x="5755320" y="2880"/>
              <a:ext cx="6429960" cy="3437640"/>
            </a:xfrm>
            <a:custGeom>
              <a:avLst/>
              <a:gdLst/>
              <a:ahLst/>
              <a:rect l="l" t="t" r="r" b="b"/>
              <a:pathLst>
                <a:path w="7834489" h="3437466">
                  <a:moveTo>
                    <a:pt x="2246489" y="0"/>
                  </a:moveTo>
                  <a:lnTo>
                    <a:pt x="7834489" y="5644"/>
                  </a:lnTo>
                  <a:lnTo>
                    <a:pt x="7834489" y="3437466"/>
                  </a:lnTo>
                  <a:lnTo>
                    <a:pt x="0" y="3437466"/>
                  </a:lnTo>
                  <a:lnTo>
                    <a:pt x="2246489" y="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4171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矩形 3"/>
            <p:cNvSpPr/>
            <p:nvPr/>
          </p:nvSpPr>
          <p:spPr>
            <a:xfrm>
              <a:off x="-3240" y="3432960"/>
              <a:ext cx="6103080" cy="3432960"/>
            </a:xfrm>
            <a:custGeom>
              <a:avLst/>
              <a:gdLst/>
              <a:ahLst/>
              <a:rect l="l" t="t" r="r" b="b"/>
              <a:pathLst>
                <a:path w="7437649" h="3434438">
                  <a:moveTo>
                    <a:pt x="0" y="12019"/>
                  </a:moveTo>
                  <a:lnTo>
                    <a:pt x="7437649" y="0"/>
                  </a:lnTo>
                  <a:lnTo>
                    <a:pt x="5390411" y="3434438"/>
                  </a:lnTo>
                  <a:lnTo>
                    <a:pt x="5256" y="3426532"/>
                  </a:lnTo>
                  <a:cubicBezTo>
                    <a:pt x="5256" y="2290757"/>
                    <a:pt x="0" y="1147794"/>
                    <a:pt x="0" y="12019"/>
                  </a:cubicBezTo>
                  <a:close/>
                </a:path>
              </a:pathLst>
            </a:custGeom>
            <a:solidFill>
              <a:srgbClr val="f92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任意多边形 9"/>
            <p:cNvSpPr/>
            <p:nvPr/>
          </p:nvSpPr>
          <p:spPr>
            <a:xfrm>
              <a:off x="4422240" y="3440880"/>
              <a:ext cx="7776000" cy="3420360"/>
            </a:xfrm>
            <a:custGeom>
              <a:avLst/>
              <a:gdLst/>
              <a:ahLst/>
              <a:rect l="l" t="t" r="r" b="b"/>
              <a:pathLst>
                <a:path w="9476078" h="3421570">
                  <a:moveTo>
                    <a:pt x="2038387" y="0"/>
                  </a:moveTo>
                  <a:lnTo>
                    <a:pt x="9476078" y="0"/>
                  </a:lnTo>
                  <a:lnTo>
                    <a:pt x="9476078" y="3416177"/>
                  </a:lnTo>
                  <a:lnTo>
                    <a:pt x="0" y="3421570"/>
                  </a:lnTo>
                  <a:lnTo>
                    <a:pt x="2038387" y="0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矩形 2"/>
            <p:cNvSpPr/>
            <p:nvPr/>
          </p:nvSpPr>
          <p:spPr>
            <a:xfrm>
              <a:off x="-3240" y="-6480"/>
              <a:ext cx="7788960" cy="3450600"/>
            </a:xfrm>
            <a:custGeom>
              <a:avLst/>
              <a:gdLst/>
              <a:ahLst/>
              <a:rect l="l" t="t" r="r" b="b"/>
              <a:pathLst>
                <a:path w="9489339" h="3448728">
                  <a:moveTo>
                    <a:pt x="0" y="11465"/>
                  </a:moveTo>
                  <a:lnTo>
                    <a:pt x="9489339" y="0"/>
                  </a:lnTo>
                  <a:lnTo>
                    <a:pt x="7439890" y="3438400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0" y="0"/>
            <a:ext cx="12198240" cy="6858000"/>
            <a:chOff x="0" y="0"/>
            <a:chExt cx="12198240" cy="6858000"/>
          </a:xfrm>
        </p:grpSpPr>
        <p:sp>
          <p:nvSpPr>
            <p:cNvPr id="135" name="矩形 5"/>
            <p:cNvSpPr/>
            <p:nvPr/>
          </p:nvSpPr>
          <p:spPr>
            <a:xfrm>
              <a:off x="7781760" y="9360"/>
              <a:ext cx="4397400" cy="3430440"/>
            </a:xfrm>
            <a:custGeom>
              <a:avLst/>
              <a:gdLst/>
              <a:ahLst/>
              <a:rect l="l" t="t" r="r" b="b"/>
              <a:pathLst>
                <a:path w="5588000" h="3437466">
                  <a:moveTo>
                    <a:pt x="0" y="0"/>
                  </a:moveTo>
                  <a:lnTo>
                    <a:pt x="5588000" y="5644"/>
                  </a:lnTo>
                  <a:lnTo>
                    <a:pt x="5588000" y="343746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3"/>
            <p:cNvSpPr/>
            <p:nvPr/>
          </p:nvSpPr>
          <p:spPr>
            <a:xfrm>
              <a:off x="0" y="3432240"/>
              <a:ext cx="6097680" cy="3425760"/>
            </a:xfrm>
            <a:custGeom>
              <a:avLst/>
              <a:gdLst/>
              <a:ahLst/>
              <a:rect l="l" t="t" r="r" b="b"/>
              <a:pathLst>
                <a:path w="7437647" h="3434438">
                  <a:moveTo>
                    <a:pt x="0" y="12019"/>
                  </a:moveTo>
                  <a:lnTo>
                    <a:pt x="7437647" y="0"/>
                  </a:lnTo>
                  <a:lnTo>
                    <a:pt x="5390411" y="3434438"/>
                  </a:lnTo>
                  <a:lnTo>
                    <a:pt x="0" y="12019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任意多边形 14"/>
            <p:cNvSpPr/>
            <p:nvPr/>
          </p:nvSpPr>
          <p:spPr>
            <a:xfrm>
              <a:off x="6092640" y="3440160"/>
              <a:ext cx="6105600" cy="3408480"/>
            </a:xfrm>
            <a:custGeom>
              <a:avLst/>
              <a:gdLst/>
              <a:ahLst/>
              <a:rect l="l" t="t" r="r" b="b"/>
              <a:pathLst>
                <a:path w="7446204" h="3416177">
                  <a:moveTo>
                    <a:pt x="0" y="0"/>
                  </a:moveTo>
                  <a:lnTo>
                    <a:pt x="7446204" y="6997"/>
                  </a:lnTo>
                  <a:cubicBezTo>
                    <a:pt x="7443366" y="1143390"/>
                    <a:pt x="7440529" y="2279784"/>
                    <a:pt x="7437691" y="3416177"/>
                  </a:cubicBez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矩形 2"/>
            <p:cNvSpPr/>
            <p:nvPr/>
          </p:nvSpPr>
          <p:spPr>
            <a:xfrm>
              <a:off x="4680" y="0"/>
              <a:ext cx="7777080" cy="3443400"/>
            </a:xfrm>
            <a:custGeom>
              <a:avLst/>
              <a:gdLst/>
              <a:ahLst/>
              <a:rect l="l" t="t" r="r" b="b"/>
              <a:pathLst>
                <a:path w="9482708" h="3448728">
                  <a:moveTo>
                    <a:pt x="0" y="3448728"/>
                  </a:moveTo>
                  <a:lnTo>
                    <a:pt x="9482708" y="0"/>
                  </a:lnTo>
                  <a:lnTo>
                    <a:pt x="7433259" y="3438400"/>
                  </a:lnTo>
                  <a:lnTo>
                    <a:pt x="0" y="3448728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-3240" y="-9360"/>
            <a:ext cx="12201480" cy="6878520"/>
            <a:chOff x="-3240" y="-9360"/>
            <a:chExt cx="12201480" cy="6878520"/>
          </a:xfrm>
        </p:grpSpPr>
        <p:sp>
          <p:nvSpPr>
            <p:cNvPr id="140" name="矩形 5"/>
            <p:cNvSpPr/>
            <p:nvPr/>
          </p:nvSpPr>
          <p:spPr>
            <a:xfrm>
              <a:off x="6095160" y="-9360"/>
              <a:ext cx="6090480" cy="3453480"/>
            </a:xfrm>
            <a:custGeom>
              <a:avLst/>
              <a:gdLst/>
              <a:ahLst/>
              <a:rect l="l" t="t" r="r" b="b"/>
              <a:pathLst>
                <a:path w="7834489" h="3451976">
                  <a:moveTo>
                    <a:pt x="2171817" y="0"/>
                  </a:moveTo>
                  <a:lnTo>
                    <a:pt x="7834489" y="20154"/>
                  </a:lnTo>
                  <a:lnTo>
                    <a:pt x="7834489" y="3451976"/>
                  </a:lnTo>
                  <a:lnTo>
                    <a:pt x="0" y="3451976"/>
                  </a:lnTo>
                  <a:lnTo>
                    <a:pt x="2171817" y="0"/>
                  </a:lnTo>
                  <a:close/>
                </a:path>
              </a:pathLst>
            </a:custGeom>
            <a:solidFill>
              <a:srgbClr val="ffc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矩形 3"/>
            <p:cNvSpPr/>
            <p:nvPr/>
          </p:nvSpPr>
          <p:spPr>
            <a:xfrm>
              <a:off x="-3240" y="3436200"/>
              <a:ext cx="6103080" cy="3432960"/>
            </a:xfrm>
            <a:custGeom>
              <a:avLst/>
              <a:gdLst/>
              <a:ahLst/>
              <a:rect l="l" t="t" r="r" b="b"/>
              <a:pathLst>
                <a:path w="7437649" h="3434438">
                  <a:moveTo>
                    <a:pt x="0" y="12019"/>
                  </a:moveTo>
                  <a:lnTo>
                    <a:pt x="7437649" y="0"/>
                  </a:lnTo>
                  <a:lnTo>
                    <a:pt x="5390411" y="3434438"/>
                  </a:lnTo>
                  <a:lnTo>
                    <a:pt x="5256" y="3426532"/>
                  </a:lnTo>
                  <a:cubicBezTo>
                    <a:pt x="5256" y="2290757"/>
                    <a:pt x="0" y="1147794"/>
                    <a:pt x="0" y="12019"/>
                  </a:cubicBezTo>
                  <a:close/>
                </a:path>
              </a:pathLst>
            </a:custGeom>
            <a:solidFill>
              <a:srgbClr val="f92f9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任意多边形 19"/>
            <p:cNvSpPr/>
            <p:nvPr/>
          </p:nvSpPr>
          <p:spPr>
            <a:xfrm>
              <a:off x="4422240" y="3444120"/>
              <a:ext cx="7776000" cy="3420360"/>
            </a:xfrm>
            <a:custGeom>
              <a:avLst/>
              <a:gdLst/>
              <a:ahLst/>
              <a:rect l="l" t="t" r="r" b="b"/>
              <a:pathLst>
                <a:path w="9476078" h="3421570">
                  <a:moveTo>
                    <a:pt x="2038387" y="0"/>
                  </a:moveTo>
                  <a:lnTo>
                    <a:pt x="9476078" y="0"/>
                  </a:lnTo>
                  <a:lnTo>
                    <a:pt x="9476078" y="3416177"/>
                  </a:lnTo>
                  <a:lnTo>
                    <a:pt x="0" y="3421570"/>
                  </a:lnTo>
                  <a:lnTo>
                    <a:pt x="2038387" y="0"/>
                  </a:lnTo>
                  <a:close/>
                </a:path>
              </a:pathLst>
            </a:custGeom>
            <a:solidFill>
              <a:srgbClr val="00b0f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矩形 2"/>
            <p:cNvSpPr/>
            <p:nvPr/>
          </p:nvSpPr>
          <p:spPr>
            <a:xfrm>
              <a:off x="-3240" y="-4320"/>
              <a:ext cx="7788960" cy="3452040"/>
            </a:xfrm>
            <a:custGeom>
              <a:avLst/>
              <a:gdLst/>
              <a:ahLst/>
              <a:rect l="l" t="t" r="r" b="b"/>
              <a:pathLst>
                <a:path w="9489339" h="3448728">
                  <a:moveTo>
                    <a:pt x="0" y="11465"/>
                  </a:moveTo>
                  <a:lnTo>
                    <a:pt x="9489339" y="0"/>
                  </a:lnTo>
                  <a:lnTo>
                    <a:pt x="7439890" y="3438400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92d05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-1440" y="-14400"/>
            <a:ext cx="12242520" cy="6872400"/>
            <a:chOff x="-1440" y="-14400"/>
            <a:chExt cx="12242520" cy="6872400"/>
          </a:xfrm>
        </p:grpSpPr>
        <p:grpSp>
          <p:nvGrpSpPr>
            <p:cNvPr id="183" name=""/>
            <p:cNvGrpSpPr/>
            <p:nvPr/>
          </p:nvGrpSpPr>
          <p:grpSpPr>
            <a:xfrm>
              <a:off x="-1440" y="-9720"/>
              <a:ext cx="12236040" cy="6841800"/>
              <a:chOff x="-1440" y="-9720"/>
              <a:chExt cx="12236040" cy="6841800"/>
            </a:xfrm>
          </p:grpSpPr>
          <p:sp>
            <p:nvSpPr>
              <p:cNvPr id="184" name="矩形 5"/>
              <p:cNvSpPr/>
              <p:nvPr/>
            </p:nvSpPr>
            <p:spPr>
              <a:xfrm>
                <a:off x="5774400" y="0"/>
                <a:ext cx="6447240" cy="3421080"/>
              </a:xfrm>
              <a:custGeom>
                <a:avLst/>
                <a:gdLst/>
                <a:ahLst/>
                <a:rect l="l" t="t" r="r" b="b"/>
                <a:pathLst>
                  <a:path w="7834489" h="3437466">
                    <a:moveTo>
                      <a:pt x="2246489" y="0"/>
                    </a:moveTo>
                    <a:lnTo>
                      <a:pt x="7834489" y="5644"/>
                    </a:lnTo>
                    <a:lnTo>
                      <a:pt x="7834489" y="3437466"/>
                    </a:lnTo>
                    <a:lnTo>
                      <a:pt x="0" y="3437466"/>
                    </a:lnTo>
                    <a:lnTo>
                      <a:pt x="2246489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2600">
                <a:solidFill>
                  <a:srgbClr val="41719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矩形 3"/>
              <p:cNvSpPr/>
              <p:nvPr/>
            </p:nvSpPr>
            <p:spPr>
              <a:xfrm>
                <a:off x="-1440" y="3414240"/>
                <a:ext cx="6120360" cy="3417840"/>
              </a:xfrm>
              <a:custGeom>
                <a:avLst/>
                <a:gdLst/>
                <a:ahLst/>
                <a:rect l="l" t="t" r="r" b="b"/>
                <a:pathLst>
                  <a:path w="7437649" h="3434438">
                    <a:moveTo>
                      <a:pt x="0" y="12019"/>
                    </a:moveTo>
                    <a:lnTo>
                      <a:pt x="7437649" y="0"/>
                    </a:lnTo>
                    <a:lnTo>
                      <a:pt x="5390411" y="3434438"/>
                    </a:lnTo>
                    <a:lnTo>
                      <a:pt x="5256" y="3426532"/>
                    </a:lnTo>
                    <a:cubicBezTo>
                      <a:pt x="5256" y="2290757"/>
                      <a:pt x="0" y="1147794"/>
                      <a:pt x="0" y="1201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任意多边形 14"/>
              <p:cNvSpPr/>
              <p:nvPr/>
            </p:nvSpPr>
            <p:spPr>
              <a:xfrm>
                <a:off x="4436280" y="3420720"/>
                <a:ext cx="7798320" cy="3406680"/>
              </a:xfrm>
              <a:custGeom>
                <a:avLst/>
                <a:gdLst/>
                <a:ahLst/>
                <a:rect l="l" t="t" r="r" b="b"/>
                <a:pathLst>
                  <a:path w="9476078" h="3421570">
                    <a:moveTo>
                      <a:pt x="2038387" y="0"/>
                    </a:moveTo>
                    <a:lnTo>
                      <a:pt x="9476078" y="0"/>
                    </a:lnTo>
                    <a:lnTo>
                      <a:pt x="9476078" y="3416177"/>
                    </a:lnTo>
                    <a:lnTo>
                      <a:pt x="0" y="3421570"/>
                    </a:lnTo>
                    <a:lnTo>
                      <a:pt x="2038387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矩形 2"/>
              <p:cNvSpPr/>
              <p:nvPr/>
            </p:nvSpPr>
            <p:spPr>
              <a:xfrm>
                <a:off x="-1440" y="-9720"/>
                <a:ext cx="7810920" cy="3435120"/>
              </a:xfrm>
              <a:custGeom>
                <a:avLst/>
                <a:gdLst/>
                <a:ahLst/>
                <a:rect l="l" t="t" r="r" b="b"/>
                <a:pathLst>
                  <a:path w="9489339" h="3448728">
                    <a:moveTo>
                      <a:pt x="0" y="11465"/>
                    </a:moveTo>
                    <a:lnTo>
                      <a:pt x="9489339" y="0"/>
                    </a:lnTo>
                    <a:lnTo>
                      <a:pt x="7439890" y="3438400"/>
                    </a:lnTo>
                    <a:lnTo>
                      <a:pt x="6631" y="3448728"/>
                    </a:lnTo>
                    <a:cubicBezTo>
                      <a:pt x="4421" y="2302974"/>
                      <a:pt x="2210" y="1157219"/>
                      <a:pt x="0" y="1146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矩形 2"/>
            <p:cNvSpPr/>
            <p:nvPr/>
          </p:nvSpPr>
          <p:spPr>
            <a:xfrm>
              <a:off x="-1440" y="-9360"/>
              <a:ext cx="7810920" cy="3434760"/>
            </a:xfrm>
            <a:custGeom>
              <a:avLst/>
              <a:gdLst/>
              <a:ahLst/>
              <a:rect l="l" t="t" r="r" b="b"/>
              <a:pathLst>
                <a:path w="9489339" h="3448728">
                  <a:moveTo>
                    <a:pt x="0" y="11465"/>
                  </a:moveTo>
                  <a:lnTo>
                    <a:pt x="9489339" y="0"/>
                  </a:lnTo>
                  <a:lnTo>
                    <a:pt x="7439890" y="3438400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92d05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矩形 5"/>
            <p:cNvSpPr/>
            <p:nvPr/>
          </p:nvSpPr>
          <p:spPr>
            <a:xfrm>
              <a:off x="6104880" y="-14400"/>
              <a:ext cx="6130080" cy="3439440"/>
            </a:xfrm>
            <a:custGeom>
              <a:avLst/>
              <a:gdLst/>
              <a:ahLst/>
              <a:rect l="l" t="t" r="r" b="b"/>
              <a:pathLst>
                <a:path w="7834489" h="3437466">
                  <a:moveTo>
                    <a:pt x="2178861" y="0"/>
                  </a:moveTo>
                  <a:lnTo>
                    <a:pt x="7834489" y="5644"/>
                  </a:lnTo>
                  <a:lnTo>
                    <a:pt x="7834489" y="3437466"/>
                  </a:lnTo>
                  <a:lnTo>
                    <a:pt x="0" y="3437466"/>
                  </a:lnTo>
                  <a:lnTo>
                    <a:pt x="2178861" y="0"/>
                  </a:lnTo>
                  <a:close/>
                </a:path>
              </a:pathLst>
            </a:custGeom>
            <a:solidFill>
              <a:srgbClr val="ffc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矩形 2"/>
            <p:cNvSpPr/>
            <p:nvPr/>
          </p:nvSpPr>
          <p:spPr>
            <a:xfrm>
              <a:off x="11160" y="3413880"/>
              <a:ext cx="6120360" cy="3444120"/>
            </a:xfrm>
            <a:custGeom>
              <a:avLst/>
              <a:gdLst/>
              <a:ahLst/>
              <a:rect l="l" t="t" r="r" b="b"/>
              <a:pathLst>
                <a:path w="9489339" h="3458448">
                  <a:moveTo>
                    <a:pt x="0" y="11465"/>
                  </a:moveTo>
                  <a:lnTo>
                    <a:pt x="9489339" y="0"/>
                  </a:lnTo>
                  <a:lnTo>
                    <a:pt x="6896967" y="3458448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f92f95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任意多边形 11"/>
            <p:cNvSpPr/>
            <p:nvPr/>
          </p:nvSpPr>
          <p:spPr>
            <a:xfrm>
              <a:off x="4442760" y="3434400"/>
              <a:ext cx="7798320" cy="3421800"/>
            </a:xfrm>
            <a:custGeom>
              <a:avLst/>
              <a:gdLst/>
              <a:ahLst/>
              <a:rect l="l" t="t" r="r" b="b"/>
              <a:pathLst>
                <a:path w="9476078" h="3421570">
                  <a:moveTo>
                    <a:pt x="2038387" y="0"/>
                  </a:moveTo>
                  <a:lnTo>
                    <a:pt x="9476078" y="0"/>
                  </a:lnTo>
                  <a:lnTo>
                    <a:pt x="9476078" y="3416177"/>
                  </a:lnTo>
                  <a:lnTo>
                    <a:pt x="0" y="3421570"/>
                  </a:lnTo>
                  <a:lnTo>
                    <a:pt x="2038387" y="0"/>
                  </a:lnTo>
                  <a:close/>
                </a:path>
              </a:pathLst>
            </a:custGeom>
            <a:solidFill>
              <a:srgbClr val="00b0f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-1440" y="-14400"/>
            <a:ext cx="20508840" cy="11876040"/>
            <a:chOff x="-1440" y="-14400"/>
            <a:chExt cx="20508840" cy="11876040"/>
          </a:xfrm>
        </p:grpSpPr>
        <p:grpSp>
          <p:nvGrpSpPr>
            <p:cNvPr id="231" name=""/>
            <p:cNvGrpSpPr/>
            <p:nvPr/>
          </p:nvGrpSpPr>
          <p:grpSpPr>
            <a:xfrm>
              <a:off x="-1440" y="-6120"/>
              <a:ext cx="20498040" cy="11823120"/>
              <a:chOff x="-1440" y="-6120"/>
              <a:chExt cx="20498040" cy="11823120"/>
            </a:xfrm>
          </p:grpSpPr>
          <p:sp>
            <p:nvSpPr>
              <p:cNvPr id="232" name="矩形 5"/>
              <p:cNvSpPr/>
              <p:nvPr/>
            </p:nvSpPr>
            <p:spPr>
              <a:xfrm>
                <a:off x="9673560" y="9720"/>
                <a:ext cx="10800720" cy="5913000"/>
              </a:xfrm>
              <a:custGeom>
                <a:avLst/>
                <a:gdLst/>
                <a:ahLst/>
                <a:rect l="l" t="t" r="r" b="b"/>
                <a:pathLst>
                  <a:path w="7834489" h="3437466">
                    <a:moveTo>
                      <a:pt x="2246489" y="0"/>
                    </a:moveTo>
                    <a:lnTo>
                      <a:pt x="7834489" y="5644"/>
                    </a:lnTo>
                    <a:lnTo>
                      <a:pt x="7834489" y="3437466"/>
                    </a:lnTo>
                    <a:lnTo>
                      <a:pt x="0" y="3437466"/>
                    </a:lnTo>
                    <a:lnTo>
                      <a:pt x="2246489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2600">
                <a:solidFill>
                  <a:srgbClr val="41719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矩形 3"/>
              <p:cNvSpPr/>
              <p:nvPr/>
            </p:nvSpPr>
            <p:spPr>
              <a:xfrm>
                <a:off x="-1440" y="5910120"/>
                <a:ext cx="10251360" cy="5906880"/>
              </a:xfrm>
              <a:custGeom>
                <a:avLst/>
                <a:gdLst/>
                <a:ahLst/>
                <a:rect l="l" t="t" r="r" b="b"/>
                <a:pathLst>
                  <a:path w="7437649" h="3434438">
                    <a:moveTo>
                      <a:pt x="0" y="12019"/>
                    </a:moveTo>
                    <a:lnTo>
                      <a:pt x="7437649" y="0"/>
                    </a:lnTo>
                    <a:lnTo>
                      <a:pt x="5390411" y="3434438"/>
                    </a:lnTo>
                    <a:lnTo>
                      <a:pt x="5256" y="3426532"/>
                    </a:lnTo>
                    <a:cubicBezTo>
                      <a:pt x="5256" y="2290757"/>
                      <a:pt x="0" y="1147794"/>
                      <a:pt x="0" y="1201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任意多边形 14"/>
              <p:cNvSpPr/>
              <p:nvPr/>
            </p:nvSpPr>
            <p:spPr>
              <a:xfrm>
                <a:off x="7432200" y="5923080"/>
                <a:ext cx="13064400" cy="5886000"/>
              </a:xfrm>
              <a:custGeom>
                <a:avLst/>
                <a:gdLst/>
                <a:ahLst/>
                <a:rect l="l" t="t" r="r" b="b"/>
                <a:pathLst>
                  <a:path w="9476078" h="3421570">
                    <a:moveTo>
                      <a:pt x="2038387" y="0"/>
                    </a:moveTo>
                    <a:lnTo>
                      <a:pt x="9476078" y="0"/>
                    </a:lnTo>
                    <a:lnTo>
                      <a:pt x="9476078" y="3416177"/>
                    </a:lnTo>
                    <a:lnTo>
                      <a:pt x="0" y="3421570"/>
                    </a:lnTo>
                    <a:lnTo>
                      <a:pt x="2038387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矩形 2"/>
              <p:cNvSpPr/>
              <p:nvPr/>
            </p:nvSpPr>
            <p:spPr>
              <a:xfrm>
                <a:off x="-1440" y="-6120"/>
                <a:ext cx="13084920" cy="5935320"/>
              </a:xfrm>
              <a:custGeom>
                <a:avLst/>
                <a:gdLst/>
                <a:ahLst/>
                <a:rect l="l" t="t" r="r" b="b"/>
                <a:pathLst>
                  <a:path w="9489339" h="3448728">
                    <a:moveTo>
                      <a:pt x="0" y="11465"/>
                    </a:moveTo>
                    <a:lnTo>
                      <a:pt x="9489339" y="0"/>
                    </a:lnTo>
                    <a:lnTo>
                      <a:pt x="7439890" y="3438400"/>
                    </a:lnTo>
                    <a:lnTo>
                      <a:pt x="6631" y="3448728"/>
                    </a:lnTo>
                    <a:cubicBezTo>
                      <a:pt x="4421" y="2302974"/>
                      <a:pt x="2210" y="1157219"/>
                      <a:pt x="0" y="1146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矩形 2"/>
            <p:cNvSpPr/>
            <p:nvPr/>
          </p:nvSpPr>
          <p:spPr>
            <a:xfrm>
              <a:off x="-1440" y="-6120"/>
              <a:ext cx="13084920" cy="5934960"/>
            </a:xfrm>
            <a:custGeom>
              <a:avLst/>
              <a:gdLst/>
              <a:ahLst/>
              <a:rect l="l" t="t" r="r" b="b"/>
              <a:pathLst>
                <a:path w="9489339" h="3448728">
                  <a:moveTo>
                    <a:pt x="0" y="11465"/>
                  </a:moveTo>
                  <a:lnTo>
                    <a:pt x="9489339" y="0"/>
                  </a:lnTo>
                  <a:lnTo>
                    <a:pt x="7439890" y="3438400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92d05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矩形 5"/>
            <p:cNvSpPr/>
            <p:nvPr/>
          </p:nvSpPr>
          <p:spPr>
            <a:xfrm>
              <a:off x="10227600" y="-14400"/>
              <a:ext cx="10268640" cy="5942880"/>
            </a:xfrm>
            <a:custGeom>
              <a:avLst/>
              <a:gdLst/>
              <a:ahLst/>
              <a:rect l="l" t="t" r="r" b="b"/>
              <a:pathLst>
                <a:path w="7834489" h="3437466">
                  <a:moveTo>
                    <a:pt x="2178861" y="0"/>
                  </a:moveTo>
                  <a:lnTo>
                    <a:pt x="7834489" y="5644"/>
                  </a:lnTo>
                  <a:lnTo>
                    <a:pt x="7834489" y="3437466"/>
                  </a:lnTo>
                  <a:lnTo>
                    <a:pt x="0" y="3437466"/>
                  </a:lnTo>
                  <a:lnTo>
                    <a:pt x="2178861" y="0"/>
                  </a:lnTo>
                  <a:close/>
                </a:path>
              </a:pathLst>
            </a:custGeom>
            <a:solidFill>
              <a:srgbClr val="ffc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矩形 2"/>
            <p:cNvSpPr/>
            <p:nvPr/>
          </p:nvSpPr>
          <p:spPr>
            <a:xfrm>
              <a:off x="20520" y="5909400"/>
              <a:ext cx="10251360" cy="5952240"/>
            </a:xfrm>
            <a:custGeom>
              <a:avLst/>
              <a:gdLst/>
              <a:ahLst/>
              <a:rect l="l" t="t" r="r" b="b"/>
              <a:pathLst>
                <a:path w="9489339" h="3458448">
                  <a:moveTo>
                    <a:pt x="0" y="11465"/>
                  </a:moveTo>
                  <a:lnTo>
                    <a:pt x="9489339" y="0"/>
                  </a:lnTo>
                  <a:lnTo>
                    <a:pt x="6896967" y="3458448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f92f95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任意多边形 11"/>
            <p:cNvSpPr/>
            <p:nvPr/>
          </p:nvSpPr>
          <p:spPr>
            <a:xfrm>
              <a:off x="7443360" y="5922000"/>
              <a:ext cx="13064040" cy="5912640"/>
            </a:xfrm>
            <a:custGeom>
              <a:avLst/>
              <a:gdLst/>
              <a:ahLst/>
              <a:rect l="l" t="t" r="r" b="b"/>
              <a:pathLst>
                <a:path w="9476078" h="3421570">
                  <a:moveTo>
                    <a:pt x="2038387" y="0"/>
                  </a:moveTo>
                  <a:lnTo>
                    <a:pt x="9476078" y="0"/>
                  </a:lnTo>
                  <a:lnTo>
                    <a:pt x="9476078" y="3416177"/>
                  </a:lnTo>
                  <a:lnTo>
                    <a:pt x="0" y="3421570"/>
                  </a:lnTo>
                  <a:lnTo>
                    <a:pt x="2038387" y="0"/>
                  </a:lnTo>
                  <a:close/>
                </a:path>
              </a:pathLst>
            </a:custGeom>
            <a:solidFill>
              <a:srgbClr val="00b0f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-8317080" y="0"/>
            <a:ext cx="20509560" cy="11877840"/>
            <a:chOff x="-8317080" y="0"/>
            <a:chExt cx="20509560" cy="11877840"/>
          </a:xfrm>
        </p:grpSpPr>
        <p:grpSp>
          <p:nvGrpSpPr>
            <p:cNvPr id="279" name=""/>
            <p:cNvGrpSpPr/>
            <p:nvPr/>
          </p:nvGrpSpPr>
          <p:grpSpPr>
            <a:xfrm>
              <a:off x="-8317080" y="7920"/>
              <a:ext cx="20498760" cy="11824920"/>
              <a:chOff x="-8317080" y="7920"/>
              <a:chExt cx="20498760" cy="11824920"/>
            </a:xfrm>
          </p:grpSpPr>
          <p:sp>
            <p:nvSpPr>
              <p:cNvPr id="280" name="矩形 5"/>
              <p:cNvSpPr/>
              <p:nvPr/>
            </p:nvSpPr>
            <p:spPr>
              <a:xfrm>
                <a:off x="1358280" y="23760"/>
                <a:ext cx="10800720" cy="5914080"/>
              </a:xfrm>
              <a:custGeom>
                <a:avLst/>
                <a:gdLst/>
                <a:ahLst/>
                <a:rect l="l" t="t" r="r" b="b"/>
                <a:pathLst>
                  <a:path w="7834489" h="3437466">
                    <a:moveTo>
                      <a:pt x="2246489" y="0"/>
                    </a:moveTo>
                    <a:lnTo>
                      <a:pt x="7834489" y="5644"/>
                    </a:lnTo>
                    <a:lnTo>
                      <a:pt x="7834489" y="3437466"/>
                    </a:lnTo>
                    <a:lnTo>
                      <a:pt x="0" y="3437466"/>
                    </a:lnTo>
                    <a:lnTo>
                      <a:pt x="2246489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2600">
                <a:solidFill>
                  <a:srgbClr val="41719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矩形 3"/>
              <p:cNvSpPr/>
              <p:nvPr/>
            </p:nvSpPr>
            <p:spPr>
              <a:xfrm>
                <a:off x="-8317080" y="5925240"/>
                <a:ext cx="10251720" cy="5907600"/>
              </a:xfrm>
              <a:custGeom>
                <a:avLst/>
                <a:gdLst/>
                <a:ahLst/>
                <a:rect l="l" t="t" r="r" b="b"/>
                <a:pathLst>
                  <a:path w="7437649" h="3434438">
                    <a:moveTo>
                      <a:pt x="0" y="12019"/>
                    </a:moveTo>
                    <a:lnTo>
                      <a:pt x="7437649" y="0"/>
                    </a:lnTo>
                    <a:lnTo>
                      <a:pt x="5390411" y="3434438"/>
                    </a:lnTo>
                    <a:lnTo>
                      <a:pt x="5256" y="3426532"/>
                    </a:lnTo>
                    <a:cubicBezTo>
                      <a:pt x="5256" y="2290757"/>
                      <a:pt x="0" y="1147794"/>
                      <a:pt x="0" y="1201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任意多边形 14"/>
              <p:cNvSpPr/>
              <p:nvPr/>
            </p:nvSpPr>
            <p:spPr>
              <a:xfrm>
                <a:off x="-882720" y="5937840"/>
                <a:ext cx="13064400" cy="5887080"/>
              </a:xfrm>
              <a:custGeom>
                <a:avLst/>
                <a:gdLst/>
                <a:ahLst/>
                <a:rect l="l" t="t" r="r" b="b"/>
                <a:pathLst>
                  <a:path w="9476078" h="3421570">
                    <a:moveTo>
                      <a:pt x="2038387" y="0"/>
                    </a:moveTo>
                    <a:lnTo>
                      <a:pt x="9476078" y="0"/>
                    </a:lnTo>
                    <a:lnTo>
                      <a:pt x="9476078" y="3416177"/>
                    </a:lnTo>
                    <a:lnTo>
                      <a:pt x="0" y="3421570"/>
                    </a:lnTo>
                    <a:lnTo>
                      <a:pt x="2038387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矩形 2"/>
              <p:cNvSpPr/>
              <p:nvPr/>
            </p:nvSpPr>
            <p:spPr>
              <a:xfrm>
                <a:off x="-8317080" y="7920"/>
                <a:ext cx="13085280" cy="5936400"/>
              </a:xfrm>
              <a:custGeom>
                <a:avLst/>
                <a:gdLst/>
                <a:ahLst/>
                <a:rect l="l" t="t" r="r" b="b"/>
                <a:pathLst>
                  <a:path w="9489339" h="3448728">
                    <a:moveTo>
                      <a:pt x="0" y="11465"/>
                    </a:moveTo>
                    <a:lnTo>
                      <a:pt x="9489339" y="0"/>
                    </a:lnTo>
                    <a:lnTo>
                      <a:pt x="7439890" y="3438400"/>
                    </a:lnTo>
                    <a:lnTo>
                      <a:pt x="6631" y="3448728"/>
                    </a:lnTo>
                    <a:cubicBezTo>
                      <a:pt x="4421" y="2302974"/>
                      <a:pt x="2210" y="1157219"/>
                      <a:pt x="0" y="1146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4" name="矩形 2"/>
            <p:cNvSpPr/>
            <p:nvPr/>
          </p:nvSpPr>
          <p:spPr>
            <a:xfrm>
              <a:off x="-8317080" y="7920"/>
              <a:ext cx="13084920" cy="5935680"/>
            </a:xfrm>
            <a:custGeom>
              <a:avLst/>
              <a:gdLst/>
              <a:ahLst/>
              <a:rect l="l" t="t" r="r" b="b"/>
              <a:pathLst>
                <a:path w="9489339" h="3448728">
                  <a:moveTo>
                    <a:pt x="0" y="11465"/>
                  </a:moveTo>
                  <a:lnTo>
                    <a:pt x="9489339" y="0"/>
                  </a:lnTo>
                  <a:lnTo>
                    <a:pt x="7439890" y="3438400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92d05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5"/>
            <p:cNvSpPr/>
            <p:nvPr/>
          </p:nvSpPr>
          <p:spPr>
            <a:xfrm>
              <a:off x="1911960" y="0"/>
              <a:ext cx="10269000" cy="5943600"/>
            </a:xfrm>
            <a:custGeom>
              <a:avLst/>
              <a:gdLst/>
              <a:ahLst/>
              <a:rect l="l" t="t" r="r" b="b"/>
              <a:pathLst>
                <a:path w="7834489" h="3437466">
                  <a:moveTo>
                    <a:pt x="2178861" y="0"/>
                  </a:moveTo>
                  <a:lnTo>
                    <a:pt x="7834489" y="5644"/>
                  </a:lnTo>
                  <a:lnTo>
                    <a:pt x="7834489" y="3437466"/>
                  </a:lnTo>
                  <a:lnTo>
                    <a:pt x="0" y="3437466"/>
                  </a:lnTo>
                  <a:lnTo>
                    <a:pt x="2178861" y="0"/>
                  </a:lnTo>
                  <a:close/>
                </a:path>
              </a:pathLst>
            </a:custGeom>
            <a:solidFill>
              <a:srgbClr val="ffc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矩形 2"/>
            <p:cNvSpPr/>
            <p:nvPr/>
          </p:nvSpPr>
          <p:spPr>
            <a:xfrm>
              <a:off x="-8294760" y="5924520"/>
              <a:ext cx="10251360" cy="5953320"/>
            </a:xfrm>
            <a:custGeom>
              <a:avLst/>
              <a:gdLst/>
              <a:ahLst/>
              <a:rect l="l" t="t" r="r" b="b"/>
              <a:pathLst>
                <a:path w="9489339" h="3458448">
                  <a:moveTo>
                    <a:pt x="0" y="11465"/>
                  </a:moveTo>
                  <a:lnTo>
                    <a:pt x="9489339" y="0"/>
                  </a:lnTo>
                  <a:lnTo>
                    <a:pt x="6896967" y="3458448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f92f95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任意多边形 11"/>
            <p:cNvSpPr/>
            <p:nvPr/>
          </p:nvSpPr>
          <p:spPr>
            <a:xfrm>
              <a:off x="-871920" y="5937480"/>
              <a:ext cx="13064400" cy="5913360"/>
            </a:xfrm>
            <a:custGeom>
              <a:avLst/>
              <a:gdLst/>
              <a:ahLst/>
              <a:rect l="l" t="t" r="r" b="b"/>
              <a:pathLst>
                <a:path w="9476078" h="3421570">
                  <a:moveTo>
                    <a:pt x="2038387" y="0"/>
                  </a:moveTo>
                  <a:lnTo>
                    <a:pt x="9476078" y="0"/>
                  </a:lnTo>
                  <a:lnTo>
                    <a:pt x="9476078" y="3416177"/>
                  </a:lnTo>
                  <a:lnTo>
                    <a:pt x="0" y="3421570"/>
                  </a:lnTo>
                  <a:lnTo>
                    <a:pt x="2038387" y="0"/>
                  </a:lnTo>
                  <a:close/>
                </a:path>
              </a:pathLst>
            </a:custGeom>
            <a:solidFill>
              <a:srgbClr val="00b0f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0" y="-5018040"/>
            <a:ext cx="20510640" cy="11876040"/>
            <a:chOff x="0" y="-5018040"/>
            <a:chExt cx="20510640" cy="11876040"/>
          </a:xfrm>
        </p:grpSpPr>
        <p:grpSp>
          <p:nvGrpSpPr>
            <p:cNvPr id="327" name=""/>
            <p:cNvGrpSpPr/>
            <p:nvPr/>
          </p:nvGrpSpPr>
          <p:grpSpPr>
            <a:xfrm>
              <a:off x="0" y="-5009760"/>
              <a:ext cx="20499840" cy="11823120"/>
              <a:chOff x="0" y="-5009760"/>
              <a:chExt cx="20499840" cy="11823120"/>
            </a:xfrm>
          </p:grpSpPr>
          <p:sp>
            <p:nvSpPr>
              <p:cNvPr id="328" name="矩形 5"/>
              <p:cNvSpPr/>
              <p:nvPr/>
            </p:nvSpPr>
            <p:spPr>
              <a:xfrm>
                <a:off x="9676080" y="-4993560"/>
                <a:ext cx="10801440" cy="5913000"/>
              </a:xfrm>
              <a:custGeom>
                <a:avLst/>
                <a:gdLst/>
                <a:ahLst/>
                <a:rect l="l" t="t" r="r" b="b"/>
                <a:pathLst>
                  <a:path w="7834489" h="3437466">
                    <a:moveTo>
                      <a:pt x="2246489" y="0"/>
                    </a:moveTo>
                    <a:lnTo>
                      <a:pt x="7834489" y="5644"/>
                    </a:lnTo>
                    <a:lnTo>
                      <a:pt x="7834489" y="3437466"/>
                    </a:lnTo>
                    <a:lnTo>
                      <a:pt x="0" y="3437466"/>
                    </a:lnTo>
                    <a:lnTo>
                      <a:pt x="2246489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2600">
                <a:solidFill>
                  <a:srgbClr val="41719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矩形 3"/>
              <p:cNvSpPr/>
              <p:nvPr/>
            </p:nvSpPr>
            <p:spPr>
              <a:xfrm>
                <a:off x="0" y="906480"/>
                <a:ext cx="10252440" cy="5906880"/>
              </a:xfrm>
              <a:custGeom>
                <a:avLst/>
                <a:gdLst/>
                <a:ahLst/>
                <a:rect l="l" t="t" r="r" b="b"/>
                <a:pathLst>
                  <a:path w="7437649" h="3434438">
                    <a:moveTo>
                      <a:pt x="0" y="12019"/>
                    </a:moveTo>
                    <a:lnTo>
                      <a:pt x="7437649" y="0"/>
                    </a:lnTo>
                    <a:lnTo>
                      <a:pt x="5390411" y="3434438"/>
                    </a:lnTo>
                    <a:lnTo>
                      <a:pt x="5256" y="3426532"/>
                    </a:lnTo>
                    <a:cubicBezTo>
                      <a:pt x="5256" y="2290757"/>
                      <a:pt x="0" y="1147794"/>
                      <a:pt x="0" y="1201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任意多边形 14"/>
              <p:cNvSpPr/>
              <p:nvPr/>
            </p:nvSpPr>
            <p:spPr>
              <a:xfrm>
                <a:off x="7434360" y="919440"/>
                <a:ext cx="13065480" cy="5886000"/>
              </a:xfrm>
              <a:custGeom>
                <a:avLst/>
                <a:gdLst/>
                <a:ahLst/>
                <a:rect l="l" t="t" r="r" b="b"/>
                <a:pathLst>
                  <a:path w="9476078" h="3421570">
                    <a:moveTo>
                      <a:pt x="2038387" y="0"/>
                    </a:moveTo>
                    <a:lnTo>
                      <a:pt x="9476078" y="0"/>
                    </a:lnTo>
                    <a:lnTo>
                      <a:pt x="9476078" y="3416177"/>
                    </a:lnTo>
                    <a:lnTo>
                      <a:pt x="0" y="3421570"/>
                    </a:lnTo>
                    <a:lnTo>
                      <a:pt x="2038387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矩形 2"/>
              <p:cNvSpPr/>
              <p:nvPr/>
            </p:nvSpPr>
            <p:spPr>
              <a:xfrm>
                <a:off x="0" y="-5009760"/>
                <a:ext cx="13086000" cy="5935320"/>
              </a:xfrm>
              <a:custGeom>
                <a:avLst/>
                <a:gdLst/>
                <a:ahLst/>
                <a:rect l="l" t="t" r="r" b="b"/>
                <a:pathLst>
                  <a:path w="9489339" h="3448728">
                    <a:moveTo>
                      <a:pt x="0" y="11465"/>
                    </a:moveTo>
                    <a:lnTo>
                      <a:pt x="9489339" y="0"/>
                    </a:lnTo>
                    <a:lnTo>
                      <a:pt x="7439890" y="3438400"/>
                    </a:lnTo>
                    <a:lnTo>
                      <a:pt x="6631" y="3448728"/>
                    </a:lnTo>
                    <a:cubicBezTo>
                      <a:pt x="4421" y="2302974"/>
                      <a:pt x="2210" y="1157219"/>
                      <a:pt x="0" y="1146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2" name="矩形 2"/>
            <p:cNvSpPr/>
            <p:nvPr/>
          </p:nvSpPr>
          <p:spPr>
            <a:xfrm>
              <a:off x="0" y="-5009760"/>
              <a:ext cx="13086000" cy="5934960"/>
            </a:xfrm>
            <a:custGeom>
              <a:avLst/>
              <a:gdLst/>
              <a:ahLst/>
              <a:rect l="l" t="t" r="r" b="b"/>
              <a:pathLst>
                <a:path w="9489339" h="3448728">
                  <a:moveTo>
                    <a:pt x="0" y="11465"/>
                  </a:moveTo>
                  <a:lnTo>
                    <a:pt x="9489339" y="0"/>
                  </a:lnTo>
                  <a:lnTo>
                    <a:pt x="7439890" y="3438400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92d05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矩形 5"/>
            <p:cNvSpPr/>
            <p:nvPr/>
          </p:nvSpPr>
          <p:spPr>
            <a:xfrm>
              <a:off x="10229760" y="-5018040"/>
              <a:ext cx="10269720" cy="5942880"/>
            </a:xfrm>
            <a:custGeom>
              <a:avLst/>
              <a:gdLst/>
              <a:ahLst/>
              <a:rect l="l" t="t" r="r" b="b"/>
              <a:pathLst>
                <a:path w="7834489" h="3437466">
                  <a:moveTo>
                    <a:pt x="2178861" y="0"/>
                  </a:moveTo>
                  <a:lnTo>
                    <a:pt x="7834489" y="5644"/>
                  </a:lnTo>
                  <a:lnTo>
                    <a:pt x="7834489" y="3437466"/>
                  </a:lnTo>
                  <a:lnTo>
                    <a:pt x="0" y="3437466"/>
                  </a:lnTo>
                  <a:lnTo>
                    <a:pt x="2178861" y="0"/>
                  </a:lnTo>
                  <a:close/>
                </a:path>
              </a:pathLst>
            </a:custGeom>
            <a:solidFill>
              <a:srgbClr val="ffc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矩形 2"/>
            <p:cNvSpPr/>
            <p:nvPr/>
          </p:nvSpPr>
          <p:spPr>
            <a:xfrm>
              <a:off x="21960" y="905760"/>
              <a:ext cx="10252080" cy="5952240"/>
            </a:xfrm>
            <a:custGeom>
              <a:avLst/>
              <a:gdLst/>
              <a:ahLst/>
              <a:rect l="l" t="t" r="r" b="b"/>
              <a:pathLst>
                <a:path w="9489339" h="3458448">
                  <a:moveTo>
                    <a:pt x="0" y="11465"/>
                  </a:moveTo>
                  <a:lnTo>
                    <a:pt x="9489339" y="0"/>
                  </a:lnTo>
                  <a:lnTo>
                    <a:pt x="6896967" y="3458448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f92f95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任意多边形 11"/>
            <p:cNvSpPr/>
            <p:nvPr/>
          </p:nvSpPr>
          <p:spPr>
            <a:xfrm>
              <a:off x="7445520" y="918360"/>
              <a:ext cx="13065120" cy="5912640"/>
            </a:xfrm>
            <a:custGeom>
              <a:avLst/>
              <a:gdLst/>
              <a:ahLst/>
              <a:rect l="l" t="t" r="r" b="b"/>
              <a:pathLst>
                <a:path w="9476078" h="3421570">
                  <a:moveTo>
                    <a:pt x="2038387" y="0"/>
                  </a:moveTo>
                  <a:lnTo>
                    <a:pt x="9476078" y="0"/>
                  </a:lnTo>
                  <a:lnTo>
                    <a:pt x="9476078" y="3416177"/>
                  </a:lnTo>
                  <a:lnTo>
                    <a:pt x="0" y="3421570"/>
                  </a:lnTo>
                  <a:lnTo>
                    <a:pt x="2038387" y="0"/>
                  </a:lnTo>
                  <a:close/>
                </a:path>
              </a:pathLst>
            </a:custGeom>
            <a:solidFill>
              <a:srgbClr val="00b0f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-8317080" y="-5018040"/>
            <a:ext cx="20509560" cy="11876040"/>
            <a:chOff x="-8317080" y="-5018040"/>
            <a:chExt cx="20509560" cy="11876040"/>
          </a:xfrm>
        </p:grpSpPr>
        <p:grpSp>
          <p:nvGrpSpPr>
            <p:cNvPr id="375" name=""/>
            <p:cNvGrpSpPr/>
            <p:nvPr/>
          </p:nvGrpSpPr>
          <p:grpSpPr>
            <a:xfrm>
              <a:off x="-8317080" y="-5009760"/>
              <a:ext cx="20498760" cy="11823120"/>
              <a:chOff x="-8317080" y="-5009760"/>
              <a:chExt cx="20498760" cy="11823120"/>
            </a:xfrm>
          </p:grpSpPr>
          <p:sp>
            <p:nvSpPr>
              <p:cNvPr id="376" name="矩形 5"/>
              <p:cNvSpPr/>
              <p:nvPr/>
            </p:nvSpPr>
            <p:spPr>
              <a:xfrm>
                <a:off x="1358280" y="-4993560"/>
                <a:ext cx="10800720" cy="5913000"/>
              </a:xfrm>
              <a:custGeom>
                <a:avLst/>
                <a:gdLst/>
                <a:ahLst/>
                <a:rect l="l" t="t" r="r" b="b"/>
                <a:pathLst>
                  <a:path w="7834489" h="3437466">
                    <a:moveTo>
                      <a:pt x="2246489" y="0"/>
                    </a:moveTo>
                    <a:lnTo>
                      <a:pt x="7834489" y="5644"/>
                    </a:lnTo>
                    <a:lnTo>
                      <a:pt x="7834489" y="3437466"/>
                    </a:lnTo>
                    <a:lnTo>
                      <a:pt x="0" y="3437466"/>
                    </a:lnTo>
                    <a:lnTo>
                      <a:pt x="2246489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2600">
                <a:solidFill>
                  <a:srgbClr val="41719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矩形 3"/>
              <p:cNvSpPr/>
              <p:nvPr/>
            </p:nvSpPr>
            <p:spPr>
              <a:xfrm>
                <a:off x="-8317080" y="906480"/>
                <a:ext cx="10251720" cy="5906880"/>
              </a:xfrm>
              <a:custGeom>
                <a:avLst/>
                <a:gdLst/>
                <a:ahLst/>
                <a:rect l="l" t="t" r="r" b="b"/>
                <a:pathLst>
                  <a:path w="7437649" h="3434438">
                    <a:moveTo>
                      <a:pt x="0" y="12019"/>
                    </a:moveTo>
                    <a:lnTo>
                      <a:pt x="7437649" y="0"/>
                    </a:lnTo>
                    <a:lnTo>
                      <a:pt x="5390411" y="3434438"/>
                    </a:lnTo>
                    <a:lnTo>
                      <a:pt x="5256" y="3426532"/>
                    </a:lnTo>
                    <a:cubicBezTo>
                      <a:pt x="5256" y="2290757"/>
                      <a:pt x="0" y="1147794"/>
                      <a:pt x="0" y="1201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任意多边形 14"/>
              <p:cNvSpPr/>
              <p:nvPr/>
            </p:nvSpPr>
            <p:spPr>
              <a:xfrm>
                <a:off x="-882720" y="919440"/>
                <a:ext cx="13064400" cy="5886000"/>
              </a:xfrm>
              <a:custGeom>
                <a:avLst/>
                <a:gdLst/>
                <a:ahLst/>
                <a:rect l="l" t="t" r="r" b="b"/>
                <a:pathLst>
                  <a:path w="9476078" h="3421570">
                    <a:moveTo>
                      <a:pt x="2038387" y="0"/>
                    </a:moveTo>
                    <a:lnTo>
                      <a:pt x="9476078" y="0"/>
                    </a:lnTo>
                    <a:lnTo>
                      <a:pt x="9476078" y="3416177"/>
                    </a:lnTo>
                    <a:lnTo>
                      <a:pt x="0" y="3421570"/>
                    </a:lnTo>
                    <a:lnTo>
                      <a:pt x="2038387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矩形 2"/>
              <p:cNvSpPr/>
              <p:nvPr/>
            </p:nvSpPr>
            <p:spPr>
              <a:xfrm>
                <a:off x="-8317080" y="-5009760"/>
                <a:ext cx="13085280" cy="5935320"/>
              </a:xfrm>
              <a:custGeom>
                <a:avLst/>
                <a:gdLst/>
                <a:ahLst/>
                <a:rect l="l" t="t" r="r" b="b"/>
                <a:pathLst>
                  <a:path w="9489339" h="3448728">
                    <a:moveTo>
                      <a:pt x="0" y="11465"/>
                    </a:moveTo>
                    <a:lnTo>
                      <a:pt x="9489339" y="0"/>
                    </a:lnTo>
                    <a:lnTo>
                      <a:pt x="7439890" y="3438400"/>
                    </a:lnTo>
                    <a:lnTo>
                      <a:pt x="6631" y="3448728"/>
                    </a:lnTo>
                    <a:cubicBezTo>
                      <a:pt x="4421" y="2302974"/>
                      <a:pt x="2210" y="1157219"/>
                      <a:pt x="0" y="1146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0" name="矩形 2"/>
            <p:cNvSpPr/>
            <p:nvPr/>
          </p:nvSpPr>
          <p:spPr>
            <a:xfrm>
              <a:off x="-8317080" y="-5009760"/>
              <a:ext cx="13084920" cy="5934960"/>
            </a:xfrm>
            <a:custGeom>
              <a:avLst/>
              <a:gdLst/>
              <a:ahLst/>
              <a:rect l="l" t="t" r="r" b="b"/>
              <a:pathLst>
                <a:path w="9489339" h="3448728">
                  <a:moveTo>
                    <a:pt x="0" y="11465"/>
                  </a:moveTo>
                  <a:lnTo>
                    <a:pt x="9489339" y="0"/>
                  </a:lnTo>
                  <a:lnTo>
                    <a:pt x="7439890" y="3438400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92d05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矩形 5"/>
            <p:cNvSpPr/>
            <p:nvPr/>
          </p:nvSpPr>
          <p:spPr>
            <a:xfrm>
              <a:off x="1911960" y="-5018040"/>
              <a:ext cx="10269000" cy="5942880"/>
            </a:xfrm>
            <a:custGeom>
              <a:avLst/>
              <a:gdLst/>
              <a:ahLst/>
              <a:rect l="l" t="t" r="r" b="b"/>
              <a:pathLst>
                <a:path w="7834489" h="3437466">
                  <a:moveTo>
                    <a:pt x="2178861" y="0"/>
                  </a:moveTo>
                  <a:lnTo>
                    <a:pt x="7834489" y="5644"/>
                  </a:lnTo>
                  <a:lnTo>
                    <a:pt x="7834489" y="3437466"/>
                  </a:lnTo>
                  <a:lnTo>
                    <a:pt x="0" y="3437466"/>
                  </a:lnTo>
                  <a:lnTo>
                    <a:pt x="2178861" y="0"/>
                  </a:lnTo>
                  <a:close/>
                </a:path>
              </a:pathLst>
            </a:custGeom>
            <a:solidFill>
              <a:srgbClr val="ffc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矩形 2"/>
            <p:cNvSpPr/>
            <p:nvPr/>
          </p:nvSpPr>
          <p:spPr>
            <a:xfrm>
              <a:off x="-8294760" y="905760"/>
              <a:ext cx="10251360" cy="5952240"/>
            </a:xfrm>
            <a:custGeom>
              <a:avLst/>
              <a:gdLst/>
              <a:ahLst/>
              <a:rect l="l" t="t" r="r" b="b"/>
              <a:pathLst>
                <a:path w="9489339" h="3458448">
                  <a:moveTo>
                    <a:pt x="0" y="11465"/>
                  </a:moveTo>
                  <a:lnTo>
                    <a:pt x="9489339" y="0"/>
                  </a:lnTo>
                  <a:lnTo>
                    <a:pt x="6896967" y="3458448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f92f95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任意多边形 11"/>
            <p:cNvSpPr/>
            <p:nvPr/>
          </p:nvSpPr>
          <p:spPr>
            <a:xfrm>
              <a:off x="-871920" y="918360"/>
              <a:ext cx="13064400" cy="5912640"/>
            </a:xfrm>
            <a:custGeom>
              <a:avLst/>
              <a:gdLst/>
              <a:ahLst/>
              <a:rect l="l" t="t" r="r" b="b"/>
              <a:pathLst>
                <a:path w="9476078" h="3421570">
                  <a:moveTo>
                    <a:pt x="2038387" y="0"/>
                  </a:moveTo>
                  <a:lnTo>
                    <a:pt x="9476078" y="0"/>
                  </a:lnTo>
                  <a:lnTo>
                    <a:pt x="9476078" y="3416177"/>
                  </a:lnTo>
                  <a:lnTo>
                    <a:pt x="0" y="3421570"/>
                  </a:lnTo>
                  <a:lnTo>
                    <a:pt x="2038387" y="0"/>
                  </a:lnTo>
                  <a:close/>
                </a:path>
              </a:pathLst>
            </a:custGeom>
            <a:solidFill>
              <a:srgbClr val="00b0f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矩形 22"/>
          <p:cNvSpPr/>
          <p:nvPr/>
        </p:nvSpPr>
        <p:spPr>
          <a:xfrm>
            <a:off x="2201760" y="2271600"/>
            <a:ext cx="77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tmospheric four color block business powerpoint templ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矩形 10"/>
          <p:cNvSpPr/>
          <p:nvPr/>
        </p:nvSpPr>
        <p:spPr>
          <a:xfrm>
            <a:off x="3621240" y="3659040"/>
            <a:ext cx="4949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汇报展示工作总结等商务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报人：向阳花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报时间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6.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矩形 25"/>
          <p:cNvSpPr/>
          <p:nvPr/>
        </p:nvSpPr>
        <p:spPr>
          <a:xfrm>
            <a:off x="2138400" y="2651040"/>
            <a:ext cx="7915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气四色分块商务</a:t>
            </a:r>
            <a:r>
              <a: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AutoShape 4"/>
          <p:cNvSpPr/>
          <p:nvPr/>
        </p:nvSpPr>
        <p:spPr>
          <a:xfrm>
            <a:off x="2070000" y="1144440"/>
            <a:ext cx="2008440" cy="2006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AutoShape 2"/>
          <p:cNvSpPr/>
          <p:nvPr/>
        </p:nvSpPr>
        <p:spPr>
          <a:xfrm>
            <a:off x="2201760" y="12762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92d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AutoShape 5"/>
          <p:cNvSpPr/>
          <p:nvPr/>
        </p:nvSpPr>
        <p:spPr>
          <a:xfrm>
            <a:off x="2363760" y="1638360"/>
            <a:ext cx="14209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2201760" y="3873600"/>
            <a:ext cx="1744920" cy="2122560"/>
            <a:chOff x="2201760" y="3873600"/>
            <a:chExt cx="1744920" cy="2122560"/>
          </a:xfrm>
        </p:grpSpPr>
        <p:sp>
          <p:nvSpPr>
            <p:cNvPr id="951" name="AutoShape 17"/>
            <p:cNvSpPr/>
            <p:nvPr/>
          </p:nvSpPr>
          <p:spPr>
            <a:xfrm>
              <a:off x="2201760" y="387360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AutoShape 18"/>
            <p:cNvSpPr/>
            <p:nvPr/>
          </p:nvSpPr>
          <p:spPr>
            <a:xfrm>
              <a:off x="2245320" y="423396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3" name="AutoShape 19"/>
          <p:cNvSpPr/>
          <p:nvPr/>
        </p:nvSpPr>
        <p:spPr>
          <a:xfrm rot="5400000">
            <a:off x="2893680" y="3363840"/>
            <a:ext cx="358920" cy="358920"/>
          </a:xfrm>
          <a:custGeom>
            <a:avLst/>
            <a:gdLst>
              <a:gd name="textAreaLeft" fmla="*/ 0 w 358920"/>
              <a:gd name="textAreaRight" fmla="*/ 359280 w 3589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5280120" y="3843360"/>
            <a:ext cx="1743120" cy="2122560"/>
            <a:chOff x="5280120" y="3843360"/>
            <a:chExt cx="1743120" cy="2122560"/>
          </a:xfrm>
        </p:grpSpPr>
        <p:sp>
          <p:nvSpPr>
            <p:cNvPr id="955" name="AutoShape 21"/>
            <p:cNvSpPr/>
            <p:nvPr/>
          </p:nvSpPr>
          <p:spPr>
            <a:xfrm>
              <a:off x="5280120" y="384336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AutoShape 22"/>
            <p:cNvSpPr/>
            <p:nvPr/>
          </p:nvSpPr>
          <p:spPr>
            <a:xfrm>
              <a:off x="5323680" y="420372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7" name="AutoShape 23"/>
          <p:cNvSpPr/>
          <p:nvPr/>
        </p:nvSpPr>
        <p:spPr>
          <a:xfrm rot="5400000">
            <a:off x="5971680" y="3333600"/>
            <a:ext cx="358920" cy="358920"/>
          </a:xfrm>
          <a:custGeom>
            <a:avLst/>
            <a:gdLst>
              <a:gd name="textAreaLeft" fmla="*/ 0 w 358920"/>
              <a:gd name="textAreaRight" fmla="*/ 359280 w 3589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92f9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8267760" y="3843360"/>
            <a:ext cx="1743120" cy="2122560"/>
            <a:chOff x="8267760" y="3843360"/>
            <a:chExt cx="1743120" cy="2122560"/>
          </a:xfrm>
        </p:grpSpPr>
        <p:sp>
          <p:nvSpPr>
            <p:cNvPr id="959" name="AutoShape 25"/>
            <p:cNvSpPr/>
            <p:nvPr/>
          </p:nvSpPr>
          <p:spPr>
            <a:xfrm>
              <a:off x="8267760" y="384336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AutoShape 26"/>
            <p:cNvSpPr/>
            <p:nvPr/>
          </p:nvSpPr>
          <p:spPr>
            <a:xfrm>
              <a:off x="8311320" y="420372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1" name="AutoShape 27"/>
          <p:cNvSpPr/>
          <p:nvPr/>
        </p:nvSpPr>
        <p:spPr>
          <a:xfrm rot="5400000">
            <a:off x="8959320" y="3333600"/>
            <a:ext cx="358920" cy="358920"/>
          </a:xfrm>
          <a:custGeom>
            <a:avLst/>
            <a:gdLst>
              <a:gd name="textAreaLeft" fmla="*/ 0 w 358920"/>
              <a:gd name="textAreaRight" fmla="*/ 359280 w 3589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be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AutoShape 4"/>
          <p:cNvSpPr/>
          <p:nvPr/>
        </p:nvSpPr>
        <p:spPr>
          <a:xfrm>
            <a:off x="5103720" y="1144440"/>
            <a:ext cx="2008440" cy="2006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AutoShape 2"/>
          <p:cNvSpPr/>
          <p:nvPr/>
        </p:nvSpPr>
        <p:spPr>
          <a:xfrm>
            <a:off x="5235480" y="1276200"/>
            <a:ext cx="17431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92f9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AutoShape 5"/>
          <p:cNvSpPr/>
          <p:nvPr/>
        </p:nvSpPr>
        <p:spPr>
          <a:xfrm>
            <a:off x="5397480" y="1638360"/>
            <a:ext cx="14209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8134200" y="1112760"/>
            <a:ext cx="2008440" cy="2006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AutoShape 2"/>
          <p:cNvSpPr/>
          <p:nvPr/>
        </p:nvSpPr>
        <p:spPr>
          <a:xfrm>
            <a:off x="8267760" y="1244520"/>
            <a:ext cx="17431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00bef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AutoShape 5"/>
          <p:cNvSpPr/>
          <p:nvPr/>
        </p:nvSpPr>
        <p:spPr>
          <a:xfrm>
            <a:off x="8429760" y="1606680"/>
            <a:ext cx="14191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矩形 10"/>
          <p:cNvSpPr/>
          <p:nvPr/>
        </p:nvSpPr>
        <p:spPr>
          <a:xfrm>
            <a:off x="6031080" y="369900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直接连接符 9"/>
          <p:cNvSpPr/>
          <p:nvPr/>
        </p:nvSpPr>
        <p:spPr>
          <a:xfrm flipV="1">
            <a:off x="6031080" y="3699000"/>
            <a:ext cx="48974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矩形 10"/>
          <p:cNvSpPr/>
          <p:nvPr/>
        </p:nvSpPr>
        <p:spPr>
          <a:xfrm>
            <a:off x="6657480" y="28843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矩形 11"/>
          <p:cNvSpPr/>
          <p:nvPr/>
        </p:nvSpPr>
        <p:spPr>
          <a:xfrm>
            <a:off x="4292280" y="2268360"/>
            <a:ext cx="1386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100"/>
                            </p:stCondLst>
                            <p:childTnLst>
                              <p:par>
                                <p:cTn id="117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AutoShape 3"/>
          <p:cNvSpPr/>
          <p:nvPr/>
        </p:nvSpPr>
        <p:spPr>
          <a:xfrm rot="17973000">
            <a:off x="6349320" y="2205360"/>
            <a:ext cx="925560" cy="336600"/>
          </a:xfrm>
          <a:prstGeom prst="rightArrow">
            <a:avLst>
              <a:gd name="adj1" fmla="val 35167"/>
              <a:gd name="adj2" fmla="val 11135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AutoShape 4"/>
          <p:cNvSpPr/>
          <p:nvPr/>
        </p:nvSpPr>
        <p:spPr>
          <a:xfrm rot="3465600">
            <a:off x="6348600" y="4734720"/>
            <a:ext cx="925560" cy="336600"/>
          </a:xfrm>
          <a:prstGeom prst="rightArrow">
            <a:avLst>
              <a:gd name="adj1" fmla="val 35167"/>
              <a:gd name="adj2" fmla="val 11135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AutoShape 5"/>
          <p:cNvSpPr/>
          <p:nvPr/>
        </p:nvSpPr>
        <p:spPr>
          <a:xfrm rot="14368800">
            <a:off x="4924800" y="2293920"/>
            <a:ext cx="925560" cy="336600"/>
          </a:xfrm>
          <a:prstGeom prst="rightArrow">
            <a:avLst>
              <a:gd name="adj1" fmla="val 35167"/>
              <a:gd name="adj2" fmla="val 111351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AutoShape 6"/>
          <p:cNvSpPr/>
          <p:nvPr/>
        </p:nvSpPr>
        <p:spPr>
          <a:xfrm rot="7534800">
            <a:off x="4878360" y="4694040"/>
            <a:ext cx="927000" cy="339840"/>
          </a:xfrm>
          <a:prstGeom prst="rightArrow">
            <a:avLst>
              <a:gd name="adj1" fmla="val 35167"/>
              <a:gd name="adj2" fmla="val 110461"/>
            </a:avLst>
          </a:pr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AutoShape 7"/>
          <p:cNvSpPr/>
          <p:nvPr/>
        </p:nvSpPr>
        <p:spPr>
          <a:xfrm>
            <a:off x="7024680" y="3524400"/>
            <a:ext cx="925560" cy="336240"/>
          </a:xfrm>
          <a:prstGeom prst="rightArrow">
            <a:avLst>
              <a:gd name="adj1" fmla="val 35167"/>
              <a:gd name="adj2" fmla="val 11121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AutoShape 8"/>
          <p:cNvSpPr/>
          <p:nvPr/>
        </p:nvSpPr>
        <p:spPr>
          <a:xfrm rot="10800000">
            <a:off x="4210200" y="3514680"/>
            <a:ext cx="1009440" cy="339840"/>
          </a:xfrm>
          <a:prstGeom prst="rightArrow">
            <a:avLst>
              <a:gd name="adj1" fmla="val 35167"/>
              <a:gd name="adj2" fmla="val 120408"/>
            </a:avLst>
          </a:pr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Oval 9"/>
          <p:cNvSpPr/>
          <p:nvPr/>
        </p:nvSpPr>
        <p:spPr>
          <a:xfrm>
            <a:off x="3913200" y="1457280"/>
            <a:ext cx="4373640" cy="437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4784760" y="2419200"/>
            <a:ext cx="2523600" cy="2523960"/>
            <a:chOff x="4784760" y="2419200"/>
            <a:chExt cx="2523600" cy="2523960"/>
          </a:xfrm>
        </p:grpSpPr>
        <p:sp>
          <p:nvSpPr>
            <p:cNvPr id="994" name="Oval 11"/>
            <p:cNvSpPr/>
            <p:nvPr/>
          </p:nvSpPr>
          <p:spPr>
            <a:xfrm>
              <a:off x="4784760" y="2419200"/>
              <a:ext cx="2523600" cy="2523960"/>
            </a:xfrm>
            <a:prstGeom prst="ellipse">
              <a:avLst/>
            </a:prstGeom>
            <a:solidFill>
              <a:srgbClr val="002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Oval 12"/>
            <p:cNvSpPr/>
            <p:nvPr/>
          </p:nvSpPr>
          <p:spPr>
            <a:xfrm>
              <a:off x="4949280" y="2583720"/>
              <a:ext cx="2193480" cy="2193840"/>
            </a:xfrm>
            <a:prstGeom prst="ellipse">
              <a:avLst/>
            </a:prstGeom>
            <a:solidFill>
              <a:srgbClr val="257b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Oval 14"/>
            <p:cNvSpPr/>
            <p:nvPr/>
          </p:nvSpPr>
          <p:spPr>
            <a:xfrm>
              <a:off x="5068440" y="2693520"/>
              <a:ext cx="1974600" cy="1974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Text Box 20"/>
            <p:cNvSpPr/>
            <p:nvPr/>
          </p:nvSpPr>
          <p:spPr>
            <a:xfrm>
              <a:off x="5573160" y="318312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8" name="AutoShape 21"/>
          <p:cNvSpPr/>
          <p:nvPr/>
        </p:nvSpPr>
        <p:spPr>
          <a:xfrm>
            <a:off x="1133640" y="3429000"/>
            <a:ext cx="3027240" cy="533520"/>
          </a:xfrm>
          <a:prstGeom prst="roundRect">
            <a:avLst>
              <a:gd name="adj" fmla="val 16667"/>
            </a:avLst>
          </a:prstGeom>
          <a:solidFill>
            <a:srgbClr val="f92f95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AutoShape 22"/>
          <p:cNvSpPr/>
          <p:nvPr/>
        </p:nvSpPr>
        <p:spPr>
          <a:xfrm>
            <a:off x="1933560" y="1557360"/>
            <a:ext cx="3029040" cy="5349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AutoShape 23"/>
          <p:cNvSpPr/>
          <p:nvPr/>
        </p:nvSpPr>
        <p:spPr>
          <a:xfrm>
            <a:off x="1933560" y="5121360"/>
            <a:ext cx="3029040" cy="533160"/>
          </a:xfrm>
          <a:prstGeom prst="roundRect">
            <a:avLst>
              <a:gd name="adj" fmla="val 16667"/>
            </a:avLst>
          </a:prstGeom>
          <a:solidFill>
            <a:srgbClr val="00bef0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AutoShape 24"/>
          <p:cNvSpPr/>
          <p:nvPr/>
        </p:nvSpPr>
        <p:spPr>
          <a:xfrm>
            <a:off x="8078760" y="3429000"/>
            <a:ext cx="3116160" cy="5335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AutoShape 25"/>
          <p:cNvSpPr/>
          <p:nvPr/>
        </p:nvSpPr>
        <p:spPr>
          <a:xfrm>
            <a:off x="7186680" y="1557360"/>
            <a:ext cx="3117960" cy="5349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AutoShape 26"/>
          <p:cNvSpPr/>
          <p:nvPr/>
        </p:nvSpPr>
        <p:spPr>
          <a:xfrm>
            <a:off x="7186680" y="5121360"/>
            <a:ext cx="3117960" cy="5331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Group 1" descr=""/>
          <p:cNvPicPr/>
          <p:nvPr/>
        </p:nvPicPr>
        <p:blipFill>
          <a:blip r:embed="rId1"/>
          <a:stretch/>
        </p:blipFill>
        <p:spPr>
          <a:xfrm>
            <a:off x="706320" y="2170080"/>
            <a:ext cx="2792520" cy="2517840"/>
          </a:xfrm>
          <a:prstGeom prst="rect">
            <a:avLst/>
          </a:prstGeom>
          <a:ln w="0">
            <a:noFill/>
          </a:ln>
        </p:spPr>
      </p:pic>
      <p:pic>
        <p:nvPicPr>
          <p:cNvPr id="1006" name="Group 4" descr=""/>
          <p:cNvPicPr/>
          <p:nvPr/>
        </p:nvPicPr>
        <p:blipFill>
          <a:blip r:embed="rId2"/>
          <a:stretch/>
        </p:blipFill>
        <p:spPr>
          <a:xfrm>
            <a:off x="2352600" y="2468520"/>
            <a:ext cx="2305080" cy="2060640"/>
          </a:xfrm>
          <a:prstGeom prst="rect">
            <a:avLst/>
          </a:prstGeom>
          <a:ln w="0">
            <a:noFill/>
          </a:ln>
        </p:spPr>
      </p:pic>
      <p:grpSp>
        <p:nvGrpSpPr>
          <p:cNvPr id="1007" name=""/>
          <p:cNvGrpSpPr/>
          <p:nvPr/>
        </p:nvGrpSpPr>
        <p:grpSpPr>
          <a:xfrm>
            <a:off x="5192640" y="2066760"/>
            <a:ext cx="6276960" cy="2724480"/>
            <a:chOff x="5192640" y="2066760"/>
            <a:chExt cx="6276960" cy="2724480"/>
          </a:xfrm>
        </p:grpSpPr>
        <p:sp>
          <p:nvSpPr>
            <p:cNvPr id="1008" name="AutoShape 8"/>
            <p:cNvSpPr/>
            <p:nvPr/>
          </p:nvSpPr>
          <p:spPr>
            <a:xfrm>
              <a:off x="5192640" y="2066760"/>
              <a:ext cx="6276960" cy="272448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AutoShape 9"/>
            <p:cNvSpPr/>
            <p:nvPr/>
          </p:nvSpPr>
          <p:spPr>
            <a:xfrm>
              <a:off x="5220360" y="2356560"/>
              <a:ext cx="6221160" cy="214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7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0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Line 1"/>
          <p:cNvSpPr/>
          <p:nvPr/>
        </p:nvSpPr>
        <p:spPr>
          <a:xfrm>
            <a:off x="2467080" y="354816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Line 2"/>
          <p:cNvSpPr/>
          <p:nvPr/>
        </p:nvSpPr>
        <p:spPr>
          <a:xfrm>
            <a:off x="5991120" y="118260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760840" y="1521000"/>
            <a:ext cx="2912760" cy="1719000"/>
            <a:chOff x="2760840" y="1521000"/>
            <a:chExt cx="2912760" cy="1719000"/>
          </a:xfrm>
        </p:grpSpPr>
        <p:sp>
          <p:nvSpPr>
            <p:cNvPr id="1014" name="AutoShape 4"/>
            <p:cNvSpPr/>
            <p:nvPr/>
          </p:nvSpPr>
          <p:spPr>
            <a:xfrm>
              <a:off x="2760840" y="1521000"/>
              <a:ext cx="2912760" cy="171900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AutoShape 5"/>
            <p:cNvSpPr/>
            <p:nvPr/>
          </p:nvSpPr>
          <p:spPr>
            <a:xfrm>
              <a:off x="2794680" y="185904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6308640" y="1506600"/>
            <a:ext cx="2913120" cy="1717560"/>
            <a:chOff x="6308640" y="1506600"/>
            <a:chExt cx="2913120" cy="1717560"/>
          </a:xfrm>
        </p:grpSpPr>
        <p:sp>
          <p:nvSpPr>
            <p:cNvPr id="1017" name="AutoShape 7"/>
            <p:cNvSpPr/>
            <p:nvPr/>
          </p:nvSpPr>
          <p:spPr>
            <a:xfrm>
              <a:off x="6308640" y="1506600"/>
              <a:ext cx="291312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AutoShape 8"/>
            <p:cNvSpPr/>
            <p:nvPr/>
          </p:nvSpPr>
          <p:spPr>
            <a:xfrm>
              <a:off x="6342480" y="1843920"/>
              <a:ext cx="284544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6296040" y="3875040"/>
            <a:ext cx="2914560" cy="1717560"/>
            <a:chOff x="6296040" y="3875040"/>
            <a:chExt cx="2914560" cy="1717560"/>
          </a:xfrm>
        </p:grpSpPr>
        <p:sp>
          <p:nvSpPr>
            <p:cNvPr id="1020" name="AutoShape 10"/>
            <p:cNvSpPr/>
            <p:nvPr/>
          </p:nvSpPr>
          <p:spPr>
            <a:xfrm>
              <a:off x="6296040" y="387504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AutoShape 11"/>
            <p:cNvSpPr/>
            <p:nvPr/>
          </p:nvSpPr>
          <p:spPr>
            <a:xfrm>
              <a:off x="6329880" y="421236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2760840" y="3886200"/>
            <a:ext cx="2912760" cy="1719360"/>
            <a:chOff x="2760840" y="3886200"/>
            <a:chExt cx="2912760" cy="1719360"/>
          </a:xfrm>
        </p:grpSpPr>
        <p:sp>
          <p:nvSpPr>
            <p:cNvPr id="1023" name="AutoShape 13"/>
            <p:cNvSpPr/>
            <p:nvPr/>
          </p:nvSpPr>
          <p:spPr>
            <a:xfrm>
              <a:off x="2760840" y="388620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AutoShape 14"/>
            <p:cNvSpPr/>
            <p:nvPr/>
          </p:nvSpPr>
          <p:spPr>
            <a:xfrm>
              <a:off x="2794680" y="422424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2271600" y="1033560"/>
            <a:ext cx="976320" cy="974520"/>
            <a:chOff x="2271600" y="1033560"/>
            <a:chExt cx="976320" cy="974520"/>
          </a:xfrm>
        </p:grpSpPr>
        <p:sp>
          <p:nvSpPr>
            <p:cNvPr id="1026" name="AutoShape 16"/>
            <p:cNvSpPr/>
            <p:nvPr/>
          </p:nvSpPr>
          <p:spPr>
            <a:xfrm>
              <a:off x="2271600" y="1033560"/>
              <a:ext cx="976320" cy="9745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27" name=""/>
            <p:cNvGrpSpPr/>
            <p:nvPr/>
          </p:nvGrpSpPr>
          <p:grpSpPr>
            <a:xfrm>
              <a:off x="2365200" y="1106640"/>
              <a:ext cx="789120" cy="828000"/>
              <a:chOff x="2365200" y="1106640"/>
              <a:chExt cx="789120" cy="828000"/>
            </a:xfrm>
          </p:grpSpPr>
          <p:sp>
            <p:nvSpPr>
              <p:cNvPr id="1028" name="AutoShape 18"/>
              <p:cNvSpPr/>
              <p:nvPr/>
            </p:nvSpPr>
            <p:spPr>
              <a:xfrm>
                <a:off x="2365200" y="1126800"/>
                <a:ext cx="789120" cy="78768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AutoShape 19"/>
              <p:cNvSpPr/>
              <p:nvPr/>
            </p:nvSpPr>
            <p:spPr>
              <a:xfrm>
                <a:off x="2480760" y="1106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0" name=""/>
          <p:cNvGrpSpPr/>
          <p:nvPr/>
        </p:nvGrpSpPr>
        <p:grpSpPr>
          <a:xfrm>
            <a:off x="8709120" y="1033560"/>
            <a:ext cx="976320" cy="974520"/>
            <a:chOff x="8709120" y="1033560"/>
            <a:chExt cx="976320" cy="974520"/>
          </a:xfrm>
        </p:grpSpPr>
        <p:sp>
          <p:nvSpPr>
            <p:cNvPr id="1031" name="AutoShape 21"/>
            <p:cNvSpPr/>
            <p:nvPr/>
          </p:nvSpPr>
          <p:spPr>
            <a:xfrm>
              <a:off x="8709120" y="1033560"/>
              <a:ext cx="976320" cy="9745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8802720" y="1106640"/>
              <a:ext cx="789120" cy="828000"/>
              <a:chOff x="8802720" y="1106640"/>
              <a:chExt cx="789120" cy="828000"/>
            </a:xfrm>
          </p:grpSpPr>
          <p:sp>
            <p:nvSpPr>
              <p:cNvPr id="1033" name="AutoShape 23"/>
              <p:cNvSpPr/>
              <p:nvPr/>
            </p:nvSpPr>
            <p:spPr>
              <a:xfrm>
                <a:off x="8802720" y="1126800"/>
                <a:ext cx="789120" cy="78768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c000"/>
              </a:solidFill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4" name="AutoShape 24"/>
              <p:cNvSpPr/>
              <p:nvPr/>
            </p:nvSpPr>
            <p:spPr>
              <a:xfrm>
                <a:off x="8918280" y="1106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5" name=""/>
          <p:cNvGrpSpPr/>
          <p:nvPr/>
        </p:nvGrpSpPr>
        <p:grpSpPr>
          <a:xfrm>
            <a:off x="2271600" y="5116680"/>
            <a:ext cx="976320" cy="976320"/>
            <a:chOff x="2271600" y="5116680"/>
            <a:chExt cx="976320" cy="976320"/>
          </a:xfrm>
        </p:grpSpPr>
        <p:sp>
          <p:nvSpPr>
            <p:cNvPr id="1036" name="AutoShape 26"/>
            <p:cNvSpPr/>
            <p:nvPr/>
          </p:nvSpPr>
          <p:spPr>
            <a:xfrm>
              <a:off x="2271600" y="51166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92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2365200" y="5190840"/>
              <a:ext cx="789120" cy="828000"/>
              <a:chOff x="2365200" y="5190840"/>
              <a:chExt cx="789120" cy="828000"/>
            </a:xfrm>
          </p:grpSpPr>
          <p:sp>
            <p:nvSpPr>
              <p:cNvPr id="1038" name="AutoShape 28"/>
              <p:cNvSpPr/>
              <p:nvPr/>
            </p:nvSpPr>
            <p:spPr>
              <a:xfrm>
                <a:off x="2365200" y="52102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92f95"/>
              </a:solidFill>
              <a:ln w="12600">
                <a:solidFill>
                  <a:srgbClr val="f92f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AutoShape 29"/>
              <p:cNvSpPr/>
              <p:nvPr/>
            </p:nvSpPr>
            <p:spPr>
              <a:xfrm>
                <a:off x="2480760" y="51908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0" name=""/>
          <p:cNvGrpSpPr/>
          <p:nvPr/>
        </p:nvGrpSpPr>
        <p:grpSpPr>
          <a:xfrm>
            <a:off x="8709120" y="5116680"/>
            <a:ext cx="976320" cy="976320"/>
            <a:chOff x="8709120" y="5116680"/>
            <a:chExt cx="976320" cy="976320"/>
          </a:xfrm>
        </p:grpSpPr>
        <p:sp>
          <p:nvSpPr>
            <p:cNvPr id="1041" name="AutoShape 31"/>
            <p:cNvSpPr/>
            <p:nvPr/>
          </p:nvSpPr>
          <p:spPr>
            <a:xfrm>
              <a:off x="8709120" y="51166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257b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8802720" y="5190840"/>
              <a:ext cx="789120" cy="828000"/>
              <a:chOff x="8802720" y="5190840"/>
              <a:chExt cx="789120" cy="828000"/>
            </a:xfrm>
          </p:grpSpPr>
          <p:sp>
            <p:nvSpPr>
              <p:cNvPr id="1043" name="AutoShape 33"/>
              <p:cNvSpPr/>
              <p:nvPr/>
            </p:nvSpPr>
            <p:spPr>
              <a:xfrm>
                <a:off x="8802720" y="52102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0070c0"/>
              </a:solidFill>
              <a:ln w="12600">
                <a:solidFill>
                  <a:srgbClr val="257b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AutoShape 34"/>
              <p:cNvSpPr/>
              <p:nvPr/>
            </p:nvSpPr>
            <p:spPr>
              <a:xfrm>
                <a:off x="8918280" y="51908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45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1048" name="AutoShape 218"/>
            <p:cNvSpPr/>
            <p:nvPr/>
          </p:nvSpPr>
          <p:spPr>
            <a:xfrm>
              <a:off x="4537440" y="4953960"/>
              <a:ext cx="4937040" cy="265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9" name=""/>
            <p:cNvGrpSpPr/>
            <p:nvPr/>
          </p:nvGrpSpPr>
          <p:grpSpPr>
            <a:xfrm>
              <a:off x="4308480" y="4464000"/>
              <a:ext cx="5335560" cy="713880"/>
              <a:chOff x="4308480" y="4464000"/>
              <a:chExt cx="5335560" cy="713880"/>
            </a:xfrm>
          </p:grpSpPr>
          <p:pic>
            <p:nvPicPr>
              <p:cNvPr id="1050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1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1" name=""/>
              <p:cNvSpPr/>
              <p:nvPr/>
            </p:nvSpPr>
            <p:spPr>
              <a:xfrm>
                <a:off x="4456080" y="4587840"/>
                <a:ext cx="503856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52" name="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1053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1055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6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57" name="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1058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1060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1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62" name="AutoShape 132"/>
          <p:cNvSpPr/>
          <p:nvPr/>
        </p:nvSpPr>
        <p:spPr>
          <a:xfrm>
            <a:off x="2398680" y="1255680"/>
            <a:ext cx="1752480" cy="4148280"/>
          </a:xfrm>
          <a:prstGeom prst="upArrow">
            <a:avLst>
              <a:gd name="adj1" fmla="val 66296"/>
              <a:gd name="adj2" fmla="val 58432"/>
            </a:avLst>
          </a:prstGeom>
          <a:gradFill rotWithShape="0">
            <a:gsLst>
              <a:gs pos="0">
                <a:srgbClr val="000000"/>
              </a:gs>
              <a:gs pos="100000">
                <a:srgbClr val="257bc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257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50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500"/>
                            </p:stCondLst>
                            <p:childTnLst>
                              <p:par>
                                <p:cTn id="223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AutoShape 58"/>
          <p:cNvSpPr/>
          <p:nvPr/>
        </p:nvSpPr>
        <p:spPr>
          <a:xfrm>
            <a:off x="2308320" y="1897200"/>
            <a:ext cx="8151840" cy="1800000"/>
          </a:xfrm>
          <a:prstGeom prst="rightArrow">
            <a:avLst>
              <a:gd name="adj1" fmla="val 46843"/>
              <a:gd name="adj2" fmla="val 58287"/>
            </a:avLst>
          </a:prstGeom>
          <a:gradFill rotWithShape="0">
            <a:gsLst>
              <a:gs pos="0">
                <a:srgbClr val="257bc0">
                  <a:alpha val="0"/>
                </a:srgbClr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80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81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82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83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84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90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91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92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93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94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AutoShape 1"/>
          <p:cNvSpPr/>
          <p:nvPr/>
        </p:nvSpPr>
        <p:spPr>
          <a:xfrm>
            <a:off x="6656400" y="515160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AutoShape 2"/>
          <p:cNvSpPr/>
          <p:nvPr/>
        </p:nvSpPr>
        <p:spPr>
          <a:xfrm>
            <a:off x="5991120" y="59832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AutoShape 1"/>
          <p:cNvSpPr/>
          <p:nvPr/>
        </p:nvSpPr>
        <p:spPr>
          <a:xfrm>
            <a:off x="343080" y="1620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500"/>
                            </p:stCondLst>
                            <p:childTnLst>
                              <p:par>
                                <p:cTn id="2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6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5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000"/>
                            </p:stCondLst>
                            <p:childTnLst>
                              <p:par>
                                <p:cTn id="2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500"/>
                            </p:stCondLst>
                            <p:childTnLst>
                              <p:par>
                                <p:cTn id="2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000"/>
                            </p:stCondLst>
                            <p:childTnLst>
                              <p:par>
                                <p:cTn id="2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500"/>
                            </p:stCondLst>
                            <p:childTnLst>
                              <p:par>
                                <p:cTn id="3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000"/>
                            </p:stCondLst>
                            <p:childTnLst>
                              <p:par>
                                <p:cTn id="3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500"/>
                            </p:stCondLst>
                            <p:childTnLst>
                              <p:par>
                                <p:cTn id="3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4500"/>
                            </p:stCondLst>
                            <p:childTnLst>
                              <p:par>
                                <p:cTn id="3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3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7500"/>
                            </p:stCondLst>
                            <p:childTnLst>
                              <p:par>
                                <p:cTn id="37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8600"/>
                            </p:stCondLst>
                            <p:childTnLst>
                              <p:par>
                                <p:cTn id="37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矩形 10"/>
          <p:cNvSpPr/>
          <p:nvPr/>
        </p:nvSpPr>
        <p:spPr>
          <a:xfrm>
            <a:off x="631800" y="425304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直接连接符 8"/>
          <p:cNvSpPr/>
          <p:nvPr/>
        </p:nvSpPr>
        <p:spPr>
          <a:xfrm flipV="1">
            <a:off x="880920" y="4253040"/>
            <a:ext cx="4897440" cy="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矩形 9"/>
          <p:cNvSpPr/>
          <p:nvPr/>
        </p:nvSpPr>
        <p:spPr>
          <a:xfrm>
            <a:off x="3142440" y="3438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矩形 10"/>
          <p:cNvSpPr/>
          <p:nvPr/>
        </p:nvSpPr>
        <p:spPr>
          <a:xfrm>
            <a:off x="5992560" y="2757600"/>
            <a:ext cx="1386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1119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2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图片 1" descr=""/>
          <p:cNvPicPr/>
          <p:nvPr/>
        </p:nvPicPr>
        <p:blipFill>
          <a:blip r:embed="rId1"/>
          <a:stretch/>
        </p:blipFill>
        <p:spPr>
          <a:xfrm>
            <a:off x="65160" y="0"/>
            <a:ext cx="120618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Group 2" descr=""/>
          <p:cNvPicPr/>
          <p:nvPr/>
        </p:nvPicPr>
        <p:blipFill>
          <a:blip r:embed="rId1"/>
          <a:stretch/>
        </p:blipFill>
        <p:spPr>
          <a:xfrm>
            <a:off x="2266920" y="1731960"/>
            <a:ext cx="2421000" cy="852480"/>
          </a:xfrm>
          <a:prstGeom prst="rect">
            <a:avLst/>
          </a:prstGeom>
          <a:ln w="0">
            <a:noFill/>
          </a:ln>
        </p:spPr>
      </p:pic>
      <p:pic>
        <p:nvPicPr>
          <p:cNvPr id="1133" name="Group 6" descr=""/>
          <p:cNvPicPr/>
          <p:nvPr/>
        </p:nvPicPr>
        <p:blipFill>
          <a:blip r:embed="rId2"/>
          <a:stretch/>
        </p:blipFill>
        <p:spPr>
          <a:xfrm>
            <a:off x="4857840" y="1731960"/>
            <a:ext cx="2414520" cy="852480"/>
          </a:xfrm>
          <a:prstGeom prst="rect">
            <a:avLst/>
          </a:prstGeom>
          <a:ln w="0">
            <a:noFill/>
          </a:ln>
        </p:spPr>
      </p:pic>
      <p:pic>
        <p:nvPicPr>
          <p:cNvPr id="1134" name="Group 10" descr=""/>
          <p:cNvPicPr/>
          <p:nvPr/>
        </p:nvPicPr>
        <p:blipFill>
          <a:blip r:embed="rId3"/>
          <a:stretch/>
        </p:blipFill>
        <p:spPr>
          <a:xfrm>
            <a:off x="7454880" y="1731960"/>
            <a:ext cx="2414520" cy="852480"/>
          </a:xfrm>
          <a:prstGeom prst="rect">
            <a:avLst/>
          </a:prstGeom>
          <a:ln w="0">
            <a:noFill/>
          </a:ln>
        </p:spPr>
      </p:pic>
      <p:sp>
        <p:nvSpPr>
          <p:cNvPr id="1135" name="AutoShape 24"/>
          <p:cNvSpPr/>
          <p:nvPr/>
        </p:nvSpPr>
        <p:spPr>
          <a:xfrm>
            <a:off x="2268360" y="26827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AutoShape 25"/>
          <p:cNvSpPr/>
          <p:nvPr/>
        </p:nvSpPr>
        <p:spPr>
          <a:xfrm>
            <a:off x="4856040" y="26827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00be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AutoShape 26"/>
          <p:cNvSpPr/>
          <p:nvPr/>
        </p:nvSpPr>
        <p:spPr>
          <a:xfrm>
            <a:off x="7450200" y="26827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AutoShape 1"/>
          <p:cNvSpPr/>
          <p:nvPr/>
        </p:nvSpPr>
        <p:spPr>
          <a:xfrm>
            <a:off x="343080" y="1620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00bef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f92f95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Rectangle 15"/>
          <p:cNvSpPr/>
          <p:nvPr/>
        </p:nvSpPr>
        <p:spPr>
          <a:xfrm>
            <a:off x="4340160" y="381780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AutoShape 4"/>
          <p:cNvSpPr/>
          <p:nvPr/>
        </p:nvSpPr>
        <p:spPr>
          <a:xfrm rot="19367400">
            <a:off x="3087360" y="1501560"/>
            <a:ext cx="4940280" cy="4565520"/>
          </a:xfrm>
          <a:custGeom>
            <a:avLst/>
            <a:gdLst>
              <a:gd name="textAreaLeft" fmla="*/ 723240 w 4940280"/>
              <a:gd name="textAreaRight" fmla="*/ 4217040 w 4940280"/>
              <a:gd name="textAreaTop" fmla="*/ 668520 h 4565520"/>
              <a:gd name="textAreaBottom" fmla="*/ 3897000 h 4565520"/>
            </a:gdLst>
            <a:ahLst/>
            <a:rect l="textAreaLeft" t="textAreaTop" r="textAreaRight" b="textAreaBottom"/>
            <a:pathLst>
              <a:path w="21600" h="20420">
                <a:moveTo>
                  <a:pt x="15955" y="16037"/>
                </a:moveTo>
                <a:cubicBezTo>
                  <a:pt x="17358" y="14655"/>
                  <a:pt x="18149" y="12769"/>
                  <a:pt x="18149" y="10800"/>
                </a:cubicBezTo>
                <a:cubicBezTo>
                  <a:pt x="18149" y="9018"/>
                  <a:pt x="17501" y="7297"/>
                  <a:pt x="16328" y="5957"/>
                </a:cubicBezTo>
                <a:lnTo>
                  <a:pt x="18924" y="3683"/>
                </a:lnTo>
                <a:cubicBezTo>
                  <a:pt x="20649" y="5653"/>
                  <a:pt x="21600" y="8182"/>
                  <a:pt x="21600" y="10800"/>
                </a:cubicBezTo>
                <a:cubicBezTo>
                  <a:pt x="21600" y="13693"/>
                  <a:pt x="20438" y="16466"/>
                  <a:pt x="18376" y="18496"/>
                </a:cubicBezTo>
                <a:lnTo>
                  <a:pt x="20270" y="20420"/>
                </a:lnTo>
                <a:lnTo>
                  <a:pt x="14012" y="20372"/>
                </a:lnTo>
                <a:lnTo>
                  <a:pt x="14061" y="14113"/>
                </a:lnTo>
                <a:lnTo>
                  <a:pt x="15955" y="16037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AutoShape 5"/>
          <p:cNvSpPr/>
          <p:nvPr/>
        </p:nvSpPr>
        <p:spPr>
          <a:xfrm rot="5077800">
            <a:off x="3224880" y="1189800"/>
            <a:ext cx="4941720" cy="4565520"/>
          </a:xfrm>
          <a:custGeom>
            <a:avLst/>
            <a:gdLst>
              <a:gd name="textAreaLeft" fmla="*/ 723600 w 4941720"/>
              <a:gd name="textAreaRight" fmla="*/ 4218120 w 4941720"/>
              <a:gd name="textAreaTop" fmla="*/ 668520 h 4565520"/>
              <a:gd name="textAreaBottom" fmla="*/ 3897000 h 4565520"/>
            </a:gdLst>
            <a:ahLst/>
            <a:rect l="textAreaLeft" t="textAreaTop" r="textAreaRight" b="textAreaBottom"/>
            <a:pathLst>
              <a:path w="21600" h="20420">
                <a:moveTo>
                  <a:pt x="15955" y="16037"/>
                </a:moveTo>
                <a:cubicBezTo>
                  <a:pt x="17358" y="14655"/>
                  <a:pt x="18149" y="12769"/>
                  <a:pt x="18149" y="10800"/>
                </a:cubicBezTo>
                <a:cubicBezTo>
                  <a:pt x="18149" y="9018"/>
                  <a:pt x="17501" y="7297"/>
                  <a:pt x="16327" y="5957"/>
                </a:cubicBezTo>
                <a:lnTo>
                  <a:pt x="18923" y="3683"/>
                </a:lnTo>
                <a:cubicBezTo>
                  <a:pt x="20648" y="5652"/>
                  <a:pt x="21600" y="8181"/>
                  <a:pt x="21600" y="10800"/>
                </a:cubicBezTo>
                <a:cubicBezTo>
                  <a:pt x="21600" y="13693"/>
                  <a:pt x="20438" y="16466"/>
                  <a:pt x="18376" y="18496"/>
                </a:cubicBezTo>
                <a:lnTo>
                  <a:pt x="20270" y="20420"/>
                </a:lnTo>
                <a:lnTo>
                  <a:pt x="14012" y="20372"/>
                </a:lnTo>
                <a:lnTo>
                  <a:pt x="14061" y="14113"/>
                </a:lnTo>
                <a:lnTo>
                  <a:pt x="15955" y="16037"/>
                </a:lnTo>
                <a:close/>
              </a:path>
            </a:pathLst>
          </a:custGeom>
          <a:solidFill>
            <a:srgbClr val="00bef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AutoShape 6"/>
          <p:cNvSpPr/>
          <p:nvPr/>
        </p:nvSpPr>
        <p:spPr>
          <a:xfrm rot="12146400">
            <a:off x="3435120" y="1460520"/>
            <a:ext cx="4941720" cy="4564080"/>
          </a:xfrm>
          <a:custGeom>
            <a:avLst/>
            <a:gdLst>
              <a:gd name="textAreaLeft" fmla="*/ 723600 w 4941720"/>
              <a:gd name="textAreaRight" fmla="*/ 4218120 w 4941720"/>
              <a:gd name="textAreaTop" fmla="*/ 668160 h 4564080"/>
              <a:gd name="textAreaBottom" fmla="*/ 3895920 h 4564080"/>
            </a:gdLst>
            <a:ahLst/>
            <a:rect l="textAreaLeft" t="textAreaTop" r="textAreaRight" b="textAreaBottom"/>
            <a:pathLst>
              <a:path w="21600" h="20420">
                <a:moveTo>
                  <a:pt x="15955" y="16037"/>
                </a:moveTo>
                <a:cubicBezTo>
                  <a:pt x="17358" y="14655"/>
                  <a:pt x="18149" y="12769"/>
                  <a:pt x="18149" y="10800"/>
                </a:cubicBezTo>
                <a:cubicBezTo>
                  <a:pt x="18149" y="9130"/>
                  <a:pt x="17580" y="7511"/>
                  <a:pt x="16538" y="6208"/>
                </a:cubicBezTo>
                <a:lnTo>
                  <a:pt x="19232" y="4052"/>
                </a:lnTo>
                <a:cubicBezTo>
                  <a:pt x="20765" y="5967"/>
                  <a:pt x="21600" y="8347"/>
                  <a:pt x="21600" y="10800"/>
                </a:cubicBezTo>
                <a:cubicBezTo>
                  <a:pt x="21600" y="13693"/>
                  <a:pt x="20438" y="16466"/>
                  <a:pt x="18376" y="18496"/>
                </a:cubicBezTo>
                <a:lnTo>
                  <a:pt x="20270" y="20420"/>
                </a:lnTo>
                <a:lnTo>
                  <a:pt x="14012" y="20372"/>
                </a:lnTo>
                <a:lnTo>
                  <a:pt x="14061" y="14113"/>
                </a:lnTo>
                <a:lnTo>
                  <a:pt x="15955" y="16037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WordArt 7"/>
          <p:cNvSpPr txBox="1"/>
          <p:nvPr/>
        </p:nvSpPr>
        <p:spPr>
          <a:xfrm rot="3394200">
            <a:off x="4891680" y="2139120"/>
            <a:ext cx="2762280" cy="2325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Calibri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1165" name="WordArt 8"/>
          <p:cNvSpPr txBox="1"/>
          <p:nvPr/>
        </p:nvSpPr>
        <p:spPr>
          <a:xfrm rot="79200">
            <a:off x="4068720" y="3154320"/>
            <a:ext cx="3247920" cy="2325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8914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1166" name="WordArt 9"/>
          <p:cNvSpPr txBox="1"/>
          <p:nvPr/>
        </p:nvSpPr>
        <p:spPr>
          <a:xfrm rot="17984400">
            <a:off x="3724920" y="2216520"/>
            <a:ext cx="2764080" cy="23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1167" name="Line 16"/>
          <p:cNvSpPr/>
          <p:nvPr/>
        </p:nvSpPr>
        <p:spPr>
          <a:xfrm>
            <a:off x="1941480" y="2197080"/>
            <a:ext cx="1800360" cy="0"/>
          </a:xfrm>
          <a:prstGeom prst="line">
            <a:avLst/>
          </a:prstGeom>
          <a:ln w="19080">
            <a:solidFill>
              <a:srgbClr val="257b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Line 17"/>
          <p:cNvSpPr/>
          <p:nvPr/>
        </p:nvSpPr>
        <p:spPr>
          <a:xfrm flipH="1">
            <a:off x="4863600" y="6456240"/>
            <a:ext cx="1800360" cy="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Line 18"/>
          <p:cNvSpPr/>
          <p:nvPr/>
        </p:nvSpPr>
        <p:spPr>
          <a:xfrm flipH="1">
            <a:off x="7566120" y="2197080"/>
            <a:ext cx="1800000" cy="0"/>
          </a:xfrm>
          <a:prstGeom prst="line">
            <a:avLst/>
          </a:prstGeom>
          <a:ln w="19080">
            <a:solidFill>
              <a:srgbClr val="257b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Rectangle 20"/>
          <p:cNvSpPr/>
          <p:nvPr/>
        </p:nvSpPr>
        <p:spPr>
          <a:xfrm>
            <a:off x="4854600" y="313704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Box 22"/>
          <p:cNvSpPr/>
          <p:nvPr/>
        </p:nvSpPr>
        <p:spPr>
          <a:xfrm>
            <a:off x="1415880" y="173052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Rectangle 23"/>
          <p:cNvSpPr/>
          <p:nvPr/>
        </p:nvSpPr>
        <p:spPr>
          <a:xfrm>
            <a:off x="1411200" y="2262240"/>
            <a:ext cx="21369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 Box 22"/>
          <p:cNvSpPr/>
          <p:nvPr/>
        </p:nvSpPr>
        <p:spPr>
          <a:xfrm>
            <a:off x="7734240" y="173052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23"/>
          <p:cNvSpPr/>
          <p:nvPr/>
        </p:nvSpPr>
        <p:spPr>
          <a:xfrm>
            <a:off x="7729560" y="22622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 Box 22"/>
          <p:cNvSpPr/>
          <p:nvPr/>
        </p:nvSpPr>
        <p:spPr>
          <a:xfrm>
            <a:off x="4726080" y="603900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Rectangle 23"/>
          <p:cNvSpPr/>
          <p:nvPr/>
        </p:nvSpPr>
        <p:spPr>
          <a:xfrm>
            <a:off x="2705040" y="6022800"/>
            <a:ext cx="21369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ctr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ctr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Object 2" descr=""/>
          <p:cNvPicPr/>
          <p:nvPr/>
        </p:nvPicPr>
        <p:blipFill>
          <a:blip r:embed="rId1"/>
          <a:stretch/>
        </p:blipFill>
        <p:spPr>
          <a:xfrm>
            <a:off x="73080" y="12600"/>
            <a:ext cx="11795040" cy="6642360"/>
          </a:xfrm>
          <a:prstGeom prst="rect">
            <a:avLst/>
          </a:prstGeom>
          <a:ln w="0">
            <a:noFill/>
          </a:ln>
        </p:spPr>
      </p:pic>
      <p:sp>
        <p:nvSpPr>
          <p:cNvPr id="1179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矩形 10"/>
          <p:cNvSpPr/>
          <p:nvPr/>
        </p:nvSpPr>
        <p:spPr>
          <a:xfrm>
            <a:off x="6031080" y="369900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直接连接符 13"/>
          <p:cNvSpPr/>
          <p:nvPr/>
        </p:nvSpPr>
        <p:spPr>
          <a:xfrm flipV="1">
            <a:off x="6031080" y="3699000"/>
            <a:ext cx="4897440" cy="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矩形 14"/>
          <p:cNvSpPr/>
          <p:nvPr/>
        </p:nvSpPr>
        <p:spPr>
          <a:xfrm>
            <a:off x="6657480" y="28843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矩形 15"/>
          <p:cNvSpPr/>
          <p:nvPr/>
        </p:nvSpPr>
        <p:spPr>
          <a:xfrm>
            <a:off x="4292280" y="2268360"/>
            <a:ext cx="1386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圆角矩形 1"/>
          <p:cNvSpPr/>
          <p:nvPr/>
        </p:nvSpPr>
        <p:spPr>
          <a:xfrm>
            <a:off x="6334200" y="1947960"/>
            <a:ext cx="1566720" cy="1954080"/>
          </a:xfrm>
          <a:custGeom>
            <a:avLst/>
            <a:gdLst>
              <a:gd name="textAreaLeft" fmla="*/ 0 w 1566720"/>
              <a:gd name="textAreaRight" fmla="*/ 1567080 w 1566720"/>
              <a:gd name="textAreaTop" fmla="*/ 0 h 1954080"/>
              <a:gd name="textAreaBottom" fmla="*/ 1954440 h 1954080"/>
            </a:gdLst>
            <a:ahLst/>
            <a:rect l="textAreaLeft" t="textAreaTop" r="textAreaRight" b="textAreaBottom"/>
            <a:pathLst>
              <a:path w="21600" h="26939">
                <a:moveTo>
                  <a:pt x="0" y="0"/>
                </a:moveTo>
                <a:arcTo wR="0" hR="0" stAng="16200000" swAng="-5400000"/>
                <a:lnTo>
                  <a:pt x="0" y="26939"/>
                </a:lnTo>
                <a:arcTo wR="0" hR="0" stAng="10800000" swAng="-5400000"/>
                <a:lnTo>
                  <a:pt x="21600" y="2693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圆角矩形 2"/>
          <p:cNvSpPr/>
          <p:nvPr/>
        </p:nvSpPr>
        <p:spPr>
          <a:xfrm>
            <a:off x="6334200" y="4064040"/>
            <a:ext cx="1566720" cy="1954080"/>
          </a:xfrm>
          <a:custGeom>
            <a:avLst/>
            <a:gdLst>
              <a:gd name="textAreaLeft" fmla="*/ 0 w 1566720"/>
              <a:gd name="textAreaRight" fmla="*/ 1567080 w 1566720"/>
              <a:gd name="textAreaTop" fmla="*/ 0 h 1954080"/>
              <a:gd name="textAreaBottom" fmla="*/ 1954440 h 1954080"/>
            </a:gdLst>
            <a:ahLst/>
            <a:rect l="textAreaLeft" t="textAreaTop" r="textAreaRight" b="textAreaBottom"/>
            <a:pathLst>
              <a:path w="21600" h="26939">
                <a:moveTo>
                  <a:pt x="0" y="0"/>
                </a:moveTo>
                <a:arcTo wR="0" hR="0" stAng="16200000" swAng="-5400000"/>
                <a:lnTo>
                  <a:pt x="0" y="26939"/>
                </a:lnTo>
                <a:arcTo wR="0" hR="0" stAng="10800000" swAng="-5400000"/>
                <a:lnTo>
                  <a:pt x="21600" y="2693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AutoShape 106"/>
          <p:cNvSpPr/>
          <p:nvPr/>
        </p:nvSpPr>
        <p:spPr>
          <a:xfrm>
            <a:off x="1728720" y="4064040"/>
            <a:ext cx="2881440" cy="1944720"/>
          </a:xfrm>
          <a:prstGeom prst="roundRect">
            <a:avLst>
              <a:gd name="adj" fmla="val 0"/>
            </a:avLst>
          </a:prstGeom>
          <a:solidFill>
            <a:srgbClr val="002d86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AutoShape 106"/>
          <p:cNvSpPr/>
          <p:nvPr/>
        </p:nvSpPr>
        <p:spPr>
          <a:xfrm>
            <a:off x="1728720" y="1952640"/>
            <a:ext cx="2881440" cy="1944720"/>
          </a:xfrm>
          <a:prstGeom prst="roundRect">
            <a:avLst>
              <a:gd name="adj" fmla="val 0"/>
            </a:avLst>
          </a:prstGeom>
          <a:solidFill>
            <a:srgbClr val="002d86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圆角矩形 5"/>
          <p:cNvSpPr/>
          <p:nvPr/>
        </p:nvSpPr>
        <p:spPr>
          <a:xfrm>
            <a:off x="4610160" y="1947960"/>
            <a:ext cx="1565280" cy="195408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954080"/>
              <a:gd name="textAreaBottom" fmla="*/ 1954440 h 1954080"/>
            </a:gdLst>
            <a:ahLst/>
            <a:rect l="textAreaLeft" t="textAreaTop" r="textAreaRight" b="textAreaBottom"/>
            <a:pathLst>
              <a:path w="21600" h="26964">
                <a:moveTo>
                  <a:pt x="0" y="0"/>
                </a:moveTo>
                <a:arcTo wR="0" hR="0" stAng="16200000" swAng="-5400000"/>
                <a:lnTo>
                  <a:pt x="0" y="26964"/>
                </a:lnTo>
                <a:arcTo wR="0" hR="0" stAng="10800000" swAng="-5400000"/>
                <a:lnTo>
                  <a:pt x="21600" y="2696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圆角矩形 6"/>
          <p:cNvSpPr/>
          <p:nvPr/>
        </p:nvSpPr>
        <p:spPr>
          <a:xfrm>
            <a:off x="4610160" y="4064040"/>
            <a:ext cx="1565280" cy="195408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954080"/>
              <a:gd name="textAreaBottom" fmla="*/ 1954440 h 1954080"/>
            </a:gdLst>
            <a:ahLst/>
            <a:rect l="textAreaLeft" t="textAreaTop" r="textAreaRight" b="textAreaBottom"/>
            <a:pathLst>
              <a:path w="21600" h="26964">
                <a:moveTo>
                  <a:pt x="0" y="0"/>
                </a:moveTo>
                <a:arcTo wR="0" hR="0" stAng="16200000" swAng="-5400000"/>
                <a:lnTo>
                  <a:pt x="0" y="26964"/>
                </a:lnTo>
                <a:arcTo wR="0" hR="0" stAng="10800000" swAng="-5400000"/>
                <a:lnTo>
                  <a:pt x="21600" y="2696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AutoShape 106"/>
          <p:cNvSpPr/>
          <p:nvPr/>
        </p:nvSpPr>
        <p:spPr>
          <a:xfrm flipH="1">
            <a:off x="7900200" y="4064040"/>
            <a:ext cx="2879640" cy="1944720"/>
          </a:xfrm>
          <a:prstGeom prst="roundRect">
            <a:avLst>
              <a:gd name="adj" fmla="val 0"/>
            </a:avLst>
          </a:prstGeom>
          <a:solidFill>
            <a:srgbClr val="002d86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AutoShape 106"/>
          <p:cNvSpPr/>
          <p:nvPr/>
        </p:nvSpPr>
        <p:spPr>
          <a:xfrm flipH="1">
            <a:off x="7900200" y="1952640"/>
            <a:ext cx="2879640" cy="1944720"/>
          </a:xfrm>
          <a:prstGeom prst="roundRect">
            <a:avLst>
              <a:gd name="adj" fmla="val 0"/>
            </a:avLst>
          </a:prstGeom>
          <a:solidFill>
            <a:srgbClr val="c0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矩形 9"/>
          <p:cNvSpPr/>
          <p:nvPr/>
        </p:nvSpPr>
        <p:spPr>
          <a:xfrm>
            <a:off x="4795200" y="1955880"/>
            <a:ext cx="105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矩形 10"/>
          <p:cNvSpPr/>
          <p:nvPr/>
        </p:nvSpPr>
        <p:spPr>
          <a:xfrm>
            <a:off x="6617520" y="1955880"/>
            <a:ext cx="105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矩形 11"/>
          <p:cNvSpPr/>
          <p:nvPr/>
        </p:nvSpPr>
        <p:spPr>
          <a:xfrm>
            <a:off x="4795200" y="4071960"/>
            <a:ext cx="105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矩形 12"/>
          <p:cNvSpPr/>
          <p:nvPr/>
        </p:nvSpPr>
        <p:spPr>
          <a:xfrm>
            <a:off x="6617520" y="4071960"/>
            <a:ext cx="105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矩形 13"/>
          <p:cNvSpPr/>
          <p:nvPr/>
        </p:nvSpPr>
        <p:spPr>
          <a:xfrm>
            <a:off x="1873080" y="2328840"/>
            <a:ext cx="259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矩形 18"/>
          <p:cNvSpPr/>
          <p:nvPr/>
        </p:nvSpPr>
        <p:spPr>
          <a:xfrm>
            <a:off x="1873080" y="4444920"/>
            <a:ext cx="259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矩形 19"/>
          <p:cNvSpPr/>
          <p:nvPr/>
        </p:nvSpPr>
        <p:spPr>
          <a:xfrm>
            <a:off x="8043840" y="2328840"/>
            <a:ext cx="259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矩形 20"/>
          <p:cNvSpPr/>
          <p:nvPr/>
        </p:nvSpPr>
        <p:spPr>
          <a:xfrm>
            <a:off x="8043840" y="4444920"/>
            <a:ext cx="259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Group 3" descr=""/>
          <p:cNvPicPr/>
          <p:nvPr/>
        </p:nvPicPr>
        <p:blipFill>
          <a:blip r:embed="rId1"/>
          <a:stretch/>
        </p:blipFill>
        <p:spPr>
          <a:xfrm>
            <a:off x="1206360" y="4675320"/>
            <a:ext cx="1981440" cy="463320"/>
          </a:xfrm>
          <a:prstGeom prst="rect">
            <a:avLst/>
          </a:prstGeom>
          <a:ln w="0">
            <a:noFill/>
          </a:ln>
        </p:spPr>
      </p:pic>
      <p:pic>
        <p:nvPicPr>
          <p:cNvPr id="1202" name="Group 7" descr=""/>
          <p:cNvPicPr/>
          <p:nvPr/>
        </p:nvPicPr>
        <p:blipFill>
          <a:blip r:embed="rId2"/>
          <a:stretch/>
        </p:blipFill>
        <p:spPr>
          <a:xfrm>
            <a:off x="8796240" y="2603520"/>
            <a:ext cx="2157480" cy="457200"/>
          </a:xfrm>
          <a:prstGeom prst="rect">
            <a:avLst/>
          </a:prstGeom>
          <a:ln w="0">
            <a:noFill/>
          </a:ln>
        </p:spPr>
      </p:pic>
      <p:pic>
        <p:nvPicPr>
          <p:cNvPr id="1203" name="Group 11" descr=""/>
          <p:cNvPicPr/>
          <p:nvPr/>
        </p:nvPicPr>
        <p:blipFill>
          <a:blip r:embed="rId3"/>
          <a:stretch/>
        </p:blipFill>
        <p:spPr>
          <a:xfrm>
            <a:off x="3584520" y="2603520"/>
            <a:ext cx="2340000" cy="457200"/>
          </a:xfrm>
          <a:prstGeom prst="rect">
            <a:avLst/>
          </a:prstGeom>
          <a:ln w="0">
            <a:noFill/>
          </a:ln>
        </p:spPr>
      </p:pic>
      <p:pic>
        <p:nvPicPr>
          <p:cNvPr id="1204" name="Group 15" descr=""/>
          <p:cNvPicPr/>
          <p:nvPr/>
        </p:nvPicPr>
        <p:blipFill>
          <a:blip r:embed="rId4"/>
          <a:stretch/>
        </p:blipFill>
        <p:spPr>
          <a:xfrm>
            <a:off x="6284880" y="4675320"/>
            <a:ext cx="2090880" cy="450720"/>
          </a:xfrm>
          <a:prstGeom prst="rect">
            <a:avLst/>
          </a:prstGeom>
          <a:ln w="0">
            <a:noFill/>
          </a:ln>
        </p:spPr>
      </p:pic>
      <p:grpSp>
        <p:nvGrpSpPr>
          <p:cNvPr id="1205" name=""/>
          <p:cNvGrpSpPr/>
          <p:nvPr/>
        </p:nvGrpSpPr>
        <p:grpSpPr>
          <a:xfrm>
            <a:off x="100080" y="3029040"/>
            <a:ext cx="11991960" cy="1631880"/>
            <a:chOff x="100080" y="3029040"/>
            <a:chExt cx="11991960" cy="1631880"/>
          </a:xfrm>
        </p:grpSpPr>
        <p:sp>
          <p:nvSpPr>
            <p:cNvPr id="1206" name="Line 109"/>
            <p:cNvSpPr/>
            <p:nvPr/>
          </p:nvSpPr>
          <p:spPr>
            <a:xfrm flipH="1">
              <a:off x="100080" y="3853440"/>
              <a:ext cx="1357200" cy="0"/>
            </a:xfrm>
            <a:prstGeom prst="line">
              <a:avLst/>
            </a:prstGeom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Line 110"/>
            <p:cNvSpPr/>
            <p:nvPr/>
          </p:nvSpPr>
          <p:spPr>
            <a:xfrm flipH="1">
              <a:off x="8092440" y="3853440"/>
              <a:ext cx="1061640" cy="0"/>
            </a:xfrm>
            <a:prstGeom prst="line">
              <a:avLst/>
            </a:prstGeom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Arc 111"/>
            <p:cNvSpPr/>
            <p:nvPr/>
          </p:nvSpPr>
          <p:spPr>
            <a:xfrm flipV="1" rot="16200000">
              <a:off x="4362840" y="2663280"/>
              <a:ext cx="858600" cy="1600920"/>
            </a:xfrm>
            <a:custGeom>
              <a:avLst/>
              <a:gdLst>
                <a:gd name="textAreaLeft" fmla="*/ 0 w 858600"/>
                <a:gd name="textAreaRight" fmla="*/ 858960 w 858600"/>
                <a:gd name="textAreaTop" fmla="*/ -360 h 1600920"/>
                <a:gd name="textAreaBottom" fmla="*/ 1600920 h 160092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fc000"/>
              </a:solidFill>
              <a:bevel/>
            </a:ln>
            <a:effectLst>
              <a:outerShdw dist="17819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Arc 112"/>
            <p:cNvSpPr/>
            <p:nvPr/>
          </p:nvSpPr>
          <p:spPr>
            <a:xfrm flipV="1" rot="16200000">
              <a:off x="9463680" y="2664000"/>
              <a:ext cx="871200" cy="1600920"/>
            </a:xfrm>
            <a:custGeom>
              <a:avLst/>
              <a:gdLst>
                <a:gd name="textAreaLeft" fmla="*/ 0 w 871200"/>
                <a:gd name="textAreaRight" fmla="*/ 871560 w 871200"/>
                <a:gd name="textAreaTop" fmla="*/ -360 h 1600920"/>
                <a:gd name="textAreaBottom" fmla="*/ 1600920 h 160092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fc000"/>
              </a:solidFill>
              <a:bevel/>
            </a:ln>
            <a:effectLst>
              <a:outerShdw dist="17819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Line 113"/>
            <p:cNvSpPr/>
            <p:nvPr/>
          </p:nvSpPr>
          <p:spPr>
            <a:xfrm flipH="1">
              <a:off x="5552640" y="3853440"/>
              <a:ext cx="1032480" cy="0"/>
            </a:xfrm>
            <a:prstGeom prst="line">
              <a:avLst/>
            </a:prstGeom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Arc 114"/>
            <p:cNvSpPr/>
            <p:nvPr/>
          </p:nvSpPr>
          <p:spPr>
            <a:xfrm rot="5400000">
              <a:off x="6913080" y="3443400"/>
              <a:ext cx="833760" cy="1600920"/>
            </a:xfrm>
            <a:custGeom>
              <a:avLst/>
              <a:gdLst>
                <a:gd name="textAreaLeft" fmla="*/ 0 w 833760"/>
                <a:gd name="textAreaRight" fmla="*/ 834120 w 833760"/>
                <a:gd name="textAreaTop" fmla="*/ 0 h 1600920"/>
                <a:gd name="textAreaBottom" fmla="*/ 1601280 h 160092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fc000"/>
              </a:solidFill>
              <a:bevel/>
            </a:ln>
            <a:effectLst>
              <a:outerShdw dist="17819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Line 115"/>
            <p:cNvSpPr/>
            <p:nvPr/>
          </p:nvSpPr>
          <p:spPr>
            <a:xfrm flipH="1">
              <a:off x="10657800" y="3853440"/>
              <a:ext cx="1434240" cy="0"/>
            </a:xfrm>
            <a:prstGeom prst="line">
              <a:avLst/>
            </a:prstGeom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Line 116"/>
            <p:cNvSpPr/>
            <p:nvPr/>
          </p:nvSpPr>
          <p:spPr>
            <a:xfrm flipH="1">
              <a:off x="2966760" y="3853440"/>
              <a:ext cx="1088640" cy="0"/>
            </a:xfrm>
            <a:prstGeom prst="line">
              <a:avLst/>
            </a:prstGeom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Arc 117"/>
            <p:cNvSpPr/>
            <p:nvPr/>
          </p:nvSpPr>
          <p:spPr>
            <a:xfrm rot="5400000">
              <a:off x="1787400" y="3443400"/>
              <a:ext cx="833760" cy="1600920"/>
            </a:xfrm>
            <a:custGeom>
              <a:avLst/>
              <a:gdLst>
                <a:gd name="textAreaLeft" fmla="*/ 0 w 833760"/>
                <a:gd name="textAreaRight" fmla="*/ 834120 w 833760"/>
                <a:gd name="textAreaTop" fmla="*/ 0 h 1600920"/>
                <a:gd name="textAreaBottom" fmla="*/ 1601280 h 160092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fc000"/>
              </a:solidFill>
              <a:bevel/>
            </a:ln>
            <a:effectLst>
              <a:outerShdw dist="17819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5" name="Oval 38"/>
          <p:cNvSpPr/>
          <p:nvPr/>
        </p:nvSpPr>
        <p:spPr>
          <a:xfrm>
            <a:off x="1550880" y="3135240"/>
            <a:ext cx="1357560" cy="1382760"/>
          </a:xfrm>
          <a:prstGeom prst="ellipse">
            <a:avLst/>
          </a:prstGeom>
          <a:solidFill>
            <a:srgbClr val="f92f95"/>
          </a:solidFill>
          <a:ln w="9360">
            <a:solidFill>
              <a:srgbClr val="257b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Oval 38"/>
          <p:cNvSpPr/>
          <p:nvPr/>
        </p:nvSpPr>
        <p:spPr>
          <a:xfrm>
            <a:off x="4122720" y="3135240"/>
            <a:ext cx="1357200" cy="13827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257b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Oval 38"/>
          <p:cNvSpPr/>
          <p:nvPr/>
        </p:nvSpPr>
        <p:spPr>
          <a:xfrm>
            <a:off x="6680160" y="3135240"/>
            <a:ext cx="1359000" cy="1382760"/>
          </a:xfrm>
          <a:prstGeom prst="ellipse">
            <a:avLst/>
          </a:prstGeom>
          <a:solidFill>
            <a:srgbClr val="ffc000"/>
          </a:solidFill>
          <a:ln w="9360">
            <a:solidFill>
              <a:srgbClr val="257b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Oval 38"/>
          <p:cNvSpPr/>
          <p:nvPr/>
        </p:nvSpPr>
        <p:spPr>
          <a:xfrm>
            <a:off x="9240840" y="3135240"/>
            <a:ext cx="1359000" cy="13827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257b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Text Box 22"/>
          <p:cNvSpPr/>
          <p:nvPr/>
        </p:nvSpPr>
        <p:spPr>
          <a:xfrm>
            <a:off x="1531800" y="3463920"/>
            <a:ext cx="1343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Rectangle 23"/>
          <p:cNvSpPr/>
          <p:nvPr/>
        </p:nvSpPr>
        <p:spPr>
          <a:xfrm>
            <a:off x="1135080" y="52783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Text Box 22"/>
          <p:cNvSpPr/>
          <p:nvPr/>
        </p:nvSpPr>
        <p:spPr>
          <a:xfrm>
            <a:off x="6710400" y="3463920"/>
            <a:ext cx="1343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Rectangle 23"/>
          <p:cNvSpPr/>
          <p:nvPr/>
        </p:nvSpPr>
        <p:spPr>
          <a:xfrm>
            <a:off x="6313320" y="5353200"/>
            <a:ext cx="21369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 Box 22"/>
          <p:cNvSpPr/>
          <p:nvPr/>
        </p:nvSpPr>
        <p:spPr>
          <a:xfrm>
            <a:off x="4122720" y="3463920"/>
            <a:ext cx="1343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Rectangle 23"/>
          <p:cNvSpPr/>
          <p:nvPr/>
        </p:nvSpPr>
        <p:spPr>
          <a:xfrm>
            <a:off x="3726000" y="18464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 Box 22"/>
          <p:cNvSpPr/>
          <p:nvPr/>
        </p:nvSpPr>
        <p:spPr>
          <a:xfrm>
            <a:off x="9244080" y="3463920"/>
            <a:ext cx="13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Rectangle 23"/>
          <p:cNvSpPr/>
          <p:nvPr/>
        </p:nvSpPr>
        <p:spPr>
          <a:xfrm>
            <a:off x="8847000" y="1876320"/>
            <a:ext cx="21369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"/>
          <p:cNvGrpSpPr/>
          <p:nvPr/>
        </p:nvGrpSpPr>
        <p:grpSpPr>
          <a:xfrm>
            <a:off x="768240" y="3255840"/>
            <a:ext cx="10655280" cy="3473640"/>
            <a:chOff x="768240" y="3255840"/>
            <a:chExt cx="10655280" cy="3473640"/>
          </a:xfrm>
        </p:grpSpPr>
        <p:pic>
          <p:nvPicPr>
            <p:cNvPr id="1229" name="Freeform 53" descr=""/>
            <p:cNvPicPr/>
            <p:nvPr/>
          </p:nvPicPr>
          <p:blipFill>
            <a:blip r:embed="rId1"/>
            <a:stretch/>
          </p:blipFill>
          <p:spPr>
            <a:xfrm>
              <a:off x="768240" y="3256920"/>
              <a:ext cx="10655280" cy="346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0" name=""/>
            <p:cNvSpPr/>
            <p:nvPr/>
          </p:nvSpPr>
          <p:spPr>
            <a:xfrm>
              <a:off x="769680" y="3255840"/>
              <a:ext cx="10652400" cy="34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1" name="Oval 5"/>
          <p:cNvSpPr/>
          <p:nvPr/>
        </p:nvSpPr>
        <p:spPr>
          <a:xfrm>
            <a:off x="5303880" y="1117440"/>
            <a:ext cx="1963800" cy="1962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Oval 20"/>
          <p:cNvSpPr/>
          <p:nvPr/>
        </p:nvSpPr>
        <p:spPr>
          <a:xfrm>
            <a:off x="1952640" y="1792440"/>
            <a:ext cx="1963800" cy="1962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Oval 35"/>
          <p:cNvSpPr/>
          <p:nvPr/>
        </p:nvSpPr>
        <p:spPr>
          <a:xfrm>
            <a:off x="8507520" y="1792440"/>
            <a:ext cx="1963800" cy="1962000"/>
          </a:xfrm>
          <a:prstGeom prst="ellipse">
            <a:avLst/>
          </a:prstGeom>
          <a:solidFill>
            <a:srgbClr val="f92f9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Rectangle 16"/>
          <p:cNvSpPr/>
          <p:nvPr/>
        </p:nvSpPr>
        <p:spPr>
          <a:xfrm>
            <a:off x="2295360" y="251136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5707080" y="183672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Rectangle 16"/>
          <p:cNvSpPr/>
          <p:nvPr/>
        </p:nvSpPr>
        <p:spPr>
          <a:xfrm>
            <a:off x="8850240" y="251136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Freeform 29"/>
          <p:cNvSpPr/>
          <p:nvPr/>
        </p:nvSpPr>
        <p:spPr>
          <a:xfrm flipH="1">
            <a:off x="5179320" y="2297160"/>
            <a:ext cx="5203800" cy="1079280"/>
          </a:xfrm>
          <a:custGeom>
            <a:avLst/>
            <a:gdLst/>
            <a:ahLst/>
            <a:rect l="l" t="t" r="r" b="b"/>
            <a:pathLst>
              <a:path w="2452" h="770">
                <a:moveTo>
                  <a:pt x="0" y="770"/>
                </a:moveTo>
                <a:lnTo>
                  <a:pt x="2452" y="0"/>
                </a:lnTo>
                <a:lnTo>
                  <a:pt x="1008" y="770"/>
                </a:lnTo>
                <a:lnTo>
                  <a:pt x="0" y="77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d9d9d9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Freeform 36"/>
          <p:cNvSpPr/>
          <p:nvPr/>
        </p:nvSpPr>
        <p:spPr>
          <a:xfrm>
            <a:off x="1320840" y="2297160"/>
            <a:ext cx="5203800" cy="1079280"/>
          </a:xfrm>
          <a:custGeom>
            <a:avLst/>
            <a:gdLst/>
            <a:ahLst/>
            <a:rect l="l" t="t" r="r" b="b"/>
            <a:pathLst>
              <a:path w="2452" h="770">
                <a:moveTo>
                  <a:pt x="0" y="770"/>
                </a:moveTo>
                <a:lnTo>
                  <a:pt x="2452" y="0"/>
                </a:lnTo>
                <a:lnTo>
                  <a:pt x="1008" y="770"/>
                </a:lnTo>
                <a:lnTo>
                  <a:pt x="0" y="77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d9d9d9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Freeform 40"/>
          <p:cNvSpPr/>
          <p:nvPr/>
        </p:nvSpPr>
        <p:spPr>
          <a:xfrm>
            <a:off x="3483000" y="2550960"/>
            <a:ext cx="2354400" cy="827280"/>
          </a:xfrm>
          <a:custGeom>
            <a:avLst/>
            <a:gdLst/>
            <a:ahLst/>
            <a:rect l="l" t="t" r="r" b="b"/>
            <a:pathLst>
              <a:path w="1315" h="590">
                <a:moveTo>
                  <a:pt x="1315" y="0"/>
                </a:moveTo>
                <a:lnTo>
                  <a:pt x="0" y="590"/>
                </a:lnTo>
                <a:lnTo>
                  <a:pt x="1315" y="590"/>
                </a:lnTo>
                <a:lnTo>
                  <a:pt x="1315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d9d9d9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Freeform 41"/>
          <p:cNvSpPr/>
          <p:nvPr/>
        </p:nvSpPr>
        <p:spPr>
          <a:xfrm flipH="1">
            <a:off x="5862600" y="2550960"/>
            <a:ext cx="2354400" cy="827280"/>
          </a:xfrm>
          <a:custGeom>
            <a:avLst/>
            <a:gdLst/>
            <a:ahLst/>
            <a:rect l="l" t="t" r="r" b="b"/>
            <a:pathLst>
              <a:path w="1315" h="590">
                <a:moveTo>
                  <a:pt x="1315" y="0"/>
                </a:moveTo>
                <a:lnTo>
                  <a:pt x="0" y="590"/>
                </a:lnTo>
                <a:lnTo>
                  <a:pt x="1315" y="590"/>
                </a:lnTo>
                <a:lnTo>
                  <a:pt x="1315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d9d9d9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3"/>
          <p:cNvSpPr/>
          <p:nvPr/>
        </p:nvSpPr>
        <p:spPr>
          <a:xfrm>
            <a:off x="5045040" y="1239840"/>
            <a:ext cx="1606680" cy="15890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AutoShape 49"/>
          <p:cNvSpPr/>
          <p:nvPr/>
        </p:nvSpPr>
        <p:spPr>
          <a:xfrm>
            <a:off x="3591000" y="3405240"/>
            <a:ext cx="2216160" cy="2309760"/>
          </a:xfrm>
          <a:custGeom>
            <a:avLst/>
            <a:gdLst>
              <a:gd name="textAreaLeft" fmla="*/ 26280 w 2216160"/>
              <a:gd name="textAreaRight" fmla="*/ 2189880 w 2216160"/>
              <a:gd name="textAreaTop" fmla="*/ 26280 h 2309760"/>
              <a:gd name="textAreaBottom" fmla="*/ 2283480 h 2309760"/>
            </a:gdLst>
            <a:ahLst/>
            <a:rect l="textAreaLeft" t="textAreaTop" r="textAreaRight" b="textAreaBottom"/>
            <a:pathLst>
              <a:path w="21600" h="22512">
                <a:moveTo>
                  <a:pt x="877" y="0"/>
                </a:moveTo>
                <a:arcTo wR="877" hR="877" stAng="16200000" swAng="-5400000"/>
                <a:lnTo>
                  <a:pt x="0" y="21635"/>
                </a:lnTo>
                <a:arcTo wR="877" hR="877" stAng="10800000" swAng="-5400000"/>
                <a:lnTo>
                  <a:pt x="20723" y="22512"/>
                </a:lnTo>
                <a:arcTo wR="877" hR="877" stAng="5400000" swAng="-5400000"/>
                <a:lnTo>
                  <a:pt x="21600" y="877"/>
                </a:lnTo>
                <a:arcTo wR="877" hR="877" stAng="0" swAng="-5400000"/>
                <a:close/>
              </a:path>
            </a:pathLst>
          </a:cu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48"/>
          <p:cNvSpPr/>
          <p:nvPr/>
        </p:nvSpPr>
        <p:spPr>
          <a:xfrm>
            <a:off x="3654360" y="3473280"/>
            <a:ext cx="2084400" cy="370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49"/>
          <p:cNvSpPr/>
          <p:nvPr/>
        </p:nvSpPr>
        <p:spPr>
          <a:xfrm>
            <a:off x="5918040" y="3405240"/>
            <a:ext cx="2216160" cy="2309760"/>
          </a:xfrm>
          <a:custGeom>
            <a:avLst/>
            <a:gdLst>
              <a:gd name="textAreaLeft" fmla="*/ 26280 w 2216160"/>
              <a:gd name="textAreaRight" fmla="*/ 2189880 w 2216160"/>
              <a:gd name="textAreaTop" fmla="*/ 26280 h 2309760"/>
              <a:gd name="textAreaBottom" fmla="*/ 2283480 h 2309760"/>
            </a:gdLst>
            <a:ahLst/>
            <a:rect l="textAreaLeft" t="textAreaTop" r="textAreaRight" b="textAreaBottom"/>
            <a:pathLst>
              <a:path w="21600" h="22512">
                <a:moveTo>
                  <a:pt x="877" y="0"/>
                </a:moveTo>
                <a:arcTo wR="877" hR="877" stAng="16200000" swAng="-5400000"/>
                <a:lnTo>
                  <a:pt x="0" y="21635"/>
                </a:lnTo>
                <a:arcTo wR="877" hR="877" stAng="10800000" swAng="-5400000"/>
                <a:lnTo>
                  <a:pt x="20723" y="22512"/>
                </a:lnTo>
                <a:arcTo wR="877" hR="877" stAng="5400000" swAng="-5400000"/>
                <a:lnTo>
                  <a:pt x="21600" y="877"/>
                </a:lnTo>
                <a:arcTo wR="877" hR="877" stAng="0" swAng="-5400000"/>
                <a:close/>
              </a:path>
            </a:pathLst>
          </a:custGeom>
          <a:noFill/>
          <a:ln w="25560">
            <a:solidFill>
              <a:srgbClr val="f92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48"/>
          <p:cNvSpPr/>
          <p:nvPr/>
        </p:nvSpPr>
        <p:spPr>
          <a:xfrm>
            <a:off x="5981760" y="3473280"/>
            <a:ext cx="2085840" cy="370080"/>
          </a:xfrm>
          <a:prstGeom prst="roundRect">
            <a:avLst>
              <a:gd name="adj" fmla="val 16667"/>
            </a:avLst>
          </a:prstGeom>
          <a:solidFill>
            <a:srgbClr val="f92f9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9"/>
          <p:cNvSpPr/>
          <p:nvPr/>
        </p:nvSpPr>
        <p:spPr>
          <a:xfrm>
            <a:off x="8234280" y="3398760"/>
            <a:ext cx="2216160" cy="2311560"/>
          </a:xfrm>
          <a:custGeom>
            <a:avLst/>
            <a:gdLst>
              <a:gd name="textAreaLeft" fmla="*/ 26280 w 2216160"/>
              <a:gd name="textAreaRight" fmla="*/ 2189880 w 2216160"/>
              <a:gd name="textAreaTop" fmla="*/ 26280 h 2311560"/>
              <a:gd name="textAreaBottom" fmla="*/ 2285280 h 2311560"/>
            </a:gdLst>
            <a:ahLst/>
            <a:rect l="textAreaLeft" t="textAreaTop" r="textAreaRight" b="textAreaBottom"/>
            <a:pathLst>
              <a:path w="21600" h="22530">
                <a:moveTo>
                  <a:pt x="877" y="0"/>
                </a:moveTo>
                <a:arcTo wR="877" hR="877" stAng="16200000" swAng="-5400000"/>
                <a:lnTo>
                  <a:pt x="0" y="21653"/>
                </a:lnTo>
                <a:arcTo wR="877" hR="877" stAng="10800000" swAng="-5400000"/>
                <a:lnTo>
                  <a:pt x="20723" y="22530"/>
                </a:lnTo>
                <a:arcTo wR="877" hR="877" stAng="5400000" swAng="-5400000"/>
                <a:lnTo>
                  <a:pt x="21600" y="877"/>
                </a:lnTo>
                <a:arcTo wR="877" hR="877" stAng="0" swAng="-5400000"/>
                <a:close/>
              </a:path>
            </a:pathLst>
          </a:cu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AutoShape 48"/>
          <p:cNvSpPr/>
          <p:nvPr/>
        </p:nvSpPr>
        <p:spPr>
          <a:xfrm>
            <a:off x="8298000" y="3467160"/>
            <a:ext cx="2085840" cy="369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AutoShape 49"/>
          <p:cNvSpPr/>
          <p:nvPr/>
        </p:nvSpPr>
        <p:spPr>
          <a:xfrm>
            <a:off x="1268280" y="3405240"/>
            <a:ext cx="2216160" cy="2309760"/>
          </a:xfrm>
          <a:custGeom>
            <a:avLst/>
            <a:gdLst>
              <a:gd name="textAreaLeft" fmla="*/ 26280 w 2216160"/>
              <a:gd name="textAreaRight" fmla="*/ 2189880 w 2216160"/>
              <a:gd name="textAreaTop" fmla="*/ 26280 h 2309760"/>
              <a:gd name="textAreaBottom" fmla="*/ 2283480 h 2309760"/>
            </a:gdLst>
            <a:ahLst/>
            <a:rect l="textAreaLeft" t="textAreaTop" r="textAreaRight" b="textAreaBottom"/>
            <a:pathLst>
              <a:path w="21600" h="22512">
                <a:moveTo>
                  <a:pt x="877" y="0"/>
                </a:moveTo>
                <a:arcTo wR="877" hR="877" stAng="16200000" swAng="-5400000"/>
                <a:lnTo>
                  <a:pt x="0" y="21635"/>
                </a:lnTo>
                <a:arcTo wR="877" hR="877" stAng="10800000" swAng="-5400000"/>
                <a:lnTo>
                  <a:pt x="20723" y="22512"/>
                </a:lnTo>
                <a:arcTo wR="877" hR="877" stAng="5400000" swAng="-5400000"/>
                <a:lnTo>
                  <a:pt x="21600" y="877"/>
                </a:lnTo>
                <a:arcTo wR="877" hR="877" stAng="0" swAng="-5400000"/>
                <a:close/>
              </a:path>
            </a:pathLst>
          </a:custGeom>
          <a:noFill/>
          <a:ln w="25560">
            <a:solidFill>
              <a:srgbClr val="f92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AutoShape 48"/>
          <p:cNvSpPr/>
          <p:nvPr/>
        </p:nvSpPr>
        <p:spPr>
          <a:xfrm>
            <a:off x="1332000" y="3473280"/>
            <a:ext cx="2085840" cy="370080"/>
          </a:xfrm>
          <a:prstGeom prst="roundRect">
            <a:avLst>
              <a:gd name="adj" fmla="val 16667"/>
            </a:avLst>
          </a:prstGeom>
          <a:solidFill>
            <a:srgbClr val="f92f9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AutoShape 1"/>
          <p:cNvSpPr/>
          <p:nvPr/>
        </p:nvSpPr>
        <p:spPr>
          <a:xfrm>
            <a:off x="343080" y="166680"/>
            <a:ext cx="5175000" cy="544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2" name="Group 1" descr=""/>
          <p:cNvPicPr/>
          <p:nvPr/>
        </p:nvPicPr>
        <p:blipFill>
          <a:blip r:embed="rId1"/>
          <a:stretch/>
        </p:blipFill>
        <p:spPr>
          <a:xfrm>
            <a:off x="2219400" y="1042920"/>
            <a:ext cx="6827760" cy="5461200"/>
          </a:xfrm>
          <a:prstGeom prst="rect">
            <a:avLst/>
          </a:prstGeom>
          <a:ln w="0">
            <a:noFill/>
          </a:ln>
        </p:spPr>
      </p:pic>
      <p:sp>
        <p:nvSpPr>
          <p:cNvPr id="1253" name="AutoShape 34"/>
          <p:cNvSpPr/>
          <p:nvPr/>
        </p:nvSpPr>
        <p:spPr>
          <a:xfrm>
            <a:off x="7785000" y="3360600"/>
            <a:ext cx="217440" cy="2192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AutoShape 35"/>
          <p:cNvSpPr/>
          <p:nvPr/>
        </p:nvSpPr>
        <p:spPr>
          <a:xfrm>
            <a:off x="3971880" y="4538520"/>
            <a:ext cx="217440" cy="2160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AutoShape 36"/>
          <p:cNvSpPr/>
          <p:nvPr/>
        </p:nvSpPr>
        <p:spPr>
          <a:xfrm>
            <a:off x="7934400" y="5232240"/>
            <a:ext cx="218880" cy="2178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AutoShape 37"/>
          <p:cNvSpPr/>
          <p:nvPr/>
        </p:nvSpPr>
        <p:spPr>
          <a:xfrm>
            <a:off x="3548160" y="4888080"/>
            <a:ext cx="966600" cy="314280"/>
          </a:xfrm>
          <a:prstGeom prst="pie">
            <a:avLst/>
          </a:pr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AutoShape 38"/>
          <p:cNvSpPr/>
          <p:nvPr/>
        </p:nvSpPr>
        <p:spPr>
          <a:xfrm>
            <a:off x="8244000" y="5187960"/>
            <a:ext cx="966600" cy="3160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AutoShape 39"/>
          <p:cNvSpPr/>
          <p:nvPr/>
        </p:nvSpPr>
        <p:spPr>
          <a:xfrm>
            <a:off x="7907400" y="3639960"/>
            <a:ext cx="966600" cy="3160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矩形 16"/>
          <p:cNvSpPr/>
          <p:nvPr/>
        </p:nvSpPr>
        <p:spPr>
          <a:xfrm>
            <a:off x="90360" y="214200"/>
            <a:ext cx="66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地图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P OF THE CHI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矩形 5"/>
          <p:cNvSpPr/>
          <p:nvPr/>
        </p:nvSpPr>
        <p:spPr>
          <a:xfrm>
            <a:off x="3089160" y="74124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矩形 6"/>
          <p:cNvSpPr/>
          <p:nvPr/>
        </p:nvSpPr>
        <p:spPr>
          <a:xfrm>
            <a:off x="8653320" y="74124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矩形 9"/>
          <p:cNvSpPr/>
          <p:nvPr/>
        </p:nvSpPr>
        <p:spPr>
          <a:xfrm>
            <a:off x="1657440" y="3816360"/>
            <a:ext cx="180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矩形 11"/>
          <p:cNvSpPr/>
          <p:nvPr/>
        </p:nvSpPr>
        <p:spPr>
          <a:xfrm>
            <a:off x="3477960" y="253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矩形 13"/>
          <p:cNvSpPr/>
          <p:nvPr/>
        </p:nvSpPr>
        <p:spPr>
          <a:xfrm>
            <a:off x="2045880" y="5662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矩形 14"/>
          <p:cNvSpPr/>
          <p:nvPr/>
        </p:nvSpPr>
        <p:spPr>
          <a:xfrm>
            <a:off x="9042120" y="253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矩形 16"/>
          <p:cNvSpPr/>
          <p:nvPr/>
        </p:nvSpPr>
        <p:spPr>
          <a:xfrm>
            <a:off x="0" y="62244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矩形 10"/>
          <p:cNvSpPr/>
          <p:nvPr/>
        </p:nvSpPr>
        <p:spPr>
          <a:xfrm>
            <a:off x="193680" y="27000"/>
            <a:ext cx="3938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轻松办公商务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Relaxed Work Series Commerce PPT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矩形 15"/>
          <p:cNvSpPr/>
          <p:nvPr/>
        </p:nvSpPr>
        <p:spPr>
          <a:xfrm>
            <a:off x="7157880" y="381636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矩形 13"/>
          <p:cNvSpPr/>
          <p:nvPr/>
        </p:nvSpPr>
        <p:spPr>
          <a:xfrm>
            <a:off x="7544880" y="5662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组合 1" descr=""/>
          <p:cNvPicPr/>
          <p:nvPr/>
        </p:nvPicPr>
        <p:blipFill>
          <a:blip r:embed="rId1"/>
          <a:stretch/>
        </p:blipFill>
        <p:spPr>
          <a:xfrm>
            <a:off x="1847880" y="1670040"/>
            <a:ext cx="9813960" cy="4840200"/>
          </a:xfrm>
          <a:prstGeom prst="rect">
            <a:avLst/>
          </a:prstGeom>
          <a:ln w="0">
            <a:noFill/>
          </a:ln>
        </p:spPr>
      </p:pic>
      <p:sp>
        <p:nvSpPr>
          <p:cNvPr id="1261" name="矩形 16"/>
          <p:cNvSpPr/>
          <p:nvPr/>
        </p:nvSpPr>
        <p:spPr>
          <a:xfrm>
            <a:off x="71280" y="195120"/>
            <a:ext cx="66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地图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P OF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矩形 22"/>
          <p:cNvSpPr/>
          <p:nvPr/>
        </p:nvSpPr>
        <p:spPr>
          <a:xfrm>
            <a:off x="2201760" y="2152800"/>
            <a:ext cx="77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矩形 10"/>
          <p:cNvSpPr/>
          <p:nvPr/>
        </p:nvSpPr>
        <p:spPr>
          <a:xfrm>
            <a:off x="3621240" y="3659040"/>
            <a:ext cx="4949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汇报展示工作总结等商务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报人：向阳花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报时间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6.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矩形 25"/>
          <p:cNvSpPr/>
          <p:nvPr/>
        </p:nvSpPr>
        <p:spPr>
          <a:xfrm>
            <a:off x="2138400" y="2651040"/>
            <a:ext cx="7915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矩形 10"/>
          <p:cNvSpPr/>
          <p:nvPr/>
        </p:nvSpPr>
        <p:spPr>
          <a:xfrm>
            <a:off x="1479600" y="357984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直接连接符 8"/>
          <p:cNvSpPr/>
          <p:nvPr/>
        </p:nvSpPr>
        <p:spPr>
          <a:xfrm flipV="1">
            <a:off x="1728720" y="3579840"/>
            <a:ext cx="4897440" cy="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矩形 9"/>
          <p:cNvSpPr/>
          <p:nvPr/>
        </p:nvSpPr>
        <p:spPr>
          <a:xfrm>
            <a:off x="3990240" y="27655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矩形 10"/>
          <p:cNvSpPr/>
          <p:nvPr/>
        </p:nvSpPr>
        <p:spPr>
          <a:xfrm>
            <a:off x="6840360" y="2084400"/>
            <a:ext cx="1386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AutoShape 2"/>
          <p:cNvSpPr/>
          <p:nvPr/>
        </p:nvSpPr>
        <p:spPr>
          <a:xfrm>
            <a:off x="1504800" y="166536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2" name="Group 3" descr=""/>
          <p:cNvPicPr/>
          <p:nvPr/>
        </p:nvPicPr>
        <p:blipFill>
          <a:blip r:embed="rId1"/>
          <a:stretch/>
        </p:blipFill>
        <p:spPr>
          <a:xfrm>
            <a:off x="1231920" y="2571840"/>
            <a:ext cx="2895480" cy="2762280"/>
          </a:xfrm>
          <a:prstGeom prst="rect">
            <a:avLst/>
          </a:prstGeom>
          <a:ln w="0">
            <a:noFill/>
          </a:ln>
        </p:spPr>
      </p:pic>
      <p:sp>
        <p:nvSpPr>
          <p:cNvPr id="823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599" h="21599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100"/>
                            </p:stCondLst>
                            <p:childTnLst>
                              <p:par>
                                <p:cTn id="1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Group 1" descr=""/>
          <p:cNvPicPr/>
          <p:nvPr/>
        </p:nvPicPr>
        <p:blipFill>
          <a:blip r:embed="rId1"/>
          <a:stretch/>
        </p:blipFill>
        <p:spPr>
          <a:xfrm>
            <a:off x="1158840" y="1994040"/>
            <a:ext cx="3406680" cy="3243240"/>
          </a:xfrm>
          <a:prstGeom prst="rect">
            <a:avLst/>
          </a:prstGeom>
          <a:ln w="0">
            <a:noFill/>
          </a:ln>
        </p:spPr>
      </p:pic>
      <p:grpSp>
        <p:nvGrpSpPr>
          <p:cNvPr id="842" name=""/>
          <p:cNvGrpSpPr/>
          <p:nvPr/>
        </p:nvGrpSpPr>
        <p:grpSpPr>
          <a:xfrm>
            <a:off x="5160960" y="4726080"/>
            <a:ext cx="976320" cy="976320"/>
            <a:chOff x="5160960" y="4726080"/>
            <a:chExt cx="976320" cy="976320"/>
          </a:xfrm>
        </p:grpSpPr>
        <p:sp>
          <p:nvSpPr>
            <p:cNvPr id="843" name="AutoShape 5"/>
            <p:cNvSpPr/>
            <p:nvPr/>
          </p:nvSpPr>
          <p:spPr>
            <a:xfrm>
              <a:off x="5160960" y="47260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92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5254560" y="4800240"/>
              <a:ext cx="789120" cy="828000"/>
              <a:chOff x="5254560" y="4800240"/>
              <a:chExt cx="789120" cy="828000"/>
            </a:xfrm>
          </p:grpSpPr>
          <p:sp>
            <p:nvSpPr>
              <p:cNvPr id="845" name="AutoShape 7"/>
              <p:cNvSpPr/>
              <p:nvPr/>
            </p:nvSpPr>
            <p:spPr>
              <a:xfrm>
                <a:off x="5254560" y="48196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92f95"/>
              </a:solidFill>
              <a:ln w="12600">
                <a:solidFill>
                  <a:srgbClr val="f92f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AutoShape 8"/>
              <p:cNvSpPr/>
              <p:nvPr/>
            </p:nvSpPr>
            <p:spPr>
              <a:xfrm>
                <a:off x="5370120" y="48002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47" name=""/>
          <p:cNvGrpSpPr/>
          <p:nvPr/>
        </p:nvGrpSpPr>
        <p:grpSpPr>
          <a:xfrm>
            <a:off x="5160960" y="3078000"/>
            <a:ext cx="976320" cy="976320"/>
            <a:chOff x="5160960" y="3078000"/>
            <a:chExt cx="976320" cy="976320"/>
          </a:xfrm>
        </p:grpSpPr>
        <p:sp>
          <p:nvSpPr>
            <p:cNvPr id="848" name="AutoShape 10"/>
            <p:cNvSpPr/>
            <p:nvPr/>
          </p:nvSpPr>
          <p:spPr>
            <a:xfrm>
              <a:off x="5160960" y="307800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be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5254560" y="3152160"/>
              <a:ext cx="789120" cy="828000"/>
              <a:chOff x="5254560" y="3152160"/>
              <a:chExt cx="789120" cy="828000"/>
            </a:xfrm>
          </p:grpSpPr>
          <p:sp>
            <p:nvSpPr>
              <p:cNvPr id="850" name="AutoShape 12"/>
              <p:cNvSpPr/>
              <p:nvPr/>
            </p:nvSpPr>
            <p:spPr>
              <a:xfrm>
                <a:off x="5254560" y="317160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00bef0"/>
              </a:solidFill>
              <a:ln w="12600">
                <a:solidFill>
                  <a:srgbClr val="00be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AutoShape 13"/>
              <p:cNvSpPr/>
              <p:nvPr/>
            </p:nvSpPr>
            <p:spPr>
              <a:xfrm>
                <a:off x="5370120" y="315216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52" name=""/>
          <p:cNvGrpSpPr/>
          <p:nvPr/>
        </p:nvGrpSpPr>
        <p:grpSpPr>
          <a:xfrm>
            <a:off x="5160960" y="1430280"/>
            <a:ext cx="976320" cy="976320"/>
            <a:chOff x="5160960" y="1430280"/>
            <a:chExt cx="976320" cy="976320"/>
          </a:xfrm>
        </p:grpSpPr>
        <p:sp>
          <p:nvSpPr>
            <p:cNvPr id="853" name="AutoShape 15"/>
            <p:cNvSpPr/>
            <p:nvPr/>
          </p:nvSpPr>
          <p:spPr>
            <a:xfrm>
              <a:off x="5160960" y="14302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5254560" y="1504440"/>
              <a:ext cx="789120" cy="828000"/>
              <a:chOff x="5254560" y="1504440"/>
              <a:chExt cx="789120" cy="828000"/>
            </a:xfrm>
          </p:grpSpPr>
          <p:sp>
            <p:nvSpPr>
              <p:cNvPr id="855" name="AutoShape 17"/>
              <p:cNvSpPr/>
              <p:nvPr/>
            </p:nvSpPr>
            <p:spPr>
              <a:xfrm>
                <a:off x="5254560" y="15238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AutoShape 18"/>
              <p:cNvSpPr/>
              <p:nvPr/>
            </p:nvSpPr>
            <p:spPr>
              <a:xfrm>
                <a:off x="5370120" y="15044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57" name="Line 19"/>
          <p:cNvSpPr/>
          <p:nvPr/>
        </p:nvSpPr>
        <p:spPr>
          <a:xfrm>
            <a:off x="4784760" y="191916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Line 20"/>
          <p:cNvSpPr/>
          <p:nvPr/>
        </p:nvSpPr>
        <p:spPr>
          <a:xfrm>
            <a:off x="4784760" y="361800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Line 21"/>
          <p:cNvSpPr/>
          <p:nvPr/>
        </p:nvSpPr>
        <p:spPr>
          <a:xfrm>
            <a:off x="4784760" y="523080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Line 22"/>
          <p:cNvSpPr/>
          <p:nvPr/>
        </p:nvSpPr>
        <p:spPr>
          <a:xfrm flipH="1">
            <a:off x="4782600" y="191916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Line 23"/>
          <p:cNvSpPr/>
          <p:nvPr/>
        </p:nvSpPr>
        <p:spPr>
          <a:xfrm>
            <a:off x="4417920" y="361800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AutoShape 24"/>
          <p:cNvSpPr/>
          <p:nvPr/>
        </p:nvSpPr>
        <p:spPr>
          <a:xfrm>
            <a:off x="6229440" y="1625760"/>
            <a:ext cx="3836880" cy="44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AutoShape 25"/>
          <p:cNvSpPr/>
          <p:nvPr/>
        </p:nvSpPr>
        <p:spPr>
          <a:xfrm>
            <a:off x="6229440" y="214956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AutoShape 26"/>
          <p:cNvSpPr/>
          <p:nvPr/>
        </p:nvSpPr>
        <p:spPr>
          <a:xfrm>
            <a:off x="6229440" y="3171960"/>
            <a:ext cx="3836880" cy="44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AutoShape 27"/>
          <p:cNvSpPr/>
          <p:nvPr/>
        </p:nvSpPr>
        <p:spPr>
          <a:xfrm>
            <a:off x="6229440" y="369576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AutoShape 28"/>
          <p:cNvSpPr/>
          <p:nvPr/>
        </p:nvSpPr>
        <p:spPr>
          <a:xfrm>
            <a:off x="6229440" y="4842000"/>
            <a:ext cx="3836880" cy="44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AutoShape 29"/>
          <p:cNvSpPr/>
          <p:nvPr/>
        </p:nvSpPr>
        <p:spPr>
          <a:xfrm>
            <a:off x="6229440" y="5364000"/>
            <a:ext cx="549900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00"/>
                            </p:stCondLst>
                            <p:childTnLst>
                              <p:par>
                                <p:cTn id="31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20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300"/>
                            </p:stCondLst>
                            <p:childTnLst>
                              <p:par>
                                <p:cTn id="41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Line 1"/>
          <p:cNvSpPr/>
          <p:nvPr/>
        </p:nvSpPr>
        <p:spPr>
          <a:xfrm flipV="1">
            <a:off x="4091040" y="16426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Line 2"/>
          <p:cNvSpPr/>
          <p:nvPr/>
        </p:nvSpPr>
        <p:spPr>
          <a:xfrm>
            <a:off x="3503520" y="36640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Line 3"/>
          <p:cNvSpPr/>
          <p:nvPr/>
        </p:nvSpPr>
        <p:spPr>
          <a:xfrm flipH="1" flipV="1">
            <a:off x="4074840" y="16570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2" name="Group 4" descr=""/>
          <p:cNvPicPr/>
          <p:nvPr/>
        </p:nvPicPr>
        <p:blipFill>
          <a:blip r:embed="rId1"/>
          <a:stretch/>
        </p:blipFill>
        <p:spPr>
          <a:xfrm>
            <a:off x="4438800" y="2004840"/>
            <a:ext cx="3466800" cy="3310200"/>
          </a:xfrm>
          <a:prstGeom prst="rect">
            <a:avLst/>
          </a:prstGeom>
          <a:ln w="0">
            <a:noFill/>
          </a:ln>
        </p:spPr>
      </p:pic>
      <p:grpSp>
        <p:nvGrpSpPr>
          <p:cNvPr id="873" name=""/>
          <p:cNvGrpSpPr/>
          <p:nvPr/>
        </p:nvGrpSpPr>
        <p:grpSpPr>
          <a:xfrm>
            <a:off x="8007480" y="5445000"/>
            <a:ext cx="976320" cy="974880"/>
            <a:chOff x="8007480" y="5445000"/>
            <a:chExt cx="976320" cy="974880"/>
          </a:xfrm>
        </p:grpSpPr>
        <p:sp>
          <p:nvSpPr>
            <p:cNvPr id="874" name="AutoShape 8"/>
            <p:cNvSpPr/>
            <p:nvPr/>
          </p:nvSpPr>
          <p:spPr>
            <a:xfrm>
              <a:off x="8007480" y="54450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8101080" y="5518080"/>
              <a:ext cx="789120" cy="828360"/>
              <a:chOff x="8101080" y="5518080"/>
              <a:chExt cx="789120" cy="828360"/>
            </a:xfrm>
          </p:grpSpPr>
          <p:sp>
            <p:nvSpPr>
              <p:cNvPr id="876" name="AutoShape 10"/>
              <p:cNvSpPr/>
              <p:nvPr/>
            </p:nvSpPr>
            <p:spPr>
              <a:xfrm>
                <a:off x="8101080" y="55382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00b0f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AutoShape 11"/>
              <p:cNvSpPr/>
              <p:nvPr/>
            </p:nvSpPr>
            <p:spPr>
              <a:xfrm>
                <a:off x="8216640" y="55180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78" name=""/>
          <p:cNvGrpSpPr/>
          <p:nvPr/>
        </p:nvGrpSpPr>
        <p:grpSpPr>
          <a:xfrm>
            <a:off x="3206880" y="5445000"/>
            <a:ext cx="976320" cy="974880"/>
            <a:chOff x="3206880" y="5445000"/>
            <a:chExt cx="976320" cy="974880"/>
          </a:xfrm>
        </p:grpSpPr>
        <p:sp>
          <p:nvSpPr>
            <p:cNvPr id="879" name="AutoShape 13"/>
            <p:cNvSpPr/>
            <p:nvPr/>
          </p:nvSpPr>
          <p:spPr>
            <a:xfrm>
              <a:off x="3206880" y="54450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3300480" y="5518080"/>
              <a:ext cx="789120" cy="828360"/>
              <a:chOff x="3300480" y="5518080"/>
              <a:chExt cx="789120" cy="828360"/>
            </a:xfrm>
          </p:grpSpPr>
          <p:sp>
            <p:nvSpPr>
              <p:cNvPr id="881" name="AutoShape 15"/>
              <p:cNvSpPr/>
              <p:nvPr/>
            </p:nvSpPr>
            <p:spPr>
              <a:xfrm>
                <a:off x="3300480" y="55382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00b0f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AutoShape 16"/>
              <p:cNvSpPr/>
              <p:nvPr/>
            </p:nvSpPr>
            <p:spPr>
              <a:xfrm>
                <a:off x="3416040" y="55180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3" name=""/>
          <p:cNvGrpSpPr/>
          <p:nvPr/>
        </p:nvGrpSpPr>
        <p:grpSpPr>
          <a:xfrm>
            <a:off x="8623440" y="3124080"/>
            <a:ext cx="976320" cy="976320"/>
            <a:chOff x="8623440" y="3124080"/>
            <a:chExt cx="976320" cy="976320"/>
          </a:xfrm>
        </p:grpSpPr>
        <p:sp>
          <p:nvSpPr>
            <p:cNvPr id="884" name="AutoShape 18"/>
            <p:cNvSpPr/>
            <p:nvPr/>
          </p:nvSpPr>
          <p:spPr>
            <a:xfrm>
              <a:off x="8623440" y="31240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5" name=""/>
            <p:cNvGrpSpPr/>
            <p:nvPr/>
          </p:nvGrpSpPr>
          <p:grpSpPr>
            <a:xfrm>
              <a:off x="8717040" y="3198240"/>
              <a:ext cx="789120" cy="828000"/>
              <a:chOff x="8717040" y="3198240"/>
              <a:chExt cx="789120" cy="828000"/>
            </a:xfrm>
          </p:grpSpPr>
          <p:sp>
            <p:nvSpPr>
              <p:cNvPr id="886" name="AutoShape 20"/>
              <p:cNvSpPr/>
              <p:nvPr/>
            </p:nvSpPr>
            <p:spPr>
              <a:xfrm>
                <a:off x="8717040" y="32176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92f9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AutoShape 21"/>
              <p:cNvSpPr/>
              <p:nvPr/>
            </p:nvSpPr>
            <p:spPr>
              <a:xfrm>
                <a:off x="8832600" y="31982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8" name=""/>
          <p:cNvGrpSpPr/>
          <p:nvPr/>
        </p:nvGrpSpPr>
        <p:grpSpPr>
          <a:xfrm>
            <a:off x="2513160" y="3124080"/>
            <a:ext cx="976320" cy="976320"/>
            <a:chOff x="2513160" y="3124080"/>
            <a:chExt cx="976320" cy="976320"/>
          </a:xfrm>
        </p:grpSpPr>
        <p:sp>
          <p:nvSpPr>
            <p:cNvPr id="889" name="AutoShape 23"/>
            <p:cNvSpPr/>
            <p:nvPr/>
          </p:nvSpPr>
          <p:spPr>
            <a:xfrm>
              <a:off x="2513160" y="31240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0" name=""/>
            <p:cNvGrpSpPr/>
            <p:nvPr/>
          </p:nvGrpSpPr>
          <p:grpSpPr>
            <a:xfrm>
              <a:off x="2606760" y="3198240"/>
              <a:ext cx="789120" cy="828000"/>
              <a:chOff x="2606760" y="3198240"/>
              <a:chExt cx="789120" cy="828000"/>
            </a:xfrm>
          </p:grpSpPr>
          <p:sp>
            <p:nvSpPr>
              <p:cNvPr id="891" name="AutoShape 25"/>
              <p:cNvSpPr/>
              <p:nvPr/>
            </p:nvSpPr>
            <p:spPr>
              <a:xfrm>
                <a:off x="2606760" y="32176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92f9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AutoShape 26"/>
              <p:cNvSpPr/>
              <p:nvPr/>
            </p:nvSpPr>
            <p:spPr>
              <a:xfrm>
                <a:off x="2722320" y="31982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3" name=""/>
          <p:cNvGrpSpPr/>
          <p:nvPr/>
        </p:nvGrpSpPr>
        <p:grpSpPr>
          <a:xfrm>
            <a:off x="8007480" y="851040"/>
            <a:ext cx="976320" cy="976320"/>
            <a:chOff x="8007480" y="851040"/>
            <a:chExt cx="976320" cy="976320"/>
          </a:xfrm>
        </p:grpSpPr>
        <p:sp>
          <p:nvSpPr>
            <p:cNvPr id="894" name="AutoShape 28"/>
            <p:cNvSpPr/>
            <p:nvPr/>
          </p:nvSpPr>
          <p:spPr>
            <a:xfrm>
              <a:off x="8007480" y="8510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8101080" y="925200"/>
              <a:ext cx="789120" cy="828000"/>
              <a:chOff x="8101080" y="925200"/>
              <a:chExt cx="789120" cy="828000"/>
            </a:xfrm>
          </p:grpSpPr>
          <p:sp>
            <p:nvSpPr>
              <p:cNvPr id="896" name="AutoShape 30"/>
              <p:cNvSpPr/>
              <p:nvPr/>
            </p:nvSpPr>
            <p:spPr>
              <a:xfrm>
                <a:off x="8101080" y="9446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c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AutoShape 31"/>
              <p:cNvSpPr/>
              <p:nvPr/>
            </p:nvSpPr>
            <p:spPr>
              <a:xfrm>
                <a:off x="8216640" y="9252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8" name=""/>
          <p:cNvGrpSpPr/>
          <p:nvPr/>
        </p:nvGrpSpPr>
        <p:grpSpPr>
          <a:xfrm>
            <a:off x="3206880" y="851040"/>
            <a:ext cx="976320" cy="976320"/>
            <a:chOff x="3206880" y="851040"/>
            <a:chExt cx="976320" cy="976320"/>
          </a:xfrm>
        </p:grpSpPr>
        <p:sp>
          <p:nvSpPr>
            <p:cNvPr id="899" name="AutoShape 33"/>
            <p:cNvSpPr/>
            <p:nvPr/>
          </p:nvSpPr>
          <p:spPr>
            <a:xfrm>
              <a:off x="3206880" y="8510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3300480" y="925200"/>
              <a:ext cx="789120" cy="828000"/>
              <a:chOff x="3300480" y="925200"/>
              <a:chExt cx="789120" cy="828000"/>
            </a:xfrm>
          </p:grpSpPr>
          <p:sp>
            <p:nvSpPr>
              <p:cNvPr id="901" name="AutoShape 35"/>
              <p:cNvSpPr/>
              <p:nvPr/>
            </p:nvSpPr>
            <p:spPr>
              <a:xfrm>
                <a:off x="3300480" y="9446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c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AutoShape 36"/>
              <p:cNvSpPr/>
              <p:nvPr/>
            </p:nvSpPr>
            <p:spPr>
              <a:xfrm>
                <a:off x="3416040" y="9252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03" name="AutoShape 37"/>
          <p:cNvSpPr/>
          <p:nvPr/>
        </p:nvSpPr>
        <p:spPr>
          <a:xfrm>
            <a:off x="1994040" y="1969920"/>
            <a:ext cx="1841400" cy="33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AutoShape 38"/>
          <p:cNvSpPr/>
          <p:nvPr/>
        </p:nvSpPr>
        <p:spPr>
          <a:xfrm>
            <a:off x="566640" y="3459240"/>
            <a:ext cx="1879560" cy="334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AutoShape 39"/>
          <p:cNvSpPr/>
          <p:nvPr/>
        </p:nvSpPr>
        <p:spPr>
          <a:xfrm>
            <a:off x="9693360" y="3459240"/>
            <a:ext cx="1995480" cy="334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AutoShape 40"/>
          <p:cNvSpPr/>
          <p:nvPr/>
        </p:nvSpPr>
        <p:spPr>
          <a:xfrm>
            <a:off x="8354880" y="1969920"/>
            <a:ext cx="1925640" cy="33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AutoShape 41"/>
          <p:cNvSpPr/>
          <p:nvPr/>
        </p:nvSpPr>
        <p:spPr>
          <a:xfrm>
            <a:off x="1849320" y="4892760"/>
            <a:ext cx="1986120" cy="336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AutoShape 42"/>
          <p:cNvSpPr/>
          <p:nvPr/>
        </p:nvSpPr>
        <p:spPr>
          <a:xfrm>
            <a:off x="8354880" y="4892760"/>
            <a:ext cx="2022480" cy="336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组合 3" descr=""/>
          <p:cNvPicPr/>
          <p:nvPr/>
        </p:nvPicPr>
        <p:blipFill>
          <a:blip r:embed="rId1"/>
          <a:stretch/>
        </p:blipFill>
        <p:spPr>
          <a:xfrm>
            <a:off x="4157640" y="2286000"/>
            <a:ext cx="3876840" cy="3876840"/>
          </a:xfrm>
          <a:prstGeom prst="rect">
            <a:avLst/>
          </a:prstGeom>
          <a:ln w="0">
            <a:noFill/>
          </a:ln>
        </p:spPr>
      </p:pic>
      <p:sp>
        <p:nvSpPr>
          <p:cNvPr id="911" name="Text Box 7"/>
          <p:cNvSpPr/>
          <p:nvPr/>
        </p:nvSpPr>
        <p:spPr>
          <a:xfrm>
            <a:off x="7121520" y="1969920"/>
            <a:ext cx="204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 Box 8"/>
          <p:cNvSpPr/>
          <p:nvPr/>
        </p:nvSpPr>
        <p:spPr>
          <a:xfrm>
            <a:off x="2201760" y="463392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 Box 9"/>
          <p:cNvSpPr/>
          <p:nvPr/>
        </p:nvSpPr>
        <p:spPr>
          <a:xfrm>
            <a:off x="8256600" y="456084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5261040" y="1808280"/>
            <a:ext cx="1631880" cy="1612800"/>
            <a:chOff x="5261040" y="1808280"/>
            <a:chExt cx="1631880" cy="1612800"/>
          </a:xfrm>
        </p:grpSpPr>
        <p:grpSp>
          <p:nvGrpSpPr>
            <p:cNvPr id="915" name=""/>
            <p:cNvGrpSpPr/>
            <p:nvPr/>
          </p:nvGrpSpPr>
          <p:grpSpPr>
            <a:xfrm>
              <a:off x="5261040" y="1808280"/>
              <a:ext cx="1631880" cy="1612800"/>
              <a:chOff x="5261040" y="1808280"/>
              <a:chExt cx="1631880" cy="1612800"/>
            </a:xfrm>
          </p:grpSpPr>
          <p:grpSp>
            <p:nvGrpSpPr>
              <p:cNvPr id="916" name=""/>
              <p:cNvGrpSpPr/>
              <p:nvPr/>
            </p:nvGrpSpPr>
            <p:grpSpPr>
              <a:xfrm>
                <a:off x="5261040" y="1808280"/>
                <a:ext cx="1631880" cy="1612800"/>
                <a:chOff x="5261040" y="1808280"/>
                <a:chExt cx="1631880" cy="1612800"/>
              </a:xfrm>
            </p:grpSpPr>
            <p:sp>
              <p:nvSpPr>
                <p:cNvPr id="917" name="Oval 12"/>
                <p:cNvSpPr/>
                <p:nvPr/>
              </p:nvSpPr>
              <p:spPr>
                <a:xfrm>
                  <a:off x="5261040" y="1808280"/>
                  <a:ext cx="1631880" cy="161280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8" name="Oval 13"/>
                <p:cNvSpPr/>
                <p:nvPr/>
              </p:nvSpPr>
              <p:spPr>
                <a:xfrm>
                  <a:off x="5297400" y="1844640"/>
                  <a:ext cx="1560960" cy="154224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5333040" y="1878840"/>
                <a:ext cx="1508040" cy="1491840"/>
                <a:chOff x="5333040" y="1878840"/>
                <a:chExt cx="1508040" cy="1491840"/>
              </a:xfrm>
            </p:grpSpPr>
            <p:sp>
              <p:nvSpPr>
                <p:cNvPr id="920" name="Oval 15"/>
                <p:cNvSpPr/>
                <p:nvPr/>
              </p:nvSpPr>
              <p:spPr>
                <a:xfrm>
                  <a:off x="5333040" y="1878840"/>
                  <a:ext cx="1508040" cy="149184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1" name="Oval 16"/>
                <p:cNvSpPr/>
                <p:nvPr/>
              </p:nvSpPr>
              <p:spPr>
                <a:xfrm>
                  <a:off x="5366880" y="1912680"/>
                  <a:ext cx="1442520" cy="1426680"/>
                </a:xfrm>
                <a:prstGeom prst="ellipse">
                  <a:avLst/>
                </a:prstGeom>
                <a:solidFill>
                  <a:srgbClr val="3333cc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22" name="Oval 32"/>
            <p:cNvSpPr/>
            <p:nvPr/>
          </p:nvSpPr>
          <p:spPr>
            <a:xfrm>
              <a:off x="5374440" y="1921320"/>
              <a:ext cx="1398600" cy="1385280"/>
            </a:xfrm>
            <a:prstGeom prst="ellipse">
              <a:avLst/>
            </a:prstGeom>
            <a:solidFill>
              <a:srgbClr val="ffc000"/>
            </a:solidFill>
            <a:ln w="38160">
              <a:solidFill>
                <a:srgbClr val="f8f8f8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Rectangle 34"/>
            <p:cNvSpPr/>
            <p:nvPr/>
          </p:nvSpPr>
          <p:spPr>
            <a:xfrm>
              <a:off x="5303160" y="2310120"/>
              <a:ext cx="145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6624720" y="4014720"/>
            <a:ext cx="1631880" cy="1612800"/>
            <a:chOff x="6624720" y="4014720"/>
            <a:chExt cx="1631880" cy="1612800"/>
          </a:xfrm>
        </p:grpSpPr>
        <p:grpSp>
          <p:nvGrpSpPr>
            <p:cNvPr id="925" name=""/>
            <p:cNvGrpSpPr/>
            <p:nvPr/>
          </p:nvGrpSpPr>
          <p:grpSpPr>
            <a:xfrm>
              <a:off x="6624720" y="4014720"/>
              <a:ext cx="1631880" cy="1612800"/>
              <a:chOff x="6624720" y="4014720"/>
              <a:chExt cx="1631880" cy="161280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6624720" y="4014720"/>
                <a:ext cx="1631880" cy="1612800"/>
                <a:chOff x="6624720" y="4014720"/>
                <a:chExt cx="1631880" cy="1612800"/>
              </a:xfrm>
            </p:grpSpPr>
            <p:sp>
              <p:nvSpPr>
                <p:cNvPr id="927" name="Oval 12"/>
                <p:cNvSpPr/>
                <p:nvPr/>
              </p:nvSpPr>
              <p:spPr>
                <a:xfrm>
                  <a:off x="6624720" y="4014720"/>
                  <a:ext cx="1631880" cy="161280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8" name="Oval 13"/>
                <p:cNvSpPr/>
                <p:nvPr/>
              </p:nvSpPr>
              <p:spPr>
                <a:xfrm>
                  <a:off x="6661080" y="4051080"/>
                  <a:ext cx="1560960" cy="154224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29" name=""/>
              <p:cNvGrpSpPr/>
              <p:nvPr/>
            </p:nvGrpSpPr>
            <p:grpSpPr>
              <a:xfrm>
                <a:off x="6696720" y="4085280"/>
                <a:ext cx="1508040" cy="1491840"/>
                <a:chOff x="6696720" y="4085280"/>
                <a:chExt cx="1508040" cy="1491840"/>
              </a:xfrm>
            </p:grpSpPr>
            <p:sp>
              <p:nvSpPr>
                <p:cNvPr id="930" name="Oval 15"/>
                <p:cNvSpPr/>
                <p:nvPr/>
              </p:nvSpPr>
              <p:spPr>
                <a:xfrm>
                  <a:off x="6696720" y="4085280"/>
                  <a:ext cx="1508040" cy="149184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1" name="Oval 16"/>
                <p:cNvSpPr/>
                <p:nvPr/>
              </p:nvSpPr>
              <p:spPr>
                <a:xfrm>
                  <a:off x="6730560" y="4119120"/>
                  <a:ext cx="1442520" cy="1426680"/>
                </a:xfrm>
                <a:prstGeom prst="ellipse">
                  <a:avLst/>
                </a:prstGeom>
                <a:solidFill>
                  <a:srgbClr val="3333cc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32" name="Oval 32"/>
            <p:cNvSpPr/>
            <p:nvPr/>
          </p:nvSpPr>
          <p:spPr>
            <a:xfrm>
              <a:off x="6738120" y="4127760"/>
              <a:ext cx="1398600" cy="1385280"/>
            </a:xfrm>
            <a:prstGeom prst="ellipse">
              <a:avLst/>
            </a:prstGeom>
            <a:solidFill>
              <a:srgbClr val="f92f95"/>
            </a:solidFill>
            <a:ln w="38160">
              <a:solidFill>
                <a:srgbClr val="f8f8f8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6666840" y="4516560"/>
              <a:ext cx="145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3824280" y="4014720"/>
            <a:ext cx="1631880" cy="1612800"/>
            <a:chOff x="3824280" y="4014720"/>
            <a:chExt cx="1631880" cy="1612800"/>
          </a:xfrm>
        </p:grpSpPr>
        <p:grpSp>
          <p:nvGrpSpPr>
            <p:cNvPr id="935" name=""/>
            <p:cNvGrpSpPr/>
            <p:nvPr/>
          </p:nvGrpSpPr>
          <p:grpSpPr>
            <a:xfrm>
              <a:off x="3824280" y="4014720"/>
              <a:ext cx="1631880" cy="1612800"/>
              <a:chOff x="3824280" y="4014720"/>
              <a:chExt cx="1631880" cy="1612800"/>
            </a:xfrm>
          </p:grpSpPr>
          <p:grpSp>
            <p:nvGrpSpPr>
              <p:cNvPr id="936" name=""/>
              <p:cNvGrpSpPr/>
              <p:nvPr/>
            </p:nvGrpSpPr>
            <p:grpSpPr>
              <a:xfrm>
                <a:off x="3824280" y="4014720"/>
                <a:ext cx="1631880" cy="1612800"/>
                <a:chOff x="3824280" y="4014720"/>
                <a:chExt cx="1631880" cy="1612800"/>
              </a:xfrm>
            </p:grpSpPr>
            <p:sp>
              <p:nvSpPr>
                <p:cNvPr id="937" name="Oval 12"/>
                <p:cNvSpPr/>
                <p:nvPr/>
              </p:nvSpPr>
              <p:spPr>
                <a:xfrm>
                  <a:off x="3824280" y="4014720"/>
                  <a:ext cx="1631880" cy="161280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8" name="Oval 13"/>
                <p:cNvSpPr/>
                <p:nvPr/>
              </p:nvSpPr>
              <p:spPr>
                <a:xfrm>
                  <a:off x="3860640" y="4051080"/>
                  <a:ext cx="1560960" cy="154224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3896280" y="4085280"/>
                <a:ext cx="1508040" cy="1491840"/>
                <a:chOff x="3896280" y="4085280"/>
                <a:chExt cx="1508040" cy="1491840"/>
              </a:xfrm>
            </p:grpSpPr>
            <p:sp>
              <p:nvSpPr>
                <p:cNvPr id="940" name="Oval 15"/>
                <p:cNvSpPr/>
                <p:nvPr/>
              </p:nvSpPr>
              <p:spPr>
                <a:xfrm>
                  <a:off x="3896280" y="4085280"/>
                  <a:ext cx="1508040" cy="149184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1" name="Oval 16"/>
                <p:cNvSpPr/>
                <p:nvPr/>
              </p:nvSpPr>
              <p:spPr>
                <a:xfrm>
                  <a:off x="3930120" y="4119120"/>
                  <a:ext cx="1442520" cy="1426680"/>
                </a:xfrm>
                <a:prstGeom prst="ellipse">
                  <a:avLst/>
                </a:prstGeom>
                <a:solidFill>
                  <a:srgbClr val="3333cc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42" name="Oval 32"/>
            <p:cNvSpPr/>
            <p:nvPr/>
          </p:nvSpPr>
          <p:spPr>
            <a:xfrm>
              <a:off x="3937680" y="4127760"/>
              <a:ext cx="1398600" cy="13852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f8f8f8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Rectangle 34"/>
            <p:cNvSpPr/>
            <p:nvPr/>
          </p:nvSpPr>
          <p:spPr>
            <a:xfrm>
              <a:off x="3866400" y="4516560"/>
              <a:ext cx="145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4" name="AutoShape 1"/>
          <p:cNvSpPr/>
          <p:nvPr/>
        </p:nvSpPr>
        <p:spPr>
          <a:xfrm>
            <a:off x="574560" y="137016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AutoShape 2"/>
          <p:cNvSpPr/>
          <p:nvPr/>
        </p:nvSpPr>
        <p:spPr>
          <a:xfrm>
            <a:off x="574560" y="220176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600"/>
                            </p:stCondLst>
                            <p:childTnLst>
                              <p:par>
                                <p:cTn id="9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Justin</cp:lastModifiedBy>
  <dcterms:modified xsi:type="dcterms:W3CDTF">2014-06-26T06:35:23Z</dcterms:modified>
  <cp:revision>1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55</vt:lpwstr>
  </property>
</Properties>
</file>