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466-1627-4991-8406-D7068F85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348-6D10-40D4-8A8B-D9D0964E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B8EFE-2EE3-4366-BA1B-81EAC5B1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391FC-FA42-465C-B1C5-C142C558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90278-CD37-4DDB-989D-64BBD86C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DA9AD-EEBF-46BA-8EFF-76E46C1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2FEA2-E4AD-40CF-BF67-B872136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BB018-D62D-439C-AE81-211ECA66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D1C7D-F089-45C8-8E8B-8745E60C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94A42-F358-4A99-A420-F1413B04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F3A3A-A3C4-49E9-BC6F-06F5F4FA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0EC73-D705-46C0-A690-D555A4B7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979-2507-4057-B03B-92D1CCAA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47B7-5738-410B-9F41-25953955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56072-C2A6-4B3A-B665-6F305B4E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A013D-6043-4723-8F10-303FD4D0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ECD40-DB6B-44FC-9DD0-42052C49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0B2B5-E4E5-4D04-8B0C-3EBF0A3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9A606-5AEE-43D7-B59D-E1ED0047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4D1C8-AF31-4E47-95B4-19F9554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97125-0DFB-4FB0-B605-BD360370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7A0F4-589F-49B7-8FC3-CFAB6359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554FD-731E-4A84-BCEF-1BEC698C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318-3C4C-49B4-913B-82AE2813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0E264-D4BE-4893-8956-42E6FFE7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91C3C-95AC-40BA-9414-42F0266A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F5DC1-4604-4DD1-B71C-608A9E79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5B383-B07E-4DAE-95F1-1C6AEAB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CD52B-AC45-419E-AE0E-192350AE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637DA-AD0F-4BDB-8D60-C03B2A88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55A94-40AB-4931-ACC3-E8AC6D56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19503-6512-4D20-8903-B73A71D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E261B-E953-4D54-A1DA-B39A6B4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2A6DB-2B4D-407D-AF7B-80DBDB10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1D6-44DF-4B4B-827B-588BC43F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D5519-F345-4211-BB7E-70949909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77550-9BFF-4382-8CEC-232D772E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23607-5DFF-4374-A21A-77E56386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9EA89-F9F0-4FA8-8C67-B7C5A32F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B34D7-E495-4DD4-BF9B-1C055C32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7A894-21B7-44E3-93D6-6862B66B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52DBB-7284-4583-90D5-7873060D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CE3F0-FCAD-4694-A35D-B10DE109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4FC38-A3A6-43A6-8547-091D91B5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31FFA-98C4-4120-ABB2-A78A99BA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7D64-1ED5-4615-9B9A-66D9EB74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36189-8D69-4AE6-AFB8-FA39110E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BBBD1-711E-432B-97AB-799CBD6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5BA77-79BF-4B01-B2C0-54FA3A1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E2206-6797-4280-A3B9-AF6BEE33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91318-CA91-41CA-A75E-3FB0E930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0E6C0-B4EB-45C9-BB61-A7BA839E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2EEF3-FA40-4D69-9479-ACBA1281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6DECC-2843-485D-B3D1-8143D7B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EF0A4-9436-476A-8649-8EC7E975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40488-27DA-4D91-8795-359DA9CE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741D-BBAB-43BD-A8CA-1B123F4C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BB7CD-1B9B-4D8B-9BD0-33E98791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2C5F6-134F-4082-85A8-834028D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78B1E-7C43-4E9F-B0B8-04ACF6D8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3789A-2101-446A-BF2D-6A24405F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4B7CA-CF58-41E9-A9B9-638619B9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15146-B62D-45C2-935C-F35CC987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A8CBC-7919-450F-9F1A-B27E71E9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345A-F66B-4466-9752-E0F67F3A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D49-A51F-4EDA-A86C-BE93E73F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54A9-15BF-4714-B692-826600DC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4D3B-1A97-4F14-A272-1D31767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C6F-383E-4FB3-8992-2D24DBF9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6FF2-6711-4DBB-B933-A960196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CC8D-8C85-4D10-9FDB-9036B33F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E3BA-2F23-43A2-BB3D-C5CE66BA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92E6-5773-45A8-A716-F0DBFD38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5557-3A68-4199-BD00-157EE68D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0906-C3CE-4626-829C-83AA6093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CDAC-F8DA-4D8D-878A-A0368E9A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9CB0-8D18-4CE5-BABE-613A1C15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ECA4-B12D-4E80-98AC-032D7972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29E9-616A-49C9-9DCC-6A1009A8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320-4976-4A50-B61B-2DFD3524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022A-F588-4518-8350-0F0100CC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B9F3-BE3B-4101-968A-BFD515D3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60BD-5979-4357-80EF-EFE607D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0A29-B078-4F6B-A859-931FE7F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B346-278F-4CD8-A895-1274F3EA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68C4-D652-40DF-901E-6ED08A84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057F-6D80-4FF9-91B4-1D270CE1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D8BB-AD18-4198-A29B-7FC681C8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08C3A-CC27-4378-A7F0-1E8A65EA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0343-1375-45FD-B4BA-66BCB9F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AED-C269-4510-875A-032A01E0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F7D4D-D846-40AD-9CF3-DE4922C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7BD4-C167-47BF-B1F4-DBF3985A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DA39-7BFE-45F1-8248-EA40E35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73325-9BBC-436D-9A86-EB4EDE4B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12F30-BBEB-4AB7-BAA8-21E164A4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BCDB-C8BF-4847-8AA1-55E87529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715B-7FAD-493C-8239-064166C8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114B-FDB3-4E4A-8FD7-D61A92E4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E2C8-D4AA-4C16-ACFE-E1646A30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739D8-D651-42AD-81E2-8D3E21BB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42C-031D-4F73-9637-A19B334E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D715-46D3-4976-B267-D4E5F2EE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1305-30E3-4329-9C2E-E4ABAE48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7557-7E29-4887-8E2E-048CA2ED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2CF9-3884-4F01-BCFA-D3C7FE9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F3604-08EA-444C-AD3C-7456743A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F5FBA-ACA3-4F8C-896E-1D8446F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9B38-8006-461F-B921-7CE243C8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FEC72-DF68-4818-8864-BFD41D3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9FB9-3641-4491-8A18-EF29CA58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7D635-D8B8-4B9B-B1D8-FB0535A5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0F7-7F27-4A40-B595-C67624F2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5D058-935D-4C10-A43C-3BC1BAF1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7A9E-61A4-4495-AA7A-BE809AC3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91321-7F14-49B3-B682-B5C92540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C0C51-B106-4069-BB20-BD2F3D72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8CC59-B684-4294-9F0B-6E234D8F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34B5D-2811-4753-BB34-CB0964B4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E18A-9844-44C0-B7C1-BADA20F8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3F47D-A2E2-4E4E-B8C2-D9135D3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54924-389E-434A-944F-D1DDBC0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539EC-C830-420E-85C8-C3725F29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71E-7137-4FE3-8D73-D0264AC3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6823F-3580-42B7-B405-9BF6954B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B850-5276-4ECC-A241-FC24F967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C9BBB-258E-4992-976B-2C950766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EC0DE-65B3-4F95-8D60-07267FB9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0886-DEF0-403C-BF72-8B169A49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C1575-0331-4E08-BF16-CC2FF8BC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83E02-2F6F-4CEC-9F7D-96F4F1CF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8D876-3192-4A21-A8AF-C675855D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407FA-08A9-419E-8777-B00577A2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89C2C-6C10-4378-B022-C1B863D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8BC-EA64-4C52-82D4-6574929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836D-A472-40C7-AA08-CF5CE5C8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E395-F8A4-49D7-AA04-1DF9F978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18EF-2091-46B9-BC30-9F52C63E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032FD-7F84-45F1-9C9A-98792846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4D78B-B0A1-4B2C-9274-2F453F02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D4A3D-A467-4709-B68C-370A16AE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3FD9F-52B5-419A-B397-35EB5F19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91689-82F5-43B5-8243-12BDADF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622F6-321F-4618-AC64-8FFC89B9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4A5C1-0D78-4E8D-8398-BDFBDF21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3C9-C239-417A-996C-79094B90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27B13-3AC5-4EC6-B99D-84EB1C15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4E61-2E7E-4D47-A22C-06151288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D1E35-8149-46A9-B645-55B4C895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10F1A-DABD-45EE-91FF-E76DE5E7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35563-66CD-40CF-89C4-6B55551A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91E6A-7536-4448-962C-4F130731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A90A2-570F-49BC-9FEA-55735C35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0C32C-091D-44AB-AFF7-87674536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CC661-60E9-4DCD-9449-14CD1739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B8BFC-1C08-4FE5-BCB2-D1C51BB3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D8D4-C716-4DAB-BB28-3E49E9C94E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1402-AD1D-44D8-91B2-A2B9507D70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1730-97FE-45F3-B3AC-F901F343A0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889A-C748-4B6F-AF70-0F1A275381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BCE-3779-4D3B-B347-BEDBAC5379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66A-5D04-4487-ACDB-A9EC0A72F1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FD1-D6D5-4DF1-BB87-C49AA78910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2D88-169C-4C0F-BD69-8468AFB042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A661-490F-4571-8C8D-19A7D275FD7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8930-6F81-40DE-9A9B-5D538D30F4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2DD4-9CFE-4D96-9C7D-00562B900F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D914-8E1D-4E5A-B2DF-06C7FD9C25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DA9A-95F1-47CC-8B78-1589E41E2B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31CB-A26F-49E7-A366-A0F9B76519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59C-3504-48E3-84C7-14BF9EBB0E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5B0A-B5D7-4EC4-B2C6-596B9A778D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1D7-A537-4A64-841E-20046DF934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66E-905F-4F90-ACAB-FD2254D75F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D55F-C4BD-4DD4-9224-F539C549A3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66ED-86CB-4F93-98E6-72D8E244EF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5342-E53B-4240-9680-30423DA4121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FFED-DFDE-4E35-A009-D81DE0454C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AD70-21F4-452E-A7B2-5C1B2C12AD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B2D7-E2F9-42C0-9F28-063F846C2D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E097-9988-4170-BB1E-31FD8FE41C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BAE-B027-46D4-9B95-56350ECFEA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微软雅黑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微软雅黑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prstGeom prst="pie">
            <a:avLst/>
          </a:pr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prstGeom prst="pie">
            <a:avLst/>
          </a:pr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6-03-08T15:53:51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