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A6C-8B17-4C4E-943C-F39780C3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E8E-0DF1-461E-900D-139E77E9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770-176F-4015-A001-984045F9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0C4-0F17-4FA0-872F-661ED7FA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AA5E-27F7-4666-BFEA-04440094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A8CC-608C-4962-A040-22A8DBF0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4008-32CC-42D5-AE75-8E31009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808D-3748-45A8-A47E-1914330A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9BC-0FF4-462D-A29D-F862BC4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BF5-58AF-4D52-B9F9-E724DFA9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F303-78EC-400B-B562-8AE8D41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5BC-3332-4524-BE28-B8296BFE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B031-754C-4318-9001-BE6AB2B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5913-7890-4358-AF87-B9CDCEDF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CC41-DF52-4F1D-9B9B-19F7D507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8BF-59ED-4193-AEF3-440FA954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C52D-13A7-473F-82B5-370BC8AA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D4E-04D2-4BE6-A723-C3F7577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CBD-4CF3-4E37-9D3D-0EDE05C0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F76-187F-49B4-93B5-FC3CAC0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507-4E30-4A75-9F96-1C11E43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288-F1F4-4AB3-9B00-B50D3B4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4D3-02BF-4317-BBDF-646A5B6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117-5ABB-4394-BC61-BEBD2C0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0C42-CC23-4D70-A785-FA81FB2A05D6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C110-A739-4C57-B99C-993BBFEB37D2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B53E-28CD-412C-A1C9-F3FDA2D701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915-6CFE-4EA5-939F-FB8CF63825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0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1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1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3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3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3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3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3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4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651040" y="1657440"/>
            <a:ext cx="107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2651040" y="28512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2651040" y="403236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62520" y="163188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762520" y="40323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5762520" y="28321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C19-3999-4CC5-AAD8-9829A5EC23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6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6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7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7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9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9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9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9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9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59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0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4199760" y="1499760"/>
              <a:ext cx="990000" cy="9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4430520" y="1635840"/>
              <a:ext cx="287640" cy="41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0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7" name="Freeform 16"/>
            <p:cNvSpPr/>
            <p:nvPr/>
          </p:nvSpPr>
          <p:spPr>
            <a:xfrm>
              <a:off x="6382800" y="1485360"/>
              <a:ext cx="1011960" cy="10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1735200" y="3314880"/>
            <a:ext cx="164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924360" y="3314880"/>
            <a:ext cx="164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6054840" y="331488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535-F3A1-4841-B047-F31090FB4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20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1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2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6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27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2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29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1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4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8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4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4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4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5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2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3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CF0-77D7-482A-9869-DAEF5AE411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9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799320" y="3860640"/>
            <a:ext cx="126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15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CA8-C295-45EF-980D-508F295D0D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1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2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2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2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2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2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4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4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4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4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5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5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5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6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7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8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0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1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2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3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5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6896160" y="1457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665760" y="3070080"/>
            <a:ext cx="11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5000760" y="3500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4241880" y="2801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3508200" y="3884760"/>
            <a:ext cx="49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Rectangle 72"/>
          <p:cNvSpPr/>
          <p:nvPr/>
        </p:nvSpPr>
        <p:spPr>
          <a:xfrm>
            <a:off x="2809800" y="2698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Rectangle 73"/>
          <p:cNvSpPr/>
          <p:nvPr/>
        </p:nvSpPr>
        <p:spPr>
          <a:xfrm>
            <a:off x="2043000" y="35877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5129280" y="1417680"/>
            <a:ext cx="11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554280" y="155592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1881360" y="143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3AA-8EBF-4056-8498-E5BA6FEFE5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6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827-4BED-4587-82CC-E1812F562C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9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9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0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0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0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0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2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2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2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2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2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30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31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2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4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5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6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7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8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9" name="Rounded Rectangular Callout 13"/>
          <p:cNvSpPr/>
          <p:nvPr/>
        </p:nvSpPr>
        <p:spPr>
          <a:xfrm rot="5400000">
            <a:off x="4727880" y="2378880"/>
            <a:ext cx="69228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0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1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3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4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6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7A6-4C1C-41B4-AE31-3A402B0C3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5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5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6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6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8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8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8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8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8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893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EED-B976-46A2-B5DC-391CA6C232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9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0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0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0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0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0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2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2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2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3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3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4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5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6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7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8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9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0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1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100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2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4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7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8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TextBox 30"/>
          <p:cNvSpPr/>
          <p:nvPr/>
        </p:nvSpPr>
        <p:spPr>
          <a:xfrm>
            <a:off x="6146640" y="139536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6146640" y="164160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32"/>
          <p:cNvSpPr/>
          <p:nvPr/>
        </p:nvSpPr>
        <p:spPr>
          <a:xfrm>
            <a:off x="6146640" y="22320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46640" y="252396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34"/>
          <p:cNvSpPr/>
          <p:nvPr/>
        </p:nvSpPr>
        <p:spPr>
          <a:xfrm>
            <a:off x="6146640" y="33307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6146640" y="41371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6146640" y="304812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6146640" y="38862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514-5FDD-42A0-85A6-541F8858E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03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70F-C455-4976-90C1-414A2C7C29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D9A-0C41-4953-9389-3C8C42085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05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0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0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1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2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14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1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2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3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7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8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3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3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3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2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3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4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5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6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7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8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4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5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6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99C-04FD-4614-A6FE-90E0ADC095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6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7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7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7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7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7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9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9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9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0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0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0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0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2F0-4861-4C1F-970E-4390C48818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1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1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1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2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2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2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3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4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4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4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47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48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49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0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1" name="TextBox 7"/>
          <p:cNvSpPr/>
          <p:nvPr/>
        </p:nvSpPr>
        <p:spPr>
          <a:xfrm>
            <a:off x="3457440" y="2305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4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6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5273640" y="24112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8" name="Oval Callout 35"/>
          <p:cNvSpPr/>
          <p:nvPr/>
        </p:nvSpPr>
        <p:spPr>
          <a:xfrm rot="5400000">
            <a:off x="6800040" y="3685320"/>
            <a:ext cx="920880" cy="9223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0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6877080" y="40719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4DF-B0C8-405A-821A-A3E3E3999A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70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71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72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73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4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76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7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179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0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1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3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4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5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8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9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5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196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197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8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0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1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2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4BE-9655-4332-9EB5-A17C699979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1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1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1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2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21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2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23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24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5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27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8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30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1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2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3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4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5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6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7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0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1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4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5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6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DA7-80AF-4B75-A54A-16694027DB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6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377040" y="1803240"/>
            <a:ext cx="18716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C61-EE4C-4073-9D1A-3E3969860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8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801-A055-4222-82E6-DAEA91CD2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3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6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2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DD2-2B66-473A-AF49-FA2039C9D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8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9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9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Freeform 35"/>
          <p:cNvSpPr/>
          <p:nvPr/>
        </p:nvSpPr>
        <p:spPr>
          <a:xfrm>
            <a:off x="3957480" y="2165400"/>
            <a:ext cx="738360" cy="44280"/>
          </a:xfrm>
          <a:prstGeom prst="pie">
            <a:avLst/>
          </a:pr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4" name="Freeform 4"/>
            <p:cNvSpPr/>
            <p:nvPr/>
          </p:nvSpPr>
          <p:spPr>
            <a:xfrm>
              <a:off x="2112480" y="2846520"/>
              <a:ext cx="538920" cy="528480"/>
            </a:xfrm>
            <a:prstGeom prst="pie">
              <a:avLst/>
            </a:pr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26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7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28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1998360" y="3899880"/>
              <a:ext cx="87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1" name="Freeform 21"/>
          <p:cNvSpPr/>
          <p:nvPr/>
        </p:nvSpPr>
        <p:spPr>
          <a:xfrm flipH="1">
            <a:off x="3618720" y="2849400"/>
            <a:ext cx="536760" cy="384480"/>
          </a:xfrm>
          <a:prstGeom prst="pie">
            <a:avLst/>
          </a:pr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2" name="Group 33"/>
          <p:cNvGrpSpPr/>
          <p:nvPr/>
        </p:nvGrpSpPr>
        <p:grpSpPr>
          <a:xfrm>
            <a:off x="2114640" y="1189080"/>
            <a:ext cx="1879560" cy="1879560"/>
            <a:chOff x="2114640" y="1189080"/>
            <a:chExt cx="1879560" cy="18795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14640" y="1189080"/>
              <a:ext cx="1879560" cy="1879560"/>
              <a:chOff x="2114640" y="1189080"/>
              <a:chExt cx="1879560" cy="1879560"/>
            </a:xfrm>
          </p:grpSpPr>
          <p:sp>
            <p:nvSpPr>
              <p:cNvPr id="334" name="Oval 1"/>
              <p:cNvSpPr/>
              <p:nvPr/>
            </p:nvSpPr>
            <p:spPr>
              <a:xfrm>
                <a:off x="2114640" y="1189080"/>
                <a:ext cx="1879560" cy="187956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5" name="Oval 2"/>
              <p:cNvSpPr/>
              <p:nvPr/>
            </p:nvSpPr>
            <p:spPr>
              <a:xfrm>
                <a:off x="2160360" y="1441080"/>
                <a:ext cx="1604520" cy="160452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6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7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2382840" y="227844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39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0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1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3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4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5" name="TextBox 25"/>
            <p:cNvSpPr/>
            <p:nvPr/>
          </p:nvSpPr>
          <p:spPr>
            <a:xfrm>
              <a:off x="414900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6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47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8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9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0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1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2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3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5" name="TextBox 49"/>
            <p:cNvSpPr/>
            <p:nvPr/>
          </p:nvSpPr>
          <p:spPr>
            <a:xfrm>
              <a:off x="6846840" y="3501000"/>
              <a:ext cx="70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56" name="Freeform 52"/>
          <p:cNvSpPr/>
          <p:nvPr/>
        </p:nvSpPr>
        <p:spPr>
          <a:xfrm>
            <a:off x="6145200" y="2843280"/>
            <a:ext cx="433440" cy="380880"/>
          </a:xfrm>
          <a:prstGeom prst="pie">
            <a:avLst/>
          </a:pr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5151600" y="2263680"/>
            <a:ext cx="9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0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1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71C-1BB2-4EEA-81B1-983744A56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8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9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Freeform 38"/>
          <p:cNvSpPr/>
          <p:nvPr/>
        </p:nvSpPr>
        <p:spPr>
          <a:xfrm>
            <a:off x="7361280" y="1476360"/>
            <a:ext cx="144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546280" y="3535200"/>
            <a:ext cx="180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9" name="Freeform 1"/>
          <p:cNvSpPr/>
          <p:nvPr/>
        </p:nvSpPr>
        <p:spPr>
          <a:xfrm>
            <a:off x="1730520" y="1305000"/>
            <a:ext cx="5803920" cy="3203640"/>
          </a:xfrm>
          <a:prstGeom prst="pie">
            <a:avLst/>
          </a:pr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2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3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4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5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06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08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2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3" name="Freeform 17"/>
            <p:cNvSpPr/>
            <p:nvPr/>
          </p:nvSpPr>
          <p:spPr>
            <a:xfrm>
              <a:off x="4161600" y="3266640"/>
              <a:ext cx="360" cy="18288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4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15" name="Freeform 19"/>
            <p:cNvSpPr/>
            <p:nvPr/>
          </p:nvSpPr>
          <p:spPr>
            <a:xfrm rot="19500000">
              <a:off x="4741200" y="2394360"/>
              <a:ext cx="360" cy="36612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7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18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9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0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2" name="Freeform 27"/>
          <p:cNvSpPr/>
          <p:nvPr/>
        </p:nvSpPr>
        <p:spPr>
          <a:xfrm>
            <a:off x="5810400" y="2371680"/>
            <a:ext cx="1440" cy="9144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3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24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6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27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8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29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2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22B-BA88-4F02-8AAF-6F8F431E3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3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4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4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4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6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6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6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6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4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7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8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Freeform 21"/>
          <p:cNvSpPr/>
          <p:nvPr/>
        </p:nvSpPr>
        <p:spPr>
          <a:xfrm>
            <a:off x="2728800" y="260028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Freeform 22"/>
          <p:cNvSpPr/>
          <p:nvPr/>
        </p:nvSpPr>
        <p:spPr>
          <a:xfrm rot="5400000">
            <a:off x="4834800" y="1114920"/>
            <a:ext cx="144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Freeform 23"/>
          <p:cNvSpPr/>
          <p:nvPr/>
        </p:nvSpPr>
        <p:spPr>
          <a:xfrm flipV="1">
            <a:off x="7018200" y="259956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Freeform 24"/>
          <p:cNvSpPr/>
          <p:nvPr/>
        </p:nvSpPr>
        <p:spPr>
          <a:xfrm flipH="1" rot="16200000">
            <a:off x="4841640" y="3344760"/>
            <a:ext cx="36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F80-6AE2-485C-8669-1361AE61EE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1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2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3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06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052-239D-42A5-AD94-FFDEE14ED5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YANGS</cp:lastModifiedBy>
  <dcterms:modified xsi:type="dcterms:W3CDTF">2015-01-06T16:07:0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