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B2C-2770-4460-9034-411594BF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F28-6908-464D-A2FA-8A0AD3C9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EC6-8036-4875-A40B-B5E37287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397-A900-497A-AC17-11DD889F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0A3-2DF4-42ED-B7E5-449E041A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BF2-4A4C-46C1-9F9C-59B80CC4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C11-4812-4C3E-A390-E98CE7B5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8B7-4291-4315-AFD7-EFE60248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E7D-DEF2-45A0-BC19-2B563D24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797-994A-45AA-A558-E45EED43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FBE-574F-43BC-9F05-436AB9D0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AD1-99E9-49BE-BB0B-6AD3F311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DE66-752B-4340-8EF2-9A4C3C387C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:\Users\冰凝\Desktop\ppt 比赛\未标题-1-01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Users\冰凝\Desktop\ppt 比赛\未标题-1-02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冰凝\Desktop\ppt 比赛\未标题-1-03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Users\冰凝\Desktop\ppt 比赛\未标题-1-04.jpg"/>
          <p:cNvPicPr/>
          <p:nvPr/>
        </p:nvPicPr>
        <p:blipFill>
          <a:blip r:embed="rId1"/>
          <a:stretch/>
        </p:blipFill>
        <p:spPr>
          <a:xfrm>
            <a:off x="468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冰凝\Desktop\ppt 比赛\未标题-1-05.jpg"/>
          <p:cNvPicPr/>
          <p:nvPr/>
        </p:nvPicPr>
        <p:blipFill>
          <a:blip r:embed="rId1"/>
          <a:stretch/>
        </p:blipFill>
        <p:spPr>
          <a:xfrm>
            <a:off x="3240" y="-3240"/>
            <a:ext cx="121888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Users\冰凝\Desktop\ppt 比赛\未标题-1-06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冰凝\Desktop\ppt 比赛\未标题-1-07.jpg"/>
          <p:cNvPicPr/>
          <p:nvPr/>
        </p:nvPicPr>
        <p:blipFill>
          <a:blip r:embed="rId1"/>
          <a:stretch/>
        </p:blipFill>
        <p:spPr>
          <a:xfrm>
            <a:off x="468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冰凝\Desktop\ppt 比赛\未标题-1-08.jpg"/>
          <p:cNvPicPr/>
          <p:nvPr/>
        </p:nvPicPr>
        <p:blipFill>
          <a:blip r:embed="rId1"/>
          <a:stretch/>
        </p:blipFill>
        <p:spPr>
          <a:xfrm>
            <a:off x="0" y="-3240"/>
            <a:ext cx="121888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微软用户</cp:lastModifiedBy>
  <dcterms:modified xsi:type="dcterms:W3CDTF">2014-09-06T14:41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